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0.wmf" ContentType="image/x-wmf"/>
  <Override PartName="/ppt/media/image17.png" ContentType="image/png"/>
  <Override PartName="/ppt/media/image32.jpeg" ContentType="image/jpeg"/>
  <Override PartName="/ppt/media/image21.png" ContentType="image/png"/>
  <Override PartName="/ppt/media/image18.png" ContentType="image/png"/>
  <Override PartName="/ppt/media/image15.png" ContentType="image/png"/>
  <Override PartName="/ppt/media/image1.jpeg" ContentType="image/jpeg"/>
  <Override PartName="/ppt/media/image35.jpeg" ContentType="image/jpeg"/>
  <Override PartName="/ppt/media/image4.wmf" ContentType="image/x-wmf"/>
  <Override PartName="/ppt/media/image2.jpeg" ContentType="image/jpeg"/>
  <Override PartName="/ppt/media/image36.jpeg" ContentType="image/jpeg"/>
  <Override PartName="/ppt/media/image44.jpeg" ContentType="image/jpeg"/>
  <Override PartName="/ppt/media/image40.jpeg" ContentType="image/jpeg"/>
  <Override PartName="/ppt/media/image13.wmf" ContentType="image/x-wmf"/>
  <Override PartName="/ppt/media/image43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33.png" ContentType="image/png"/>
  <Override PartName="/ppt/media/image16.wmf" ContentType="image/x-wmf"/>
  <Override PartName="/ppt/media/image34.jpeg" ContentType="image/jpeg"/>
  <Override PartName="/ppt/media/image37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42.jpeg" ContentType="image/jpeg"/>
  <Override PartName="/ppt/media/image9.wmf" ContentType="image/x-wmf"/>
  <Override PartName="/ppt/media/image14.png" ContentType="image/png"/>
  <Override PartName="/ppt/media/image45.wmf" ContentType="image/x-wmf"/>
  <Override PartName="/ppt/media/image31.jpeg" ContentType="image/jpeg"/>
  <Override PartName="/ppt/media/image10.wmf" ContentType="image/x-wmf"/>
  <Override PartName="/ppt/media/image25.jpeg" ContentType="image/jpeg"/>
  <Override PartName="/ppt/media/image46.png" ContentType="image/png"/>
  <Override PartName="/ppt/media/image11.png" ContentType="image/png"/>
  <Override PartName="/ppt/media/image6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7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6DC-B71D-4824-9D8F-8A45E337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A71-B7A8-4242-BEB2-1AD2E36F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971-0914-4C6D-A302-AE2330C2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487B-24F7-437E-BD8D-BE9E7E3D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5035-6DDF-4003-B52B-D77AB942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BA91-BA60-4205-9914-75EC293D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19BA-2BC0-46DD-8233-10F58959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EDEC-FF8B-4F7D-AF7B-A2211D0D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DE07-D0E0-429A-8136-438D17A4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6A78-08AF-48EE-936B-C745BFD9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6276-04C7-46CF-AFB4-0DF3BE2C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2B3-B4C7-4AC8-87E8-C6CEBDE1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9CC9-35AF-43AF-AA67-F6F8E974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BF3D-B424-430D-8585-6F1F4A94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AD1F-77CC-490C-AFE2-1D3BFEC4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2EFC-D0B7-4422-A7D3-E3B706B8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7C96-1534-4C0F-904A-11606062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E918-F486-419D-805E-8FB37F10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6D147-B1C2-4FFB-B05D-2887294D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DDF88-2411-44C6-9522-DDAB9A44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FBF4A-404D-4117-A9EC-A45C4A15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1AF12-455A-4B82-9F74-10622E94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995-0492-4633-8DAC-2A322E09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0C38F-3318-4E98-8E12-67650C89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8AA7-6F22-4107-BA3B-A8961E07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81E7A-6293-42B6-AC22-377193BF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31DD7-366C-49C9-84F7-7EE0BD63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9CD0-908C-4050-91EB-A9FC909C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8BB6B-9BD4-4452-8101-541FD7CC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69D34-DB4A-4FAE-94A7-C51B7919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BD6-C3F0-47F0-AADB-B5117177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C0C-9B59-4102-92D2-312FA28B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5CB-B70B-4CF7-8D1F-BDB9C6B8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C4E-4CCD-40DE-A1E0-66E1ECA6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DC2-AE32-4A23-A1AB-FEACCFE7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3078-CB71-4F45-B7C1-CDACDEDC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EB42-9FF7-4E7F-ACAA-E7EF664F3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125E-BEB1-4145-BBE9-46894428603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DB2E-0DBC-4912-BFE5-25642E29583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image" Target="../media/image42.jpeg"/><Relationship Id="rId13" Type="http://schemas.openxmlformats.org/officeDocument/2006/relationships/image" Target="../media/image43.jpeg"/><Relationship Id="rId14" Type="http://schemas.openxmlformats.org/officeDocument/2006/relationships/image" Target="../media/image44.jpeg"/><Relationship Id="rId1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Итоговый урок по теме  «Квадратичная функция. Решение упражнений.»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Comic Sans MS"/>
              </a:rPr>
              <a:t>Цель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: повторить, систематизировать, обобщить знания и способы действий, полученные при изучении темы: “Квадратичная функция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45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 - x + 3 &gt;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² - x + 3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 – 4 · 3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11 &l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рней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485880" cy="260028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4495680" y="4419720"/>
            <a:ext cx="4032000" cy="1949400"/>
            <a:chOff x="4495680" y="4419720"/>
            <a:chExt cx="4032000" cy="194940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4495680" y="44197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892120" y="46353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45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 - x + 3 &gt;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² - x + 3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 – 4 · 3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11 &l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рней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(-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∞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;+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∞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467160" cy="302904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4876920" y="3962520"/>
            <a:ext cx="3960360" cy="2734920"/>
            <a:chOff x="4876920" y="3962520"/>
            <a:chExt cx="3960360" cy="273492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4876920" y="478476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651280" y="396252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45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 + 10x + 25 ≤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² + 10x + 25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00 – 4 · 25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1568520" cy="93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305160" cy="278136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5111640" y="3962520"/>
            <a:ext cx="4032000" cy="1949400"/>
            <a:chOff x="5111640" y="3962520"/>
            <a:chExt cx="4032000" cy="1949400"/>
          </a:xfrm>
        </p:grpSpPr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5111640" y="39625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508080" y="41781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454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 + 10x + 25 ≤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² + 10x + 25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00 – 4 · 25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{-5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19320" y="3733920"/>
            <a:ext cx="1568160" cy="917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200400" cy="2648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4876920" y="3962520"/>
            <a:ext cx="3960360" cy="2734920"/>
            <a:chOff x="4876920" y="3962520"/>
            <a:chExt cx="3960360" cy="273492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4876920" y="478476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651280" y="396252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шите неравенство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ответе запишите сумму всех его целых решений.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ЗНО 2013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057400" y="3429000"/>
            <a:ext cx="48769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36957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609480" y="3962520"/>
            <a:ext cx="4032000" cy="1949400"/>
            <a:chOff x="609480" y="3962520"/>
            <a:chExt cx="4032000" cy="194940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609480" y="39625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005920" y="41781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36957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1143000" y="3962520"/>
            <a:ext cx="3960360" cy="2734920"/>
            <a:chOff x="1143000" y="3962520"/>
            <a:chExt cx="3960360" cy="2734920"/>
          </a:xfrm>
        </p:grpSpPr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1143000" y="478476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917360" y="396252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7926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457200" y="3429000"/>
            <a:ext cx="4032000" cy="1949400"/>
            <a:chOff x="457200" y="3429000"/>
            <a:chExt cx="4032000" cy="1949400"/>
          </a:xfrm>
        </p:grpSpPr>
        <p:pic>
          <p:nvPicPr>
            <p:cNvPr id="293" name="" descr=""/>
            <p:cNvPicPr/>
            <p:nvPr/>
          </p:nvPicPr>
          <p:blipFill>
            <a:blip r:embed="rId2"/>
            <a:stretch/>
          </p:blipFill>
          <p:spPr>
            <a:xfrm>
              <a:off x="457200" y="342900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853640" y="364464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7926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298" name=""/>
          <p:cNvGrpSpPr/>
          <p:nvPr/>
        </p:nvGrpSpPr>
        <p:grpSpPr>
          <a:xfrm>
            <a:off x="914400" y="3886200"/>
            <a:ext cx="3960360" cy="2734920"/>
            <a:chOff x="914400" y="3886200"/>
            <a:chExt cx="3960360" cy="2734920"/>
          </a:xfrm>
        </p:grpSpPr>
        <p:pic>
          <p:nvPicPr>
            <p:cNvPr id="299" name="" descr=""/>
            <p:cNvPicPr/>
            <p:nvPr/>
          </p:nvPicPr>
          <p:blipFill>
            <a:blip r:embed="rId2"/>
            <a:stretch/>
          </p:blipFill>
          <p:spPr>
            <a:xfrm>
              <a:off x="914400" y="470844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688760" y="388620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Группа 10"/>
          <p:cNvGrpSpPr/>
          <p:nvPr/>
        </p:nvGrpSpPr>
        <p:grpSpPr>
          <a:xfrm>
            <a:off x="152280" y="71280"/>
            <a:ext cx="8817120" cy="6531480"/>
            <a:chOff x="152280" y="71280"/>
            <a:chExt cx="8817120" cy="6531480"/>
          </a:xfrm>
        </p:grpSpPr>
        <p:pic>
          <p:nvPicPr>
            <p:cNvPr id="195" name="Рисунок 5" descr="Описание: C:\Documents and Settings\A&amp;L\Рабочий стол\АЛГЕБРА\Урок 22 Функция y=ax2+bx+c її властивостi та графiк\22-5 Рисунок.jpg"/>
            <p:cNvPicPr/>
            <p:nvPr/>
          </p:nvPicPr>
          <p:blipFill>
            <a:blip r:embed="rId1"/>
            <a:stretch/>
          </p:blipFill>
          <p:spPr>
            <a:xfrm>
              <a:off x="6690960" y="3349440"/>
              <a:ext cx="2278440" cy="28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4"/>
            <p:cNvSpPr/>
            <p:nvPr/>
          </p:nvSpPr>
          <p:spPr>
            <a:xfrm>
              <a:off x="3608280" y="1417320"/>
              <a:ext cx="426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5"/>
            <p:cNvSpPr/>
            <p:nvPr/>
          </p:nvSpPr>
          <p:spPr>
            <a:xfrm>
              <a:off x="285480" y="2544840"/>
              <a:ext cx="6562800" cy="40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030a0"/>
                  </a:solidFill>
                  <a:latin typeface="Arial"/>
                  <a:ea typeface="Calibri"/>
                </a:rPr>
                <a:t>Укажите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1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знак коэффициент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2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координаты вершины параболы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3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уравнение оси симметрии параболы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4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нули квадратичной функци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5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промежутки, на которых функция принимает положительные значения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6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промежутки, на которых функция принимает отрицательные значения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7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промежуток, на котором функция возрастает, убывает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8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наименьшее значение функции и значени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x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, при котором функция принимает это значение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  <a:ea typeface="Calibri"/>
                </a:rPr>
                <a:t>9) </a:t>
              </a:r>
              <a:r>
                <a:rPr b="0" lang="en-US" sz="2000" spc="-1" strike="noStrike">
                  <a:solidFill>
                    <a:srgbClr val="7030a0"/>
                  </a:solidFill>
                  <a:latin typeface="Times New Roman"/>
                  <a:ea typeface="Calibri"/>
                </a:rPr>
                <a:t>знак свободного члена</a:t>
              </a:r>
              <a:r>
                <a:rPr b="0" lang="en-US" sz="2000" spc="-1" strike="noStrike">
                  <a:solidFill>
                    <a:srgbClr val="7030a0"/>
                  </a:solidFill>
                  <a:latin typeface="Arial"/>
                  <a:ea typeface="Calibri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6" descr=""/>
            <p:cNvPicPr/>
            <p:nvPr/>
          </p:nvPicPr>
          <p:blipFill>
            <a:blip r:embed="rId2"/>
            <a:stretch/>
          </p:blipFill>
          <p:spPr>
            <a:xfrm>
              <a:off x="6202080" y="71280"/>
              <a:ext cx="267012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2"/>
            <p:cNvSpPr/>
            <p:nvPr/>
          </p:nvSpPr>
          <p:spPr>
            <a:xfrm>
              <a:off x="546120" y="358560"/>
              <a:ext cx="384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ыполнить уст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рямоугольник 6"/>
            <p:cNvSpPr/>
            <p:nvPr/>
          </p:nvSpPr>
          <p:spPr>
            <a:xfrm>
              <a:off x="285480" y="1404720"/>
              <a:ext cx="4587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оугольник 7"/>
            <p:cNvSpPr/>
            <p:nvPr/>
          </p:nvSpPr>
          <p:spPr>
            <a:xfrm>
              <a:off x="152280" y="1909440"/>
              <a:ext cx="864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280" y="15238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а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рисунке и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зображена  парабола, которая является графиком некоторой  квадратичной функ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x+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809880" cy="449568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609480" y="3733920"/>
            <a:ext cx="4032000" cy="1949400"/>
            <a:chOff x="609480" y="3733920"/>
            <a:chExt cx="4032000" cy="1949400"/>
          </a:xfrm>
        </p:grpSpPr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609480" y="37339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2005920" y="39495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&g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809880" cy="449568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1143000" y="3886200"/>
            <a:ext cx="3960360" cy="2734920"/>
            <a:chOff x="1143000" y="3886200"/>
            <a:chExt cx="3960360" cy="2734920"/>
          </a:xfrm>
        </p:grpSpPr>
        <p:pic>
          <p:nvPicPr>
            <p:cNvPr id="311" name="" descr=""/>
            <p:cNvPicPr/>
            <p:nvPr/>
          </p:nvPicPr>
          <p:blipFill>
            <a:blip r:embed="rId2"/>
            <a:stretch/>
          </p:blipFill>
          <p:spPr>
            <a:xfrm>
              <a:off x="1143000" y="470844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1917360" y="388620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238560" cy="43434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685800" y="3581280"/>
            <a:ext cx="4032000" cy="1949400"/>
            <a:chOff x="685800" y="3581280"/>
            <a:chExt cx="4032000" cy="1949400"/>
          </a:xfrm>
        </p:grpSpPr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685800" y="358128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2082240" y="379692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ить знаки коэффициентов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квадратичной функци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граф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&lt;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238560" cy="4343400"/>
          </a:xfrm>
          <a:prstGeom prst="rect">
            <a:avLst/>
          </a:prstGeom>
          <a:ln w="0">
            <a:noFill/>
          </a:ln>
        </p:spPr>
      </p:pic>
      <p:grpSp>
        <p:nvGrpSpPr>
          <p:cNvPr id="322" name=""/>
          <p:cNvGrpSpPr/>
          <p:nvPr/>
        </p:nvGrpSpPr>
        <p:grpSpPr>
          <a:xfrm>
            <a:off x="1371600" y="3809880"/>
            <a:ext cx="3960360" cy="2734920"/>
            <a:chOff x="1371600" y="3809880"/>
            <a:chExt cx="3960360" cy="2734920"/>
          </a:xfrm>
        </p:grpSpPr>
        <p:pic>
          <p:nvPicPr>
            <p:cNvPr id="323" name="" descr=""/>
            <p:cNvPicPr/>
            <p:nvPr/>
          </p:nvPicPr>
          <p:blipFill>
            <a:blip r:embed="rId2"/>
            <a:stretch/>
          </p:blipFill>
          <p:spPr>
            <a:xfrm>
              <a:off x="1371600" y="463212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2145960" y="380988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Установить, сколько корней имеет уравнение в зависимости от значения параметра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А.Г. Мерзляк, Алгебра-9, учебник для классов с углубленным изучением математики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11.57-(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3886200"/>
            <a:ext cx="5700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D:\Картинки\уроки\i (3).jpg"/>
          <p:cNvPicPr/>
          <p:nvPr/>
        </p:nvPicPr>
        <p:blipFill>
          <a:blip r:embed="rId1"/>
          <a:stretch/>
        </p:blipFill>
        <p:spPr>
          <a:xfrm>
            <a:off x="4071960" y="2571840"/>
            <a:ext cx="2928960" cy="1428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6" descr="D:\Картинки\уроки\otdahni.ru_1279626662_7275.jpg"/>
          <p:cNvPicPr/>
          <p:nvPr/>
        </p:nvPicPr>
        <p:blipFill>
          <a:blip r:embed="rId2"/>
          <a:stretch/>
        </p:blipFill>
        <p:spPr>
          <a:xfrm>
            <a:off x="7218360" y="3214800"/>
            <a:ext cx="1925640" cy="2357280"/>
          </a:xfrm>
          <a:prstGeom prst="rect">
            <a:avLst/>
          </a:prstGeom>
          <a:ln w="0">
            <a:noFill/>
          </a:ln>
        </p:spPr>
      </p:pic>
      <p:pic>
        <p:nvPicPr>
          <p:cNvPr id="329" name="Заголовок 1" descr=""/>
          <p:cNvPicPr/>
          <p:nvPr/>
        </p:nvPicPr>
        <p:blipFill>
          <a:blip r:embed="rId3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D:\Картинки\уроки\56985117_1269624988_raduga2.jpg"/>
          <p:cNvPicPr/>
          <p:nvPr/>
        </p:nvPicPr>
        <p:blipFill>
          <a:blip r:embed="rId4"/>
          <a:stretch/>
        </p:blipFill>
        <p:spPr>
          <a:xfrm>
            <a:off x="7429680" y="1500120"/>
            <a:ext cx="1714320" cy="11476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D:\Картинки\уроки\1191318731_pic_11905190072658.jpg"/>
          <p:cNvPicPr/>
          <p:nvPr/>
        </p:nvPicPr>
        <p:blipFill>
          <a:blip r:embed="rId5"/>
          <a:stretch/>
        </p:blipFill>
        <p:spPr>
          <a:xfrm>
            <a:off x="0" y="1500120"/>
            <a:ext cx="2543040" cy="1819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D:\Картинки\уроки\bridgeparabola.jpg"/>
          <p:cNvPicPr/>
          <p:nvPr/>
        </p:nvPicPr>
        <p:blipFill>
          <a:blip r:embed="rId6"/>
          <a:stretch/>
        </p:blipFill>
        <p:spPr>
          <a:xfrm>
            <a:off x="2500200" y="1500120"/>
            <a:ext cx="3556080" cy="1341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D:\Картинки\уроки\i (2).jpg"/>
          <p:cNvPicPr/>
          <p:nvPr/>
        </p:nvPicPr>
        <p:blipFill>
          <a:blip r:embed="rId7"/>
          <a:stretch/>
        </p:blipFill>
        <p:spPr>
          <a:xfrm>
            <a:off x="7000920" y="264312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D:\Картинки\уроки\i (4).jpg"/>
          <p:cNvPicPr/>
          <p:nvPr/>
        </p:nvPicPr>
        <p:blipFill>
          <a:blip r:embed="rId8"/>
          <a:stretch/>
        </p:blipFill>
        <p:spPr>
          <a:xfrm>
            <a:off x="5929200" y="1500120"/>
            <a:ext cx="1521000" cy="1357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D:\Картинки\уроки\i (5).jpg"/>
          <p:cNvPicPr/>
          <p:nvPr/>
        </p:nvPicPr>
        <p:blipFill>
          <a:blip r:embed="rId9"/>
          <a:stretch/>
        </p:blipFill>
        <p:spPr>
          <a:xfrm>
            <a:off x="1928880" y="2786040"/>
            <a:ext cx="2133360" cy="1428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D:\Картинки\уроки\i (6).jpg"/>
          <p:cNvPicPr/>
          <p:nvPr/>
        </p:nvPicPr>
        <p:blipFill>
          <a:blip r:embed="rId10"/>
          <a:stretch/>
        </p:blipFill>
        <p:spPr>
          <a:xfrm>
            <a:off x="0" y="29289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2" descr="D:\Картинки\уроки\i (7).jpg"/>
          <p:cNvPicPr/>
          <p:nvPr/>
        </p:nvPicPr>
        <p:blipFill>
          <a:blip r:embed="rId11"/>
          <a:stretch/>
        </p:blipFill>
        <p:spPr>
          <a:xfrm>
            <a:off x="4714920" y="3929040"/>
            <a:ext cx="2617920" cy="16430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3" descr="D:\Картинки\уроки\i (8).jpg"/>
          <p:cNvPicPr/>
          <p:nvPr/>
        </p:nvPicPr>
        <p:blipFill>
          <a:blip r:embed="rId12"/>
          <a:stretch/>
        </p:blipFill>
        <p:spPr>
          <a:xfrm>
            <a:off x="2428920" y="392904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4" descr="D:\Картинки\уроки\interferonometr.jpg"/>
          <p:cNvPicPr/>
          <p:nvPr/>
        </p:nvPicPr>
        <p:blipFill>
          <a:blip r:embed="rId13"/>
          <a:stretch/>
        </p:blipFill>
        <p:spPr>
          <a:xfrm>
            <a:off x="0" y="3929040"/>
            <a:ext cx="2433600" cy="1689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5" descr="D:\Картинки\уроки\Numerous_Parabolas.jpeg"/>
          <p:cNvPicPr/>
          <p:nvPr/>
        </p:nvPicPr>
        <p:blipFill>
          <a:blip r:embed="rId14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 п.11-13, 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1.57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.19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.25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3.12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3.18 (7,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505320" cy="34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2"/>
          <p:cNvSpPr txBox="1"/>
          <p:nvPr/>
        </p:nvSpPr>
        <p:spPr>
          <a:xfrm>
            <a:off x="3059280" y="1557360"/>
            <a:ext cx="5760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урок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346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7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8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9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0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1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Picture 12" descr="Рисунок7"/>
          <p:cNvPicPr/>
          <p:nvPr/>
        </p:nvPicPr>
        <p:blipFill>
          <a:blip r:embed="rId1"/>
          <a:srcRect l="0" t="0" r="-52" b="0"/>
          <a:stretch/>
        </p:blipFill>
        <p:spPr>
          <a:xfrm>
            <a:off x="179280" y="549360"/>
            <a:ext cx="3276720" cy="41274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3"/>
          <p:cNvSpPr/>
          <p:nvPr/>
        </p:nvSpPr>
        <p:spPr>
          <a:xfrm>
            <a:off x="1908000" y="2708280"/>
            <a:ext cx="1295640" cy="15843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2027880" y="37162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2037240" y="299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айти область определения функции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А.Г. Мерзляк, Алгебра-9, учебник для классов с углубленным изучением математики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12.25-(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69880" y="3798720"/>
            <a:ext cx="5700960" cy="13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5x + 3 ≥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5x + 3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=25-4 · 2 · 3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 1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2;+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4038840" cy="947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2838600" cy="230508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5111640" y="3962520"/>
            <a:ext cx="4032000" cy="1949400"/>
            <a:chOff x="5111640" y="3962520"/>
            <a:chExt cx="4032000" cy="1949400"/>
          </a:xfrm>
        </p:grpSpPr>
        <p:pic>
          <p:nvPicPr>
            <p:cNvPr id="210" name="" descr=""/>
            <p:cNvPicPr/>
            <p:nvPr/>
          </p:nvPicPr>
          <p:blipFill>
            <a:blip r:embed="rId3"/>
            <a:stretch/>
          </p:blipFill>
          <p:spPr>
            <a:xfrm>
              <a:off x="5111640" y="39625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508080" y="41781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5x + 3 ≥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5x + 3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=25-4 · 2 · 3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 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1,5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+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3699000" cy="947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715000" y="2133720"/>
            <a:ext cx="2257560" cy="190476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5183280" y="3657600"/>
            <a:ext cx="3960360" cy="2734920"/>
            <a:chOff x="5183280" y="3657600"/>
            <a:chExt cx="3960360" cy="2734920"/>
          </a:xfrm>
        </p:grpSpPr>
        <p:pic>
          <p:nvPicPr>
            <p:cNvPr id="217" name="" descr=""/>
            <p:cNvPicPr/>
            <p:nvPr/>
          </p:nvPicPr>
          <p:blipFill>
            <a:blip r:embed="rId3"/>
            <a:stretch/>
          </p:blipFill>
          <p:spPr>
            <a:xfrm>
              <a:off x="5183280" y="447984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957640" y="365760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x – 3 ≥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x² - x – 3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 – 4 · 2 · (-3) = 2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; 1,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4038480" cy="906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486400" y="2133720"/>
            <a:ext cx="2905200" cy="212400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5111640" y="3962520"/>
            <a:ext cx="4032000" cy="1949400"/>
            <a:chOff x="5111640" y="3962520"/>
            <a:chExt cx="4032000" cy="1949400"/>
          </a:xfrm>
        </p:grpSpPr>
        <p:pic>
          <p:nvPicPr>
            <p:cNvPr id="224" name="" descr=""/>
            <p:cNvPicPr/>
            <p:nvPr/>
          </p:nvPicPr>
          <p:blipFill>
            <a:blip r:embed="rId3"/>
            <a:stretch/>
          </p:blipFill>
          <p:spPr>
            <a:xfrm>
              <a:off x="5111640" y="396252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508080" y="417816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- x – 3 ≥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x² - x – 3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 – 4 · 2 · (-3) = 2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-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(-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; -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]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U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[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1,5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;+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∞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1636920" cy="906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590920" y="3429000"/>
            <a:ext cx="2209680" cy="912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2838600" cy="196200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4952880" y="3886200"/>
            <a:ext cx="3960720" cy="2734920"/>
            <a:chOff x="4952880" y="3886200"/>
            <a:chExt cx="3960720" cy="2734920"/>
          </a:xfrm>
        </p:grpSpPr>
        <p:pic>
          <p:nvPicPr>
            <p:cNvPr id="232" name="" descr=""/>
            <p:cNvPicPr/>
            <p:nvPr/>
          </p:nvPicPr>
          <p:blipFill>
            <a:blip r:embed="rId4"/>
            <a:stretch/>
          </p:blipFill>
          <p:spPr>
            <a:xfrm>
              <a:off x="4952880" y="470844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727240" y="3886200"/>
              <a:ext cx="318636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+ 5x – 6 &gt;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x² + 5x – 6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² - 5x + 6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= 25 – 4 · 6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∞;2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3;+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240000" cy="2781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4038480" cy="9349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111640" y="4572000"/>
            <a:ext cx="4032000" cy="1949400"/>
            <a:chOff x="5111640" y="4572000"/>
            <a:chExt cx="4032000" cy="1949400"/>
          </a:xfrm>
        </p:grpSpPr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5111640" y="4572000"/>
              <a:ext cx="170568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508080" y="4787640"/>
              <a:ext cx="2635560" cy="680760"/>
            </a:xfrm>
            <a:prstGeom prst="wedgeEllipseCallout">
              <a:avLst>
                <a:gd name="adj1" fmla="val -47666"/>
                <a:gd name="adj2" fmla="val 68180"/>
              </a:avLst>
            </a:prstGeom>
            <a:solidFill>
              <a:srgbClr val="ffff99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ДУМАЙ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f67ff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af67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 + 5x – 6 &gt;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x² + 5x – 6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² - 5x + 6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= 25 – 4 · 6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тви параболы направлены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;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4038480" cy="93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лиц-опрос «Найди ошибку!»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32860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5183280" y="3962520"/>
            <a:ext cx="3960360" cy="2734920"/>
            <a:chOff x="5183280" y="3962520"/>
            <a:chExt cx="3960360" cy="273492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5183280" y="4784760"/>
              <a:ext cx="2206080" cy="19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957640" y="3962520"/>
              <a:ext cx="3186000" cy="941760"/>
            </a:xfrm>
            <a:prstGeom prst="wedgeEllipseCallout">
              <a:avLst>
                <a:gd name="adj1" fmla="val -58222"/>
                <a:gd name="adj2" fmla="val 75384"/>
              </a:avLst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АВИЛЬ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4-02-26T20:06:4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9000000000001024140</vt:lpwstr>
  </property>
  <property fmtid="{D5CDD505-2E9C-101B-9397-08002B2CF9AE}" pid="3" name="Version">
    <vt:r8>1</vt:r8>
  </property>
</Properties>
</file>