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32.jpeg" ContentType="image/jpeg"/>
  <Override PartName="/ppt/media/image21.png" ContentType="image/png"/>
  <Override PartName="/ppt/media/image18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4.wmf" ContentType="image/x-wmf"/>
  <Override PartName="/ppt/media/image2.jpeg" ContentType="image/jpeg"/>
  <Override PartName="/ppt/media/image36.jpeg" ContentType="image/jpeg"/>
  <Override PartName="/ppt/media/image44.jpeg" ContentType="image/jpeg"/>
  <Override PartName="/ppt/media/image40.jpeg" ContentType="image/jpeg"/>
  <Override PartName="/ppt/media/image13.wmf" ContentType="image/x-wmf"/>
  <Override PartName="/ppt/media/image43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16.wmf" ContentType="image/x-wmf"/>
  <Override PartName="/ppt/media/image34.jpeg" ContentType="image/jpeg"/>
  <Override PartName="/ppt/media/image37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5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46.png" ContentType="image/png"/>
  <Override PartName="/ppt/media/image11.png" ContentType="image/png"/>
  <Override PartName="/ppt/media/image6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6AF-83FA-4341-84A9-33C54B0F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2A8-9D7E-4BFF-B348-F2C0ACEB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7F7-FC2A-4576-8E25-849491EB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66F-AB71-4A1B-A339-B355BB84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0376-707A-4D57-A232-1DD4C044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3558-CE71-4001-9FEE-1733FAB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4F10-48F3-4AD7-9E62-3CBEF09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227C-D9BB-4F6C-9B2D-AD718246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CFA9-5544-4B28-B681-FCC4498B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CA2B-8A98-4909-99EF-DB37C765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FB51-86E4-481C-AC05-6560BFF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071-32EC-4EDC-A918-A763D255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8BE3-BC27-4361-8B19-425D10B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C626-597D-4AEB-965B-996CD35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6AF1-07A2-46A5-8A99-CA7A6DD9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CDB5-99E5-45D5-91A2-1B96541B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843A-6B98-4EAD-8B8B-21F9E539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27A7-1691-4A30-96CB-13EFE98C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881B-071C-48FE-9686-A6CE2C90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80A6-D03E-4D94-9E6E-9D6ECE94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C1C0-B8E9-42A1-B8A1-7FF4E1AE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6AE0-05FD-4630-89B5-5D39C122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A3B-A047-4FA1-82D6-CC7B6AF6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BD69-A3D4-4E24-8355-B9620CE6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5B15-083C-49E5-9284-2FD64AF9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D765-170E-413F-AA42-A83BFE6C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774C-6418-42AD-A939-C6DA2F54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E225-313C-4351-8589-0695F9A8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A04E-03E3-48FF-BF4B-DD59F1E5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E9C0-AD05-4AD7-837E-14554852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FF2-5382-440E-A7C4-D0AFB141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F0A-3C82-453F-8A09-FA656BC3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909-642A-4BFD-A3C6-E1E03DE5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B83-361C-4ABE-85B0-F637CC8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AA3-41E2-4E6A-BE88-9384FC0E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019-BAFA-4CEA-BD63-1ECEFFB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69F8-F561-49BA-8980-47AEE2BC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8A98-8452-4204-B423-1771763B5B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F9EB-DE29-408B-BCEA-156C728B7A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Итоговый урок по теме  «Квадратичная функция. Решение упражнений.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Comic Sans MS"/>
              </a:rPr>
              <a:t>Цель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: повторить, систематизировать, обобщить знания и способы действий, полученные при изучении темы: “Квадратичная функция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- x + 3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- x + 3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 – 4 · 3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11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ней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48588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495680" y="4419720"/>
            <a:ext cx="4032000" cy="1949400"/>
            <a:chOff x="4495680" y="4419720"/>
            <a:chExt cx="4032000" cy="194940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4495680" y="44197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892120" y="46353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- x + 3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- x + 3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 – 4 · 3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11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ней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(-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;+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467160" cy="30290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4876920" y="3962520"/>
            <a:ext cx="3960360" cy="2734920"/>
            <a:chOff x="4876920" y="3962520"/>
            <a:chExt cx="3960360" cy="273492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487692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65128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+ 10x + 25 ≤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+ 10x +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00 – 4 ·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1568520" cy="93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305160" cy="278136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+ 10x + 25 ≤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+ 10x +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00 – 4 ·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{-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1568160" cy="917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200400" cy="2648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4876920" y="3962520"/>
            <a:ext cx="3960360" cy="2734920"/>
            <a:chOff x="4876920" y="3962520"/>
            <a:chExt cx="3960360" cy="273492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487692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65128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ите неравенство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ответе запишите сумму всех его целых решений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ЗНО 201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8769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6957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609480" y="3962520"/>
            <a:ext cx="4032000" cy="1949400"/>
            <a:chOff x="609480" y="3962520"/>
            <a:chExt cx="4032000" cy="194940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60948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00592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6957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1143000" y="3962520"/>
            <a:ext cx="3960360" cy="2734920"/>
            <a:chOff x="1143000" y="3962520"/>
            <a:chExt cx="3960360" cy="273492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14300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91736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7926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457200" y="3429000"/>
            <a:ext cx="4032000" cy="1949400"/>
            <a:chOff x="457200" y="3429000"/>
            <a:chExt cx="4032000" cy="194940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457200" y="342900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853640" y="364464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7926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914400" y="3886200"/>
            <a:ext cx="3960360" cy="2734920"/>
            <a:chOff x="914400" y="3886200"/>
            <a:chExt cx="3960360" cy="2734920"/>
          </a:xfrm>
        </p:grpSpPr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>
              <a:off x="91440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688760" y="38862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Группа 10"/>
          <p:cNvGrpSpPr/>
          <p:nvPr/>
        </p:nvGrpSpPr>
        <p:grpSpPr>
          <a:xfrm>
            <a:off x="152280" y="71280"/>
            <a:ext cx="8817120" cy="6531480"/>
            <a:chOff x="152280" y="71280"/>
            <a:chExt cx="8817120" cy="6531480"/>
          </a:xfrm>
        </p:grpSpPr>
        <p:pic>
          <p:nvPicPr>
            <p:cNvPr id="195" name="Рисунок 5" descr="Описание: C:\Documents and Settings\A&amp;L\Рабочий стол\АЛГЕБРА\Урок 22 Функция y=ax2+bx+c її властивостi та графiк\22-5 Рисунок.jpg"/>
            <p:cNvPicPr/>
            <p:nvPr/>
          </p:nvPicPr>
          <p:blipFill>
            <a:blip r:embed="rId1"/>
            <a:stretch/>
          </p:blipFill>
          <p:spPr>
            <a:xfrm>
              <a:off x="6690960" y="3349440"/>
              <a:ext cx="2278440" cy="28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"/>
            <p:cNvSpPr/>
            <p:nvPr/>
          </p:nvSpPr>
          <p:spPr>
            <a:xfrm>
              <a:off x="3608280" y="1417320"/>
              <a:ext cx="426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285480" y="2544840"/>
              <a:ext cx="656280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030a0"/>
                  </a:solidFill>
                  <a:latin typeface="Arial"/>
                  <a:ea typeface="Calibri"/>
                </a:rPr>
                <a:t>Укажит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1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знак коэффициент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2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координаты вершины парабол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3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уравнение оси симметрии парабол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4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нули квадратичной функ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5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ки, на которых функция принимает положительные значения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6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ки, на которых функция принимает отрицательные значения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7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ок, на котором функция возрастает, убывает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8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наименьшее значение функции и значени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, при котором функция принимает это значение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9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знак свободного члена</a:t>
              </a:r>
              <a:r>
                <a:rPr b="0" lang="en-US" sz="2000" spc="-1" strike="noStrike">
                  <a:solidFill>
                    <a:srgbClr val="7030a0"/>
                  </a:solidFill>
                  <a:latin typeface="Arial"/>
                  <a:ea typeface="Calibri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6" descr=""/>
            <p:cNvPicPr/>
            <p:nvPr/>
          </p:nvPicPr>
          <p:blipFill>
            <a:blip r:embed="rId2"/>
            <a:stretch/>
          </p:blipFill>
          <p:spPr>
            <a:xfrm>
              <a:off x="6202080" y="71280"/>
              <a:ext cx="26701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2"/>
            <p:cNvSpPr/>
            <p:nvPr/>
          </p:nvSpPr>
          <p:spPr>
            <a:xfrm>
              <a:off x="546120" y="3585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полнить уст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оугольник 6"/>
            <p:cNvSpPr/>
            <p:nvPr/>
          </p:nvSpPr>
          <p:spPr>
            <a:xfrm>
              <a:off x="285480" y="1404720"/>
              <a:ext cx="4587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оугольник 7"/>
            <p:cNvSpPr/>
            <p:nvPr/>
          </p:nvSpPr>
          <p:spPr>
            <a:xfrm>
              <a:off x="152280" y="1909440"/>
              <a:ext cx="86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280" y="15238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рисунке 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ображена  парабола, которая является графиком некоторой  квадратичной фун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x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609480" y="3733920"/>
            <a:ext cx="4032000" cy="1949400"/>
            <a:chOff x="609480" y="3733920"/>
            <a:chExt cx="4032000" cy="194940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609480" y="37339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2005920" y="39495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1143000" y="3886200"/>
            <a:ext cx="3960360" cy="2734920"/>
            <a:chOff x="1143000" y="3886200"/>
            <a:chExt cx="3960360" cy="273492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114300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917360" y="38862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2385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85800" y="3581280"/>
            <a:ext cx="4032000" cy="1949400"/>
            <a:chOff x="685800" y="3581280"/>
            <a:chExt cx="4032000" cy="194940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685800" y="358128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2082240" y="379692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2385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1371600" y="3809880"/>
            <a:ext cx="3960360" cy="2734920"/>
            <a:chOff x="1371600" y="3809880"/>
            <a:chExt cx="3960360" cy="273492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1371600" y="463212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145960" y="380988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становить, сколько корней имеет уравнение в зависимости от значения параметра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А.Г. Мерзляк, Алгебра-9, учебник для классов с углубленным изучением математики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11.57-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5700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D:\Картинки\уроки\i (3).jpg"/>
          <p:cNvPicPr/>
          <p:nvPr/>
        </p:nvPicPr>
        <p:blipFill>
          <a:blip r:embed="rId1"/>
          <a:stretch/>
        </p:blipFill>
        <p:spPr>
          <a:xfrm>
            <a:off x="4071960" y="2571840"/>
            <a:ext cx="2928960" cy="1428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D:\Картинки\уроки\otdahni.ru_1279626662_7275.jpg"/>
          <p:cNvPicPr/>
          <p:nvPr/>
        </p:nvPicPr>
        <p:blipFill>
          <a:blip r:embed="rId2"/>
          <a:stretch/>
        </p:blipFill>
        <p:spPr>
          <a:xfrm>
            <a:off x="7218360" y="3214800"/>
            <a:ext cx="1925640" cy="2357280"/>
          </a:xfrm>
          <a:prstGeom prst="rect">
            <a:avLst/>
          </a:prstGeom>
          <a:ln w="0">
            <a:noFill/>
          </a:ln>
        </p:spPr>
      </p:pic>
      <p:pic>
        <p:nvPicPr>
          <p:cNvPr id="329" name="Заголовок 1" descr=""/>
          <p:cNvPicPr/>
          <p:nvPr/>
        </p:nvPicPr>
        <p:blipFill>
          <a:blip r:embed="rId3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D:\Картинки\уроки\56985117_1269624988_raduga2.jpg"/>
          <p:cNvPicPr/>
          <p:nvPr/>
        </p:nvPicPr>
        <p:blipFill>
          <a:blip r:embed="rId4"/>
          <a:stretch/>
        </p:blipFill>
        <p:spPr>
          <a:xfrm>
            <a:off x="7429680" y="1500120"/>
            <a:ext cx="1714320" cy="1147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D:\Картинки\уроки\1191318731_pic_11905190072658.jpg"/>
          <p:cNvPicPr/>
          <p:nvPr/>
        </p:nvPicPr>
        <p:blipFill>
          <a:blip r:embed="rId5"/>
          <a:stretch/>
        </p:blipFill>
        <p:spPr>
          <a:xfrm>
            <a:off x="0" y="1500120"/>
            <a:ext cx="2543040" cy="1819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D:\Картинки\уроки\bridgeparabola.jpg"/>
          <p:cNvPicPr/>
          <p:nvPr/>
        </p:nvPicPr>
        <p:blipFill>
          <a:blip r:embed="rId6"/>
          <a:stretch/>
        </p:blipFill>
        <p:spPr>
          <a:xfrm>
            <a:off x="2500200" y="1500120"/>
            <a:ext cx="3556080" cy="1341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D:\Картинки\уроки\i (2).jpg"/>
          <p:cNvPicPr/>
          <p:nvPr/>
        </p:nvPicPr>
        <p:blipFill>
          <a:blip r:embed="rId7"/>
          <a:stretch/>
        </p:blipFill>
        <p:spPr>
          <a:xfrm>
            <a:off x="7000920" y="264312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D:\Картинки\уроки\i (4).jpg"/>
          <p:cNvPicPr/>
          <p:nvPr/>
        </p:nvPicPr>
        <p:blipFill>
          <a:blip r:embed="rId8"/>
          <a:stretch/>
        </p:blipFill>
        <p:spPr>
          <a:xfrm>
            <a:off x="5929200" y="1500120"/>
            <a:ext cx="1521000" cy="1357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D:\Картинки\уроки\i (5).jpg"/>
          <p:cNvPicPr/>
          <p:nvPr/>
        </p:nvPicPr>
        <p:blipFill>
          <a:blip r:embed="rId9"/>
          <a:stretch/>
        </p:blipFill>
        <p:spPr>
          <a:xfrm>
            <a:off x="1928880" y="2786040"/>
            <a:ext cx="2133360" cy="1428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D:\Картинки\уроки\i (6).jpg"/>
          <p:cNvPicPr/>
          <p:nvPr/>
        </p:nvPicPr>
        <p:blipFill>
          <a:blip r:embed="rId10"/>
          <a:stretch/>
        </p:blipFill>
        <p:spPr>
          <a:xfrm>
            <a:off x="0" y="29289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D:\Картинки\уроки\i (7).jpg"/>
          <p:cNvPicPr/>
          <p:nvPr/>
        </p:nvPicPr>
        <p:blipFill>
          <a:blip r:embed="rId11"/>
          <a:stretch/>
        </p:blipFill>
        <p:spPr>
          <a:xfrm>
            <a:off x="4714920" y="3929040"/>
            <a:ext cx="2617920" cy="1643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3" descr="D:\Картинки\уроки\i (8).jpg"/>
          <p:cNvPicPr/>
          <p:nvPr/>
        </p:nvPicPr>
        <p:blipFill>
          <a:blip r:embed="rId12"/>
          <a:stretch/>
        </p:blipFill>
        <p:spPr>
          <a:xfrm>
            <a:off x="2428920" y="392904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D:\Картинки\уроки\interferonometr.jpg"/>
          <p:cNvPicPr/>
          <p:nvPr/>
        </p:nvPicPr>
        <p:blipFill>
          <a:blip r:embed="rId13"/>
          <a:stretch/>
        </p:blipFill>
        <p:spPr>
          <a:xfrm>
            <a:off x="0" y="3929040"/>
            <a:ext cx="2433600" cy="1689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5" descr="D:\Картинки\уроки\Numerous_Parabolas.jpeg"/>
          <p:cNvPicPr/>
          <p:nvPr/>
        </p:nvPicPr>
        <p:blipFill>
          <a:blip r:embed="rId14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п.11-13, 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1.57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19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25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3.12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3.18 (7,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505320" cy="34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3059280" y="1557360"/>
            <a:ext cx="5760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уро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46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Picture 12" descr="Рисунок7"/>
          <p:cNvPicPr/>
          <p:nvPr/>
        </p:nvPicPr>
        <p:blipFill>
          <a:blip r:embed="rId1"/>
          <a:srcRect l="0" t="0" r="-52" b="0"/>
          <a:stretch/>
        </p:blipFill>
        <p:spPr>
          <a:xfrm>
            <a:off x="179280" y="549360"/>
            <a:ext cx="3276720" cy="41274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3"/>
          <p:cNvSpPr/>
          <p:nvPr/>
        </p:nvSpPr>
        <p:spPr>
          <a:xfrm>
            <a:off x="1908000" y="2708280"/>
            <a:ext cx="1295640" cy="1584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2027880" y="3716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037240" y="299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йти область определения функции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А.Г. Мерзляк, Алгебра-9, учебник для классов с углубленным изучением математики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12.25-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69880" y="3798720"/>
            <a:ext cx="570096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=25-4 · 2 · 3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1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2;+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947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83860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=25-4 · 2 · 3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+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699000" cy="947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2257560" cy="19047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5183280" y="3657600"/>
            <a:ext cx="3960360" cy="2734920"/>
            <a:chOff x="5183280" y="3657600"/>
            <a:chExt cx="3960360" cy="273492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5183280" y="44798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957640" y="36576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x –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x² - x –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– 4 · 2 · (-3) = 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; 1,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906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2905200" cy="21240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x –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x² - x –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– 4 · 2 · (-3) = 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-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-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 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+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1636920" cy="906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90920" y="3429000"/>
            <a:ext cx="2209680" cy="912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2838600" cy="19620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4952880" y="3886200"/>
            <a:ext cx="3960720" cy="2734920"/>
            <a:chOff x="4952880" y="3886200"/>
            <a:chExt cx="3960720" cy="273492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495288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727240" y="3886200"/>
              <a:ext cx="318636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+ 5x – 6 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x² + 5x –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² - 5x +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25 – 4 · 6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∞;2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3;+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240000" cy="2781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403848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111640" y="4572000"/>
            <a:ext cx="4032000" cy="1949400"/>
            <a:chOff x="5111640" y="4572000"/>
            <a:chExt cx="4032000" cy="194940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5111640" y="457200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508080" y="478764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+ 5x – 6 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x² + 5x –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² - 5x +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25 – 4 · 6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4038480" cy="93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2860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5183280" y="3962520"/>
            <a:ext cx="3960360" cy="2734920"/>
            <a:chOff x="5183280" y="3962520"/>
            <a:chExt cx="3960360" cy="273492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518328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95764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4-02-26T20:06:4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9000000000001024140</vt:lpwstr>
  </property>
  <property fmtid="{D5CDD505-2E9C-101B-9397-08002B2CF9AE}" pid="3" name="Version">
    <vt:r8>1</vt:r8>
  </property>
</Properties>
</file>