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54.png" ContentType="image/png"/>
  <Override PartName="/ppt/media/image12.wmf" ContentType="image/x-wmf"/>
  <Override PartName="/ppt/media/image49.wmf" ContentType="image/x-wmf"/>
  <Override PartName="/ppt/media/image51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.png" ContentType="image/png"/>
  <Override PartName="/ppt/media/image34.png" ContentType="image/png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52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1.jpeg" ContentType="image/jpeg"/>
  <Override PartName="/ppt/media/image50.wmf" ContentType="image/x-wmf"/>
  <Override PartName="/ppt/media/image5.png" ContentType="image/png"/>
  <Override PartName="/ppt/media/image35.png" ContentType="image/png"/>
  <Override PartName="/ppt/media/image38.wmf" ContentType="image/x-wmf"/>
  <Override PartName="/ppt/media/image8.wmf" ContentType="image/x-wmf"/>
  <Override PartName="/ppt/media/image3.png" ContentType="image/png"/>
  <Override PartName="/ppt/media/image3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647-8D6D-4FF7-B530-289A3A60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996-AA1B-48D7-AFE0-61457074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BBA-FCE9-4529-8F5C-E4909F8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0CE-E210-4FAD-953D-B39D43D9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598C-CDF7-4C29-A825-BB78B848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3CA0-7103-43FF-94A2-985B0111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43C2-8C38-4761-A800-63EECD8D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EB3-2082-4100-94E8-3ADBDC7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B1BD-B7EA-4DC4-93A0-CAA5CF55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7B58-B8F3-46A9-8E03-F4B6BF59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6C17-7B0A-4690-AB9C-D1D68F1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1B7-46A9-46EC-9D5B-4C1F3760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69E-7EE2-4500-A2F1-92080F7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726-0746-4F72-A582-9678514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CF3-C4E9-4CD7-B93B-424C9F5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59B-ED1D-4796-B605-581B0C1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769-B523-4EF2-9A3E-C32FD9BB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465-179D-4674-8701-2190565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76A-60C5-4FF5-ADC6-AFCDD74B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92E-F913-48DC-808D-9460CF1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464-3EB6-4DF1-8B63-34FD03D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093-4119-4BE9-8AE7-75B24D2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105-E9DE-4912-86C0-C4E79C2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4F3-D295-4EF1-B2A2-47A2ACCB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678-93A7-48B0-9398-56C787BB85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79E6-CBEC-4442-AE1D-B9F0C29DD1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9.wmf"/><Relationship Id="rId11" Type="http://schemas.openxmlformats.org/officeDocument/2006/relationships/image" Target="../media/image50.wmf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9.wmf"/><Relationship Id="rId11" Type="http://schemas.openxmlformats.org/officeDocument/2006/relationships/image" Target="../media/image50.wmf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6480" y="1096920"/>
            <a:ext cx="9595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1206360" y="1852560"/>
            <a:ext cx="68835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дача.avi" descr=""/>
          <p:cNvPicPr/>
          <p:nvPr/>
        </p:nvPicPr>
        <p:blipFill>
          <a:blip r:embed="rId2"/>
          <a:stretch/>
        </p:blipFill>
        <p:spPr>
          <a:xfrm>
            <a:off x="696960" y="285840"/>
            <a:ext cx="780408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2768400" cy="1285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3611520" cy="663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928800" y="3929040"/>
            <a:ext cx="192564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928800" y="4714920"/>
            <a:ext cx="2768400" cy="745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930960" y="5572080"/>
            <a:ext cx="775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Ответ: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наибольшее 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расстояние, которое мог проплыть 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турист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о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течению 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реки, 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равно </a:t>
            </a:r>
            <a:r>
              <a:rPr b="0" lang="uk-UA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haroni"/>
              </a:rPr>
              <a:t>12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  <a:ea typeface="Aharon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haroni"/>
              </a:rPr>
              <a:t>к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471480" y="78588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Решени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95680" y="1000080"/>
            <a:ext cx="1682640" cy="58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24080" y="1990800"/>
            <a:ext cx="138276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97360" y="199080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608880" y="2000160"/>
            <a:ext cx="1322280" cy="581040"/>
          </a:xfrm>
          <a:prstGeom prst="rect">
            <a:avLst/>
          </a:prstGeom>
          <a:ln w="0">
            <a:noFill/>
          </a:ln>
        </p:spPr>
      </p:pic>
      <p:cxnSp>
        <p:nvCxnSpPr>
          <p:cNvPr id="148" name="Прямая со стрелкой 15"/>
          <p:cNvCxnSpPr/>
          <p:nvPr/>
        </p:nvCxnSpPr>
        <p:spPr>
          <a:xfrm flipH="1">
            <a:off x="1928160" y="1571760"/>
            <a:ext cx="1500840" cy="46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Прямая со стрелкой 16"/>
          <p:cNvCxnSpPr/>
          <p:nvPr/>
        </p:nvCxnSpPr>
        <p:spPr>
          <a:xfrm>
            <a:off x="5429160" y="1571400"/>
            <a:ext cx="16437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Прямая со стрелкой 18"/>
          <p:cNvCxnSpPr/>
          <p:nvPr/>
        </p:nvCxnSpPr>
        <p:spPr>
          <a:xfrm flipH="1">
            <a:off x="4427280" y="16282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Прямая со стрелкой 23"/>
          <p:cNvCxnSpPr/>
          <p:nvPr/>
        </p:nvCxnSpPr>
        <p:spPr>
          <a:xfrm flipH="1">
            <a:off x="1928520" y="26427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24"/>
          <p:cNvCxnSpPr/>
          <p:nvPr/>
        </p:nvCxnSpPr>
        <p:spPr>
          <a:xfrm flipH="1">
            <a:off x="4428360" y="2571840"/>
            <a:ext cx="25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25"/>
          <p:cNvCxnSpPr/>
          <p:nvPr/>
        </p:nvCxnSpPr>
        <p:spPr>
          <a:xfrm flipH="1">
            <a:off x="7286400" y="257184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228680" y="3203640"/>
            <a:ext cx="1381320" cy="747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578400" y="3214800"/>
            <a:ext cx="1682640" cy="58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6727680" y="3060720"/>
            <a:ext cx="1382760" cy="746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cxnSp>
        <p:nvCxnSpPr>
          <p:cNvPr id="157" name="Прямая со стрелкой 29"/>
          <p:cNvCxnSpPr/>
          <p:nvPr/>
        </p:nvCxnSpPr>
        <p:spPr>
          <a:xfrm flipH="1">
            <a:off x="3857400" y="3857760"/>
            <a:ext cx="3578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31"/>
          <p:cNvCxnSpPr/>
          <p:nvPr/>
        </p:nvCxnSpPr>
        <p:spPr>
          <a:xfrm>
            <a:off x="4643280" y="3857760"/>
            <a:ext cx="2865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2793960" y="4419720"/>
            <a:ext cx="1320840" cy="58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4863960" y="4429080"/>
            <a:ext cx="1322640" cy="581040"/>
          </a:xfrm>
          <a:prstGeom prst="rect">
            <a:avLst/>
          </a:prstGeom>
          <a:ln w="0">
            <a:noFill/>
          </a:ln>
        </p:spPr>
      </p:pic>
      <p:cxnSp>
        <p:nvCxnSpPr>
          <p:cNvPr id="161" name="Прямая со стрелкой 37"/>
          <p:cNvCxnSpPr/>
          <p:nvPr/>
        </p:nvCxnSpPr>
        <p:spPr>
          <a:xfrm flipH="1">
            <a:off x="3357360" y="50716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38"/>
          <p:cNvCxnSpPr/>
          <p:nvPr/>
        </p:nvCxnSpPr>
        <p:spPr>
          <a:xfrm flipH="1">
            <a:off x="5500440" y="50716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2406600" y="5594400"/>
            <a:ext cx="1693800" cy="56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5148360" y="5599080"/>
            <a:ext cx="1442880" cy="58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TextBox 22"/>
          <p:cNvSpPr/>
          <p:nvPr/>
        </p:nvSpPr>
        <p:spPr>
          <a:xfrm>
            <a:off x="3571920" y="55008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2"/>
          <a:stretch/>
        </p:blipFill>
        <p:spPr>
          <a:xfrm>
            <a:off x="847800" y="2266920"/>
            <a:ext cx="7759800" cy="2390760"/>
          </a:xfrm>
          <a:prstGeom prst="rect">
            <a:avLst/>
          </a:prstGeom>
          <a:ln w="0">
            <a:noFill/>
          </a:ln>
        </p:spPr>
      </p:pic>
      <p:pic>
        <p:nvPicPr>
          <p:cNvPr id="167" name="Физкультминутка.mp3" descr=""/>
          <p:cNvPicPr/>
          <p:nvPr/>
        </p:nvPicPr>
        <p:blipFill>
          <a:blip r:embed="rId3"/>
          <a:stretch/>
        </p:blipFill>
        <p:spPr>
          <a:xfrm>
            <a:off x="4071960" y="4000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10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2755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95680" y="1000080"/>
            <a:ext cx="1682640" cy="58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24080" y="1990800"/>
            <a:ext cx="1382760" cy="581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897360" y="199080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608880" y="2000160"/>
            <a:ext cx="1322280" cy="58104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15"/>
          <p:cNvCxnSpPr/>
          <p:nvPr/>
        </p:nvCxnSpPr>
        <p:spPr>
          <a:xfrm flipH="1">
            <a:off x="1928160" y="1571760"/>
            <a:ext cx="1500840" cy="46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6"/>
          <p:cNvCxnSpPr/>
          <p:nvPr/>
        </p:nvCxnSpPr>
        <p:spPr>
          <a:xfrm>
            <a:off x="5429160" y="1571400"/>
            <a:ext cx="16437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 flipH="1">
            <a:off x="4427280" y="16282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Прямая со стрелкой 23"/>
          <p:cNvCxnSpPr/>
          <p:nvPr/>
        </p:nvCxnSpPr>
        <p:spPr>
          <a:xfrm flipH="1">
            <a:off x="1928520" y="26427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24"/>
          <p:cNvCxnSpPr/>
          <p:nvPr/>
        </p:nvCxnSpPr>
        <p:spPr>
          <a:xfrm flipH="1">
            <a:off x="4428360" y="2571840"/>
            <a:ext cx="25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Прямая со стрелкой 25"/>
          <p:cNvCxnSpPr/>
          <p:nvPr/>
        </p:nvCxnSpPr>
        <p:spPr>
          <a:xfrm flipH="1">
            <a:off x="7286400" y="257184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1228680" y="3203640"/>
            <a:ext cx="1381320" cy="747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578400" y="3214800"/>
            <a:ext cx="1682640" cy="58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727680" y="3060720"/>
            <a:ext cx="1382760" cy="746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cxnSp>
        <p:nvCxnSpPr>
          <p:cNvPr id="181" name="Прямая со стрелкой 29"/>
          <p:cNvCxnSpPr/>
          <p:nvPr/>
        </p:nvCxnSpPr>
        <p:spPr>
          <a:xfrm flipH="1">
            <a:off x="3857400" y="3857760"/>
            <a:ext cx="3578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31"/>
          <p:cNvCxnSpPr/>
          <p:nvPr/>
        </p:nvCxnSpPr>
        <p:spPr>
          <a:xfrm>
            <a:off x="4643280" y="3857760"/>
            <a:ext cx="2865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2793960" y="4419720"/>
            <a:ext cx="1320840" cy="58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4863960" y="4429080"/>
            <a:ext cx="1322640" cy="581040"/>
          </a:xfrm>
          <a:prstGeom prst="rect">
            <a:avLst/>
          </a:prstGeom>
          <a:ln w="0">
            <a:noFill/>
          </a:ln>
        </p:spPr>
      </p:pic>
      <p:cxnSp>
        <p:nvCxnSpPr>
          <p:cNvPr id="185" name="Прямая со стрелкой 37"/>
          <p:cNvCxnSpPr/>
          <p:nvPr/>
        </p:nvCxnSpPr>
        <p:spPr>
          <a:xfrm flipH="1">
            <a:off x="3357360" y="50716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Прямая со стрелкой 38"/>
          <p:cNvCxnSpPr/>
          <p:nvPr/>
        </p:nvCxnSpPr>
        <p:spPr>
          <a:xfrm flipH="1">
            <a:off x="5500440" y="50716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2406600" y="5594400"/>
            <a:ext cx="1693800" cy="56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5148360" y="5599080"/>
            <a:ext cx="1442880" cy="582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9" name="TextBox 22"/>
          <p:cNvSpPr/>
          <p:nvPr/>
        </p:nvSpPr>
        <p:spPr>
          <a:xfrm>
            <a:off x="3571920" y="55008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1957320" y="1706400"/>
            <a:ext cx="69915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822240" y="706320"/>
            <a:ext cx="7328160" cy="70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1170000" y="1706400"/>
            <a:ext cx="79311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1957320" y="1170000"/>
            <a:ext cx="71438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993600" y="1779480"/>
            <a:ext cx="71568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993600" y="1779480"/>
            <a:ext cx="71568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3800" y="226548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71720" y="785880"/>
            <a:ext cx="2587320" cy="66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03320" y="1550880"/>
            <a:ext cx="2346480" cy="66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06560" y="2979720"/>
            <a:ext cx="2706480" cy="66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06560" y="37656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071720" y="45720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008000" y="5337000"/>
            <a:ext cx="2344680" cy="663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4788000" y="774720"/>
            <a:ext cx="318744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749840" y="1562040"/>
            <a:ext cx="3301920" cy="69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4917960" y="4357800"/>
            <a:ext cx="3310200" cy="704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773600" y="2786040"/>
            <a:ext cx="330984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5"/>
          <p:cNvSpPr/>
          <p:nvPr/>
        </p:nvSpPr>
        <p:spPr>
          <a:xfrm>
            <a:off x="5429160" y="357192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5429160" y="214308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5500800" y="521496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4775040" y="2184480"/>
            <a:ext cx="774720" cy="660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4857840" y="3571920"/>
            <a:ext cx="780840" cy="66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4898880" y="5286240"/>
            <a:ext cx="841680" cy="662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19000" y="2476440"/>
            <a:ext cx="2757600" cy="66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27000" y="836640"/>
            <a:ext cx="2765520" cy="6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963720" y="1689120"/>
            <a:ext cx="2822400" cy="66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865080" y="3251160"/>
            <a:ext cx="3186360" cy="73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97040" y="4038480"/>
            <a:ext cx="2698560" cy="73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292720" y="825480"/>
            <a:ext cx="1922400" cy="73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410080" y="1654200"/>
            <a:ext cx="1803600" cy="5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403960" y="4016520"/>
            <a:ext cx="1801800" cy="577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5383080" y="3152880"/>
            <a:ext cx="1857600" cy="5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5383080" y="2365200"/>
            <a:ext cx="1805040" cy="578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2428920"/>
            <a:ext cx="9178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)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Является  ли число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решением неравенства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2х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&gt;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10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Rectangle 2" descr=""/>
          <p:cNvPicPr/>
          <p:nvPr/>
        </p:nvPicPr>
        <p:blipFill>
          <a:blip r:embed="rId2"/>
          <a:stretch/>
        </p:blipFill>
        <p:spPr>
          <a:xfrm>
            <a:off x="-6480" y="665280"/>
            <a:ext cx="9156960" cy="1449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08040" y="2786040"/>
            <a:ext cx="8535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3) Является ли неравенство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5х-15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&gt;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4х+14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 строгим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57120" y="2928960"/>
            <a:ext cx="8535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2) Является ли число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-6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 решением неравенства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4х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&gt;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12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71680" y="2071800"/>
            <a:ext cx="93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4) Существует ли целое число  принадлежащее промежутку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[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-2,8;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-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2,6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]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85840" y="1928880"/>
            <a:ext cx="85359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6)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Верно ли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, что при умножении или делении обеих частей  неравенства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на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отрицательное число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знак неравенства не меняется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28760" y="1857240"/>
            <a:ext cx="853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) 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При любом ли значении переменной </a:t>
            </a:r>
            <a:r>
              <a:rPr b="1" lang="ru-RU" sz="4800" spc="-1" strike="noStrike">
                <a:solidFill>
                  <a:srgbClr val="ffc000"/>
                </a:solidFill>
                <a:latin typeface="Arial Narrow"/>
              </a:rPr>
              <a:t>а</a:t>
            </a: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 верно неравенство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а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  <a:ea typeface="Arial"/>
              </a:rPr>
              <a:t>²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 +4 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&gt;</a:t>
            </a:r>
            <a:r>
              <a:rPr b="1" lang="ru-RU" sz="4800" spc="-1" strike="noStrike">
                <a:solidFill>
                  <a:srgbClr val="e2d700"/>
                </a:solidFill>
                <a:latin typeface="Arial Narrow"/>
              </a:rPr>
              <a:t>о</a:t>
            </a:r>
            <a:r>
              <a:rPr b="1" lang="en-US" sz="4800" spc="-1" strike="noStrike">
                <a:solidFill>
                  <a:srgbClr val="e2d7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533520" indent="-53352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1977840" y="3286080"/>
            <a:ext cx="51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1</a:t>
            </a:r>
            <a:r>
              <a:rPr b="1" lang="en-US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0</a:t>
            </a:r>
            <a:r>
              <a:rPr b="1" lang="en-US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1</a:t>
            </a:r>
            <a:r>
              <a:rPr b="1" lang="en-US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0</a:t>
            </a:r>
            <a:r>
              <a:rPr b="1" lang="en-US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1</a:t>
            </a:r>
            <a:r>
              <a:rPr b="1" lang="en-US" sz="80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990000"/>
                </a:solidFill>
                <a:latin typeface="Constantia"/>
              </a:rPr>
              <a:t>0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Rectangle 2" descr=""/>
          <p:cNvPicPr/>
          <p:nvPr/>
        </p:nvPicPr>
        <p:blipFill>
          <a:blip r:embed="rId2"/>
          <a:stretch/>
        </p:blipFill>
        <p:spPr>
          <a:xfrm>
            <a:off x="853920" y="1352520"/>
            <a:ext cx="7326360" cy="167184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2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156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3:20:50Z</dcterms:created>
  <dc:creator>NINA</dc:creator>
  <dc:description/>
  <dc:language>en-US</dc:language>
  <cp:lastModifiedBy>Admin</cp:lastModifiedBy>
  <dcterms:modified xsi:type="dcterms:W3CDTF">2014-02-25T08:56:32Z</dcterms:modified>
  <cp:revision>40</cp:revision>
  <dc:subject/>
  <dc:title>Тема урока:  “Решение линейных           неравенств с одной            переменно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17000000000001024140</vt:lpwstr>
  </property>
</Properties>
</file>