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wmf" ContentType="image/x-wmf"/>
  <Override PartName="/ppt/media/image10.gif" ContentType="image/gif"/>
  <Override PartName="/ppt/media/image8.wmf" ContentType="image/x-wmf"/>
  <Override PartName="/ppt/media/image11.png" ContentType="image/png"/>
  <Override PartName="/ppt/media/image7.jpeg" ContentType="image/jpeg"/>
  <Override PartName="/ppt/media/image15.gif" ContentType="image/gif"/>
  <Override PartName="/ppt/media/image20.png" ContentType="image/png"/>
  <Override PartName="/ppt/media/image6.jpeg" ContentType="image/jpeg"/>
  <Override PartName="/ppt/media/image23.wmf" ContentType="image/x-wmf"/>
  <Override PartName="/ppt/media/image21.gif" ContentType="image/gif"/>
  <Override PartName="/ppt/media/image19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2.wmf" ContentType="image/x-wmf"/>
  <Override PartName="/ppt/media/image16.jpeg" ContentType="image/jpeg"/>
  <Override PartName="/ppt/media/image3.wmf" ContentType="image/x-wmf"/>
  <Override PartName="/ppt/media/image4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B26-9943-4C19-857C-3500F09C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414-468F-40F1-A615-3BB896E5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C58-1C0A-47F5-9766-65470190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D10-768A-4255-B68D-7F5F63B9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9DCD-F154-46DA-BC9D-38D54C85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1D8D-5CAA-4138-8607-320F7BF3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464B-7548-4C16-92CC-DE5A5659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EA63-D376-476A-997D-DD17DD28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3071-B615-4E47-A36C-4326A82F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9C55-846F-4BE3-BF25-9A70CDAC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F0EA-ACEA-4F07-B7FF-6BB08AA2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13A-4DA0-4F5C-A58A-F2A224F7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BFB7-B21C-4B18-83E6-5005E78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87E3-EB14-41D5-BD94-FC81BC99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5891-E15C-4B5F-A2B0-CF8A6316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8894-31F4-4675-B606-D34D7EB3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DBEA-1EED-4BF0-BCAE-B5C8193C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4BBB-BD97-4C78-969C-8EF74FDB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046AD-6055-4B5D-B335-5363DED3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D5B2-6B6D-41AF-B170-EFA06F25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DB55-64AF-45DF-A54D-B10123EC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165A-243C-491E-ADCD-007EF932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99F-9590-4BC5-826C-0A9AEC20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78CB-94FA-4939-ACBB-D3F11CE1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B742-80CA-46E2-A8EB-06B52FD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00A7-ED5B-457D-9903-F1C04648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BE8A-94D0-46E8-ACF6-1C8F256B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4FE21-44AD-4A4D-9F35-0DEC8589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A49A-884B-4617-83DF-643D6689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967D-3177-489D-893E-B79CB678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097C4-9066-4E25-9681-2BB114DB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4A1D4-9EEE-47BC-ABBC-EB6F0025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9A81D-CF43-4D20-89A5-DCCD7539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11C-9D55-4279-9E9C-BABCE810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868EC0-DBED-44B7-BE09-026B91C3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9F4BC-EF06-488A-A83B-7303DC27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D13BB-B5A0-4DDD-A1EB-1D5AC742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5F9D83-0E7F-4F88-8810-4B6943C2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8FBF4-A9C4-46FC-B813-940BD64E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74DB7-F27B-42D4-8D21-DA151F04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B80C8-1650-4B2C-9D7E-CD0B8C70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F05AD-194F-4F3B-B68D-C1DAB184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F0207-5461-41BD-A324-E5B050F7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2641-5D9D-4623-9901-34238F2A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D10-A1A9-40CC-BDDB-E98D9AE4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0E0E-31B4-45EB-BFA0-001A6F86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D5177-B7A8-483E-80F2-E691A9E1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133D4-B060-4371-92D8-3194EA51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1B332-B9D6-40B3-9A2A-ED116D6E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C8571-089F-46C5-B995-8F0AF34D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689ED-D012-4720-B8C5-B0FF50A2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9C38D-C92E-4DEE-A244-11FD4B57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CC1C5-38EE-4E84-A2FD-4B076C29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792EE-368C-43D0-B984-88E104CB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BFF57-6557-48A4-A7AC-EE19521B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39A-2098-48E3-97B5-3F6020BA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37E28-1052-4823-80E0-D9135014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202714-CFEB-4AC3-81EC-ED1F28A7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0C7932-88D4-4275-889E-192013F9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C4D15E-E791-45B3-9338-1177A846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406455-08BD-40DB-B5C5-74EBBB4F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EC4DA0-B5D6-49BE-B167-435E9BC6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2DD109-3219-462D-A80E-0ABB2EE1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1EAA75-7102-4090-9F16-172611D4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D1931C-9F05-49F3-AD57-13EB7E4D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03688F-103C-49C2-854C-6D053881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78A-E1E8-40A5-A77C-0DF32DC7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7902B5-178C-47C9-9DEE-BE44A512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E1E0B6-F69D-471E-83FE-CF436E8B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C40B93-91A9-4E3D-9C9F-4D7A17EB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00A-867C-4D2F-A4FC-E9B97EF3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D75-8F72-4DD4-910D-9A78E0B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9ED4-ADA9-468D-8103-61B7DA404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BD5C-9176-4B8F-A559-602FF65E53B3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87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A891-11CA-4169-8FC7-AE6CD95F0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dd8047"/>
          </a:solidFill>
          <a:ln w="25560">
            <a:solidFill>
              <a:srgbClr val="dd80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8E09-649A-43A6-B341-599F1202B586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B0ED-276F-4032-B06D-C5D03EB4E720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D099-663B-4D3C-823F-338F7224E15E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23.wmf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"/>
          <p:cNvSpPr/>
          <p:nvPr/>
        </p:nvSpPr>
        <p:spPr>
          <a:xfrm>
            <a:off x="762120" y="289548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 водить корабл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ы в небо взлете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зна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уме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fon"/>
          <p:cNvPicPr/>
          <p:nvPr/>
        </p:nvPicPr>
        <p:blipFill>
          <a:blip r:embed="rId1"/>
          <a:stretch/>
        </p:blipFill>
        <p:spPr>
          <a:xfrm>
            <a:off x="2819520" y="2286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C:\Users\Администратор\Desktop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подготовитс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к контрольной работе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ыполнить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№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815,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№ 835, №841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523880" y="762120"/>
          <a:ext cx="6782040" cy="4643280"/>
        </p:xfrm>
        <a:graphic>
          <a:graphicData uri="http://schemas.openxmlformats.org/drawingml/2006/table">
            <a:tbl>
              <a:tblPr/>
              <a:tblGrid>
                <a:gridCol w="3391200"/>
                <a:gridCol w="339084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Балл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цен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3 И БОЛ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1-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9-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316" name="Picture 24" descr="Рисунок3"/>
          <p:cNvPicPr/>
          <p:nvPr/>
        </p:nvPicPr>
        <p:blipFill>
          <a:blip r:embed="rId1"/>
          <a:stretch/>
        </p:blipFill>
        <p:spPr>
          <a:xfrm>
            <a:off x="228600" y="4572000"/>
            <a:ext cx="2133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457200" y="609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 и тема поня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2" descr="MCj04244700000%5b1%5d"/>
          <p:cNvPicPr/>
          <p:nvPr/>
        </p:nvPicPr>
        <p:blipFill>
          <a:blip r:embed="rId1"/>
          <a:stretch/>
        </p:blipFill>
        <p:spPr>
          <a:xfrm>
            <a:off x="3429000" y="12952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533520" y="26668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, но не всё ещё понят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4" descr="MCj04338180000%5b1%5d"/>
          <p:cNvPicPr/>
          <p:nvPr/>
        </p:nvPicPr>
        <p:blipFill>
          <a:blip r:embed="rId2"/>
          <a:stretch/>
        </p:blipFill>
        <p:spPr>
          <a:xfrm>
            <a:off x="2819520" y="380988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4800600" y="17524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к не понравился и тема не понят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6" descr=""/>
          <p:cNvPicPr/>
          <p:nvPr/>
        </p:nvPicPr>
        <p:blipFill>
          <a:blip r:embed="rId3"/>
          <a:stretch/>
        </p:blipFill>
        <p:spPr>
          <a:xfrm>
            <a:off x="7156440" y="3041640"/>
            <a:ext cx="1006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8" descr="animation046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220320" cy="861048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" descr=""/>
          <p:cNvPicPr/>
          <p:nvPr/>
        </p:nvPicPr>
        <p:blipFill>
          <a:blip r:embed="rId2"/>
          <a:stretch/>
        </p:blipFill>
        <p:spPr>
          <a:xfrm>
            <a:off x="530280" y="1981080"/>
            <a:ext cx="8785080" cy="2322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2133720" y="41148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4"/>
          <a:stretch/>
        </p:blipFill>
        <p:spPr>
          <a:xfrm>
            <a:off x="609480" y="3048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5"/>
          <a:stretch/>
        </p:blipFill>
        <p:spPr>
          <a:xfrm>
            <a:off x="3808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6"/>
          <a:stretch/>
        </p:blipFill>
        <p:spPr>
          <a:xfrm>
            <a:off x="81532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7"/>
          <a:stretch/>
        </p:blipFill>
        <p:spPr>
          <a:xfrm>
            <a:off x="609480" y="5335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8"/>
          <a:stretch/>
        </p:blipFill>
        <p:spPr>
          <a:xfrm>
            <a:off x="4267080" y="4191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9"/>
          <a:stretch/>
        </p:blipFill>
        <p:spPr>
          <a:xfrm>
            <a:off x="5715000" y="36576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10"/>
          <a:stretch/>
        </p:blipFill>
        <p:spPr>
          <a:xfrm>
            <a:off x="3276720" y="327672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11"/>
          <a:stretch/>
        </p:blipFill>
        <p:spPr>
          <a:xfrm>
            <a:off x="7467480" y="2666880"/>
            <a:ext cx="300240" cy="260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12"/>
          <a:stretch/>
        </p:blipFill>
        <p:spPr>
          <a:xfrm>
            <a:off x="7696080" y="6858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13"/>
          <a:stretch/>
        </p:blipFill>
        <p:spPr>
          <a:xfrm>
            <a:off x="4267080" y="457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14"/>
          <a:stretch/>
        </p:blipFill>
        <p:spPr>
          <a:xfrm>
            <a:off x="8844120" y="6019920"/>
            <a:ext cx="2998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2130120"/>
            <a:ext cx="830556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Разложение многочленов </a:t>
            </a: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на множител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урок алгеб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0" y="0"/>
            <a:ext cx="9144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 Вставьте одночлен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бы полученное равенство было вер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) 18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+ 16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= . . .(9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8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б) 4а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6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2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 = 2ас (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.+ . . .    - …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в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ab – ac + b</a:t>
            </a:r>
            <a:r>
              <a:rPr b="1" lang="en-US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– bc = (ab - . . .)+(. . . –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. . (b – c) + b(. . – c) =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г) 4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. . . = (. . . – 5)(. . . + . 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0" y="36576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2 Найдите неизвестное слагае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чтобы получилась формула сокращённого умн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)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8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. . .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) 100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- . . .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+4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312408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5181480" y="141120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6095880" y="13716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a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7543800" y="1371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5257800" y="1828800"/>
            <a:ext cx="685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6400800" y="19051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380880" y="236232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2819520" y="2514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2"/>
          <p:cNvSpPr/>
          <p:nvPr/>
        </p:nvSpPr>
        <p:spPr>
          <a:xfrm>
            <a:off x="4419720" y="25146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b – c)(a + b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3886200" y="5105520"/>
            <a:ext cx="76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3429000" y="5715000"/>
            <a:ext cx="121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0b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1447920" y="3025800"/>
            <a:ext cx="761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25909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181480" y="3025800"/>
            <a:ext cx="457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41911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7315200" y="190512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1" descr="7b7d7c4c5df8a78f7db0b75b36bc5d07"/>
          <p:cNvPicPr/>
          <p:nvPr/>
        </p:nvPicPr>
        <p:blipFill>
          <a:blip r:embed="rId1"/>
          <a:stretch/>
        </p:blipFill>
        <p:spPr>
          <a:xfrm>
            <a:off x="6400800" y="4876920"/>
            <a:ext cx="2381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83880" y="15840"/>
            <a:ext cx="57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х -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- 2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а –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 =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a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в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3742560" y="367344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х –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 rot="20431200">
            <a:off x="1567080" y="2728440"/>
            <a:ext cx="686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КЛЮЧ ОТВЕТОВ: 10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762120" y="3733920"/>
            <a:ext cx="213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1- истина, 0 –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Рисунок4"/>
          <p:cNvPicPr/>
          <p:nvPr/>
        </p:nvPicPr>
        <p:blipFill>
          <a:blip r:embed="rId1"/>
          <a:stretch/>
        </p:blipFill>
        <p:spPr>
          <a:xfrm>
            <a:off x="6095880" y="152280"/>
            <a:ext cx="2210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45929" dir="2028877" blurRad="0" rotWithShape="0">
              <a:srgbClr val="b2b2b2">
                <a:alpha val="8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ee"/>
                </a:solidFill>
                <a:latin typeface="Times New Roman"/>
              </a:rPr>
              <a:t>К л а с с н а я    р а б о т 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" descr="Рисунок6"/>
          <p:cNvPicPr/>
          <p:nvPr/>
        </p:nvPicPr>
        <p:blipFill>
          <a:blip r:embed="rId1"/>
          <a:stretch/>
        </p:blipFill>
        <p:spPr>
          <a:xfrm>
            <a:off x="762120" y="4495680"/>
            <a:ext cx="20224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304920" y="457200"/>
            <a:ext cx="88390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–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5 – 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–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2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4. (2 + x)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9x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Рисунок6"/>
          <p:cNvPicPr/>
          <p:nvPr/>
        </p:nvPicPr>
        <p:blipFill>
          <a:blip r:embed="rId1"/>
          <a:stretch/>
        </p:blipFill>
        <p:spPr>
          <a:xfrm>
            <a:off x="6019920" y="3657600"/>
            <a:ext cx="28191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0" y="0"/>
            <a:ext cx="9144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разложении многочлена на множители необходимо соблюдать следующий поряд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нести общий множитель з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обк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он есть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формулы сокращенног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множени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это возможно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способ группиров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ожно проверить полученны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зультат умно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ло"/>
          <p:cNvPicPr/>
          <p:nvPr/>
        </p:nvPicPr>
        <p:blipFill>
          <a:blip r:embed="rId7"/>
          <a:stretch/>
        </p:blipFill>
        <p:spPr>
          <a:xfrm>
            <a:off x="7772400" y="5257800"/>
            <a:ext cx="1200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4"/>
          <p:cNvSpPr/>
          <p:nvPr/>
        </p:nvSpPr>
        <p:spPr>
          <a:xfrm>
            <a:off x="152280" y="76320"/>
            <a:ext cx="46483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2а – 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2(а +2).               Б. 2(а – 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4(а – 1).              Г. 4(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а(2 +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+(2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2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1). 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a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2)a. 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1 – 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24y + 9y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4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Б. (8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Не разлагается. 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4 – 3y)(4 + 3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5x – 5y – ax + 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– 5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+ 5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5 – a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– x)(5 +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4572000" y="205884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6а –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3(2а – 1).           Б. 3(2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6(а – 1).             Г. 3(а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 + (4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.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+ 1)(y + 4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+ 4)x.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1)(4 –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9x + 4x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Б. (4 –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Г. Не разлагается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ab – ac + 7c – 7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c)(a – 7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a + 7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7 – a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a – 7)(b – 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-7632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Б А 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172200" y="17524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А Б Г 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"/>
          <p:cNvSpPr/>
          <p:nvPr/>
        </p:nvSpPr>
        <p:spPr>
          <a:xfrm>
            <a:off x="2362320" y="11430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152280" y="21337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2"/>
          <p:cNvSpPr/>
          <p:nvPr/>
        </p:nvSpPr>
        <p:spPr>
          <a:xfrm>
            <a:off x="15228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3"/>
          <p:cNvSpPr/>
          <p:nvPr/>
        </p:nvSpPr>
        <p:spPr>
          <a:xfrm>
            <a:off x="228600" y="4495680"/>
            <a:ext cx="18288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457200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16"/>
          <p:cNvSpPr/>
          <p:nvPr/>
        </p:nvSpPr>
        <p:spPr>
          <a:xfrm>
            <a:off x="6781680" y="4114800"/>
            <a:ext cx="19051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8"/>
          <p:cNvSpPr/>
          <p:nvPr/>
        </p:nvSpPr>
        <p:spPr>
          <a:xfrm>
            <a:off x="6781680" y="5486400"/>
            <a:ext cx="23623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0"/>
          <p:cNvSpPr/>
          <p:nvPr/>
        </p:nvSpPr>
        <p:spPr>
          <a:xfrm>
            <a:off x="6781680" y="64771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5" descr="Рисунок12"/>
          <p:cNvPicPr/>
          <p:nvPr/>
        </p:nvPicPr>
        <p:blipFill>
          <a:blip r:embed="rId1"/>
          <a:stretch/>
        </p:blipFill>
        <p:spPr>
          <a:xfrm>
            <a:off x="1066680" y="4876920"/>
            <a:ext cx="20163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0" y="0"/>
            <a:ext cx="9077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)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б)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) -18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12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–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шите 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1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4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Вычислите наиболее рациональным способо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62320" y="4724280"/>
            <a:ext cx="5632200" cy="1676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Рисунок9"/>
          <p:cNvPicPr/>
          <p:nvPr/>
        </p:nvPicPr>
        <p:blipFill>
          <a:blip r:embed="rId2"/>
          <a:stretch/>
        </p:blipFill>
        <p:spPr>
          <a:xfrm>
            <a:off x="6324480" y="91440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4-01-21T18:38:11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21000000000001024140</vt:lpwstr>
  </property>
</Properties>
</file>