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11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jpeg" ContentType="image/jpeg"/>
  <Override PartName="/ppt/media/image23.wmf" ContentType="image/x-wmf"/>
  <Override PartName="/ppt/media/image21.gif" ContentType="image/gif"/>
  <Override PartName="/ppt/media/image19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2.wmf" ContentType="image/x-wmf"/>
  <Override PartName="/ppt/media/image16.jpeg" ContentType="image/jpeg"/>
  <Override PartName="/ppt/media/image3.wmf" ContentType="image/x-wmf"/>
  <Override PartName="/ppt/media/image4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A01-63F1-41E4-B293-1FABC8A7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B05-C453-427D-8D84-0F33849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5B3-3A74-4E75-B405-DB01A4D5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11E-1B1A-4924-A1CC-1F07C38F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D5F9-86F1-4EAF-B893-08357299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A0DB-38CB-485D-BA95-FAEEA82F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9412-9C37-4526-9619-EB2E1E3D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62D-65FC-4582-BCC9-607F764E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3233-9CCF-453E-8944-8BEB96D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99C6-E334-4661-A07D-6A023C34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F5B5-912C-4890-91C9-ECC8795C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32F-1B5B-45F7-AA05-5B6D984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1ED4-5723-47B4-B448-4D31895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E735-E944-47A0-9267-FD76D500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E977-B808-4BE3-916A-2529B6AA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314-A0F9-43D0-9072-82304541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BFF4-CF92-4AF3-813E-99F8B2A0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D724-6AC5-4E13-9E29-F18B5D3A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7892-F02E-45C7-8D1D-B2B14A20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5CC9-0178-4A64-8495-971D3DE7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8993-4ABD-4862-962E-4AF35F0C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3DB9-2088-43E1-B9F0-A0B16078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03E-ADA9-48E4-9330-9D3600AE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E5DB-1FEE-4879-BE49-964151CC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0DD35-0143-4949-92CA-B23DCE72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2411-3263-4E2F-8025-A443F925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D810-8A8B-40C5-9AA7-725D984A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81B1-2D16-46D3-A60A-80A1656D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5F64-2CE2-456A-9C3A-8F552609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D1B6-1F51-41AC-A8D6-A5B8FB88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4ADF6-F266-4AC4-A887-56253F22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6309D-AAFB-4F7C-A933-78BB6A50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10A55-1FA3-4C93-AAAD-F15A9CE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05D-B1F6-4FE5-B23D-C4AECE6C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A462E-8392-4512-84BC-DBC43EC4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3B68C-0F3C-42C8-9BAC-4A77FE8C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16B02-5174-4FF2-A3A7-C55A61AF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D798A-CAA6-4F2C-B254-406B8FB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44154-101B-4679-ABE9-D1E2CA57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E1CD5-6BAF-4B04-BF2F-4E416109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D19F4-AC9E-4E3D-B361-FC18BEAC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EFE64-1E99-4E46-BD81-1857AF25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07A5A-810B-4818-8936-9328EA4D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8DC8-D574-49ED-970F-F715A99C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1E9-EE7E-45F9-985F-B1DF0C45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5212-8CDD-48B3-9538-518890EC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EC703-F40D-483B-B084-759F28E2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A56F4-5587-49B9-ABC7-37FA4E97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8D796-CA28-4617-BA60-CC111BD5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96AA5-F1B1-43DF-9531-76C81236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D7876-8AC5-42CA-89E9-E1750B07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B879-68E6-41C9-BA14-3B26B91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26990-01E2-4BBA-8655-A7937856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6DBDF-72E8-47AA-8835-57C3F44B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6DFC4-2D17-4045-A30F-8569414A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9A4-C245-43E8-B8ED-C086B8F0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017DD-CC48-4147-9464-9AE636A3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BE7272-8009-45F5-B656-DE57B732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80939-C426-4483-912D-E9812A3B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0C1DC5-AC67-4812-84CD-C044F903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4CD02-B18A-4275-902B-361F8C9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F34D5-2431-41C0-8C46-4A927200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31201-C53D-4C97-A0CB-4DF2176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E19DC1-4526-4A47-B49F-EC11B667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C2B5D-4F81-45D2-9270-35CAE89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C3EC2-697E-4C34-8F32-F8DCB85E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F8C-3DDC-4D64-923D-8F8F0614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4A3A01-AC43-490F-9170-DC68F53F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E6BA0C-CB84-4E80-BB98-290C7CBB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D25B92-4F33-445E-9295-1419CE92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193-10B5-4153-A452-C7B64454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563-33D6-4378-A24E-313D4E20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5FD7-C800-4EAB-9E18-BA83CBA36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227A-FB37-4613-A1EE-4A168E0A2AC2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87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4025-1969-4C1A-B073-1D7EC8D5B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d8047"/>
          </a:solidFill>
          <a:ln w="25560">
            <a:solidFill>
              <a:srgbClr val="dd80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FD41-61D8-4A8F-B717-255BDF0F2FBA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7D5F-51DC-4B9D-B225-C9A62942E377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4F59-420A-419A-889F-18A111144163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762120" y="289548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 водить корабл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ы в небо взлете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зна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уме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fon"/>
          <p:cNvPicPr/>
          <p:nvPr/>
        </p:nvPicPr>
        <p:blipFill>
          <a:blip r:embed="rId1"/>
          <a:stretch/>
        </p:blipFill>
        <p:spPr>
          <a:xfrm>
            <a:off x="2819520" y="2286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Users\Администратор\Desktop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подготовитс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к контрольной работе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ыполнить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№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815,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№ 835, №841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523880" y="762120"/>
          <a:ext cx="6782040" cy="464328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Балл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цен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3 И БОЛ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1-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9-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316" name="Picture 24" descr="Рисунок3"/>
          <p:cNvPicPr/>
          <p:nvPr/>
        </p:nvPicPr>
        <p:blipFill>
          <a:blip r:embed="rId1"/>
          <a:stretch/>
        </p:blipFill>
        <p:spPr>
          <a:xfrm>
            <a:off x="228600" y="4572000"/>
            <a:ext cx="213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457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 и тема поня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2" descr="MCj04244700000%5b1%5d"/>
          <p:cNvPicPr/>
          <p:nvPr/>
        </p:nvPicPr>
        <p:blipFill>
          <a:blip r:embed="rId1"/>
          <a:stretch/>
        </p:blipFill>
        <p:spPr>
          <a:xfrm>
            <a:off x="3429000" y="12952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533520" y="2666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, но не всё ещё понят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MCj04338180000%5b1%5d"/>
          <p:cNvPicPr/>
          <p:nvPr/>
        </p:nvPicPr>
        <p:blipFill>
          <a:blip r:embed="rId2"/>
          <a:stretch/>
        </p:blipFill>
        <p:spPr>
          <a:xfrm>
            <a:off x="2819520" y="380988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4800600" y="17524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к не понравился и тема не понят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6" descr=""/>
          <p:cNvPicPr/>
          <p:nvPr/>
        </p:nvPicPr>
        <p:blipFill>
          <a:blip r:embed="rId3"/>
          <a:stretch/>
        </p:blipFill>
        <p:spPr>
          <a:xfrm>
            <a:off x="7156440" y="3041640"/>
            <a:ext cx="1006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8" descr="animation046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220320" cy="861048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530280" y="1981080"/>
            <a:ext cx="8785080" cy="232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6"/>
          <a:stretch/>
        </p:blipFill>
        <p:spPr>
          <a:xfrm>
            <a:off x="81532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7"/>
          <a:stretch/>
        </p:blipFill>
        <p:spPr>
          <a:xfrm>
            <a:off x="609480" y="5335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8"/>
          <a:stretch/>
        </p:blipFill>
        <p:spPr>
          <a:xfrm>
            <a:off x="4267080" y="4191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9"/>
          <a:stretch/>
        </p:blipFill>
        <p:spPr>
          <a:xfrm>
            <a:off x="5715000" y="36576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10"/>
          <a:stretch/>
        </p:blipFill>
        <p:spPr>
          <a:xfrm>
            <a:off x="3276720" y="327672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11"/>
          <a:stretch/>
        </p:blipFill>
        <p:spPr>
          <a:xfrm>
            <a:off x="7467480" y="2666880"/>
            <a:ext cx="300240" cy="260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12"/>
          <a:stretch/>
        </p:blipFill>
        <p:spPr>
          <a:xfrm>
            <a:off x="7696080" y="6858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13"/>
          <a:stretch/>
        </p:blipFill>
        <p:spPr>
          <a:xfrm>
            <a:off x="4267080" y="457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14"/>
          <a:stretch/>
        </p:blipFill>
        <p:spPr>
          <a:xfrm>
            <a:off x="8844120" y="6019920"/>
            <a:ext cx="2998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Разложение многочленов 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на множител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урок алгеб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0" y="0"/>
            <a:ext cx="9144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Вставьте одночлен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бы полученное равенство было вер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) 18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+ 16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= . . .(9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8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б) 4а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6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2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 = 2ас (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.+ . . .    - …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ab – ac + b</a:t>
            </a:r>
            <a:r>
              <a:rPr b="1" lang="en-US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– bc = (ab - . . .)+(. . . –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. . (b – c) + b(. . – c) =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) 4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. . . = (. . . – 5)(. . . + . 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0" y="3657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Найдите неизвестное слагае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тобы получилась формула сокращённого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)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8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. . 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) 100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- . . .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+4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3124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5181480" y="141120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095880" y="1371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a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7543800" y="1371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5257800" y="1828800"/>
            <a:ext cx="685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6400800" y="1905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380880" y="236232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2819520" y="2514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4419720" y="2514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b – c)(a + b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3886200" y="5105520"/>
            <a:ext cx="76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3429000" y="5715000"/>
            <a:ext cx="121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0b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447920" y="3025800"/>
            <a:ext cx="761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5909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181480" y="3025800"/>
            <a:ext cx="457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1911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7315200" y="1905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1" descr="7b7d7c4c5df8a78f7db0b75b36bc5d07"/>
          <p:cNvPicPr/>
          <p:nvPr/>
        </p:nvPicPr>
        <p:blipFill>
          <a:blip r:embed="rId1"/>
          <a:stretch/>
        </p:blipFill>
        <p:spPr>
          <a:xfrm>
            <a:off x="6400800" y="4876920"/>
            <a:ext cx="2381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83880" y="15840"/>
            <a:ext cx="57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х -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- 2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а –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 =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a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в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742560" y="367344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х –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 rot="20431200">
            <a:off x="1567080" y="2728440"/>
            <a:ext cx="686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КЛЮЧ ОТВЕТОВ: 1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62120" y="373392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1- истина, 0 –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Рисунок4"/>
          <p:cNvPicPr/>
          <p:nvPr/>
        </p:nvPicPr>
        <p:blipFill>
          <a:blip r:embed="rId1"/>
          <a:stretch/>
        </p:blipFill>
        <p:spPr>
          <a:xfrm>
            <a:off x="6095880" y="152280"/>
            <a:ext cx="2210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45929" dir="2028877" blurRad="0" rotWithShape="0">
              <a:srgbClr val="b2b2b2">
                <a:alpha val="8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ee"/>
                </a:solidFill>
                <a:latin typeface="Times New Roman"/>
              </a:rPr>
              <a:t>К л а с с н а я    р а б о т 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" descr="Рисунок6"/>
          <p:cNvPicPr/>
          <p:nvPr/>
        </p:nvPicPr>
        <p:blipFill>
          <a:blip r:embed="rId1"/>
          <a:stretch/>
        </p:blipFill>
        <p:spPr>
          <a:xfrm>
            <a:off x="762120" y="4495680"/>
            <a:ext cx="20224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457200"/>
            <a:ext cx="88390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–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5 – 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2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4. (2 + x)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9x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Рисунок6"/>
          <p:cNvPicPr/>
          <p:nvPr/>
        </p:nvPicPr>
        <p:blipFill>
          <a:blip r:embed="rId1"/>
          <a:stretch/>
        </p:blipFill>
        <p:spPr>
          <a:xfrm>
            <a:off x="6019920" y="3657600"/>
            <a:ext cx="2819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многочлена на множители необходимо соблюдать следующий поряд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нести общий множитель з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бк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он есть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формулы сокращенног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ножени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это возможно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способ группиров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жно проверить полученны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зультат умно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ло"/>
          <p:cNvPicPr/>
          <p:nvPr/>
        </p:nvPicPr>
        <p:blipFill>
          <a:blip r:embed="rId7"/>
          <a:stretch/>
        </p:blipFill>
        <p:spPr>
          <a:xfrm>
            <a:off x="7772400" y="5257800"/>
            <a:ext cx="1200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4"/>
          <p:cNvSpPr/>
          <p:nvPr/>
        </p:nvSpPr>
        <p:spPr>
          <a:xfrm>
            <a:off x="152280" y="76320"/>
            <a:ext cx="46483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2а – 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2(а +2).               Б. 2(а – 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4(а – 1).              Г. 4(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а(2 +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+(2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2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1). 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a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2)a. 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1 –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24y + 9y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4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Б. (8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Не разлагается. 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4 – 3y)(4 + 3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5x – 5y – ax + 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– 5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+ 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5 – a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– x)(5 +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4572000" y="205884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6а –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3(2а – 1).           Б. 3(2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6(а – 1).             Г. 3(а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 + (4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.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+ 1)(y + 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+ 4)x.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1)(4 –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9x + 4x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Б. (4 –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Г. Не разлагается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ab – ac + 7c – 7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c)(a – 7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a + 7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7 – a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a – 7)(b – 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-763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Б А 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172200" y="17524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А Б Г 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2362320" y="11430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152280" y="21337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2"/>
          <p:cNvSpPr/>
          <p:nvPr/>
        </p:nvSpPr>
        <p:spPr>
          <a:xfrm>
            <a:off x="15228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3"/>
          <p:cNvSpPr/>
          <p:nvPr/>
        </p:nvSpPr>
        <p:spPr>
          <a:xfrm>
            <a:off x="228600" y="4495680"/>
            <a:ext cx="1828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457200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6"/>
          <p:cNvSpPr/>
          <p:nvPr/>
        </p:nvSpPr>
        <p:spPr>
          <a:xfrm>
            <a:off x="6781680" y="4114800"/>
            <a:ext cx="1905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8"/>
          <p:cNvSpPr/>
          <p:nvPr/>
        </p:nvSpPr>
        <p:spPr>
          <a:xfrm>
            <a:off x="6781680" y="5486400"/>
            <a:ext cx="2362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0"/>
          <p:cNvSpPr/>
          <p:nvPr/>
        </p:nvSpPr>
        <p:spPr>
          <a:xfrm>
            <a:off x="6781680" y="64771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5" descr="Рисунок12"/>
          <p:cNvPicPr/>
          <p:nvPr/>
        </p:nvPicPr>
        <p:blipFill>
          <a:blip r:embed="rId1"/>
          <a:stretch/>
        </p:blipFill>
        <p:spPr>
          <a:xfrm>
            <a:off x="1066680" y="4876920"/>
            <a:ext cx="20163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0" y="0"/>
            <a:ext cx="9077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)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б)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) -18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1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–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1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4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ычислите наиболее рациональным способо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62320" y="4724280"/>
            <a:ext cx="5632200" cy="1676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Рисунок9"/>
          <p:cNvPicPr/>
          <p:nvPr/>
        </p:nvPicPr>
        <p:blipFill>
          <a:blip r:embed="rId2"/>
          <a:stretch/>
        </p:blipFill>
        <p:spPr>
          <a:xfrm>
            <a:off x="6324480" y="91440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01-21T18:38:11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1000000000001024140</vt:lpwstr>
  </property>
</Properties>
</file>