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3.wmf" ContentType="image/x-wmf"/>
  <Override PartName="/ppt/media/image10.gif" ContentType="image/gif"/>
  <Override PartName="/ppt/media/image8.wmf" ContentType="image/x-wmf"/>
  <Override PartName="/ppt/media/image11.png" ContentType="image/png"/>
  <Override PartName="/ppt/media/image7.jpeg" ContentType="image/jpeg"/>
  <Override PartName="/ppt/media/image15.gif" ContentType="image/gif"/>
  <Override PartName="/ppt/media/image20.png" ContentType="image/png"/>
  <Override PartName="/ppt/media/image6.jpeg" ContentType="image/jpeg"/>
  <Override PartName="/ppt/media/image23.wmf" ContentType="image/x-wmf"/>
  <Override PartName="/ppt/media/image21.gif" ContentType="image/gif"/>
  <Override PartName="/ppt/media/image19.png" ContentType="image/png"/>
  <Override PartName="/ppt/media/image1.jpeg" ContentType="image/jpeg"/>
  <Override PartName="/ppt/media/image22.png" ContentType="image/png"/>
  <Override PartName="/ppt/media/image17.gif" ContentType="image/gif"/>
  <Override PartName="/ppt/media/image2.wmf" ContentType="image/x-wmf"/>
  <Override PartName="/ppt/media/image16.jpeg" ContentType="image/jpeg"/>
  <Override PartName="/ppt/media/image3.wmf" ContentType="image/x-wmf"/>
  <Override PartName="/ppt/media/image4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5C62-233A-431F-BF5A-28F8EFE4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4CFD-A21F-4439-9026-6718BBF2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E270-F249-4423-BBDB-3A7107A3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025-02F5-4DF3-B408-B5668F81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B70C-A4AA-4DBE-8D2A-CD1E76C8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2A76-9051-41F1-AE07-3D5CFB90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CF3F-51D4-4ABD-AE2A-96506DDD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7A37-1C1F-4EB7-88E6-546D5E68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0C9C-B7BE-48E4-82B0-9B5C6110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3995-6E26-4C0B-961A-4F4BB2FE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7206-9BD7-4C23-B877-0826A44A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D970-A573-4A31-9F39-BD771912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D0B3-995A-4045-9FF2-7B683539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3909-26AC-4051-94A0-B877C69B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A866-C397-46DD-80A0-9EBFC20C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E3C2-BDA5-4EDF-9DF3-68D4E287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EDA1-9760-4C48-8643-19DFCEA2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12D39-168E-4D39-AE70-4D10F45E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EAEB8-BB5B-4511-9D02-502C7612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9BA9E-63C1-4A6E-AC10-DC9961A8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6C1F2-8BF0-48D4-872E-7FEE34E4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B23C8-0723-4B92-B3CD-1C8CB866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1913-9807-48AF-8962-D36DF51F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55E0E-1C89-4EAD-8C80-D5B6DAB1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EA951-857B-4DA8-BE8B-B5EE575D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9B101-DAB8-4FBA-B14A-07733F8B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EFAB4-B4A3-4E29-A07B-CC007541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7CD70-C919-4914-8F84-82BB5EAE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B7DF7-1FE0-4B08-91C1-75011807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B84E8-EA26-4EEC-9AE9-E77F6BEA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5DE49C-77D2-49FB-B54F-52DC9EF5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12CB45-AD20-4445-AF3A-CE7F1600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2EE12F-22E7-4549-8FFB-F510BCBA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6F5-E883-4AE3-88D2-CCC882C7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A63C3B-FC40-4237-9581-D0E699CA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CBAAC7-4A92-4797-BCDB-40FA164E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86B7F8-07D9-49F2-AE3B-D40A2DF1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4037D8-F46C-41CC-98E6-B22618D3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06F63E-4695-44A1-B016-2D82B65E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52B81F-74CF-4B80-BBF7-084134DF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7F3B86-04B1-4CF6-A4B4-4E2CA1AC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8055F1-C9DD-4882-915D-D9C36157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A341A8-DC89-4092-9A9F-AC99CB05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AE78B-43E2-4FBF-A158-26EFDB41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84C-F5DB-409B-A7B0-D646505D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03BDC-F77E-4C94-ADD0-111FFA8C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D985C-8AC1-4FCF-9EEB-127A50BB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B80AB-4855-4A6D-865D-629730E6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50CF2-6DD5-4D5D-98F6-04A20769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2923E-EDDD-47D3-8C84-C77C8D70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32340-FD78-4722-8525-3ABB8938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068E1-908F-4531-9AA8-57F73BC6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A4D24-A286-4B03-9352-A33911EA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89D6C-39D7-4FC3-9AD3-9E632581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8EA5D-8B91-4575-9016-76A01327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ED2B-43FD-42B8-B139-8AE4B181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1DB54-2BC0-411B-9110-D4FE0E2B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740E75-02B6-4EB8-AC11-8668288E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E7D72F-8C00-4745-829D-9E11FEB7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03F123-306F-4C8C-9CBB-EF91BF08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B7ED6C-07B6-4893-9872-65098489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AF4C01-1F4D-4CB8-A6C6-A55DF5A4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20F5BF-14EF-46C1-AAA3-DF83C4A5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B1E441-BA7E-4186-9E26-0E894201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8B8242-7907-4E0B-8560-BC276B31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9E862F-92E0-47BC-A4DF-3EB0F76E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D7C-2457-464D-A364-B7AD8591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D464AF-1CB9-48E2-AC68-3E74CCB3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B4A8B2-59FD-4620-9302-0ABDEC78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7BB319-505B-4649-A160-0FD97843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DEB-0F0C-437A-984E-0F2365F2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484A-4D3F-42FB-8960-D651D4F3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51AC-4D2D-4F11-9377-D93CEF561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081B-E0E2-4327-853A-E8F230C5376A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87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Freeform 4"/>
            <p:cNvSpPr/>
            <p:nvPr/>
          </p:nvSpPr>
          <p:spPr>
            <a:xfrm>
              <a:off x="0" y="5362560"/>
              <a:ext cx="3983040" cy="311040"/>
            </a:xfrm>
            <a:prstGeom prst="pie">
              <a:avLst/>
            </a:pr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BCAD-2F33-4F0F-9281-0A4D4800C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dd8047"/>
          </a:solidFill>
          <a:ln w="25560">
            <a:solidFill>
              <a:srgbClr val="dd80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42D7-C2D5-4243-B8F8-E8F312A4CF4E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F421-477E-491B-8FBD-F4CC56DFDDEF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bf9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51A3-39F1-4545-BF4E-BFAA3CEFCCB7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dt" idx="1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image" Target="../media/image23.wmf"/><Relationship Id="rId11" Type="http://schemas.openxmlformats.org/officeDocument/2006/relationships/image" Target="../media/image23.wmf"/><Relationship Id="rId12" Type="http://schemas.openxmlformats.org/officeDocument/2006/relationships/image" Target="../media/image23.wmf"/><Relationship Id="rId13" Type="http://schemas.openxmlformats.org/officeDocument/2006/relationships/image" Target="../media/image23.wmf"/><Relationship Id="rId14" Type="http://schemas.openxmlformats.org/officeDocument/2006/relationships/image" Target="../media/image23.wm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3"/>
          <p:cNvSpPr/>
          <p:nvPr/>
        </p:nvSpPr>
        <p:spPr>
          <a:xfrm>
            <a:off x="762120" y="2895480"/>
            <a:ext cx="739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Чтоб водить корабли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Чтобы в небо взлететь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Надо многое знать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Надо многое уме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fon"/>
          <p:cNvPicPr/>
          <p:nvPr/>
        </p:nvPicPr>
        <p:blipFill>
          <a:blip r:embed="rId1"/>
          <a:stretch/>
        </p:blipFill>
        <p:spPr>
          <a:xfrm>
            <a:off x="2819520" y="228600"/>
            <a:ext cx="403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" descr="C:\Users\Администратор\Desktop\matematika_carica_nauk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подготовитс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к контрольной работе 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выполнить </a:t>
            </a:r>
            <a:r>
              <a:rPr b="1" lang="uk-UA" sz="4000" spc="-1" strike="noStrike">
                <a:solidFill>
                  <a:srgbClr val="00cc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cc00"/>
                </a:solidFill>
                <a:latin typeface="Times New Roman"/>
              </a:rPr>
              <a:t>№ </a:t>
            </a:r>
            <a:r>
              <a:rPr b="1" lang="uk-UA" sz="4000" spc="-1" strike="noStrike">
                <a:solidFill>
                  <a:srgbClr val="00cc00"/>
                </a:solidFill>
                <a:latin typeface="Times New Roman"/>
              </a:rPr>
              <a:t>815, 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№ 835, №841</a:t>
            </a: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1523880" y="762120"/>
          <a:ext cx="6782040" cy="4643280"/>
        </p:xfrm>
        <a:graphic>
          <a:graphicData uri="http://schemas.openxmlformats.org/drawingml/2006/table">
            <a:tbl>
              <a:tblPr/>
              <a:tblGrid>
                <a:gridCol w="3391200"/>
                <a:gridCol w="3390840"/>
              </a:tblGrid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Баллы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Оцен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3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3 И БОЛЕ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1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11-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ff"/>
                          </a:solidFill>
                          <a:latin typeface="Arial Black"/>
                        </a:rPr>
                        <a:t>9-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3300"/>
                          </a:solidFill>
                          <a:latin typeface="Arial Black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pic>
        <p:nvPicPr>
          <p:cNvPr id="316" name="Picture 24" descr="Рисунок3"/>
          <p:cNvPicPr/>
          <p:nvPr/>
        </p:nvPicPr>
        <p:blipFill>
          <a:blip r:embed="rId1"/>
          <a:stretch/>
        </p:blipFill>
        <p:spPr>
          <a:xfrm>
            <a:off x="228600" y="4572000"/>
            <a:ext cx="21337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1"/>
          <p:cNvSpPr/>
          <p:nvPr/>
        </p:nvSpPr>
        <p:spPr>
          <a:xfrm>
            <a:off x="457200" y="609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равился урок и тема понят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Рисунок 2" descr="MCj04244700000%5b1%5d"/>
          <p:cNvPicPr/>
          <p:nvPr/>
        </p:nvPicPr>
        <p:blipFill>
          <a:blip r:embed="rId1"/>
          <a:stretch/>
        </p:blipFill>
        <p:spPr>
          <a:xfrm>
            <a:off x="3429000" y="129528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3"/>
          <p:cNvSpPr/>
          <p:nvPr/>
        </p:nvSpPr>
        <p:spPr>
          <a:xfrm>
            <a:off x="533520" y="266688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равился урок, но не всё ещё понят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Рисунок 4" descr="MCj04338180000%5b1%5d"/>
          <p:cNvPicPr/>
          <p:nvPr/>
        </p:nvPicPr>
        <p:blipFill>
          <a:blip r:embed="rId2"/>
          <a:stretch/>
        </p:blipFill>
        <p:spPr>
          <a:xfrm>
            <a:off x="2819520" y="3809880"/>
            <a:ext cx="1143000" cy="1000080"/>
          </a:xfrm>
          <a:prstGeom prst="rect">
            <a:avLst/>
          </a:prstGeom>
          <a:ln w="0">
            <a:noFill/>
          </a:ln>
        </p:spPr>
      </p:pic>
      <p:sp>
        <p:nvSpPr>
          <p:cNvPr id="321" name="TextBox 5"/>
          <p:cNvSpPr/>
          <p:nvPr/>
        </p:nvSpPr>
        <p:spPr>
          <a:xfrm>
            <a:off x="4800600" y="175248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рок не понравился и тема не понят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Рисунок 6" descr=""/>
          <p:cNvPicPr/>
          <p:nvPr/>
        </p:nvPicPr>
        <p:blipFill>
          <a:blip r:embed="rId3"/>
          <a:stretch/>
        </p:blipFill>
        <p:spPr>
          <a:xfrm>
            <a:off x="7156440" y="3041640"/>
            <a:ext cx="1006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Рисунок 18" descr="animation046.gif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0" y="0"/>
            <a:ext cx="9220320" cy="8610480"/>
          </a:xfrm>
          <a:prstGeom prst="rect">
            <a:avLst/>
          </a:prstGeom>
          <a:ln w="0">
            <a:noFill/>
          </a:ln>
        </p:spPr>
      </p:pic>
      <p:pic>
        <p:nvPicPr>
          <p:cNvPr id="324" name="Прямоугольник 1" descr=""/>
          <p:cNvPicPr/>
          <p:nvPr/>
        </p:nvPicPr>
        <p:blipFill>
          <a:blip r:embed="rId2"/>
          <a:stretch/>
        </p:blipFill>
        <p:spPr>
          <a:xfrm>
            <a:off x="530280" y="1981080"/>
            <a:ext cx="8785080" cy="2322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3"/>
          <a:stretch/>
        </p:blipFill>
        <p:spPr>
          <a:xfrm>
            <a:off x="2133720" y="4114800"/>
            <a:ext cx="299880" cy="260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4"/>
          <a:stretch/>
        </p:blipFill>
        <p:spPr>
          <a:xfrm>
            <a:off x="609480" y="304812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5"/>
          <a:stretch/>
        </p:blipFill>
        <p:spPr>
          <a:xfrm>
            <a:off x="380880" y="50292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"/>
          <p:cNvPicPr/>
          <p:nvPr/>
        </p:nvPicPr>
        <p:blipFill>
          <a:blip r:embed="rId6"/>
          <a:stretch/>
        </p:blipFill>
        <p:spPr>
          <a:xfrm>
            <a:off x="8153280" y="50292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7"/>
          <a:stretch/>
        </p:blipFill>
        <p:spPr>
          <a:xfrm>
            <a:off x="609480" y="53352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8"/>
          <a:stretch/>
        </p:blipFill>
        <p:spPr>
          <a:xfrm>
            <a:off x="4267080" y="419112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9"/>
          <a:stretch/>
        </p:blipFill>
        <p:spPr>
          <a:xfrm>
            <a:off x="5715000" y="3657600"/>
            <a:ext cx="299880" cy="260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10"/>
          <a:stretch/>
        </p:blipFill>
        <p:spPr>
          <a:xfrm>
            <a:off x="3276720" y="3276720"/>
            <a:ext cx="299880" cy="260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11"/>
          <a:stretch/>
        </p:blipFill>
        <p:spPr>
          <a:xfrm>
            <a:off x="7467480" y="2666880"/>
            <a:ext cx="300240" cy="260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"/>
          <p:cNvPicPr/>
          <p:nvPr/>
        </p:nvPicPr>
        <p:blipFill>
          <a:blip r:embed="rId12"/>
          <a:stretch/>
        </p:blipFill>
        <p:spPr>
          <a:xfrm>
            <a:off x="7696080" y="6858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13"/>
          <a:stretch/>
        </p:blipFill>
        <p:spPr>
          <a:xfrm>
            <a:off x="4267080" y="457200"/>
            <a:ext cx="300240" cy="260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14"/>
          <a:stretch/>
        </p:blipFill>
        <p:spPr>
          <a:xfrm>
            <a:off x="8844120" y="6019920"/>
            <a:ext cx="2998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560" y="2130120"/>
            <a:ext cx="830556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6600" spc="-1" strike="noStrike">
                <a:solidFill>
                  <a:srgbClr val="ff3300"/>
                </a:solidFill>
                <a:latin typeface="Monotype Corsiva"/>
              </a:rPr>
              <a:t>Разложение многочленов </a:t>
            </a:r>
            <a:br>
              <a:rPr sz="6600"/>
            </a:br>
            <a:r>
              <a:rPr b="1" lang="ru-RU" sz="6600" spc="-1" strike="noStrike">
                <a:solidFill>
                  <a:srgbClr val="ff3300"/>
                </a:solidFill>
                <a:latin typeface="Monotype Corsiva"/>
              </a:rPr>
              <a:t>на множител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Arial"/>
              </a:rPr>
              <a:t>урок алгебр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0" y="0"/>
            <a:ext cx="91440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 Вставьте одночлен та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чтобы полученное равенство было вер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а) 18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b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 + 16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= . . .(9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+ 8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б) 4ас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 + 6а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с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3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- 2а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с = 2ас (.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.+ . . .    - …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в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) ab – ac + b</a:t>
            </a:r>
            <a:r>
              <a:rPr b="1" lang="en-US" sz="36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– bc = (ab - . . .)+(. . . –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)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. . (b – c) + b(. . – c) = . .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г) 4с</a:t>
            </a:r>
            <a:r>
              <a:rPr b="1" lang="ru-RU" sz="3600" spc="-1" strike="noStrike" baseline="30000">
                <a:solidFill>
                  <a:srgbClr val="008000"/>
                </a:solidFill>
                <a:latin typeface="Times New Roman"/>
              </a:rPr>
              <a:t>2 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- . . . = (. . . – 5)(. . . + . 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0" y="36576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№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2 Найдите неизвестное слагаемо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чтобы получилась формула сокращённого умно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д)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ru-RU" sz="4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 + 8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 + . . .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) 100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ru-RU" sz="4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 - . . .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+4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ru-RU" sz="4000" spc="-1" strike="noStrike" baseline="30000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312408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5181480" y="1411200"/>
            <a:ext cx="68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6095880" y="13716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a</a:t>
            </a:r>
            <a:r>
              <a:rPr b="0" lang="en-US" sz="3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3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7543800" y="1371600"/>
            <a:ext cx="45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8"/>
          <p:cNvSpPr/>
          <p:nvPr/>
        </p:nvSpPr>
        <p:spPr>
          <a:xfrm>
            <a:off x="5257800" y="1828800"/>
            <a:ext cx="685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9"/>
          <p:cNvSpPr/>
          <p:nvPr/>
        </p:nvSpPr>
        <p:spPr>
          <a:xfrm>
            <a:off x="6400800" y="19051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3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0"/>
          <p:cNvSpPr/>
          <p:nvPr/>
        </p:nvSpPr>
        <p:spPr>
          <a:xfrm>
            <a:off x="380880" y="2362320"/>
            <a:ext cx="76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1"/>
          <p:cNvSpPr/>
          <p:nvPr/>
        </p:nvSpPr>
        <p:spPr>
          <a:xfrm>
            <a:off x="2819520" y="2514600"/>
            <a:ext cx="45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2"/>
          <p:cNvSpPr/>
          <p:nvPr/>
        </p:nvSpPr>
        <p:spPr>
          <a:xfrm>
            <a:off x="4419720" y="251460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b – c)(a + b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3"/>
          <p:cNvSpPr/>
          <p:nvPr/>
        </p:nvSpPr>
        <p:spPr>
          <a:xfrm>
            <a:off x="3886200" y="5105520"/>
            <a:ext cx="762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5"/>
          <p:cNvSpPr/>
          <p:nvPr/>
        </p:nvSpPr>
        <p:spPr>
          <a:xfrm>
            <a:off x="3429000" y="5715000"/>
            <a:ext cx="1219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40b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6"/>
          <p:cNvSpPr/>
          <p:nvPr/>
        </p:nvSpPr>
        <p:spPr>
          <a:xfrm>
            <a:off x="1447920" y="3025800"/>
            <a:ext cx="761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2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7"/>
          <p:cNvSpPr/>
          <p:nvPr/>
        </p:nvSpPr>
        <p:spPr>
          <a:xfrm>
            <a:off x="2590920" y="3025800"/>
            <a:ext cx="68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2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181480" y="3025800"/>
            <a:ext cx="457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0"/>
          <p:cNvSpPr/>
          <p:nvPr/>
        </p:nvSpPr>
        <p:spPr>
          <a:xfrm>
            <a:off x="4191120" y="3025800"/>
            <a:ext cx="685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2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7315200" y="1905120"/>
            <a:ext cx="68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1" descr="7b7d7c4c5df8a78f7db0b75b36bc5d07"/>
          <p:cNvPicPr/>
          <p:nvPr/>
        </p:nvPicPr>
        <p:blipFill>
          <a:blip r:embed="rId1"/>
          <a:stretch/>
        </p:blipFill>
        <p:spPr>
          <a:xfrm>
            <a:off x="6400800" y="4876920"/>
            <a:ext cx="23814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1"/>
          <p:cNvSpPr/>
          <p:nvPr/>
        </p:nvSpPr>
        <p:spPr>
          <a:xfrm>
            <a:off x="83880" y="15840"/>
            <a:ext cx="572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Constantia"/>
              </a:rPr>
              <a:t>Вариант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1. ( х - у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х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- 2ху + у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2. ( а –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 =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a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2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3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–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4.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в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5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=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–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3742560" y="3673440"/>
            <a:ext cx="550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Constantia"/>
              </a:rPr>
              <a:t>Вариант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1. ( а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 =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2. ( х – у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х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ху + у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3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 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= ( а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–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4.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-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3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(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5. ( а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)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= а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2а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 + </a:t>
            </a:r>
            <a:r>
              <a:rPr b="1" lang="en-US" sz="2800" spc="-1" strike="noStrike">
                <a:solidFill>
                  <a:srgbClr val="0d0d0d"/>
                </a:solidFill>
                <a:latin typeface="Constantia"/>
              </a:rPr>
              <a:t>b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onstanti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onstant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"/>
          <p:cNvSpPr/>
          <p:nvPr/>
        </p:nvSpPr>
        <p:spPr>
          <a:xfrm rot="20431200">
            <a:off x="1567080" y="2728440"/>
            <a:ext cx="686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onstantia"/>
              </a:rPr>
              <a:t>КЛЮЧ ОТВЕТОВ: 100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762120" y="3733920"/>
            <a:ext cx="2133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</a:rPr>
              <a:t>1- истина, 0 – л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7" descr="Рисунок4"/>
          <p:cNvPicPr/>
          <p:nvPr/>
        </p:nvPicPr>
        <p:blipFill>
          <a:blip r:embed="rId1"/>
          <a:stretch/>
        </p:blipFill>
        <p:spPr>
          <a:xfrm>
            <a:off x="6095880" y="152280"/>
            <a:ext cx="22100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solidFill>
            <a:srgbClr val="003300"/>
          </a:solidFill>
          <a:ln w="0">
            <a:noFill/>
          </a:ln>
          <a:effectLst>
            <a:outerShdw dist="45929" dir="2028877" blurRad="0" rotWithShape="0">
              <a:srgbClr val="b2b2b2">
                <a:alpha val="8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ee"/>
                </a:solidFill>
                <a:latin typeface="Times New Roman"/>
              </a:rPr>
              <a:t>К л а с с н а я    р а б о т а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5" descr="Рисунок6"/>
          <p:cNvPicPr/>
          <p:nvPr/>
        </p:nvPicPr>
        <p:blipFill>
          <a:blip r:embed="rId1"/>
          <a:stretch/>
        </p:blipFill>
        <p:spPr>
          <a:xfrm>
            <a:off x="762120" y="4495680"/>
            <a:ext cx="202248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1"/>
          <p:cNvSpPr/>
          <p:nvPr/>
        </p:nvSpPr>
        <p:spPr>
          <a:xfrm>
            <a:off x="304920" y="457200"/>
            <a:ext cx="883908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Разложите на множител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1.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–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 – 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ab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 – 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2.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5 – 5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3.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–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125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1" lang="en-US" sz="66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4. (2 + x)</a:t>
            </a:r>
            <a:r>
              <a:rPr b="1" lang="en-US" sz="66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ru-RU" sz="6600" spc="-1" strike="noStrike" baseline="30000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- 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9x</a:t>
            </a:r>
            <a:r>
              <a:rPr b="1" lang="en-US" sz="6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Рисунок6"/>
          <p:cNvPicPr/>
          <p:nvPr/>
        </p:nvPicPr>
        <p:blipFill>
          <a:blip r:embed="rId1"/>
          <a:stretch/>
        </p:blipFill>
        <p:spPr>
          <a:xfrm>
            <a:off x="6019920" y="3657600"/>
            <a:ext cx="28191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0" y="0"/>
            <a:ext cx="9144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 разложении многочлена на множители необходимо соблюдать следующий поряд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нести общий множитель за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кобки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если он есть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менить формулы сокращенног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множени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если это возможно)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менить способ группировк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ожно проверить полученный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езультат умноже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ло"/>
          <p:cNvPicPr/>
          <p:nvPr/>
        </p:nvPicPr>
        <p:blipFill>
          <a:blip r:embed="rId7"/>
          <a:stretch/>
        </p:blipFill>
        <p:spPr>
          <a:xfrm>
            <a:off x="7772400" y="5257800"/>
            <a:ext cx="1200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4"/>
          <p:cNvSpPr/>
          <p:nvPr/>
        </p:nvSpPr>
        <p:spPr>
          <a:xfrm>
            <a:off x="152280" y="76320"/>
            <a:ext cx="46483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ариант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 2а – 4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2(а +2).               Б. 2(а – 2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4(а – 1).              Г. 4(а +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 а(2 + 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+(2+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b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2)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1).     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2 + b)(a –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+ 2)a.        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2 + b)(1 – 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16 – 24y + 9y</a:t>
            </a:r>
            <a:r>
              <a:rPr b="1" lang="en-US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4 – 3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           Б. (8 – 3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Не разлагается. 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4 – 3y)(4 + 3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. 5x – 5y – ax + 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y)(a – 5).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y)(a + 5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y)(5 – a).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y – x)(5 + 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"/>
          <p:cNvSpPr/>
          <p:nvPr/>
        </p:nvSpPr>
        <p:spPr>
          <a:xfrm>
            <a:off x="4572000" y="2058840"/>
            <a:ext cx="457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ариант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 6а – 3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3(2а – 1).           Б. 3(2а +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6(а – 1).             Г. 3(а – 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 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4) + (4+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– 4)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y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+ 4).    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+ 1)(y + 4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y + 4)x.        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x – 1)(4 – 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</a:t>
            </a:r>
            <a:r>
              <a:rPr b="1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16 – 9x + 4x</a:t>
            </a:r>
            <a:r>
              <a:rPr b="1" lang="en-US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. (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– 4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             Б. (4 – 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(4 + 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. (4 + 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x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             Г. Не разлагается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. ab – ac + 7c – 7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+ c)(a – 7).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– c)(a + 7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b – c)(7 – a).     </a:t>
            </a:r>
            <a:r>
              <a:rPr b="0" lang="ru-RU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</a:t>
            </a:r>
            <a:r>
              <a:rPr b="0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(a – 7)(b – 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1905120" y="-7632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Б А А 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"/>
          <p:cNvSpPr/>
          <p:nvPr/>
        </p:nvSpPr>
        <p:spPr>
          <a:xfrm>
            <a:off x="6172200" y="17524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nstantia"/>
              </a:rPr>
              <a:t>А Б Г Г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8"/>
          <p:cNvSpPr/>
          <p:nvPr/>
        </p:nvSpPr>
        <p:spPr>
          <a:xfrm>
            <a:off x="2362320" y="1143000"/>
            <a:ext cx="13716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ая соединительная линия 10"/>
          <p:cNvSpPr/>
          <p:nvPr/>
        </p:nvSpPr>
        <p:spPr>
          <a:xfrm>
            <a:off x="152280" y="2133720"/>
            <a:ext cx="19814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12"/>
          <p:cNvSpPr/>
          <p:nvPr/>
        </p:nvSpPr>
        <p:spPr>
          <a:xfrm>
            <a:off x="152280" y="3124080"/>
            <a:ext cx="13716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13"/>
          <p:cNvSpPr/>
          <p:nvPr/>
        </p:nvSpPr>
        <p:spPr>
          <a:xfrm>
            <a:off x="228600" y="4495680"/>
            <a:ext cx="18288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15"/>
          <p:cNvSpPr/>
          <p:nvPr/>
        </p:nvSpPr>
        <p:spPr>
          <a:xfrm>
            <a:off x="4572000" y="3124080"/>
            <a:ext cx="13716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16"/>
          <p:cNvSpPr/>
          <p:nvPr/>
        </p:nvSpPr>
        <p:spPr>
          <a:xfrm>
            <a:off x="6781680" y="4114800"/>
            <a:ext cx="19051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8"/>
          <p:cNvSpPr/>
          <p:nvPr/>
        </p:nvSpPr>
        <p:spPr>
          <a:xfrm>
            <a:off x="6781680" y="5486400"/>
            <a:ext cx="23623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20"/>
          <p:cNvSpPr/>
          <p:nvPr/>
        </p:nvSpPr>
        <p:spPr>
          <a:xfrm>
            <a:off x="6781680" y="6477120"/>
            <a:ext cx="19814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5" descr="Рисунок12"/>
          <p:cNvPicPr/>
          <p:nvPr/>
        </p:nvPicPr>
        <p:blipFill>
          <a:blip r:embed="rId1"/>
          <a:stretch/>
        </p:blipFill>
        <p:spPr>
          <a:xfrm>
            <a:off x="1066680" y="4876920"/>
            <a:ext cx="201636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7000"/>
                            </p:stCondLst>
                            <p:childTnLst>
                              <p:par>
                                <p:cTn id="2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1"/>
          <p:cNvSpPr/>
          <p:nvPr/>
        </p:nvSpPr>
        <p:spPr>
          <a:xfrm>
            <a:off x="0" y="0"/>
            <a:ext cx="90774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азложите на множители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a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)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bx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+ 6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b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c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6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б) 4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64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d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4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в) -18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a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+ 12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a 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–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Решите уравн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3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4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ru-RU" sz="4000" spc="-1" strike="noStrike" baseline="30000">
                <a:solidFill>
                  <a:srgbClr val="00cc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– 16</a:t>
            </a: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 + 64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Вычислите наиболее рациональным способом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362320" y="4724280"/>
            <a:ext cx="5632200" cy="1676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Рисунок9"/>
          <p:cNvPicPr/>
          <p:nvPr/>
        </p:nvPicPr>
        <p:blipFill>
          <a:blip r:embed="rId2"/>
          <a:stretch/>
        </p:blipFill>
        <p:spPr>
          <a:xfrm>
            <a:off x="6324480" y="914400"/>
            <a:ext cx="1981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4-01-21T18:38:11Z</dcterms:modified>
  <cp:revision>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21000000000001024140</vt:lpwstr>
  </property>
</Properties>
</file>