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11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jpeg" ContentType="image/jpeg"/>
  <Override PartName="/ppt/media/image23.wmf" ContentType="image/x-wmf"/>
  <Override PartName="/ppt/media/image21.gif" ContentType="image/gif"/>
  <Override PartName="/ppt/media/image19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2.wmf" ContentType="image/x-wmf"/>
  <Override PartName="/ppt/media/image16.jpeg" ContentType="image/jpeg"/>
  <Override PartName="/ppt/media/image3.wmf" ContentType="image/x-wmf"/>
  <Override PartName="/ppt/media/image4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8DC-DE3C-4116-9B69-BBDEFAC8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05C-9777-4AB7-9D11-53978E6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E43-230D-4EE5-B794-504E46B9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DE00-7887-4B85-98EB-B3D237DA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F09B-8680-4734-9DAF-676DAF90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8110-6179-49CC-B43C-28B83692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CCA9-E665-4C22-8DEB-79884E4A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4F99-C3F7-4043-AD67-556AF930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2FBC-9B24-4DD3-867C-A9FA0E9F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3508-7039-45DE-97CC-E9683805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B9DE-090A-471F-ABF8-6EE5523D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C7E-BB2F-4CDF-A0A4-52A1EFDA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E50E-10A1-490A-92A4-FB2FCDDA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6C3C-FE65-452A-997A-4D5EE04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536-39AD-468C-9C96-DFA3F553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FC53-DBED-4810-8A01-E4315FD4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7B8A-7D49-48E3-A3BF-A3720BF8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B0A4-7A02-4FCE-9546-9352B649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C197-754B-47E3-B4EB-7E391A1C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3033-5E23-4D50-ADAB-A9422E2C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26906-7C46-4708-B1AC-24A6B26F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2724-02EA-4C70-A69D-7EFD6406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892-D08D-4C99-BBAD-88557E04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5B44-BD90-4B3C-8790-B8194C43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B444-CCCB-42BC-98B0-5898DD8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D157-326B-4C78-B234-2BF1644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90D0-739B-4CBD-BC78-1B831954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978D-1F7F-48D0-87B6-686F1D57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E6523-81AE-4F2A-8B8D-FEC187D1F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F1BE-E5C1-4ACD-AC90-74E18C40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19726-C26D-4FAC-9DA1-455070C8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8CA3C-A441-48F3-89D6-8A3F55CA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165B8-8B2C-4AAC-93C9-2D5E36CB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DB4-DC67-450D-A8C8-0AADB42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16755-4B6F-46AA-B337-4570394C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B8BE5-2614-4B45-AAC7-BDADDE88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CD2F5-F08E-44A0-A110-AB7E82B0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18E5F-B714-43A9-9888-1F813B1D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5439D-2878-4AA4-B029-212493B9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69E10-583A-4697-B2D8-27BB3C30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09571-FEB1-4B6E-9BF1-826DC8AB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F81D0-1610-4B1F-BC42-EE627968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42971-DC79-40B7-BA9F-983CA955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9E978-A5DB-4390-9AC2-C413BB5F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217-0E4B-474F-A204-188EE8B1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EECAE-E81A-4E72-8F6D-42FB659C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E8960-AB70-4485-9A32-26E64420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CB84C-F7E8-4FE2-B12E-801A83E7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10B3C-CF35-469E-8677-B864B16D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53A66-9540-43D9-9AF0-D8802D69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0E57A-452D-42A5-98F8-4623706A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2026-058F-455A-AF0A-459203DD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23BA2-6393-4838-B484-732D06A2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A00FE-13A4-4822-8B5E-57A429C2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0B5DB-9584-44B0-B849-12F83F0E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11E-3F15-4D96-9629-513879D0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63A70-7E30-4CB3-A9CB-0973C9EC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C66E0-8ED7-46E4-995C-65CA5A10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DA163F-3BC5-4581-9DE4-603F001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1F9F51-EB29-4379-9CD5-733D2D2A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2CF1CE-940B-4FD6-95A5-D268C439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DFD05D-0C44-4E49-898A-2C825E58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11657E-55F2-4B2D-95AE-F88BB6F3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1E72FD-8C53-4BDA-AE18-46E641F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B0718-5D2C-493D-899A-96B562B5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0D02B5-73A2-4C3D-8D12-D3FFDE4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907-1674-4303-BAE9-DECE5AD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B6F82E-3864-4474-9D3A-BCA045EA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CCB9E-D11B-4CF0-B91A-A2A498B2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A9D25E-87CD-4685-A125-33D0A885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2CC-54D8-4A16-AEEB-7CEF84AC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AD7-B4E6-4E4C-889B-116B532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6E27-1682-41D1-8C31-9CB3A79F6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01EF-8095-45A6-8A86-5F521E0F23D3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87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C1AF-8A2C-434C-AC1E-D59EAA0D4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d8047"/>
          </a:solidFill>
          <a:ln w="25560">
            <a:solidFill>
              <a:srgbClr val="dd80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FE0F-29DE-4A4D-AEC2-4DB1C0525BFB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D67-F947-440D-B801-F95DF24030DF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B5E8-695D-46EB-A9F3-BBB2C22EFEB3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762120" y="289548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 водить корабл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ы в небо взлете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зна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уме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fon"/>
          <p:cNvPicPr/>
          <p:nvPr/>
        </p:nvPicPr>
        <p:blipFill>
          <a:blip r:embed="rId1"/>
          <a:stretch/>
        </p:blipFill>
        <p:spPr>
          <a:xfrm>
            <a:off x="2819520" y="2286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Users\Администратор\Desktop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подготовитс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к контрольной работе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ыполнить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№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815,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№ 835, №841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523880" y="762120"/>
          <a:ext cx="6782040" cy="464328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Балл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цен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3 И БОЛ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1-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9-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316" name="Picture 24" descr="Рисунок3"/>
          <p:cNvPicPr/>
          <p:nvPr/>
        </p:nvPicPr>
        <p:blipFill>
          <a:blip r:embed="rId1"/>
          <a:stretch/>
        </p:blipFill>
        <p:spPr>
          <a:xfrm>
            <a:off x="228600" y="4572000"/>
            <a:ext cx="213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457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 и тема поня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2" descr="MCj04244700000%5b1%5d"/>
          <p:cNvPicPr/>
          <p:nvPr/>
        </p:nvPicPr>
        <p:blipFill>
          <a:blip r:embed="rId1"/>
          <a:stretch/>
        </p:blipFill>
        <p:spPr>
          <a:xfrm>
            <a:off x="3429000" y="12952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533520" y="2666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, но не всё ещё понят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MCj04338180000%5b1%5d"/>
          <p:cNvPicPr/>
          <p:nvPr/>
        </p:nvPicPr>
        <p:blipFill>
          <a:blip r:embed="rId2"/>
          <a:stretch/>
        </p:blipFill>
        <p:spPr>
          <a:xfrm>
            <a:off x="2819520" y="380988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4800600" y="17524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к не понравился и тема не понят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6" descr=""/>
          <p:cNvPicPr/>
          <p:nvPr/>
        </p:nvPicPr>
        <p:blipFill>
          <a:blip r:embed="rId3"/>
          <a:stretch/>
        </p:blipFill>
        <p:spPr>
          <a:xfrm>
            <a:off x="7156440" y="3041640"/>
            <a:ext cx="1006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8" descr="animation046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220320" cy="861048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530280" y="1981080"/>
            <a:ext cx="8785080" cy="232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6"/>
          <a:stretch/>
        </p:blipFill>
        <p:spPr>
          <a:xfrm>
            <a:off x="81532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7"/>
          <a:stretch/>
        </p:blipFill>
        <p:spPr>
          <a:xfrm>
            <a:off x="609480" y="5335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8"/>
          <a:stretch/>
        </p:blipFill>
        <p:spPr>
          <a:xfrm>
            <a:off x="4267080" y="4191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9"/>
          <a:stretch/>
        </p:blipFill>
        <p:spPr>
          <a:xfrm>
            <a:off x="5715000" y="36576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10"/>
          <a:stretch/>
        </p:blipFill>
        <p:spPr>
          <a:xfrm>
            <a:off x="3276720" y="327672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11"/>
          <a:stretch/>
        </p:blipFill>
        <p:spPr>
          <a:xfrm>
            <a:off x="7467480" y="2666880"/>
            <a:ext cx="300240" cy="260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12"/>
          <a:stretch/>
        </p:blipFill>
        <p:spPr>
          <a:xfrm>
            <a:off x="7696080" y="6858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13"/>
          <a:stretch/>
        </p:blipFill>
        <p:spPr>
          <a:xfrm>
            <a:off x="4267080" y="457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14"/>
          <a:stretch/>
        </p:blipFill>
        <p:spPr>
          <a:xfrm>
            <a:off x="8844120" y="6019920"/>
            <a:ext cx="2998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Разложение многочленов 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на множител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урок алгеб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0" y="0"/>
            <a:ext cx="9144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Вставьте одночлен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бы полученное равенство было вер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) 18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+ 16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= . . .(9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8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б) 4а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6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2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 = 2ас (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.+ . . .    - …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ab – ac + b</a:t>
            </a:r>
            <a:r>
              <a:rPr b="1" lang="en-US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– bc = (ab - . . .)+(. . . –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. . (b – c) + b(. . – c) =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) 4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. . . = (. . . – 5)(. . . + . 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0" y="3657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Найдите неизвестное слагае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тобы получилась формула сокращённого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)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8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. . 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) 100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- . . .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+4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3124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5181480" y="141120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095880" y="1371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a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7543800" y="1371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5257800" y="1828800"/>
            <a:ext cx="685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6400800" y="1905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380880" y="236232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2819520" y="2514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4419720" y="2514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b – c)(a + b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3886200" y="5105520"/>
            <a:ext cx="76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3429000" y="5715000"/>
            <a:ext cx="121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0b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447920" y="3025800"/>
            <a:ext cx="761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5909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181480" y="3025800"/>
            <a:ext cx="457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1911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7315200" y="1905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1" descr="7b7d7c4c5df8a78f7db0b75b36bc5d07"/>
          <p:cNvPicPr/>
          <p:nvPr/>
        </p:nvPicPr>
        <p:blipFill>
          <a:blip r:embed="rId1"/>
          <a:stretch/>
        </p:blipFill>
        <p:spPr>
          <a:xfrm>
            <a:off x="6400800" y="4876920"/>
            <a:ext cx="2381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83880" y="15840"/>
            <a:ext cx="57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х -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- 2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а –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 =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a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в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742560" y="367344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х –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 rot="20431200">
            <a:off x="1567080" y="2728440"/>
            <a:ext cx="686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КЛЮЧ ОТВЕТОВ: 1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62120" y="373392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1- истина, 0 –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Рисунок4"/>
          <p:cNvPicPr/>
          <p:nvPr/>
        </p:nvPicPr>
        <p:blipFill>
          <a:blip r:embed="rId1"/>
          <a:stretch/>
        </p:blipFill>
        <p:spPr>
          <a:xfrm>
            <a:off x="6095880" y="152280"/>
            <a:ext cx="2210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45929" dir="2028877" blurRad="0" rotWithShape="0">
              <a:srgbClr val="b2b2b2">
                <a:alpha val="8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ee"/>
                </a:solidFill>
                <a:latin typeface="Times New Roman"/>
              </a:rPr>
              <a:t>К л а с с н а я    р а б о т 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" descr="Рисунок6"/>
          <p:cNvPicPr/>
          <p:nvPr/>
        </p:nvPicPr>
        <p:blipFill>
          <a:blip r:embed="rId1"/>
          <a:stretch/>
        </p:blipFill>
        <p:spPr>
          <a:xfrm>
            <a:off x="762120" y="4495680"/>
            <a:ext cx="20224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457200"/>
            <a:ext cx="88390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–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5 – 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2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4. (2 + x)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9x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Рисунок6"/>
          <p:cNvPicPr/>
          <p:nvPr/>
        </p:nvPicPr>
        <p:blipFill>
          <a:blip r:embed="rId1"/>
          <a:stretch/>
        </p:blipFill>
        <p:spPr>
          <a:xfrm>
            <a:off x="6019920" y="3657600"/>
            <a:ext cx="2819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многочлена на множители необходимо соблюдать следующий поряд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нести общий множитель з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бк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он есть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формулы сокращенног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ножени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это возможно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способ группиров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жно проверить полученны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зультат умно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ло"/>
          <p:cNvPicPr/>
          <p:nvPr/>
        </p:nvPicPr>
        <p:blipFill>
          <a:blip r:embed="rId7"/>
          <a:stretch/>
        </p:blipFill>
        <p:spPr>
          <a:xfrm>
            <a:off x="7772400" y="5257800"/>
            <a:ext cx="1200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4"/>
          <p:cNvSpPr/>
          <p:nvPr/>
        </p:nvSpPr>
        <p:spPr>
          <a:xfrm>
            <a:off x="152280" y="76320"/>
            <a:ext cx="46483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2а – 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2(а +2).               Б. 2(а – 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4(а – 1).              Г. 4(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а(2 +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+(2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2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1). 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a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2)a. 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1 –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24y + 9y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4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Б. (8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Не разлагается. 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4 – 3y)(4 + 3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5x – 5y – ax + 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– 5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+ 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5 – a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– x)(5 +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4572000" y="205884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6а –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3(2а – 1).           Б. 3(2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6(а – 1).             Г. 3(а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 + (4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.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+ 1)(y + 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+ 4)x.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1)(4 –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9x + 4x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Б. (4 –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Г. Не разлагается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ab – ac + 7c – 7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c)(a – 7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a + 7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7 – a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a – 7)(b – 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-763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Б А 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172200" y="17524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А Б Г 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2362320" y="11430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152280" y="21337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2"/>
          <p:cNvSpPr/>
          <p:nvPr/>
        </p:nvSpPr>
        <p:spPr>
          <a:xfrm>
            <a:off x="15228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3"/>
          <p:cNvSpPr/>
          <p:nvPr/>
        </p:nvSpPr>
        <p:spPr>
          <a:xfrm>
            <a:off x="228600" y="4495680"/>
            <a:ext cx="1828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457200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6"/>
          <p:cNvSpPr/>
          <p:nvPr/>
        </p:nvSpPr>
        <p:spPr>
          <a:xfrm>
            <a:off x="6781680" y="4114800"/>
            <a:ext cx="1905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8"/>
          <p:cNvSpPr/>
          <p:nvPr/>
        </p:nvSpPr>
        <p:spPr>
          <a:xfrm>
            <a:off x="6781680" y="5486400"/>
            <a:ext cx="2362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0"/>
          <p:cNvSpPr/>
          <p:nvPr/>
        </p:nvSpPr>
        <p:spPr>
          <a:xfrm>
            <a:off x="6781680" y="64771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5" descr="Рисунок12"/>
          <p:cNvPicPr/>
          <p:nvPr/>
        </p:nvPicPr>
        <p:blipFill>
          <a:blip r:embed="rId1"/>
          <a:stretch/>
        </p:blipFill>
        <p:spPr>
          <a:xfrm>
            <a:off x="1066680" y="4876920"/>
            <a:ext cx="20163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0" y="0"/>
            <a:ext cx="9077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)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б)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) -18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1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–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1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4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ычислите наиболее рациональным способо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62320" y="4724280"/>
            <a:ext cx="5632200" cy="1676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Рисунок9"/>
          <p:cNvPicPr/>
          <p:nvPr/>
        </p:nvPicPr>
        <p:blipFill>
          <a:blip r:embed="rId2"/>
          <a:stretch/>
        </p:blipFill>
        <p:spPr>
          <a:xfrm>
            <a:off x="6324480" y="91440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01-21T18:38:11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1000000000001024140</vt:lpwstr>
  </property>
</Properties>
</file>