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11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jpeg" ContentType="image/jpeg"/>
  <Override PartName="/ppt/media/image23.wmf" ContentType="image/x-wmf"/>
  <Override PartName="/ppt/media/image21.gif" ContentType="image/gif"/>
  <Override PartName="/ppt/media/image19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2.wmf" ContentType="image/x-wmf"/>
  <Override PartName="/ppt/media/image16.jpeg" ContentType="image/jpeg"/>
  <Override PartName="/ppt/media/image3.wmf" ContentType="image/x-wmf"/>
  <Override PartName="/ppt/media/image4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B71-B176-44CA-8B61-0DB4902C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7C7-2D58-44AD-84DF-4BCDB58B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C58-CF8A-45DA-8D02-00A38509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825-406E-4E39-A9E8-9A97FD9D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1BBB-DCA4-4DF3-BC7A-9C0EB7DF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DF52-E21B-4AF8-927F-E54A4283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9D56-FDAB-4EDF-B105-7EC0BE73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BE28-3627-485D-96FA-AD84479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892D-B659-4EA4-9B48-07A4D0CC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446B-B236-4C87-B4DB-2301FCB7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210B-5B35-4CB6-961B-4DAA969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223-857F-4641-ABDF-3357384C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E9B7-3359-4C6B-A5B9-D51D11A1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6C4B-9C6E-4B07-9B50-A2D649EA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1CF6-C123-4858-A51E-45EA582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6B43-9DD1-47A3-A9D6-178DE54D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3FAB-462A-4682-9BEA-F3E3629A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1169-C759-4624-92F0-A8D5F75E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354FE-4658-4A1F-A889-B8FA2C3D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289A-6FD2-473A-8E21-13DE768D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C7BC-7FF5-4870-A4F9-35D27BD0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4CE4-D150-480C-86A5-4AADC579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E3C-945F-4B85-87AA-192E4C57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C710-855A-4FCB-85A4-59A8D2E9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2BC5-F608-4ED3-B668-9657D172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6729-F4DB-498A-AE01-233CC5DC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84BD-E054-41E5-9BA1-0B843DB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7307-F3FB-4230-9477-320D2D45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8F47-FDF0-443A-8C96-E7D30A3C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5CB5-62D7-43D2-B5F8-EA28B64C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E0FAB-2930-4EBB-91AF-B3F45E80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238CC-20B0-4A37-9851-8AF907B7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260FC-F418-4C67-9604-4D963FD5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05A-E1D5-4F08-A6A3-DBDB1E9D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D3A08-DD9B-4B1C-B1CA-B1159532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C7A632-690D-4556-A8D9-A3C80E1F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10C96-218A-407A-90BC-FB219C9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E5AEC-C141-44AB-B783-F0F0779A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66F76-3DEA-4E07-B0EA-5975C34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9F5F2A-590A-48F3-B43F-6764E7E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0217C-D0BD-48F1-B159-8089E90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ED8B2-BB61-4D21-80A1-62858973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75C0A-0087-42B2-B935-08A345CA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BF75-B728-43AC-80C2-401C1327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D01-49C9-4C8C-A07C-970DDEED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31BE6-F797-4B0C-82A3-04A27E2A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4B68-2A1A-4D7F-A824-06F83291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962AB-61A1-4C11-BF95-0CF60F86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942F-1085-49DE-820B-B6936681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45993-9550-44D7-A591-9FCD958A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61C0-6EBA-4DDA-8299-023947E9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8AA47-743F-45CA-B400-8210A342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CA7A9-32BC-437C-9E67-E72D60B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E436-8D5B-444F-9245-99BB266D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D3938-7AB7-4396-93D1-6A26BA83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9A8-ABAD-4B40-AB15-A0D99D22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9849-09D9-429A-B78F-ACDD58CB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378DFA-026B-412F-A001-52152757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C937D0-BCB8-4D4B-A7D5-97558B6A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7139FD-082D-4787-9536-AF40D033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C18710-4CEA-4F8B-B1CA-614F6460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5BC614-50E0-493C-B9F9-4F66B090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4FB238-E0A4-4BE0-8274-FD79102F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024303-6878-4194-AF6D-C47E53E7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125593-5002-4315-968A-5B8B8EA1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3A36E2-9CB0-4C03-B43D-E6D0F1D4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861-9B7D-4275-BD2C-2C26141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8B5984-375B-4F68-BCB0-07A20AD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6E0ACD-DD0E-4506-A7B3-E5F35E9C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3CF5B7-8023-417C-A4AE-6F797AA2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C45-271E-4778-B42D-B436C70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C4D-2FFA-450F-9E7C-613104E4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A819-BB95-4B74-8790-24AED81AB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55DC-F76F-4C41-AE81-B714031298CA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87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F101-90A7-460B-8E25-B506E1E6B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d8047"/>
          </a:solidFill>
          <a:ln w="25560">
            <a:solidFill>
              <a:srgbClr val="dd80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9E2-8FC9-45C8-B98F-5DFB0BBCF1D9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BAC4-659B-47E7-94D3-C988A32D59D7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5E7-B10D-4E1D-95F2-81ADF15F4DE7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762120" y="289548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 водить корабл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ы в небо взлете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зна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уме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fon"/>
          <p:cNvPicPr/>
          <p:nvPr/>
        </p:nvPicPr>
        <p:blipFill>
          <a:blip r:embed="rId1"/>
          <a:stretch/>
        </p:blipFill>
        <p:spPr>
          <a:xfrm>
            <a:off x="2819520" y="2286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Users\Администратор\Desktop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подготовитс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к контрольной работе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ыполнить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№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815,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№ 835, №841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523880" y="762120"/>
          <a:ext cx="6782040" cy="464328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Балл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цен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3 И БОЛ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1-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9-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316" name="Picture 24" descr="Рисунок3"/>
          <p:cNvPicPr/>
          <p:nvPr/>
        </p:nvPicPr>
        <p:blipFill>
          <a:blip r:embed="rId1"/>
          <a:stretch/>
        </p:blipFill>
        <p:spPr>
          <a:xfrm>
            <a:off x="228600" y="4572000"/>
            <a:ext cx="213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457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 и тема поня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2" descr="MCj04244700000%5b1%5d"/>
          <p:cNvPicPr/>
          <p:nvPr/>
        </p:nvPicPr>
        <p:blipFill>
          <a:blip r:embed="rId1"/>
          <a:stretch/>
        </p:blipFill>
        <p:spPr>
          <a:xfrm>
            <a:off x="3429000" y="12952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533520" y="2666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, но не всё ещё понят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MCj04338180000%5b1%5d"/>
          <p:cNvPicPr/>
          <p:nvPr/>
        </p:nvPicPr>
        <p:blipFill>
          <a:blip r:embed="rId2"/>
          <a:stretch/>
        </p:blipFill>
        <p:spPr>
          <a:xfrm>
            <a:off x="2819520" y="380988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4800600" y="17524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к не понравился и тема не понят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6" descr=""/>
          <p:cNvPicPr/>
          <p:nvPr/>
        </p:nvPicPr>
        <p:blipFill>
          <a:blip r:embed="rId3"/>
          <a:stretch/>
        </p:blipFill>
        <p:spPr>
          <a:xfrm>
            <a:off x="7156440" y="3041640"/>
            <a:ext cx="1006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8" descr="animation046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220320" cy="861048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530280" y="1981080"/>
            <a:ext cx="8785080" cy="232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6"/>
          <a:stretch/>
        </p:blipFill>
        <p:spPr>
          <a:xfrm>
            <a:off x="81532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7"/>
          <a:stretch/>
        </p:blipFill>
        <p:spPr>
          <a:xfrm>
            <a:off x="609480" y="5335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8"/>
          <a:stretch/>
        </p:blipFill>
        <p:spPr>
          <a:xfrm>
            <a:off x="4267080" y="4191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9"/>
          <a:stretch/>
        </p:blipFill>
        <p:spPr>
          <a:xfrm>
            <a:off x="5715000" y="36576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10"/>
          <a:stretch/>
        </p:blipFill>
        <p:spPr>
          <a:xfrm>
            <a:off x="3276720" y="327672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11"/>
          <a:stretch/>
        </p:blipFill>
        <p:spPr>
          <a:xfrm>
            <a:off x="7467480" y="2666880"/>
            <a:ext cx="300240" cy="260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12"/>
          <a:stretch/>
        </p:blipFill>
        <p:spPr>
          <a:xfrm>
            <a:off x="7696080" y="6858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13"/>
          <a:stretch/>
        </p:blipFill>
        <p:spPr>
          <a:xfrm>
            <a:off x="4267080" y="457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14"/>
          <a:stretch/>
        </p:blipFill>
        <p:spPr>
          <a:xfrm>
            <a:off x="8844120" y="6019920"/>
            <a:ext cx="2998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Разложение многочленов 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на множител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урок алгеб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0" y="0"/>
            <a:ext cx="9144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Вставьте одночлен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бы полученное равенство было вер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) 18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+ 16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= . . .(9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8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б) 4а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6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2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 = 2ас (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.+ . . .    - …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ab – ac + b</a:t>
            </a:r>
            <a:r>
              <a:rPr b="1" lang="en-US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– bc = (ab - . . .)+(. . . –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. . (b – c) + b(. . – c) =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) 4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. . . = (. . . – 5)(. . . + . 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0" y="3657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Найдите неизвестное слагае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тобы получилась формула сокращённого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)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8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. . 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) 100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- . . .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+4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3124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5181480" y="141120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095880" y="1371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a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7543800" y="1371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5257800" y="1828800"/>
            <a:ext cx="685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6400800" y="1905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380880" y="236232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2819520" y="2514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4419720" y="2514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b – c)(a + b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3886200" y="5105520"/>
            <a:ext cx="76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3429000" y="5715000"/>
            <a:ext cx="121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0b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447920" y="3025800"/>
            <a:ext cx="761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5909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181480" y="3025800"/>
            <a:ext cx="457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1911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7315200" y="1905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1" descr="7b7d7c4c5df8a78f7db0b75b36bc5d07"/>
          <p:cNvPicPr/>
          <p:nvPr/>
        </p:nvPicPr>
        <p:blipFill>
          <a:blip r:embed="rId1"/>
          <a:stretch/>
        </p:blipFill>
        <p:spPr>
          <a:xfrm>
            <a:off x="6400800" y="4876920"/>
            <a:ext cx="2381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83880" y="15840"/>
            <a:ext cx="57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х -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- 2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а –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 =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a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в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742560" y="367344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х –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 rot="20431200">
            <a:off x="1567080" y="2728440"/>
            <a:ext cx="686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КЛЮЧ ОТВЕТОВ: 1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62120" y="373392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1- истина, 0 –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Рисунок4"/>
          <p:cNvPicPr/>
          <p:nvPr/>
        </p:nvPicPr>
        <p:blipFill>
          <a:blip r:embed="rId1"/>
          <a:stretch/>
        </p:blipFill>
        <p:spPr>
          <a:xfrm>
            <a:off x="6095880" y="152280"/>
            <a:ext cx="2210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45929" dir="2028877" blurRad="0" rotWithShape="0">
              <a:srgbClr val="b2b2b2">
                <a:alpha val="8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ee"/>
                </a:solidFill>
                <a:latin typeface="Times New Roman"/>
              </a:rPr>
              <a:t>К л а с с н а я    р а б о т 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" descr="Рисунок6"/>
          <p:cNvPicPr/>
          <p:nvPr/>
        </p:nvPicPr>
        <p:blipFill>
          <a:blip r:embed="rId1"/>
          <a:stretch/>
        </p:blipFill>
        <p:spPr>
          <a:xfrm>
            <a:off x="762120" y="4495680"/>
            <a:ext cx="20224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457200"/>
            <a:ext cx="88390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–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5 – 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2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4. (2 + x)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9x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Рисунок6"/>
          <p:cNvPicPr/>
          <p:nvPr/>
        </p:nvPicPr>
        <p:blipFill>
          <a:blip r:embed="rId1"/>
          <a:stretch/>
        </p:blipFill>
        <p:spPr>
          <a:xfrm>
            <a:off x="6019920" y="3657600"/>
            <a:ext cx="2819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многочлена на множители необходимо соблюдать следующий поряд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нести общий множитель з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бк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он есть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формулы сокращенног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ножени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это возможно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способ группиров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жно проверить полученны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зультат умно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ло"/>
          <p:cNvPicPr/>
          <p:nvPr/>
        </p:nvPicPr>
        <p:blipFill>
          <a:blip r:embed="rId7"/>
          <a:stretch/>
        </p:blipFill>
        <p:spPr>
          <a:xfrm>
            <a:off x="7772400" y="5257800"/>
            <a:ext cx="1200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4"/>
          <p:cNvSpPr/>
          <p:nvPr/>
        </p:nvSpPr>
        <p:spPr>
          <a:xfrm>
            <a:off x="152280" y="76320"/>
            <a:ext cx="46483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2а – 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2(а +2).               Б. 2(а – 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4(а – 1).              Г. 4(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а(2 +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+(2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2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1). 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a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2)a. 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1 –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24y + 9y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4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Б. (8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Не разлагается. 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4 – 3y)(4 + 3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5x – 5y – ax + 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– 5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+ 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5 – a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– x)(5 +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4572000" y="205884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6а –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3(2а – 1).           Б. 3(2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6(а – 1).             Г. 3(а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 + (4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.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+ 1)(y + 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+ 4)x.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1)(4 –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9x + 4x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Б. (4 –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Г. Не разлагается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ab – ac + 7c – 7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c)(a – 7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a + 7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7 – a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a – 7)(b – 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-763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Б А 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172200" y="17524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А Б Г 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2362320" y="11430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152280" y="21337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2"/>
          <p:cNvSpPr/>
          <p:nvPr/>
        </p:nvSpPr>
        <p:spPr>
          <a:xfrm>
            <a:off x="15228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3"/>
          <p:cNvSpPr/>
          <p:nvPr/>
        </p:nvSpPr>
        <p:spPr>
          <a:xfrm>
            <a:off x="228600" y="4495680"/>
            <a:ext cx="1828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457200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6"/>
          <p:cNvSpPr/>
          <p:nvPr/>
        </p:nvSpPr>
        <p:spPr>
          <a:xfrm>
            <a:off x="6781680" y="4114800"/>
            <a:ext cx="1905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8"/>
          <p:cNvSpPr/>
          <p:nvPr/>
        </p:nvSpPr>
        <p:spPr>
          <a:xfrm>
            <a:off x="6781680" y="5486400"/>
            <a:ext cx="2362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0"/>
          <p:cNvSpPr/>
          <p:nvPr/>
        </p:nvSpPr>
        <p:spPr>
          <a:xfrm>
            <a:off x="6781680" y="64771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5" descr="Рисунок12"/>
          <p:cNvPicPr/>
          <p:nvPr/>
        </p:nvPicPr>
        <p:blipFill>
          <a:blip r:embed="rId1"/>
          <a:stretch/>
        </p:blipFill>
        <p:spPr>
          <a:xfrm>
            <a:off x="1066680" y="4876920"/>
            <a:ext cx="20163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0" y="0"/>
            <a:ext cx="9077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)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б)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) -18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1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–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1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4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ычислите наиболее рациональным способо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62320" y="4724280"/>
            <a:ext cx="5632200" cy="1676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Рисунок9"/>
          <p:cNvPicPr/>
          <p:nvPr/>
        </p:nvPicPr>
        <p:blipFill>
          <a:blip r:embed="rId2"/>
          <a:stretch/>
        </p:blipFill>
        <p:spPr>
          <a:xfrm>
            <a:off x="6324480" y="91440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01-21T18:38:11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1000000000001024140</vt:lpwstr>
  </property>
</Properties>
</file>