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3.wmf" ContentType="image/x-wmf"/>
  <Override PartName="/ppt/media/image10.gif" ContentType="image/gif"/>
  <Override PartName="/ppt/media/image8.wmf" ContentType="image/x-wmf"/>
  <Override PartName="/ppt/media/image11.png" ContentType="image/png"/>
  <Override PartName="/ppt/media/image7.jpeg" ContentType="image/jpeg"/>
  <Override PartName="/ppt/media/image15.gif" ContentType="image/gif"/>
  <Override PartName="/ppt/media/image20.png" ContentType="image/png"/>
  <Override PartName="/ppt/media/image6.jpeg" ContentType="image/jpeg"/>
  <Override PartName="/ppt/media/image23.wmf" ContentType="image/x-wmf"/>
  <Override PartName="/ppt/media/image21.gif" ContentType="image/gif"/>
  <Override PartName="/ppt/media/image19.png" ContentType="image/png"/>
  <Override PartName="/ppt/media/image1.jpeg" ContentType="image/jpeg"/>
  <Override PartName="/ppt/media/image22.png" ContentType="image/png"/>
  <Override PartName="/ppt/media/image17.gif" ContentType="image/gif"/>
  <Override PartName="/ppt/media/image2.wmf" ContentType="image/x-wmf"/>
  <Override PartName="/ppt/media/image16.jpeg" ContentType="image/jpeg"/>
  <Override PartName="/ppt/media/image3.wmf" ContentType="image/x-wmf"/>
  <Override PartName="/ppt/media/image4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A5B0-66F7-4211-A4AA-00BA91CA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7394-616A-4B34-B320-F7BA08C0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13E0-6791-477A-A6F4-C4E1DBB5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008-A583-4CA8-89BA-ED759E20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5103-FAF0-4199-90FF-ECCECE76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EB05-8732-469E-BC0A-334DE2F5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7198-912B-40DB-B670-FF1AE31E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66B2-53CD-43F0-B830-7E04EFA4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25FE-0214-42BB-B5FD-10CB6586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E8A0-5C8D-48AB-8FC7-AC0803E5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95B4-86FC-43DC-8E7A-651C0837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992E-A5C3-4404-83AD-41453488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F3E3-B632-4FDA-911C-79D4D782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3574-5CD5-4134-ACB0-FAA4A9E4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E2CB-2A23-4D82-B2D3-BD269706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2959-1E36-4F0F-9DC3-D900F348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D83F-9C33-4E19-956E-265C9F0F8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301A9-4E5A-45F2-BFA6-D64AEE53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DCB47-B697-41AA-BD31-D6329B66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A4901-B744-4181-8541-5C969412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F6C84-804E-4375-88EE-A3444B55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9E007-C56E-466B-966D-879988F4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4D83-EE02-46DC-8663-750E3E55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20C22-AA0A-4691-AB25-13540F43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C777C-298C-4A4B-A3BA-76974D88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CE795-FAED-459F-BC87-4220E77C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70443-4413-4F0E-9908-BC840E1F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C8679-3FC0-4D73-98C3-0E43B2F7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DBA3F-5616-4333-A9B6-E4AD0BD6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A2A0E-696A-4A17-8C6F-99D7E3C6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3ABDD7-11AF-4FB0-99FB-BD15A254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13FBA4-B350-42F1-B825-53923AEA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3A802D-CB2A-4C67-9C7C-048708D6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D76D-4875-4895-9E39-A439B7B4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42D8B3-9016-4CE5-AF73-53F84E0E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8E8499-012A-421E-8564-851D3521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5588BA-7B30-46E9-AB89-8350D3B3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1FE131-ECF2-4367-84BE-CB3558F4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055A5C-3BA2-49B7-BA7B-97DC5E09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29821C-30D7-4F2D-931F-2F904F43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6D3A7D-7576-46F5-8A92-A8A28F7C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E29091-0DB9-44F0-9404-2A0CD51D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B6ED88-708D-40A2-836C-0BD2F897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B4AC2-C14F-462B-BCA3-A727DB6C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8DFF-6409-4B65-B67A-C8702E53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8C74A-B9DA-4566-97B8-86E2D614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E189A-F8B0-455A-84B4-FC9FAAD6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2B1B0-ECE4-4A7F-8BB1-959242F6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882DB-94F9-4685-BA28-5E7C3E2D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50AFF-E0B1-4B53-B023-98B98C75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7B42A-6564-4E72-A32A-24E7ACB4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13357-95D5-456E-9A5A-20073BB0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88467-50BA-4C6E-B28C-7DDA82B3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EDB62-F54B-4168-9CDA-B48ADDEF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45820-F944-4244-959B-61FF39D0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3A6F-C836-466E-A307-F1F593F7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9A3F8-EC02-45B7-8AFF-4AF2BEF3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A72039-E32F-4458-AA4C-E049071C3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BB7CFA-2650-42E3-B136-CD383FD6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7B8D2A-5C61-4744-96F1-443BF8D7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594AC8-7BBE-43F1-9764-740998BD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A2B238-C2A7-4D7F-AA77-60B15955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CA7CF6-F940-451A-B36F-F5840C3B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D91B43-D034-4F2D-A622-C129A8E5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3DB099-D040-44EB-8E31-DFAC01C7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957C52-1A7F-41B4-B741-9B68FEE6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2FB3-6D58-42F7-8475-2447B211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1B0B38-1939-4D63-A017-FE8ADD12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732FA1-95AE-4006-A62D-F138F756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2755D2-D331-41FF-91F1-A6DB690E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C38D-6C64-44CF-AC5F-EC972386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4428-3D06-4E05-8102-66F9D466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Freeform 4"/>
            <p:cNvSpPr/>
            <p:nvPr/>
          </p:nvSpPr>
          <p:spPr>
            <a:xfrm>
              <a:off x="0" y="5591160"/>
              <a:ext cx="3983040" cy="311040"/>
            </a:xfrm>
            <a:prstGeom prst="pie">
              <a:avLst/>
            </a:pr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9BFA-6BAC-4995-8B32-6357CC3FD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CFD4-05A2-415F-9232-62111C4591DA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87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Freeform 4"/>
            <p:cNvSpPr/>
            <p:nvPr/>
          </p:nvSpPr>
          <p:spPr>
            <a:xfrm>
              <a:off x="0" y="5362560"/>
              <a:ext cx="3983040" cy="311040"/>
            </a:xfrm>
            <a:prstGeom prst="pie">
              <a:avLst/>
            </a:pr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85D7-F087-4D28-8B46-4924EAA7E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bf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bf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dd8047"/>
          </a:solidFill>
          <a:ln w="25560">
            <a:solidFill>
              <a:srgbClr val="dd80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B92D-4CB8-44BF-AE3C-7CA30A91E332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1015-F7A2-4C5A-A0D8-DE97AD8EDCA1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bf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bf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1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CB92-FF2A-4471-BCCF-22959DE2F27D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dt" idx="18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image" Target="../media/image23.wmf"/><Relationship Id="rId9" Type="http://schemas.openxmlformats.org/officeDocument/2006/relationships/image" Target="../media/image23.wmf"/><Relationship Id="rId10" Type="http://schemas.openxmlformats.org/officeDocument/2006/relationships/image" Target="../media/image23.wmf"/><Relationship Id="rId11" Type="http://schemas.openxmlformats.org/officeDocument/2006/relationships/image" Target="../media/image23.wmf"/><Relationship Id="rId12" Type="http://schemas.openxmlformats.org/officeDocument/2006/relationships/image" Target="../media/image23.wmf"/><Relationship Id="rId13" Type="http://schemas.openxmlformats.org/officeDocument/2006/relationships/image" Target="../media/image23.wmf"/><Relationship Id="rId14" Type="http://schemas.openxmlformats.org/officeDocument/2006/relationships/image" Target="../media/image23.wm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3"/>
          <p:cNvSpPr/>
          <p:nvPr/>
        </p:nvSpPr>
        <p:spPr>
          <a:xfrm>
            <a:off x="762120" y="2895480"/>
            <a:ext cx="7391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Чтоб водить корабли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Чтобы в небо взлететь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Надо многое знать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Надо многое уме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fon"/>
          <p:cNvPicPr/>
          <p:nvPr/>
        </p:nvPicPr>
        <p:blipFill>
          <a:blip r:embed="rId1"/>
          <a:stretch/>
        </p:blipFill>
        <p:spPr>
          <a:xfrm>
            <a:off x="2819520" y="228600"/>
            <a:ext cx="4038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2" descr="C:\Users\Администратор\Desktop\matematika_carica_nauk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подготовитс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к контрольной работе 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выполнить </a:t>
            </a:r>
            <a:r>
              <a:rPr b="1" lang="uk-UA" sz="4000" spc="-1" strike="noStrike">
                <a:solidFill>
                  <a:srgbClr val="00cc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cc00"/>
                </a:solidFill>
                <a:latin typeface="Times New Roman"/>
              </a:rPr>
              <a:t>№ </a:t>
            </a:r>
            <a:r>
              <a:rPr b="1" lang="uk-UA" sz="4000" spc="-1" strike="noStrike">
                <a:solidFill>
                  <a:srgbClr val="00cc00"/>
                </a:solidFill>
                <a:latin typeface="Times New Roman"/>
              </a:rPr>
              <a:t>815, 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№ 835, №841</a:t>
            </a:r>
            <a:r>
              <a:rPr b="1" lang="ru-RU" sz="3200" spc="-1" strike="noStrike">
                <a:solidFill>
                  <a:srgbClr val="00cc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1523880" y="762120"/>
          <a:ext cx="6782040" cy="4643280"/>
        </p:xfrm>
        <a:graphic>
          <a:graphicData uri="http://schemas.openxmlformats.org/drawingml/2006/table">
            <a:tbl>
              <a:tblPr/>
              <a:tblGrid>
                <a:gridCol w="3391200"/>
                <a:gridCol w="3390840"/>
              </a:tblGrid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Баллы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4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Оценк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3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3 И БОЛЕ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1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1-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9-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pic>
        <p:nvPicPr>
          <p:cNvPr id="316" name="Picture 24" descr="Рисунок3"/>
          <p:cNvPicPr/>
          <p:nvPr/>
        </p:nvPicPr>
        <p:blipFill>
          <a:blip r:embed="rId1"/>
          <a:stretch/>
        </p:blipFill>
        <p:spPr>
          <a:xfrm>
            <a:off x="228600" y="4572000"/>
            <a:ext cx="21337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1"/>
          <p:cNvSpPr/>
          <p:nvPr/>
        </p:nvSpPr>
        <p:spPr>
          <a:xfrm>
            <a:off x="457200" y="6094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нравился урок и тема поня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Рисунок 2" descr="MCj04244700000%5b1%5d"/>
          <p:cNvPicPr/>
          <p:nvPr/>
        </p:nvPicPr>
        <p:blipFill>
          <a:blip r:embed="rId1"/>
          <a:stretch/>
        </p:blipFill>
        <p:spPr>
          <a:xfrm>
            <a:off x="3429000" y="129528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319" name="TextBox 3"/>
          <p:cNvSpPr/>
          <p:nvPr/>
        </p:nvSpPr>
        <p:spPr>
          <a:xfrm>
            <a:off x="533520" y="266688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нравился урок, но не всё ещё понят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Рисунок 4" descr="MCj04338180000%5b1%5d"/>
          <p:cNvPicPr/>
          <p:nvPr/>
        </p:nvPicPr>
        <p:blipFill>
          <a:blip r:embed="rId2"/>
          <a:stretch/>
        </p:blipFill>
        <p:spPr>
          <a:xfrm>
            <a:off x="2819520" y="3809880"/>
            <a:ext cx="1143000" cy="1000080"/>
          </a:xfrm>
          <a:prstGeom prst="rect">
            <a:avLst/>
          </a:prstGeom>
          <a:ln w="0">
            <a:noFill/>
          </a:ln>
        </p:spPr>
      </p:pic>
      <p:sp>
        <p:nvSpPr>
          <p:cNvPr id="321" name="TextBox 5"/>
          <p:cNvSpPr/>
          <p:nvPr/>
        </p:nvSpPr>
        <p:spPr>
          <a:xfrm>
            <a:off x="4800600" y="175248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рок не понравился и тема не понят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Рисунок 6" descr=""/>
          <p:cNvPicPr/>
          <p:nvPr/>
        </p:nvPicPr>
        <p:blipFill>
          <a:blip r:embed="rId3"/>
          <a:stretch/>
        </p:blipFill>
        <p:spPr>
          <a:xfrm>
            <a:off x="7156440" y="3041640"/>
            <a:ext cx="1006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Рисунок 18" descr="animation046.gif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220320" cy="8610480"/>
          </a:xfrm>
          <a:prstGeom prst="rect">
            <a:avLst/>
          </a:prstGeom>
          <a:ln w="0">
            <a:noFill/>
          </a:ln>
        </p:spPr>
      </p:pic>
      <p:pic>
        <p:nvPicPr>
          <p:cNvPr id="324" name="Прямоугольник 1" descr=""/>
          <p:cNvPicPr/>
          <p:nvPr/>
        </p:nvPicPr>
        <p:blipFill>
          <a:blip r:embed="rId2"/>
          <a:stretch/>
        </p:blipFill>
        <p:spPr>
          <a:xfrm>
            <a:off x="530280" y="1981080"/>
            <a:ext cx="8785080" cy="23227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"/>
          <p:cNvPicPr/>
          <p:nvPr/>
        </p:nvPicPr>
        <p:blipFill>
          <a:blip r:embed="rId3"/>
          <a:stretch/>
        </p:blipFill>
        <p:spPr>
          <a:xfrm>
            <a:off x="2133720" y="4114800"/>
            <a:ext cx="299880" cy="260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4"/>
          <a:stretch/>
        </p:blipFill>
        <p:spPr>
          <a:xfrm>
            <a:off x="609480" y="304812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"/>
          <p:cNvPicPr/>
          <p:nvPr/>
        </p:nvPicPr>
        <p:blipFill>
          <a:blip r:embed="rId5"/>
          <a:stretch/>
        </p:blipFill>
        <p:spPr>
          <a:xfrm>
            <a:off x="380880" y="502920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"/>
          <p:cNvPicPr/>
          <p:nvPr/>
        </p:nvPicPr>
        <p:blipFill>
          <a:blip r:embed="rId6"/>
          <a:stretch/>
        </p:blipFill>
        <p:spPr>
          <a:xfrm>
            <a:off x="8153280" y="502920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7"/>
          <a:stretch/>
        </p:blipFill>
        <p:spPr>
          <a:xfrm>
            <a:off x="609480" y="53352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8"/>
          <a:stretch/>
        </p:blipFill>
        <p:spPr>
          <a:xfrm>
            <a:off x="4267080" y="419112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9"/>
          <a:stretch/>
        </p:blipFill>
        <p:spPr>
          <a:xfrm>
            <a:off x="5715000" y="3657600"/>
            <a:ext cx="299880" cy="2602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10"/>
          <a:stretch/>
        </p:blipFill>
        <p:spPr>
          <a:xfrm>
            <a:off x="3276720" y="3276720"/>
            <a:ext cx="299880" cy="2602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"/>
          <p:cNvPicPr/>
          <p:nvPr/>
        </p:nvPicPr>
        <p:blipFill>
          <a:blip r:embed="rId11"/>
          <a:stretch/>
        </p:blipFill>
        <p:spPr>
          <a:xfrm>
            <a:off x="7467480" y="2666880"/>
            <a:ext cx="300240" cy="260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"/>
          <p:cNvPicPr/>
          <p:nvPr/>
        </p:nvPicPr>
        <p:blipFill>
          <a:blip r:embed="rId12"/>
          <a:stretch/>
        </p:blipFill>
        <p:spPr>
          <a:xfrm>
            <a:off x="7696080" y="68580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"/>
          <p:cNvPicPr/>
          <p:nvPr/>
        </p:nvPicPr>
        <p:blipFill>
          <a:blip r:embed="rId13"/>
          <a:stretch/>
        </p:blipFill>
        <p:spPr>
          <a:xfrm>
            <a:off x="4267080" y="45720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"/>
          <p:cNvPicPr/>
          <p:nvPr/>
        </p:nvPicPr>
        <p:blipFill>
          <a:blip r:embed="rId14"/>
          <a:stretch/>
        </p:blipFill>
        <p:spPr>
          <a:xfrm>
            <a:off x="8844120" y="6019920"/>
            <a:ext cx="2998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560" y="2130120"/>
            <a:ext cx="830556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6600" spc="-1" strike="noStrike">
                <a:solidFill>
                  <a:srgbClr val="ff3300"/>
                </a:solidFill>
                <a:latin typeface="Monotype Corsiva"/>
              </a:rPr>
              <a:t>Разложение многочленов </a:t>
            </a:r>
            <a:br>
              <a:rPr sz="6600"/>
            </a:br>
            <a:r>
              <a:rPr b="1" lang="ru-RU" sz="6600" spc="-1" strike="noStrike">
                <a:solidFill>
                  <a:srgbClr val="ff3300"/>
                </a:solidFill>
                <a:latin typeface="Monotype Corsiva"/>
              </a:rPr>
              <a:t>на множител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урок алгебр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"/>
          <p:cNvSpPr/>
          <p:nvPr/>
        </p:nvSpPr>
        <p:spPr>
          <a:xfrm>
            <a:off x="0" y="0"/>
            <a:ext cx="91440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 Вставьте одночлен та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чтобы полученное равенство было верн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а) 18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ab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+ 16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= . . .(9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+ 8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б) 4ас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+ 6а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с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- 2а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с = 2ас (.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.+ . . .    - …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в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) ab – ac + b</a:t>
            </a:r>
            <a:r>
              <a:rPr b="1" lang="en-US" sz="36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– bc = (ab - . . .)+(. . . –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…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)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. . (b – c) + b(. . – c) = 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г) 4с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2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- . . . = (. . . – 5)(. . . + . 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"/>
          <p:cNvSpPr/>
          <p:nvPr/>
        </p:nvSpPr>
        <p:spPr>
          <a:xfrm>
            <a:off x="0" y="36576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№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2 Найдите неизвестное слагаем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чтобы получилась формула сокращённого умно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д)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ru-RU" sz="40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 + 8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 + . . .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) 100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ru-RU" sz="40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 - . . .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. 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+4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ru-RU" sz="40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3124080" y="838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5181480" y="1411200"/>
            <a:ext cx="68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6095880" y="13716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3a</a:t>
            </a:r>
            <a:r>
              <a:rPr b="0" lang="en-US" sz="3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3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7"/>
          <p:cNvSpPr/>
          <p:nvPr/>
        </p:nvSpPr>
        <p:spPr>
          <a:xfrm>
            <a:off x="7543800" y="1371600"/>
            <a:ext cx="45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8"/>
          <p:cNvSpPr/>
          <p:nvPr/>
        </p:nvSpPr>
        <p:spPr>
          <a:xfrm>
            <a:off x="5257800" y="1828800"/>
            <a:ext cx="685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9"/>
          <p:cNvSpPr/>
          <p:nvPr/>
        </p:nvSpPr>
        <p:spPr>
          <a:xfrm>
            <a:off x="6400800" y="19051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3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0"/>
          <p:cNvSpPr/>
          <p:nvPr/>
        </p:nvSpPr>
        <p:spPr>
          <a:xfrm>
            <a:off x="380880" y="236232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1"/>
          <p:cNvSpPr/>
          <p:nvPr/>
        </p:nvSpPr>
        <p:spPr>
          <a:xfrm>
            <a:off x="2819520" y="2514600"/>
            <a:ext cx="45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2"/>
          <p:cNvSpPr/>
          <p:nvPr/>
        </p:nvSpPr>
        <p:spPr>
          <a:xfrm>
            <a:off x="4419720" y="251460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b – c)(a + b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3"/>
          <p:cNvSpPr/>
          <p:nvPr/>
        </p:nvSpPr>
        <p:spPr>
          <a:xfrm>
            <a:off x="3886200" y="5105520"/>
            <a:ext cx="762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5"/>
          <p:cNvSpPr/>
          <p:nvPr/>
        </p:nvSpPr>
        <p:spPr>
          <a:xfrm>
            <a:off x="3429000" y="5715000"/>
            <a:ext cx="1219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40b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6"/>
          <p:cNvSpPr/>
          <p:nvPr/>
        </p:nvSpPr>
        <p:spPr>
          <a:xfrm>
            <a:off x="1447920" y="3025800"/>
            <a:ext cx="761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2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7"/>
          <p:cNvSpPr/>
          <p:nvPr/>
        </p:nvSpPr>
        <p:spPr>
          <a:xfrm>
            <a:off x="2590920" y="3025800"/>
            <a:ext cx="685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2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181480" y="3025800"/>
            <a:ext cx="4572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0"/>
          <p:cNvSpPr/>
          <p:nvPr/>
        </p:nvSpPr>
        <p:spPr>
          <a:xfrm>
            <a:off x="4191120" y="3025800"/>
            <a:ext cx="685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2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9"/>
          <p:cNvSpPr/>
          <p:nvPr/>
        </p:nvSpPr>
        <p:spPr>
          <a:xfrm>
            <a:off x="7315200" y="1905120"/>
            <a:ext cx="68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1" descr="7b7d7c4c5df8a78f7db0b75b36bc5d07"/>
          <p:cNvPicPr/>
          <p:nvPr/>
        </p:nvPicPr>
        <p:blipFill>
          <a:blip r:embed="rId1"/>
          <a:stretch/>
        </p:blipFill>
        <p:spPr>
          <a:xfrm>
            <a:off x="6400800" y="4876920"/>
            <a:ext cx="23814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1"/>
          <p:cNvSpPr/>
          <p:nvPr/>
        </p:nvSpPr>
        <p:spPr>
          <a:xfrm>
            <a:off x="83880" y="15840"/>
            <a:ext cx="572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Constantia"/>
              </a:rPr>
              <a:t>Вариант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1. ( х - у )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х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- 2ху + у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2. ( а –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)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) =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a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- 2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3.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–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4.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)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в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5.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= 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–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3742560" y="3673440"/>
            <a:ext cx="550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Constantia"/>
              </a:rPr>
              <a:t>Вариант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1. ( а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 =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2. ( х – у )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х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ху + у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3.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= ( а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–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4.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5. 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)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2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3"/>
          <p:cNvSpPr/>
          <p:nvPr/>
        </p:nvSpPr>
        <p:spPr>
          <a:xfrm rot="20431200">
            <a:off x="1567080" y="2728440"/>
            <a:ext cx="686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КЛЮЧ ОТВЕТОВ: 100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762120" y="3733920"/>
            <a:ext cx="213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libri"/>
              </a:rPr>
              <a:t>1- истина, 0 – л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7" descr="Рисунок4"/>
          <p:cNvPicPr/>
          <p:nvPr/>
        </p:nvPicPr>
        <p:blipFill>
          <a:blip r:embed="rId1"/>
          <a:stretch/>
        </p:blipFill>
        <p:spPr>
          <a:xfrm>
            <a:off x="6095880" y="152280"/>
            <a:ext cx="22100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solidFill>
            <a:srgbClr val="003300"/>
          </a:solidFill>
          <a:ln w="0">
            <a:noFill/>
          </a:ln>
          <a:effectLst>
            <a:outerShdw dist="45929" dir="2028877" blurRad="0" rotWithShape="0">
              <a:srgbClr val="b2b2b2">
                <a:alpha val="8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ee"/>
                </a:solidFill>
                <a:latin typeface="Times New Roman"/>
              </a:rPr>
              <a:t>К л а с с н а я    р а б о т а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5" descr="Рисунок6"/>
          <p:cNvPicPr/>
          <p:nvPr/>
        </p:nvPicPr>
        <p:blipFill>
          <a:blip r:embed="rId1"/>
          <a:stretch/>
        </p:blipFill>
        <p:spPr>
          <a:xfrm>
            <a:off x="762120" y="4495680"/>
            <a:ext cx="202248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1"/>
          <p:cNvSpPr/>
          <p:nvPr/>
        </p:nvSpPr>
        <p:spPr>
          <a:xfrm>
            <a:off x="304920" y="457200"/>
            <a:ext cx="8839080" cy="59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Разложите на множител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1.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–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 – 3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ab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 – 3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2.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5 – 5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   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3.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 –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125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66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4. (2 + x)</a:t>
            </a:r>
            <a:r>
              <a:rPr b="1" lang="en-US" sz="6600" spc="-1" strike="noStrike" baseline="30000">
                <a:solidFill>
                  <a:srgbClr val="ff3300"/>
                </a:solidFill>
                <a:latin typeface="Times New Roman"/>
              </a:rPr>
              <a:t>2 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- 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9x</a:t>
            </a:r>
            <a:r>
              <a:rPr b="1" lang="en-US" sz="6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Рисунок6"/>
          <p:cNvPicPr/>
          <p:nvPr/>
        </p:nvPicPr>
        <p:blipFill>
          <a:blip r:embed="rId1"/>
          <a:stretch/>
        </p:blipFill>
        <p:spPr>
          <a:xfrm>
            <a:off x="6019920" y="3657600"/>
            <a:ext cx="28191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"/>
          <p:cNvSpPr/>
          <p:nvPr/>
        </p:nvSpPr>
        <p:spPr>
          <a:xfrm>
            <a:off x="0" y="0"/>
            <a:ext cx="914400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 разложении многочлена на множители необходимо соблюдать следующий порядо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нести общий множитель з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кобки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если он есть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именить формулы сокращенного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множения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если это возможно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именить способ группировк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ожно проверить полученный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езультат умножени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ло"/>
          <p:cNvPicPr/>
          <p:nvPr/>
        </p:nvPicPr>
        <p:blipFill>
          <a:blip r:embed="rId7"/>
          <a:stretch/>
        </p:blipFill>
        <p:spPr>
          <a:xfrm>
            <a:off x="7772400" y="5257800"/>
            <a:ext cx="1200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4"/>
          <p:cNvSpPr/>
          <p:nvPr/>
        </p:nvSpPr>
        <p:spPr>
          <a:xfrm>
            <a:off x="152280" y="76320"/>
            <a:ext cx="46483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ариант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 2а – 4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2(а +2).               Б. 2(а – 2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 4(а – 1).              Г. 4(а + 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 а(2 + 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b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+(2+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b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+ 2)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+ 1).     Б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2 + b)(a – 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b + 2)a.         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2 + b)(1 – 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16 – 24y + 9y</a:t>
            </a:r>
            <a:r>
              <a:rPr b="1" lang="en-US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(4 – 3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           Б. (8 – 3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 Не разлагается. 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4 – 3y)(4 + 3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. 5x – 5y – ax + 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– y)(a – 5). 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– y)(a + 5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– y)(5 – a). 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y – x)(5 + 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"/>
          <p:cNvSpPr/>
          <p:nvPr/>
        </p:nvSpPr>
        <p:spPr>
          <a:xfrm>
            <a:off x="4572000" y="2058840"/>
            <a:ext cx="4572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ариант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 6а – 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3(2а – 1).           Б. 3(2а + 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 6(а – 1).             Г. 3(а – 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 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+ 4) + (4+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– 4)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+ 4).    Б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+ 1)(y + 4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y + 4)x.        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– 1)(4 – 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16 – 9x + 4x</a:t>
            </a:r>
            <a:r>
              <a:rPr b="1" lang="en-US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– 4)</a:t>
            </a:r>
            <a:r>
              <a:rPr b="0" lang="ru-RU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             Б. (4 – 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(4 + 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 (4 + 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             Г. Не разлагается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. ab – ac + 7c – 7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b + c)(a – 7).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b – c)(a + 7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b – c)(7 – a).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a – 7)(b – 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"/>
          <p:cNvSpPr/>
          <p:nvPr/>
        </p:nvSpPr>
        <p:spPr>
          <a:xfrm>
            <a:off x="1905120" y="-7632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nstantia"/>
              </a:rPr>
              <a:t>Б А А 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6"/>
          <p:cNvSpPr/>
          <p:nvPr/>
        </p:nvSpPr>
        <p:spPr>
          <a:xfrm>
            <a:off x="6172200" y="17524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nstantia"/>
              </a:rPr>
              <a:t>А Б Г Г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ая соединительная линия 8"/>
          <p:cNvSpPr/>
          <p:nvPr/>
        </p:nvSpPr>
        <p:spPr>
          <a:xfrm>
            <a:off x="2362320" y="1143000"/>
            <a:ext cx="13716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ая соединительная линия 10"/>
          <p:cNvSpPr/>
          <p:nvPr/>
        </p:nvSpPr>
        <p:spPr>
          <a:xfrm>
            <a:off x="152280" y="2133720"/>
            <a:ext cx="19814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12"/>
          <p:cNvSpPr/>
          <p:nvPr/>
        </p:nvSpPr>
        <p:spPr>
          <a:xfrm>
            <a:off x="152280" y="3124080"/>
            <a:ext cx="13716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ая соединительная линия 13"/>
          <p:cNvSpPr/>
          <p:nvPr/>
        </p:nvSpPr>
        <p:spPr>
          <a:xfrm>
            <a:off x="228600" y="4495680"/>
            <a:ext cx="18288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15"/>
          <p:cNvSpPr/>
          <p:nvPr/>
        </p:nvSpPr>
        <p:spPr>
          <a:xfrm>
            <a:off x="4572000" y="3124080"/>
            <a:ext cx="13716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ая соединительная линия 16"/>
          <p:cNvSpPr/>
          <p:nvPr/>
        </p:nvSpPr>
        <p:spPr>
          <a:xfrm>
            <a:off x="6781680" y="4114800"/>
            <a:ext cx="19051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8"/>
          <p:cNvSpPr/>
          <p:nvPr/>
        </p:nvSpPr>
        <p:spPr>
          <a:xfrm>
            <a:off x="6781680" y="5486400"/>
            <a:ext cx="23623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ая соединительная линия 20"/>
          <p:cNvSpPr/>
          <p:nvPr/>
        </p:nvSpPr>
        <p:spPr>
          <a:xfrm>
            <a:off x="6781680" y="6477120"/>
            <a:ext cx="19814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5" descr="Рисунок12"/>
          <p:cNvPicPr/>
          <p:nvPr/>
        </p:nvPicPr>
        <p:blipFill>
          <a:blip r:embed="rId1"/>
          <a:stretch/>
        </p:blipFill>
        <p:spPr>
          <a:xfrm>
            <a:off x="1066680" y="4876920"/>
            <a:ext cx="201636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0" y="0"/>
            <a:ext cx="90774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Разложите на множители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a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)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bx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+ 6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b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xc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6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б) 4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64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d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4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;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в) -18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a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+ 12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a 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–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Решите уравн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3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4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16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+ 64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Вычислите наиболее рациональным способом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362320" y="4724280"/>
            <a:ext cx="5632200" cy="16765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Рисунок9"/>
          <p:cNvPicPr/>
          <p:nvPr/>
        </p:nvPicPr>
        <p:blipFill>
          <a:blip r:embed="rId2"/>
          <a:stretch/>
        </p:blipFill>
        <p:spPr>
          <a:xfrm>
            <a:off x="6324480" y="914400"/>
            <a:ext cx="19814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4-01-21T18:38:11Z</dcterms:modified>
  <cp:revision>7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21000000000001024140</vt:lpwstr>
  </property>
</Properties>
</file>