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gif" ContentType="image/gif"/>
  <Override PartName="/ppt/media/image8.png" ContentType="image/png"/>
  <Override PartName="/ppt/media/image9.gif" ContentType="image/gi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CAE-376D-433C-ABB9-5E85A34D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1D5-6E4C-4D4C-B0C9-C493BA5B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E27-EC51-435B-A19A-E328A654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8BE-8AFF-4FAB-BC54-51484AED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827-0427-4080-B5C5-D09D6581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0BD-F396-4837-969E-F284C1D9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FA3-15F2-479C-8FDF-DE080598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EF4-5B58-4756-A7C5-34D34A77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6CE-AECB-4FEC-ACEA-9CFAAAF6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390-0393-445D-8366-22240CB0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7C7-BB6C-45D9-87CC-BCA388E4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03E-2809-4C92-9937-B773890C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3B42-597B-48D8-AF31-0AFC8F52A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Monotype Corsiva"/>
              </a:rPr>
              <a:t>Квадратные уравнения. Неполные квадратные уравнен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437000"/>
            <a:ext cx="662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Подготовил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учитель математик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Ясиноватской общеобразовательной школ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I-II</a:t>
            </a: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ст.№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НосаченкоВ.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 коэффициенты квадратных уравн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40402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авн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62828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х-1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7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-4х+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-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4х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0,5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9х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х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5х-7+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х-11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-6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х-8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)5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25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125360"/>
            <a:ext cx="40417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эффициен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4720" y="1628280"/>
            <a:ext cx="4041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=-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 а=0,5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4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а=-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а=5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=2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а=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1, с=-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 а=-6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 с=-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 а=-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, 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, с=-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) а=1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1, с=-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Прямая со стрелкой 7"/>
          <p:cNvCxnSpPr/>
          <p:nvPr/>
        </p:nvCxnSpPr>
        <p:spPr>
          <a:xfrm>
            <a:off x="2050920" y="1915920"/>
            <a:ext cx="2666160" cy="4105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6" name="Прямая со стрелкой 10"/>
          <p:cNvCxnSpPr/>
          <p:nvPr/>
        </p:nvCxnSpPr>
        <p:spPr>
          <a:xfrm flipV="1">
            <a:off x="1835280" y="1915560"/>
            <a:ext cx="2953440" cy="433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7" name="Прямая со стрелкой 12"/>
          <p:cNvCxnSpPr/>
          <p:nvPr/>
        </p:nvCxnSpPr>
        <p:spPr>
          <a:xfrm>
            <a:off x="2123640" y="2781000"/>
            <a:ext cx="2592720" cy="108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8" name="Прямая со стрелкой 14"/>
          <p:cNvCxnSpPr/>
          <p:nvPr/>
        </p:nvCxnSpPr>
        <p:spPr>
          <a:xfrm>
            <a:off x="2268360" y="3284280"/>
            <a:ext cx="2448720" cy="1873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9" name="Прямая со стрелкой 16"/>
          <p:cNvCxnSpPr/>
          <p:nvPr/>
        </p:nvCxnSpPr>
        <p:spPr>
          <a:xfrm flipV="1">
            <a:off x="2410920" y="2349360"/>
            <a:ext cx="2305440" cy="1440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0" name="Прямая со стрелкой 18"/>
          <p:cNvCxnSpPr/>
          <p:nvPr/>
        </p:nvCxnSpPr>
        <p:spPr>
          <a:xfrm flipV="1">
            <a:off x="1907640" y="3283920"/>
            <a:ext cx="2809080" cy="93708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1" name="Прямая со стрелкой 20"/>
          <p:cNvCxnSpPr/>
          <p:nvPr/>
        </p:nvCxnSpPr>
        <p:spPr>
          <a:xfrm>
            <a:off x="2268360" y="4653000"/>
            <a:ext cx="2448720" cy="93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2" name="Прямая со стрелкой 22"/>
          <p:cNvCxnSpPr/>
          <p:nvPr/>
        </p:nvCxnSpPr>
        <p:spPr>
          <a:xfrm flipV="1">
            <a:off x="2410920" y="4220640"/>
            <a:ext cx="2305440" cy="93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3" name="Прямая со стрелкой 24"/>
          <p:cNvCxnSpPr/>
          <p:nvPr/>
        </p:nvCxnSpPr>
        <p:spPr>
          <a:xfrm flipV="1">
            <a:off x="2410920" y="4652640"/>
            <a:ext cx="2305440" cy="93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4" name="Прямая со стрелкой 26"/>
          <p:cNvCxnSpPr/>
          <p:nvPr/>
        </p:nvCxnSpPr>
        <p:spPr>
          <a:xfrm flipV="1">
            <a:off x="2410920" y="3715920"/>
            <a:ext cx="2305440" cy="23774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овые за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Квадратным является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1+х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б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4=0;    в) (7-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(2+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0;               г) х+9=2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еполным квадратным является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х+6=0;       б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27=0;       в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   г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иведенным квадратным является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2х-3=0;      б) 45-7х+21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 в) х+6-4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;                г)х+6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ставьте пропущенное числ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                                        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3"/>
          <p:cNvSpPr/>
          <p:nvPr/>
        </p:nvSpPr>
        <p:spPr>
          <a:xfrm>
            <a:off x="1187280" y="5157720"/>
            <a:ext cx="86364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вал 4"/>
          <p:cNvSpPr/>
          <p:nvPr/>
        </p:nvSpPr>
        <p:spPr>
          <a:xfrm>
            <a:off x="2700360" y="5157720"/>
            <a:ext cx="86364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Овал 5"/>
          <p:cNvSpPr/>
          <p:nvPr/>
        </p:nvSpPr>
        <p:spPr>
          <a:xfrm>
            <a:off x="1908000" y="6093000"/>
            <a:ext cx="863640" cy="649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Овал 6"/>
          <p:cNvSpPr/>
          <p:nvPr/>
        </p:nvSpPr>
        <p:spPr>
          <a:xfrm>
            <a:off x="5148360" y="5229360"/>
            <a:ext cx="79200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Овал 7"/>
          <p:cNvSpPr/>
          <p:nvPr/>
        </p:nvSpPr>
        <p:spPr>
          <a:xfrm>
            <a:off x="6804000" y="5229360"/>
            <a:ext cx="792360" cy="647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Овал 8"/>
          <p:cNvSpPr/>
          <p:nvPr/>
        </p:nvSpPr>
        <p:spPr>
          <a:xfrm>
            <a:off x="6012000" y="6165720"/>
            <a:ext cx="792000" cy="5763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√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10"/>
          <p:cNvSpPr/>
          <p:nvPr/>
        </p:nvSpPr>
        <p:spPr>
          <a:xfrm>
            <a:off x="2050920" y="5481720"/>
            <a:ext cx="649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12"/>
          <p:cNvSpPr/>
          <p:nvPr/>
        </p:nvSpPr>
        <p:spPr>
          <a:xfrm>
            <a:off x="1835280" y="5805360"/>
            <a:ext cx="215640" cy="28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>
            <a:off x="5724360" y="5877000"/>
            <a:ext cx="409680" cy="338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ая соединительная линия 22"/>
          <p:cNvSpPr/>
          <p:nvPr/>
        </p:nvSpPr>
        <p:spPr>
          <a:xfrm flipV="1">
            <a:off x="2644920" y="5805000"/>
            <a:ext cx="271440" cy="382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24"/>
          <p:cNvSpPr/>
          <p:nvPr/>
        </p:nvSpPr>
        <p:spPr>
          <a:xfrm flipV="1">
            <a:off x="6688080" y="5877000"/>
            <a:ext cx="331920" cy="37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ая соединительная линия 26"/>
          <p:cNvSpPr/>
          <p:nvPr/>
        </p:nvSpPr>
        <p:spPr>
          <a:xfrm>
            <a:off x="5940360" y="5553000"/>
            <a:ext cx="863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вет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 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 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цени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правильно              одна ошибка             две и бол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3" descr="пчёлка"/>
          <p:cNvPicPr/>
          <p:nvPr/>
        </p:nvPicPr>
        <p:blipFill>
          <a:blip r:embed="rId2"/>
          <a:stretch/>
        </p:blipFill>
        <p:spPr>
          <a:xfrm>
            <a:off x="6084720" y="476280"/>
            <a:ext cx="2573640" cy="34891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2484360" y="1413000"/>
            <a:ext cx="273528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www.hahatunchik.com.ua/foto/animatsii/smaily/80x80_150x150/bolshie-smajly-123.gif"/>
          <p:cNvPicPr/>
          <p:nvPr/>
        </p:nvPicPr>
        <p:blipFill>
          <a:blip r:embed="rId3"/>
          <a:stretch/>
        </p:blipFill>
        <p:spPr>
          <a:xfrm>
            <a:off x="1187280" y="458136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&amp;Scy;&amp;mcy;&amp;acy;&amp;jcy;&amp;lcy;&amp;icy;&amp;kcy;&amp;icy;-&amp;kcy;&amp;acy;&amp;rcy;&amp;tcy;&amp;icy;&amp;ncy;&amp;kcy;&amp;icy; &amp;Scy;&amp;mcy;&amp;acy;&amp;jcy;&amp;lcy;&amp;icy;&amp;kcy;&amp;icy; &amp;kcy;&amp;rcy;&amp;acy;&amp;scy;&amp;icy;&amp;vcy;&amp;ycy;&amp;iecy; &amp;ncy;&amp;ocy;&amp;vcy;&amp;ycy;&amp;iecy;"/>
          <p:cNvPicPr/>
          <p:nvPr/>
        </p:nvPicPr>
        <p:blipFill>
          <a:blip r:embed="rId4"/>
          <a:stretch/>
        </p:blipFill>
        <p:spPr>
          <a:xfrm>
            <a:off x="4067280" y="4724280"/>
            <a:ext cx="961920" cy="86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&amp;Bcy;&amp;ocy;&amp;lcy;&amp;softcy;&amp;shcy;&amp;icy;&amp;iecy; &amp;scy;&amp;mcy;&amp;acy;&amp;jcy;&amp;lcy;&amp;icy;&amp;kcy;&amp;icy;"/>
          <p:cNvPicPr/>
          <p:nvPr/>
        </p:nvPicPr>
        <p:blipFill>
          <a:blip r:embed="rId5"/>
          <a:stretch/>
        </p:blipFill>
        <p:spPr>
          <a:xfrm>
            <a:off x="6588000" y="4724280"/>
            <a:ext cx="9525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599840"/>
            <a:ext cx="713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учить теорет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ериал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тать § 19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67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69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3" descr="SUPER043"/>
          <p:cNvPicPr/>
          <p:nvPr/>
        </p:nvPicPr>
        <p:blipFill>
          <a:blip r:embed="rId2"/>
          <a:stretch/>
        </p:blipFill>
        <p:spPr>
          <a:xfrm>
            <a:off x="6227640" y="1916280"/>
            <a:ext cx="2330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74"/>
          <p:cNvPicPr/>
          <p:nvPr/>
        </p:nvPicPr>
        <p:blipFill>
          <a:blip r:embed="rId2"/>
          <a:stretch/>
        </p:blipFill>
        <p:spPr>
          <a:xfrm>
            <a:off x="1979640" y="2205000"/>
            <a:ext cx="3736800" cy="34639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6"/>
          <p:cNvSpPr/>
          <p:nvPr/>
        </p:nvSpPr>
        <p:spPr>
          <a:xfrm>
            <a:off x="4211640" y="1916280"/>
            <a:ext cx="2521080" cy="1368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2764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"/>
          <p:cNvSpPr/>
          <p:nvPr/>
        </p:nvSpPr>
        <p:spPr>
          <a:xfrm rot="20092200">
            <a:off x="4634280" y="2157480"/>
            <a:ext cx="16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 свид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. Квадратные уравнения. Неполные квадратные уравн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 Ввести понятия квадратного уравнения, неполного квадратного уравнения и приведенного. Научить учащихся отличать квадратное уравнение и его виды от других уравнений. Выработать умение находить коэффициенты квадратного уравнения. Развивать логическое мышление учащихся, память. Воспитывать культуру математической речи. Прививать интерес к математик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о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197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шите в виде многочлена выраж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х-5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2) (х+3)(2-х);  3) у(2у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у);   4)(а+6)(4-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ешите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х+5=0;    2) х-0,7=0;    3) 9а=0;     4)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в(в-4)=0;     6) 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3=0;   7) 4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16=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+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rial"/>
              </a:rPr>
              <a:t>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(х+6)(7-х)=0;    10) 13: у=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лина стороны прямоугольника на 4 см больше его ширины. Найдите стороны прямоугольника, если его площадь равна 60 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71360" cy="209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713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39640" y="476280"/>
            <a:ext cx="631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Если ты услышишь, что кто-то не любит математику, не верь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Её нельзя не любить - её можно только не знать.</a:t>
            </a:r>
            <a:r>
              <a:rPr b="0" i="1" lang="ru-RU" sz="4800" spc="-1" strike="noStrike">
                <a:solidFill>
                  <a:srgbClr val="cc33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RCTR142"/>
          <p:cNvPicPr/>
          <p:nvPr/>
        </p:nvPicPr>
        <p:blipFill>
          <a:blip r:embed="rId2"/>
          <a:stretch/>
        </p:blipFill>
        <p:spPr>
          <a:xfrm>
            <a:off x="6443640" y="2852640"/>
            <a:ext cx="248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755640" y="189000"/>
            <a:ext cx="792000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mic Sans MS"/>
              </a:rPr>
              <a:t>Исторические свед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Задачи на квадратные уравнения впервые встречаются в астрономическом трактате «Ариабхаттиам», составленном в 499г.  Индийским математиком и астрономом Ариабхат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Другой индийский ученый Брахмагупта (</a:t>
            </a: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VII</a:t>
            </a: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в) изложил общее правило решения квадратных уравнений, которое практически совпадает с современ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В Древней Индии были распространены публичные соревнования в решении трудных задач. В одной из старинных индийских книг говорится по поводу таких соревнований следующе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404640"/>
            <a:ext cx="828036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«Как солнце блеском своим затмевает звёзды, так учёный человек затмит славу другого в народных собраниях, предлагая и решая алгебраические зад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Задачи часто облекались в стихотворную форму. Вот одна из задач знаменитого индийского математика </a:t>
            </a: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XII</a:t>
            </a: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в. Бхаска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Обезъянок резвых 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Власть поевши, развлекалась.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Их в квадрате часть восьм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На поляне забавлялас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А двенадцать по лианам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Стали прыгать, повиса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Сколько ж было обезъя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Ты скажи мне, в этой стае?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1557360"/>
            <a:ext cx="25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ОЛНЫ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492360" y="1557360"/>
            <a:ext cx="2519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НЕПОЛНЫ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556000" y="333360"/>
            <a:ext cx="4032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1763640" y="692280"/>
            <a:ext cx="1152720" cy="865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4211640" y="692280"/>
            <a:ext cx="431640" cy="865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50920" y="2924280"/>
            <a:ext cx="27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≠ 0, </a:t>
            </a:r>
            <a:r>
              <a:rPr b="1" i="1" lang="en-US" sz="18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 ≠ 0,  с ≠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492360" y="2924280"/>
            <a:ext cx="2664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≠ 0, </a:t>
            </a:r>
            <a:r>
              <a:rPr b="1" i="1" lang="en-US" sz="18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 = 0, с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763640" y="2492280"/>
            <a:ext cx="0" cy="4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4788000" y="2492280"/>
            <a:ext cx="0" cy="4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50920" y="4076640"/>
            <a:ext cx="316872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+ 2х – 1 =0 – квадратное уравнение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3 – первый коэффициен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2 – второй коэффициен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-1 – свободный чл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708360" y="4076640"/>
            <a:ext cx="3024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Ес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0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≠0, то а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с =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Если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≠0, то а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=0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Если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, то а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1763640" y="3284640"/>
            <a:ext cx="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4788000" y="3284640"/>
            <a:ext cx="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588000" y="1557360"/>
            <a:ext cx="2305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ВЕДЕННЫ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6948360" y="2924280"/>
            <a:ext cx="157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 =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7093080" y="4076640"/>
            <a:ext cx="180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рх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6300720" y="692280"/>
            <a:ext cx="1079640" cy="865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7740720" y="2492280"/>
            <a:ext cx="0" cy="4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7740720" y="3284640"/>
            <a:ext cx="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187280" y="549360"/>
            <a:ext cx="662472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РЕШ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НЕПОЛНЫХ   КВАДРАТНЫХ  УРАВ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00000" y="2133720"/>
            <a:ext cx="15861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+с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708360" y="2133720"/>
            <a:ext cx="165744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с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+</a:t>
            </a:r>
            <a:r>
              <a:rPr b="1" i="1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х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516720" y="2133720"/>
            <a:ext cx="15843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,с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1258560" y="1413000"/>
            <a:ext cx="86508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9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588000" y="1413000"/>
            <a:ext cx="86364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50920" y="3409920"/>
            <a:ext cx="2881080" cy="30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1.Перенос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с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в правую часть урав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а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= -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Деление обеих частей уравнения на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а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= -с/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3.Если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–с/а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&gt;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0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-два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х</a:t>
            </a:r>
            <a:r>
              <a:rPr b="1" i="1" lang="ru-RU" sz="1400" spc="-1" strike="noStrike" baseline="-25000">
                <a:solidFill>
                  <a:srgbClr val="cc3300"/>
                </a:solidFill>
                <a:latin typeface="Comic Sans MS"/>
                <a:ea typeface="Arial"/>
              </a:rPr>
              <a:t>1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 =          и  х</a:t>
            </a:r>
            <a:r>
              <a:rPr b="1" i="1" lang="ru-RU" sz="1400" spc="-1" strike="noStrike" baseline="-25000">
                <a:solidFill>
                  <a:srgbClr val="cc3300"/>
                </a:solidFill>
                <a:latin typeface="Comic Sans MS"/>
                <a:ea typeface="Arial"/>
              </a:rPr>
              <a:t>2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 = 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Если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–с/а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&lt;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0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- нет решен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3348000" y="3573360"/>
            <a:ext cx="26640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Вынесение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за скоб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(ах + </a:t>
            </a:r>
            <a:r>
              <a:rPr b="1" i="1" lang="en-US" sz="14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)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   Разбиение уравн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на два равносильны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=0     и     ах + </a:t>
            </a:r>
            <a:r>
              <a:rPr b="1" i="1" lang="en-US" sz="14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3.  Два решения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0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и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-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/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300720" y="3573360"/>
            <a:ext cx="2519280" cy="149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1.Деление обеих частей уравнения на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Одно решение: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450072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161928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730872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71640" y="558972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56000" y="5589720"/>
            <a:ext cx="431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данных уравнений выбрать квадрат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250920" y="1125360"/>
            <a:ext cx="302580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вадратны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5796000" y="1197000"/>
            <a:ext cx="2879640" cy="1440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уги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авильный пятиугольник 5"/>
          <p:cNvSpPr/>
          <p:nvPr/>
        </p:nvSpPr>
        <p:spPr>
          <a:xfrm>
            <a:off x="0" y="3645000"/>
            <a:ext cx="1800360" cy="115236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2х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Блок-схема: альтернативный процесс 6"/>
          <p:cNvSpPr/>
          <p:nvPr/>
        </p:nvSpPr>
        <p:spPr>
          <a:xfrm>
            <a:off x="2124000" y="3213000"/>
            <a:ext cx="1584360" cy="86364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3х+7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араллелограмм 7"/>
          <p:cNvSpPr/>
          <p:nvPr/>
        </p:nvSpPr>
        <p:spPr>
          <a:xfrm>
            <a:off x="2050920" y="4724280"/>
            <a:ext cx="1944720" cy="936720"/>
          </a:xfrm>
          <a:prstGeom prst="parallelogram">
            <a:avLst>
              <a:gd name="adj" fmla="val 24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4х+3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с одним скругленным углом 8"/>
          <p:cNvSpPr/>
          <p:nvPr/>
        </p:nvSpPr>
        <p:spPr>
          <a:xfrm>
            <a:off x="395280" y="5300640"/>
            <a:ext cx="1297080" cy="93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5х+3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с одним вырезанным углом 9"/>
          <p:cNvSpPr/>
          <p:nvPr/>
        </p:nvSpPr>
        <p:spPr>
          <a:xfrm>
            <a:off x="5219640" y="3141720"/>
            <a:ext cx="1728720" cy="934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0,7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77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Шестиугольник 10"/>
          <p:cNvSpPr/>
          <p:nvPr/>
        </p:nvSpPr>
        <p:spPr>
          <a:xfrm>
            <a:off x="4427640" y="4365720"/>
            <a:ext cx="1152360" cy="792000"/>
          </a:xfrm>
          <a:prstGeom prst="hexagon">
            <a:avLst>
              <a:gd name="adj" fmla="val 25011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х-1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Табличка 11"/>
          <p:cNvSpPr/>
          <p:nvPr/>
        </p:nvSpPr>
        <p:spPr>
          <a:xfrm>
            <a:off x="7308720" y="3573360"/>
            <a:ext cx="1584360" cy="1150920"/>
          </a:xfrm>
          <a:custGeom>
            <a:avLst/>
            <a:gdLst>
              <a:gd name="textAreaLeft" fmla="*/ 103320 w 1584360"/>
              <a:gd name="textAreaRight" fmla="*/ 1481040 w 1584360"/>
              <a:gd name="textAreaTop" fmla="*/ 103320 h 1150920"/>
              <a:gd name="textAreaBottom" fmla="*/ 1047600 h 1150920"/>
            </a:gdLst>
            <a:ahLst/>
            <a:rect l="textAreaLeft" t="textAreaTop" r="textAreaRight" b="textAreaBottom"/>
            <a:pathLst>
              <a:path w="29732" h="21600">
                <a:moveTo>
                  <a:pt x="2743" y="0"/>
                </a:moveTo>
                <a:arcTo wR="2743" hR="2743" stAng="0" swAng="5400000"/>
                <a:lnTo>
                  <a:pt x="0" y="18857"/>
                </a:lnTo>
                <a:arcTo wR="2743" hR="2743" stAng="16200000" swAng="5400000"/>
                <a:lnTo>
                  <a:pt x="26989" y="21600"/>
                </a:lnTo>
                <a:arcTo wR="2743" hR="2743" stAng="10800000" swAng="5400000"/>
                <a:lnTo>
                  <a:pt x="29732" y="2743"/>
                </a:lnTo>
                <a:arcTo wR="2743" hR="2743" stAng="5400000" swAng="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-2х+1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емиугольник 12"/>
          <p:cNvSpPr/>
          <p:nvPr/>
        </p:nvSpPr>
        <p:spPr>
          <a:xfrm>
            <a:off x="5724360" y="4724280"/>
            <a:ext cx="1800360" cy="1441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0,9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3х-2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13"/>
          <p:cNvSpPr/>
          <p:nvPr/>
        </p:nvSpPr>
        <p:spPr>
          <a:xfrm>
            <a:off x="3635280" y="5589720"/>
            <a:ext cx="1728720" cy="93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 : х + 5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Ромб 14"/>
          <p:cNvSpPr/>
          <p:nvPr/>
        </p:nvSpPr>
        <p:spPr>
          <a:xfrm>
            <a:off x="7667640" y="5373720"/>
            <a:ext cx="1297080" cy="129528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C -0.05035 -0.07894 -0.10052 -0.15787 -0.12257 -0.1919 C -0.14462 -0.22593 -0.13073 -0.20185 -0.13212 -0.20463 E">
                                      <p:cBhvr>
                                        <p:cTn id="37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4.81481E-006 C -0.17084 -0.09004 -0.34202 -0.18009 -0.41042 -0.21597 E">
                                      <p:cBhvr>
                                        <p:cTn id="38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7.40741E-007 L 0.67726 -0.32546 E">
                                      <p:cBhvr>
                                        <p:cTn id="39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C 0.16736 -0.02014 0.33489 -0.04028 0.4118 -0.11274 C 0.48871 -0.18519 0.45347 -0.38125 0.4618 -0.43496 E">
                                      <p:cBhvr>
                                        <p:cTn id="40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4444E-006 C -0.05295 -0.08866 -0.10573 -0.17708 -0.07621 -0.24769 C -0.0467 -0.31829 0.06528 -0.37107 0.17743 -0.42384 E">
                                      <p:cBhvr>
                                        <p:cTn id="41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C 0.0092 -0.06968 0.0184 -0.13935 -0.04531 -0.15857 C -0.10903 -0.17778 -0.26996 -0.09352 -0.38212 -0.11574 C -0.49427 -0.13796 -0.60608 -0.21505 -0.71788 -0.2919 E">
                                      <p:cBhvr>
                                        <p:cTn id="41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0.2625 -0.00393 0.52518 -0.00787 0.55243 -0.03819 C 0.57969 -0.06851 0.16424 -0.12199 0.1632 -0.18263 C 0.16215 -0.24328 0.56146 -0.33541 0.54653 -0.40162 C 0.5316 -0.46782 0.30261 -0.52361 0.07379 -0.57939 E">
                                      <p:cBhvr>
                                        <p:cTn id="42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0.33074 -0.64051 E">
                                      <p:cBhvr>
                                        <p:cTn id="43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C -0.19913 0.02963 -0.39809 0.05926 -0.47379 0.01435 C -0.54948 -0.03056 -0.43715 -0.17593 -0.45469 -0.26991 C -0.47222 -0.36389 -0.55781 -0.50278 -0.57847 -0.54931 E">
                                      <p:cBhvr>
                                        <p:cTn id="44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C 0.00382 -0.13819 0.00781 -0.27616 -0.05469 -0.33009 C -0.11719 -0.38403 -0.26146 -0.26412 -0.375 -0.32384 C -0.48854 -0.38357 -0.61215 -0.53634 -0.73559 -0.68889 E">
                                      <p:cBhvr>
                                        <p:cTn id="45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17:02:36Z</dcterms:created>
  <dc:creator>Victoria</dc:creator>
  <dc:description/>
  <dc:language>en-US</dc:language>
  <cp:lastModifiedBy>Admin</cp:lastModifiedBy>
  <dcterms:modified xsi:type="dcterms:W3CDTF">2014-01-20T07:19:35Z</dcterms:modified>
  <cp:revision>54</cp:revision>
  <dc:subject/>
  <dc:title>Квадратные уравнения. Неполные квадратные уравн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4140</vt:lpwstr>
  </property>
</Properties>
</file>