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2.jpeg" ContentType="image/jpeg"/>
  <Override PartName="/ppt/media/image9.png" ContentType="image/png"/>
  <Override PartName="/ppt/media/%D0%94%D0%B5%D1%82%D1%81%D0%BA%D0%B8%D0%B5%20=%20%D0%97%D0%B2%D0%B5%D1%80%D0%BE%D0%B1%D0%B8%D0%BA%D0%B0_CUT.wav" ContentType="audio/x-wav"/>
  <Override PartName="/ppt/media/image14.jpeg" ContentType="image/jpeg"/>
  <Override PartName="/ppt/media/image19.gif" ContentType="image/gif"/>
  <Override PartName="/ppt/media/image7.gif" ContentType="image/gif"/>
  <Override PartName="/ppt/media/image5.jpeg" ContentType="image/jpeg"/>
  <Override PartName="/ppt/media/image35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20.gif" ContentType="image/gif"/>
  <Override PartName="/ppt/media/image23.png" ContentType="image/png"/>
  <Override PartName="/ppt/media/image11.jpeg" ContentType="image/jpeg"/>
  <Override PartName="/ppt/media/image29.png" ContentType="image/png"/>
  <Override PartName="/ppt/media/image6.png" ContentType="image/png"/>
  <Override PartName="/ppt/media/image30.jpeg" ContentType="image/jpeg"/>
  <Override PartName="/ppt/media/image24.jpeg" ContentType="image/jpeg"/>
  <Override PartName="/ppt/media/image34.jpeg" ContentType="image/jpeg"/>
  <Override PartName="/ppt/media/image12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B1D-7260-4A84-B449-D6937EAB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4A99-E828-4030-9837-67AB121E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86BE-5658-4BC4-8E5A-DA38BCB3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8EB-93E7-46BE-8056-C0AEC7CD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774F-7100-462E-B907-F47BC033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46E2-7153-49A9-ABD0-F9DCCF16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8568-5040-486C-9D0F-EBE33B3E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8179-1329-4741-9C97-E4030CAA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7455-87BB-47A0-B871-6FF35E93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CFCC-B66A-490F-A195-8104F819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F4A1-0051-427F-9011-DEC720CF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C1D-270A-4EB7-80CC-B1586B52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4B23-2F14-4D31-9F65-999A48C8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D35C-3625-4A8F-A004-73B0DDA1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3211-85C0-4EAB-98B3-FB6C6E8E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CEB6-94F8-43EE-B308-434E8755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1A90-F6EA-45A2-A4DA-3D6FD61C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1D0-F42A-414D-A69A-0B887DAF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331-0DCF-459B-B1C9-83C9CCBA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FDB7-C0B8-461D-B6D0-5198474F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ABB-F6FC-4C16-A27A-18D9797D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E2B-6287-4FDC-B206-C11546D6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3A7-2153-4DC1-B621-55B09DDF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705-EF1E-477F-90C6-9F517436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BF41-7001-410A-BE4D-71A33651B3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40B9-FD0E-4B03-82C0-BE40910919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hyperlink" Target="file:///C:/Documents%20and%20Settings/&#1040;&#1076;&#1084;&#1080;&#1085;&#1080;&#1089;&#1090;&#1088;&#1072;&#1090;&#1086;&#1088;/&#1056;&#1072;&#1073;&#1086;&#1095;&#1080;&#1081;%20&#1089;&#1090;&#1086;&#1083;/trenazher_dlya_glaz.ppsx" TargetMode="External"/><Relationship Id="rId7" Type="http://schemas.openxmlformats.org/officeDocument/2006/relationships/audio" Target="../media/&#1044;&#1077;&#1090;&#1089;&#1082;&#1080;&#1077;%20=%20&#1047;&#1074;&#1077;&#1088;&#1086;&#1073;&#1080;&#1082;&#1072;_CUT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993600" y="2066760"/>
            <a:ext cx="7473960" cy="1798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842920" y="5300640"/>
            <a:ext cx="4065480" cy="5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5 клас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1689120" y="42840"/>
            <a:ext cx="6199200" cy="1017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Картинка 3 из 27492"/>
          <p:cNvPicPr/>
          <p:nvPr/>
        </p:nvPicPr>
        <p:blipFill>
          <a:blip r:embed="rId3"/>
          <a:stretch/>
        </p:blipFill>
        <p:spPr>
          <a:xfrm>
            <a:off x="684360" y="1095480"/>
            <a:ext cx="84470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2"/>
          <a:stretch/>
        </p:blipFill>
        <p:spPr>
          <a:xfrm>
            <a:off x="781200" y="-6480"/>
            <a:ext cx="824040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68000" y="981000"/>
            <a:ext cx="8248680" cy="56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ысота первой ракеты 5,5 м, вторая на 14,7 м длиннее первой, а третья на 5,2 м короче второй. Найдите длину второй и третьей раке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Ракета пролетела 24000км , что составляет 0,4 всего пути. Сколько километров ей осталось пролете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Солнце вращается вокруг своей оси 25 суток, а Юпитер -10 часов. Какую часть составляет время вращения Юпитера от времени вращения Солнц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684360" y="1268280"/>
            <a:ext cx="4464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се движения разми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торяем без запинки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й! Попрыгали на мест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х! Руками машем вмест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хе — хе! Прогнули спинк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мотрели на ботинк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ге – ге! Нагнулись ниж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Наклонились к полу ближ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ертись на месте ловко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 этом нам нужна сноров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то, понравилось, дружок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Завтра будет вновь урок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E:\Documents and Settings\Admin\Рабочий стол\анимация спорт\рис png\ED2492.png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E:\Documents and Settings\Admin\Рабочий стол\анимация спорт\22636f6e300261040819fdb90db73e67.gif"/>
          <p:cNvPicPr/>
          <p:nvPr/>
        </p:nvPicPr>
        <p:blipFill>
          <a:blip r:embed="rId3"/>
          <a:stretch/>
        </p:blipFill>
        <p:spPr>
          <a:xfrm>
            <a:off x="4952880" y="1371600"/>
            <a:ext cx="743040" cy="114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E:\Documents and Settings\Admin\Рабочий стол\анимация спорт\82829c2cd34365953ab44b0c118fb099.gif"/>
          <p:cNvPicPr/>
          <p:nvPr/>
        </p:nvPicPr>
        <p:blipFill>
          <a:blip r:embed="rId4"/>
          <a:stretch/>
        </p:blipFill>
        <p:spPr>
          <a:xfrm>
            <a:off x="5791320" y="0"/>
            <a:ext cx="1164960" cy="148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5"/>
          <a:stretch/>
        </p:blipFill>
        <p:spPr>
          <a:xfrm>
            <a:off x="-828720" y="0"/>
            <a:ext cx="6396120" cy="974880"/>
          </a:xfrm>
          <a:prstGeom prst="rect">
            <a:avLst/>
          </a:prstGeom>
          <a:ln w="0">
            <a:noFill/>
          </a:ln>
        </p:spPr>
      </p:pic>
      <p:sp>
        <p:nvSpPr>
          <p:cNvPr id="127" name="Управляющая кнопка: фильм 1">
            <a:hlinkClick r:id="rId6"/>
          </p:cNvPr>
          <p:cNvSpPr/>
          <p:nvPr/>
        </p:nvSpPr>
        <p:spPr>
          <a:xfrm>
            <a:off x="826920" y="6021360"/>
            <a:ext cx="1297080" cy="792360"/>
          </a:xfrm>
          <a:custGeom>
            <a:avLst/>
            <a:gdLst>
              <a:gd name="textAreaLeft" fmla="*/ 51120 w 1297080"/>
              <a:gd name="textAreaRight" fmla="*/ 1245960 w 12970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35353" h="21600">
                <a:moveTo>
                  <a:pt x="0" y="0"/>
                </a:moveTo>
                <a:lnTo>
                  <a:pt x="35353" y="0"/>
                </a:lnTo>
                <a:lnTo>
                  <a:pt x="35353" y="21600"/>
                </a:lnTo>
                <a:lnTo>
                  <a:pt x="0" y="21600"/>
                </a:lnTo>
                <a:close/>
              </a:path>
              <a:path fill="lightenLess" w="35353" h="21600">
                <a:moveTo>
                  <a:pt x="0" y="0"/>
                </a:moveTo>
                <a:lnTo>
                  <a:pt x="35353" y="0"/>
                </a:lnTo>
                <a:lnTo>
                  <a:pt x="33953" y="1400"/>
                </a:lnTo>
                <a:lnTo>
                  <a:pt x="1400" y="1400"/>
                </a:lnTo>
                <a:close/>
              </a:path>
              <a:path fill="darken" w="35353" h="21600">
                <a:moveTo>
                  <a:pt x="35353" y="0"/>
                </a:moveTo>
                <a:lnTo>
                  <a:pt x="35353" y="21600"/>
                </a:lnTo>
                <a:lnTo>
                  <a:pt x="33953" y="20200"/>
                </a:lnTo>
                <a:lnTo>
                  <a:pt x="33953" y="1400"/>
                </a:lnTo>
                <a:close/>
              </a:path>
              <a:path fill="darkenLess" w="35353" h="21600">
                <a:moveTo>
                  <a:pt x="35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53" y="20200"/>
                </a:lnTo>
                <a:close/>
              </a:path>
              <a:path fill="lighten" w="35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53" h="21600">
                <a:moveTo>
                  <a:pt x="10670" y="7301"/>
                </a:moveTo>
                <a:lnTo>
                  <a:pt x="11584" y="7301"/>
                </a:lnTo>
                <a:lnTo>
                  <a:pt x="11967" y="7667"/>
                </a:lnTo>
                <a:lnTo>
                  <a:pt x="21175" y="7667"/>
                </a:lnTo>
                <a:lnTo>
                  <a:pt x="21732" y="8224"/>
                </a:lnTo>
                <a:lnTo>
                  <a:pt x="21732" y="8772"/>
                </a:lnTo>
                <a:lnTo>
                  <a:pt x="23577" y="8772"/>
                </a:lnTo>
                <a:lnTo>
                  <a:pt x="23943" y="8224"/>
                </a:lnTo>
                <a:lnTo>
                  <a:pt x="24683" y="8224"/>
                </a:lnTo>
                <a:lnTo>
                  <a:pt x="24683" y="13376"/>
                </a:lnTo>
                <a:lnTo>
                  <a:pt x="23943" y="13376"/>
                </a:lnTo>
                <a:lnTo>
                  <a:pt x="23577" y="12828"/>
                </a:lnTo>
                <a:lnTo>
                  <a:pt x="21732" y="12828"/>
                </a:lnTo>
                <a:lnTo>
                  <a:pt x="21732" y="14107"/>
                </a:lnTo>
                <a:lnTo>
                  <a:pt x="12149" y="14107"/>
                </a:lnTo>
                <a:lnTo>
                  <a:pt x="12149" y="9877"/>
                </a:lnTo>
                <a:lnTo>
                  <a:pt x="11967" y="9877"/>
                </a:lnTo>
                <a:lnTo>
                  <a:pt x="11584" y="10243"/>
                </a:lnTo>
                <a:lnTo>
                  <a:pt x="10670" y="1024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2"/>
          <a:stretch/>
        </p:blipFill>
        <p:spPr>
          <a:xfrm>
            <a:off x="536400" y="208080"/>
            <a:ext cx="360864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2"/>
          <a:stretch/>
        </p:blipFill>
        <p:spPr>
          <a:xfrm>
            <a:off x="244440" y="-36360"/>
            <a:ext cx="469260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2"/>
          <a:stretch/>
        </p:blipFill>
        <p:spPr>
          <a:xfrm>
            <a:off x="66600" y="-152280"/>
            <a:ext cx="51213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212760" y="189000"/>
            <a:ext cx="4808520" cy="6553080"/>
          </a:xfrm>
          <a:prstGeom prst="rect">
            <a:avLst/>
          </a:prstGeom>
          <a:ln w="0">
            <a:noFill/>
          </a:ln>
        </p:spPr>
      </p:pic>
      <p:sp>
        <p:nvSpPr>
          <p:cNvPr id="132" name="Скругленный прямоугольник 3"/>
          <p:cNvSpPr/>
          <p:nvPr/>
        </p:nvSpPr>
        <p:spPr>
          <a:xfrm>
            <a:off x="5307120" y="981000"/>
            <a:ext cx="1079280" cy="71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5"/>
          <p:cNvSpPr/>
          <p:nvPr/>
        </p:nvSpPr>
        <p:spPr>
          <a:xfrm>
            <a:off x="5307120" y="1790640"/>
            <a:ext cx="1079280" cy="71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6"/>
          <p:cNvSpPr/>
          <p:nvPr/>
        </p:nvSpPr>
        <p:spPr>
          <a:xfrm>
            <a:off x="5311800" y="3429000"/>
            <a:ext cx="107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7"/>
          <p:cNvSpPr/>
          <p:nvPr/>
        </p:nvSpPr>
        <p:spPr>
          <a:xfrm>
            <a:off x="5307120" y="2606760"/>
            <a:ext cx="107928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8"/>
          <p:cNvSpPr/>
          <p:nvPr/>
        </p:nvSpPr>
        <p:spPr>
          <a:xfrm>
            <a:off x="5305320" y="4319640"/>
            <a:ext cx="1081080" cy="718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9"/>
          <p:cNvSpPr/>
          <p:nvPr/>
        </p:nvSpPr>
        <p:spPr>
          <a:xfrm>
            <a:off x="5305320" y="5157720"/>
            <a:ext cx="1081080" cy="71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10"/>
          <p:cNvSpPr/>
          <p:nvPr/>
        </p:nvSpPr>
        <p:spPr>
          <a:xfrm>
            <a:off x="5305320" y="6021360"/>
            <a:ext cx="108108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4"/>
          <p:cNvSpPr/>
          <p:nvPr/>
        </p:nvSpPr>
        <p:spPr>
          <a:xfrm>
            <a:off x="5148360" y="765000"/>
            <a:ext cx="1439640" cy="102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7,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12"/>
          <p:cNvSpPr/>
          <p:nvPr/>
        </p:nvSpPr>
        <p:spPr>
          <a:xfrm>
            <a:off x="5126040" y="2454120"/>
            <a:ext cx="1440000" cy="102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7,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3"/>
          <p:cNvSpPr/>
          <p:nvPr/>
        </p:nvSpPr>
        <p:spPr>
          <a:xfrm>
            <a:off x="5126040" y="1638360"/>
            <a:ext cx="1440000" cy="102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11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14"/>
          <p:cNvSpPr/>
          <p:nvPr/>
        </p:nvSpPr>
        <p:spPr>
          <a:xfrm>
            <a:off x="5148360" y="3287880"/>
            <a:ext cx="1439640" cy="102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11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15"/>
          <p:cNvSpPr/>
          <p:nvPr/>
        </p:nvSpPr>
        <p:spPr>
          <a:xfrm>
            <a:off x="5138640" y="4160880"/>
            <a:ext cx="1440000" cy="102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1,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16"/>
          <p:cNvSpPr/>
          <p:nvPr/>
        </p:nvSpPr>
        <p:spPr>
          <a:xfrm>
            <a:off x="5126040" y="4989600"/>
            <a:ext cx="1440000" cy="102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45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17"/>
          <p:cNvSpPr/>
          <p:nvPr/>
        </p:nvSpPr>
        <p:spPr>
          <a:xfrm>
            <a:off x="5126040" y="5877000"/>
            <a:ext cx="1440000" cy="102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24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8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1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heel(2)" transition="out">
                                      <p:cBhvr additive="repl">
                                        <p:cTn id="8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0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11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11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2880000" cy="2406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3"/>
          <a:stretch/>
        </p:blipFill>
        <p:spPr>
          <a:xfrm>
            <a:off x="3830760" y="2019240"/>
            <a:ext cx="2181240" cy="2136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4"/>
          <a:stretch/>
        </p:blipFill>
        <p:spPr>
          <a:xfrm>
            <a:off x="1835280" y="4292640"/>
            <a:ext cx="2520720" cy="19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5"/>
          <a:stretch/>
        </p:blipFill>
        <p:spPr>
          <a:xfrm>
            <a:off x="6618240" y="1413000"/>
            <a:ext cx="2260800" cy="1800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6"/>
          <a:stretch/>
        </p:blipFill>
        <p:spPr>
          <a:xfrm>
            <a:off x="6084720" y="3784680"/>
            <a:ext cx="19432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2"/>
          <p:cNvSpPr/>
          <p:nvPr/>
        </p:nvSpPr>
        <p:spPr>
          <a:xfrm>
            <a:off x="2124000" y="1390680"/>
            <a:ext cx="624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Математика - это язык, на котором написана книга прир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4696200" y="50846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(Г. Галиле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Картинка 6 из 77115"/>
          <p:cNvPicPr/>
          <p:nvPr/>
        </p:nvPicPr>
        <p:blipFill>
          <a:blip r:embed="rId2"/>
          <a:stretch/>
        </p:blipFill>
        <p:spPr>
          <a:xfrm>
            <a:off x="611280" y="2492280"/>
            <a:ext cx="25495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2"/>
          <a:stretch/>
        </p:blipFill>
        <p:spPr>
          <a:xfrm>
            <a:off x="390600" y="109440"/>
            <a:ext cx="8345520" cy="12812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"/>
          <p:cNvPicPr/>
          <p:nvPr/>
        </p:nvPicPr>
        <p:blipFill>
          <a:blip r:embed="rId3"/>
          <a:stretch/>
        </p:blipFill>
        <p:spPr>
          <a:xfrm>
            <a:off x="2770200" y="2565360"/>
            <a:ext cx="345132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1182600" y="-244440"/>
            <a:ext cx="7790040" cy="148752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2"/>
          <p:cNvSpPr/>
          <p:nvPr/>
        </p:nvSpPr>
        <p:spPr>
          <a:xfrm>
            <a:off x="2843280" y="1268280"/>
            <a:ext cx="3600360" cy="5185080"/>
          </a:xfrm>
          <a:custGeom>
            <a:avLst/>
            <a:gdLst>
              <a:gd name="textAreaLeft" fmla="*/ 175680 w 3600360"/>
              <a:gd name="textAreaRight" fmla="*/ 3424680 w 3600360"/>
              <a:gd name="textAreaTop" fmla="*/ 175680 h 5185080"/>
              <a:gd name="textAreaBottom" fmla="*/ 5009400 h 5185080"/>
            </a:gdLst>
            <a:ahLst/>
            <a:rect l="textAreaLeft" t="textAreaTop" r="textAreaRight" b="textAreaBottom"/>
            <a:pathLst>
              <a:path w="21600" h="31106">
                <a:moveTo>
                  <a:pt x="3600" y="0"/>
                </a:moveTo>
                <a:arcTo wR="3600" hR="3600" stAng="16200000" swAng="-5400000"/>
                <a:lnTo>
                  <a:pt x="0" y="27506"/>
                </a:lnTo>
                <a:arcTo wR="3600" hR="3600" stAng="10800000" swAng="-5400000"/>
                <a:lnTo>
                  <a:pt x="18000" y="31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2,5+0,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70,6-5,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,4*10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23,9: 0,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6,45+4,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55-3,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4,6*100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78,9:10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Скругленный прямоугольник 3"/>
          <p:cNvSpPr/>
          <p:nvPr/>
        </p:nvSpPr>
        <p:spPr>
          <a:xfrm>
            <a:off x="2411280" y="44280"/>
            <a:ext cx="3998880" cy="5185080"/>
          </a:xfrm>
          <a:custGeom>
            <a:avLst/>
            <a:gdLst>
              <a:gd name="textAreaLeft" fmla="*/ 195120 w 3998880"/>
              <a:gd name="textAreaRight" fmla="*/ 3803760 w 3998880"/>
              <a:gd name="textAreaTop" fmla="*/ 195120 h 5185080"/>
              <a:gd name="textAreaBottom" fmla="*/ 4989960 h 5185080"/>
            </a:gdLst>
            <a:ahLst/>
            <a:rect l="textAreaLeft" t="textAreaTop" r="textAreaRight" b="textAreaBottom"/>
            <a:pathLst>
              <a:path w="21600" h="28007">
                <a:moveTo>
                  <a:pt x="3600" y="0"/>
                </a:moveTo>
                <a:arcTo wR="3600" hR="3600" stAng="16200000" swAng="-5400000"/>
                <a:lnTo>
                  <a:pt x="0" y="24407"/>
                </a:lnTo>
                <a:arcTo wR="3600" hR="3600" stAng="10800000" swAng="-5400000"/>
                <a:lnTo>
                  <a:pt x="18000" y="28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2,5+0,5=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70,6-5,4=65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,4*10=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23,9: 0,1=12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6,45+4,5=10,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55-3,4=51,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4,6*100=4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78,9:10=7,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539640" y="5924520"/>
            <a:ext cx="2664000" cy="932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СТР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3635280" y="5924520"/>
            <a:ext cx="2521080" cy="933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ПУТ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6510240" y="5924520"/>
            <a:ext cx="2627280" cy="933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ОСМО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2"/>
          <a:srcRect l="0" t="0" r="0" b="-86"/>
          <a:stretch/>
        </p:blipFill>
        <p:spPr>
          <a:xfrm>
            <a:off x="4589640" y="3716280"/>
            <a:ext cx="4554360" cy="3141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4335480" y="115920"/>
            <a:ext cx="4425840" cy="3321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rcRect l="0" t="0" r="-36" b="-20"/>
          <a:stretch/>
        </p:blipFill>
        <p:spPr>
          <a:xfrm>
            <a:off x="611280" y="3068640"/>
            <a:ext cx="374472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edea9fdb33ace4a5450faac6cc8c.3gp" descr=""/>
          <p:cNvPicPr/>
          <p:nvPr/>
        </p:nvPicPr>
        <p:blipFill>
          <a:blip r:embed="rId2"/>
          <a:stretch/>
        </p:blipFill>
        <p:spPr>
          <a:xfrm>
            <a:off x="1166760" y="1101600"/>
            <a:ext cx="729288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5640" y="183960"/>
            <a:ext cx="7612200" cy="87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0" name="AutoShape 10"/>
          <p:cNvSpPr/>
          <p:nvPr/>
        </p:nvSpPr>
        <p:spPr>
          <a:xfrm rot="20767800">
            <a:off x="463320" y="1318680"/>
            <a:ext cx="2338200" cy="1839960"/>
          </a:xfrm>
          <a:prstGeom prst="irregularSeal1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6029280" y="1450800"/>
            <a:ext cx="2259000" cy="2016360"/>
          </a:xfrm>
          <a:prstGeom prst="irregularSeal1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 rot="667200">
            <a:off x="5970240" y="4258800"/>
            <a:ext cx="2859120" cy="2384640"/>
          </a:xfrm>
          <a:prstGeom prst="irregularSeal1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2959200" y="4913280"/>
            <a:ext cx="2232000" cy="1944720"/>
          </a:xfrm>
          <a:prstGeom prst="irregularSeal1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6443640" y="2168640"/>
            <a:ext cx="150012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БОДЬ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 rot="20219400">
            <a:off x="852120" y="2025720"/>
            <a:ext cx="142704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ЛСЧО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 rot="1624200">
            <a:off x="6270480" y="5204880"/>
            <a:ext cx="2259000" cy="4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ЕОМЕЖУ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 rot="20767800">
            <a:off x="174600" y="3533760"/>
            <a:ext cx="2830680" cy="2179800"/>
          </a:xfrm>
          <a:prstGeom prst="irregularSeal1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21121800">
            <a:off x="3106800" y="2436480"/>
            <a:ext cx="2779560" cy="1992240"/>
          </a:xfrm>
          <a:prstGeom prst="irregularSeal1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432480" y="2168640"/>
            <a:ext cx="150012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Р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 rot="20250600">
            <a:off x="923760" y="1968120"/>
            <a:ext cx="1333800" cy="42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 rot="1624200">
            <a:off x="6270480" y="5227200"/>
            <a:ext cx="2259000" cy="4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УМН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 rot="20652000">
            <a:off x="495360" y="4294080"/>
            <a:ext cx="225900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ЖНИЛЕТЬ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 rot="20568600">
            <a:off x="504360" y="4311360"/>
            <a:ext cx="222084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НОЖ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3149640" y="5694480"/>
            <a:ext cx="222084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СААДРК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173400" y="5694480"/>
            <a:ext cx="222084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КАФАН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3606840" y="3247920"/>
            <a:ext cx="17334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ЧО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3606840" y="3259080"/>
            <a:ext cx="173340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ЧАС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6:21:29Z</dcterms:created>
  <dc:creator>Comp</dc:creator>
  <dc:description/>
  <dc:language>en-US</dc:language>
  <cp:lastModifiedBy>Admin</cp:lastModifiedBy>
  <dcterms:modified xsi:type="dcterms:W3CDTF">2013-10-18T08:29:30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46000000000001024140</vt:lpwstr>
  </property>
</Properties>
</file>