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jpeg" ContentType="image/jpeg"/>
  <Override PartName="/ppt/media/image9.png" ContentType="image/png"/>
  <Override PartName="/ppt/media/%D0%94%D0%B5%D1%82%D1%81%D0%BA%D0%B8%D0%B5%20=%20%D0%97%D0%B2%D0%B5%D1%80%D0%BE%D0%B1%D0%B8%D0%BA%D0%B0_CUT.wav" ContentType="audio/x-wav"/>
  <Override PartName="/ppt/media/image14.jpeg" ContentType="image/jpeg"/>
  <Override PartName="/ppt/media/image19.gif" ContentType="image/gif"/>
  <Override PartName="/ppt/media/image7.gif" ContentType="image/gif"/>
  <Override PartName="/ppt/media/image5.jpeg" ContentType="image/jpeg"/>
  <Override PartName="/ppt/media/image35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11.jpeg" ContentType="image/jpeg"/>
  <Override PartName="/ppt/media/image29.png" ContentType="image/png"/>
  <Override PartName="/ppt/media/image6.png" ContentType="image/png"/>
  <Override PartName="/ppt/media/image30.jpeg" ContentType="image/jpeg"/>
  <Override PartName="/ppt/media/image24.jpeg" ContentType="image/jpeg"/>
  <Override PartName="/ppt/media/image34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8C9-8C79-4888-AEF4-C43A70CC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FA6-5DAC-4628-9F38-FBA9FB29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AA2-E7A1-4497-8F2A-188B995D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0BB-DC61-4792-9980-F04ECA9F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A133-EBBE-4BA3-8A74-76483D2D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5254-9E36-4BC5-8A54-0BE28380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377A-4F84-415C-A156-D61460C2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BE74-1C9F-4A15-AFE6-FC362572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D706-67FF-48C2-AB92-9D9DDD87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5854-723D-4ABA-B8EA-E73B7C72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2672-A7ED-4198-9BFA-8EC63E4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436-5FDD-4D0D-ADE6-75758037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A786-32C0-440D-B8FD-C360598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3BAA-F3A5-43C7-9775-46E69DDD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6D5C-F7AC-48B8-8BA2-B9C6462D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0977-0665-43E6-84D0-7655EB5C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89BC-A5B2-448C-B219-8D095F70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54D-0496-4489-BBFD-8061D3BE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D7D-8F6D-48B3-B068-90625468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F5B-AFB8-4AF9-B4F2-9D28F4D6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940-C192-4C8C-9C43-9ECDA593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8B7-B428-4BB8-947A-C679AD6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232-CE41-4E73-977B-995D51B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47A-3EE1-44E5-BC2C-BF04165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99B2-25DC-449A-829C-C7F38E57F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B6A3-0481-42D4-9831-D7D15E612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hyperlink" Target="file:///C:/Documents%20and%20Settings/&#1040;&#1076;&#1084;&#1080;&#1085;&#1080;&#1089;&#1090;&#1088;&#1072;&#1090;&#1086;&#1088;/&#1056;&#1072;&#1073;&#1086;&#1095;&#1080;&#1081;%20&#1089;&#1090;&#1086;&#1083;/trenazher_dlya_glaz.ppsx" TargetMode="External"/><Relationship Id="rId7" Type="http://schemas.openxmlformats.org/officeDocument/2006/relationships/audio" Target="../media/&#1044;&#1077;&#1090;&#1089;&#1082;&#1080;&#1077;%20=%20&#1047;&#1074;&#1077;&#1088;&#1086;&#1073;&#1080;&#1082;&#1072;_CUT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993600" y="2066760"/>
            <a:ext cx="7473960" cy="1798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42920" y="5300640"/>
            <a:ext cx="406548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1689120" y="42840"/>
            <a:ext cx="6199200" cy="101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Картинка 3 из 27492"/>
          <p:cNvPicPr/>
          <p:nvPr/>
        </p:nvPicPr>
        <p:blipFill>
          <a:blip r:embed="rId3"/>
          <a:stretch/>
        </p:blipFill>
        <p:spPr>
          <a:xfrm>
            <a:off x="684360" y="1095480"/>
            <a:ext cx="8447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8000" y="981000"/>
            <a:ext cx="824868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ысота первой ракеты 5,5 м, вторая на 14,7 м длиннее первой, а третья на 5,2 м короче второй. Найдите длину второй и третьей рак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Ракета пролетела 24000км , что составляет 0,4 всего пути. Сколько километров ей осталось пролете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олнце вращается вокруг своей оси 25 суток, а Юпитер -10 часов. Какую часть составляет время вращения Юпитера от времени вращения Солнц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84360" y="1268280"/>
            <a:ext cx="446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се движения разм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торяем без запинк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й! Попрыгали на мест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х! Руками машем вмест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хе — хе! Прогнули спин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мотрели на ботин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ге – ге! Нагнулись ниж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клонились к полу ближ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ертись на месте ловк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этом нам нужна сноров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, понравилось, дружо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втра будет вновь урок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E:\Documents and Settings\Admin\Рабочий стол\анимация спорт\рис png\ED2492.png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:\Documents and Settings\Admin\Рабочий стол\анимация спорт\22636f6e300261040819fdb90db73e67.gif"/>
          <p:cNvPicPr/>
          <p:nvPr/>
        </p:nvPicPr>
        <p:blipFill>
          <a:blip r:embed="rId3"/>
          <a:stretch/>
        </p:blipFill>
        <p:spPr>
          <a:xfrm>
            <a:off x="4952880" y="137160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E:\Documents and Settings\Admin\Рабочий стол\анимация спорт\82829c2cd34365953ab44b0c118fb099.gif"/>
          <p:cNvPicPr/>
          <p:nvPr/>
        </p:nvPicPr>
        <p:blipFill>
          <a:blip r:embed="rId4"/>
          <a:stretch/>
        </p:blipFill>
        <p:spPr>
          <a:xfrm>
            <a:off x="5791320" y="0"/>
            <a:ext cx="1164960" cy="14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-828720" y="0"/>
            <a:ext cx="6396120" cy="97488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фильм 1">
            <a:hlinkClick r:id="rId6"/>
          </p:cNvPr>
          <p:cNvSpPr/>
          <p:nvPr/>
        </p:nvSpPr>
        <p:spPr>
          <a:xfrm>
            <a:off x="826920" y="6021360"/>
            <a:ext cx="1297080" cy="792360"/>
          </a:xfrm>
          <a:custGeom>
            <a:avLst/>
            <a:gdLst>
              <a:gd name="textAreaLeft" fmla="*/ 51120 w 1297080"/>
              <a:gd name="textAreaRight" fmla="*/ 1245960 w 1297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5353" h="21600">
                <a:moveTo>
                  <a:pt x="0" y="0"/>
                </a:moveTo>
                <a:lnTo>
                  <a:pt x="35353" y="0"/>
                </a:lnTo>
                <a:lnTo>
                  <a:pt x="35353" y="21600"/>
                </a:lnTo>
                <a:lnTo>
                  <a:pt x="0" y="21600"/>
                </a:lnTo>
                <a:close/>
              </a:path>
              <a:path fill="lightenLess" w="35353" h="21600">
                <a:moveTo>
                  <a:pt x="0" y="0"/>
                </a:moveTo>
                <a:lnTo>
                  <a:pt x="35353" y="0"/>
                </a:lnTo>
                <a:lnTo>
                  <a:pt x="33953" y="1400"/>
                </a:lnTo>
                <a:lnTo>
                  <a:pt x="1400" y="1400"/>
                </a:lnTo>
                <a:close/>
              </a:path>
              <a:path fill="darken" w="35353" h="21600">
                <a:moveTo>
                  <a:pt x="35353" y="0"/>
                </a:moveTo>
                <a:lnTo>
                  <a:pt x="35353" y="21600"/>
                </a:lnTo>
                <a:lnTo>
                  <a:pt x="33953" y="20200"/>
                </a:lnTo>
                <a:lnTo>
                  <a:pt x="33953" y="1400"/>
                </a:lnTo>
                <a:close/>
              </a:path>
              <a:path fill="darkenLess" w="35353" h="21600">
                <a:moveTo>
                  <a:pt x="35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3" y="20200"/>
                </a:lnTo>
                <a:close/>
              </a:path>
              <a:path fill="lighten" w="35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53" h="21600">
                <a:moveTo>
                  <a:pt x="10670" y="7301"/>
                </a:moveTo>
                <a:lnTo>
                  <a:pt x="11584" y="7301"/>
                </a:lnTo>
                <a:lnTo>
                  <a:pt x="11967" y="7667"/>
                </a:lnTo>
                <a:lnTo>
                  <a:pt x="21175" y="7667"/>
                </a:lnTo>
                <a:lnTo>
                  <a:pt x="21732" y="8224"/>
                </a:lnTo>
                <a:lnTo>
                  <a:pt x="21732" y="8772"/>
                </a:lnTo>
                <a:lnTo>
                  <a:pt x="23577" y="8772"/>
                </a:lnTo>
                <a:lnTo>
                  <a:pt x="23943" y="8224"/>
                </a:lnTo>
                <a:lnTo>
                  <a:pt x="24683" y="8224"/>
                </a:lnTo>
                <a:lnTo>
                  <a:pt x="24683" y="13376"/>
                </a:lnTo>
                <a:lnTo>
                  <a:pt x="23943" y="13376"/>
                </a:lnTo>
                <a:lnTo>
                  <a:pt x="23577" y="12828"/>
                </a:lnTo>
                <a:lnTo>
                  <a:pt x="21732" y="12828"/>
                </a:lnTo>
                <a:lnTo>
                  <a:pt x="21732" y="14107"/>
                </a:lnTo>
                <a:lnTo>
                  <a:pt x="12149" y="14107"/>
                </a:lnTo>
                <a:lnTo>
                  <a:pt x="12149" y="9877"/>
                </a:lnTo>
                <a:lnTo>
                  <a:pt x="11967" y="9877"/>
                </a:lnTo>
                <a:lnTo>
                  <a:pt x="11584" y="10243"/>
                </a:lnTo>
                <a:lnTo>
                  <a:pt x="10670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536400" y="208080"/>
            <a:ext cx="3608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244440" y="-36360"/>
            <a:ext cx="46926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66600" y="-152280"/>
            <a:ext cx="512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12760" y="189000"/>
            <a:ext cx="4808520" cy="6553080"/>
          </a:xfrm>
          <a:prstGeom prst="rect">
            <a:avLst/>
          </a:prstGeom>
          <a:ln w="0">
            <a:noFill/>
          </a:ln>
        </p:spPr>
      </p:pic>
      <p:sp>
        <p:nvSpPr>
          <p:cNvPr id="132" name="Скругленный прямоугольник 3"/>
          <p:cNvSpPr/>
          <p:nvPr/>
        </p:nvSpPr>
        <p:spPr>
          <a:xfrm>
            <a:off x="5307120" y="98100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5307120" y="179064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6"/>
          <p:cNvSpPr/>
          <p:nvPr/>
        </p:nvSpPr>
        <p:spPr>
          <a:xfrm>
            <a:off x="5311800" y="342900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7"/>
          <p:cNvSpPr/>
          <p:nvPr/>
        </p:nvSpPr>
        <p:spPr>
          <a:xfrm>
            <a:off x="5307120" y="2606760"/>
            <a:ext cx="10792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8"/>
          <p:cNvSpPr/>
          <p:nvPr/>
        </p:nvSpPr>
        <p:spPr>
          <a:xfrm>
            <a:off x="5305320" y="4319640"/>
            <a:ext cx="1081080" cy="718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9"/>
          <p:cNvSpPr/>
          <p:nvPr/>
        </p:nvSpPr>
        <p:spPr>
          <a:xfrm>
            <a:off x="5305320" y="5157720"/>
            <a:ext cx="10810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0"/>
          <p:cNvSpPr/>
          <p:nvPr/>
        </p:nvSpPr>
        <p:spPr>
          <a:xfrm>
            <a:off x="5305320" y="6021360"/>
            <a:ext cx="10810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4"/>
          <p:cNvSpPr/>
          <p:nvPr/>
        </p:nvSpPr>
        <p:spPr>
          <a:xfrm>
            <a:off x="5148360" y="765000"/>
            <a:ext cx="143964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2"/>
          <p:cNvSpPr/>
          <p:nvPr/>
        </p:nvSpPr>
        <p:spPr>
          <a:xfrm>
            <a:off x="5126040" y="245412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3"/>
          <p:cNvSpPr/>
          <p:nvPr/>
        </p:nvSpPr>
        <p:spPr>
          <a:xfrm>
            <a:off x="5126040" y="163836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4"/>
          <p:cNvSpPr/>
          <p:nvPr/>
        </p:nvSpPr>
        <p:spPr>
          <a:xfrm>
            <a:off x="5148360" y="3287880"/>
            <a:ext cx="143964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5"/>
          <p:cNvSpPr/>
          <p:nvPr/>
        </p:nvSpPr>
        <p:spPr>
          <a:xfrm>
            <a:off x="5138640" y="416088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,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6"/>
          <p:cNvSpPr/>
          <p:nvPr/>
        </p:nvSpPr>
        <p:spPr>
          <a:xfrm>
            <a:off x="5126040" y="4989600"/>
            <a:ext cx="144000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45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7"/>
          <p:cNvSpPr/>
          <p:nvPr/>
        </p:nvSpPr>
        <p:spPr>
          <a:xfrm>
            <a:off x="5126040" y="5877000"/>
            <a:ext cx="144000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4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1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2880000" cy="240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3830760" y="2019240"/>
            <a:ext cx="2181240" cy="2136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1835280" y="4292640"/>
            <a:ext cx="2520720" cy="19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6618240" y="1413000"/>
            <a:ext cx="2260800" cy="180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6"/>
          <a:stretch/>
        </p:blipFill>
        <p:spPr>
          <a:xfrm>
            <a:off x="6084720" y="3784680"/>
            <a:ext cx="1943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2124000" y="1390680"/>
            <a:ext cx="624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атематика - это язык, на котором написана книга при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4696200" y="50846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Г. Галиле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а 6 из 77115"/>
          <p:cNvPicPr/>
          <p:nvPr/>
        </p:nvPicPr>
        <p:blipFill>
          <a:blip r:embed="rId2"/>
          <a:stretch/>
        </p:blipFill>
        <p:spPr>
          <a:xfrm>
            <a:off x="611280" y="2492280"/>
            <a:ext cx="25495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390600" y="109440"/>
            <a:ext cx="8345520" cy="1281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3"/>
          <a:stretch/>
        </p:blipFill>
        <p:spPr>
          <a:xfrm>
            <a:off x="2770200" y="2565360"/>
            <a:ext cx="34513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1182600" y="-244440"/>
            <a:ext cx="7790040" cy="148752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2843280" y="1268280"/>
            <a:ext cx="3600360" cy="518508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5185080"/>
              <a:gd name="textAreaBottom" fmla="*/ 5009400 h 5185080"/>
            </a:gdLst>
            <a:ahLst/>
            <a:rect l="textAreaLeft" t="textAreaTop" r="textAreaRight" b="textAreaBottom"/>
            <a:pathLst>
              <a:path w="21600" h="31106">
                <a:moveTo>
                  <a:pt x="3600" y="0"/>
                </a:moveTo>
                <a:arcTo wR="3600" hR="3600" stAng="16200000" swAng="-5400000"/>
                <a:lnTo>
                  <a:pt x="0" y="27506"/>
                </a:lnTo>
                <a:arcTo wR="3600" hR="3600" stAng="10800000" swAng="-5400000"/>
                <a:lnTo>
                  <a:pt x="18000" y="31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,5+0,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0,6-5,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,4*1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3,9: 0,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6,45+4,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55-3,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,6*10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8,9:1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3"/>
          <p:cNvSpPr/>
          <p:nvPr/>
        </p:nvSpPr>
        <p:spPr>
          <a:xfrm>
            <a:off x="2411280" y="44280"/>
            <a:ext cx="3998880" cy="5185080"/>
          </a:xfrm>
          <a:custGeom>
            <a:avLst/>
            <a:gdLst>
              <a:gd name="textAreaLeft" fmla="*/ 195120 w 3998880"/>
              <a:gd name="textAreaRight" fmla="*/ 3803760 w 3998880"/>
              <a:gd name="textAreaTop" fmla="*/ 195120 h 5185080"/>
              <a:gd name="textAreaBottom" fmla="*/ 4989960 h 5185080"/>
            </a:gdLst>
            <a:ahLst/>
            <a:rect l="textAreaLeft" t="textAreaTop" r="textAreaRight" b="textAreaBottom"/>
            <a:pathLst>
              <a:path w="21600" h="28007">
                <a:moveTo>
                  <a:pt x="3600" y="0"/>
                </a:moveTo>
                <a:arcTo wR="3600" hR="3600" stAng="16200000" swAng="-5400000"/>
                <a:lnTo>
                  <a:pt x="0" y="24407"/>
                </a:lnTo>
                <a:arcTo wR="3600" hR="3600" stAng="10800000" swAng="-5400000"/>
                <a:lnTo>
                  <a:pt x="18000" y="28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,5+0,5=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0,6-5,4=65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,4*10=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3,9: 0,1=12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6,45+4,5=10,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55-3,4=51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,6*100=4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8,9:10=7,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39640" y="5924520"/>
            <a:ext cx="2664000" cy="932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3635280" y="5924520"/>
            <a:ext cx="2521080" cy="93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ПУ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6510240" y="5924520"/>
            <a:ext cx="2627280" cy="93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ОСМО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rcRect l="0" t="0" r="0" b="-86"/>
          <a:stretch/>
        </p:blipFill>
        <p:spPr>
          <a:xfrm>
            <a:off x="4589640" y="3716280"/>
            <a:ext cx="4554360" cy="314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4335480" y="115920"/>
            <a:ext cx="4425840" cy="3321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rcRect l="0" t="0" r="-36" b="-20"/>
          <a:stretch/>
        </p:blipFill>
        <p:spPr>
          <a:xfrm>
            <a:off x="611280" y="3068640"/>
            <a:ext cx="37447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dea9fdb33ace4a5450faac6cc8c.3gp" descr=""/>
          <p:cNvPicPr/>
          <p:nvPr/>
        </p:nvPicPr>
        <p:blipFill>
          <a:blip r:embed="rId2"/>
          <a:stretch/>
        </p:blipFill>
        <p:spPr>
          <a:xfrm>
            <a:off x="1166760" y="1101600"/>
            <a:ext cx="729288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183960"/>
            <a:ext cx="7612200" cy="87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0" name="AutoShape 10"/>
          <p:cNvSpPr/>
          <p:nvPr/>
        </p:nvSpPr>
        <p:spPr>
          <a:xfrm rot="20767800">
            <a:off x="463320" y="1318680"/>
            <a:ext cx="2338200" cy="183996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6029280" y="1450800"/>
            <a:ext cx="2259000" cy="201636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 rot="667200">
            <a:off x="5970240" y="4258800"/>
            <a:ext cx="2859120" cy="2384640"/>
          </a:xfrm>
          <a:prstGeom prst="irregularSeal1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959200" y="4913280"/>
            <a:ext cx="2232000" cy="1944720"/>
          </a:xfrm>
          <a:prstGeom prst="irregularSeal1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6443640" y="2168640"/>
            <a:ext cx="15001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ОДЬ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 rot="20219400">
            <a:off x="852120" y="2025720"/>
            <a:ext cx="14270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СЧ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 rot="1624200">
            <a:off x="6270480" y="5204880"/>
            <a:ext cx="22590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ОМЕЖУ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 rot="20767800">
            <a:off x="174600" y="3533760"/>
            <a:ext cx="2830680" cy="217980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21121800">
            <a:off x="3106800" y="2436480"/>
            <a:ext cx="2779560" cy="199224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32480" y="2168640"/>
            <a:ext cx="15001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 rot="20250600">
            <a:off x="923760" y="1968120"/>
            <a:ext cx="1333800" cy="4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 rot="1624200">
            <a:off x="6270480" y="5227200"/>
            <a:ext cx="22590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 rot="20652000">
            <a:off x="495360" y="4294080"/>
            <a:ext cx="225900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ЖНИЛЕТ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 rot="20568600">
            <a:off x="504360" y="431136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ОЖ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149640" y="569448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СААДРК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173400" y="569448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КАФ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606840" y="3247920"/>
            <a:ext cx="17334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ЧО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606840" y="3259080"/>
            <a:ext cx="17334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А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Admin</cp:lastModifiedBy>
  <dcterms:modified xsi:type="dcterms:W3CDTF">2013-10-18T08:29:30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46000000000001024140</vt:lpwstr>
  </property>
</Properties>
</file>