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D5AA-407F-4907-9C4F-914EFCCC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BB2-AF6A-4390-8D25-84D94B3F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217-548F-44F6-B1C2-DD9E2EDB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EE0-4819-4A5A-912C-D5EABFD8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830F-6A70-448C-A9F2-6F3DAF3F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4AB5-FF85-45D6-9131-BD95F80C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708E-E6EB-477C-B858-EA6B042B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A9BE-A8EA-4B93-98AA-0CDF091E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0C26-3FFE-4D15-9600-912CC672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D718-C5BF-45B3-B36E-5A92C8AC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C3ED-AC3A-4E52-97F4-BBDBE314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2645-ADB8-4506-9F30-7A0439E6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ACD0-FB69-4EEF-BE6C-4A1A057D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4740-3B8E-4267-855D-30A1878D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6105-EE55-44DF-AB3B-7EA4E55A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E35B-9CC6-493B-9537-4EF923B7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F54B-8759-4BD1-8518-C635A5EF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72192-494F-4734-B7F4-662DE99E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CA9AB-D511-43A2-AF85-BC3F3403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19526-B485-4E55-A861-F61499F9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C8706-CFE4-4460-8980-0616CD7C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12C5E-D333-4E99-8FDD-9BC5AE7C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F0F-DA04-45EE-93C0-E1096D44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ED494-443F-4EA2-9F16-4F22387A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6BF8F-707C-424C-9F72-B4C9BB53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1F060-2DDE-4C98-911A-AF392D39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EE900-5FFE-45D8-B18A-8E351391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6D06B-DA3F-4D05-BECE-9A00DDCB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8A831-A66D-450D-9CFD-75E8321F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3559B-4E2F-4C2F-B49A-A56E08CF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52B91-5318-44BC-B947-35095BBB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1FB0C-DD03-48C8-8F75-E8DA68DC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B683E-6103-4431-8497-9049183C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884-5088-4F1C-87C2-1F2C7251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C1CD6-3A9A-4BAC-A6F3-00E1AE12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71A8C-9B4C-498F-827E-6C005FEF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96176-CD9F-4136-8673-C97C5DF6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66095-A4E7-4079-9B65-58B2B271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5E369-D5A1-490A-97AE-8966C290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477BE-5C4D-44D0-925C-BE23F251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D0809-AF2E-4FE7-B202-8E357D35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3E408-4426-48EF-9F19-076D13BF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008F9-6FA6-4656-9C91-2D4BB6E9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D140A-53FA-49C5-8F2E-C91AC2DD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BF17-1612-465E-9EFC-D90501AC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FD095-8DB7-4D07-BB23-062BBE0C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544AE-954C-4874-B295-42FF1287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30343-B7AD-4F6E-BA2F-4D858EDE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E704A-19EE-4CF3-A568-432EFDF2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FCB57-E9D1-4625-BDDF-257CFEF2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60EDD-2941-4FD6-B4CD-80158FFB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28550-81FD-4747-B743-BFB299D2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7FBBE-CD85-4005-8509-8060F41D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8BA09-62D7-4EF6-B11D-EED4E5DE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9054B-C0B0-47DB-8ACD-EA58CFA3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F3B-E93A-4983-8ADC-3BD160B9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67155-C795-47F7-A2D4-096983FE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59278-300A-46E7-8E48-39C057E6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5E774-269E-44D0-AA59-FDA06ABF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E13B9-1214-48E0-AC94-D4581A31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D41E9-8C88-456C-A75D-99188AB8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F803A-D5C5-41CC-90E8-52D1DA7B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B2AD0-C571-4AE1-A312-231298B2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AE5E4-0478-491D-B85E-9B10C369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50C72-DE1D-4481-B912-2797FF67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5F969-CB8C-4BF7-9C99-505D03D8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EF5-1482-4652-839A-66969D07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84C6E-3407-44C0-9D7B-306DC706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B2329-99A3-4F18-9832-78768BB9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561DE-1840-4F50-A153-50D63546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FAF7B-C05B-44FB-B8A1-BE0FE5EB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32BAF-D2E9-4971-B2F6-E9B83CC7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87994-C5D4-4B5D-8CE7-A2602946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53706-28A6-42E6-B1FF-47590113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D22EA-0B4D-40DD-A827-DD46DEC0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85F11-9574-4891-857E-C969A831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30638-D127-47CB-98A9-8B7A59A9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F84-98E5-4F72-915C-DAC30F80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C686C-2B80-4E89-95C4-3439A102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5A2D9-E2B7-4600-9F21-CB4FEEB6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9875E-6E2B-40C4-950C-9BC824CC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95BAD-F372-46AA-AF09-B9211D72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4D8B9-0F0F-4B9A-94A4-C5BAC149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249-120F-49B3-9A31-967203F6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354E-9545-46A3-AC5C-8495C846E44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1946-64AD-4832-B3DE-F2ECE1D12C2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28A2-80A4-4429-9B72-9B914D6AD81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6533-EB7A-439E-B7CA-427A64EA8AB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1FA5-602D-4B0B-9E39-D32D9718802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02AA-ECA8-453B-ACCD-303BA20844C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07D2-005D-462B-95DA-2EC708B04CB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3" descr="D:\документы\география\9 класс\7 чудес Украины\Фото\nnzs746phsv0qoqfn.jpg"/>
          <p:cNvPicPr/>
          <p:nvPr/>
        </p:nvPicPr>
        <p:blipFill>
          <a:blip r:embed="rId2"/>
          <a:stretch/>
        </p:blipFill>
        <p:spPr>
          <a:xfrm>
            <a:off x="500040" y="0"/>
            <a:ext cx="8643960" cy="6858000"/>
          </a:xfrm>
          <a:prstGeom prst="rect">
            <a:avLst/>
          </a:prstGeom>
          <a:ln w="0">
            <a:noFill/>
          </a:ln>
        </p:spPr>
      </p:pic>
      <p:pic>
        <p:nvPicPr>
          <p:cNvPr id="320" name="sound 2 для Украины.mp3" descr=""/>
          <p:cNvPicPr/>
          <p:nvPr/>
        </p:nvPicPr>
        <p:blipFill>
          <a:blip r:embed="rId3"/>
          <a:stretch/>
        </p:blipFill>
        <p:spPr>
          <a:xfrm>
            <a:off x="8215200" y="61437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21" name="Заголовок 1"/>
          <p:cNvSpPr/>
          <p:nvPr/>
        </p:nvSpPr>
        <p:spPr>
          <a:xfrm>
            <a:off x="500040" y="550080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верь результат и прочитай слава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0,6  ·  4  =  - 2,4                               Дорогу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6 ·  (-0,3 )  =  0,18                            Математик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1,5 ·  2 = - 3                                      Осили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3  ·  (- 0,6)  = - 1,8                           Гимнастик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- 1 + 7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=   4                                       Ум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-5 + 9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=  1                                       Идущий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  <a:ea typeface="Arial"/>
              </a:rPr>
              <a:t>2.Киево-Печерская лавра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дин из первых по времени основания монастырей на Рус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снован в 1051 году при Ярославе Мудром монахом Антонием, родом из Любеча.  Сооснователем Печерского монастыря стал один из первых учеников Антония — Феодосий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нязь Святослав II Ярославич подарил монастырю плато над пещерами, где позже выросли прекрасные каменные храмы, украшенные живописью,кельи, крепостные башни и другие строения.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Содержимое 3" descr="66208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D:\документы\география\9 класс\7 чудес Украины\Фото\17281_content.jpg"/>
          <p:cNvPicPr/>
          <p:nvPr/>
        </p:nvPicPr>
        <p:blipFill>
          <a:blip r:embed="rId3"/>
          <a:stretch/>
        </p:blipFill>
        <p:spPr>
          <a:xfrm>
            <a:off x="0" y="-142920"/>
            <a:ext cx="9144000" cy="738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1680" y="142560"/>
            <a:ext cx="821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900" spc="-1" strike="noStrike">
                <a:solidFill>
                  <a:srgbClr val="572314"/>
                </a:solidFill>
                <a:latin typeface="Tahoma"/>
              </a:rPr>
              <a:t>Национа́льный дендрологи́ческий парк «Софиевка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1720" y="1428480"/>
            <a:ext cx="778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арк, научно-исследовательский институт Национальной академии наук Украины, расположенный в северной части города Умань Черкасской области, на берегах реки Каменк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ощадь — 179,2 г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наши дни это место отдых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жегодно его посещают около 500 тысяч человек.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Содержимое 3" descr="66212.jpeg"/>
          <p:cNvPicPr/>
          <p:nvPr/>
        </p:nvPicPr>
        <p:blipFill>
          <a:blip r:embed="rId2"/>
          <a:stretch/>
        </p:blipFill>
        <p:spPr>
          <a:xfrm>
            <a:off x="343080" y="1357200"/>
            <a:ext cx="8800920" cy="5500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D:\документы\география\9 класс\7 чудес Украины\Фото\17284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4. София Киевская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(укр.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Собор святої Софії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;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Софи́йский собо́р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 укр.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Софійський собор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) был построен в XI веке в центреКиева по приказу Ярослава Мудрого. На рубеже XVII-XVIII вековбыл внешне перестроен в стиле украинского барокко. Внутри Собора сохранилось множество древних 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Corbel"/>
              </a:rPr>
              <a:t>фресок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 и мозаик, в том числе знаменитая мозаика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Богоматерь Оранта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фийский собор стал первым внесённым в список Всемирного наследия ЮНЕСКО памятником архитектуры на территорииУкраин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Содержимое 3" descr="66213.jpeg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D:\документы\география\9 класс\7 чудес Украины\Фото\17278_content.jpg"/>
          <p:cNvPicPr/>
          <p:nvPr/>
        </p:nvPicPr>
        <p:blipFill>
          <a:blip r:embed="rId3"/>
          <a:stretch/>
        </p:blipFill>
        <p:spPr>
          <a:xfrm>
            <a:off x="0" y="-214200"/>
            <a:ext cx="9144000" cy="734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213920" y="1447560"/>
            <a:ext cx="792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(др.-греч. Χερσόνησος — ἡ χερσόνησος: «полуостров»; в византийское время —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Херсон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 в Генуэзскийпериод —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Сарсона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 в русских летописях —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Корсунь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) — полис, основанный древними греками на Гераклейском полуострове на юго-западном побережьеКрыма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Ныне Херсонесское городище расположено на территорииГагаринского района Севастополя. На протяжении двух тысяч лет Херсонес являлся крупным политическим, экономическим и культурным центром Северного Причерноморь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  <a:ea typeface="Arial"/>
              </a:rPr>
              <a:t>5. Херсонес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Содержимое 3" descr="66210.jpeg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D:\документы\география\9 класс\7 чудес Украины\Фото\17287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асположите  результаты в порядке возрастания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0,5 · 40          Х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2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0,1 · (-3)        С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0,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0,9 · (-0,6)    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0,5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0,04 · (-10)   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0,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1 · 3,2            О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3,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,6 · 2             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7,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10 · 0,1         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· (-4)              Т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-2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А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6. Хотинская крепость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епость X-XVIII веков, расположенная в городе Хотин, Украин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протяжении V-X веков укрепление использовалось летописным племенем тиверцев, и выглядело как типовое мысовое городище. Постройку каменных укреплений Хотина принято связывать с Галицко-Волынским княжеством и с именем Данилы Галиц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Содержимое 4" descr="66214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D:\документы\география\9 класс\7 чудес Украины\Фото\17290_content.jpg"/>
          <p:cNvPicPr/>
          <p:nvPr/>
        </p:nvPicPr>
        <p:blipFill>
          <a:blip r:embed="rId3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7. Хортица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упнейший остров на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Днепр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расположен в районе города Запорожье ниже ДнепроГЭСа, уникальный природный и исторический комплекс. Вытянут с северо-запада на юго-восток, длина 12,5 км, ширина в среднем 2,5 км. В 2007 году был назван одним из «Семи чудес Украины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Содержимое 3" descr="66211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D:\документы\география\9 класс\7 чудес Украины\Фото\17288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Тема: Обобщение и систематизация знаний по теме «Умножение рациональных чисел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«Учиться можно весело…Чтобы переваривать знания, надо поглощать их с аппетит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А.Фран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Map_of_the_Seven_Wonders_of_Ukraine.PNG"/>
          <p:cNvPicPr/>
          <p:nvPr/>
        </p:nvPicPr>
        <p:blipFill>
          <a:blip r:embed="rId2"/>
          <a:stretch/>
        </p:blipFill>
        <p:spPr>
          <a:xfrm>
            <a:off x="-214200" y="0"/>
            <a:ext cx="9501120" cy="6643800"/>
          </a:xfrm>
          <a:prstGeom prst="rect">
            <a:avLst/>
          </a:prstGeom>
          <a:ln w="0">
            <a:noFill/>
          </a:ln>
        </p:spPr>
      </p:pic>
      <p:sp>
        <p:nvSpPr>
          <p:cNvPr id="326" name="7-конечная звезда 4"/>
          <p:cNvSpPr/>
          <p:nvPr/>
        </p:nvSpPr>
        <p:spPr>
          <a:xfrm>
            <a:off x="4357800" y="1571760"/>
            <a:ext cx="428400" cy="4284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7-конечная звезда 5"/>
          <p:cNvSpPr/>
          <p:nvPr/>
        </p:nvSpPr>
        <p:spPr>
          <a:xfrm>
            <a:off x="3929040" y="1785960"/>
            <a:ext cx="42876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7-конечная звезда 6"/>
          <p:cNvSpPr/>
          <p:nvPr/>
        </p:nvSpPr>
        <p:spPr>
          <a:xfrm>
            <a:off x="5929200" y="6143760"/>
            <a:ext cx="428760" cy="4284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7-конечная звезда 7"/>
          <p:cNvSpPr/>
          <p:nvPr/>
        </p:nvSpPr>
        <p:spPr>
          <a:xfrm>
            <a:off x="1857240" y="3286080"/>
            <a:ext cx="42876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7-конечная звезда 8"/>
          <p:cNvSpPr/>
          <p:nvPr/>
        </p:nvSpPr>
        <p:spPr>
          <a:xfrm>
            <a:off x="2357280" y="2928960"/>
            <a:ext cx="42876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7-конечная звезда 9"/>
          <p:cNvSpPr/>
          <p:nvPr/>
        </p:nvSpPr>
        <p:spPr>
          <a:xfrm>
            <a:off x="4214880" y="2928960"/>
            <a:ext cx="42840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7-конечная звезда 10"/>
          <p:cNvSpPr/>
          <p:nvPr/>
        </p:nvSpPr>
        <p:spPr>
          <a:xfrm>
            <a:off x="6643800" y="3571920"/>
            <a:ext cx="42840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Вертикальный свиток 11"/>
          <p:cNvSpPr/>
          <p:nvPr/>
        </p:nvSpPr>
        <p:spPr>
          <a:xfrm>
            <a:off x="-357120" y="4071960"/>
            <a:ext cx="3786120" cy="2786040"/>
          </a:xfrm>
          <a:prstGeom prst="verticalScroll">
            <a:avLst>
              <a:gd name="adj" fmla="val 12500"/>
            </a:avLst>
          </a:prstGeom>
          <a:solidFill>
            <a:srgbClr val="fdd7b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Заповедник «Каменец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Киево-Печерская лавр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Софиев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 София Киевска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 Херсонес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. Хотинская крепос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. Хортиц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СТНЫЙ СЧЕТ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8,4 +(-8,4)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-6,7)*(-10)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-2,2)+3,5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13 -8 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-18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,4- (-3,2)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9*6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Не выполняя вычислений поставить знаки между выражениями: 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1733 (-69) ... 1733  · 6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-178  ·  13 ... -178  · (-1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-204 · (-17) ... 204  · 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-5 · 0 ... 0 · (-5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(-2) … (-2)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 -20,25  ·  (-13)  …19,77 · (- 44)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  14,02  ·  12… (-20,5)  ·  0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ОТВЕТ: 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434960" y="1447920"/>
          <a:ext cx="7499520" cy="1828800"/>
        </p:xfrm>
        <a:graphic>
          <a:graphicData uri="http://schemas.openxmlformats.org/drawingml/2006/table">
            <a:tbl>
              <a:tblPr/>
              <a:tblGrid>
                <a:gridCol w="1071720"/>
                <a:gridCol w="1071720"/>
                <a:gridCol w="1071360"/>
                <a:gridCol w="1069920"/>
                <a:gridCol w="1071720"/>
                <a:gridCol w="1071360"/>
                <a:gridCol w="1071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lt;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lt;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gt;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=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lt;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gt;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gt;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Ц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1.Заповедник «Каменец»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00080" y="144756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город вХмельницкой области Украины, административный центр Каменец-Подольского района, один из древнейших городов края, основан как крепость, имеющая важное геополитическое положение на границе христианской и мусульманской культур, пересечении сухопутных и водных маршрутов.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ходил в составКиевской Руси, в XIII—XIV веках — Галицко-Волынского княжеств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Содержимое 3" descr="66209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D:\документы\география\9 класс\7 чудес Украины\Фото\17279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Представьте число – 6,9 в виде суммы трех равных слагаемых.Чуму равно одно из слагаемых?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 Сумма противоположных чисел равна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 Сумма целых чисел от -50 до 52 равна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Произведение 12 отрицательных чисел и 7 положительных чисел есть число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Найдите сумму целых чисел </a:t>
            </a: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&lt;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8,3 &lt; x &lt; 6 ,2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6.Произведение 15 отрицательных и 60 положительных чисел есть число 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8556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Ответ :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434960" y="1447920"/>
          <a:ext cx="7499520" cy="237780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  <a:gridCol w="1249560"/>
                <a:gridCol w="1250640"/>
                <a:gridCol w="124956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2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&gt;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5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&lt;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5:30:50Z</dcterms:created>
  <dc:creator>USER</dc:creator>
  <dc:description/>
  <dc:language>en-US</dc:language>
  <cp:lastModifiedBy>Admin</cp:lastModifiedBy>
  <dcterms:modified xsi:type="dcterms:W3CDTF">2013-02-18T11:53:38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19000000000001024140</vt:lpwstr>
  </property>
</Properties>
</file>