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267-9FDF-4C5E-8D6B-A1DE4377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0D9-C915-4F12-A029-7B57632D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4E4-4261-48BE-BEC0-7ED53621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C80-9B39-4375-B4A5-D677CB40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EBB1-2D7A-406A-B9EF-F96CABE9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DF54-E708-49A7-A046-2B202100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8619-55BB-49B5-ACF5-053CC5D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0B0F-385D-42BF-B80C-A9CE09D2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8B80-8D88-4DAB-A249-0128DBE5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486B-4593-4150-83E7-ABC6C68F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AC2D-2CD1-4327-8074-85250AEB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F4E-3254-47AF-8A96-E6EB116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C61-AE43-4779-989F-F263BFC6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9C9A-061B-499E-8434-0A305EF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2E47-1964-4B1A-9633-C76F56BD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A267-2448-43C6-87B9-8162415B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F4DD-6AE8-4C09-AA86-D14ABE71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DA70-22FE-497A-A1CE-6B3990A3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DB5C-6402-4048-BE83-558EB29A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7235-6138-4971-BFA1-CBE3843B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D2260-582E-460D-9C56-CEDF4F40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FE85-7E9E-483E-A1EF-4A405473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061-0A63-413E-B35D-C8B32F37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4D35-8B84-483C-9311-6D5CD80F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406C-36F2-47DA-A4D7-5B0B9A85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9D4BC-5BEC-472C-9D78-A5A3BAB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CF34-0285-4474-9873-540A67F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DE76-0DA2-4797-B3A2-BA719762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2E5D-8863-4169-9A75-1D52A355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E720-92CA-4680-BB5E-0D650823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FF5E-E074-456A-A0F7-D3B406BF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7A70-8F68-4135-B441-6D798A26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AD92-10B0-4EF4-8438-30A7CC45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656-01B0-4555-AB3A-630A272F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89A0-FB6D-49CA-85A5-930F3D0E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F5E4-1205-4CF2-A474-ADA999A9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B840-593B-4B1B-AF04-CAF27011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3A46-9FEF-477E-8228-C562408B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BF0B-F5F9-4F58-9BC4-102EB412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7C0C-CBA6-4120-A961-3026C06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C746-D42C-4DD1-86DE-5BB2CDF2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E0E11-C3DA-4A4D-A154-EBBC2881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B577-B165-4502-B72D-0618A1AF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A57A-151F-4F4D-BC9C-24C466DE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F9B-9CA4-4E33-82CA-F598E9C4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168F-F1F1-4C82-B16C-0AFE63B8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10CB-F8F6-4539-9848-0C518D0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3DE1-2908-4A9E-BAAD-C748668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2EBB-AE1C-4D35-A212-288F0387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EE1B6-7630-4B6C-911D-B44A7FAC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69A69-DB63-421C-BA83-2E03C19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F2BE6-7524-478F-9232-ECD03ED2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D230C-4800-4DE8-BC94-E0F8397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0027-FAB3-40E0-A3FE-BEEE393C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CA9B-D012-4517-8656-F6093882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D83-F666-422A-AAD1-CF06EFB6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7B153-1CA3-4C40-890E-CC3F5FCD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3EE58-2EC0-4AD1-B1BD-CD6EA264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A9B7E-708F-49CC-9393-2949DF95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3E04-0793-42FD-B0E3-1685D82A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0253-69FE-4345-B16A-85EB8FBF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46928-5D0C-446D-A794-694D82C6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CB7B-528C-4F7F-8FCA-C04B30EB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AD207-6008-47CF-B5A7-6BA9AE8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4D77C-577C-44D4-97D8-FF62BAF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1460B-DA79-4ABE-820F-958F170E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937-D2E2-4CAE-80B1-179E552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54FE2-3238-4BD3-B7DA-D3094676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CA97B-64F0-47C5-9DB2-582CFD17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D1B0C-F4A9-45CB-8AA7-4BB4846C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18AC2-1F87-4E8A-A562-CDAF1438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B95AA-F9E4-4448-99F8-D7B070F2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E7FF5-6F17-41FB-BC69-7218BC0A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32395-6E9E-4BCF-B819-A29A35A0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FAB7C-25D7-475B-81B3-7528A0F8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57E18-53EE-4B17-98B6-21B7B8D5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518D9-BEE5-4904-958D-B4F7E496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CD4-3478-4E6A-92A9-97A4ECEE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A61DC-4C52-48A8-B317-F119F97F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7F05D-72C7-4FC0-B9E6-EC1569B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6C3C-D4A8-4A9D-9552-1EEB039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BC593-E6C9-4D65-8A41-257CF9A0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4B4AD-333A-4029-B28E-380075A4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066-D67A-45F0-9F18-C9AEFB6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1F4E-1535-43F2-BA7A-A44A7E2D36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24AD-2F8B-46DF-BD47-C3C3B13E1A7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F380-A848-4793-8D55-E43BD142E0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7959-FACC-44CD-A57C-0B50E52722F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B106-A060-485F-8D4B-DCEFDED4E1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8624-7144-433E-8471-58E815E019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0A81-616A-4BE9-9740-5627B96EC8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3" descr="D:\документы\география\9 класс\7 чудес Украины\Фото\nnzs746phsv0qoqfn.jpg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sound 2 для Украины.mp3" descr=""/>
          <p:cNvPicPr/>
          <p:nvPr/>
        </p:nvPicPr>
        <p:blipFill>
          <a:blip r:embed="rId3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21" name="Заголовок 1"/>
          <p:cNvSpPr/>
          <p:nvPr/>
        </p:nvSpPr>
        <p:spPr>
          <a:xfrm>
            <a:off x="500040" y="550080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верь результат и прочитай слав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0,6  ·  4  =  - 2,4                               Дорог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6 ·  (-0,3 )  =  0,18                            Матема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1,5 ·  2 = - 3                                      Осили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3  ·  (- 0,6)  = - 1,8                           Гимнас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 1 + 7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=   4                                       Ум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5 + 9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=  1                                       Идущи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дин из первых по времени основания монастырей на Рус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снован в 1051 году при Ярославе Мудром монахом Антонием, родом из Любеча.  Сооснователем Печерского монастыря стал один из первых учеников Антония — Феодос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нязь Святослав II Ярославич подарил монастырю плато над пещерами, где позже выросли прекрасные каменные храмы, украшенные живописью,кельи, крепостные башни и другие строения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Содержимое 3" descr="66208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документы\география\9 класс\7 чудес Украины\Фото\17281_content.jpg"/>
          <p:cNvPicPr/>
          <p:nvPr/>
        </p:nvPicPr>
        <p:blipFill>
          <a:blip r:embed="rId3"/>
          <a:stretch/>
        </p:blipFill>
        <p:spPr>
          <a:xfrm>
            <a:off x="0" y="-14292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1680" y="142560"/>
            <a:ext cx="821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900" spc="-1" strike="noStrike">
                <a:solidFill>
                  <a:srgbClr val="572314"/>
                </a:solidFill>
                <a:latin typeface="Tahoma"/>
              </a:rPr>
              <a:t>Национа́льный дендрологи́ческий парк «Софиевка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1720" y="1428480"/>
            <a:ext cx="778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к, научно-исследовательский институт Национальной академии наук Украины, расположенный в северной части города Умань Черкасской области, на берегах реки Камен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щадь — 179,2 г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аши дни это место отдых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жегодно его посещают около 500 тысяч человек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Содержимое 3" descr="66212.jpeg"/>
          <p:cNvPicPr/>
          <p:nvPr/>
        </p:nvPicPr>
        <p:blipFill>
          <a:blip r:embed="rId2"/>
          <a:stretch/>
        </p:blipFill>
        <p:spPr>
          <a:xfrm>
            <a:off x="343080" y="1357200"/>
            <a:ext cx="8800920" cy="5500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документы\география\9 класс\7 чудес Украины\Фото\17284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бор святої Софії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;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офи́йский собо́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 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фійський собо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 был построен в XI веке в центреКиева по приказу Ярослава Мудрого. На рубеже XVII-XVIII вековбыл внешне перестроен в стиле украинского барокко. Внутри Собора сохранилось множество древних 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фресок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и мозаик, в том числе знаменитая мозаик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Богоматерь Орант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фийский собор стал первым внесённым в список Всемирного наследия ЮНЕСКО памятником архитектуры на территорииУкраин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Содержимое 3" descr="66213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D:\документы\география\9 класс\7 чудес Украины\Фото\17278_content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734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213920" y="1447560"/>
            <a:ext cx="792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др.-греч. Χερσόνησος — ἡ χερσόνησος: «полуостров»; в византийское время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Херсо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 Генуэзскийпериод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арсон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 русских летописях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Корсун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 — полис, основанный древними греками на Гераклейском полуострове на юго-западном побережьеКрыма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ыне Херсонесское городище расположено на территорииГагаринского района Севастополя. На протяжении двух тысяч лет Херсонес являлся крупным политическим, экономическим и культурным центром Северного Причерноморь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Содержимое 3" descr="66210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документы\география\9 класс\7 чудес Украины\Фото\17287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сположите  результаты в порядке возрастания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5 · 40          Х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1 · (-3)        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9 · (-0,6)    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0,5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04 · (-10)   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 · 3,2            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3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,6 · 2             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7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0 · 0,1         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· (-4)              Т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А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епость X-XVIII веков, расположенная в городе Хотин, Укра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ротяжении V-X веков укрепление использовалось летописным племенем тиверцев, и выглядело как типовое мысовое городище. Постройку каменных укреплений Хотина принято связывать с Галицко-Волынским княжеством и с именем Данилы Галиц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Содержимое 4" descr="66214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D:\документы\география\9 класс\7 чудес Украины\Фото\17290_content.jpg"/>
          <p:cNvPicPr/>
          <p:nvPr/>
        </p:nvPicPr>
        <p:blipFill>
          <a:blip r:embed="rId3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пнейший остров на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Днеп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расположен в районе города Запорожье ниже ДнепроГЭСа, уникальный природный и исторический комплекс. Вытянут с северо-запада на юго-восток, длина 12,5 км, ширина в среднем 2,5 км. В 2007 году был назван одним из «Семи чудес Украины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Содержимое 3" descr="66211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документы\география\9 класс\7 чудес Украины\Фото\17288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Тема: Обобщение и систематизация знаний по теме «Умножение рациональных чисел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Учиться можно весело…Чтобы переваривать знания, надо поглощать их с аппетит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А.Фран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Map_of_the_Seven_Wonders_of_Ukraine.PNG"/>
          <p:cNvPicPr/>
          <p:nvPr/>
        </p:nvPicPr>
        <p:blipFill>
          <a:blip r:embed="rId2"/>
          <a:stretch/>
        </p:blipFill>
        <p:spPr>
          <a:xfrm>
            <a:off x="-214200" y="0"/>
            <a:ext cx="9501120" cy="6643800"/>
          </a:xfrm>
          <a:prstGeom prst="rect">
            <a:avLst/>
          </a:prstGeom>
          <a:ln w="0">
            <a:noFill/>
          </a:ln>
        </p:spPr>
      </p:pic>
      <p:sp>
        <p:nvSpPr>
          <p:cNvPr id="326" name="7-конечная звезда 4"/>
          <p:cNvSpPr/>
          <p:nvPr/>
        </p:nvSpPr>
        <p:spPr>
          <a:xfrm>
            <a:off x="4357800" y="1571760"/>
            <a:ext cx="42840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7-конечная звезда 5"/>
          <p:cNvSpPr/>
          <p:nvPr/>
        </p:nvSpPr>
        <p:spPr>
          <a:xfrm>
            <a:off x="3929040" y="1785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7-конечная звезда 6"/>
          <p:cNvSpPr/>
          <p:nvPr/>
        </p:nvSpPr>
        <p:spPr>
          <a:xfrm>
            <a:off x="5929200" y="6143760"/>
            <a:ext cx="42876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7-конечная звезда 7"/>
          <p:cNvSpPr/>
          <p:nvPr/>
        </p:nvSpPr>
        <p:spPr>
          <a:xfrm>
            <a:off x="1857240" y="328608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7-конечная звезда 8"/>
          <p:cNvSpPr/>
          <p:nvPr/>
        </p:nvSpPr>
        <p:spPr>
          <a:xfrm>
            <a:off x="2357280" y="2928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7-конечная звезда 9"/>
          <p:cNvSpPr/>
          <p:nvPr/>
        </p:nvSpPr>
        <p:spPr>
          <a:xfrm>
            <a:off x="4214880" y="292896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7-конечная звезда 10"/>
          <p:cNvSpPr/>
          <p:nvPr/>
        </p:nvSpPr>
        <p:spPr>
          <a:xfrm>
            <a:off x="6643800" y="357192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Вертикальный свиток 11"/>
          <p:cNvSpPr/>
          <p:nvPr/>
        </p:nvSpPr>
        <p:spPr>
          <a:xfrm>
            <a:off x="-357120" y="4071960"/>
            <a:ext cx="3786120" cy="2786040"/>
          </a:xfrm>
          <a:prstGeom prst="verticalScroll">
            <a:avLst>
              <a:gd name="adj" fmla="val 12500"/>
            </a:avLst>
          </a:prstGeom>
          <a:solidFill>
            <a:srgbClr val="fdd7b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Софиев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ТНЫЙ СЧЕТ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8,4 +(-8,4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6,7)*(-10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,2)+3,5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3 -8 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-18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,4- (-3,2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9*6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Не выполняя вычислений поставить знаки между выражениями: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1733 (-69) ... 1733  · 6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-178  ·  13 ... -178  · (-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-204 · (-17) ... 204  ·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-5 · 0 ... 0 · (-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(-2) … (-2)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 -20,25  ·  (-13)  …19,77 · (- 44)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  14,02  ·  12… (-20,5)  ·  0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: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434960" y="1447920"/>
          <a:ext cx="7499520" cy="1828800"/>
        </p:xfrm>
        <a:graphic>
          <a:graphicData uri="http://schemas.openxmlformats.org/drawingml/2006/table">
            <a:tbl>
              <a:tblPr/>
              <a:tblGrid>
                <a:gridCol w="1071720"/>
                <a:gridCol w="1071720"/>
                <a:gridCol w="1071360"/>
                <a:gridCol w="1069920"/>
                <a:gridCol w="1071720"/>
                <a:gridCol w="1071360"/>
                <a:gridCol w="1071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ород вХмельницкой области Украины, административный центр Каменец-Подольского района, один из древнейших городов края, основан как крепость, имеющая важное геополитическое положение на границе христианской и мусульманской культур, пересечении сухопутных и водных маршрутов.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ходил в составКиевской Руси, в XIII—XIV веках — Галицко-Волынского княжест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Содержимое 3" descr="66209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D:\документы\география\9 класс\7 чудес Украины\Фото\17279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Представьте число – 6,9 в виде суммы трех равных слагаемых.Чуму равно одно из слагаемых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Сумма противоположных чисел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Сумма целых чисел от -50 до 52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Произведение 12 отрицательных чисел и 7 положительных чисел есть числ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Найдите сумму целых чисел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8,3 &lt; x &lt; 6 ,2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Произведение 15 отрицательных и 60 положительных чисел есть число 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 :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34960" y="1447920"/>
          <a:ext cx="7499520" cy="237780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  <a:gridCol w="1249560"/>
                <a:gridCol w="1250640"/>
                <a:gridCol w="124956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g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l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5:30:50Z</dcterms:created>
  <dc:creator>USER</dc:creator>
  <dc:description/>
  <dc:language>en-US</dc:language>
  <cp:lastModifiedBy>Admin</cp:lastModifiedBy>
  <dcterms:modified xsi:type="dcterms:W3CDTF">2013-02-18T11:53:3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9000000000001024140</vt:lpwstr>
  </property>
</Properties>
</file>