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AD3-5AAC-49C0-AA43-81FB7E03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385-A7D6-49BF-991B-B0FE7F2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A11-3BE4-4898-91C0-7CE76964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ABF-99E8-4E53-8A7D-D199C07A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78F4-3D2D-4C41-BDF7-69DDB260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8323-29E8-4334-8700-DDEE6DC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88D3-2DBF-4689-8CCD-9E90A407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EC05-3DC0-43FC-807D-00AD9BE8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9B27-627D-473D-A9F6-931A8877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1B8C-DCD6-41C8-AB1F-34BECA85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AECE-3304-4ECE-9CCB-41E6AE4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723-8C3D-422A-AF65-808378F2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AF7A-E634-44C8-A90F-23D53537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FA79-5085-4017-97B2-34C6F061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C978-95AD-4B7B-8078-9D34287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07D3-588F-4FCF-9256-F4846952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2685-B59D-4D78-A532-D0CE0B3D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891A-D8EC-4D5D-8E69-D713AA4B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18A3-0C2E-4028-87C9-6E24BCE2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C217D-2F47-4497-B113-5246515B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5021-C2B7-4DA1-A98C-08B4C746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954A-2264-4D08-A78B-6D887231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6C5-F311-439F-BB87-E99900C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7F18-C497-44BC-86F0-7DC37400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8331-C02F-4F1B-BB33-9C8F5DAF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53B52-7A08-4A8B-A656-A78B0D01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FC3D-65E3-402A-9671-60B00D32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0A4B-48FA-4D38-912D-E3859775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775C-9300-471F-858D-E0AE7133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63D1-3935-40FD-A2F5-A9D2CDE7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3754-BCA1-4890-B1BB-D8F394E3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DAE1-2823-4608-8533-CF97A0D2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61BA-942C-425C-8D29-6B461234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525-8F87-45CF-A0BB-DD67AC3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B5C1-51FE-4AC5-ABED-8F41BC24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1C7A-945A-41CC-9C23-8D7C7BED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F860-69A7-4232-B1F0-8C9B4407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2243-2B18-4AA8-9755-62293632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29965-52A9-4BA5-A32A-5A7F66D8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3D5A-B841-4FBD-A15C-6D5F6B25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C4F21-127A-42FB-AD84-B6121156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F1B8-2B15-4145-A659-24864B0C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907D-39B7-4A20-803C-6FD9C136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0D0CA-DD9F-49C7-80E2-57EFB827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ADE-1DC6-48CD-AD26-B0FFCA96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84B9A-A170-4058-BEC6-74CA853D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41E38-1A71-4093-AA01-61D9D11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498EB-C5C5-4B12-9A17-1029497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AF74-9CC9-4BB2-B2EC-CB951982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0D43B-9E94-4FE3-A436-F1C4FEC0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38BC-7380-4A16-95ED-9EBE958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71F7F-EE90-4359-9347-AD505247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6D44F-C9BB-49A1-B606-250DF40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6D26F-9BF5-405C-96A3-17B3E07A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C251-EB7F-47CC-AE1D-F93E3CA0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015-BB56-43D8-AC83-4F74F5CA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423FE-345B-4FD9-B638-88D815E8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BA1AA-B8C4-4A47-BC0E-CC07024D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12D21-687C-45F1-993A-625838CF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AFE4D-41B8-47FF-AA5A-F4EBB4BF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6C15C-1195-4103-B733-F98E90E2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91566-801D-4C8D-A896-BA8F21F0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CC8F7-F4A8-427A-A1EC-EEF28334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98434-DFC7-4E5E-96AB-85D9D28F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7A0E6-8A5C-4F2D-9E55-5DA1D40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64668-9441-4F8B-B0E3-DDF9E73E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3A3-9774-4ABC-B11C-C427B4B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9EDF-F89D-49F8-AD51-C5AD91B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12B03-FEDA-4065-B43B-AEC7DB7C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E026-764D-43FC-86ED-A8766E51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EC703-AF56-48AB-9890-557BD0B8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6631-9582-451D-9A01-87E3680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9FA91-2C31-4CF5-881F-AD1FA255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CA091-28F7-4F12-AC30-48F93BD3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34D4-C1B9-4282-9D36-233C0FF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DB02-5BFD-405D-8A06-3834FB72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03ED6-8DA4-4219-BF40-DFB28A5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65E-569B-41A4-BC0D-5B0809B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F48FA-8E24-46F9-B496-457BF16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CD234-4749-4149-A53C-31697AB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3AF0-8F7F-47A8-A4A2-11761792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66E3E-301C-4643-955B-D73CD3EB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97D1-E2B3-4E91-AAF1-B359ADFB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296-81AA-49CC-82FA-078B167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624A-4132-4D39-8B20-727C98079C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56DB-C454-4FBE-BBD0-D88675CF00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DDD6-3B50-424A-BAA1-CC741F2DF2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D70-24D5-472E-97FD-36E3DA5236E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DB23-DBBA-437D-9D52-C0AF0DE5A17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0F45-3F1E-4F3C-B4BF-C9FEBD93F0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1B66-F428-45B7-8AED-04500FC8E6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3" descr="D:\документы\география\9 класс\7 чудес Украины\Фото\nnzs746phsv0qoqfn.jpg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sound 2 для Украины.mp3" descr=""/>
          <p:cNvPicPr/>
          <p:nvPr/>
        </p:nvPicPr>
        <p:blipFill>
          <a:blip r:embed="rId3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21" name="Заголовок 1"/>
          <p:cNvSpPr/>
          <p:nvPr/>
        </p:nvSpPr>
        <p:spPr>
          <a:xfrm>
            <a:off x="500040" y="550080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верь результат и прочитай слав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0,6  ·  4  =  - 2,4                               Дорог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6 ·  (-0,3 )  =  0,18                            Матема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1,5 ·  2 = - 3                                      Осили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3  ·  (- 0,6)  = - 1,8                           Гимнас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 1 + 7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=   4                                       Ум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5 + 9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=  1                                       Идущи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дин из первых по времени основания монастырей на Рус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снован в 1051 году при Ярославе Мудром монахом Антонием, родом из Любеча.  Сооснователем Печерского монастыря стал один из первых учеников Антония — Феодос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нязь Святослав II Ярославич подарил монастырю плато над пещерами, где позже выросли прекрасные каменные храмы, украшенные живописью,кельи, крепостные башни и другие строения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Содержимое 3" descr="66208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документы\география\9 класс\7 чудес Украины\Фото\17281_content.jpg"/>
          <p:cNvPicPr/>
          <p:nvPr/>
        </p:nvPicPr>
        <p:blipFill>
          <a:blip r:embed="rId3"/>
          <a:stretch/>
        </p:blipFill>
        <p:spPr>
          <a:xfrm>
            <a:off x="0" y="-14292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1680" y="142560"/>
            <a:ext cx="821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900" spc="-1" strike="noStrike">
                <a:solidFill>
                  <a:srgbClr val="572314"/>
                </a:solidFill>
                <a:latin typeface="Tahoma"/>
              </a:rPr>
              <a:t>Национа́льный дендрологи́ческий парк «Софиевка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1720" y="1428480"/>
            <a:ext cx="778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к, научно-исследовательский институт Национальной академии наук Украины, расположенный в северной части города Умань Черкасской области, на берегах реки Камен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щадь — 179,2 г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аши дни это место отдых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жегодно его посещают около 500 тысяч человек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Содержимое 3" descr="66212.jpeg"/>
          <p:cNvPicPr/>
          <p:nvPr/>
        </p:nvPicPr>
        <p:blipFill>
          <a:blip r:embed="rId2"/>
          <a:stretch/>
        </p:blipFill>
        <p:spPr>
          <a:xfrm>
            <a:off x="343080" y="1357200"/>
            <a:ext cx="8800920" cy="5500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документы\география\9 класс\7 чудес Украины\Фото\17284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бор святої Софії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;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офи́йский собо́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 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фійський собо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 был построен в XI веке в центреКиева по приказу Ярослава Мудрого. На рубеже XVII-XVIII вековбыл внешне перестроен в стиле украинского барокко. Внутри Собора сохранилось множество древних 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фресок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и мозаик, в том числе знаменитая мозаик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Богоматерь Орант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фийский собор стал первым внесённым в список Всемирного наследия ЮНЕСКО памятником архитектуры на территорииУкраин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Содержимое 3" descr="66213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D:\документы\география\9 класс\7 чудес Украины\Фото\17278_content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734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213920" y="1447560"/>
            <a:ext cx="792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др.-греч. Χερσόνησος — ἡ χερσόνησος: «полуостров»; в византийское время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Херсо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 Генуэзскийпериод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арсон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 русских летописях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Корсун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 — полис, основанный древними греками на Гераклейском полуострове на юго-западном побережьеКрыма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ыне Херсонесское городище расположено на территорииГагаринского района Севастополя. На протяжении двух тысяч лет Херсонес являлся крупным политическим, экономическим и культурным центром Северного Причерноморь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Содержимое 3" descr="66210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документы\география\9 класс\7 чудес Украины\Фото\17287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сположите  результаты в порядке возрастания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5 · 40          Х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1 · (-3)        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9 · (-0,6)    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0,5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04 · (-10)   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 · 3,2            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3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,6 · 2             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7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0 · 0,1         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· (-4)              Т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А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епость X-XVIII веков, расположенная в городе Хотин, Укра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ротяжении V-X веков укрепление использовалось летописным племенем тиверцев, и выглядело как типовое мысовое городище. Постройку каменных укреплений Хотина принято связывать с Галицко-Волынским княжеством и с именем Данилы Галиц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Содержимое 4" descr="66214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D:\документы\география\9 класс\7 чудес Украины\Фото\17290_content.jpg"/>
          <p:cNvPicPr/>
          <p:nvPr/>
        </p:nvPicPr>
        <p:blipFill>
          <a:blip r:embed="rId3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пнейший остров на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Днеп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расположен в районе города Запорожье ниже ДнепроГЭСа, уникальный природный и исторический комплекс. Вытянут с северо-запада на юго-восток, длина 12,5 км, ширина в среднем 2,5 км. В 2007 году был назван одним из «Семи чудес Украины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Содержимое 3" descr="66211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документы\география\9 класс\7 чудес Украины\Фото\17288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Тема: Обобщение и систематизация знаний по теме «Умножение рациональных чисел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Учиться можно весело…Чтобы переваривать знания, надо поглощать их с аппетит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А.Фран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Map_of_the_Seven_Wonders_of_Ukraine.PNG"/>
          <p:cNvPicPr/>
          <p:nvPr/>
        </p:nvPicPr>
        <p:blipFill>
          <a:blip r:embed="rId2"/>
          <a:stretch/>
        </p:blipFill>
        <p:spPr>
          <a:xfrm>
            <a:off x="-214200" y="0"/>
            <a:ext cx="9501120" cy="6643800"/>
          </a:xfrm>
          <a:prstGeom prst="rect">
            <a:avLst/>
          </a:prstGeom>
          <a:ln w="0">
            <a:noFill/>
          </a:ln>
        </p:spPr>
      </p:pic>
      <p:sp>
        <p:nvSpPr>
          <p:cNvPr id="326" name="7-конечная звезда 4"/>
          <p:cNvSpPr/>
          <p:nvPr/>
        </p:nvSpPr>
        <p:spPr>
          <a:xfrm>
            <a:off x="4357800" y="1571760"/>
            <a:ext cx="42840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7-конечная звезда 5"/>
          <p:cNvSpPr/>
          <p:nvPr/>
        </p:nvSpPr>
        <p:spPr>
          <a:xfrm>
            <a:off x="3929040" y="1785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7-конечная звезда 6"/>
          <p:cNvSpPr/>
          <p:nvPr/>
        </p:nvSpPr>
        <p:spPr>
          <a:xfrm>
            <a:off x="5929200" y="6143760"/>
            <a:ext cx="42876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7-конечная звезда 7"/>
          <p:cNvSpPr/>
          <p:nvPr/>
        </p:nvSpPr>
        <p:spPr>
          <a:xfrm>
            <a:off x="1857240" y="328608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7-конечная звезда 8"/>
          <p:cNvSpPr/>
          <p:nvPr/>
        </p:nvSpPr>
        <p:spPr>
          <a:xfrm>
            <a:off x="2357280" y="2928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7-конечная звезда 9"/>
          <p:cNvSpPr/>
          <p:nvPr/>
        </p:nvSpPr>
        <p:spPr>
          <a:xfrm>
            <a:off x="4214880" y="292896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7-конечная звезда 10"/>
          <p:cNvSpPr/>
          <p:nvPr/>
        </p:nvSpPr>
        <p:spPr>
          <a:xfrm>
            <a:off x="6643800" y="357192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Вертикальный свиток 11"/>
          <p:cNvSpPr/>
          <p:nvPr/>
        </p:nvSpPr>
        <p:spPr>
          <a:xfrm>
            <a:off x="-357120" y="4071960"/>
            <a:ext cx="3786120" cy="2786040"/>
          </a:xfrm>
          <a:prstGeom prst="verticalScroll">
            <a:avLst>
              <a:gd name="adj" fmla="val 12500"/>
            </a:avLst>
          </a:prstGeom>
          <a:solidFill>
            <a:srgbClr val="fdd7b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Софиев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ТНЫЙ СЧЕТ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8,4 +(-8,4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6,7)*(-10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,2)+3,5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3 -8 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-18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,4- (-3,2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9*6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Не выполняя вычислений поставить знаки между выражениями: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1733 (-69) ... 1733  · 6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-178  ·  13 ... -178  · (-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-204 · (-17) ... 204  ·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-5 · 0 ... 0 · (-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(-2) … (-2)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 -20,25  ·  (-13)  …19,77 · (- 44)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  14,02  ·  12… (-20,5)  ·  0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: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434960" y="1447920"/>
          <a:ext cx="7499520" cy="1828800"/>
        </p:xfrm>
        <a:graphic>
          <a:graphicData uri="http://schemas.openxmlformats.org/drawingml/2006/table">
            <a:tbl>
              <a:tblPr/>
              <a:tblGrid>
                <a:gridCol w="1071720"/>
                <a:gridCol w="1071720"/>
                <a:gridCol w="1071360"/>
                <a:gridCol w="1069920"/>
                <a:gridCol w="1071720"/>
                <a:gridCol w="1071360"/>
                <a:gridCol w="1071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ород вХмельницкой области Украины, административный центр Каменец-Подольского района, один из древнейших городов края, основан как крепость, имеющая важное геополитическое положение на границе христианской и мусульманской культур, пересечении сухопутных и водных маршрутов.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ходил в составКиевской Руси, в XIII—XIV веках — Галицко-Волынского княжест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Содержимое 3" descr="66209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D:\документы\география\9 класс\7 чудес Украины\Фото\17279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Представьте число – 6,9 в виде суммы трех равных слагаемых.Чуму равно одно из слагаемых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Сумма противоположных чисел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Сумма целых чисел от -50 до 52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Произведение 12 отрицательных чисел и 7 положительных чисел есть числ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Найдите сумму целых чисел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8,3 &lt; x &lt; 6 ,2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Произведение 15 отрицательных и 60 положительных чисел есть число 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 :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34960" y="1447920"/>
          <a:ext cx="7499520" cy="237780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  <a:gridCol w="1249560"/>
                <a:gridCol w="1250640"/>
                <a:gridCol w="124956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g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l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5:30:50Z</dcterms:created>
  <dc:creator>USER</dc:creator>
  <dc:description/>
  <dc:language>en-US</dc:language>
  <cp:lastModifiedBy>Admin</cp:lastModifiedBy>
  <dcterms:modified xsi:type="dcterms:W3CDTF">2013-02-18T11:53:3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9000000000001024140</vt:lpwstr>
  </property>
</Properties>
</file>