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6CBD-C8B7-4486-B26A-51D94278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A41D-8A2B-4215-99D7-E8D12CEA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54DD-C742-4A43-93C5-5C39306D3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8DF0-1ED0-4568-BCD9-ACE8EC1A4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3B0D-6776-42FE-B119-ED3D6F680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E52A-4F4D-4BB2-90F8-20FED773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94F4-F892-4D08-B316-47811341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2C8D-50EF-4899-9FDE-4DB951C9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184F-A367-41CB-9843-E49E13C2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C68A-2E4E-4BF3-8622-B37139DA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81EC-CD05-488F-B2D8-5151FFF9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79DB-D0D2-4B52-8EF3-B5A68A52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614E-5295-4C47-8CC6-88F1655F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E66E-1C9B-4666-B5FA-EC407F7D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E209-5545-4F4B-8242-9E5AC209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EE29-3C4D-41B4-ACA9-432E9D532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51F8-8D78-4419-AB04-85A34DB3D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4F467-C7E6-4E21-839B-4CF19A44E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A25FA-C260-47B9-ACAB-08F3FB26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D8EDE-772B-4BA7-AA73-85E3BC49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D7E1E-9155-4480-9BB0-B39C5FB8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5E2AC-39A7-4692-8BBE-3E7A1ADB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10B8-5276-4FD0-9411-AC32FAE6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57F36-5A15-4D79-BCFE-294F6F98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2C9E4-67BD-4863-A113-9512BA37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7B897-E13A-4D58-9747-83948B45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5CD4E-6139-4470-A344-60526B5B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32CA8-996A-4543-8918-DCFADA41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AF623-3093-445E-A287-A8E656864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14C81-2177-4EA3-83AD-4308B43F8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55C07-08AA-4057-9410-8677C07CC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A9BDA-62C4-410E-B465-9B1F7978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D41B8-2380-4476-8005-81D78610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3187-9DB1-4FF7-8B0F-08FC6966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1A318-EE89-4343-BF1D-363AB587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D143B-DDFF-43EF-A3AD-1C94C6AB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D6971-CC37-49A0-A554-78B67E40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0B0AB-EF4C-43F6-B969-697EE99A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5C536-6E60-4ED6-A1DB-C4350932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98C21-32C0-4F95-A9C9-F56A2B6E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1FEBA-055C-46E7-AB34-578E9BB1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6E7F6-E8BF-4EEB-B6BA-1F55D33E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BC2C6-F4A2-4741-BA20-107B400C7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B3449-F9EA-48DC-A112-0EE1B51FB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D0CE-717E-47D4-AC69-E8A2EAA0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BBB79-20CC-46F8-A4F1-559EB338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11D70-BD65-4A6C-B747-AC43CEF5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B120E-8441-4015-B99D-56050788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BB7CF-00DA-406B-A032-6DB649FE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1CD35-2D5D-4720-9D3E-E8C55E01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4BE0F-6596-44EA-918D-A1CFC9D5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9758A-ACC0-428C-83C0-B5716568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53DA9-30CC-475C-B482-646A60C1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24DB9-FD3D-4F2A-8A5A-C1DC8A0B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36AF5-5737-4E23-BDDB-380B4E60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F199-862C-4459-8323-0E1357A0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374D7-E3F6-4005-AF08-DE301C2F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F9A43-37B2-481E-B1AE-D0EBD9B81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1126C-C5F0-4443-941F-4015399F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2A338-6675-4322-B3FD-C4759DED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45AA4-1C61-4C0D-8B91-9C1136AD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82CC4-8C12-4909-98FD-1DDC76C3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E8107-9ED1-4C29-A11F-4D89FBA1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2CFD5-4208-4A1E-9046-1DE6C25B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9055E-4A4F-4FE3-A789-9D312C37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FE214-7FFC-49DD-AACF-7282F35A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7F03-1338-4B18-AA7A-D871D897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BD11D-A50F-43E5-AE9B-50169BDD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6E5B1-9D68-4D64-BD01-404BDE728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AEFE4-A3CF-4579-8E22-CB17D46E2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284E2-E609-4996-A74C-3F827D910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7D105-EBE2-4EE6-9609-730BF0BE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58660-19D4-4C11-88EB-41B13B52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E908E-47FC-43B3-B80B-91A2B51C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F6035-5F2E-43DE-B9D3-11A05AEF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720B1-819E-4B29-9973-D3FA9E50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3FE0D-F965-40D6-8F6F-EDF5D5A0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4D76-18DE-4751-B316-1A3737D2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210D1-1983-4413-B361-92443B0F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3D544-5A6F-4D7B-AD6A-7D8B4A5B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A3D4F-4C6F-4EF7-8562-4C65C4F3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F9BBF-ECF0-4AF6-8FA1-3F040CC4F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9DAAB-6826-48E4-A3E6-7E1B7E33F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E5AB-D8E3-4592-8567-A429C41D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B180-151F-436F-9A5B-F235FC3FAA4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2F96-AC2D-4E88-B634-0A62A700EC2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2ACB-FF20-47BA-AC15-A4125D8EF46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BA15-654C-4EA4-BB58-A68EB8E7707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7635-D300-40A2-BF8C-6F54E7A17E4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B286-4DA1-427E-B33D-17EF6FF79EC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199A-F565-45A2-8204-726AED58A14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Picture 3" descr="D:\документы\география\9 класс\7 чудес Украины\Фото\nnzs746phsv0qoqfn.jpg"/>
          <p:cNvPicPr/>
          <p:nvPr/>
        </p:nvPicPr>
        <p:blipFill>
          <a:blip r:embed="rId2"/>
          <a:stretch/>
        </p:blipFill>
        <p:spPr>
          <a:xfrm>
            <a:off x="500040" y="0"/>
            <a:ext cx="8643960" cy="6858000"/>
          </a:xfrm>
          <a:prstGeom prst="rect">
            <a:avLst/>
          </a:prstGeom>
          <a:ln w="0">
            <a:noFill/>
          </a:ln>
        </p:spPr>
      </p:pic>
      <p:pic>
        <p:nvPicPr>
          <p:cNvPr id="320" name="sound 2 для Украины.mp3" descr=""/>
          <p:cNvPicPr/>
          <p:nvPr/>
        </p:nvPicPr>
        <p:blipFill>
          <a:blip r:embed="rId3"/>
          <a:stretch/>
        </p:blipFill>
        <p:spPr>
          <a:xfrm>
            <a:off x="8215200" y="61437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21" name="Заголовок 1"/>
          <p:cNvSpPr/>
          <p:nvPr/>
        </p:nvSpPr>
        <p:spPr>
          <a:xfrm>
            <a:off x="500040" y="5500800"/>
            <a:ext cx="7497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Corbel"/>
              </a:rPr>
              <a:t>  </a:t>
            </a:r>
            <a:endParaRPr b="0" lang="en-US" sz="3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роверь результат и прочитай слава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- 0,6  ·  4  =  - 2,4                               Дорогу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- 6 ·  (-0,3 )  =  0,18                            Математик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- 1,5 ·  2 = - 3                                      Осили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- 3  ·  (- 0,6)  = - 1,8                           Гимнастик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orbel"/>
              </a:rPr>
              <a:t>- 1 + 7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=   4                                       Ум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orbel"/>
              </a:rPr>
              <a:t>-5 + 9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=  1                                       Идущий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  <a:ea typeface="Arial"/>
              </a:rPr>
              <a:t>2.Киево-Печерская лавра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71360" y="1447560"/>
            <a:ext cx="7862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дин из первых по времени основания монастырей на Руси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снован в 1051 году при Ярославе Мудром монахом Антонием, родом из Любеча.  Сооснователем Печерского монастыря стал один из первых учеников Антония — Феодосий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Князь Святослав II Ярославич подарил монастырю плато над пещерами, где позже выросли прекрасные каменные храмы, украшенные живописью,кельи, крепостные башни и другие строения. 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Содержимое 3" descr="66208.jpeg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D:\документы\география\9 класс\7 чудес Украины\Фото\17281_content.jpg"/>
          <p:cNvPicPr/>
          <p:nvPr/>
        </p:nvPicPr>
        <p:blipFill>
          <a:blip r:embed="rId3"/>
          <a:stretch/>
        </p:blipFill>
        <p:spPr>
          <a:xfrm>
            <a:off x="0" y="-142920"/>
            <a:ext cx="9144000" cy="738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31680" y="142560"/>
            <a:ext cx="8211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900" spc="-1" strike="noStrike">
                <a:solidFill>
                  <a:srgbClr val="572314"/>
                </a:solidFill>
                <a:latin typeface="Tahoma"/>
              </a:rPr>
              <a:t>Национа́льный дендрологи́ческий парк «Софиевка»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71720" y="1428480"/>
            <a:ext cx="7783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арк, научно-исследовательский институт Национальной академии наук Украины, расположенный в северной части города Умань Черкасской области, на берегах реки Каменки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лощадь — 179,2 г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наши дни это место отдых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Ежегодно его посещают около 500 тысяч человек.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6" name="Содержимое 3" descr="66212.jpeg"/>
          <p:cNvPicPr/>
          <p:nvPr/>
        </p:nvPicPr>
        <p:blipFill>
          <a:blip r:embed="rId2"/>
          <a:stretch/>
        </p:blipFill>
        <p:spPr>
          <a:xfrm>
            <a:off x="343080" y="1357200"/>
            <a:ext cx="8800920" cy="55008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" descr="D:\документы\география\9 класс\7 чудес Украины\Фото\17284_content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  <a:ea typeface="Arial"/>
              </a:rPr>
              <a:t>4. София Киевская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142640" y="1447560"/>
            <a:ext cx="7791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(укр. </a:t>
            </a:r>
            <a:r>
              <a:rPr b="0" i="1" lang="ru-RU" sz="2700" spc="-1" strike="noStrike">
                <a:solidFill>
                  <a:srgbClr val="000000"/>
                </a:solidFill>
                <a:latin typeface="Corbel"/>
              </a:rPr>
              <a:t>Собор святої Софії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; 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Софи́йский собо́р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, укр. </a:t>
            </a:r>
            <a:r>
              <a:rPr b="0" i="1" lang="ru-RU" sz="2700" spc="-1" strike="noStrike">
                <a:solidFill>
                  <a:srgbClr val="000000"/>
                </a:solidFill>
                <a:latin typeface="Corbel"/>
              </a:rPr>
              <a:t>Софійський собор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) был построен в XI веке в центреКиева по приказу Ярослава Мудрого. На рубеже XVII-XVIII вековбыл внешне перестроен в стиле украинского барокко. Внутри Собора сохранилось множество древних 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Corbel"/>
              </a:rPr>
              <a:t>фресок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 и мозаик, в том числе знаменитая мозаика </a:t>
            </a:r>
            <a:r>
              <a:rPr b="0" i="1" lang="ru-RU" sz="2700" spc="-1" strike="noStrike">
                <a:solidFill>
                  <a:srgbClr val="000000"/>
                </a:solidFill>
                <a:latin typeface="Corbel"/>
              </a:rPr>
              <a:t>Богоматерь Оранта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офийский собор стал первым внесённым в список Всемирного наследия ЮНЕСКО памятником архитектуры на территорииУкраины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0" name="Содержимое 3" descr="66213.jpeg"/>
          <p:cNvPicPr/>
          <p:nvPr/>
        </p:nvPicPr>
        <p:blipFill>
          <a:blip r:embed="rId2"/>
          <a:stretch/>
        </p:blipFill>
        <p:spPr>
          <a:xfrm>
            <a:off x="0" y="9288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D:\документы\география\9 класс\7 чудес Украины\Фото\17278_content.jpg"/>
          <p:cNvPicPr/>
          <p:nvPr/>
        </p:nvPicPr>
        <p:blipFill>
          <a:blip r:embed="rId3"/>
          <a:stretch/>
        </p:blipFill>
        <p:spPr>
          <a:xfrm>
            <a:off x="0" y="-214200"/>
            <a:ext cx="9144000" cy="734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1213920" y="1447560"/>
            <a:ext cx="7929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(др.-греч. Χερσόνησος — ἡ χερσόνησος: «полуостров»; в византийское время — 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Херсон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, в Генуэзскийпериод — 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Сарсона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, в русских летописях — 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Корсунь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) — полис, основанный древними греками на Гераклейском полуострове на юго-западном побережьеКрыма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Ныне Херсонесское городище расположено на территорииГагаринского района Севастополя. На протяжении двух тысяч лет Херсонес являлся крупным политическим, экономическим и культурным центром Северного Причерноморья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14280" y="21384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  <a:ea typeface="Arial"/>
              </a:rPr>
              <a:t>5. Херсонес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4" name="Содержимое 3" descr="66210.jpeg"/>
          <p:cNvPicPr/>
          <p:nvPr/>
        </p:nvPicPr>
        <p:blipFill>
          <a:blip r:embed="rId2"/>
          <a:stretch/>
        </p:blipFill>
        <p:spPr>
          <a:xfrm>
            <a:off x="0" y="9288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D:\документы\география\9 класс\7 чудес Украины\Фото\17287_content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Расположите  результаты в порядке возрастания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0,5 · 40          Х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-2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0,1 · (-3)        С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0,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0,9 · (-0,6)    Н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-0,5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0,04 · (-10)   К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0,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1 · 3,2            О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-3,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,6 · 2             Я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7,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10 · 0,1         И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· (-4)              Т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(-2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А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  <a:ea typeface="Arial"/>
              </a:rPr>
              <a:t>6. Хотинская крепость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репость X-XVIII веков, расположенная в городе Хотин, Украин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протяжении V-X веков укрепление использовалось летописным племенем тиверцев, и выглядело как типовое мысовое городище. Постройку каменных укреплений Хотина принято связывать с Галицко-Волынским княжеством и с именем Данилы Галицког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0" name="Содержимое 4" descr="66214.jpeg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D:\документы\география\9 класс\7 чудес Украины\Фото\17290_content.jpg"/>
          <p:cNvPicPr/>
          <p:nvPr/>
        </p:nvPicPr>
        <p:blipFill>
          <a:blip r:embed="rId3"/>
          <a:stretch/>
        </p:blipFill>
        <p:spPr>
          <a:xfrm>
            <a:off x="0" y="0"/>
            <a:ext cx="92394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  <a:ea typeface="Arial"/>
              </a:rPr>
              <a:t>7. Хортица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рупнейший остров на 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Днепр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расположен в районе города Запорожье ниже ДнепроГЭСа, уникальный природный и исторический комплекс. Вытянут с северо-запада на юго-восток, длина 12,5 км, ширина в среднем 2,5 км. В 2007 году был назван одним из «Семи чудес Украины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4" name="Содержимое 3" descr="66211.jpeg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D:\документы\география\9 класс\7 чудес Украины\Фото\17288_content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Corbel"/>
              </a:rPr>
              <a:t>Тема: Обобщение и систематизация знаний по теме «Умножение рациональных чисел»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orbel"/>
              </a:rPr>
              <a:t>«Учиться можно весело…Чтобы переваривать знания, надо поглощать их с аппетитом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orbel"/>
              </a:rPr>
              <a:t>А.Фран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5" name="Содержимое 3" descr="Map_of_the_Seven_Wonders_of_Ukraine.PNG"/>
          <p:cNvPicPr/>
          <p:nvPr/>
        </p:nvPicPr>
        <p:blipFill>
          <a:blip r:embed="rId2"/>
          <a:stretch/>
        </p:blipFill>
        <p:spPr>
          <a:xfrm>
            <a:off x="-214200" y="0"/>
            <a:ext cx="9501120" cy="6643800"/>
          </a:xfrm>
          <a:prstGeom prst="rect">
            <a:avLst/>
          </a:prstGeom>
          <a:ln w="0">
            <a:noFill/>
          </a:ln>
        </p:spPr>
      </p:pic>
      <p:sp>
        <p:nvSpPr>
          <p:cNvPr id="326" name="7-конечная звезда 4"/>
          <p:cNvSpPr/>
          <p:nvPr/>
        </p:nvSpPr>
        <p:spPr>
          <a:xfrm>
            <a:off x="4357800" y="1571760"/>
            <a:ext cx="428400" cy="42840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7-конечная звезда 5"/>
          <p:cNvSpPr/>
          <p:nvPr/>
        </p:nvSpPr>
        <p:spPr>
          <a:xfrm>
            <a:off x="3929040" y="1785960"/>
            <a:ext cx="428760" cy="42876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7-конечная звезда 6"/>
          <p:cNvSpPr/>
          <p:nvPr/>
        </p:nvSpPr>
        <p:spPr>
          <a:xfrm>
            <a:off x="5929200" y="6143760"/>
            <a:ext cx="428760" cy="42840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7-конечная звезда 7"/>
          <p:cNvSpPr/>
          <p:nvPr/>
        </p:nvSpPr>
        <p:spPr>
          <a:xfrm>
            <a:off x="1857240" y="3286080"/>
            <a:ext cx="428760" cy="42876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7-конечная звезда 8"/>
          <p:cNvSpPr/>
          <p:nvPr/>
        </p:nvSpPr>
        <p:spPr>
          <a:xfrm>
            <a:off x="2357280" y="2928960"/>
            <a:ext cx="428760" cy="42876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7-конечная звезда 9"/>
          <p:cNvSpPr/>
          <p:nvPr/>
        </p:nvSpPr>
        <p:spPr>
          <a:xfrm>
            <a:off x="4214880" y="2928960"/>
            <a:ext cx="428400" cy="42876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7-конечная звезда 10"/>
          <p:cNvSpPr/>
          <p:nvPr/>
        </p:nvSpPr>
        <p:spPr>
          <a:xfrm>
            <a:off x="6643800" y="3571920"/>
            <a:ext cx="428400" cy="42876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Вертикальный свиток 11"/>
          <p:cNvSpPr/>
          <p:nvPr/>
        </p:nvSpPr>
        <p:spPr>
          <a:xfrm>
            <a:off x="-357120" y="4071960"/>
            <a:ext cx="3786120" cy="2786040"/>
          </a:xfrm>
          <a:prstGeom prst="verticalScroll">
            <a:avLst>
              <a:gd name="adj" fmla="val 12500"/>
            </a:avLst>
          </a:prstGeom>
          <a:solidFill>
            <a:srgbClr val="fdd7b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.Заповедник «Каменец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Киево-Печерская лавр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Софиевк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. София Киевская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. Херсонес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6. Хотинская крепост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7. Хортиц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УСТНЫЙ СЧЕТ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8,4 +(-8,4)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(-6,7)*(-10)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(-2,2)+3,5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13 -8 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5-18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,4- (-3,2)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9*6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Не выполняя вычислений поставить знаки между выражениями: </a:t>
            </a:r>
            <a:br>
              <a:rPr sz="39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1733 (-69) ... 1733  · 69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-178  ·  13 ... -178  · (-13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-204 · (-17) ... 204  · 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-5 · 0 ... 0 · (-5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(-2) … (-2)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  -20,25  ·  (-13)  …19,77 · (- 44)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.   14,02  ·  12… (-20,5)  ·  0    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72314"/>
                </a:solidFill>
                <a:latin typeface="Corbel"/>
              </a:rPr>
              <a:t>ОТВЕТ: 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434960" y="1447920"/>
          <a:ext cx="7499520" cy="1828800"/>
        </p:xfrm>
        <a:graphic>
          <a:graphicData uri="http://schemas.openxmlformats.org/drawingml/2006/table">
            <a:tbl>
              <a:tblPr/>
              <a:tblGrid>
                <a:gridCol w="1071720"/>
                <a:gridCol w="1071720"/>
                <a:gridCol w="1071360"/>
                <a:gridCol w="1069920"/>
                <a:gridCol w="1071720"/>
                <a:gridCol w="1071360"/>
                <a:gridCol w="10717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&lt;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&lt;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&gt;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=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&lt;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&gt;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&gt;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Ц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  <a:ea typeface="Arial"/>
              </a:rPr>
              <a:t>1.Заповедник «Каменец»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00080" y="1447560"/>
            <a:ext cx="7934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город вХмельницкой области Украины, административный центр Каменец-Подольского района, один из древнейших городов края, основан как крепость, имеющая важное геополитическое положение на границе христианской и мусульманской культур, пересечении сухопутных и водных маршрутов.,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ходил в составКиевской Руси, в XIII—XIV веках — Галицко-Волынского княжеств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2" name="Содержимое 3" descr="66209.jpeg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D:\документы\география\9 класс\7 чудес Украины\Фото\17279_content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.Представьте число – 6,9 в виде суммы трех равных слагаемых.Чуму равно одно из слагаемых?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. Сумма противоположных чисел равна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. Сумма целых чисел от -50 до 52 равна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4.Произведение 12 отрицательных чисел и 7 положительных чисел есть число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5.Найдите сумму целых чисел </a:t>
            </a: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&lt;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-8,3 &lt; x &lt; 6 ,2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6.Произведение 15 отрицательных и 60 положительных чисел есть число …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85560" y="2138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72314"/>
                </a:solidFill>
                <a:latin typeface="Corbel"/>
              </a:rPr>
              <a:t>Ответ :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434960" y="1447920"/>
          <a:ext cx="7499520" cy="2377800"/>
        </p:xfrm>
        <a:graphic>
          <a:graphicData uri="http://schemas.openxmlformats.org/drawingml/2006/table">
            <a:tbl>
              <a:tblPr/>
              <a:tblGrid>
                <a:gridCol w="1249560"/>
                <a:gridCol w="1251000"/>
                <a:gridCol w="1249200"/>
                <a:gridCol w="1249560"/>
                <a:gridCol w="1250640"/>
                <a:gridCol w="124956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Н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С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Т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О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Р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2,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&gt;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15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&lt;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15:30:50Z</dcterms:created>
  <dc:creator>USER</dc:creator>
  <dc:description/>
  <dc:language>en-US</dc:language>
  <cp:lastModifiedBy>Admin</cp:lastModifiedBy>
  <dcterms:modified xsi:type="dcterms:W3CDTF">2013-02-18T11:53:38Z</dcterms:modified>
  <cp:revision>4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19000000000001024140</vt:lpwstr>
  </property>
</Properties>
</file>