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A59-80DD-4A6D-9D20-070A3520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D55-7EEA-4AD2-95F0-FD452F1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671-B350-4B3F-A31D-7E2AE02F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B27-5712-4C24-8418-11331683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808A-B4F6-4D0B-843F-231D862A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C0BE-D20C-4D3D-BF4D-030481E8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A2D6-A8EE-4F72-853C-62F746F4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A14-63E9-4B8B-95DB-106E94D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3434-9AE0-41C6-A5E4-8CAB869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3A4C-85CF-4712-897E-AFDD237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8E8A-9AF3-423F-BF41-66EE85A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3CA-16ED-4D17-AA4B-847C3EB8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35C6-0240-492A-93CC-4F324B5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37B-3AAC-4F21-97B8-57624F2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AC63-6C29-4E84-BBEE-451F960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A859-B5C5-467B-AC9E-7F245AB1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013-A42C-4466-8695-9C52FFCA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48D4-DE3E-4356-9DB7-0734213A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4BD8-E318-4A30-8DF3-D4B5A4EE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7772-D76F-454C-8767-4026D9E9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F0EA-8DF5-410A-A392-2C20132B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14B2-7E85-42DB-B8CA-E27A80D8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F9E-2C59-4907-BDFD-C1DA8E2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4173-8300-4EA7-B558-F18BF0C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BCFF-1363-4673-99A6-06236B94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4240-4E7E-445E-9E84-DA026AB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928E-815A-452B-9062-87B5EF6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D6FC-4F44-404F-A7F0-00294D5E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AE79-2DA6-4AA2-B381-6D2A1480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E533-6478-424C-9360-F74503E8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8666-293B-425B-BE4A-EBACD09B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B519-69F2-42C6-885A-2B31A16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CDCE1-9119-4D2B-9E60-AC0B1105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62B-BA4C-4FD7-A5B3-6171C8F1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1752-4BDC-4E5C-9CC5-285042F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D1BC-D2A1-4CB7-A73B-77F3A68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4FC4-E1C6-4514-8D4A-94DEF886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E91E-EE78-45C5-AA41-08BF421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6196-92BC-4537-BC36-59E93EC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1D52-6271-4AF3-9B19-BEDDFAC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741B-A10F-475A-A02E-9477DF76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6F0A-6A06-47B9-A792-10684450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25E4-E90A-41AF-8FD8-C5286B52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277A-8DC2-451C-A2C1-22D7E15C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0A8-C63A-4087-9324-808C5FB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0E67-E566-43E8-8DA2-4DFE136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43EA-7FFF-4F83-AF24-C53FF8CB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8C7C-E4E4-4076-ABA4-13C471C0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48A2-46D3-4891-9A79-044E48D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4965-96C4-4351-9DEB-1AE115AE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80D8F-BC77-4F57-8187-E856AC51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DA55-285F-43CC-AA54-FC9570C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6826-E880-4164-844C-1E4EB71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A8AC-E6BA-4C08-A637-89990DEC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063E-345D-4430-BD89-22573271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1E4-0294-4DC7-BED7-64D35A2D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F03B-18CC-477B-BFEB-C4F65CA2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7B57-2D75-48C1-ADBB-A717BEEB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90FE-9A4B-49AB-B874-87231F7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B03A-C65A-4256-AEA5-039E381D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30D8-4F2B-4DEA-B85D-DCDB11A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B309B-1E67-4C04-A744-EF8B1194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5928-2605-4E02-8E03-FD382053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25A6-8D4C-4D1E-9317-F8A5818A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31CC-2C75-4520-B472-45BE9F3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3AC9-DDB3-439D-9D45-25098D5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3E8-6416-4190-B62D-5E34F65D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50B4-ACE0-4352-A9DA-2D30058A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5037-96C4-4766-8B7D-8030DF43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9AA3-146A-4186-A4A9-65CBE9E6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70CB-9D2B-4AE2-BB81-AA89078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95DD8-BB3F-4722-B1BA-0A7C2A49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4AD8-1DA5-4851-8EC2-0C8F6BA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BAE1-BF67-4B99-9726-65DF256A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BD1E2-1365-497A-B2AC-F0F0A33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934F-A781-44D1-B48D-1286B993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E78D3-E5B0-4E94-A9D2-A5D71C94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C7F-FFFE-412C-84E3-B500A79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257D-A842-4896-A2C5-5DEF4BE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1420-EEC5-451E-BC17-2E52B52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9D89-1AE3-405D-BE17-A816F6A5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CD053-AE17-433C-8B98-951C5AA1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8ED8-5D6C-403A-AF5E-79F27A18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2E1-C18C-4D92-A1E6-0454B3B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0835-CAB8-4D0F-B11B-1701525063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59A-8EE4-4EDB-8310-DAFCDD6912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315-35CD-4A35-8597-B97F11A415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6F89-3DB5-4B5D-97E2-23CC192022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F1E7-7CDC-46F0-804A-D537E5EDAA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7C38-4470-47DE-8D1C-516D199C29E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27C0-9C3C-449B-BD8E-4A4CBE05A6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D:\документы\география\9 класс\7 чудес Украины\Фото\nnzs746phsv0qoqfn.jpg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sound 2 для Украины.mp3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00040" y="55008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результат и прочитай слав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0,6  ·  4  =  - 2,4                               Дорог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6 ·  (-0,3 )  =  0,18                            Матема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1,5 ·  2 = - 3                                      Осили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3  ·  (- 0,6)  = - 1,8                           Гимнас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 1 + 7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=   4                                       Ум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5 + 9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=  1                                       Идущи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дин из первых по времени основания монастырей на Рус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нован в 1051 году при Ярославе Мудром монахом Антонием, родом из Любеча.  Сооснователем Печерского монастыря стал один из первых учеников Антония — Феодос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язь Святослав II Ярославич подарил монастырю плато над пещерами, где позже выросли прекрасные каменные храмы, украшенные живописью,кельи, крепостные башни и другие строени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Содержимое 3" descr="66208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документы\география\9 класс\7 чудес Украины\Фото\17281_content.jpg"/>
          <p:cNvPicPr/>
          <p:nvPr/>
        </p:nvPicPr>
        <p:blipFill>
          <a:blip r:embed="rId3"/>
          <a:stretch/>
        </p:blipFill>
        <p:spPr>
          <a:xfrm>
            <a:off x="0" y="-14292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14256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900" spc="-1" strike="noStrike">
                <a:solidFill>
                  <a:srgbClr val="572314"/>
                </a:solidFill>
                <a:latin typeface="Tahoma"/>
              </a:rPr>
              <a:t>Национа́льный дендрологи́ческий парк «Софиев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1720" y="1428480"/>
            <a:ext cx="778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к, научно-исследовательский институт Национальной академии наук Украины, расположенный в северной части города Умань Черкасской области, на берегах реки Камен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 — 179,2 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аши дни это место отды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жегодно его посещают около 500 тысяч человек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Содержимое 3" descr="66212.jpeg"/>
          <p:cNvPicPr/>
          <p:nvPr/>
        </p:nvPicPr>
        <p:blipFill>
          <a:blip r:embed="rId2"/>
          <a:stretch/>
        </p:blipFill>
        <p:spPr>
          <a:xfrm>
            <a:off x="343080" y="1357200"/>
            <a:ext cx="8800920" cy="5500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документы\география\9 класс\7 чудес Украины\Фото\17284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бор святої Софії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фи́йский собо́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 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фійський собо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 был построен в XI веке в центреКиева по приказу Ярослава Мудрого. На рубеже XVII-XVIII вековбыл внешне перестроен в стиле украинского барокко. Внутри Собора сохранилось множество древних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фресок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и мозаик, в том числе знаменитая мозаик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огоматерь Орант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фийский собор стал первым внесённым в список Всемирного наследия ЮНЕСКО памятником архитектуры на территорииУкраи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Содержимое 3" descr="66213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D:\документы\география\9 класс\7 чудес Украины\Фото\17278_content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др.-греч. Χερσόνησος — ἡ χερσόνησος: «полуостров»; в византийское время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Херсо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 Генуэзскийпериод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арсон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 русских летописях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Корсун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 — полис, основанный древними греками на Гераклейском полуострове на юго-западном побережьеКры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ыне Херсонесское городище расположено на территорииГагаринского района Севастополя. На протяжении двух тысяч лет Херсонес являлся крупным политическим, экономическим и культурным центром Северного Причерноморь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66210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документы\география\9 класс\7 чудес Украины\Фото\17287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ите  результаты в порядке возраст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5 · 40          Х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1 · (-3)        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9 · (-0,6)    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0,5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04 · (-10)   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 · 3,2            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3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 · 2             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7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0 · 0,1         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· (-4)              Т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А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пость X-XVIII веков, расположенная в городе Хотин, Укра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отяжении V-X веков укрепление использовалось летописным племенем тиверцев, и выглядело как типовое мысовое городище. Постройку каменных укреплений Хотина принято связывать с Галицко-Волынским княжеством и с именем Данилы Галиц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Содержимое 4" descr="66214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документы\география\9 класс\7 чудес Украины\Фото\17290_content.jpg"/>
          <p:cNvPicPr/>
          <p:nvPr/>
        </p:nvPicPr>
        <p:blipFill>
          <a:blip r:embed="rId3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пнейший остров на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неп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расположен в районе города Запорожье ниже ДнепроГЭСа, уникальный природный и исторический комплекс. Вытянут с северо-запада на юго-восток, длина 12,5 км, ширина в среднем 2,5 км. В 2007 году был назван одним из «Семи чудес Украины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Содержимое 3" descr="66211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география\9 класс\7 чудес Украины\Фото\17288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Тема: Обобщение и систематизация знаний по теме «Умножение рациональных чисел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Учиться можно весело…Чтобы переваривать знания, надо поглощать их с аппетит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А.Фран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Map_of_the_Seven_Wonders_of_Ukraine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6643800"/>
          </a:xfrm>
          <a:prstGeom prst="rect">
            <a:avLst/>
          </a:prstGeom>
          <a:ln w="0">
            <a:noFill/>
          </a:ln>
        </p:spPr>
      </p:pic>
      <p:sp>
        <p:nvSpPr>
          <p:cNvPr id="326" name="7-конечная звезда 4"/>
          <p:cNvSpPr/>
          <p:nvPr/>
        </p:nvSpPr>
        <p:spPr>
          <a:xfrm>
            <a:off x="4357800" y="1571760"/>
            <a:ext cx="42840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7-конечная звезда 5"/>
          <p:cNvSpPr/>
          <p:nvPr/>
        </p:nvSpPr>
        <p:spPr>
          <a:xfrm>
            <a:off x="3929040" y="1785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7-конечная звезда 6"/>
          <p:cNvSpPr/>
          <p:nvPr/>
        </p:nvSpPr>
        <p:spPr>
          <a:xfrm>
            <a:off x="5929200" y="6143760"/>
            <a:ext cx="42876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-конечная звезда 7"/>
          <p:cNvSpPr/>
          <p:nvPr/>
        </p:nvSpPr>
        <p:spPr>
          <a:xfrm>
            <a:off x="1857240" y="328608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7-конечная звезда 8"/>
          <p:cNvSpPr/>
          <p:nvPr/>
        </p:nvSpPr>
        <p:spPr>
          <a:xfrm>
            <a:off x="2357280" y="2928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7-конечная звезда 9"/>
          <p:cNvSpPr/>
          <p:nvPr/>
        </p:nvSpPr>
        <p:spPr>
          <a:xfrm>
            <a:off x="4214880" y="292896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7-конечная звезда 10"/>
          <p:cNvSpPr/>
          <p:nvPr/>
        </p:nvSpPr>
        <p:spPr>
          <a:xfrm>
            <a:off x="6643800" y="357192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Вертикальный свиток 11"/>
          <p:cNvSpPr/>
          <p:nvPr/>
        </p:nvSpPr>
        <p:spPr>
          <a:xfrm>
            <a:off x="-357120" y="4071960"/>
            <a:ext cx="3786120" cy="2786040"/>
          </a:xfrm>
          <a:prstGeom prst="verticalScroll">
            <a:avLst>
              <a:gd name="adj" fmla="val 12500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Софиев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ТНЫЙ СЧЕТ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8,4 +(-8,4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6,7)*(-10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,2)+3,5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3 -8 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8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4- (-3,2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9*6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е выполняя вычислений поставить знаки между выражениями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1733 (-69) ... 1733  · 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-178  ·  13 ... -178  · (-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-204 · (-17) ... 204  ·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-5 · 0 ... 0 · (-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(-2) … (-2)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-20,25  ·  (-13)  …19,77 · (- 44)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 14,02  ·  12… (-20,5)  ·  0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: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34960" y="1447920"/>
          <a:ext cx="7499520" cy="1828800"/>
        </p:xfrm>
        <a:graphic>
          <a:graphicData uri="http://schemas.openxmlformats.org/drawingml/2006/table">
            <a:tbl>
              <a:tblPr/>
              <a:tblGrid>
                <a:gridCol w="1071720"/>
                <a:gridCol w="1071720"/>
                <a:gridCol w="1071360"/>
                <a:gridCol w="1069920"/>
                <a:gridCol w="1071720"/>
                <a:gridCol w="1071360"/>
                <a:gridCol w="10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ород вХмельницкой области Украины, административный центр Каменец-Подольского района, один из древнейших городов края, основан как крепость, имеющая важное геополитическое положение на границе христианской и мусульманской культур, пересечении сухопутных и водных маршрутов.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ходил в составКиевской Руси, в XIII—XIV веках — Галицко-Волынского княже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Содержимое 3" descr="66209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документы\география\9 класс\7 чудес Украины\Фото\17279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Представьте число – 6,9 в виде суммы трех равных слагаемых.Чуму равно одно из слагаемых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умма противоположных чисел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Сумма целых чисел от -50 до 52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Произведение 12 отрицательных чисел и 7 положительных чисел есть числ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Найдите сумму целых чисел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8,3 &lt; x &lt; 6 ,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Произведение 15 отрицательных и 60 положительных чисел есть число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 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34960" y="1447920"/>
          <a:ext cx="7499520" cy="23778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  <a:gridCol w="1250640"/>
                <a:gridCol w="12495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g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l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0:50Z</dcterms:created>
  <dc:creator>USER</dc:creator>
  <dc:description/>
  <dc:language>en-US</dc:language>
  <cp:lastModifiedBy>Admin</cp:lastModifiedBy>
  <dcterms:modified xsi:type="dcterms:W3CDTF">2013-02-18T11:53:3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9000000000001024140</vt:lpwstr>
  </property>
</Properties>
</file>