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9024-18C2-4555-BFCB-0EEEFD89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89BE-7A35-467A-878A-FC670EE2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858B-9AC4-4DE3-8AB0-0D730A1E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231-1961-4F35-934D-DE0DBEF2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6B66-EEB0-4A97-8EF0-CCDA35B5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6275-241A-4E86-9ED9-B23A7E7C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5C1B-0327-4B37-94D1-8A322BD1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3BAA-1EC3-4628-B37E-988E7050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3A0A-C67D-45C2-9D56-D3CA63B5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8ECF-608B-4D1F-B613-D4206D36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BD1F-6FA8-4203-95E7-7E5D9535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CC8D-CF04-4934-9BD8-E7C1BDD7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B5DF-5E91-4970-9CB5-69769084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5199-A845-4868-8395-11BE79C4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3EEC-A81A-472E-AD85-4C7A1F3A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6F6D-B599-4296-9ED2-A306D4C0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3A14-2CDA-4E34-BBAA-A8CCBF2E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0B3A7-6C19-4D57-B75A-5F78BD9A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C02E0-A6E6-47CA-8099-8CBD9D45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E2810-C118-4F50-9A36-A1E6591C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EF840-AA6B-4438-9206-75F5875D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82C32-C40A-445E-B212-024B8680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2E66-35B9-479B-B993-9685E52F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90F39-C35A-4028-8D32-E9963A4C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C7C43-00B7-435A-8EFC-46D6F3C3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AD623-E923-4FD5-9C88-1DDF84DC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B1D29-C88E-4DC0-A9D4-B1A1CF1C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23C4A-AA28-4B5E-BC37-4856F630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204EB-B1F9-41C2-99FE-545F0FC2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F3C26-F63B-4C58-86AF-EAD0CB81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A06A6-A6A3-4108-882A-ECE8549D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A8D12-BA81-48AB-9B05-3E1C5B79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A3916-E9B7-4AE8-8554-FFF6E21F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C6E0-EFF5-4467-BE5B-4D60289C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66097-2FFF-418D-A141-2089C74D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5028F-E79B-46A2-8517-986531CE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4750F-E4D3-4DEE-A497-AAA564A7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44FE6-4062-4ABD-8EC0-5DC3BA97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D9E41-B046-4F7D-8CCB-5391278D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0FE9F-43F7-437D-AC59-5EC251BF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3A5EF-D734-442E-93A6-1820C332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F9360-E590-453B-B757-B507719C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E6A04-FF14-437D-B167-358D34D2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8DFEA-1677-441B-AF4E-D58F0C1B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E6F1-AEE1-4010-9C23-3D7B81A3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410B6-51B3-46F1-A3FB-6EAE734C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E2AA0-0ADC-455F-B3B8-9CB16C15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7896B-26FE-4172-9CEB-6E59FFB4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C708C-5A8D-4F62-A8DD-9AB97E5E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BD858-B389-414F-B2D6-EED5BB13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C8420-6A23-4DD6-9C4F-A80D4CDE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51424-5026-4BB8-BF0B-6AAC2C3C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6F652-DDCE-4328-813B-DAF623CC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25C6F-2103-4BD4-98B0-1EB83426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368CE-AC4E-4242-8A0C-E777A7AD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D9A-0777-433C-BD92-D06172EB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2A4B6-7CA0-4F98-A4FD-0186D7A9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5EB4E-CFF0-4449-9F8D-78448F53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CB934-2A86-47FA-831D-86A9E1D9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49781-6B3C-428C-9C14-1EB18276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9830E-A37B-42A0-8A8A-62EBCB70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21678-51D8-48F1-910B-8B5C4633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029EE-AFF2-481C-9EAE-7CF86A4E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9CC5F-1541-4526-8043-D1F46104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357B9-A7B1-4918-A50A-099BD606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CFB68-8A5A-4086-AC82-FF408FA8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D612-14A8-4FA6-B9F4-24B35532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92A8D-721E-4816-BFFE-7E49002D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8713A-27FC-42B5-9F4A-21B3AF6F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28214-CB21-4301-933E-6D3DBAF5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F6C5C-D962-4DA0-9473-FFCC2DC0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E907D-C0C0-46AE-9460-7DBBC1B5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ECB5E-E6DF-4DC1-8508-36B10FD3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86E7D-2E33-4CE9-A69A-EF8CF9D0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FACC2-EE51-4711-8CD3-92E94092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6A3CA-9517-447B-BA8B-F56B13F2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7FDD8-E37D-4FB4-B7D1-3DD281E4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5338-5627-4AF6-AD79-624646D8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E003E-DC72-46AD-B6E5-6B334456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5C8B2-DAFF-4869-A842-AF91E982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21FD5-4A3E-4C08-958E-E9B9BDE0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96B8D-6D52-4B0D-BF55-BC6F6B87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C14E3-6121-4716-9C42-4AF087E2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1A3E-002F-4C8A-95F0-D3E04838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DA24-82A7-463E-8F75-23F2F711475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F03D-E3F6-4844-B606-58C840F6B38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D43B-F778-45E4-97A9-24A8E3500A3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DE4A-E2B3-4444-8A8C-58C3ACF4579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AF72-0590-475A-86FB-FA0D344CCEC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71B7-4CF5-4AFC-9EA6-EB1360FB583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E8FE-C08B-4A98-8F6E-DA70BA0B00F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3" descr="D:\документы\география\9 класс\7 чудес Украины\Фото\nnzs746phsv0qoqfn.jpg"/>
          <p:cNvPicPr/>
          <p:nvPr/>
        </p:nvPicPr>
        <p:blipFill>
          <a:blip r:embed="rId2"/>
          <a:stretch/>
        </p:blipFill>
        <p:spPr>
          <a:xfrm>
            <a:off x="500040" y="0"/>
            <a:ext cx="8643960" cy="6858000"/>
          </a:xfrm>
          <a:prstGeom prst="rect">
            <a:avLst/>
          </a:prstGeom>
          <a:ln w="0">
            <a:noFill/>
          </a:ln>
        </p:spPr>
      </p:pic>
      <p:pic>
        <p:nvPicPr>
          <p:cNvPr id="320" name="sound 2 для Украины.mp3" descr=""/>
          <p:cNvPicPr/>
          <p:nvPr/>
        </p:nvPicPr>
        <p:blipFill>
          <a:blip r:embed="rId3"/>
          <a:stretch/>
        </p:blipFill>
        <p:spPr>
          <a:xfrm>
            <a:off x="8215200" y="61437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21" name="Заголовок 1"/>
          <p:cNvSpPr/>
          <p:nvPr/>
        </p:nvSpPr>
        <p:spPr>
          <a:xfrm>
            <a:off x="500040" y="5500800"/>
            <a:ext cx="749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оверь результат и прочитай слава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0,6  ·  4  =  - 2,4                               Дорогу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6 ·  (-0,3 )  =  0,18                            Математик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1,5 ·  2 = - 3                                      Осили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3  ·  (- 0,6)  = - 1,8                           Гимнастик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- 1 + 7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=   4                                       Ум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-5 + 9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=  1                                       Идущий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  <a:ea typeface="Arial"/>
              </a:rPr>
              <a:t>2.Киево-Печерская лавра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дин из первых по времени основания монастырей на Руси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снован в 1051 году при Ярославе Мудром монахом Антонием, родом из Любеча.  Сооснователем Печерского монастыря стал один из первых учеников Антония — Феодосий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Князь Святослав II Ярославич подарил монастырю плато над пещерами, где позже выросли прекрасные каменные храмы, украшенные живописью,кельи, крепостные башни и другие строения. 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Содержимое 3" descr="66208.jpeg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D:\документы\география\9 класс\7 чудес Украины\Фото\17281_content.jpg"/>
          <p:cNvPicPr/>
          <p:nvPr/>
        </p:nvPicPr>
        <p:blipFill>
          <a:blip r:embed="rId3"/>
          <a:stretch/>
        </p:blipFill>
        <p:spPr>
          <a:xfrm>
            <a:off x="0" y="-142920"/>
            <a:ext cx="9144000" cy="738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31680" y="142560"/>
            <a:ext cx="821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900" spc="-1" strike="noStrike">
                <a:solidFill>
                  <a:srgbClr val="572314"/>
                </a:solidFill>
                <a:latin typeface="Tahoma"/>
              </a:rPr>
              <a:t>Национа́льный дендрологи́ческий парк «Софиевка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71720" y="1428480"/>
            <a:ext cx="778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арк, научно-исследовательский институт Национальной академии наук Украины, расположенный в северной части города Умань Черкасской области, на берегах реки Каменк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лощадь — 179,2 г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наши дни это место отдых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жегодно его посещают около 500 тысяч человек.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Содержимое 3" descr="66212.jpeg"/>
          <p:cNvPicPr/>
          <p:nvPr/>
        </p:nvPicPr>
        <p:blipFill>
          <a:blip r:embed="rId2"/>
          <a:stretch/>
        </p:blipFill>
        <p:spPr>
          <a:xfrm>
            <a:off x="343080" y="1357200"/>
            <a:ext cx="8800920" cy="55008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D:\документы\география\9 класс\7 чудес Украины\Фото\17284_content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4. София Киевская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142640" y="14475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(укр. 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Собор святої Софії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;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Софи́йский собо́р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, укр. 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Софійський собор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) был построен в XI веке в центреКиева по приказу Ярослава Мудрого. На рубеже XVII-XVIII вековбыл внешне перестроен в стиле украинского барокко. Внутри Собора сохранилось множество древних 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Corbel"/>
              </a:rPr>
              <a:t>фресок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 и мозаик, в том числе знаменитая мозаика </a:t>
            </a:r>
            <a:r>
              <a:rPr b="0" i="1" lang="ru-RU" sz="2700" spc="-1" strike="noStrike">
                <a:solidFill>
                  <a:srgbClr val="000000"/>
                </a:solidFill>
                <a:latin typeface="Corbel"/>
              </a:rPr>
              <a:t>Богоматерь Оранта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офийский собор стал первым внесённым в список Всемирного наследия ЮНЕСКО памятником архитектуры на территорииУкраины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Содержимое 3" descr="66213.jpeg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D:\документы\география\9 класс\7 чудес Украины\Фото\17278_content.jpg"/>
          <p:cNvPicPr/>
          <p:nvPr/>
        </p:nvPicPr>
        <p:blipFill>
          <a:blip r:embed="rId3"/>
          <a:stretch/>
        </p:blipFill>
        <p:spPr>
          <a:xfrm>
            <a:off x="0" y="-214200"/>
            <a:ext cx="9144000" cy="734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213920" y="1447560"/>
            <a:ext cx="792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(др.-греч. Χερσόνησος — ἡ χερσόνησος: «полуостров»; в византийское время —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Херсон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, в Генуэзскийпериод —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Сарсона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, в русских летописях —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Корсунь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) — полис, основанный древними греками на Гераклейском полуострове на юго-западном побережьеКрыма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Ныне Херсонесское городище расположено на территорииГагаринского района Севастополя. На протяжении двух тысяч лет Херсонес являлся крупным политическим, экономическим и культурным центром Северного Причерноморья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14280" y="21384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  <a:ea typeface="Arial"/>
              </a:rPr>
              <a:t>5. Херсонес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4" name="Содержимое 3" descr="66210.jpeg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D:\документы\география\9 класс\7 чудес Украины\Фото\17287_content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асположите  результаты в порядке возрастания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0,5 · 40          Х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2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0,1 · (-3)        С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0,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0,9 · (-0,6)    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0,5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0,04 · (-10)   К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0,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1 · 3,2            О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3,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,6 · 2             Я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7,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10 · 0,1         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· (-4)              Т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-2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А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6. Хотинская крепость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епость X-XVIII веков, расположенная в городе Хотин, Украин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протяжении V-X веков укрепление использовалось летописным племенем тиверцев, и выглядело как типовое мысовое городище. Постройку каменных укреплений Хотина принято связывать с Галицко-Волынским княжеством и с именем Данилы Галицко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Содержимое 4" descr="66214.jpeg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D:\документы\география\9 класс\7 чудес Украины\Фото\17290_content.jpg"/>
          <p:cNvPicPr/>
          <p:nvPr/>
        </p:nvPicPr>
        <p:blipFill>
          <a:blip r:embed="rId3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7. Хортица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упнейший остров на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Днепр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расположен в районе города Запорожье ниже ДнепроГЭСа, уникальный природный и исторический комплекс. Вытянут с северо-запада на юго-восток, длина 12,5 км, ширина в среднем 2,5 км. В 2007 году был назван одним из «Семи чудес Украины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Содержимое 3" descr="66211.jpeg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D:\документы\география\9 класс\7 чудес Украины\Фото\17288_content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orbel"/>
              </a:rPr>
              <a:t>Тема: Обобщение и систематизация знаний по теме «Умножение рациональных чисел»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rbel"/>
              </a:rPr>
              <a:t>«Учиться можно весело…Чтобы переваривать знания, надо поглощать их с аппетит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rbel"/>
              </a:rPr>
              <a:t>А.Фран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3" descr="Map_of_the_Seven_Wonders_of_Ukraine.PNG"/>
          <p:cNvPicPr/>
          <p:nvPr/>
        </p:nvPicPr>
        <p:blipFill>
          <a:blip r:embed="rId2"/>
          <a:stretch/>
        </p:blipFill>
        <p:spPr>
          <a:xfrm>
            <a:off x="-214200" y="0"/>
            <a:ext cx="9501120" cy="6643800"/>
          </a:xfrm>
          <a:prstGeom prst="rect">
            <a:avLst/>
          </a:prstGeom>
          <a:ln w="0">
            <a:noFill/>
          </a:ln>
        </p:spPr>
      </p:pic>
      <p:sp>
        <p:nvSpPr>
          <p:cNvPr id="326" name="7-конечная звезда 4"/>
          <p:cNvSpPr/>
          <p:nvPr/>
        </p:nvSpPr>
        <p:spPr>
          <a:xfrm>
            <a:off x="4357800" y="1571760"/>
            <a:ext cx="428400" cy="4284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7-конечная звезда 5"/>
          <p:cNvSpPr/>
          <p:nvPr/>
        </p:nvSpPr>
        <p:spPr>
          <a:xfrm>
            <a:off x="3929040" y="1785960"/>
            <a:ext cx="42876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7-конечная звезда 6"/>
          <p:cNvSpPr/>
          <p:nvPr/>
        </p:nvSpPr>
        <p:spPr>
          <a:xfrm>
            <a:off x="5929200" y="6143760"/>
            <a:ext cx="428760" cy="4284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7-конечная звезда 7"/>
          <p:cNvSpPr/>
          <p:nvPr/>
        </p:nvSpPr>
        <p:spPr>
          <a:xfrm>
            <a:off x="1857240" y="3286080"/>
            <a:ext cx="42876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7-конечная звезда 8"/>
          <p:cNvSpPr/>
          <p:nvPr/>
        </p:nvSpPr>
        <p:spPr>
          <a:xfrm>
            <a:off x="2357280" y="2928960"/>
            <a:ext cx="42876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7-конечная звезда 9"/>
          <p:cNvSpPr/>
          <p:nvPr/>
        </p:nvSpPr>
        <p:spPr>
          <a:xfrm>
            <a:off x="4214880" y="2928960"/>
            <a:ext cx="42840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7-конечная звезда 10"/>
          <p:cNvSpPr/>
          <p:nvPr/>
        </p:nvSpPr>
        <p:spPr>
          <a:xfrm>
            <a:off x="6643800" y="3571920"/>
            <a:ext cx="428400" cy="42876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Вертикальный свиток 11"/>
          <p:cNvSpPr/>
          <p:nvPr/>
        </p:nvSpPr>
        <p:spPr>
          <a:xfrm>
            <a:off x="-357120" y="4071960"/>
            <a:ext cx="3786120" cy="2786040"/>
          </a:xfrm>
          <a:prstGeom prst="verticalScroll">
            <a:avLst>
              <a:gd name="adj" fmla="val 12500"/>
            </a:avLst>
          </a:prstGeom>
          <a:solidFill>
            <a:srgbClr val="fdd7b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.Заповедник «Каменец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Киево-Печерская лавр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Софиев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 София Киевска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 Херсонес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. Хотинская крепост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. Хортиц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СТНЫЙ СЧЕТ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8,4 +(-8,4)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-6,7)*(-10)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-2,2)+3,5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13 -8 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5-18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,4- (-3,2)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9*6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Не выполняя вычислений поставить знаки между выражениями: 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1733 (-69) ... 1733  · 6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-178  ·  13 ... -178  · (-13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-204 · (-17) ... 204  · 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-5 · 0 ... 0 · (-5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(-2) … (-2)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 -20,25  ·  (-13)  …19,77 · (- 44)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  14,02  ·  12… (-20,5)  ·  0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ОТВЕТ: 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434960" y="1447920"/>
          <a:ext cx="7499520" cy="1828800"/>
        </p:xfrm>
        <a:graphic>
          <a:graphicData uri="http://schemas.openxmlformats.org/drawingml/2006/table">
            <a:tbl>
              <a:tblPr/>
              <a:tblGrid>
                <a:gridCol w="1071720"/>
                <a:gridCol w="1071720"/>
                <a:gridCol w="1071360"/>
                <a:gridCol w="1069920"/>
                <a:gridCol w="1071720"/>
                <a:gridCol w="1071360"/>
                <a:gridCol w="1071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lt;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lt;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gt;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=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lt;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gt;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&gt;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Ц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1.Заповедник «Каменец»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00080" y="1447560"/>
            <a:ext cx="7934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город вХмельницкой области Украины, административный центр Каменец-Подольского района, один из древнейших городов края, основан как крепость, имеющая важное геополитическое положение на границе христианской и мусульманской культур, пересечении сухопутных и водных маршрутов.,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ходил в составКиевской Руси, в XIII—XIV веках — Галицко-Волынского княжеств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Содержимое 3" descr="66209.jpeg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D:\документы\география\9 класс\7 чудес Украины\Фото\17279_content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.Представьте число – 6,9 в виде суммы трех равных слагаемых.Чуму равно одно из слагаемых?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. Сумма противоположных чисел равна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 Сумма целых чисел от -50 до 52 равна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.Произведение 12 отрицательных чисел и 7 положительных чисел есть число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.Найдите сумму целых чисел </a:t>
            </a: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&lt;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-8,3 &lt; x &lt; 6 ,2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6.Произведение 15 отрицательных и 60 положительных чисел есть число …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8556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Ответ :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434960" y="1447920"/>
          <a:ext cx="7499520" cy="2377800"/>
        </p:xfrm>
        <a:graphic>
          <a:graphicData uri="http://schemas.openxmlformats.org/drawingml/2006/table">
            <a:tbl>
              <a:tblPr/>
              <a:tblGrid>
                <a:gridCol w="1249560"/>
                <a:gridCol w="1251000"/>
                <a:gridCol w="1249200"/>
                <a:gridCol w="1249560"/>
                <a:gridCol w="1250640"/>
                <a:gridCol w="124956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Р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2,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&gt;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15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&lt;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5:30:50Z</dcterms:created>
  <dc:creator>USER</dc:creator>
  <dc:description/>
  <dc:language>en-US</dc:language>
  <cp:lastModifiedBy>Admin</cp:lastModifiedBy>
  <dcterms:modified xsi:type="dcterms:W3CDTF">2013-02-18T11:53:38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19000000000001024140</vt:lpwstr>
  </property>
</Properties>
</file>