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13.png" ContentType="image/png"/>
  <Override PartName="/ppt/media/image8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1.wmf" ContentType="image/x-wmf"/>
  <Override PartName="/ppt/media/image35.gif" ContentType="image/gif"/>
  <Override PartName="/ppt/media/image5.wmf" ContentType="image/x-wmf"/>
  <Override PartName="/ppt/media/image28.wmf" ContentType="image/x-wmf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.jpeg" ContentType="image/jpe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626F-C95D-43B6-95D1-146E0AAD5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CE5-C231-4BA6-A8D1-16562C2E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D1B-283A-4585-B0AE-4364AC69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2979-769E-493E-AB96-75964BC9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2B9C-BF07-40EF-8A48-A845322E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7845-5592-4D81-87E3-25184893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D65F-A620-4FBC-8A25-A510E140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010C-8526-4DCF-8B22-6F644BA5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7B2C-C0DE-4740-B37A-B68B48BB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0045-D7B6-4DA1-8349-8939108F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D077-270C-4E7D-A957-716CBFED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6D3C-D572-4A06-9B90-15E0E995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13C3-EF38-4975-B6E2-339945E4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4E6D-E7A2-4D32-80A1-A9C4C73B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143B-62DA-483E-A980-39D6C0E6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5204-D5B2-41EC-97BF-BB5AF017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D085B-02D7-40E0-8E0B-4B6EBDC5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C633B-55AF-4F5A-BBA5-8BEB21EA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F8E4A-FAF8-431F-95CD-E1574AF5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2E8A7-6304-4848-8112-CCD22D11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B167F-204C-493B-9C91-31E8AC79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1AE3F-3CFE-46EC-89C6-73293720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A35-7B2F-4602-88B1-17E5FEDE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EE334-E2F2-42D2-8491-C22E4D08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920EC-92A3-41DC-AFFD-7C2950C9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C2D37-8394-42EE-88BE-DC818D47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7651D-E4B3-4849-B578-41F4EFAF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E9AF6-A7DE-4901-89A3-B59D143BF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8DCE5-E992-41E7-83A1-D4939D5D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6D153-CD75-4D52-A0AB-5A821825B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7186-08DE-444E-A6F9-0BED0EF2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075-9850-4A9A-B517-81A9F00A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A53A-38A1-46EC-9AF8-ED6F992C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8DFE-415F-4F51-AAE7-DF649CE5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CDE9-5FB4-4BE0-9CF9-B8AB468D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72DA-9442-4EEC-94BD-094D1199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80ED-F985-43C8-BE04-F108FB37AF92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0569-665B-460C-BAE2-FF7C185014D6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C1D4-2A94-43A4-B525-EC154DAC3BDF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24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5.png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6.wmf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24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5.png"/><Relationship Id="rId8" Type="http://schemas.openxmlformats.org/officeDocument/2006/relationships/image" Target="../media/image28.wmf"/><Relationship Id="rId9" Type="http://schemas.openxmlformats.org/officeDocument/2006/relationships/image" Target="../media/image26.wmf"/><Relationship Id="rId10" Type="http://schemas.openxmlformats.org/officeDocument/2006/relationships/image" Target="../media/image29.wmf"/><Relationship Id="rId11" Type="http://schemas.openxmlformats.org/officeDocument/2006/relationships/image" Target="../media/image17.png"/><Relationship Id="rId12" Type="http://schemas.openxmlformats.org/officeDocument/2006/relationships/image" Target="../media/image30.wmf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24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5.png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17.png"/><Relationship Id="rId10" Type="http://schemas.openxmlformats.org/officeDocument/2006/relationships/image" Target="../media/image33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Подзаголовок 2" descr=""/>
          <p:cNvPicPr/>
          <p:nvPr/>
        </p:nvPicPr>
        <p:blipFill>
          <a:blip r:embed="rId1"/>
          <a:stretch/>
        </p:blipFill>
        <p:spPr>
          <a:xfrm>
            <a:off x="401760" y="1523880"/>
            <a:ext cx="7638840" cy="3200400"/>
          </a:xfrm>
          <a:prstGeom prst="rect">
            <a:avLst/>
          </a:prstGeom>
          <a:ln w="0">
            <a:noFill/>
          </a:ln>
        </p:spPr>
      </p:pic>
    </p:spTree>
  </p:cSld>
  <p:transition spd="med" advTm="16000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ением неравенства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ется промежуток (-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;  +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ением неравенства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ется только число -0,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равенство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 решения не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ме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Прямая со стрелкой 3"/>
          <p:cNvCxnSpPr/>
          <p:nvPr/>
        </p:nvCxnSpPr>
        <p:spPr>
          <a:xfrm>
            <a:off x="4143240" y="4785840"/>
            <a:ext cx="32169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Прямая со стрелкой 4"/>
          <p:cNvCxnSpPr/>
          <p:nvPr/>
        </p:nvCxnSpPr>
        <p:spPr>
          <a:xfrm flipV="1">
            <a:off x="5571000" y="3571560"/>
            <a:ext cx="252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5" name="TextBox 5"/>
          <p:cNvSpPr/>
          <p:nvPr/>
        </p:nvSpPr>
        <p:spPr>
          <a:xfrm>
            <a:off x="4865400" y="4786200"/>
            <a:ext cx="7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5576400" y="350028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"/>
          <p:cNvSpPr/>
          <p:nvPr/>
        </p:nvSpPr>
        <p:spPr>
          <a:xfrm>
            <a:off x="7004880" y="47149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Дуга 9"/>
          <p:cNvSpPr/>
          <p:nvPr/>
        </p:nvSpPr>
        <p:spPr>
          <a:xfrm rot="10800000">
            <a:off x="4214520" y="2356920"/>
            <a:ext cx="177300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9935" y="1395734"/>
                </a:moveTo>
                <a:cubicBezTo>
                  <a:pt x="-33151" y="1004837"/>
                  <a:pt x="65366" y="609677"/>
                  <a:pt x="274005" y="336524"/>
                </a:cubicBezTo>
                <a:cubicBezTo>
                  <a:pt x="602569" y="-93638"/>
                  <a:pt x="1115401" y="-113809"/>
                  <a:pt x="1461445" y="289819"/>
                </a:cubicBezTo>
                <a:cubicBezTo>
                  <a:pt x="1685508" y="551168"/>
                  <a:pt x="1800293" y="947771"/>
                  <a:pt x="1767826" y="1348418"/>
                </a:cubicBezTo>
                <a:lnTo>
                  <a:pt x="886619" y="1214438"/>
                </a:lnTo>
                <a:lnTo>
                  <a:pt x="9935" y="1395734"/>
                </a:lnTo>
                <a:close/>
              </a:path>
              <a:path fill="none" w="1773237" h="2428875">
                <a:moveTo>
                  <a:pt x="9935" y="1395734"/>
                </a:moveTo>
                <a:cubicBezTo>
                  <a:pt x="-33151" y="1004837"/>
                  <a:pt x="65366" y="609677"/>
                  <a:pt x="274005" y="336524"/>
                </a:cubicBezTo>
                <a:cubicBezTo>
                  <a:pt x="602569" y="-93638"/>
                  <a:pt x="1115401" y="-113809"/>
                  <a:pt x="1461445" y="289819"/>
                </a:cubicBezTo>
                <a:cubicBezTo>
                  <a:pt x="1685508" y="551168"/>
                  <a:pt x="1800293" y="947771"/>
                  <a:pt x="1767826" y="1348418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8"/>
          <p:cNvSpPr/>
          <p:nvPr/>
        </p:nvSpPr>
        <p:spPr>
          <a:xfrm>
            <a:off x="5000760" y="4714920"/>
            <a:ext cx="142920" cy="142920"/>
          </a:xfrm>
          <a:prstGeom prst="ellipse">
            <a:avLst/>
          </a:prstGeom>
          <a:noFill/>
          <a:ln w="381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0"/>
          <p:cNvSpPr/>
          <p:nvPr/>
        </p:nvSpPr>
        <p:spPr>
          <a:xfrm>
            <a:off x="5000760" y="4714920"/>
            <a:ext cx="142920" cy="142920"/>
          </a:xfrm>
          <a:prstGeom prst="ellipse">
            <a:avLst/>
          </a:prstGeom>
          <a:solidFill>
            <a:srgbClr val="d1282e"/>
          </a:solidFill>
          <a:ln w="381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1000">
    <p:cover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20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Пример 3 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D </a:t>
            </a:r>
            <a:r>
              <a:rPr b="0" lang="en-US" sz="3600" spc="-1" strike="noStrike">
                <a:solidFill>
                  <a:srgbClr val="d1282e"/>
                </a:solidFill>
                <a:latin typeface="Symbol"/>
                <a:ea typeface="Symbol"/>
              </a:rPr>
              <a:t>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0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ть неравенство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10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Содержимое 2"/>
          <p:cNvSpPr/>
          <p:nvPr/>
        </p:nvSpPr>
        <p:spPr>
          <a:xfrm>
            <a:off x="539640" y="2205000"/>
            <a:ext cx="762012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=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= -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, ветви направлены в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авнение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10 = 0 решения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ме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Парабола не пересекает ось х и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сается её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1000">
    <p:cover dir="r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Т.к. знак неравенства (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о решением е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ются все числ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: (-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;  +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Прямая со стрелкой 4"/>
          <p:cNvCxnSpPr/>
          <p:nvPr/>
        </p:nvCxnSpPr>
        <p:spPr>
          <a:xfrm>
            <a:off x="1214280" y="1714680"/>
            <a:ext cx="3215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6" name="Прямая со стрелкой 6"/>
          <p:cNvCxnSpPr/>
          <p:nvPr/>
        </p:nvCxnSpPr>
        <p:spPr>
          <a:xfrm flipV="1">
            <a:off x="2641680" y="499680"/>
            <a:ext cx="216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7" name="Дуга 7"/>
          <p:cNvSpPr/>
          <p:nvPr/>
        </p:nvSpPr>
        <p:spPr>
          <a:xfrm>
            <a:off x="1071720" y="2000160"/>
            <a:ext cx="177300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358" y="1248961"/>
                </a:moveTo>
                <a:cubicBezTo>
                  <a:pt x="-7344" y="878002"/>
                  <a:pt x="109206" y="522579"/>
                  <a:pt x="316768" y="284058"/>
                </a:cubicBezTo>
                <a:cubicBezTo>
                  <a:pt x="635227" y="-81900"/>
                  <a:pt x="1096549" y="-95668"/>
                  <a:pt x="1426343" y="250943"/>
                </a:cubicBezTo>
                <a:cubicBezTo>
                  <a:pt x="1645032" y="480784"/>
                  <a:pt x="1773238" y="836872"/>
                  <a:pt x="1773238" y="1214437"/>
                </a:cubicBezTo>
                <a:lnTo>
                  <a:pt x="886619" y="1214438"/>
                </a:lnTo>
                <a:lnTo>
                  <a:pt x="358" y="1248961"/>
                </a:lnTo>
                <a:close/>
              </a:path>
              <a:path fill="none" w="1773237" h="2428875">
                <a:moveTo>
                  <a:pt x="358" y="1248961"/>
                </a:moveTo>
                <a:cubicBezTo>
                  <a:pt x="-7344" y="878002"/>
                  <a:pt x="109206" y="522579"/>
                  <a:pt x="316768" y="284058"/>
                </a:cubicBezTo>
                <a:cubicBezTo>
                  <a:pt x="635227" y="-81900"/>
                  <a:pt x="1096549" y="-95668"/>
                  <a:pt x="1426343" y="250943"/>
                </a:cubicBezTo>
                <a:cubicBezTo>
                  <a:pt x="1645032" y="480784"/>
                  <a:pt x="1773238" y="836872"/>
                  <a:pt x="1773238" y="121443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2646000" y="42876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0"/>
          <p:cNvSpPr/>
          <p:nvPr/>
        </p:nvSpPr>
        <p:spPr>
          <a:xfrm>
            <a:off x="4074480" y="16430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Дуга 12"/>
          <p:cNvSpPr/>
          <p:nvPr/>
        </p:nvSpPr>
        <p:spPr>
          <a:xfrm>
            <a:off x="1071720" y="2000160"/>
            <a:ext cx="177300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974" y="1271352"/>
                </a:moveTo>
                <a:cubicBezTo>
                  <a:pt x="-11773" y="899205"/>
                  <a:pt x="100891" y="539636"/>
                  <a:pt x="306607" y="295915"/>
                </a:cubicBezTo>
                <a:cubicBezTo>
                  <a:pt x="624190" y="-80339"/>
                  <a:pt x="1090911" y="-99851"/>
                  <a:pt x="1424656" y="249174"/>
                </a:cubicBezTo>
                <a:cubicBezTo>
                  <a:pt x="1646050" y="480705"/>
                  <a:pt x="1775139" y="841289"/>
                  <a:pt x="1773218" y="1222815"/>
                </a:cubicBezTo>
                <a:lnTo>
                  <a:pt x="886619" y="1214438"/>
                </a:lnTo>
                <a:lnTo>
                  <a:pt x="974" y="1271352"/>
                </a:lnTo>
                <a:close/>
              </a:path>
              <a:path fill="none" w="1773237" h="2428875">
                <a:moveTo>
                  <a:pt x="974" y="1271352"/>
                </a:moveTo>
                <a:cubicBezTo>
                  <a:pt x="-11773" y="899205"/>
                  <a:pt x="100891" y="539636"/>
                  <a:pt x="306607" y="295915"/>
                </a:cubicBezTo>
                <a:cubicBezTo>
                  <a:pt x="624190" y="-80339"/>
                  <a:pt x="1090911" y="-99851"/>
                  <a:pt x="1424656" y="249174"/>
                </a:cubicBezTo>
                <a:cubicBezTo>
                  <a:pt x="1646050" y="480705"/>
                  <a:pt x="1775139" y="841289"/>
                  <a:pt x="1773218" y="1222815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5000">
    <p:cover dir="r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20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2000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Пример 3 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D </a:t>
            </a:r>
            <a:r>
              <a:rPr b="0" lang="en-US" sz="3600" spc="-1" strike="noStrike">
                <a:solidFill>
                  <a:srgbClr val="d1282e"/>
                </a:solidFill>
                <a:latin typeface="Symbol"/>
                <a:ea typeface="Symbol"/>
              </a:rPr>
              <a:t>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0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равенство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 10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 решения н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меет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Прямая со стрелкой 3"/>
          <p:cNvCxnSpPr/>
          <p:nvPr/>
        </p:nvCxnSpPr>
        <p:spPr>
          <a:xfrm>
            <a:off x="3857400" y="3857760"/>
            <a:ext cx="3215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Прямая со стрелкой 4"/>
          <p:cNvCxnSpPr/>
          <p:nvPr/>
        </p:nvCxnSpPr>
        <p:spPr>
          <a:xfrm flipV="1">
            <a:off x="5285160" y="2642400"/>
            <a:ext cx="2520" cy="2288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5" name="Дуга 5"/>
          <p:cNvSpPr/>
          <p:nvPr/>
        </p:nvSpPr>
        <p:spPr>
          <a:xfrm>
            <a:off x="3714840" y="4143240"/>
            <a:ext cx="1773000" cy="2428920"/>
          </a:xfrm>
          <a:custGeom>
            <a:avLst/>
            <a:gdLst/>
            <a:ahLst/>
            <a:rect l="l" t="t" r="r" b="b"/>
            <a:pathLst>
              <a:path stroke="0" w="1773238" h="2428875">
                <a:moveTo>
                  <a:pt x="358" y="1248961"/>
                </a:moveTo>
                <a:cubicBezTo>
                  <a:pt x="-7344" y="878002"/>
                  <a:pt x="109206" y="522579"/>
                  <a:pt x="316768" y="284058"/>
                </a:cubicBezTo>
                <a:cubicBezTo>
                  <a:pt x="635227" y="-81900"/>
                  <a:pt x="1096549" y="-95668"/>
                  <a:pt x="1426343" y="250943"/>
                </a:cubicBezTo>
                <a:cubicBezTo>
                  <a:pt x="1645032" y="480784"/>
                  <a:pt x="1773238" y="836872"/>
                  <a:pt x="1773238" y="1214437"/>
                </a:cubicBezTo>
                <a:lnTo>
                  <a:pt x="886619" y="1214438"/>
                </a:lnTo>
                <a:lnTo>
                  <a:pt x="358" y="1248961"/>
                </a:lnTo>
                <a:close/>
              </a:path>
              <a:path fill="none" w="1773238" h="2428875">
                <a:moveTo>
                  <a:pt x="358" y="1248961"/>
                </a:moveTo>
                <a:cubicBezTo>
                  <a:pt x="-7344" y="878002"/>
                  <a:pt x="109206" y="522579"/>
                  <a:pt x="316768" y="284058"/>
                </a:cubicBezTo>
                <a:cubicBezTo>
                  <a:pt x="635227" y="-81900"/>
                  <a:pt x="1096549" y="-95668"/>
                  <a:pt x="1426343" y="250943"/>
                </a:cubicBezTo>
                <a:cubicBezTo>
                  <a:pt x="1645032" y="480784"/>
                  <a:pt x="1773238" y="836872"/>
                  <a:pt x="1773238" y="121443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6"/>
          <p:cNvSpPr/>
          <p:nvPr/>
        </p:nvSpPr>
        <p:spPr>
          <a:xfrm>
            <a:off x="5289120" y="257184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7"/>
          <p:cNvSpPr/>
          <p:nvPr/>
        </p:nvSpPr>
        <p:spPr>
          <a:xfrm>
            <a:off x="6717600" y="378612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Дуга 8"/>
          <p:cNvSpPr/>
          <p:nvPr/>
        </p:nvSpPr>
        <p:spPr>
          <a:xfrm>
            <a:off x="3714840" y="4143240"/>
            <a:ext cx="1773000" cy="2428920"/>
          </a:xfrm>
          <a:custGeom>
            <a:avLst/>
            <a:gdLst/>
            <a:ahLst/>
            <a:rect l="l" t="t" r="r" b="b"/>
            <a:pathLst>
              <a:path stroke="0" w="1773238" h="2428875">
                <a:moveTo>
                  <a:pt x="974" y="1271352"/>
                </a:moveTo>
                <a:cubicBezTo>
                  <a:pt x="-11773" y="899205"/>
                  <a:pt x="100891" y="539636"/>
                  <a:pt x="306607" y="295915"/>
                </a:cubicBezTo>
                <a:cubicBezTo>
                  <a:pt x="624190" y="-80339"/>
                  <a:pt x="1090911" y="-99851"/>
                  <a:pt x="1424656" y="249174"/>
                </a:cubicBezTo>
                <a:cubicBezTo>
                  <a:pt x="1646050" y="480705"/>
                  <a:pt x="1775139" y="841289"/>
                  <a:pt x="1773218" y="1222815"/>
                </a:cubicBezTo>
                <a:lnTo>
                  <a:pt x="886619" y="1214438"/>
                </a:lnTo>
                <a:lnTo>
                  <a:pt x="974" y="1271352"/>
                </a:lnTo>
                <a:close/>
              </a:path>
              <a:path fill="none" w="1773238" h="2428875">
                <a:moveTo>
                  <a:pt x="974" y="1271352"/>
                </a:moveTo>
                <a:cubicBezTo>
                  <a:pt x="-11773" y="899205"/>
                  <a:pt x="100891" y="539636"/>
                  <a:pt x="306607" y="295915"/>
                </a:cubicBezTo>
                <a:cubicBezTo>
                  <a:pt x="624190" y="-80339"/>
                  <a:pt x="1090911" y="-99851"/>
                  <a:pt x="1424656" y="249174"/>
                </a:cubicBezTo>
                <a:cubicBezTo>
                  <a:pt x="1646050" y="480705"/>
                  <a:pt x="1775139" y="841289"/>
                  <a:pt x="1773218" y="1222815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3000">
    <p:cover dir="r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457200" y="428760"/>
          <a:ext cx="8229600" cy="47876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2530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раве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ули квадратного трехчл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положение граф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ейшие неравенства, равносильные данно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числовой промежуток, объединение числовых промежутк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90" name="Группа 4"/>
          <p:cNvGrpSpPr/>
          <p:nvPr/>
        </p:nvGrpSpPr>
        <p:grpSpPr>
          <a:xfrm>
            <a:off x="3714840" y="3643200"/>
            <a:ext cx="1667880" cy="1504800"/>
            <a:chOff x="3714840" y="3643200"/>
            <a:chExt cx="1667880" cy="1504800"/>
          </a:xfrm>
        </p:grpSpPr>
        <p:cxnSp>
          <p:nvCxnSpPr>
            <p:cNvPr id="191" name="Прямая со стрелкой 5"/>
            <p:cNvCxnSpPr/>
            <p:nvPr/>
          </p:nvCxnSpPr>
          <p:spPr>
            <a:xfrm>
              <a:off x="3714840" y="4627080"/>
              <a:ext cx="151344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92" name="Прямая со стрелкой 6"/>
            <p:cNvCxnSpPr/>
            <p:nvPr/>
          </p:nvCxnSpPr>
          <p:spPr>
            <a:xfrm flipV="1">
              <a:off x="4331160" y="4069440"/>
              <a:ext cx="1080" cy="10501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93" name="Дуга 7"/>
            <p:cNvSpPr/>
            <p:nvPr/>
          </p:nvSpPr>
          <p:spPr>
            <a:xfrm rot="10800000">
              <a:off x="4301640" y="3643200"/>
              <a:ext cx="833400" cy="1114560"/>
            </a:xfrm>
            <a:custGeom>
              <a:avLst/>
              <a:gdLst/>
              <a:ahLst/>
              <a:rect l="l" t="t" r="r" b="b"/>
              <a:pathLst>
                <a:path stroke="0" w="1928143" h="2427187">
                  <a:moveTo>
                    <a:pt x="8559" y="1374948"/>
                  </a:moveTo>
                  <a:cubicBezTo>
                    <a:pt x="-33093" y="984090"/>
                    <a:pt x="78721" y="592126"/>
                    <a:pt x="308383" y="323912"/>
                  </a:cubicBezTo>
                  <a:cubicBezTo>
                    <a:pt x="629689" y="-51329"/>
                    <a:pt x="1111633" y="-106522"/>
                    <a:pt x="1481457" y="189569"/>
                  </a:cubicBezTo>
                  <a:cubicBezTo>
                    <a:pt x="1759657" y="412304"/>
                    <a:pt x="1928144" y="798558"/>
                    <a:pt x="1928144" y="1213593"/>
                  </a:cubicBezTo>
                  <a:lnTo>
                    <a:pt x="964072" y="1213594"/>
                  </a:lnTo>
                  <a:lnTo>
                    <a:pt x="8559" y="1374948"/>
                  </a:lnTo>
                  <a:close/>
                </a:path>
                <a:path fill="none" w="1928143" h="2427187">
                  <a:moveTo>
                    <a:pt x="8559" y="1374948"/>
                  </a:moveTo>
                  <a:cubicBezTo>
                    <a:pt x="-33093" y="984090"/>
                    <a:pt x="78721" y="592126"/>
                    <a:pt x="308383" y="323912"/>
                  </a:cubicBezTo>
                  <a:cubicBezTo>
                    <a:pt x="629689" y="-51329"/>
                    <a:pt x="1111633" y="-106522"/>
                    <a:pt x="1481457" y="189569"/>
                  </a:cubicBezTo>
                  <a:cubicBezTo>
                    <a:pt x="1759657" y="412304"/>
                    <a:pt x="1928144" y="798558"/>
                    <a:pt x="1928144" y="1213593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8"/>
            <p:cNvSpPr/>
            <p:nvPr/>
          </p:nvSpPr>
          <p:spPr>
            <a:xfrm>
              <a:off x="4792680" y="462744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9"/>
            <p:cNvSpPr/>
            <p:nvPr/>
          </p:nvSpPr>
          <p:spPr>
            <a:xfrm>
              <a:off x="4234680" y="4036680"/>
              <a:ext cx="348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10"/>
            <p:cNvSpPr/>
            <p:nvPr/>
          </p:nvSpPr>
          <p:spPr>
            <a:xfrm>
              <a:off x="5038920" y="4594320"/>
              <a:ext cx="34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11"/>
            <p:cNvSpPr/>
            <p:nvPr/>
          </p:nvSpPr>
          <p:spPr>
            <a:xfrm>
              <a:off x="4293360" y="4627080"/>
              <a:ext cx="36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Овал 12"/>
            <p:cNvSpPr/>
            <p:nvPr/>
          </p:nvSpPr>
          <p:spPr>
            <a:xfrm>
              <a:off x="4950000" y="4594320"/>
              <a:ext cx="61560" cy="66600"/>
            </a:xfrm>
            <a:prstGeom prst="ellipse">
              <a:avLst/>
            </a:prstGeom>
            <a:solidFill>
              <a:srgbClr val="f5c201"/>
            </a:solidFill>
            <a:ln w="2844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Овал 13"/>
            <p:cNvSpPr/>
            <p:nvPr/>
          </p:nvSpPr>
          <p:spPr>
            <a:xfrm>
              <a:off x="4424400" y="4594320"/>
              <a:ext cx="61560" cy="66600"/>
            </a:xfrm>
            <a:prstGeom prst="ellipse">
              <a:avLst/>
            </a:prstGeom>
            <a:solidFill>
              <a:srgbClr val="f5c201"/>
            </a:solidFill>
            <a:ln w="2844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Box 15"/>
          <p:cNvSpPr/>
          <p:nvPr/>
        </p:nvSpPr>
        <p:spPr>
          <a:xfrm>
            <a:off x="479880" y="3000240"/>
            <a:ext cx="168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х</a:t>
            </a:r>
            <a:r>
              <a:rPr b="1" lang="ru-RU" sz="20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– 6х + 5 </a:t>
            </a:r>
            <a:r>
              <a:rPr b="1" lang="ru-RU" sz="20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6"/>
          <p:cNvSpPr/>
          <p:nvPr/>
        </p:nvSpPr>
        <p:spPr>
          <a:xfrm>
            <a:off x="2239200" y="4643280"/>
            <a:ext cx="1578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Calibri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=1, х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Calibri"/>
              </a:rPr>
              <a:t>2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7"/>
          <p:cNvSpPr/>
          <p:nvPr/>
        </p:nvSpPr>
        <p:spPr>
          <a:xfrm>
            <a:off x="5432760" y="4572000"/>
            <a:ext cx="16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х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1, х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8"/>
          <p:cNvSpPr/>
          <p:nvPr/>
        </p:nvSpPr>
        <p:spPr>
          <a:xfrm>
            <a:off x="7079400" y="4357800"/>
            <a:ext cx="136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-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; 1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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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5; + </a:t>
            </a:r>
            <a:r>
              <a:rPr b="1" lang="ru-RU" sz="2400" spc="-1" strike="noStrike">
                <a:solidFill>
                  <a:srgbClr val="ff0000"/>
                </a:solidFill>
                <a:latin typeface="Symbol"/>
                <a:ea typeface="Symbol"/>
              </a:rPr>
              <a:t>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72000">
    <p:cover dir="r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1282e"/>
                </a:solidFill>
                <a:latin typeface="Calibri"/>
              </a:rPr>
              <a:t>Определить по чертежу знак коэффициента a и количество корней уравнения ах</a:t>
            </a:r>
            <a:r>
              <a:rPr b="1" lang="ru-RU" sz="2400" spc="-1" strike="noStrike" baseline="30000">
                <a:solidFill>
                  <a:srgbClr val="d1282e"/>
                </a:solidFill>
                <a:latin typeface="Calibri"/>
              </a:rPr>
              <a:t>2</a:t>
            </a:r>
            <a:r>
              <a:rPr b="1" lang="ru-RU" sz="2400" spc="-1" strike="noStrike">
                <a:solidFill>
                  <a:srgbClr val="d1282e"/>
                </a:solidFill>
                <a:latin typeface="Calibri"/>
              </a:rPr>
              <a:t>+вх+с=0</a:t>
            </a:r>
            <a:endParaRPr b="0" lang="en-US" sz="24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205" name="Содержимое 3" descr="рисунок 2.jpg"/>
          <p:cNvPicPr/>
          <p:nvPr/>
        </p:nvPicPr>
        <p:blipFill>
          <a:blip r:embed="rId1"/>
          <a:stretch/>
        </p:blipFill>
        <p:spPr>
          <a:xfrm>
            <a:off x="1071720" y="1449360"/>
            <a:ext cx="6286320" cy="5405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Rectangle 2438"/>
          <p:cNvGrpSpPr/>
          <p:nvPr/>
        </p:nvGrpSpPr>
        <p:grpSpPr>
          <a:xfrm>
            <a:off x="-36360" y="3517920"/>
            <a:ext cx="6119640" cy="2992320"/>
            <a:chOff x="-36360" y="3517920"/>
            <a:chExt cx="6119640" cy="2992320"/>
          </a:xfrm>
        </p:grpSpPr>
        <p:pic>
          <p:nvPicPr>
            <p:cNvPr id="207" name="Rectangle 2438" descr=""/>
            <p:cNvPicPr/>
            <p:nvPr/>
          </p:nvPicPr>
          <p:blipFill>
            <a:blip r:embed="rId1"/>
            <a:stretch/>
          </p:blipFill>
          <p:spPr>
            <a:xfrm>
              <a:off x="-36360" y="3517920"/>
              <a:ext cx="611964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0" y="3573360"/>
              <a:ext cx="6012000" cy="28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2338"/>
          <p:cNvSpPr/>
          <p:nvPr/>
        </p:nvSpPr>
        <p:spPr>
          <a:xfrm>
            <a:off x="536040" y="35733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-7   -6   -5   -4   -3  -2    -1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337"/>
          <p:cNvSpPr/>
          <p:nvPr/>
        </p:nvSpPr>
        <p:spPr>
          <a:xfrm>
            <a:off x="2999160" y="3573360"/>
            <a:ext cx="184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    2      3  4    5    6    7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Rectangle 2402"/>
          <p:cNvGrpSpPr/>
          <p:nvPr/>
        </p:nvGrpSpPr>
        <p:grpSpPr>
          <a:xfrm>
            <a:off x="-36360" y="639720"/>
            <a:ext cx="6119640" cy="2987640"/>
            <a:chOff x="-36360" y="639720"/>
            <a:chExt cx="6119640" cy="2987640"/>
          </a:xfrm>
        </p:grpSpPr>
        <p:pic>
          <p:nvPicPr>
            <p:cNvPr id="212" name="Rectangle 2402" descr=""/>
            <p:cNvPicPr/>
            <p:nvPr/>
          </p:nvPicPr>
          <p:blipFill>
            <a:blip r:embed="rId2"/>
            <a:stretch/>
          </p:blipFill>
          <p:spPr>
            <a:xfrm>
              <a:off x="-36360" y="639720"/>
              <a:ext cx="6119640" cy="29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692280"/>
              <a:ext cx="6012000" cy="28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 Box 2336"/>
          <p:cNvSpPr/>
          <p:nvPr/>
        </p:nvSpPr>
        <p:spPr>
          <a:xfrm>
            <a:off x="2423520" y="3429000"/>
            <a:ext cx="3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339"/>
          <p:cNvSpPr/>
          <p:nvPr/>
        </p:nvSpPr>
        <p:spPr>
          <a:xfrm>
            <a:off x="0" y="32749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342"/>
          <p:cNvSpPr/>
          <p:nvPr/>
        </p:nvSpPr>
        <p:spPr>
          <a:xfrm>
            <a:off x="5525280" y="350028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339"/>
          <p:cNvSpPr/>
          <p:nvPr/>
        </p:nvSpPr>
        <p:spPr>
          <a:xfrm>
            <a:off x="2627280" y="3678120"/>
            <a:ext cx="57636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685"/>
          <p:cNvSpPr/>
          <p:nvPr/>
        </p:nvSpPr>
        <p:spPr>
          <a:xfrm>
            <a:off x="0" y="836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686"/>
          <p:cNvSpPr/>
          <p:nvPr/>
        </p:nvSpPr>
        <p:spPr>
          <a:xfrm>
            <a:off x="0" y="6021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87"/>
          <p:cNvSpPr/>
          <p:nvPr/>
        </p:nvSpPr>
        <p:spPr>
          <a:xfrm>
            <a:off x="0" y="765000"/>
            <a:ext cx="0" cy="518184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688"/>
          <p:cNvSpPr/>
          <p:nvPr/>
        </p:nvSpPr>
        <p:spPr>
          <a:xfrm>
            <a:off x="60134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91"/>
          <p:cNvSpPr/>
          <p:nvPr/>
        </p:nvSpPr>
        <p:spPr>
          <a:xfrm>
            <a:off x="0" y="1141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93"/>
          <p:cNvSpPr/>
          <p:nvPr/>
        </p:nvSpPr>
        <p:spPr>
          <a:xfrm>
            <a:off x="2998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96"/>
          <p:cNvSpPr/>
          <p:nvPr/>
        </p:nvSpPr>
        <p:spPr>
          <a:xfrm>
            <a:off x="6015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99"/>
          <p:cNvSpPr/>
          <p:nvPr/>
        </p:nvSpPr>
        <p:spPr>
          <a:xfrm>
            <a:off x="9018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02"/>
          <p:cNvSpPr/>
          <p:nvPr/>
        </p:nvSpPr>
        <p:spPr>
          <a:xfrm>
            <a:off x="12034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705"/>
          <p:cNvSpPr/>
          <p:nvPr/>
        </p:nvSpPr>
        <p:spPr>
          <a:xfrm>
            <a:off x="15033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708"/>
          <p:cNvSpPr/>
          <p:nvPr/>
        </p:nvSpPr>
        <p:spPr>
          <a:xfrm>
            <a:off x="18032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11"/>
          <p:cNvSpPr/>
          <p:nvPr/>
        </p:nvSpPr>
        <p:spPr>
          <a:xfrm>
            <a:off x="21049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14"/>
          <p:cNvSpPr/>
          <p:nvPr/>
        </p:nvSpPr>
        <p:spPr>
          <a:xfrm>
            <a:off x="24051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17"/>
          <p:cNvSpPr/>
          <p:nvPr/>
        </p:nvSpPr>
        <p:spPr>
          <a:xfrm>
            <a:off x="27068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20"/>
          <p:cNvSpPr/>
          <p:nvPr/>
        </p:nvSpPr>
        <p:spPr>
          <a:xfrm>
            <a:off x="30067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23"/>
          <p:cNvSpPr/>
          <p:nvPr/>
        </p:nvSpPr>
        <p:spPr>
          <a:xfrm>
            <a:off x="33066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26"/>
          <p:cNvSpPr/>
          <p:nvPr/>
        </p:nvSpPr>
        <p:spPr>
          <a:xfrm>
            <a:off x="36082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29"/>
          <p:cNvSpPr/>
          <p:nvPr/>
        </p:nvSpPr>
        <p:spPr>
          <a:xfrm>
            <a:off x="390852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32"/>
          <p:cNvSpPr/>
          <p:nvPr/>
        </p:nvSpPr>
        <p:spPr>
          <a:xfrm>
            <a:off x="421020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735"/>
          <p:cNvSpPr/>
          <p:nvPr/>
        </p:nvSpPr>
        <p:spPr>
          <a:xfrm>
            <a:off x="45100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38"/>
          <p:cNvSpPr/>
          <p:nvPr/>
        </p:nvSpPr>
        <p:spPr>
          <a:xfrm>
            <a:off x="48099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741"/>
          <p:cNvSpPr/>
          <p:nvPr/>
        </p:nvSpPr>
        <p:spPr>
          <a:xfrm>
            <a:off x="511164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744"/>
          <p:cNvSpPr/>
          <p:nvPr/>
        </p:nvSpPr>
        <p:spPr>
          <a:xfrm>
            <a:off x="541188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747"/>
          <p:cNvSpPr/>
          <p:nvPr/>
        </p:nvSpPr>
        <p:spPr>
          <a:xfrm>
            <a:off x="5713560" y="836640"/>
            <a:ext cx="0" cy="518148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51"/>
          <p:cNvSpPr/>
          <p:nvPr/>
        </p:nvSpPr>
        <p:spPr>
          <a:xfrm>
            <a:off x="0" y="14461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49"/>
          <p:cNvSpPr/>
          <p:nvPr/>
        </p:nvSpPr>
        <p:spPr>
          <a:xfrm>
            <a:off x="0" y="17510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47"/>
          <p:cNvSpPr/>
          <p:nvPr/>
        </p:nvSpPr>
        <p:spPr>
          <a:xfrm>
            <a:off x="0" y="20559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45"/>
          <p:cNvSpPr/>
          <p:nvPr/>
        </p:nvSpPr>
        <p:spPr>
          <a:xfrm>
            <a:off x="0" y="23605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43"/>
          <p:cNvSpPr/>
          <p:nvPr/>
        </p:nvSpPr>
        <p:spPr>
          <a:xfrm>
            <a:off x="0" y="26654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241"/>
          <p:cNvSpPr/>
          <p:nvPr/>
        </p:nvSpPr>
        <p:spPr>
          <a:xfrm>
            <a:off x="0" y="29703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437"/>
          <p:cNvSpPr/>
          <p:nvPr/>
        </p:nvSpPr>
        <p:spPr>
          <a:xfrm>
            <a:off x="0" y="35798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535"/>
          <p:cNvSpPr/>
          <p:nvPr/>
        </p:nvSpPr>
        <p:spPr>
          <a:xfrm>
            <a:off x="0" y="38847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633"/>
          <p:cNvSpPr/>
          <p:nvPr/>
        </p:nvSpPr>
        <p:spPr>
          <a:xfrm>
            <a:off x="0" y="41893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731"/>
          <p:cNvSpPr/>
          <p:nvPr/>
        </p:nvSpPr>
        <p:spPr>
          <a:xfrm>
            <a:off x="0" y="44942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829"/>
          <p:cNvSpPr/>
          <p:nvPr/>
        </p:nvSpPr>
        <p:spPr>
          <a:xfrm>
            <a:off x="0" y="47991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927"/>
          <p:cNvSpPr/>
          <p:nvPr/>
        </p:nvSpPr>
        <p:spPr>
          <a:xfrm>
            <a:off x="0" y="510372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25"/>
          <p:cNvSpPr/>
          <p:nvPr/>
        </p:nvSpPr>
        <p:spPr>
          <a:xfrm>
            <a:off x="0" y="540864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123"/>
          <p:cNvSpPr/>
          <p:nvPr/>
        </p:nvSpPr>
        <p:spPr>
          <a:xfrm>
            <a:off x="0" y="5713560"/>
            <a:ext cx="6013440" cy="0"/>
          </a:xfrm>
          <a:prstGeom prst="line">
            <a:avLst/>
          </a:prstGeom>
          <a:ln cap="rnd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316"/>
          <p:cNvSpPr/>
          <p:nvPr/>
        </p:nvSpPr>
        <p:spPr>
          <a:xfrm>
            <a:off x="179280" y="3573360"/>
            <a:ext cx="561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317"/>
          <p:cNvSpPr/>
          <p:nvPr/>
        </p:nvSpPr>
        <p:spPr>
          <a:xfrm flipV="1">
            <a:off x="2700360" y="475920"/>
            <a:ext cx="0" cy="554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341"/>
          <p:cNvSpPr/>
          <p:nvPr/>
        </p:nvSpPr>
        <p:spPr>
          <a:xfrm>
            <a:off x="2354040" y="2602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340"/>
          <p:cNvSpPr/>
          <p:nvPr/>
        </p:nvSpPr>
        <p:spPr>
          <a:xfrm>
            <a:off x="2418840" y="620640"/>
            <a:ext cx="310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2394"/>
          <p:cNvSpPr/>
          <p:nvPr/>
        </p:nvSpPr>
        <p:spPr>
          <a:xfrm>
            <a:off x="1447920" y="546120"/>
            <a:ext cx="2527200" cy="4971960"/>
          </a:xfrm>
          <a:custGeom>
            <a:avLst/>
            <a:gdLst>
              <a:gd name="textAreaLeft" fmla="*/ 0 w 2527200"/>
              <a:gd name="textAreaRight" fmla="*/ 2527560 w 2527200"/>
              <a:gd name="textAreaTop" fmla="*/ 0 h 4971960"/>
              <a:gd name="textAreaBottom" fmla="*/ 4972320 h 4971960"/>
            </a:gdLst>
            <a:ahLst/>
            <a:rect l="textAreaLeft" t="textAreaTop" r="textAreaRight" b="textAreaBottom"/>
            <a:pathLst>
              <a:path w="1592" h="3132">
                <a:moveTo>
                  <a:pt x="0" y="0"/>
                </a:moveTo>
                <a:cubicBezTo>
                  <a:pt x="71" y="316"/>
                  <a:pt x="307" y="1424"/>
                  <a:pt x="426" y="1907"/>
                </a:cubicBezTo>
                <a:cubicBezTo>
                  <a:pt x="545" y="2390"/>
                  <a:pt x="632" y="2693"/>
                  <a:pt x="712" y="2896"/>
                </a:cubicBezTo>
                <a:cubicBezTo>
                  <a:pt x="792" y="3099"/>
                  <a:pt x="835" y="3124"/>
                  <a:pt x="904" y="3128"/>
                </a:cubicBezTo>
                <a:cubicBezTo>
                  <a:pt x="973" y="3132"/>
                  <a:pt x="1049" y="3123"/>
                  <a:pt x="1128" y="2920"/>
                </a:cubicBezTo>
                <a:cubicBezTo>
                  <a:pt x="1207" y="2717"/>
                  <a:pt x="1301" y="2376"/>
                  <a:pt x="1378" y="1907"/>
                </a:cubicBezTo>
                <a:cubicBezTo>
                  <a:pt x="1455" y="1438"/>
                  <a:pt x="1548" y="480"/>
                  <a:pt x="1592" y="104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95"/>
          <p:cNvSpPr/>
          <p:nvPr/>
        </p:nvSpPr>
        <p:spPr>
          <a:xfrm>
            <a:off x="4191480" y="189000"/>
            <a:ext cx="169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=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х –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2396"/>
          <p:cNvSpPr/>
          <p:nvPr/>
        </p:nvSpPr>
        <p:spPr>
          <a:xfrm>
            <a:off x="3924360" y="584280"/>
            <a:ext cx="2044800" cy="757080"/>
          </a:xfrm>
          <a:custGeom>
            <a:avLst/>
            <a:gdLst>
              <a:gd name="textAreaLeft" fmla="*/ 0 w 2044800"/>
              <a:gd name="textAreaRight" fmla="*/ 2045160 w 204480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1288" h="477">
                <a:moveTo>
                  <a:pt x="1288" y="0"/>
                </a:moveTo>
                <a:lnTo>
                  <a:pt x="160" y="8"/>
                </a:lnTo>
                <a:lnTo>
                  <a:pt x="0" y="477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397"/>
          <p:cNvSpPr/>
          <p:nvPr/>
        </p:nvSpPr>
        <p:spPr>
          <a:xfrm>
            <a:off x="6241320" y="51912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х – 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2403"/>
          <p:cNvGrpSpPr/>
          <p:nvPr/>
        </p:nvGrpSpPr>
        <p:grpSpPr>
          <a:xfrm>
            <a:off x="1434960" y="469800"/>
            <a:ext cx="2571840" cy="3103560"/>
            <a:chOff x="1434960" y="469800"/>
            <a:chExt cx="2571840" cy="3103560"/>
          </a:xfrm>
        </p:grpSpPr>
        <p:sp>
          <p:nvSpPr>
            <p:cNvPr id="265" name="Freeform 2400"/>
            <p:cNvSpPr/>
            <p:nvPr/>
          </p:nvSpPr>
          <p:spPr>
            <a:xfrm>
              <a:off x="1434960" y="514440"/>
              <a:ext cx="689040" cy="3058920"/>
            </a:xfrm>
            <a:custGeom>
              <a:avLst/>
              <a:gdLst>
                <a:gd name="textAreaLeft" fmla="*/ 0 w 689040"/>
                <a:gd name="textAreaRight" fmla="*/ 689400 w 689040"/>
                <a:gd name="textAreaTop" fmla="*/ 0 h 3058920"/>
                <a:gd name="textAreaBottom" fmla="*/ 3059280 h 3058920"/>
              </a:gdLst>
              <a:ahLst/>
              <a:rect l="textAreaLeft" t="textAreaTop" r="textAreaRight" b="textAreaBottom"/>
              <a:pathLst>
                <a:path w="434" h="1927">
                  <a:moveTo>
                    <a:pt x="0" y="0"/>
                  </a:moveTo>
                  <a:cubicBezTo>
                    <a:pt x="45" y="201"/>
                    <a:pt x="196" y="883"/>
                    <a:pt x="268" y="1204"/>
                  </a:cubicBezTo>
                  <a:cubicBezTo>
                    <a:pt x="340" y="1525"/>
                    <a:pt x="400" y="1776"/>
                    <a:pt x="434" y="1927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01"/>
            <p:cNvSpPr/>
            <p:nvPr/>
          </p:nvSpPr>
          <p:spPr>
            <a:xfrm>
              <a:off x="3635280" y="469800"/>
              <a:ext cx="371520" cy="306540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3065400"/>
                <a:gd name="textAreaBottom" fmla="*/ 3065760 h 3065400"/>
              </a:gdLst>
              <a:ahLst/>
              <a:rect l="textAreaLeft" t="textAreaTop" r="textAreaRight" b="textAreaBottom"/>
              <a:pathLst>
                <a:path w="234" h="1931">
                  <a:moveTo>
                    <a:pt x="234" y="0"/>
                  </a:moveTo>
                  <a:cubicBezTo>
                    <a:pt x="210" y="203"/>
                    <a:pt x="129" y="894"/>
                    <a:pt x="90" y="1216"/>
                  </a:cubicBezTo>
                  <a:cubicBezTo>
                    <a:pt x="51" y="1538"/>
                    <a:pt x="19" y="1782"/>
                    <a:pt x="0" y="193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411"/>
          <p:cNvGrpSpPr/>
          <p:nvPr/>
        </p:nvGrpSpPr>
        <p:grpSpPr>
          <a:xfrm>
            <a:off x="3797280" y="546120"/>
            <a:ext cx="1820880" cy="3025800"/>
            <a:chOff x="3797280" y="546120"/>
            <a:chExt cx="1820880" cy="3025800"/>
          </a:xfrm>
        </p:grpSpPr>
        <p:sp>
          <p:nvSpPr>
            <p:cNvPr id="268" name="Freeform 2405"/>
            <p:cNvSpPr/>
            <p:nvPr/>
          </p:nvSpPr>
          <p:spPr>
            <a:xfrm>
              <a:off x="3797280" y="2527200"/>
              <a:ext cx="1440" cy="10414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41480"/>
                <a:gd name="textAreaBottom" fmla="*/ 1041480 h 1041480"/>
              </a:gdLst>
              <a:ahLst/>
              <a:rect l="textAreaLeft" t="textAreaTop" r="textAreaRight" b="textAreaBottom"/>
              <a:pathLst>
                <a:path w="1" h="656">
                  <a:moveTo>
                    <a:pt x="0" y="0"/>
                  </a:moveTo>
                  <a:lnTo>
                    <a:pt x="0" y="656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406"/>
            <p:cNvSpPr/>
            <p:nvPr/>
          </p:nvSpPr>
          <p:spPr>
            <a:xfrm>
              <a:off x="4013280" y="54612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407"/>
            <p:cNvSpPr/>
            <p:nvPr/>
          </p:nvSpPr>
          <p:spPr>
            <a:xfrm>
              <a:off x="4356000" y="54936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408"/>
            <p:cNvSpPr/>
            <p:nvPr/>
          </p:nvSpPr>
          <p:spPr>
            <a:xfrm>
              <a:off x="4788000" y="54936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409"/>
            <p:cNvSpPr/>
            <p:nvPr/>
          </p:nvSpPr>
          <p:spPr>
            <a:xfrm>
              <a:off x="5219640" y="54936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410"/>
            <p:cNvSpPr/>
            <p:nvPr/>
          </p:nvSpPr>
          <p:spPr>
            <a:xfrm>
              <a:off x="5580000" y="549360"/>
              <a:ext cx="38160" cy="30225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2419"/>
          <p:cNvGrpSpPr/>
          <p:nvPr/>
        </p:nvGrpSpPr>
        <p:grpSpPr>
          <a:xfrm>
            <a:off x="177840" y="547560"/>
            <a:ext cx="1576440" cy="3027600"/>
            <a:chOff x="177840" y="547560"/>
            <a:chExt cx="1576440" cy="3027600"/>
          </a:xfrm>
        </p:grpSpPr>
        <p:sp>
          <p:nvSpPr>
            <p:cNvPr id="275" name="Freeform 2413"/>
            <p:cNvSpPr/>
            <p:nvPr/>
          </p:nvSpPr>
          <p:spPr>
            <a:xfrm>
              <a:off x="1752480" y="1943280"/>
              <a:ext cx="1800" cy="162540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1625400"/>
                <a:gd name="textAreaBottom" fmla="*/ 1625760 h 1625400"/>
              </a:gdLst>
              <a:ahLst/>
              <a:rect l="textAreaLeft" t="textAreaTop" r="textAreaRight" b="textAreaBottom"/>
              <a:pathLst>
                <a:path w="1" h="1024">
                  <a:moveTo>
                    <a:pt x="0" y="0"/>
                  </a:moveTo>
                  <a:lnTo>
                    <a:pt x="0" y="102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414"/>
            <p:cNvSpPr/>
            <p:nvPr/>
          </p:nvSpPr>
          <p:spPr>
            <a:xfrm flipH="1" rot="21597000">
              <a:off x="1382760" y="547560"/>
              <a:ext cx="38160" cy="30225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415"/>
            <p:cNvSpPr/>
            <p:nvPr/>
          </p:nvSpPr>
          <p:spPr>
            <a:xfrm flipH="1" rot="21597000">
              <a:off x="1041480" y="550800"/>
              <a:ext cx="38160" cy="30225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416"/>
            <p:cNvSpPr/>
            <p:nvPr/>
          </p:nvSpPr>
          <p:spPr>
            <a:xfrm flipH="1" rot="21597000">
              <a:off x="609840" y="552600"/>
              <a:ext cx="38160" cy="30225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417"/>
            <p:cNvSpPr/>
            <p:nvPr/>
          </p:nvSpPr>
          <p:spPr>
            <a:xfrm flipH="1" rot="21597000">
              <a:off x="177840" y="552600"/>
              <a:ext cx="38160" cy="3022560"/>
            </a:xfrm>
            <a:custGeom>
              <a:avLst/>
              <a:gdLst>
                <a:gd name="textAreaLeft" fmla="*/ 360 w 38160"/>
                <a:gd name="textAreaRight" fmla="*/ 38880 w 38160"/>
                <a:gd name="textAreaTop" fmla="*/ 0 h 3022560"/>
                <a:gd name="textAreaBottom" fmla="*/ 3022920 h 3022560"/>
              </a:gdLst>
              <a:ahLst/>
              <a:rect l="textAreaLeft" t="textAreaTop" r="textAreaRight" b="textAreaBottom"/>
              <a:pathLst>
                <a:path w="24" h="1904">
                  <a:moveTo>
                    <a:pt x="0" y="0"/>
                  </a:moveTo>
                  <a:lnTo>
                    <a:pt x="24" y="1904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423"/>
          <p:cNvGrpSpPr/>
          <p:nvPr/>
        </p:nvGrpSpPr>
        <p:grpSpPr>
          <a:xfrm>
            <a:off x="107640" y="3500280"/>
            <a:ext cx="2087640" cy="144720"/>
            <a:chOff x="107640" y="3500280"/>
            <a:chExt cx="2087640" cy="144720"/>
          </a:xfrm>
        </p:grpSpPr>
        <p:sp>
          <p:nvSpPr>
            <p:cNvPr id="281" name="Line 2424"/>
            <p:cNvSpPr/>
            <p:nvPr/>
          </p:nvSpPr>
          <p:spPr>
            <a:xfrm flipH="1">
              <a:off x="107640" y="3571920"/>
              <a:ext cx="2016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425"/>
            <p:cNvSpPr/>
            <p:nvPr/>
          </p:nvSpPr>
          <p:spPr>
            <a:xfrm rot="10800000">
              <a:off x="2050920" y="35002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Object 3" descr=""/>
          <p:cNvPicPr/>
          <p:nvPr/>
        </p:nvPicPr>
        <p:blipFill>
          <a:blip r:embed="rId3"/>
          <a:stretch/>
        </p:blipFill>
        <p:spPr>
          <a:xfrm>
            <a:off x="6012000" y="1444680"/>
            <a:ext cx="2987640" cy="54432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2432"/>
          <p:cNvGrpSpPr/>
          <p:nvPr/>
        </p:nvGrpSpPr>
        <p:grpSpPr>
          <a:xfrm>
            <a:off x="6232680" y="1773360"/>
            <a:ext cx="2109240" cy="1191240"/>
            <a:chOff x="6232680" y="1773360"/>
            <a:chExt cx="2109240" cy="1191240"/>
          </a:xfrm>
        </p:grpSpPr>
        <p:sp>
          <p:nvSpPr>
            <p:cNvPr id="285" name="Text Box 2429"/>
            <p:cNvSpPr/>
            <p:nvPr/>
          </p:nvSpPr>
          <p:spPr>
            <a:xfrm>
              <a:off x="6232680" y="1773360"/>
              <a:ext cx="210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– х – 6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Object 8" descr=""/>
            <p:cNvPicPr/>
            <p:nvPr/>
          </p:nvPicPr>
          <p:blipFill>
            <a:blip r:embed="rId4"/>
            <a:stretch/>
          </p:blipFill>
          <p:spPr>
            <a:xfrm>
              <a:off x="7776000" y="2492280"/>
              <a:ext cx="31824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7" name="Object 4" descr=""/>
          <p:cNvPicPr/>
          <p:nvPr/>
        </p:nvPicPr>
        <p:blipFill>
          <a:blip r:embed="rId5"/>
          <a:stretch/>
        </p:blipFill>
        <p:spPr>
          <a:xfrm>
            <a:off x="6012000" y="2890800"/>
            <a:ext cx="2952720" cy="5382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2442"/>
          <p:cNvSpPr/>
          <p:nvPr/>
        </p:nvSpPr>
        <p:spPr>
          <a:xfrm>
            <a:off x="6168600" y="3614760"/>
            <a:ext cx="198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х – 6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2451"/>
          <p:cNvGrpSpPr/>
          <p:nvPr/>
        </p:nvGrpSpPr>
        <p:grpSpPr>
          <a:xfrm>
            <a:off x="2340000" y="3573360"/>
            <a:ext cx="1092240" cy="1951200"/>
            <a:chOff x="2340000" y="3573360"/>
            <a:chExt cx="1092240" cy="1951200"/>
          </a:xfrm>
        </p:grpSpPr>
        <p:sp>
          <p:nvSpPr>
            <p:cNvPr id="290" name="Freeform 2446"/>
            <p:cNvSpPr/>
            <p:nvPr/>
          </p:nvSpPr>
          <p:spPr>
            <a:xfrm>
              <a:off x="2340000" y="3573360"/>
              <a:ext cx="3240" cy="82080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20800"/>
                <a:gd name="textAreaBottom" fmla="*/ 821160 h 820800"/>
              </a:gdLst>
              <a:ahLst/>
              <a:rect l="textAreaLeft" t="textAreaTop" r="textAreaRight" b="textAreaBottom"/>
              <a:pathLst>
                <a:path w="2" h="517">
                  <a:moveTo>
                    <a:pt x="0" y="517"/>
                  </a:moveTo>
                  <a:lnTo>
                    <a:pt x="2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447"/>
            <p:cNvSpPr/>
            <p:nvPr/>
          </p:nvSpPr>
          <p:spPr>
            <a:xfrm>
              <a:off x="2559240" y="3573360"/>
              <a:ext cx="21960" cy="1519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519200"/>
                <a:gd name="textAreaBottom" fmla="*/ 1519560 h 1519200"/>
              </a:gdLst>
              <a:ahLst/>
              <a:rect l="textAreaLeft" t="textAreaTop" r="textAreaRight" b="textAreaBottom"/>
              <a:pathLst>
                <a:path w="14" h="957">
                  <a:moveTo>
                    <a:pt x="14" y="957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448"/>
            <p:cNvSpPr/>
            <p:nvPr/>
          </p:nvSpPr>
          <p:spPr>
            <a:xfrm>
              <a:off x="3421080" y="3645000"/>
              <a:ext cx="11160" cy="9777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7" h="616">
                  <a:moveTo>
                    <a:pt x="7" y="61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449"/>
            <p:cNvSpPr/>
            <p:nvPr/>
          </p:nvSpPr>
          <p:spPr>
            <a:xfrm>
              <a:off x="3135240" y="3573360"/>
              <a:ext cx="17640" cy="176076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760760"/>
                <a:gd name="textAreaBottom" fmla="*/ 1761120 h 1760760"/>
              </a:gdLst>
              <a:ahLst/>
              <a:rect l="textAreaLeft" t="textAreaTop" r="textAreaRight" b="textAreaBottom"/>
              <a:pathLst>
                <a:path w="11" h="1109">
                  <a:moveTo>
                    <a:pt x="11" y="1109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450"/>
            <p:cNvSpPr/>
            <p:nvPr/>
          </p:nvSpPr>
          <p:spPr>
            <a:xfrm>
              <a:off x="2846520" y="3573360"/>
              <a:ext cx="14400" cy="195120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951200"/>
                <a:gd name="textAreaBottom" fmla="*/ 1951560 h 1951200"/>
              </a:gdLst>
              <a:ahLst/>
              <a:rect l="textAreaLeft" t="textAreaTop" r="textAreaRight" b="textAreaBottom"/>
              <a:pathLst>
                <a:path w="9" h="1229">
                  <a:moveTo>
                    <a:pt x="9" y="1229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Freeform 2443"/>
          <p:cNvSpPr/>
          <p:nvPr/>
        </p:nvSpPr>
        <p:spPr>
          <a:xfrm>
            <a:off x="2124000" y="3573360"/>
            <a:ext cx="1511280" cy="194940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1949400"/>
              <a:gd name="textAreaBottom" fmla="*/ 1949760 h 1949400"/>
            </a:gdLst>
            <a:ahLst/>
            <a:rect l="textAreaLeft" t="textAreaTop" r="textAreaRight" b="textAreaBottom"/>
            <a:pathLst>
              <a:path w="952" h="1228">
                <a:moveTo>
                  <a:pt x="0" y="0"/>
                </a:moveTo>
                <a:cubicBezTo>
                  <a:pt x="24" y="93"/>
                  <a:pt x="84" y="371"/>
                  <a:pt x="142" y="557"/>
                </a:cubicBezTo>
                <a:cubicBezTo>
                  <a:pt x="200" y="743"/>
                  <a:pt x="287" y="1006"/>
                  <a:pt x="346" y="1117"/>
                </a:cubicBezTo>
                <a:cubicBezTo>
                  <a:pt x="405" y="1228"/>
                  <a:pt x="448" y="1225"/>
                  <a:pt x="499" y="1224"/>
                </a:cubicBezTo>
                <a:cubicBezTo>
                  <a:pt x="550" y="1223"/>
                  <a:pt x="602" y="1198"/>
                  <a:pt x="654" y="1109"/>
                </a:cubicBezTo>
                <a:cubicBezTo>
                  <a:pt x="706" y="1020"/>
                  <a:pt x="760" y="874"/>
                  <a:pt x="810" y="689"/>
                </a:cubicBezTo>
                <a:cubicBezTo>
                  <a:pt x="860" y="504"/>
                  <a:pt x="922" y="144"/>
                  <a:pt x="95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ject 5" descr=""/>
          <p:cNvPicPr/>
          <p:nvPr/>
        </p:nvPicPr>
        <p:blipFill>
          <a:blip r:embed="rId6"/>
          <a:stretch/>
        </p:blipFill>
        <p:spPr>
          <a:xfrm>
            <a:off x="6804000" y="4527720"/>
            <a:ext cx="1368360" cy="60768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 2455"/>
          <p:cNvGrpSpPr/>
          <p:nvPr/>
        </p:nvGrpSpPr>
        <p:grpSpPr>
          <a:xfrm>
            <a:off x="6305760" y="4869000"/>
            <a:ext cx="2109240" cy="1191240"/>
            <a:chOff x="6305760" y="4869000"/>
            <a:chExt cx="2109240" cy="1191240"/>
          </a:xfrm>
        </p:grpSpPr>
        <p:sp>
          <p:nvSpPr>
            <p:cNvPr id="298" name="Text Box 2456"/>
            <p:cNvSpPr/>
            <p:nvPr/>
          </p:nvSpPr>
          <p:spPr>
            <a:xfrm>
              <a:off x="6305760" y="4869000"/>
              <a:ext cx="2109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х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– х – 6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9" name="Object 7" descr=""/>
            <p:cNvPicPr/>
            <p:nvPr/>
          </p:nvPicPr>
          <p:blipFill>
            <a:blip r:embed="rId7"/>
            <a:stretch/>
          </p:blipFill>
          <p:spPr>
            <a:xfrm>
              <a:off x="7795800" y="5587920"/>
              <a:ext cx="307080" cy="433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0" name="Object 6" descr=""/>
          <p:cNvPicPr/>
          <p:nvPr/>
        </p:nvPicPr>
        <p:blipFill>
          <a:blip r:embed="rId8"/>
          <a:stretch/>
        </p:blipFill>
        <p:spPr>
          <a:xfrm>
            <a:off x="6804000" y="6093000"/>
            <a:ext cx="1368360" cy="58896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2463"/>
          <p:cNvGrpSpPr/>
          <p:nvPr/>
        </p:nvGrpSpPr>
        <p:grpSpPr>
          <a:xfrm>
            <a:off x="3564000" y="3500280"/>
            <a:ext cx="2087640" cy="144720"/>
            <a:chOff x="3564000" y="3500280"/>
            <a:chExt cx="2087640" cy="144720"/>
          </a:xfrm>
        </p:grpSpPr>
        <p:sp>
          <p:nvSpPr>
            <p:cNvPr id="302" name="Line 2464"/>
            <p:cNvSpPr/>
            <p:nvPr/>
          </p:nvSpPr>
          <p:spPr>
            <a:xfrm>
              <a:off x="3635280" y="3571920"/>
              <a:ext cx="2016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465"/>
            <p:cNvSpPr/>
            <p:nvPr/>
          </p:nvSpPr>
          <p:spPr>
            <a:xfrm flipH="1" rot="10800000">
              <a:off x="3563640" y="35002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2435"/>
          <p:cNvGrpSpPr/>
          <p:nvPr/>
        </p:nvGrpSpPr>
        <p:grpSpPr>
          <a:xfrm>
            <a:off x="2050920" y="3500280"/>
            <a:ext cx="1656000" cy="144720"/>
            <a:chOff x="2050920" y="3500280"/>
            <a:chExt cx="1656000" cy="144720"/>
          </a:xfrm>
        </p:grpSpPr>
        <p:sp>
          <p:nvSpPr>
            <p:cNvPr id="305" name="Oval 2433"/>
            <p:cNvSpPr/>
            <p:nvPr/>
          </p:nvSpPr>
          <p:spPr>
            <a:xfrm>
              <a:off x="356400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434"/>
            <p:cNvSpPr/>
            <p:nvPr/>
          </p:nvSpPr>
          <p:spPr>
            <a:xfrm>
              <a:off x="205092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2453"/>
          <p:cNvGrpSpPr/>
          <p:nvPr/>
        </p:nvGrpSpPr>
        <p:grpSpPr>
          <a:xfrm>
            <a:off x="2050920" y="3500280"/>
            <a:ext cx="1657440" cy="144720"/>
            <a:chOff x="2050920" y="3500280"/>
            <a:chExt cx="1657440" cy="144720"/>
          </a:xfrm>
        </p:grpSpPr>
        <p:sp>
          <p:nvSpPr>
            <p:cNvPr id="308" name="Freeform 2420"/>
            <p:cNvSpPr/>
            <p:nvPr/>
          </p:nvSpPr>
          <p:spPr>
            <a:xfrm>
              <a:off x="2124000" y="3568680"/>
              <a:ext cx="1482840" cy="4680"/>
            </a:xfrm>
            <a:custGeom>
              <a:avLst/>
              <a:gdLst>
                <a:gd name="textAreaLeft" fmla="*/ 0 w 1482840"/>
                <a:gd name="textAreaRight" fmla="*/ 1483200 w 14828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34" h="3">
                  <a:moveTo>
                    <a:pt x="0" y="3"/>
                  </a:moveTo>
                  <a:lnTo>
                    <a:pt x="934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2421"/>
            <p:cNvSpPr/>
            <p:nvPr/>
          </p:nvSpPr>
          <p:spPr>
            <a:xfrm>
              <a:off x="2050920" y="3500280"/>
              <a:ext cx="14472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452"/>
            <p:cNvSpPr/>
            <p:nvPr/>
          </p:nvSpPr>
          <p:spPr>
            <a:xfrm>
              <a:off x="3564000" y="3500280"/>
              <a:ext cx="144360" cy="144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458"/>
          <p:cNvGrpSpPr/>
          <p:nvPr/>
        </p:nvGrpSpPr>
        <p:grpSpPr>
          <a:xfrm>
            <a:off x="2050920" y="3500280"/>
            <a:ext cx="1656000" cy="144720"/>
            <a:chOff x="2050920" y="3500280"/>
            <a:chExt cx="1656000" cy="144720"/>
          </a:xfrm>
        </p:grpSpPr>
        <p:sp>
          <p:nvSpPr>
            <p:cNvPr id="312" name="Oval 2459"/>
            <p:cNvSpPr/>
            <p:nvPr/>
          </p:nvSpPr>
          <p:spPr>
            <a:xfrm>
              <a:off x="356400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460"/>
            <p:cNvSpPr/>
            <p:nvPr/>
          </p:nvSpPr>
          <p:spPr>
            <a:xfrm>
              <a:off x="2050920" y="3500280"/>
              <a:ext cx="1429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2467"/>
          <p:cNvSpPr/>
          <p:nvPr/>
        </p:nvSpPr>
        <p:spPr>
          <a:xfrm>
            <a:off x="7018200" y="17733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468"/>
          <p:cNvSpPr/>
          <p:nvPr/>
        </p:nvSpPr>
        <p:spPr>
          <a:xfrm>
            <a:off x="7018200" y="486900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№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43960" cy="685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200"/>
            </a:b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Функция принимает           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только          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только          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значения                                             </a:t>
            </a:r>
            <a:br>
              <a:rPr sz="2100"/>
            </a:br>
            <a:r>
              <a:rPr b="0" lang="ru-RU" sz="2100" spc="-1" strike="noStrike">
                <a:solidFill>
                  <a:srgbClr val="002060"/>
                </a:solidFill>
                <a:latin typeface="Calibri"/>
              </a:rPr>
              <a:t>                                               </a:t>
            </a:r>
            <a:r>
              <a:rPr b="0" lang="en-US" sz="21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положительные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отрицательные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разных</a:t>
            </a:r>
            <a:br>
              <a:rPr sz="2100"/>
            </a:br>
            <a:r>
              <a:rPr b="1" i="1" lang="ru-RU" sz="1800" spc="-1" strike="noStrike">
                <a:solidFill>
                  <a:srgbClr val="e67c7f"/>
                </a:solidFill>
                <a:latin typeface="Calibri"/>
              </a:rPr>
              <a:t>1 вариант                                      </a:t>
            </a:r>
            <a:r>
              <a:rPr b="1" i="1" lang="en-US" sz="1800" spc="-1" strike="noStrike">
                <a:solidFill>
                  <a:srgbClr val="e67c7f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значения    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значения                         </a:t>
            </a:r>
            <a:r>
              <a:rPr b="0" lang="en-US" sz="13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ru-RU" sz="1300" spc="-1" strike="noStrike">
                <a:solidFill>
                  <a:srgbClr val="002060"/>
                </a:solidFill>
                <a:latin typeface="Calibri"/>
              </a:rPr>
              <a:t>знаков</a:t>
            </a:r>
            <a:br>
              <a:rPr sz="13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. у=1,2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-1,3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. у=3,4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+2,8_x0016_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3. у=-1,3 -2,6 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4. у=0,1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+5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5. у=-0,3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-4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. у=-х</a:t>
            </a:r>
            <a:r>
              <a:rPr b="1" lang="ru-RU" sz="1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+5</a:t>
            </a:r>
            <a:br>
              <a:rPr sz="2100"/>
            </a:br>
            <a:r>
              <a:rPr b="1" i="1" lang="ru-RU" sz="2100" spc="-1" strike="noStrike">
                <a:solidFill>
                  <a:srgbClr val="e67c7f"/>
                </a:solidFill>
                <a:latin typeface="Calibri"/>
              </a:rPr>
              <a:t>2 вариант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1. у=-0,6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-3,4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2. у=2,3 – 4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3. у=6,2-0,9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4. у=2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-6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5. у=8+4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2100"/>
            </a:br>
            <a:r>
              <a:rPr b="1" lang="ru-RU" sz="2100" spc="-1" strike="noStrike">
                <a:solidFill>
                  <a:srgbClr val="002060"/>
                </a:solidFill>
                <a:latin typeface="Calibri"/>
              </a:rPr>
              <a:t>6. у=-2-х</a:t>
            </a:r>
            <a:r>
              <a:rPr b="1" lang="ru-RU" sz="21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br>
              <a:rPr sz="2100"/>
            </a:b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17" name="Прямоугольник 3"/>
          <p:cNvSpPr/>
          <p:nvPr/>
        </p:nvSpPr>
        <p:spPr>
          <a:xfrm>
            <a:off x="6804000" y="270036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4"/>
          <p:cNvSpPr/>
          <p:nvPr/>
        </p:nvSpPr>
        <p:spPr>
          <a:xfrm>
            <a:off x="5148360" y="270828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8"/>
          <p:cNvSpPr/>
          <p:nvPr/>
        </p:nvSpPr>
        <p:spPr>
          <a:xfrm>
            <a:off x="3635280" y="494172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1"/>
          <p:cNvSpPr/>
          <p:nvPr/>
        </p:nvSpPr>
        <p:spPr>
          <a:xfrm>
            <a:off x="3635280" y="5300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14"/>
          <p:cNvSpPr/>
          <p:nvPr/>
        </p:nvSpPr>
        <p:spPr>
          <a:xfrm>
            <a:off x="3635280" y="5661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17"/>
          <p:cNvSpPr/>
          <p:nvPr/>
        </p:nvSpPr>
        <p:spPr>
          <a:xfrm>
            <a:off x="3635280" y="3860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20"/>
          <p:cNvSpPr/>
          <p:nvPr/>
        </p:nvSpPr>
        <p:spPr>
          <a:xfrm>
            <a:off x="3635280" y="4221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3"/>
          <p:cNvSpPr/>
          <p:nvPr/>
        </p:nvSpPr>
        <p:spPr>
          <a:xfrm>
            <a:off x="3635280" y="458136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24"/>
          <p:cNvSpPr/>
          <p:nvPr/>
        </p:nvSpPr>
        <p:spPr>
          <a:xfrm>
            <a:off x="6804000" y="3068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25"/>
          <p:cNvSpPr/>
          <p:nvPr/>
        </p:nvSpPr>
        <p:spPr>
          <a:xfrm>
            <a:off x="5148360" y="306864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27"/>
          <p:cNvSpPr/>
          <p:nvPr/>
        </p:nvSpPr>
        <p:spPr>
          <a:xfrm>
            <a:off x="6804000" y="3429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28"/>
          <p:cNvSpPr/>
          <p:nvPr/>
        </p:nvSpPr>
        <p:spPr>
          <a:xfrm>
            <a:off x="3635280" y="3429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31"/>
          <p:cNvSpPr/>
          <p:nvPr/>
        </p:nvSpPr>
        <p:spPr>
          <a:xfrm>
            <a:off x="5148360" y="198900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2"/>
          <p:cNvSpPr/>
          <p:nvPr/>
        </p:nvSpPr>
        <p:spPr>
          <a:xfrm>
            <a:off x="6804000" y="1986120"/>
            <a:ext cx="428760" cy="28548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34"/>
          <p:cNvSpPr/>
          <p:nvPr/>
        </p:nvSpPr>
        <p:spPr>
          <a:xfrm>
            <a:off x="5148360" y="234936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5"/>
          <p:cNvSpPr/>
          <p:nvPr/>
        </p:nvSpPr>
        <p:spPr>
          <a:xfrm>
            <a:off x="6804000" y="23432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6"/>
          <p:cNvSpPr/>
          <p:nvPr/>
        </p:nvSpPr>
        <p:spPr>
          <a:xfrm>
            <a:off x="3635280" y="1628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_x0016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7"/>
          <p:cNvSpPr/>
          <p:nvPr/>
        </p:nvSpPr>
        <p:spPr>
          <a:xfrm>
            <a:off x="5148360" y="162864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38">
            <a:hlinkClick r:id="" action="ppaction://hlinkshowjump?jump=nextslide"/>
          </p:cNvPr>
          <p:cNvSpPr/>
          <p:nvPr/>
        </p:nvSpPr>
        <p:spPr>
          <a:xfrm>
            <a:off x="6804000" y="1628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39"/>
          <p:cNvSpPr/>
          <p:nvPr/>
        </p:nvSpPr>
        <p:spPr>
          <a:xfrm>
            <a:off x="3635280" y="1989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40"/>
          <p:cNvSpPr/>
          <p:nvPr/>
        </p:nvSpPr>
        <p:spPr>
          <a:xfrm>
            <a:off x="3635280" y="234936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41"/>
          <p:cNvSpPr/>
          <p:nvPr/>
        </p:nvSpPr>
        <p:spPr>
          <a:xfrm>
            <a:off x="3635280" y="270828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42"/>
          <p:cNvSpPr/>
          <p:nvPr/>
        </p:nvSpPr>
        <p:spPr>
          <a:xfrm>
            <a:off x="3635280" y="3068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43"/>
          <p:cNvSpPr/>
          <p:nvPr/>
        </p:nvSpPr>
        <p:spPr>
          <a:xfrm>
            <a:off x="5148360" y="342900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46"/>
          <p:cNvSpPr/>
          <p:nvPr/>
        </p:nvSpPr>
        <p:spPr>
          <a:xfrm>
            <a:off x="5148360" y="501336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47"/>
          <p:cNvSpPr/>
          <p:nvPr/>
        </p:nvSpPr>
        <p:spPr>
          <a:xfrm>
            <a:off x="5148360" y="537372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48"/>
          <p:cNvSpPr/>
          <p:nvPr/>
        </p:nvSpPr>
        <p:spPr>
          <a:xfrm>
            <a:off x="5148360" y="5732640"/>
            <a:ext cx="428400" cy="28548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Прямоугольник 49"/>
          <p:cNvSpPr/>
          <p:nvPr/>
        </p:nvSpPr>
        <p:spPr>
          <a:xfrm>
            <a:off x="5148360" y="393372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50"/>
          <p:cNvSpPr/>
          <p:nvPr/>
        </p:nvSpPr>
        <p:spPr>
          <a:xfrm>
            <a:off x="5148360" y="429264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51"/>
          <p:cNvSpPr/>
          <p:nvPr/>
        </p:nvSpPr>
        <p:spPr>
          <a:xfrm>
            <a:off x="5148360" y="4653000"/>
            <a:ext cx="42840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52"/>
          <p:cNvSpPr/>
          <p:nvPr/>
        </p:nvSpPr>
        <p:spPr>
          <a:xfrm>
            <a:off x="6804000" y="501336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53"/>
          <p:cNvSpPr/>
          <p:nvPr/>
        </p:nvSpPr>
        <p:spPr>
          <a:xfrm>
            <a:off x="6804000" y="537372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54"/>
          <p:cNvSpPr/>
          <p:nvPr/>
        </p:nvSpPr>
        <p:spPr>
          <a:xfrm>
            <a:off x="6804000" y="5732640"/>
            <a:ext cx="428760" cy="28548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55"/>
          <p:cNvSpPr/>
          <p:nvPr/>
        </p:nvSpPr>
        <p:spPr>
          <a:xfrm>
            <a:off x="6804000" y="393372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56"/>
          <p:cNvSpPr/>
          <p:nvPr/>
        </p:nvSpPr>
        <p:spPr>
          <a:xfrm>
            <a:off x="6804000" y="429264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57"/>
          <p:cNvSpPr/>
          <p:nvPr/>
        </p:nvSpPr>
        <p:spPr>
          <a:xfrm>
            <a:off x="6804000" y="4653000"/>
            <a:ext cx="428760" cy="2858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Умножение 44"/>
          <p:cNvSpPr/>
          <p:nvPr/>
        </p:nvSpPr>
        <p:spPr>
          <a:xfrm>
            <a:off x="6732720" y="1557360"/>
            <a:ext cx="576000" cy="431640"/>
          </a:xfrm>
          <a:custGeom>
            <a:avLst/>
            <a:gdLst/>
            <a:ahLst/>
            <a:rect l="l" t="t" r="r" b="b"/>
            <a:pathLst>
              <a:path w="576262" h="431800">
                <a:moveTo>
                  <a:pt x="107954" y="144345"/>
                </a:moveTo>
                <a:lnTo>
                  <a:pt x="168854" y="63070"/>
                </a:lnTo>
                <a:lnTo>
                  <a:pt x="288131" y="152446"/>
                </a:lnTo>
                <a:lnTo>
                  <a:pt x="407408" y="63070"/>
                </a:lnTo>
                <a:lnTo>
                  <a:pt x="468308" y="144345"/>
                </a:lnTo>
                <a:lnTo>
                  <a:pt x="372814" y="215900"/>
                </a:lnTo>
                <a:lnTo>
                  <a:pt x="468308" y="287455"/>
                </a:lnTo>
                <a:lnTo>
                  <a:pt x="407408" y="368730"/>
                </a:lnTo>
                <a:lnTo>
                  <a:pt x="288131" y="279354"/>
                </a:lnTo>
                <a:lnTo>
                  <a:pt x="168854" y="368730"/>
                </a:lnTo>
                <a:lnTo>
                  <a:pt x="107954" y="287455"/>
                </a:lnTo>
                <a:lnTo>
                  <a:pt x="203448" y="215900"/>
                </a:lnTo>
                <a:lnTo>
                  <a:pt x="107954" y="144345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Умножение 45"/>
          <p:cNvSpPr/>
          <p:nvPr/>
        </p:nvSpPr>
        <p:spPr>
          <a:xfrm>
            <a:off x="3564000" y="1844640"/>
            <a:ext cx="642960" cy="57168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Умножение 58"/>
          <p:cNvSpPr/>
          <p:nvPr/>
        </p:nvSpPr>
        <p:spPr>
          <a:xfrm>
            <a:off x="5076720" y="2205000"/>
            <a:ext cx="642960" cy="57168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70" y="87028"/>
                </a:lnTo>
                <a:lnTo>
                  <a:pt x="533171" y="187492"/>
                </a:lnTo>
                <a:lnTo>
                  <a:pt x="422631" y="285750"/>
                </a:lnTo>
                <a:lnTo>
                  <a:pt x="533171" y="384008"/>
                </a:lnTo>
                <a:lnTo>
                  <a:pt x="443870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Умножение 59"/>
          <p:cNvSpPr/>
          <p:nvPr/>
        </p:nvSpPr>
        <p:spPr>
          <a:xfrm>
            <a:off x="3564000" y="2565360"/>
            <a:ext cx="642960" cy="57168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Умножение 62"/>
          <p:cNvSpPr/>
          <p:nvPr/>
        </p:nvSpPr>
        <p:spPr>
          <a:xfrm>
            <a:off x="5003640" y="2924280"/>
            <a:ext cx="642960" cy="57132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70" y="87028"/>
                </a:lnTo>
                <a:lnTo>
                  <a:pt x="533171" y="187492"/>
                </a:lnTo>
                <a:lnTo>
                  <a:pt x="422631" y="285750"/>
                </a:lnTo>
                <a:lnTo>
                  <a:pt x="533171" y="384008"/>
                </a:lnTo>
                <a:lnTo>
                  <a:pt x="443870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Умножение 63"/>
          <p:cNvSpPr/>
          <p:nvPr/>
        </p:nvSpPr>
        <p:spPr>
          <a:xfrm>
            <a:off x="6659640" y="3284640"/>
            <a:ext cx="642960" cy="57132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Умножение 64"/>
          <p:cNvSpPr/>
          <p:nvPr/>
        </p:nvSpPr>
        <p:spPr>
          <a:xfrm>
            <a:off x="5003640" y="3789360"/>
            <a:ext cx="642960" cy="57168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70" y="87028"/>
                </a:lnTo>
                <a:lnTo>
                  <a:pt x="533171" y="187492"/>
                </a:lnTo>
                <a:lnTo>
                  <a:pt x="422631" y="285750"/>
                </a:lnTo>
                <a:lnTo>
                  <a:pt x="533171" y="384008"/>
                </a:lnTo>
                <a:lnTo>
                  <a:pt x="443870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Умножение 65"/>
          <p:cNvSpPr/>
          <p:nvPr/>
        </p:nvSpPr>
        <p:spPr>
          <a:xfrm>
            <a:off x="6659640" y="4149720"/>
            <a:ext cx="642960" cy="57168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Умножение 66"/>
          <p:cNvSpPr/>
          <p:nvPr/>
        </p:nvSpPr>
        <p:spPr>
          <a:xfrm>
            <a:off x="6659640" y="4581360"/>
            <a:ext cx="642960" cy="471600"/>
          </a:xfrm>
          <a:custGeom>
            <a:avLst/>
            <a:gdLst/>
            <a:ahLst/>
            <a:rect l="l" t="t" r="r" b="b"/>
            <a:pathLst>
              <a:path w="642937" h="471488">
                <a:moveTo>
                  <a:pt x="121628" y="157952"/>
                </a:moveTo>
                <a:lnTo>
                  <a:pt x="187207" y="68527"/>
                </a:lnTo>
                <a:lnTo>
                  <a:pt x="321469" y="166986"/>
                </a:lnTo>
                <a:lnTo>
                  <a:pt x="455730" y="68527"/>
                </a:lnTo>
                <a:lnTo>
                  <a:pt x="521309" y="157952"/>
                </a:lnTo>
                <a:lnTo>
                  <a:pt x="415230" y="235744"/>
                </a:lnTo>
                <a:lnTo>
                  <a:pt x="521309" y="313536"/>
                </a:lnTo>
                <a:lnTo>
                  <a:pt x="455730" y="402961"/>
                </a:lnTo>
                <a:lnTo>
                  <a:pt x="321469" y="304502"/>
                </a:lnTo>
                <a:lnTo>
                  <a:pt x="187207" y="402961"/>
                </a:lnTo>
                <a:lnTo>
                  <a:pt x="121628" y="313536"/>
                </a:lnTo>
                <a:lnTo>
                  <a:pt x="227707" y="235744"/>
                </a:lnTo>
                <a:lnTo>
                  <a:pt x="121628" y="15795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Умножение 67"/>
          <p:cNvSpPr/>
          <p:nvPr/>
        </p:nvSpPr>
        <p:spPr>
          <a:xfrm>
            <a:off x="6659640" y="4869000"/>
            <a:ext cx="642960" cy="471240"/>
          </a:xfrm>
          <a:custGeom>
            <a:avLst/>
            <a:gdLst/>
            <a:ahLst/>
            <a:rect l="l" t="t" r="r" b="b"/>
            <a:pathLst>
              <a:path w="642937" h="471487">
                <a:moveTo>
                  <a:pt x="121628" y="157952"/>
                </a:moveTo>
                <a:lnTo>
                  <a:pt x="187207" y="68527"/>
                </a:lnTo>
                <a:lnTo>
                  <a:pt x="321469" y="166985"/>
                </a:lnTo>
                <a:lnTo>
                  <a:pt x="455730" y="68527"/>
                </a:lnTo>
                <a:lnTo>
                  <a:pt x="521309" y="157952"/>
                </a:lnTo>
                <a:lnTo>
                  <a:pt x="415230" y="235744"/>
                </a:lnTo>
                <a:lnTo>
                  <a:pt x="521309" y="313535"/>
                </a:lnTo>
                <a:lnTo>
                  <a:pt x="455730" y="402960"/>
                </a:lnTo>
                <a:lnTo>
                  <a:pt x="321469" y="304502"/>
                </a:lnTo>
                <a:lnTo>
                  <a:pt x="187207" y="402960"/>
                </a:lnTo>
                <a:lnTo>
                  <a:pt x="121628" y="313535"/>
                </a:lnTo>
                <a:lnTo>
                  <a:pt x="227707" y="235744"/>
                </a:lnTo>
                <a:lnTo>
                  <a:pt x="121628" y="15795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Умножение 68"/>
          <p:cNvSpPr/>
          <p:nvPr/>
        </p:nvSpPr>
        <p:spPr>
          <a:xfrm>
            <a:off x="3564000" y="5157720"/>
            <a:ext cx="642960" cy="571680"/>
          </a:xfrm>
          <a:custGeom>
            <a:avLst/>
            <a:gdLst/>
            <a:ahLst/>
            <a:rect l="l" t="t" r="r" b="b"/>
            <a:pathLst>
              <a:path w="642937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69" y="87028"/>
                </a:lnTo>
                <a:lnTo>
                  <a:pt x="533170" y="187492"/>
                </a:lnTo>
                <a:lnTo>
                  <a:pt x="422630" y="285750"/>
                </a:lnTo>
                <a:lnTo>
                  <a:pt x="533170" y="384008"/>
                </a:lnTo>
                <a:lnTo>
                  <a:pt x="443869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Умножение 69"/>
          <p:cNvSpPr/>
          <p:nvPr/>
        </p:nvSpPr>
        <p:spPr>
          <a:xfrm>
            <a:off x="5076720" y="5589720"/>
            <a:ext cx="642960" cy="571320"/>
          </a:xfrm>
          <a:custGeom>
            <a:avLst/>
            <a:gdLst/>
            <a:ahLst/>
            <a:rect l="l" t="t" r="r" b="b"/>
            <a:pathLst>
              <a:path w="642938" h="571500">
                <a:moveTo>
                  <a:pt x="109767" y="187492"/>
                </a:moveTo>
                <a:lnTo>
                  <a:pt x="199068" y="87028"/>
                </a:lnTo>
                <a:lnTo>
                  <a:pt x="321469" y="195828"/>
                </a:lnTo>
                <a:lnTo>
                  <a:pt x="443870" y="87028"/>
                </a:lnTo>
                <a:lnTo>
                  <a:pt x="533171" y="187492"/>
                </a:lnTo>
                <a:lnTo>
                  <a:pt x="422631" y="285750"/>
                </a:lnTo>
                <a:lnTo>
                  <a:pt x="533171" y="384008"/>
                </a:lnTo>
                <a:lnTo>
                  <a:pt x="443870" y="484472"/>
                </a:lnTo>
                <a:lnTo>
                  <a:pt x="321469" y="375672"/>
                </a:lnTo>
                <a:lnTo>
                  <a:pt x="199068" y="484472"/>
                </a:lnTo>
                <a:lnTo>
                  <a:pt x="109767" y="384008"/>
                </a:lnTo>
                <a:lnTo>
                  <a:pt x="220307" y="285750"/>
                </a:lnTo>
                <a:lnTo>
                  <a:pt x="109767" y="187492"/>
                </a:lnTo>
                <a:close/>
              </a:path>
            </a:pathLst>
          </a:custGeom>
          <a:solidFill>
            <a:srgbClr val="526db0"/>
          </a:solidFill>
          <a:ln w="28440">
            <a:solidFill>
              <a:srgbClr val="15040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146160" y="907920"/>
            <a:ext cx="8626320" cy="253044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3" descr="presentation"/>
          <p:cNvPicPr/>
          <p:nvPr/>
        </p:nvPicPr>
        <p:blipFill>
          <a:blip r:embed="rId2"/>
          <a:stretch/>
        </p:blipFill>
        <p:spPr>
          <a:xfrm>
            <a:off x="2268360" y="3500280"/>
            <a:ext cx="478656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73" descr=""/>
          <p:cNvPicPr/>
          <p:nvPr/>
        </p:nvPicPr>
        <p:blipFill>
          <a:blip r:embed="rId1"/>
          <a:stretch/>
        </p:blipFill>
        <p:spPr>
          <a:xfrm>
            <a:off x="3797280" y="3260880"/>
            <a:ext cx="5005440" cy="510192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2"/>
          <p:cNvGrpSpPr/>
          <p:nvPr/>
        </p:nvGrpSpPr>
        <p:grpSpPr>
          <a:xfrm>
            <a:off x="3828960" y="736560"/>
            <a:ext cx="4991040" cy="5078520"/>
            <a:chOff x="3828960" y="736560"/>
            <a:chExt cx="4991040" cy="5078520"/>
          </a:xfrm>
        </p:grpSpPr>
        <p:sp>
          <p:nvSpPr>
            <p:cNvPr id="369" name="Freeform 3"/>
            <p:cNvSpPr/>
            <p:nvPr/>
          </p:nvSpPr>
          <p:spPr>
            <a:xfrm>
              <a:off x="3848040" y="749160"/>
              <a:ext cx="3240" cy="503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"/>
            <p:cNvSpPr/>
            <p:nvPr/>
          </p:nvSpPr>
          <p:spPr>
            <a:xfrm>
              <a:off x="3924360" y="2708280"/>
              <a:ext cx="4857840" cy="32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5"/>
            <p:cNvSpPr/>
            <p:nvPr/>
          </p:nvSpPr>
          <p:spPr>
            <a:xfrm>
              <a:off x="3867120" y="5505480"/>
              <a:ext cx="4902120" cy="144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6"/>
            <p:cNvSpPr/>
            <p:nvPr/>
          </p:nvSpPr>
          <p:spPr>
            <a:xfrm>
              <a:off x="3851280" y="5226120"/>
              <a:ext cx="4911840" cy="3240"/>
            </a:xfrm>
            <a:custGeom>
              <a:avLst/>
              <a:gdLst>
                <a:gd name="textAreaLeft" fmla="*/ 0 w 4911840"/>
                <a:gd name="textAreaRight" fmla="*/ 4912200 w 4911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7"/>
            <p:cNvSpPr/>
            <p:nvPr/>
          </p:nvSpPr>
          <p:spPr>
            <a:xfrm>
              <a:off x="3851280" y="494172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"/>
            <p:cNvSpPr/>
            <p:nvPr/>
          </p:nvSpPr>
          <p:spPr>
            <a:xfrm>
              <a:off x="3854520" y="4667400"/>
              <a:ext cx="4914720" cy="1440"/>
            </a:xfrm>
            <a:custGeom>
              <a:avLst/>
              <a:gdLst>
                <a:gd name="textAreaLeft" fmla="*/ 0 w 4914720"/>
                <a:gd name="textAreaRight" fmla="*/ 4915080 w 4914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9"/>
            <p:cNvSpPr/>
            <p:nvPr/>
          </p:nvSpPr>
          <p:spPr>
            <a:xfrm>
              <a:off x="3848040" y="4387680"/>
              <a:ext cx="4908600" cy="18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3841920" y="4102200"/>
              <a:ext cx="4921200" cy="612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1"/>
            <p:cNvSpPr/>
            <p:nvPr/>
          </p:nvSpPr>
          <p:spPr>
            <a:xfrm>
              <a:off x="3841920" y="3822840"/>
              <a:ext cx="4933800" cy="1260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2"/>
            <p:cNvSpPr/>
            <p:nvPr/>
          </p:nvSpPr>
          <p:spPr>
            <a:xfrm>
              <a:off x="3828960" y="3543480"/>
              <a:ext cx="4946760" cy="612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3"/>
            <p:cNvSpPr/>
            <p:nvPr/>
          </p:nvSpPr>
          <p:spPr>
            <a:xfrm>
              <a:off x="3924360" y="2990880"/>
              <a:ext cx="4844880" cy="6480"/>
            </a:xfrm>
            <a:custGeom>
              <a:avLst/>
              <a:gdLst>
                <a:gd name="textAreaLeft" fmla="*/ 0 w 4844880"/>
                <a:gd name="textAreaRight" fmla="*/ 4845240 w 4844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4"/>
            <p:cNvSpPr/>
            <p:nvPr/>
          </p:nvSpPr>
          <p:spPr>
            <a:xfrm>
              <a:off x="3854520" y="2432160"/>
              <a:ext cx="4921200" cy="144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5"/>
            <p:cNvSpPr/>
            <p:nvPr/>
          </p:nvSpPr>
          <p:spPr>
            <a:xfrm>
              <a:off x="3835440" y="2152800"/>
              <a:ext cx="4940280" cy="612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6"/>
            <p:cNvSpPr/>
            <p:nvPr/>
          </p:nvSpPr>
          <p:spPr>
            <a:xfrm>
              <a:off x="3841920" y="1873080"/>
              <a:ext cx="4933800" cy="648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7"/>
            <p:cNvSpPr/>
            <p:nvPr/>
          </p:nvSpPr>
          <p:spPr>
            <a:xfrm>
              <a:off x="3835440" y="1600200"/>
              <a:ext cx="4940280" cy="648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8"/>
            <p:cNvSpPr/>
            <p:nvPr/>
          </p:nvSpPr>
          <p:spPr>
            <a:xfrm>
              <a:off x="3848040" y="1320840"/>
              <a:ext cx="4927680" cy="1440"/>
            </a:xfrm>
            <a:custGeom>
              <a:avLst/>
              <a:gdLst>
                <a:gd name="textAreaLeft" fmla="*/ 0 w 4927680"/>
                <a:gd name="textAreaRight" fmla="*/ 4928040 w 492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9"/>
            <p:cNvSpPr/>
            <p:nvPr/>
          </p:nvSpPr>
          <p:spPr>
            <a:xfrm>
              <a:off x="3860640" y="1041480"/>
              <a:ext cx="4908600" cy="126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20"/>
            <p:cNvSpPr/>
            <p:nvPr/>
          </p:nvSpPr>
          <p:spPr>
            <a:xfrm>
              <a:off x="3873600" y="749160"/>
              <a:ext cx="4902120" cy="1908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1"/>
            <p:cNvSpPr/>
            <p:nvPr/>
          </p:nvSpPr>
          <p:spPr>
            <a:xfrm>
              <a:off x="3835440" y="5784840"/>
              <a:ext cx="4946760" cy="144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2"/>
            <p:cNvSpPr/>
            <p:nvPr/>
          </p:nvSpPr>
          <p:spPr>
            <a:xfrm>
              <a:off x="8775720" y="774720"/>
              <a:ext cx="1440" cy="497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978440"/>
                <a:gd name="textAreaBottom" fmla="*/ 4978800 h 49784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3"/>
            <p:cNvSpPr/>
            <p:nvPr/>
          </p:nvSpPr>
          <p:spPr>
            <a:xfrm>
              <a:off x="8464680" y="762120"/>
              <a:ext cx="6120" cy="5035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4"/>
            <p:cNvSpPr/>
            <p:nvPr/>
          </p:nvSpPr>
          <p:spPr>
            <a:xfrm>
              <a:off x="8153280" y="762120"/>
              <a:ext cx="6480" cy="5029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5"/>
            <p:cNvSpPr/>
            <p:nvPr/>
          </p:nvSpPr>
          <p:spPr>
            <a:xfrm>
              <a:off x="7848720" y="762120"/>
              <a:ext cx="1440" cy="5016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6"/>
            <p:cNvSpPr/>
            <p:nvPr/>
          </p:nvSpPr>
          <p:spPr>
            <a:xfrm>
              <a:off x="7537320" y="755640"/>
              <a:ext cx="6480" cy="5035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7"/>
            <p:cNvSpPr/>
            <p:nvPr/>
          </p:nvSpPr>
          <p:spPr>
            <a:xfrm>
              <a:off x="7213680" y="749160"/>
              <a:ext cx="22320" cy="506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065920"/>
                <a:gd name="textAreaBottom" fmla="*/ 5066280 h 506592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8"/>
            <p:cNvSpPr/>
            <p:nvPr/>
          </p:nvSpPr>
          <p:spPr>
            <a:xfrm>
              <a:off x="6921360" y="774720"/>
              <a:ext cx="6480" cy="5016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16600"/>
                <a:gd name="textAreaBottom" fmla="*/ 5016960 h 501660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9"/>
            <p:cNvSpPr/>
            <p:nvPr/>
          </p:nvSpPr>
          <p:spPr>
            <a:xfrm>
              <a:off x="6616800" y="774720"/>
              <a:ext cx="1440" cy="5003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03640"/>
                <a:gd name="textAreaBottom" fmla="*/ 5004000 h 500364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30"/>
            <p:cNvSpPr/>
            <p:nvPr/>
          </p:nvSpPr>
          <p:spPr>
            <a:xfrm>
              <a:off x="5994360" y="736560"/>
              <a:ext cx="17640" cy="507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78520"/>
                <a:gd name="textAreaBottom" fmla="*/ 5078880 h 507852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31"/>
            <p:cNvSpPr/>
            <p:nvPr/>
          </p:nvSpPr>
          <p:spPr>
            <a:xfrm>
              <a:off x="5689440" y="76212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2"/>
            <p:cNvSpPr/>
            <p:nvPr/>
          </p:nvSpPr>
          <p:spPr>
            <a:xfrm>
              <a:off x="5384880" y="768240"/>
              <a:ext cx="6120" cy="5023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3080"/>
                <a:gd name="textAreaBottom" fmla="*/ 5023440 h 502308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3"/>
            <p:cNvSpPr/>
            <p:nvPr/>
          </p:nvSpPr>
          <p:spPr>
            <a:xfrm>
              <a:off x="5067360" y="762120"/>
              <a:ext cx="12600" cy="502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4"/>
            <p:cNvSpPr/>
            <p:nvPr/>
          </p:nvSpPr>
          <p:spPr>
            <a:xfrm>
              <a:off x="4768920" y="762120"/>
              <a:ext cx="6120" cy="5022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5"/>
            <p:cNvSpPr/>
            <p:nvPr/>
          </p:nvSpPr>
          <p:spPr>
            <a:xfrm>
              <a:off x="4464000" y="76212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6"/>
            <p:cNvSpPr/>
            <p:nvPr/>
          </p:nvSpPr>
          <p:spPr>
            <a:xfrm>
              <a:off x="4152960" y="762120"/>
              <a:ext cx="1440" cy="5022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Line 38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9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40"/>
          <p:cNvSpPr/>
          <p:nvPr/>
        </p:nvSpPr>
        <p:spPr>
          <a:xfrm>
            <a:off x="4610160" y="1359000"/>
            <a:ext cx="2070000" cy="302256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3022560"/>
              <a:gd name="textAreaBottom" fmla="*/ 3022920 h 3022560"/>
            </a:gdLst>
            <a:ahLst/>
            <a:rect l="textAreaLeft" t="textAreaTop" r="textAreaRight" b="textAreaBottom"/>
            <a:pathLst>
              <a:path w="1304" h="1904">
                <a:moveTo>
                  <a:pt x="0" y="32"/>
                </a:moveTo>
                <a:cubicBezTo>
                  <a:pt x="47" y="227"/>
                  <a:pt x="167" y="896"/>
                  <a:pt x="280" y="1208"/>
                </a:cubicBezTo>
                <a:cubicBezTo>
                  <a:pt x="393" y="1520"/>
                  <a:pt x="548" y="1904"/>
                  <a:pt x="680" y="1904"/>
                </a:cubicBezTo>
                <a:cubicBezTo>
                  <a:pt x="812" y="1904"/>
                  <a:pt x="968" y="1525"/>
                  <a:pt x="1072" y="1208"/>
                </a:cubicBezTo>
                <a:cubicBezTo>
                  <a:pt x="1176" y="891"/>
                  <a:pt x="1256" y="252"/>
                  <a:pt x="1304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2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3"/>
          <p:cNvSpPr/>
          <p:nvPr/>
        </p:nvSpPr>
        <p:spPr>
          <a:xfrm>
            <a:off x="6583680" y="32846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4"/>
          <p:cNvSpPr/>
          <p:nvPr/>
        </p:nvSpPr>
        <p:spPr>
          <a:xfrm>
            <a:off x="4110120" y="321300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5"/>
          <p:cNvSpPr/>
          <p:nvPr/>
        </p:nvSpPr>
        <p:spPr>
          <a:xfrm>
            <a:off x="6019200" y="1125360"/>
            <a:ext cx="29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6"/>
          <p:cNvSpPr/>
          <p:nvPr/>
        </p:nvSpPr>
        <p:spPr>
          <a:xfrm>
            <a:off x="6238080" y="3357720"/>
            <a:ext cx="36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7"/>
          <p:cNvSpPr/>
          <p:nvPr/>
        </p:nvSpPr>
        <p:spPr>
          <a:xfrm>
            <a:off x="1194120" y="198900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8"/>
          <p:cNvSpPr/>
          <p:nvPr/>
        </p:nvSpPr>
        <p:spPr>
          <a:xfrm>
            <a:off x="1192320" y="278136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AutoShape 51" descr=""/>
          <p:cNvPicPr/>
          <p:nvPr/>
        </p:nvPicPr>
        <p:blipFill>
          <a:blip r:embed="rId2"/>
          <a:stretch/>
        </p:blipFill>
        <p:spPr>
          <a:xfrm>
            <a:off x="517680" y="2743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414" name="AutoShape 55" descr=""/>
          <p:cNvPicPr/>
          <p:nvPr/>
        </p:nvPicPr>
        <p:blipFill>
          <a:blip r:embed="rId3"/>
          <a:stretch/>
        </p:blipFill>
        <p:spPr>
          <a:xfrm>
            <a:off x="517680" y="1951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415" name="AutoShape 56" descr=""/>
          <p:cNvPicPr/>
          <p:nvPr/>
        </p:nvPicPr>
        <p:blipFill>
          <a:blip r:embed="rId4"/>
          <a:stretch/>
        </p:blipFill>
        <p:spPr>
          <a:xfrm>
            <a:off x="517680" y="3602160"/>
            <a:ext cx="568080" cy="688680"/>
          </a:xfrm>
          <a:prstGeom prst="rect">
            <a:avLst/>
          </a:prstGeom>
          <a:ln w="0">
            <a:noFill/>
          </a:ln>
        </p:spPr>
      </p:pic>
      <p:pic>
        <p:nvPicPr>
          <p:cNvPr id="416" name="AutoShape 57" descr=""/>
          <p:cNvPicPr/>
          <p:nvPr/>
        </p:nvPicPr>
        <p:blipFill>
          <a:blip r:embed="rId5"/>
          <a:stretch/>
        </p:blipFill>
        <p:spPr>
          <a:xfrm>
            <a:off x="517680" y="4468680"/>
            <a:ext cx="568080" cy="682920"/>
          </a:xfrm>
          <a:prstGeom prst="rect">
            <a:avLst/>
          </a:prstGeom>
          <a:ln w="0">
            <a:noFill/>
          </a:ln>
        </p:spPr>
      </p:pic>
      <p:grpSp>
        <p:nvGrpSpPr>
          <p:cNvPr id="417" name="AutoShape 58"/>
          <p:cNvGrpSpPr/>
          <p:nvPr/>
        </p:nvGrpSpPr>
        <p:grpSpPr>
          <a:xfrm>
            <a:off x="139680" y="133200"/>
            <a:ext cx="615960" cy="615960"/>
            <a:chOff x="139680" y="133200"/>
            <a:chExt cx="615960" cy="615960"/>
          </a:xfrm>
        </p:grpSpPr>
        <p:pic>
          <p:nvPicPr>
            <p:cNvPr id="418" name="AutoShape 58" descr=""/>
            <p:cNvPicPr/>
            <p:nvPr/>
          </p:nvPicPr>
          <p:blipFill>
            <a:blip r:embed="rId6"/>
            <a:stretch/>
          </p:blipFill>
          <p:spPr>
            <a:xfrm>
              <a:off x="139680" y="133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179280" y="189000"/>
              <a:ext cx="50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AutoShape 59"/>
          <p:cNvGrpSpPr/>
          <p:nvPr/>
        </p:nvGrpSpPr>
        <p:grpSpPr>
          <a:xfrm>
            <a:off x="8352000" y="6035760"/>
            <a:ext cx="688680" cy="689040"/>
            <a:chOff x="8352000" y="6035760"/>
            <a:chExt cx="688680" cy="689040"/>
          </a:xfrm>
        </p:grpSpPr>
        <p:pic>
          <p:nvPicPr>
            <p:cNvPr id="421" name="AutoShape 59" descr=""/>
            <p:cNvPicPr/>
            <p:nvPr/>
          </p:nvPicPr>
          <p:blipFill>
            <a:blip r:embed="rId7"/>
            <a:stretch/>
          </p:blipFill>
          <p:spPr>
            <a:xfrm>
              <a:off x="8352000" y="603576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8388360" y="6093000"/>
              <a:ext cx="576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AutoShape 60"/>
          <p:cNvSpPr/>
          <p:nvPr/>
        </p:nvSpPr>
        <p:spPr>
          <a:xfrm>
            <a:off x="3276720" y="2708280"/>
            <a:ext cx="2160360" cy="576360"/>
          </a:xfrm>
          <a:prstGeom prst="wedgeEllipseCallout">
            <a:avLst>
              <a:gd name="adj1" fmla="val -102240"/>
              <a:gd name="adj2" fmla="val 161847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61"/>
          <p:cNvSpPr/>
          <p:nvPr/>
        </p:nvSpPr>
        <p:spPr>
          <a:xfrm>
            <a:off x="3419640" y="1700280"/>
            <a:ext cx="1944360" cy="720720"/>
          </a:xfrm>
          <a:prstGeom prst="wedgeEllipseCallout">
            <a:avLst>
              <a:gd name="adj1" fmla="val -104694"/>
              <a:gd name="adj2" fmla="val 122245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63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Text Box 64" descr=""/>
          <p:cNvPicPr/>
          <p:nvPr/>
        </p:nvPicPr>
        <p:blipFill>
          <a:blip r:embed="rId8"/>
          <a:stretch/>
        </p:blipFill>
        <p:spPr>
          <a:xfrm>
            <a:off x="646200" y="-122400"/>
            <a:ext cx="6029280" cy="12448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65"/>
          <p:cNvSpPr/>
          <p:nvPr/>
        </p:nvSpPr>
        <p:spPr>
          <a:xfrm>
            <a:off x="408240" y="907920"/>
            <a:ext cx="28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4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66"/>
          <p:cNvSpPr/>
          <p:nvPr/>
        </p:nvSpPr>
        <p:spPr>
          <a:xfrm>
            <a:off x="3059280" y="5734080"/>
            <a:ext cx="2232000" cy="649080"/>
          </a:xfrm>
          <a:prstGeom prst="wedgeEllipseCallout">
            <a:avLst>
              <a:gd name="adj1" fmla="val -81578"/>
              <a:gd name="adj2" fmla="val -166379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69"/>
          <p:cNvGrpSpPr/>
          <p:nvPr/>
        </p:nvGrpSpPr>
        <p:grpSpPr>
          <a:xfrm>
            <a:off x="5003640" y="3213000"/>
            <a:ext cx="1368360" cy="144720"/>
            <a:chOff x="5003640" y="3213000"/>
            <a:chExt cx="1368360" cy="144720"/>
          </a:xfrm>
        </p:grpSpPr>
        <p:sp>
          <p:nvSpPr>
            <p:cNvPr id="430" name="Freeform 53"/>
            <p:cNvSpPr/>
            <p:nvPr/>
          </p:nvSpPr>
          <p:spPr>
            <a:xfrm>
              <a:off x="5107320" y="3263760"/>
              <a:ext cx="1195200" cy="25560"/>
            </a:xfrm>
            <a:custGeom>
              <a:avLst/>
              <a:gdLst>
                <a:gd name="textAreaLeft" fmla="*/ 0 w 1195200"/>
                <a:gd name="textAreaRight" fmla="*/ 1195560 w 119520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792" h="16">
                  <a:moveTo>
                    <a:pt x="0" y="16"/>
                  </a:moveTo>
                  <a:lnTo>
                    <a:pt x="79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54"/>
            <p:cNvSpPr/>
            <p:nvPr/>
          </p:nvSpPr>
          <p:spPr>
            <a:xfrm>
              <a:off x="5003640" y="3213000"/>
              <a:ext cx="137160" cy="144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67"/>
            <p:cNvSpPr/>
            <p:nvPr/>
          </p:nvSpPr>
          <p:spPr>
            <a:xfrm>
              <a:off x="6234480" y="3213000"/>
              <a:ext cx="137520" cy="144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3" name="Object 3" descr=""/>
          <p:cNvPicPr/>
          <p:nvPr/>
        </p:nvPicPr>
        <p:blipFill>
          <a:blip r:embed="rId9"/>
          <a:stretch/>
        </p:blipFill>
        <p:spPr>
          <a:xfrm>
            <a:off x="1042920" y="3616200"/>
            <a:ext cx="2808360" cy="533520"/>
          </a:xfrm>
          <a:prstGeom prst="rect">
            <a:avLst/>
          </a:prstGeom>
          <a:ln w="0">
            <a:noFill/>
          </a:ln>
        </p:spPr>
      </p:pic>
      <p:pic>
        <p:nvPicPr>
          <p:cNvPr id="434" name="Object 4" descr=""/>
          <p:cNvPicPr/>
          <p:nvPr/>
        </p:nvPicPr>
        <p:blipFill>
          <a:blip r:embed="rId10"/>
          <a:stretch/>
        </p:blipFill>
        <p:spPr>
          <a:xfrm>
            <a:off x="1058760" y="4452840"/>
            <a:ext cx="3152880" cy="569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691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3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704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3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714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385120" cy="550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5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«Человек родился быть господином, повелителем, царём природы, но мудрость,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с которой он должен править, не дана ему от рождения: </a:t>
            </a: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она приобретается учением»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i="1" lang="ru-RU" sz="3600" spc="-1" strike="noStrike">
                <a:solidFill>
                  <a:srgbClr val="002060"/>
                </a:solidFill>
                <a:latin typeface="Calibri"/>
              </a:rPr>
              <a:t> Н.И. Лобачевский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p:transition spd="med">
    <p:cover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76" descr=""/>
          <p:cNvPicPr/>
          <p:nvPr/>
        </p:nvPicPr>
        <p:blipFill>
          <a:blip r:embed="rId1"/>
          <a:stretch/>
        </p:blipFill>
        <p:spPr>
          <a:xfrm>
            <a:off x="3790800" y="738360"/>
            <a:ext cx="5091120" cy="5101920"/>
          </a:xfrm>
          <a:prstGeom prst="rect">
            <a:avLst/>
          </a:prstGeom>
          <a:ln w="0">
            <a:noFill/>
          </a:ln>
        </p:spPr>
      </p:pic>
      <p:grpSp>
        <p:nvGrpSpPr>
          <p:cNvPr id="436" name="Group 2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437" name="Freeform 3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4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6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>
                <a:gd name="textAreaLeft" fmla="*/ 0 w 4911840"/>
                <a:gd name="textAreaRight" fmla="*/ 4912200 w 4911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7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8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>
                <a:gd name="textAreaLeft" fmla="*/ 0 w 4914720"/>
                <a:gd name="textAreaRight" fmla="*/ 4915080 w 4914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9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0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>
                <a:gd name="textAreaLeft" fmla="*/ 0 w 4844880"/>
                <a:gd name="textAreaRight" fmla="*/ 4845240 w 4844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4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>
                <a:gd name="textAreaLeft" fmla="*/ 0 w 4927680"/>
                <a:gd name="textAreaRight" fmla="*/ 4928040 w 492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978440"/>
                <a:gd name="textAreaBottom" fmla="*/ 4978800 h 49784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065920"/>
                <a:gd name="textAreaBottom" fmla="*/ 5066280 h 506592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16600"/>
                <a:gd name="textAreaBottom" fmla="*/ 5016960 h 501660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03640"/>
                <a:gd name="textAreaBottom" fmla="*/ 5004000 h 500364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78520"/>
                <a:gd name="textAreaBottom" fmla="*/ 5078880 h 507852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3080"/>
                <a:gd name="textAreaBottom" fmla="*/ 5023440 h 502308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Line 37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8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39"/>
          <p:cNvSpPr/>
          <p:nvPr/>
        </p:nvSpPr>
        <p:spPr>
          <a:xfrm>
            <a:off x="4610160" y="1359000"/>
            <a:ext cx="2070000" cy="302256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3022560"/>
              <a:gd name="textAreaBottom" fmla="*/ 3022920 h 3022560"/>
            </a:gdLst>
            <a:ahLst/>
            <a:rect l="textAreaLeft" t="textAreaTop" r="textAreaRight" b="textAreaBottom"/>
            <a:pathLst>
              <a:path w="1304" h="1904">
                <a:moveTo>
                  <a:pt x="0" y="32"/>
                </a:moveTo>
                <a:cubicBezTo>
                  <a:pt x="47" y="227"/>
                  <a:pt x="167" y="896"/>
                  <a:pt x="280" y="1208"/>
                </a:cubicBezTo>
                <a:cubicBezTo>
                  <a:pt x="393" y="1520"/>
                  <a:pt x="548" y="1904"/>
                  <a:pt x="680" y="1904"/>
                </a:cubicBezTo>
                <a:cubicBezTo>
                  <a:pt x="812" y="1904"/>
                  <a:pt x="968" y="1525"/>
                  <a:pt x="1072" y="1208"/>
                </a:cubicBezTo>
                <a:cubicBezTo>
                  <a:pt x="1176" y="891"/>
                  <a:pt x="1256" y="252"/>
                  <a:pt x="1304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40"/>
          <p:cNvSpPr/>
          <p:nvPr/>
        </p:nvSpPr>
        <p:spPr>
          <a:xfrm>
            <a:off x="7812000" y="3789360"/>
            <a:ext cx="73080" cy="71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1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2"/>
          <p:cNvSpPr/>
          <p:nvPr/>
        </p:nvSpPr>
        <p:spPr>
          <a:xfrm>
            <a:off x="6583680" y="32846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43"/>
          <p:cNvSpPr/>
          <p:nvPr/>
        </p:nvSpPr>
        <p:spPr>
          <a:xfrm>
            <a:off x="4110120" y="321300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4"/>
          <p:cNvSpPr/>
          <p:nvPr/>
        </p:nvSpPr>
        <p:spPr>
          <a:xfrm>
            <a:off x="6019200" y="1125360"/>
            <a:ext cx="29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5"/>
          <p:cNvSpPr/>
          <p:nvPr/>
        </p:nvSpPr>
        <p:spPr>
          <a:xfrm>
            <a:off x="6238080" y="3357720"/>
            <a:ext cx="36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6"/>
          <p:cNvSpPr/>
          <p:nvPr/>
        </p:nvSpPr>
        <p:spPr>
          <a:xfrm>
            <a:off x="1194120" y="198900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7"/>
          <p:cNvSpPr/>
          <p:nvPr/>
        </p:nvSpPr>
        <p:spPr>
          <a:xfrm>
            <a:off x="1192320" y="278136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AutoShape 48" descr=""/>
          <p:cNvPicPr/>
          <p:nvPr/>
        </p:nvPicPr>
        <p:blipFill>
          <a:blip r:embed="rId2"/>
          <a:stretch/>
        </p:blipFill>
        <p:spPr>
          <a:xfrm>
            <a:off x="517680" y="3602160"/>
            <a:ext cx="568080" cy="688680"/>
          </a:xfrm>
          <a:prstGeom prst="rect">
            <a:avLst/>
          </a:prstGeom>
          <a:ln w="0">
            <a:noFill/>
          </a:ln>
        </p:spPr>
      </p:pic>
      <p:pic>
        <p:nvPicPr>
          <p:cNvPr id="483" name="AutoShape 49" descr=""/>
          <p:cNvPicPr/>
          <p:nvPr/>
        </p:nvPicPr>
        <p:blipFill>
          <a:blip r:embed="rId3"/>
          <a:stretch/>
        </p:blipFill>
        <p:spPr>
          <a:xfrm>
            <a:off x="517680" y="1951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484" name="AutoShape 50" descr=""/>
          <p:cNvPicPr/>
          <p:nvPr/>
        </p:nvPicPr>
        <p:blipFill>
          <a:blip r:embed="rId4"/>
          <a:stretch/>
        </p:blipFill>
        <p:spPr>
          <a:xfrm>
            <a:off x="517680" y="2809800"/>
            <a:ext cx="568080" cy="689040"/>
          </a:xfrm>
          <a:prstGeom prst="rect">
            <a:avLst/>
          </a:prstGeom>
          <a:ln w="0">
            <a:noFill/>
          </a:ln>
        </p:spPr>
      </p:pic>
      <p:pic>
        <p:nvPicPr>
          <p:cNvPr id="485" name="AutoShape 51" descr=""/>
          <p:cNvPicPr/>
          <p:nvPr/>
        </p:nvPicPr>
        <p:blipFill>
          <a:blip r:embed="rId5"/>
          <a:stretch/>
        </p:blipFill>
        <p:spPr>
          <a:xfrm>
            <a:off x="517680" y="4468680"/>
            <a:ext cx="568080" cy="682920"/>
          </a:xfrm>
          <a:prstGeom prst="rect">
            <a:avLst/>
          </a:prstGeom>
          <a:ln w="0">
            <a:noFill/>
          </a:ln>
        </p:spPr>
      </p:pic>
      <p:grpSp>
        <p:nvGrpSpPr>
          <p:cNvPr id="486" name="AutoShape 52"/>
          <p:cNvGrpSpPr/>
          <p:nvPr/>
        </p:nvGrpSpPr>
        <p:grpSpPr>
          <a:xfrm>
            <a:off x="139680" y="133200"/>
            <a:ext cx="615960" cy="615960"/>
            <a:chOff x="139680" y="133200"/>
            <a:chExt cx="615960" cy="615960"/>
          </a:xfrm>
        </p:grpSpPr>
        <p:pic>
          <p:nvPicPr>
            <p:cNvPr id="487" name="AutoShape 52" descr=""/>
            <p:cNvPicPr/>
            <p:nvPr/>
          </p:nvPicPr>
          <p:blipFill>
            <a:blip r:embed="rId6"/>
            <a:stretch/>
          </p:blipFill>
          <p:spPr>
            <a:xfrm>
              <a:off x="139680" y="133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179280" y="189000"/>
              <a:ext cx="50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AutoShape 53"/>
          <p:cNvGrpSpPr/>
          <p:nvPr/>
        </p:nvGrpSpPr>
        <p:grpSpPr>
          <a:xfrm>
            <a:off x="8352000" y="6035760"/>
            <a:ext cx="688680" cy="689040"/>
            <a:chOff x="8352000" y="6035760"/>
            <a:chExt cx="688680" cy="689040"/>
          </a:xfrm>
        </p:grpSpPr>
        <p:pic>
          <p:nvPicPr>
            <p:cNvPr id="490" name="AutoShape 53" descr=""/>
            <p:cNvPicPr/>
            <p:nvPr/>
          </p:nvPicPr>
          <p:blipFill>
            <a:blip r:embed="rId7"/>
            <a:stretch/>
          </p:blipFill>
          <p:spPr>
            <a:xfrm>
              <a:off x="8352000" y="603576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8388360" y="6093000"/>
              <a:ext cx="576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AutoShape 54"/>
          <p:cNvSpPr/>
          <p:nvPr/>
        </p:nvSpPr>
        <p:spPr>
          <a:xfrm>
            <a:off x="3348000" y="1700280"/>
            <a:ext cx="2160720" cy="576360"/>
          </a:xfrm>
          <a:prstGeom prst="wedgeEllipseCallout">
            <a:avLst>
              <a:gd name="adj1" fmla="val -102240"/>
              <a:gd name="adj2" fmla="val 161847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5"/>
          <p:cNvSpPr/>
          <p:nvPr/>
        </p:nvSpPr>
        <p:spPr>
          <a:xfrm>
            <a:off x="2268360" y="1628640"/>
            <a:ext cx="1944720" cy="720720"/>
          </a:xfrm>
          <a:prstGeom prst="wedgeEllipseCallout">
            <a:avLst>
              <a:gd name="adj1" fmla="val -37430"/>
              <a:gd name="adj2" fmla="val 227972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56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Text Box 57" descr=""/>
          <p:cNvPicPr/>
          <p:nvPr/>
        </p:nvPicPr>
        <p:blipFill>
          <a:blip r:embed="rId8"/>
          <a:stretch/>
        </p:blipFill>
        <p:spPr>
          <a:xfrm>
            <a:off x="500040" y="-122400"/>
            <a:ext cx="6033960" cy="124488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58"/>
          <p:cNvSpPr/>
          <p:nvPr/>
        </p:nvSpPr>
        <p:spPr>
          <a:xfrm>
            <a:off x="264600" y="907920"/>
            <a:ext cx="28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4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59"/>
          <p:cNvSpPr/>
          <p:nvPr/>
        </p:nvSpPr>
        <p:spPr>
          <a:xfrm>
            <a:off x="3059280" y="5734080"/>
            <a:ext cx="2232000" cy="649080"/>
          </a:xfrm>
          <a:prstGeom prst="wedgeEllipseCallout">
            <a:avLst>
              <a:gd name="adj1" fmla="val -81578"/>
              <a:gd name="adj2" fmla="val -166379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Object 3" descr=""/>
          <p:cNvPicPr/>
          <p:nvPr/>
        </p:nvPicPr>
        <p:blipFill>
          <a:blip r:embed="rId9"/>
          <a:stretch/>
        </p:blipFill>
        <p:spPr>
          <a:xfrm>
            <a:off x="1042920" y="4508640"/>
            <a:ext cx="2808360" cy="533160"/>
          </a:xfrm>
          <a:prstGeom prst="rect">
            <a:avLst/>
          </a:prstGeom>
          <a:ln w="0">
            <a:noFill/>
          </a:ln>
        </p:spPr>
      </p:pic>
      <p:pic>
        <p:nvPicPr>
          <p:cNvPr id="499" name="Object 4" descr=""/>
          <p:cNvPicPr/>
          <p:nvPr/>
        </p:nvPicPr>
        <p:blipFill>
          <a:blip r:embed="rId10"/>
          <a:stretch/>
        </p:blipFill>
        <p:spPr>
          <a:xfrm>
            <a:off x="1042920" y="3645000"/>
            <a:ext cx="3152880" cy="569880"/>
          </a:xfrm>
          <a:prstGeom prst="rect">
            <a:avLst/>
          </a:prstGeom>
          <a:ln w="0">
            <a:noFill/>
          </a:ln>
        </p:spPr>
      </p:pic>
      <p:pic>
        <p:nvPicPr>
          <p:cNvPr id="500" name="Object 6" descr=""/>
          <p:cNvPicPr/>
          <p:nvPr/>
        </p:nvPicPr>
        <p:blipFill>
          <a:blip r:embed="rId11"/>
          <a:stretch/>
        </p:blipFill>
        <p:spPr>
          <a:xfrm>
            <a:off x="1235160" y="1268280"/>
            <a:ext cx="360360" cy="432000"/>
          </a:xfrm>
          <a:prstGeom prst="rect">
            <a:avLst/>
          </a:prstGeom>
          <a:ln w="0">
            <a:noFill/>
          </a:ln>
        </p:spPr>
      </p:pic>
      <p:grpSp>
        <p:nvGrpSpPr>
          <p:cNvPr id="501" name="Group 71"/>
          <p:cNvGrpSpPr/>
          <p:nvPr/>
        </p:nvGrpSpPr>
        <p:grpSpPr>
          <a:xfrm>
            <a:off x="6227640" y="3213000"/>
            <a:ext cx="2665440" cy="142920"/>
            <a:chOff x="6227640" y="3213000"/>
            <a:chExt cx="2665440" cy="142920"/>
          </a:xfrm>
        </p:grpSpPr>
        <p:sp>
          <p:nvSpPr>
            <p:cNvPr id="502" name="Line 69"/>
            <p:cNvSpPr/>
            <p:nvPr/>
          </p:nvSpPr>
          <p:spPr>
            <a:xfrm>
              <a:off x="6300720" y="3284640"/>
              <a:ext cx="2592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70"/>
            <p:cNvSpPr/>
            <p:nvPr/>
          </p:nvSpPr>
          <p:spPr>
            <a:xfrm>
              <a:off x="6227640" y="3213000"/>
              <a:ext cx="14472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75"/>
          <p:cNvGrpSpPr/>
          <p:nvPr/>
        </p:nvGrpSpPr>
        <p:grpSpPr>
          <a:xfrm>
            <a:off x="3886200" y="3213000"/>
            <a:ext cx="1263240" cy="142920"/>
            <a:chOff x="3886200" y="3213000"/>
            <a:chExt cx="1263240" cy="142920"/>
          </a:xfrm>
        </p:grpSpPr>
        <p:sp>
          <p:nvSpPr>
            <p:cNvPr id="505" name="Freeform 73"/>
            <p:cNvSpPr/>
            <p:nvPr/>
          </p:nvSpPr>
          <p:spPr>
            <a:xfrm>
              <a:off x="3886200" y="3284640"/>
              <a:ext cx="1192320" cy="17280"/>
            </a:xfrm>
            <a:custGeom>
              <a:avLst/>
              <a:gdLst>
                <a:gd name="textAreaLeft" fmla="*/ 0 w 1192320"/>
                <a:gd name="textAreaRight" fmla="*/ 1192680 w 1192320"/>
                <a:gd name="textAreaTop" fmla="*/ 0 h 17280"/>
                <a:gd name="textAreaBottom" fmla="*/ 17280 h 17280"/>
              </a:gdLst>
              <a:ahLst/>
              <a:rect l="textAreaLeft" t="textAreaTop" r="textAreaRight" b="textAreaBottom"/>
              <a:pathLst>
                <a:path w="751" h="11">
                  <a:moveTo>
                    <a:pt x="751" y="0"/>
                  </a:move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Oval 74"/>
            <p:cNvSpPr/>
            <p:nvPr/>
          </p:nvSpPr>
          <p:spPr>
            <a:xfrm flipH="1">
              <a:off x="5004720" y="3213000"/>
              <a:ext cx="144360" cy="142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r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3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744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9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760" nodeType="clickEffect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9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770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Rectangle 3" descr=""/>
          <p:cNvPicPr/>
          <p:nvPr/>
        </p:nvPicPr>
        <p:blipFill>
          <a:blip r:embed="rId1"/>
          <a:stretch/>
        </p:blipFill>
        <p:spPr>
          <a:xfrm>
            <a:off x="3797280" y="743040"/>
            <a:ext cx="5078520" cy="5103720"/>
          </a:xfrm>
          <a:prstGeom prst="rect">
            <a:avLst/>
          </a:prstGeom>
          <a:ln w="0">
            <a:noFill/>
          </a:ln>
        </p:spPr>
      </p:pic>
      <p:grpSp>
        <p:nvGrpSpPr>
          <p:cNvPr id="508" name="Group 4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509" name="Freeform 5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6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7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8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>
                <a:gd name="textAreaLeft" fmla="*/ 0 w 4911840"/>
                <a:gd name="textAreaRight" fmla="*/ 4912200 w 4911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9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0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>
                <a:gd name="textAreaLeft" fmla="*/ 0 w 4914720"/>
                <a:gd name="textAreaRight" fmla="*/ 4915080 w 4914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1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3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4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5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>
                <a:gd name="textAreaLeft" fmla="*/ 0 w 4844880"/>
                <a:gd name="textAreaRight" fmla="*/ 4845240 w 4844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6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7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8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9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20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>
                <a:gd name="textAreaLeft" fmla="*/ 0 w 4927680"/>
                <a:gd name="textAreaRight" fmla="*/ 4928040 w 492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21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2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3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4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978440"/>
                <a:gd name="textAreaBottom" fmla="*/ 4978800 h 49784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5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6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7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065920"/>
                <a:gd name="textAreaBottom" fmla="*/ 5066280 h 506592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16600"/>
                <a:gd name="textAreaBottom" fmla="*/ 5016960 h 501660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03640"/>
                <a:gd name="textAreaBottom" fmla="*/ 5004000 h 500364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78520"/>
                <a:gd name="textAreaBottom" fmla="*/ 5078880 h 507852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3080"/>
                <a:gd name="textAreaBottom" fmla="*/ 5023440 h 502308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Line 39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40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41"/>
          <p:cNvSpPr/>
          <p:nvPr/>
        </p:nvSpPr>
        <p:spPr>
          <a:xfrm flipV="1">
            <a:off x="5867280" y="3835440"/>
            <a:ext cx="2070360" cy="3022560"/>
          </a:xfrm>
          <a:custGeom>
            <a:avLst/>
            <a:gdLst>
              <a:gd name="textAreaLeft" fmla="*/ 0 w 2070360"/>
              <a:gd name="textAreaRight" fmla="*/ 2070720 w 2070360"/>
              <a:gd name="textAreaTop" fmla="*/ 360 h 3022560"/>
              <a:gd name="textAreaBottom" fmla="*/ 3023280 h 3022560"/>
            </a:gdLst>
            <a:ahLst/>
            <a:rect l="textAreaLeft" t="textAreaTop" r="textAreaRight" b="textAreaBottom"/>
            <a:pathLst>
              <a:path w="1304" h="1904">
                <a:moveTo>
                  <a:pt x="0" y="32"/>
                </a:moveTo>
                <a:cubicBezTo>
                  <a:pt x="47" y="227"/>
                  <a:pt x="167" y="896"/>
                  <a:pt x="280" y="1208"/>
                </a:cubicBezTo>
                <a:cubicBezTo>
                  <a:pt x="393" y="1520"/>
                  <a:pt x="548" y="1904"/>
                  <a:pt x="680" y="1904"/>
                </a:cubicBezTo>
                <a:cubicBezTo>
                  <a:pt x="812" y="1904"/>
                  <a:pt x="968" y="1525"/>
                  <a:pt x="1072" y="1208"/>
                </a:cubicBezTo>
                <a:cubicBezTo>
                  <a:pt x="1176" y="891"/>
                  <a:pt x="1256" y="252"/>
                  <a:pt x="1304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3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4"/>
          <p:cNvSpPr/>
          <p:nvPr/>
        </p:nvSpPr>
        <p:spPr>
          <a:xfrm>
            <a:off x="6583680" y="32846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5"/>
          <p:cNvSpPr/>
          <p:nvPr/>
        </p:nvSpPr>
        <p:spPr>
          <a:xfrm>
            <a:off x="4110120" y="321300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6"/>
          <p:cNvSpPr/>
          <p:nvPr/>
        </p:nvSpPr>
        <p:spPr>
          <a:xfrm>
            <a:off x="6019200" y="1125360"/>
            <a:ext cx="29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7"/>
          <p:cNvSpPr/>
          <p:nvPr/>
        </p:nvSpPr>
        <p:spPr>
          <a:xfrm>
            <a:off x="6238080" y="3357720"/>
            <a:ext cx="36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8"/>
          <p:cNvSpPr/>
          <p:nvPr/>
        </p:nvSpPr>
        <p:spPr>
          <a:xfrm>
            <a:off x="1190880" y="19890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=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AutoShape 49" descr=""/>
          <p:cNvPicPr/>
          <p:nvPr/>
        </p:nvPicPr>
        <p:blipFill>
          <a:blip r:embed="rId2"/>
          <a:stretch/>
        </p:blipFill>
        <p:spPr>
          <a:xfrm>
            <a:off x="517680" y="3602160"/>
            <a:ext cx="568080" cy="688680"/>
          </a:xfrm>
          <a:prstGeom prst="rect">
            <a:avLst/>
          </a:prstGeom>
          <a:ln w="0">
            <a:noFill/>
          </a:ln>
        </p:spPr>
      </p:pic>
      <p:pic>
        <p:nvPicPr>
          <p:cNvPr id="553" name="AutoShape 50" descr=""/>
          <p:cNvPicPr/>
          <p:nvPr/>
        </p:nvPicPr>
        <p:blipFill>
          <a:blip r:embed="rId3"/>
          <a:stretch/>
        </p:blipFill>
        <p:spPr>
          <a:xfrm>
            <a:off x="517680" y="1951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554" name="AutoShape 51" descr=""/>
          <p:cNvPicPr/>
          <p:nvPr/>
        </p:nvPicPr>
        <p:blipFill>
          <a:blip r:embed="rId4"/>
          <a:stretch/>
        </p:blipFill>
        <p:spPr>
          <a:xfrm>
            <a:off x="517680" y="2809800"/>
            <a:ext cx="568080" cy="689040"/>
          </a:xfrm>
          <a:prstGeom prst="rect">
            <a:avLst/>
          </a:prstGeom>
          <a:ln w="0">
            <a:noFill/>
          </a:ln>
        </p:spPr>
      </p:pic>
      <p:grpSp>
        <p:nvGrpSpPr>
          <p:cNvPr id="555" name="AutoShape 52"/>
          <p:cNvGrpSpPr/>
          <p:nvPr/>
        </p:nvGrpSpPr>
        <p:grpSpPr>
          <a:xfrm>
            <a:off x="139680" y="133200"/>
            <a:ext cx="615960" cy="615960"/>
            <a:chOff x="139680" y="133200"/>
            <a:chExt cx="615960" cy="615960"/>
          </a:xfrm>
        </p:grpSpPr>
        <p:pic>
          <p:nvPicPr>
            <p:cNvPr id="556" name="AutoShape 52" descr=""/>
            <p:cNvPicPr/>
            <p:nvPr/>
          </p:nvPicPr>
          <p:blipFill>
            <a:blip r:embed="rId5"/>
            <a:stretch/>
          </p:blipFill>
          <p:spPr>
            <a:xfrm>
              <a:off x="139680" y="133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>
              <a:off x="179280" y="189000"/>
              <a:ext cx="50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AutoShape 53"/>
          <p:cNvGrpSpPr/>
          <p:nvPr/>
        </p:nvGrpSpPr>
        <p:grpSpPr>
          <a:xfrm>
            <a:off x="8352000" y="6035760"/>
            <a:ext cx="688680" cy="689040"/>
            <a:chOff x="8352000" y="6035760"/>
            <a:chExt cx="688680" cy="689040"/>
          </a:xfrm>
        </p:grpSpPr>
        <p:pic>
          <p:nvPicPr>
            <p:cNvPr id="559" name="AutoShape 53" descr=""/>
            <p:cNvPicPr/>
            <p:nvPr/>
          </p:nvPicPr>
          <p:blipFill>
            <a:blip r:embed="rId6"/>
            <a:stretch/>
          </p:blipFill>
          <p:spPr>
            <a:xfrm>
              <a:off x="8352000" y="603576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8388360" y="6093000"/>
              <a:ext cx="576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AutoShape 54"/>
          <p:cNvSpPr/>
          <p:nvPr/>
        </p:nvSpPr>
        <p:spPr>
          <a:xfrm>
            <a:off x="3348000" y="1700280"/>
            <a:ext cx="2160720" cy="576360"/>
          </a:xfrm>
          <a:prstGeom prst="wedgeEllipseCallout">
            <a:avLst>
              <a:gd name="adj1" fmla="val -102240"/>
              <a:gd name="adj2" fmla="val 161847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55"/>
          <p:cNvSpPr/>
          <p:nvPr/>
        </p:nvSpPr>
        <p:spPr>
          <a:xfrm>
            <a:off x="3851280" y="4653000"/>
            <a:ext cx="1944720" cy="720720"/>
          </a:xfrm>
          <a:prstGeom prst="wedgeEllipseCallout">
            <a:avLst>
              <a:gd name="adj1" fmla="val -128449"/>
              <a:gd name="adj2" fmla="val -137666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56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Text Box 57" descr=""/>
          <p:cNvPicPr/>
          <p:nvPr/>
        </p:nvPicPr>
        <p:blipFill>
          <a:blip r:embed="rId7"/>
          <a:stretch/>
        </p:blipFill>
        <p:spPr>
          <a:xfrm>
            <a:off x="500040" y="-122400"/>
            <a:ext cx="6033960" cy="124488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8"/>
          <p:cNvSpPr/>
          <p:nvPr/>
        </p:nvSpPr>
        <p:spPr>
          <a:xfrm>
            <a:off x="408240" y="907920"/>
            <a:ext cx="28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4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6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Object 3" descr=""/>
          <p:cNvPicPr/>
          <p:nvPr/>
        </p:nvPicPr>
        <p:blipFill>
          <a:blip r:embed="rId8"/>
          <a:stretch/>
        </p:blipFill>
        <p:spPr>
          <a:xfrm>
            <a:off x="1071720" y="4429080"/>
            <a:ext cx="1922400" cy="698400"/>
          </a:xfrm>
          <a:prstGeom prst="rect">
            <a:avLst/>
          </a:prstGeom>
          <a:ln w="0">
            <a:noFill/>
          </a:ln>
        </p:spPr>
      </p:pic>
      <p:pic>
        <p:nvPicPr>
          <p:cNvPr id="567" name="Object 5" descr=""/>
          <p:cNvPicPr/>
          <p:nvPr/>
        </p:nvPicPr>
        <p:blipFill>
          <a:blip r:embed="rId9"/>
          <a:stretch/>
        </p:blipFill>
        <p:spPr>
          <a:xfrm>
            <a:off x="1763640" y="1268280"/>
            <a:ext cx="358920" cy="432000"/>
          </a:xfrm>
          <a:prstGeom prst="rect">
            <a:avLst/>
          </a:prstGeom>
          <a:ln w="0">
            <a:noFill/>
          </a:ln>
        </p:spPr>
      </p:pic>
      <p:pic>
        <p:nvPicPr>
          <p:cNvPr id="568" name="Object 6" descr=""/>
          <p:cNvPicPr/>
          <p:nvPr/>
        </p:nvPicPr>
        <p:blipFill>
          <a:blip r:embed="rId10"/>
          <a:stretch/>
        </p:blipFill>
        <p:spPr>
          <a:xfrm>
            <a:off x="1504800" y="3645000"/>
            <a:ext cx="517680" cy="555480"/>
          </a:xfrm>
          <a:prstGeom prst="rect">
            <a:avLst/>
          </a:prstGeom>
          <a:ln w="0">
            <a:noFill/>
          </a:ln>
        </p:spPr>
      </p:pic>
      <p:pic>
        <p:nvPicPr>
          <p:cNvPr id="569" name="AutoShape 64" descr=""/>
          <p:cNvPicPr/>
          <p:nvPr/>
        </p:nvPicPr>
        <p:blipFill>
          <a:blip r:embed="rId11"/>
          <a:stretch/>
        </p:blipFill>
        <p:spPr>
          <a:xfrm>
            <a:off x="517680" y="4468680"/>
            <a:ext cx="568080" cy="682920"/>
          </a:xfrm>
          <a:prstGeom prst="rect">
            <a:avLst/>
          </a:prstGeom>
          <a:ln w="0">
            <a:noFill/>
          </a:ln>
        </p:spPr>
      </p:pic>
      <p:sp>
        <p:nvSpPr>
          <p:cNvPr id="570" name="AutoShape 65"/>
          <p:cNvSpPr/>
          <p:nvPr/>
        </p:nvSpPr>
        <p:spPr>
          <a:xfrm>
            <a:off x="3492360" y="5805360"/>
            <a:ext cx="2087640" cy="648000"/>
          </a:xfrm>
          <a:prstGeom prst="wedgeEllipseCallout">
            <a:avLst>
              <a:gd name="adj1" fmla="val -112583"/>
              <a:gd name="adj2" fmla="val -142893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Object 7" descr=""/>
          <p:cNvPicPr/>
          <p:nvPr/>
        </p:nvPicPr>
        <p:blipFill>
          <a:blip r:embed="rId12"/>
          <a:stretch/>
        </p:blipFill>
        <p:spPr>
          <a:xfrm>
            <a:off x="971640" y="2852640"/>
            <a:ext cx="3024000" cy="53496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ая соединительная линия 65"/>
          <p:cNvSpPr/>
          <p:nvPr/>
        </p:nvSpPr>
        <p:spPr>
          <a:xfrm flipH="1">
            <a:off x="2284560" y="4716360"/>
            <a:ext cx="1440" cy="142920"/>
          </a:xfrm>
          <a:prstGeom prst="line">
            <a:avLst/>
          </a:prstGeom>
          <a:ln w="1260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779" dur="indefinite" restart="never" nodeType="tmRoot">
          <p:childTnLst>
            <p:seq>
              <p:cTn id="780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781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9" restart="whenNotActive" nodeType="interactiveSeq" fill="hold">
                <p:stCondLst>
                  <p:cond evt="onClick">
                    <p:tgtEl>
                      <p:spTgt spid="554"/>
                    </p:tgtEl>
                  </p:cond>
                </p:stCondLst>
                <p:childTnLst>
                  <p:par>
                    <p:cTn id="790" nodeType="clickEffect" fill="hold">
                      <p:stCondLst>
                        <p:cond evt="onClick">
                          <p:tgtEl>
                            <p:spTgt spid="554"/>
                          </p:tgtEl>
                        </p:cond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9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800" nodeType="clickEffect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9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810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3851280" y="3284640"/>
            <a:ext cx="4968720" cy="2520720"/>
          </a:xfrm>
          <a:prstGeom prst="rect">
            <a:avLst/>
          </a:prstGeom>
          <a:gradFill rotWithShape="0">
            <a:gsLst>
              <a:gs pos="0">
                <a:srgbClr val="f54903">
                  <a:alpha val="82352"/>
                </a:srgbClr>
              </a:gs>
              <a:gs pos="100000">
                <a:srgbClr val="b83703">
                  <a:alpha val="82352"/>
                </a:srgbClr>
              </a:gs>
            </a:gsLst>
            <a:lin ang="5400000"/>
          </a:gradFill>
          <a:ln w="12600">
            <a:solidFill>
              <a:srgbClr val="dc551e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3"/>
          <p:cNvGrpSpPr/>
          <p:nvPr/>
        </p:nvGrpSpPr>
        <p:grpSpPr>
          <a:xfrm>
            <a:off x="3851280" y="765000"/>
            <a:ext cx="4991040" cy="5078520"/>
            <a:chOff x="3851280" y="765000"/>
            <a:chExt cx="4991040" cy="5078520"/>
          </a:xfrm>
        </p:grpSpPr>
        <p:sp>
          <p:nvSpPr>
            <p:cNvPr id="575" name="Freeform 4"/>
            <p:cNvSpPr/>
            <p:nvPr/>
          </p:nvSpPr>
          <p:spPr>
            <a:xfrm>
              <a:off x="3870360" y="777600"/>
              <a:ext cx="3240" cy="503568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"/>
            <p:cNvSpPr/>
            <p:nvPr/>
          </p:nvSpPr>
          <p:spPr>
            <a:xfrm>
              <a:off x="3946680" y="2736720"/>
              <a:ext cx="4857840" cy="3240"/>
            </a:xfrm>
            <a:custGeom>
              <a:avLst/>
              <a:gdLst>
                <a:gd name="textAreaLeft" fmla="*/ 0 w 4857840"/>
                <a:gd name="textAreaRight" fmla="*/ 4858200 w 4857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6"/>
            <p:cNvSpPr/>
            <p:nvPr/>
          </p:nvSpPr>
          <p:spPr>
            <a:xfrm>
              <a:off x="3889440" y="5533920"/>
              <a:ext cx="4902120" cy="144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"/>
            <p:cNvSpPr/>
            <p:nvPr/>
          </p:nvSpPr>
          <p:spPr>
            <a:xfrm>
              <a:off x="3873600" y="5254560"/>
              <a:ext cx="4911840" cy="3240"/>
            </a:xfrm>
            <a:custGeom>
              <a:avLst/>
              <a:gdLst>
                <a:gd name="textAreaLeft" fmla="*/ 0 w 4911840"/>
                <a:gd name="textAreaRight" fmla="*/ 4912200 w 49118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8"/>
            <p:cNvSpPr/>
            <p:nvPr/>
          </p:nvSpPr>
          <p:spPr>
            <a:xfrm>
              <a:off x="3873600" y="497016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9"/>
            <p:cNvSpPr/>
            <p:nvPr/>
          </p:nvSpPr>
          <p:spPr>
            <a:xfrm>
              <a:off x="3876840" y="4695840"/>
              <a:ext cx="4914720" cy="1440"/>
            </a:xfrm>
            <a:custGeom>
              <a:avLst/>
              <a:gdLst>
                <a:gd name="textAreaLeft" fmla="*/ 0 w 4914720"/>
                <a:gd name="textAreaRight" fmla="*/ 4915080 w 49147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0"/>
            <p:cNvSpPr/>
            <p:nvPr/>
          </p:nvSpPr>
          <p:spPr>
            <a:xfrm>
              <a:off x="3870360" y="4416120"/>
              <a:ext cx="4908600" cy="18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1"/>
            <p:cNvSpPr/>
            <p:nvPr/>
          </p:nvSpPr>
          <p:spPr>
            <a:xfrm>
              <a:off x="3864240" y="4130640"/>
              <a:ext cx="4921200" cy="612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2"/>
            <p:cNvSpPr/>
            <p:nvPr/>
          </p:nvSpPr>
          <p:spPr>
            <a:xfrm>
              <a:off x="3864240" y="3851280"/>
              <a:ext cx="4933800" cy="1260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3"/>
            <p:cNvSpPr/>
            <p:nvPr/>
          </p:nvSpPr>
          <p:spPr>
            <a:xfrm>
              <a:off x="3851280" y="3571920"/>
              <a:ext cx="4946760" cy="612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4"/>
            <p:cNvSpPr/>
            <p:nvPr/>
          </p:nvSpPr>
          <p:spPr>
            <a:xfrm>
              <a:off x="3946680" y="3019320"/>
              <a:ext cx="4844880" cy="6480"/>
            </a:xfrm>
            <a:custGeom>
              <a:avLst/>
              <a:gdLst>
                <a:gd name="textAreaLeft" fmla="*/ 0 w 4844880"/>
                <a:gd name="textAreaRight" fmla="*/ 4845240 w 48448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5"/>
            <p:cNvSpPr/>
            <p:nvPr/>
          </p:nvSpPr>
          <p:spPr>
            <a:xfrm>
              <a:off x="3876840" y="2460600"/>
              <a:ext cx="4921200" cy="1440"/>
            </a:xfrm>
            <a:custGeom>
              <a:avLst/>
              <a:gdLst>
                <a:gd name="textAreaLeft" fmla="*/ 0 w 4921200"/>
                <a:gd name="textAreaRight" fmla="*/ 4921560 w 49212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6"/>
            <p:cNvSpPr/>
            <p:nvPr/>
          </p:nvSpPr>
          <p:spPr>
            <a:xfrm>
              <a:off x="3857760" y="2181240"/>
              <a:ext cx="4940280" cy="612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7"/>
            <p:cNvSpPr/>
            <p:nvPr/>
          </p:nvSpPr>
          <p:spPr>
            <a:xfrm>
              <a:off x="3864240" y="1901520"/>
              <a:ext cx="4933800" cy="6480"/>
            </a:xfrm>
            <a:custGeom>
              <a:avLst/>
              <a:gdLst>
                <a:gd name="textAreaLeft" fmla="*/ 0 w 4933800"/>
                <a:gd name="textAreaRight" fmla="*/ 4934160 w 493380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8"/>
            <p:cNvSpPr/>
            <p:nvPr/>
          </p:nvSpPr>
          <p:spPr>
            <a:xfrm>
              <a:off x="3857760" y="1628640"/>
              <a:ext cx="4940280" cy="6480"/>
            </a:xfrm>
            <a:custGeom>
              <a:avLst/>
              <a:gdLst>
                <a:gd name="textAreaLeft" fmla="*/ 0 w 4940280"/>
                <a:gd name="textAreaRight" fmla="*/ 4940640 w 4940280"/>
                <a:gd name="textAreaTop" fmla="*/ 0 h 6480"/>
                <a:gd name="textAreaBottom" fmla="*/ 6840 h 6480"/>
              </a:gdLst>
              <a:ahLst/>
              <a:rect l="textAreaLeft" t="textAreaTop" r="textAreaRight" b="textAreaBottom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19"/>
            <p:cNvSpPr/>
            <p:nvPr/>
          </p:nvSpPr>
          <p:spPr>
            <a:xfrm>
              <a:off x="3870360" y="1349280"/>
              <a:ext cx="4927680" cy="1440"/>
            </a:xfrm>
            <a:custGeom>
              <a:avLst/>
              <a:gdLst>
                <a:gd name="textAreaLeft" fmla="*/ 0 w 4927680"/>
                <a:gd name="textAreaRight" fmla="*/ 4928040 w 492768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0"/>
            <p:cNvSpPr/>
            <p:nvPr/>
          </p:nvSpPr>
          <p:spPr>
            <a:xfrm>
              <a:off x="3882960" y="1069920"/>
              <a:ext cx="4908600" cy="12600"/>
            </a:xfrm>
            <a:custGeom>
              <a:avLst/>
              <a:gdLst>
                <a:gd name="textAreaLeft" fmla="*/ 0 w 4908600"/>
                <a:gd name="textAreaRight" fmla="*/ 4908960 w 4908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1"/>
            <p:cNvSpPr/>
            <p:nvPr/>
          </p:nvSpPr>
          <p:spPr>
            <a:xfrm>
              <a:off x="3895920" y="777600"/>
              <a:ext cx="4902120" cy="19080"/>
            </a:xfrm>
            <a:custGeom>
              <a:avLst/>
              <a:gdLst>
                <a:gd name="textAreaLeft" fmla="*/ 0 w 4902120"/>
                <a:gd name="textAreaRight" fmla="*/ 4902480 w 49021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2"/>
            <p:cNvSpPr/>
            <p:nvPr/>
          </p:nvSpPr>
          <p:spPr>
            <a:xfrm>
              <a:off x="3857760" y="5813280"/>
              <a:ext cx="4946760" cy="1440"/>
            </a:xfrm>
            <a:custGeom>
              <a:avLst/>
              <a:gdLst>
                <a:gd name="textAreaLeft" fmla="*/ 0 w 4946760"/>
                <a:gd name="textAreaRight" fmla="*/ 4947120 w 494676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3"/>
            <p:cNvSpPr/>
            <p:nvPr/>
          </p:nvSpPr>
          <p:spPr>
            <a:xfrm>
              <a:off x="8798040" y="803160"/>
              <a:ext cx="1440" cy="49784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4978440"/>
                <a:gd name="textAreaBottom" fmla="*/ 4978800 h 4978440"/>
              </a:gdLst>
              <a:ahLst/>
              <a:rect l="textAreaLeft" t="textAreaTop" r="textAreaRight" b="textAreaBottom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24"/>
            <p:cNvSpPr/>
            <p:nvPr/>
          </p:nvSpPr>
          <p:spPr>
            <a:xfrm>
              <a:off x="8487000" y="790560"/>
              <a:ext cx="6120" cy="50353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25"/>
            <p:cNvSpPr/>
            <p:nvPr/>
          </p:nvSpPr>
          <p:spPr>
            <a:xfrm>
              <a:off x="8175600" y="790560"/>
              <a:ext cx="6480" cy="50292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26"/>
            <p:cNvSpPr/>
            <p:nvPr/>
          </p:nvSpPr>
          <p:spPr>
            <a:xfrm>
              <a:off x="7871040" y="790560"/>
              <a:ext cx="1440" cy="50162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16240"/>
                <a:gd name="textAreaBottom" fmla="*/ 5016600 h 5016240"/>
              </a:gdLst>
              <a:ahLst/>
              <a:rect l="textAreaLeft" t="textAreaTop" r="textAreaRight" b="textAreaBottom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27"/>
            <p:cNvSpPr/>
            <p:nvPr/>
          </p:nvSpPr>
          <p:spPr>
            <a:xfrm>
              <a:off x="7559640" y="784080"/>
              <a:ext cx="6480" cy="503568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35680"/>
                <a:gd name="textAreaBottom" fmla="*/ 5036040 h 5035680"/>
              </a:gdLst>
              <a:ahLst/>
              <a:rect l="textAreaLeft" t="textAreaTop" r="textAreaRight" b="textAreaBottom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28"/>
            <p:cNvSpPr/>
            <p:nvPr/>
          </p:nvSpPr>
          <p:spPr>
            <a:xfrm>
              <a:off x="7236000" y="777600"/>
              <a:ext cx="22320" cy="506592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5065920"/>
                <a:gd name="textAreaBottom" fmla="*/ 5066280 h 5065920"/>
              </a:gdLst>
              <a:ahLst/>
              <a:rect l="textAreaLeft" t="textAreaTop" r="textAreaRight" b="textAreaBottom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29"/>
            <p:cNvSpPr/>
            <p:nvPr/>
          </p:nvSpPr>
          <p:spPr>
            <a:xfrm>
              <a:off x="6943680" y="803160"/>
              <a:ext cx="6480" cy="5016600"/>
            </a:xfrm>
            <a:custGeom>
              <a:avLst/>
              <a:gdLst>
                <a:gd name="textAreaLeft" fmla="*/ 0 w 6480"/>
                <a:gd name="textAreaRight" fmla="*/ 6840 w 6480"/>
                <a:gd name="textAreaTop" fmla="*/ 0 h 5016600"/>
                <a:gd name="textAreaBottom" fmla="*/ 5016960 h 5016600"/>
              </a:gdLst>
              <a:ahLst/>
              <a:rect l="textAreaLeft" t="textAreaTop" r="textAreaRight" b="textAreaBottom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0"/>
            <p:cNvSpPr/>
            <p:nvPr/>
          </p:nvSpPr>
          <p:spPr>
            <a:xfrm>
              <a:off x="6639120" y="803160"/>
              <a:ext cx="1440" cy="500364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03640"/>
                <a:gd name="textAreaBottom" fmla="*/ 5004000 h 5003640"/>
              </a:gdLst>
              <a:ahLst/>
              <a:rect l="textAreaLeft" t="textAreaTop" r="textAreaRight" b="textAreaBottom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1"/>
            <p:cNvSpPr/>
            <p:nvPr/>
          </p:nvSpPr>
          <p:spPr>
            <a:xfrm>
              <a:off x="6016680" y="765000"/>
              <a:ext cx="17640" cy="50785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5078520"/>
                <a:gd name="textAreaBottom" fmla="*/ 5078880 h 5078520"/>
              </a:gdLst>
              <a:ahLst/>
              <a:rect l="textAreaLeft" t="textAreaTop" r="textAreaRight" b="textAreaBottom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2"/>
            <p:cNvSpPr/>
            <p:nvPr/>
          </p:nvSpPr>
          <p:spPr>
            <a:xfrm>
              <a:off x="571176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3"/>
            <p:cNvSpPr/>
            <p:nvPr/>
          </p:nvSpPr>
          <p:spPr>
            <a:xfrm>
              <a:off x="5407200" y="796680"/>
              <a:ext cx="6120" cy="5023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3080"/>
                <a:gd name="textAreaBottom" fmla="*/ 5023440 h 502308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4"/>
            <p:cNvSpPr/>
            <p:nvPr/>
          </p:nvSpPr>
          <p:spPr>
            <a:xfrm>
              <a:off x="5089680" y="790560"/>
              <a:ext cx="12600" cy="502272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5"/>
            <p:cNvSpPr/>
            <p:nvPr/>
          </p:nvSpPr>
          <p:spPr>
            <a:xfrm>
              <a:off x="4791240" y="790560"/>
              <a:ext cx="6120" cy="50227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36"/>
            <p:cNvSpPr/>
            <p:nvPr/>
          </p:nvSpPr>
          <p:spPr>
            <a:xfrm>
              <a:off x="4486320" y="790560"/>
              <a:ext cx="1800" cy="5035320"/>
            </a:xfrm>
            <a:custGeom>
              <a:avLst/>
              <a:gdLst>
                <a:gd name="textAreaLeft" fmla="*/ 0 w 1800"/>
                <a:gd name="textAreaRight" fmla="*/ 2160 w 1800"/>
                <a:gd name="textAreaTop" fmla="*/ 0 h 5035320"/>
                <a:gd name="textAreaBottom" fmla="*/ 5035680 h 5035320"/>
              </a:gdLst>
              <a:ahLst/>
              <a:rect l="textAreaLeft" t="textAreaTop" r="textAreaRight" b="textAreaBottom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7"/>
            <p:cNvSpPr/>
            <p:nvPr/>
          </p:nvSpPr>
          <p:spPr>
            <a:xfrm>
              <a:off x="4175280" y="790560"/>
              <a:ext cx="1440" cy="50227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022720"/>
                <a:gd name="textAreaBottom" fmla="*/ 5023080 h 5022720"/>
              </a:gdLst>
              <a:ahLst/>
              <a:rect l="textAreaLeft" t="textAreaTop" r="textAreaRight" b="textAreaBottom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Line 38"/>
          <p:cNvSpPr/>
          <p:nvPr/>
        </p:nvSpPr>
        <p:spPr>
          <a:xfrm>
            <a:off x="3924360" y="328464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9"/>
          <p:cNvSpPr/>
          <p:nvPr/>
        </p:nvSpPr>
        <p:spPr>
          <a:xfrm flipV="1">
            <a:off x="6300720" y="764640"/>
            <a:ext cx="0" cy="504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Freeform 40"/>
          <p:cNvSpPr/>
          <p:nvPr/>
        </p:nvSpPr>
        <p:spPr>
          <a:xfrm flipV="1">
            <a:off x="6156360" y="3284640"/>
            <a:ext cx="2070000" cy="3022560"/>
          </a:xfrm>
          <a:custGeom>
            <a:avLst/>
            <a:gdLst>
              <a:gd name="textAreaLeft" fmla="*/ 0 w 2070000"/>
              <a:gd name="textAreaRight" fmla="*/ 2070360 w 2070000"/>
              <a:gd name="textAreaTop" fmla="*/ 360 h 3022560"/>
              <a:gd name="textAreaBottom" fmla="*/ 3023280 h 3022560"/>
            </a:gdLst>
            <a:ahLst/>
            <a:rect l="textAreaLeft" t="textAreaTop" r="textAreaRight" b="textAreaBottom"/>
            <a:pathLst>
              <a:path w="1304" h="1904">
                <a:moveTo>
                  <a:pt x="0" y="32"/>
                </a:moveTo>
                <a:cubicBezTo>
                  <a:pt x="47" y="227"/>
                  <a:pt x="167" y="896"/>
                  <a:pt x="280" y="1208"/>
                </a:cubicBezTo>
                <a:cubicBezTo>
                  <a:pt x="393" y="1520"/>
                  <a:pt x="548" y="1904"/>
                  <a:pt x="680" y="1904"/>
                </a:cubicBezTo>
                <a:cubicBezTo>
                  <a:pt x="812" y="1904"/>
                  <a:pt x="968" y="1525"/>
                  <a:pt x="1072" y="1208"/>
                </a:cubicBezTo>
                <a:cubicBezTo>
                  <a:pt x="1176" y="891"/>
                  <a:pt x="1256" y="252"/>
                  <a:pt x="1304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42"/>
          <p:cNvSpPr/>
          <p:nvPr/>
        </p:nvSpPr>
        <p:spPr>
          <a:xfrm>
            <a:off x="6516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43"/>
          <p:cNvSpPr/>
          <p:nvPr/>
        </p:nvSpPr>
        <p:spPr>
          <a:xfrm>
            <a:off x="6583680" y="3284640"/>
            <a:ext cx="18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4"/>
          <p:cNvSpPr/>
          <p:nvPr/>
        </p:nvSpPr>
        <p:spPr>
          <a:xfrm>
            <a:off x="4110120" y="3213000"/>
            <a:ext cx="194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5"/>
          <p:cNvSpPr/>
          <p:nvPr/>
        </p:nvSpPr>
        <p:spPr>
          <a:xfrm>
            <a:off x="6019200" y="1125360"/>
            <a:ext cx="29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46"/>
          <p:cNvSpPr/>
          <p:nvPr/>
        </p:nvSpPr>
        <p:spPr>
          <a:xfrm>
            <a:off x="6238080" y="3357720"/>
            <a:ext cx="366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47"/>
          <p:cNvSpPr/>
          <p:nvPr/>
        </p:nvSpPr>
        <p:spPr>
          <a:xfrm>
            <a:off x="1198440" y="198900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AutoShape 49" descr=""/>
          <p:cNvPicPr/>
          <p:nvPr/>
        </p:nvPicPr>
        <p:blipFill>
          <a:blip r:embed="rId1"/>
          <a:stretch/>
        </p:blipFill>
        <p:spPr>
          <a:xfrm>
            <a:off x="517680" y="3602160"/>
            <a:ext cx="568080" cy="688680"/>
          </a:xfrm>
          <a:prstGeom prst="rect">
            <a:avLst/>
          </a:prstGeom>
          <a:ln w="0">
            <a:noFill/>
          </a:ln>
        </p:spPr>
      </p:pic>
      <p:pic>
        <p:nvPicPr>
          <p:cNvPr id="619" name="AutoShape 50" descr=""/>
          <p:cNvPicPr/>
          <p:nvPr/>
        </p:nvPicPr>
        <p:blipFill>
          <a:blip r:embed="rId2"/>
          <a:stretch/>
        </p:blipFill>
        <p:spPr>
          <a:xfrm>
            <a:off x="517680" y="1951200"/>
            <a:ext cx="568080" cy="682560"/>
          </a:xfrm>
          <a:prstGeom prst="rect">
            <a:avLst/>
          </a:prstGeom>
          <a:ln w="0">
            <a:noFill/>
          </a:ln>
        </p:spPr>
      </p:pic>
      <p:pic>
        <p:nvPicPr>
          <p:cNvPr id="620" name="AutoShape 51" descr=""/>
          <p:cNvPicPr/>
          <p:nvPr/>
        </p:nvPicPr>
        <p:blipFill>
          <a:blip r:embed="rId3"/>
          <a:stretch/>
        </p:blipFill>
        <p:spPr>
          <a:xfrm>
            <a:off x="517680" y="2809800"/>
            <a:ext cx="568080" cy="689040"/>
          </a:xfrm>
          <a:prstGeom prst="rect">
            <a:avLst/>
          </a:prstGeom>
          <a:ln w="0">
            <a:noFill/>
          </a:ln>
        </p:spPr>
      </p:pic>
      <p:grpSp>
        <p:nvGrpSpPr>
          <p:cNvPr id="621" name="AutoShape 53"/>
          <p:cNvGrpSpPr/>
          <p:nvPr/>
        </p:nvGrpSpPr>
        <p:grpSpPr>
          <a:xfrm>
            <a:off x="139680" y="133200"/>
            <a:ext cx="615960" cy="615960"/>
            <a:chOff x="139680" y="133200"/>
            <a:chExt cx="615960" cy="615960"/>
          </a:xfrm>
        </p:grpSpPr>
        <p:pic>
          <p:nvPicPr>
            <p:cNvPr id="622" name="AutoShape 53" descr=""/>
            <p:cNvPicPr/>
            <p:nvPr/>
          </p:nvPicPr>
          <p:blipFill>
            <a:blip r:embed="rId4"/>
            <a:stretch/>
          </p:blipFill>
          <p:spPr>
            <a:xfrm>
              <a:off x="139680" y="133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179280" y="189000"/>
              <a:ext cx="505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AutoShape 54"/>
          <p:cNvGrpSpPr/>
          <p:nvPr/>
        </p:nvGrpSpPr>
        <p:grpSpPr>
          <a:xfrm>
            <a:off x="8352000" y="6035760"/>
            <a:ext cx="688680" cy="689040"/>
            <a:chOff x="8352000" y="6035760"/>
            <a:chExt cx="688680" cy="689040"/>
          </a:xfrm>
        </p:grpSpPr>
        <p:pic>
          <p:nvPicPr>
            <p:cNvPr id="625" name="AutoShape 54" descr=""/>
            <p:cNvPicPr/>
            <p:nvPr/>
          </p:nvPicPr>
          <p:blipFill>
            <a:blip r:embed="rId5"/>
            <a:stretch/>
          </p:blipFill>
          <p:spPr>
            <a:xfrm>
              <a:off x="8352000" y="6035760"/>
              <a:ext cx="68868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8388360" y="6093000"/>
              <a:ext cx="57636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AutoShape 55"/>
          <p:cNvSpPr/>
          <p:nvPr/>
        </p:nvSpPr>
        <p:spPr>
          <a:xfrm>
            <a:off x="3348000" y="1700280"/>
            <a:ext cx="2160720" cy="576360"/>
          </a:xfrm>
          <a:prstGeom prst="wedgeEllipseCallout">
            <a:avLst>
              <a:gd name="adj1" fmla="val -102240"/>
              <a:gd name="adj2" fmla="val 161847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56"/>
          <p:cNvSpPr/>
          <p:nvPr/>
        </p:nvSpPr>
        <p:spPr>
          <a:xfrm>
            <a:off x="3276720" y="2781360"/>
            <a:ext cx="1944720" cy="720720"/>
          </a:xfrm>
          <a:prstGeom prst="wedgeEllipseCallout">
            <a:avLst>
              <a:gd name="adj1" fmla="val -102976"/>
              <a:gd name="adj2" fmla="val 112555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57"/>
          <p:cNvSpPr/>
          <p:nvPr/>
        </p:nvSpPr>
        <p:spPr>
          <a:xfrm>
            <a:off x="3132000" y="765000"/>
            <a:ext cx="2160720" cy="576360"/>
          </a:xfrm>
          <a:prstGeom prst="wedgeEllipseCallout">
            <a:avLst>
              <a:gd name="adj1" fmla="val -92027"/>
              <a:gd name="adj2" fmla="val 173138"/>
            </a:avLst>
          </a:prstGeom>
          <a:solidFill>
            <a:srgbClr val="ffc900"/>
          </a:solidFill>
          <a:ln w="38160">
            <a:solidFill>
              <a:srgbClr val="800000"/>
            </a:solidFill>
            <a:miter/>
          </a:ln>
          <a:effectLst>
            <a:outerShdw dist="23040" dir="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Text Box 58" descr=""/>
          <p:cNvPicPr/>
          <p:nvPr/>
        </p:nvPicPr>
        <p:blipFill>
          <a:blip r:embed="rId6"/>
          <a:stretch/>
        </p:blipFill>
        <p:spPr>
          <a:xfrm>
            <a:off x="500040" y="-122400"/>
            <a:ext cx="6033960" cy="124488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59"/>
          <p:cNvSpPr/>
          <p:nvPr/>
        </p:nvSpPr>
        <p:spPr>
          <a:xfrm>
            <a:off x="408240" y="907920"/>
            <a:ext cx="285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ите не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+ 6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Object 3" descr=""/>
          <p:cNvPicPr/>
          <p:nvPr/>
        </p:nvPicPr>
        <p:blipFill>
          <a:blip r:embed="rId7"/>
          <a:stretch/>
        </p:blipFill>
        <p:spPr>
          <a:xfrm>
            <a:off x="1000080" y="4429080"/>
            <a:ext cx="3427560" cy="698400"/>
          </a:xfrm>
          <a:prstGeom prst="rect">
            <a:avLst/>
          </a:prstGeom>
          <a:ln w="0">
            <a:noFill/>
          </a:ln>
        </p:spPr>
      </p:pic>
      <p:pic>
        <p:nvPicPr>
          <p:cNvPr id="633" name="Object 4" descr=""/>
          <p:cNvPicPr/>
          <p:nvPr/>
        </p:nvPicPr>
        <p:blipFill>
          <a:blip r:embed="rId8"/>
          <a:stretch/>
        </p:blipFill>
        <p:spPr>
          <a:xfrm>
            <a:off x="1227240" y="3645000"/>
            <a:ext cx="1073160" cy="555480"/>
          </a:xfrm>
          <a:prstGeom prst="rect">
            <a:avLst/>
          </a:prstGeom>
          <a:ln w="0">
            <a:noFill/>
          </a:ln>
        </p:spPr>
      </p:pic>
      <p:pic>
        <p:nvPicPr>
          <p:cNvPr id="634" name="AutoShape 74" descr=""/>
          <p:cNvPicPr/>
          <p:nvPr/>
        </p:nvPicPr>
        <p:blipFill>
          <a:blip r:embed="rId9"/>
          <a:stretch/>
        </p:blipFill>
        <p:spPr>
          <a:xfrm>
            <a:off x="517680" y="4468680"/>
            <a:ext cx="568080" cy="682920"/>
          </a:xfrm>
          <a:prstGeom prst="rect">
            <a:avLst/>
          </a:prstGeom>
          <a:ln w="0">
            <a:noFill/>
          </a:ln>
        </p:spPr>
      </p:pic>
      <p:sp>
        <p:nvSpPr>
          <p:cNvPr id="635" name="AutoShape 75"/>
          <p:cNvSpPr/>
          <p:nvPr/>
        </p:nvSpPr>
        <p:spPr>
          <a:xfrm>
            <a:off x="4140360" y="5084640"/>
            <a:ext cx="1944360" cy="720720"/>
          </a:xfrm>
          <a:prstGeom prst="wedgeEllipseCallout">
            <a:avLst>
              <a:gd name="adj1" fmla="val -156365"/>
              <a:gd name="adj2" fmla="val -43611"/>
            </a:avLst>
          </a:prstGeom>
          <a:gradFill rotWithShape="0">
            <a:gsLst>
              <a:gs pos="0">
                <a:srgbClr val="e1e0bc"/>
              </a:gs>
              <a:gs pos="100000">
                <a:srgbClr val="f4f4e5"/>
              </a:gs>
            </a:gsLst>
            <a:lin ang="16200000"/>
          </a:gra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Object 5" descr=""/>
          <p:cNvPicPr/>
          <p:nvPr/>
        </p:nvPicPr>
        <p:blipFill>
          <a:blip r:embed="rId10"/>
          <a:stretch/>
        </p:blipFill>
        <p:spPr>
          <a:xfrm>
            <a:off x="1187280" y="2852640"/>
            <a:ext cx="1224000" cy="588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815" dur="indefinite" restart="never" nodeType="tmRoot">
          <p:childTnLst>
            <p:seq>
              <p:cTn id="816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817" nodeType="clickEffect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5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826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5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836" nodeType="clickEffect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5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846" nodeType="clickEffect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Заголовок 1" descr=""/>
          <p:cNvPicPr/>
          <p:nvPr/>
        </p:nvPicPr>
        <p:blipFill>
          <a:blip r:embed="rId1"/>
          <a:stretch/>
        </p:blipFill>
        <p:spPr>
          <a:xfrm>
            <a:off x="762120" y="4133880"/>
            <a:ext cx="8070840" cy="223668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9" descr="AG00040_"/>
          <p:cNvPicPr/>
          <p:nvPr/>
        </p:nvPicPr>
        <p:blipFill>
          <a:blip r:embed="rId2"/>
          <a:srcRect l="-46619" t="0" r="-46619" b="0"/>
          <a:stretch/>
        </p:blipFill>
        <p:spPr>
          <a:xfrm>
            <a:off x="971640" y="1052640"/>
            <a:ext cx="6456240" cy="3705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24000" y="765000"/>
            <a:ext cx="9576000" cy="4802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Неравенства вида</a:t>
            </a:r>
            <a:br>
              <a:rPr sz="4000"/>
            </a:b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e67c7f"/>
                </a:solidFill>
                <a:latin typeface="Calibri"/>
              </a:rPr>
              <a:t>ax²+bx+c&gt;0</a:t>
            </a:r>
            <a:r>
              <a:rPr b="1" lang="ru-RU" sz="4000" spc="-1" strike="noStrike">
                <a:solidFill>
                  <a:srgbClr val="e67c7f"/>
                </a:solidFill>
                <a:latin typeface="Calibri"/>
              </a:rPr>
              <a:t> / </a:t>
            </a:r>
            <a:r>
              <a:rPr b="1" lang="en-US" sz="4000" spc="-1" strike="noStrike">
                <a:solidFill>
                  <a:srgbClr val="e67c7f"/>
                </a:solidFill>
                <a:latin typeface="Calibri"/>
              </a:rPr>
              <a:t>ax²+bx+c≥0</a:t>
            </a:r>
            <a:r>
              <a:rPr b="0" lang="en-US" sz="4000" spc="-1" strike="noStrike">
                <a:solidFill>
                  <a:srgbClr val="3366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 и </a:t>
            </a:r>
            <a:r>
              <a:rPr b="1" lang="en-US" sz="4000" spc="-1" strike="noStrike">
                <a:solidFill>
                  <a:srgbClr val="e67c7f"/>
                </a:solidFill>
                <a:latin typeface="Calibri"/>
              </a:rPr>
              <a:t>ax²+bx+c&lt;0</a:t>
            </a:r>
            <a:r>
              <a:rPr b="1" lang="ru-RU" sz="4000" spc="-1" strike="noStrike">
                <a:solidFill>
                  <a:srgbClr val="e67c7f"/>
                </a:solidFill>
                <a:latin typeface="Calibri"/>
              </a:rPr>
              <a:t> /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e67c7f"/>
                </a:solidFill>
                <a:latin typeface="Calibri"/>
              </a:rPr>
              <a:t>ax²+bx+c≤0</a:t>
            </a:r>
            <a:r>
              <a:rPr b="1" lang="ru-RU" sz="4000" spc="-1" strike="noStrike">
                <a:solidFill>
                  <a:srgbClr val="e67c7f"/>
                </a:solidFill>
                <a:latin typeface="Calibri"/>
              </a:rPr>
              <a:t>, 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где</a:t>
            </a:r>
            <a:br>
              <a:rPr sz="4000"/>
            </a:b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х – переменная,</a:t>
            </a:r>
            <a:br>
              <a:rPr sz="4000"/>
            </a:br>
            <a:r>
              <a:rPr b="0" lang="en-US" sz="4000" spc="-1" strike="noStrike">
                <a:solidFill>
                  <a:srgbClr val="336600"/>
                </a:solidFill>
                <a:latin typeface="Calibri"/>
              </a:rPr>
              <a:t>a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,</a:t>
            </a:r>
            <a:r>
              <a:rPr b="0" lang="en-US" sz="4000" spc="-1" strike="noStrike">
                <a:solidFill>
                  <a:srgbClr val="336600"/>
                </a:solidFill>
                <a:latin typeface="Calibri"/>
              </a:rPr>
              <a:t>b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,</a:t>
            </a:r>
            <a:r>
              <a:rPr b="0" lang="en-US" sz="4000" spc="-1" strike="noStrike">
                <a:solidFill>
                  <a:srgbClr val="336600"/>
                </a:solidFill>
                <a:latin typeface="Calibri"/>
              </a:rPr>
              <a:t>c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 – некоторые числа, </a:t>
            </a:r>
            <a:br>
              <a:rPr sz="4000"/>
            </a:b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причём   а ≠ 0, </a:t>
            </a:r>
            <a:br>
              <a:rPr sz="4000"/>
            </a:b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называют </a:t>
            </a:r>
            <a:r>
              <a:rPr b="1" lang="ru-RU" sz="4000" spc="-1" strike="noStrike">
                <a:solidFill>
                  <a:srgbClr val="e67c7f"/>
                </a:solidFill>
                <a:latin typeface="Calibri"/>
              </a:rPr>
              <a:t>квадратными неравенствами </a:t>
            </a: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d1282e"/>
              </a:solidFill>
              <a:latin typeface="Arial Black"/>
            </a:endParaRPr>
          </a:p>
        </p:txBody>
      </p:sp>
    </p:spTree>
  </p:cSld>
  <p:transition spd="med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e67c7f"/>
                </a:solidFill>
                <a:latin typeface="Calibri"/>
              </a:rPr>
              <a:t>Решение квадратных неравенств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х</a:t>
            </a:r>
            <a:r>
              <a:rPr b="1" lang="ru-RU" sz="3200" spc="-1" strike="noStrike" baseline="30000">
                <a:solidFill>
                  <a:srgbClr val="ff000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+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 bx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+ с </a:t>
            </a:r>
            <a:r>
              <a:rPr b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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0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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0, 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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0, </a:t>
            </a:r>
            <a:r>
              <a:rPr b="0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0) 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908000" y="1557000"/>
            <a:ext cx="55548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Вводим соответствующую функцию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 = а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 b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с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Определяем направление ветвей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араболы у = а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 b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с ( при а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 ветв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правлены вверх; при а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 ветв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правлены вниз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Находим нули функции, т.е. решае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авнение а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Bell MT"/>
              </a:rPr>
              <a:t> b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с =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1000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357120"/>
            <a:ext cx="8572680" cy="555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 уравнение имеет корни, то отмечае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рни на координатной прямой 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хематически рисуем параболу в соответстви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 направлением ветвей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Если уравнение не имеет корней, то схематически рисуем параболу в соответствии с направление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тве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. Находим решение неравенства с учет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мысла знака неравенств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Пример 1       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D </a:t>
            </a:r>
            <a:r>
              <a:rPr b="0" lang="en-US" sz="3600" spc="-1" strike="noStrike">
                <a:solidFill>
                  <a:srgbClr val="d1282e"/>
                </a:solidFill>
                <a:latin typeface="Symbol"/>
                <a:ea typeface="Symbol"/>
              </a:rPr>
              <a:t>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0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000" y="162828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ть неравенство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3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одержимое 2"/>
          <p:cNvSpPr/>
          <p:nvPr/>
        </p:nvSpPr>
        <p:spPr>
          <a:xfrm>
            <a:off x="611280" y="2205000"/>
            <a:ext cx="761976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сть у =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= -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, ветви направлены вн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м уравнение -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3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 = 1 и х = -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Отметим числа 1 и -3 на координат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ямой и построим эскиз граф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cover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Т.к. знак неравенства (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о решение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ется отрезок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3; 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: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3; 1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 стрелкой 4"/>
          <p:cNvCxnSpPr/>
          <p:nvPr/>
        </p:nvCxnSpPr>
        <p:spPr>
          <a:xfrm>
            <a:off x="1214280" y="1714680"/>
            <a:ext cx="3215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Прямая со стрелкой 6"/>
          <p:cNvCxnSpPr/>
          <p:nvPr/>
        </p:nvCxnSpPr>
        <p:spPr>
          <a:xfrm flipV="1">
            <a:off x="2641680" y="499680"/>
            <a:ext cx="216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Дуга 7"/>
          <p:cNvSpPr/>
          <p:nvPr/>
        </p:nvSpPr>
        <p:spPr>
          <a:xfrm>
            <a:off x="1357200" y="1000080"/>
            <a:ext cx="177336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6662" y="1363033"/>
                </a:moveTo>
                <a:cubicBezTo>
                  <a:pt x="-26571" y="993798"/>
                  <a:pt x="65586" y="624069"/>
                  <a:pt x="256731" y="359765"/>
                </a:cubicBezTo>
                <a:cubicBezTo>
                  <a:pt x="559357" y="-58688"/>
                  <a:pt x="1037572" y="-119367"/>
                  <a:pt x="1391167" y="215819"/>
                </a:cubicBezTo>
                <a:cubicBezTo>
                  <a:pt x="1630447" y="442642"/>
                  <a:pt x="1773237" y="815853"/>
                  <a:pt x="1773237" y="1214438"/>
                </a:cubicBezTo>
                <a:lnTo>
                  <a:pt x="886619" y="1214438"/>
                </a:lnTo>
                <a:lnTo>
                  <a:pt x="6662" y="1363033"/>
                </a:lnTo>
                <a:close/>
              </a:path>
              <a:path fill="none" w="1773237" h="2428875">
                <a:moveTo>
                  <a:pt x="6662" y="1363033"/>
                </a:moveTo>
                <a:cubicBezTo>
                  <a:pt x="-26571" y="993798"/>
                  <a:pt x="65586" y="624069"/>
                  <a:pt x="256731" y="359765"/>
                </a:cubicBezTo>
                <a:cubicBezTo>
                  <a:pt x="559357" y="-58688"/>
                  <a:pt x="1037572" y="-119367"/>
                  <a:pt x="1391167" y="215819"/>
                </a:cubicBezTo>
                <a:cubicBezTo>
                  <a:pt x="1630447" y="442642"/>
                  <a:pt x="1773237" y="815853"/>
                  <a:pt x="1773237" y="121443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8"/>
          <p:cNvSpPr/>
          <p:nvPr/>
        </p:nvSpPr>
        <p:spPr>
          <a:xfrm>
            <a:off x="933120" y="1714680"/>
            <a:ext cx="4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2646000" y="42876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0"/>
          <p:cNvSpPr/>
          <p:nvPr/>
        </p:nvSpPr>
        <p:spPr>
          <a:xfrm>
            <a:off x="4074480" y="16430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1"/>
          <p:cNvSpPr/>
          <p:nvPr/>
        </p:nvSpPr>
        <p:spPr>
          <a:xfrm>
            <a:off x="3074760" y="1714680"/>
            <a:ext cx="3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Дуга 12"/>
          <p:cNvSpPr/>
          <p:nvPr/>
        </p:nvSpPr>
        <p:spPr>
          <a:xfrm>
            <a:off x="1357200" y="1000080"/>
            <a:ext cx="1773360" cy="2428920"/>
          </a:xfrm>
          <a:custGeom>
            <a:avLst/>
            <a:gdLst/>
            <a:ahLst/>
            <a:rect l="l" t="t" r="r" b="b"/>
            <a:pathLst>
              <a:path stroke="0" w="1773237" h="2428875">
                <a:moveTo>
                  <a:pt x="83929" y="698675"/>
                </a:moveTo>
                <a:cubicBezTo>
                  <a:pt x="229008" y="275053"/>
                  <a:pt x="538862" y="3278"/>
                  <a:pt x="880463" y="29"/>
                </a:cubicBezTo>
                <a:cubicBezTo>
                  <a:pt x="1223760" y="-3236"/>
                  <a:pt x="1537579" y="265254"/>
                  <a:pt x="1686044" y="689247"/>
                </a:cubicBezTo>
                <a:lnTo>
                  <a:pt x="886619" y="1214438"/>
                </a:lnTo>
                <a:lnTo>
                  <a:pt x="83929" y="698675"/>
                </a:lnTo>
                <a:close/>
              </a:path>
              <a:path fill="none" w="1773237" h="2428875">
                <a:moveTo>
                  <a:pt x="83929" y="698675"/>
                </a:moveTo>
                <a:cubicBezTo>
                  <a:pt x="229008" y="275053"/>
                  <a:pt x="538862" y="3278"/>
                  <a:pt x="880463" y="29"/>
                </a:cubicBezTo>
                <a:cubicBezTo>
                  <a:pt x="1223760" y="-3236"/>
                  <a:pt x="1537579" y="265254"/>
                  <a:pt x="1686044" y="689247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14"/>
          <p:cNvSpPr/>
          <p:nvPr/>
        </p:nvSpPr>
        <p:spPr>
          <a:xfrm>
            <a:off x="1428840" y="1714680"/>
            <a:ext cx="1643040" cy="1440"/>
          </a:xfrm>
          <a:prstGeom prst="line">
            <a:avLst/>
          </a:prstGeom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16"/>
          <p:cNvSpPr/>
          <p:nvPr/>
        </p:nvSpPr>
        <p:spPr>
          <a:xfrm>
            <a:off x="1357200" y="1643040"/>
            <a:ext cx="142920" cy="142920"/>
          </a:xfrm>
          <a:prstGeom prst="ellipse">
            <a:avLst/>
          </a:prstGeom>
          <a:solidFill>
            <a:srgbClr val="f5c201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7"/>
          <p:cNvSpPr/>
          <p:nvPr/>
        </p:nvSpPr>
        <p:spPr>
          <a:xfrm>
            <a:off x="3000240" y="1643040"/>
            <a:ext cx="142920" cy="142920"/>
          </a:xfrm>
          <a:prstGeom prst="ellipse">
            <a:avLst/>
          </a:prstGeom>
          <a:solidFill>
            <a:srgbClr val="f5c201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2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2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Пример 2     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D </a:t>
            </a:r>
            <a:r>
              <a:rPr b="0" lang="ru-RU" sz="3600" spc="-1" strike="noStrike">
                <a:solidFill>
                  <a:srgbClr val="d1282e"/>
                </a:solidFill>
                <a:latin typeface="Calibri"/>
              </a:rPr>
              <a:t>=</a:t>
            </a:r>
            <a:r>
              <a:rPr b="0" lang="en-US" sz="3600" spc="-1" strike="noStrike">
                <a:solidFill>
                  <a:srgbClr val="d1282e"/>
                </a:solidFill>
                <a:latin typeface="Calibri"/>
              </a:rPr>
              <a:t> 0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ть неравенство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одержимое 2"/>
          <p:cNvSpPr/>
          <p:nvPr/>
        </p:nvSpPr>
        <p:spPr>
          <a:xfrm>
            <a:off x="461880" y="2276640"/>
            <a:ext cx="7620120" cy="43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=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 = 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0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, ветви направлены ввер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ешим уравнение 4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+ 1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= х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= -0,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Парабола касается оси абсцис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0">
    <p:cover dir="r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Т.к. знак неравенства (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о решение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являются все числа, кроме х = -0,5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вет: (-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; -0,5)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-0,5; +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Прямая со стрелкой 4"/>
          <p:cNvCxnSpPr/>
          <p:nvPr/>
        </p:nvCxnSpPr>
        <p:spPr>
          <a:xfrm>
            <a:off x="1214280" y="1714680"/>
            <a:ext cx="32155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5" name="Прямая со стрелкой 6"/>
          <p:cNvCxnSpPr/>
          <p:nvPr/>
        </p:nvCxnSpPr>
        <p:spPr>
          <a:xfrm flipV="1">
            <a:off x="2641680" y="499680"/>
            <a:ext cx="216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6" name="Дуга 7"/>
          <p:cNvSpPr/>
          <p:nvPr/>
        </p:nvSpPr>
        <p:spPr>
          <a:xfrm rot="10800000">
            <a:off x="1285920" y="-714600"/>
            <a:ext cx="1773360" cy="2428920"/>
          </a:xfrm>
          <a:custGeom>
            <a:avLst/>
            <a:gdLst/>
            <a:ahLst/>
            <a:rect l="l" t="t" r="r" b="b"/>
            <a:pathLst>
              <a:path stroke="0" w="1773238" h="2428875">
                <a:moveTo>
                  <a:pt x="6662" y="1363033"/>
                </a:moveTo>
                <a:cubicBezTo>
                  <a:pt x="-26571" y="993798"/>
                  <a:pt x="65586" y="624069"/>
                  <a:pt x="256731" y="359765"/>
                </a:cubicBezTo>
                <a:cubicBezTo>
                  <a:pt x="559357" y="-58688"/>
                  <a:pt x="1037572" y="-119367"/>
                  <a:pt x="1391167" y="215819"/>
                </a:cubicBezTo>
                <a:cubicBezTo>
                  <a:pt x="1630447" y="442642"/>
                  <a:pt x="1773237" y="815853"/>
                  <a:pt x="1773237" y="1214438"/>
                </a:cubicBezTo>
                <a:lnTo>
                  <a:pt x="886619" y="1214438"/>
                </a:lnTo>
                <a:lnTo>
                  <a:pt x="6662" y="1363033"/>
                </a:lnTo>
                <a:close/>
              </a:path>
              <a:path fill="none" w="1773238" h="2428875">
                <a:moveTo>
                  <a:pt x="6662" y="1363033"/>
                </a:moveTo>
                <a:cubicBezTo>
                  <a:pt x="-26571" y="993798"/>
                  <a:pt x="65586" y="624069"/>
                  <a:pt x="256731" y="359765"/>
                </a:cubicBezTo>
                <a:cubicBezTo>
                  <a:pt x="559357" y="-58688"/>
                  <a:pt x="1037572" y="-119367"/>
                  <a:pt x="1391167" y="215819"/>
                </a:cubicBezTo>
                <a:cubicBezTo>
                  <a:pt x="1630447" y="442642"/>
                  <a:pt x="1773237" y="815853"/>
                  <a:pt x="1773237" y="121443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1935720" y="1714680"/>
            <a:ext cx="7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2646000" y="428760"/>
            <a:ext cx="34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4074480" y="16430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Дуга 12"/>
          <p:cNvSpPr/>
          <p:nvPr/>
        </p:nvSpPr>
        <p:spPr>
          <a:xfrm rot="10800000">
            <a:off x="1285920" y="-714600"/>
            <a:ext cx="1773360" cy="2428920"/>
          </a:xfrm>
          <a:custGeom>
            <a:avLst/>
            <a:gdLst/>
            <a:ahLst/>
            <a:rect l="l" t="t" r="r" b="b"/>
            <a:pathLst>
              <a:path stroke="0" w="1773238" h="2428875">
                <a:moveTo>
                  <a:pt x="9935" y="1395734"/>
                </a:moveTo>
                <a:cubicBezTo>
                  <a:pt x="-33151" y="1004837"/>
                  <a:pt x="65366" y="609677"/>
                  <a:pt x="274005" y="336524"/>
                </a:cubicBezTo>
                <a:cubicBezTo>
                  <a:pt x="602569" y="-93638"/>
                  <a:pt x="1115401" y="-113809"/>
                  <a:pt x="1461445" y="289819"/>
                </a:cubicBezTo>
                <a:cubicBezTo>
                  <a:pt x="1685508" y="551168"/>
                  <a:pt x="1800293" y="947771"/>
                  <a:pt x="1767826" y="1348418"/>
                </a:cubicBezTo>
                <a:lnTo>
                  <a:pt x="886619" y="1214438"/>
                </a:lnTo>
                <a:lnTo>
                  <a:pt x="9935" y="1395734"/>
                </a:lnTo>
                <a:close/>
              </a:path>
              <a:path fill="none" w="1773238" h="2428875">
                <a:moveTo>
                  <a:pt x="9935" y="1395734"/>
                </a:moveTo>
                <a:cubicBezTo>
                  <a:pt x="-33151" y="1004837"/>
                  <a:pt x="65366" y="609677"/>
                  <a:pt x="274005" y="336524"/>
                </a:cubicBezTo>
                <a:cubicBezTo>
                  <a:pt x="602569" y="-93638"/>
                  <a:pt x="1115401" y="-113809"/>
                  <a:pt x="1461445" y="289819"/>
                </a:cubicBezTo>
                <a:cubicBezTo>
                  <a:pt x="1685508" y="551168"/>
                  <a:pt x="1800293" y="947771"/>
                  <a:pt x="1767826" y="1348418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6"/>
          <p:cNvSpPr/>
          <p:nvPr/>
        </p:nvSpPr>
        <p:spPr>
          <a:xfrm>
            <a:off x="2143080" y="1643040"/>
            <a:ext cx="142920" cy="142920"/>
          </a:xfrm>
          <a:prstGeom prst="ellipse">
            <a:avLst/>
          </a:prstGeom>
          <a:noFill/>
          <a:ln w="381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7000">
    <p:cover dir="r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7T12:34:24Z</dcterms:created>
  <dc:creator>User</dc:creator>
  <dc:description/>
  <dc:language>en-US</dc:language>
  <cp:lastModifiedBy>Гошкадор Наталья</cp:lastModifiedBy>
  <dcterms:modified xsi:type="dcterms:W3CDTF">2013-02-05T13:04:50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13000000000001024140</vt:lpwstr>
  </property>
</Properties>
</file>