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5.gif" ContentType="image/gif"/>
  <Override PartName="/ppt/media/image5.wmf" ContentType="image/x-wmf"/>
  <Override PartName="/ppt/media/image2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B48-813F-4A1F-AC42-62EDB1FC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A3E-7334-42E5-B5D9-FA34A056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D5C-CE91-42B7-9A88-1C5A304F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739-F626-4669-82A3-B53C380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14B-3F32-4038-9021-DBAD4E27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2F8E-DBC7-47A5-9640-9398C74D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E09-6B17-4576-B4BA-A6FEE13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88BB-9DD0-4693-A974-214E636A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E8F5-896C-4137-A561-18D926D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294-4A07-4AC6-80DA-D812122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2666-ED1E-4F30-ACDE-0F0AA9A0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C0A-927F-43D8-9835-521A4B3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5EB-8C22-4DEA-8270-D4AFDCB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448B-4CEA-43AB-B760-05F140C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46E-2892-4E23-B840-A015F20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6B7-0D34-4FEF-BAF1-0B92E6A7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65CC-BAA5-4E3A-B06C-EA3C6382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DBE8-D544-4677-B2C2-6CAD0FFB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72FF-37FA-4F62-89F6-9FB51D2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6A8A-4E58-476E-99C4-F63717B4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4499-D911-4B67-99F0-5033F0A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4BA9-20F8-4DB2-9E42-F5C0B9F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086-6411-486A-A9DB-C4FAFB12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6DA8-EE9F-4AFE-BEC3-24DCA1EC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66DA-0E7D-4D85-8273-F04953F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A77D-0FC0-44A7-9E39-66B6EBD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A3A5-1FCA-4065-97ED-5D9944F3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FE29-71DE-44E2-BE01-9F1C45B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6AD1-73E3-443E-A8A6-97C1D690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71CB-1D8E-4653-8206-981E602B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FCE-FF94-494A-A79D-E5BABE05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3BA-CEF3-4BF4-8666-9F7B61A6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AC4-FD21-40C4-A12D-077A459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8A7-73F1-4B8B-AA35-78116ED9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D94-CD19-4F64-A0CE-22F076A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1CF-CA75-4361-B897-9B2685C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03D-46C5-482F-9E0B-66DC09415A85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4DC-192A-4B66-92F0-04586A64643E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5A4-A403-4515-9ACA-126CFE4B0B0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5.png"/><Relationship Id="rId8" Type="http://schemas.openxmlformats.org/officeDocument/2006/relationships/image" Target="../media/image28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17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17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763884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промежуток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только число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3"/>
          <p:cNvCxnSpPr/>
          <p:nvPr/>
        </p:nvCxnSpPr>
        <p:spPr>
          <a:xfrm>
            <a:off x="4143240" y="4785840"/>
            <a:ext cx="32169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4"/>
          <p:cNvCxnSpPr/>
          <p:nvPr/>
        </p:nvCxnSpPr>
        <p:spPr>
          <a:xfrm flipV="1">
            <a:off x="5571000" y="3571560"/>
            <a:ext cx="252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5"/>
          <p:cNvSpPr/>
          <p:nvPr/>
        </p:nvSpPr>
        <p:spPr>
          <a:xfrm>
            <a:off x="4865400" y="47862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6400" y="350028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7004880" y="471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9"/>
          <p:cNvSpPr/>
          <p:nvPr/>
        </p:nvSpPr>
        <p:spPr>
          <a:xfrm rot="10800000">
            <a:off x="4214520" y="235692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0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solidFill>
            <a:srgbClr val="d1282e"/>
          </a:solidFill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39640" y="2205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= 0 реше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не пересекает ось х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саетс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 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Дуга 7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2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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3"/>
          <p:cNvCxnSpPr/>
          <p:nvPr/>
        </p:nvCxnSpPr>
        <p:spPr>
          <a:xfrm>
            <a:off x="3857400" y="3857760"/>
            <a:ext cx="321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"/>
          <p:cNvCxnSpPr/>
          <p:nvPr/>
        </p:nvCxnSpPr>
        <p:spPr>
          <a:xfrm flipV="1">
            <a:off x="5285160" y="2642400"/>
            <a:ext cx="2520" cy="228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Дуга 5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89120" y="25718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717600" y="3786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8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3000">
    <p:cover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428760"/>
          <a:ext cx="8229600" cy="4787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ли квадратного трехч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г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неравенства, равносильные дан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исловой промежуток, объединение числовых промежут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0" name="Группа 4"/>
          <p:cNvGrpSpPr/>
          <p:nvPr/>
        </p:nvGrpSpPr>
        <p:grpSpPr>
          <a:xfrm>
            <a:off x="3714840" y="3643200"/>
            <a:ext cx="1667880" cy="1504800"/>
            <a:chOff x="3714840" y="3643200"/>
            <a:chExt cx="1667880" cy="1504800"/>
          </a:xfrm>
        </p:grpSpPr>
        <p:cxnSp>
          <p:nvCxnSpPr>
            <p:cNvPr id="191" name="Прямая со стрелкой 5"/>
            <p:cNvCxnSpPr/>
            <p:nvPr/>
          </p:nvCxnSpPr>
          <p:spPr>
            <a:xfrm>
              <a:off x="3714840" y="4627080"/>
              <a:ext cx="1513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 flipV="1">
              <a:off x="4331160" y="4069440"/>
              <a:ext cx="1080" cy="1050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Дуга 7"/>
            <p:cNvSpPr/>
            <p:nvPr/>
          </p:nvSpPr>
          <p:spPr>
            <a:xfrm rot="10800000">
              <a:off x="4301640" y="3643200"/>
              <a:ext cx="833400" cy="1114560"/>
            </a:xfrm>
            <a:custGeom>
              <a:avLst/>
              <a:gdLst/>
              <a:ahLst/>
              <a:rect l="l" t="t" r="r" b="b"/>
              <a:pathLst>
                <a:path stroke="0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  <a:lnTo>
                    <a:pt x="964072" y="1213594"/>
                  </a:lnTo>
                  <a:lnTo>
                    <a:pt x="8559" y="1374948"/>
                  </a:lnTo>
                  <a:close/>
                </a:path>
                <a:path fill="none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4792680" y="462744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4234680" y="403668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5038920" y="4594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293360" y="462708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12"/>
            <p:cNvSpPr/>
            <p:nvPr/>
          </p:nvSpPr>
          <p:spPr>
            <a:xfrm>
              <a:off x="49500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Овал 13"/>
            <p:cNvSpPr/>
            <p:nvPr/>
          </p:nvSpPr>
          <p:spPr>
            <a:xfrm>
              <a:off x="44244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5"/>
          <p:cNvSpPr/>
          <p:nvPr/>
        </p:nvSpPr>
        <p:spPr>
          <a:xfrm>
            <a:off x="479880" y="30002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– 6х + 5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239200" y="4643280"/>
            <a:ext cx="15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=1, 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5432760" y="4572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, 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7079400" y="43578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-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; 1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; +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2000">
    <p:cover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Определить по чертежу знак коэффициента a и количество корней уравнения ах</a:t>
            </a:r>
            <a:r>
              <a:rPr b="1" lang="ru-RU" sz="2400" spc="-1" strike="noStrike" baseline="30000">
                <a:solidFill>
                  <a:srgbClr val="d1282e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+вх+с=0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05" name="Содержимое 3" descr="рисунок 2.jpg"/>
          <p:cNvPicPr/>
          <p:nvPr/>
        </p:nvPicPr>
        <p:blipFill>
          <a:blip r:embed="rId1"/>
          <a:stretch/>
        </p:blipFill>
        <p:spPr>
          <a:xfrm>
            <a:off x="1071720" y="1449360"/>
            <a:ext cx="628632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2438"/>
          <p:cNvGrpSpPr/>
          <p:nvPr/>
        </p:nvGrpSpPr>
        <p:grpSpPr>
          <a:xfrm>
            <a:off x="-36360" y="3517920"/>
            <a:ext cx="6119640" cy="2992320"/>
            <a:chOff x="-36360" y="3517920"/>
            <a:chExt cx="6119640" cy="2992320"/>
          </a:xfrm>
        </p:grpSpPr>
        <p:pic>
          <p:nvPicPr>
            <p:cNvPr id="207" name="Rectangle 2438" descr=""/>
            <p:cNvPicPr/>
            <p:nvPr/>
          </p:nvPicPr>
          <p:blipFill>
            <a:blip r:embed="rId1"/>
            <a:stretch/>
          </p:blipFill>
          <p:spPr>
            <a:xfrm>
              <a:off x="-36360" y="3517920"/>
              <a:ext cx="6119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3573360"/>
              <a:ext cx="60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338"/>
          <p:cNvSpPr/>
          <p:nvPr/>
        </p:nvSpPr>
        <p:spPr>
          <a:xfrm>
            <a:off x="536040" y="35733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37"/>
          <p:cNvSpPr/>
          <p:nvPr/>
        </p:nvSpPr>
        <p:spPr>
          <a:xfrm>
            <a:off x="2999160" y="35733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2402"/>
          <p:cNvGrpSpPr/>
          <p:nvPr/>
        </p:nvGrpSpPr>
        <p:grpSpPr>
          <a:xfrm>
            <a:off x="-36360" y="639720"/>
            <a:ext cx="6119640" cy="2987640"/>
            <a:chOff x="-36360" y="639720"/>
            <a:chExt cx="6119640" cy="2987640"/>
          </a:xfrm>
        </p:grpSpPr>
        <p:pic>
          <p:nvPicPr>
            <p:cNvPr id="212" name="Rectangle 2402" descr=""/>
            <p:cNvPicPr/>
            <p:nvPr/>
          </p:nvPicPr>
          <p:blipFill>
            <a:blip r:embed="rId2"/>
            <a:stretch/>
          </p:blipFill>
          <p:spPr>
            <a:xfrm>
              <a:off x="-36360" y="639720"/>
              <a:ext cx="6119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92280"/>
              <a:ext cx="601200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336"/>
          <p:cNvSpPr/>
          <p:nvPr/>
        </p:nvSpPr>
        <p:spPr>
          <a:xfrm>
            <a:off x="2423520" y="3429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42"/>
          <p:cNvSpPr/>
          <p:nvPr/>
        </p:nvSpPr>
        <p:spPr>
          <a:xfrm>
            <a:off x="5525280" y="3500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87"/>
          <p:cNvSpPr/>
          <p:nvPr/>
        </p:nvSpPr>
        <p:spPr>
          <a:xfrm>
            <a:off x="0" y="765000"/>
            <a:ext cx="0" cy="518184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41"/>
          <p:cNvSpPr/>
          <p:nvPr/>
        </p:nvSpPr>
        <p:spPr>
          <a:xfrm>
            <a:off x="2354040" y="260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40"/>
          <p:cNvSpPr/>
          <p:nvPr/>
        </p:nvSpPr>
        <p:spPr>
          <a:xfrm>
            <a:off x="2418840" y="620640"/>
            <a:ext cx="3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394"/>
          <p:cNvSpPr/>
          <p:nvPr/>
        </p:nvSpPr>
        <p:spPr>
          <a:xfrm>
            <a:off x="1447920" y="546120"/>
            <a:ext cx="2527200" cy="49719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4971960"/>
              <a:gd name="textAreaBottom" fmla="*/ 4972320 h 4971960"/>
            </a:gdLst>
            <a:ahLst/>
            <a:rect l="textAreaLeft" t="textAreaTop" r="textAreaRight" b="textAreaBottom"/>
            <a:pathLst>
              <a:path w="1592" h="3132">
                <a:moveTo>
                  <a:pt x="0" y="0"/>
                </a:moveTo>
                <a:cubicBezTo>
                  <a:pt x="71" y="316"/>
                  <a:pt x="307" y="1424"/>
                  <a:pt x="426" y="1907"/>
                </a:cubicBezTo>
                <a:cubicBezTo>
                  <a:pt x="545" y="2390"/>
                  <a:pt x="632" y="2693"/>
                  <a:pt x="712" y="2896"/>
                </a:cubicBezTo>
                <a:cubicBezTo>
                  <a:pt x="792" y="3099"/>
                  <a:pt x="835" y="3124"/>
                  <a:pt x="904" y="3128"/>
                </a:cubicBezTo>
                <a:cubicBezTo>
                  <a:pt x="973" y="3132"/>
                  <a:pt x="1049" y="3123"/>
                  <a:pt x="1128" y="2920"/>
                </a:cubicBezTo>
                <a:cubicBezTo>
                  <a:pt x="1207" y="2717"/>
                  <a:pt x="1301" y="2376"/>
                  <a:pt x="1378" y="1907"/>
                </a:cubicBezTo>
                <a:cubicBezTo>
                  <a:pt x="1455" y="1438"/>
                  <a:pt x="1548" y="480"/>
                  <a:pt x="1592" y="1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95"/>
          <p:cNvSpPr/>
          <p:nvPr/>
        </p:nvSpPr>
        <p:spPr>
          <a:xfrm>
            <a:off x="4191480" y="1890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96"/>
          <p:cNvSpPr/>
          <p:nvPr/>
        </p:nvSpPr>
        <p:spPr>
          <a:xfrm>
            <a:off x="3924360" y="584280"/>
            <a:ext cx="2044800" cy="75708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1288" h="477">
                <a:moveTo>
                  <a:pt x="1288" y="0"/>
                </a:moveTo>
                <a:lnTo>
                  <a:pt x="160" y="8"/>
                </a:lnTo>
                <a:lnTo>
                  <a:pt x="0" y="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97"/>
          <p:cNvSpPr/>
          <p:nvPr/>
        </p:nvSpPr>
        <p:spPr>
          <a:xfrm>
            <a:off x="6241320" y="519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5" name="Freeform 2400"/>
            <p:cNvSpPr/>
            <p:nvPr/>
          </p:nvSpPr>
          <p:spPr>
            <a:xfrm>
              <a:off x="1434960" y="514440"/>
              <a:ext cx="689040" cy="3058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3058920"/>
                <a:gd name="textAreaBottom" fmla="*/ 3059280 h 3058920"/>
              </a:gdLst>
              <a:ahLst/>
              <a:rect l="textAreaLeft" t="textAreaTop" r="textAreaRight" b="textAreaBottom"/>
              <a:pathLst>
                <a:path w="434" h="1927">
                  <a:moveTo>
                    <a:pt x="0" y="0"/>
                  </a:moveTo>
                  <a:cubicBezTo>
                    <a:pt x="45" y="201"/>
                    <a:pt x="196" y="883"/>
                    <a:pt x="268" y="1204"/>
                  </a:cubicBezTo>
                  <a:cubicBezTo>
                    <a:pt x="340" y="1525"/>
                    <a:pt x="400" y="1776"/>
                    <a:pt x="434" y="19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1"/>
            <p:cNvSpPr/>
            <p:nvPr/>
          </p:nvSpPr>
          <p:spPr>
            <a:xfrm>
              <a:off x="3635280" y="469800"/>
              <a:ext cx="371520" cy="3065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234" h="1931">
                  <a:moveTo>
                    <a:pt x="234" y="0"/>
                  </a:moveTo>
                  <a:cubicBezTo>
                    <a:pt x="210" y="203"/>
                    <a:pt x="129" y="894"/>
                    <a:pt x="90" y="1216"/>
                  </a:cubicBezTo>
                  <a:cubicBezTo>
                    <a:pt x="51" y="1538"/>
                    <a:pt x="19" y="1782"/>
                    <a:pt x="0" y="19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8" name="Freeform 2405"/>
            <p:cNvSpPr/>
            <p:nvPr/>
          </p:nvSpPr>
          <p:spPr>
            <a:xfrm>
              <a:off x="3797280" y="2527200"/>
              <a:ext cx="1440" cy="1041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06"/>
            <p:cNvSpPr/>
            <p:nvPr/>
          </p:nvSpPr>
          <p:spPr>
            <a:xfrm>
              <a:off x="4013280" y="54612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07"/>
            <p:cNvSpPr/>
            <p:nvPr/>
          </p:nvSpPr>
          <p:spPr>
            <a:xfrm>
              <a:off x="4356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08"/>
            <p:cNvSpPr/>
            <p:nvPr/>
          </p:nvSpPr>
          <p:spPr>
            <a:xfrm>
              <a:off x="4788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9"/>
            <p:cNvSpPr/>
            <p:nvPr/>
          </p:nvSpPr>
          <p:spPr>
            <a:xfrm>
              <a:off x="521964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0"/>
            <p:cNvSpPr/>
            <p:nvPr/>
          </p:nvSpPr>
          <p:spPr>
            <a:xfrm>
              <a:off x="5580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5" name="Freeform 2413"/>
            <p:cNvSpPr/>
            <p:nvPr/>
          </p:nvSpPr>
          <p:spPr>
            <a:xfrm>
              <a:off x="1752480" y="1943280"/>
              <a:ext cx="1800" cy="1625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" h="1024">
                  <a:moveTo>
                    <a:pt x="0" y="0"/>
                  </a:moveTo>
                  <a:lnTo>
                    <a:pt x="0" y="102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81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6012000" y="1444680"/>
            <a:ext cx="2987640" cy="544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32"/>
          <p:cNvGrpSpPr/>
          <p:nvPr/>
        </p:nvGrpSpPr>
        <p:grpSpPr>
          <a:xfrm>
            <a:off x="6232680" y="1773360"/>
            <a:ext cx="2109240" cy="1191240"/>
            <a:chOff x="6232680" y="1773360"/>
            <a:chExt cx="2109240" cy="1191240"/>
          </a:xfrm>
        </p:grpSpPr>
        <p:sp>
          <p:nvSpPr>
            <p:cNvPr id="285" name="Text Box 2429"/>
            <p:cNvSpPr/>
            <p:nvPr/>
          </p:nvSpPr>
          <p:spPr>
            <a:xfrm>
              <a:off x="6232680" y="177336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8" descr=""/>
            <p:cNvPicPr/>
            <p:nvPr/>
          </p:nvPicPr>
          <p:blipFill>
            <a:blip r:embed="rId4"/>
            <a:stretch/>
          </p:blipFill>
          <p:spPr>
            <a:xfrm>
              <a:off x="7776000" y="2492280"/>
              <a:ext cx="3182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Object 4" descr=""/>
          <p:cNvPicPr/>
          <p:nvPr/>
        </p:nvPicPr>
        <p:blipFill>
          <a:blip r:embed="rId5"/>
          <a:stretch/>
        </p:blipFill>
        <p:spPr>
          <a:xfrm>
            <a:off x="6012000" y="2890800"/>
            <a:ext cx="2952720" cy="538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42"/>
          <p:cNvSpPr/>
          <p:nvPr/>
        </p:nvSpPr>
        <p:spPr>
          <a:xfrm>
            <a:off x="6168600" y="36147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90" name="Freeform 2446"/>
            <p:cNvSpPr/>
            <p:nvPr/>
          </p:nvSpPr>
          <p:spPr>
            <a:xfrm>
              <a:off x="2340000" y="3573360"/>
              <a:ext cx="3240" cy="820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" h="517">
                  <a:moveTo>
                    <a:pt x="0" y="517"/>
                  </a:move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47"/>
            <p:cNvSpPr/>
            <p:nvPr/>
          </p:nvSpPr>
          <p:spPr>
            <a:xfrm>
              <a:off x="2559240" y="3573360"/>
              <a:ext cx="21960" cy="151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14" h="957">
                  <a:moveTo>
                    <a:pt x="14" y="95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48"/>
            <p:cNvSpPr/>
            <p:nvPr/>
          </p:nvSpPr>
          <p:spPr>
            <a:xfrm>
              <a:off x="3421080" y="3645000"/>
              <a:ext cx="11160" cy="977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" h="616">
                  <a:moveTo>
                    <a:pt x="7" y="6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49"/>
            <p:cNvSpPr/>
            <p:nvPr/>
          </p:nvSpPr>
          <p:spPr>
            <a:xfrm>
              <a:off x="3135240" y="3573360"/>
              <a:ext cx="17640" cy="1760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11" h="1109">
                  <a:moveTo>
                    <a:pt x="11" y="110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50"/>
            <p:cNvSpPr/>
            <p:nvPr/>
          </p:nvSpPr>
          <p:spPr>
            <a:xfrm>
              <a:off x="2846520" y="3573360"/>
              <a:ext cx="14400" cy="1951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9" h="1229">
                  <a:moveTo>
                    <a:pt x="9" y="122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443"/>
          <p:cNvSpPr/>
          <p:nvPr/>
        </p:nvSpPr>
        <p:spPr>
          <a:xfrm>
            <a:off x="2124000" y="3573360"/>
            <a:ext cx="1511280" cy="19494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952" h="1228">
                <a:moveTo>
                  <a:pt x="0" y="0"/>
                </a:moveTo>
                <a:cubicBezTo>
                  <a:pt x="24" y="93"/>
                  <a:pt x="84" y="371"/>
                  <a:pt x="142" y="557"/>
                </a:cubicBezTo>
                <a:cubicBezTo>
                  <a:pt x="200" y="743"/>
                  <a:pt x="287" y="1006"/>
                  <a:pt x="346" y="1117"/>
                </a:cubicBezTo>
                <a:cubicBezTo>
                  <a:pt x="405" y="1228"/>
                  <a:pt x="448" y="1225"/>
                  <a:pt x="499" y="1224"/>
                </a:cubicBezTo>
                <a:cubicBezTo>
                  <a:pt x="550" y="1223"/>
                  <a:pt x="602" y="1198"/>
                  <a:pt x="654" y="1109"/>
                </a:cubicBezTo>
                <a:cubicBezTo>
                  <a:pt x="706" y="1020"/>
                  <a:pt x="760" y="874"/>
                  <a:pt x="810" y="689"/>
                </a:cubicBezTo>
                <a:cubicBezTo>
                  <a:pt x="860" y="504"/>
                  <a:pt x="922" y="144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6"/>
          <a:stretch/>
        </p:blipFill>
        <p:spPr>
          <a:xfrm>
            <a:off x="6804000" y="4527720"/>
            <a:ext cx="1368360" cy="607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455"/>
          <p:cNvGrpSpPr/>
          <p:nvPr/>
        </p:nvGrpSpPr>
        <p:grpSpPr>
          <a:xfrm>
            <a:off x="6305760" y="4869000"/>
            <a:ext cx="2109240" cy="1191240"/>
            <a:chOff x="6305760" y="4869000"/>
            <a:chExt cx="2109240" cy="1191240"/>
          </a:xfrm>
        </p:grpSpPr>
        <p:sp>
          <p:nvSpPr>
            <p:cNvPr id="298" name="Text Box 2456"/>
            <p:cNvSpPr/>
            <p:nvPr/>
          </p:nvSpPr>
          <p:spPr>
            <a:xfrm>
              <a:off x="6305760" y="486900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Object 7" descr=""/>
            <p:cNvPicPr/>
            <p:nvPr/>
          </p:nvPicPr>
          <p:blipFill>
            <a:blip r:embed="rId7"/>
            <a:stretch/>
          </p:blipFill>
          <p:spPr>
            <a:xfrm>
              <a:off x="7795800" y="5587920"/>
              <a:ext cx="307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Object 6" descr=""/>
          <p:cNvPicPr/>
          <p:nvPr/>
        </p:nvPicPr>
        <p:blipFill>
          <a:blip r:embed="rId8"/>
          <a:stretch/>
        </p:blipFill>
        <p:spPr>
          <a:xfrm>
            <a:off x="6804000" y="6093000"/>
            <a:ext cx="13683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302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5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8" name="Freeform 2420"/>
            <p:cNvSpPr/>
            <p:nvPr/>
          </p:nvSpPr>
          <p:spPr>
            <a:xfrm>
              <a:off x="2124000" y="3568680"/>
              <a:ext cx="1482840" cy="46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34" h="3">
                  <a:moveTo>
                    <a:pt x="0" y="3"/>
                  </a:moveTo>
                  <a:lnTo>
                    <a:pt x="934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12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467"/>
          <p:cNvSpPr/>
          <p:nvPr/>
        </p:nvSpPr>
        <p:spPr>
          <a:xfrm>
            <a:off x="7018200" y="1773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68"/>
          <p:cNvSpPr/>
          <p:nvPr/>
        </p:nvSpPr>
        <p:spPr>
          <a:xfrm>
            <a:off x="7018200" y="486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2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ункция принимает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                   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r>
              <a:rPr b="0" lang="en-US" sz="21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ложительные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отрицательные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разных</a:t>
            </a:r>
            <a:br>
              <a:rPr sz="2100"/>
            </a:br>
            <a:r>
              <a:rPr b="1" i="1" lang="ru-RU" sz="1800" spc="-1" strike="noStrike">
                <a:solidFill>
                  <a:srgbClr val="e67c7f"/>
                </a:solidFill>
                <a:latin typeface="Calibri"/>
              </a:rPr>
              <a:t>1 вариант                                      </a:t>
            </a:r>
            <a:r>
              <a:rPr b="1" i="1" lang="en-US" sz="1800" spc="-1" strike="noStrike">
                <a:solidFill>
                  <a:srgbClr val="e67c7f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ков</a:t>
            </a:r>
            <a:br>
              <a:rPr sz="13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у=1,2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-1,3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. у=3,4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2,8_x0016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=-1,3 -2,6 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у=0,1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5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у=-0,3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4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у=-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+5</a:t>
            </a:r>
            <a:br>
              <a:rPr sz="2100"/>
            </a:br>
            <a:r>
              <a:rPr b="1" i="1" lang="ru-RU" sz="2100" spc="-1" strike="noStrike">
                <a:solidFill>
                  <a:srgbClr val="e67c7f"/>
                </a:solidFill>
                <a:latin typeface="Calibri"/>
              </a:rPr>
              <a:t>2 вариант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1. у=-0,6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3,4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2. у=2,3 – 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3. у=6,2-0,9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4. у=2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6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5. у=8+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6. у=-2-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6804000" y="2700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5148360" y="270828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635280" y="4941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3635280" y="530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3635280" y="566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3635280" y="386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635280" y="422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3635280" y="4581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680400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5148360" y="306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7"/>
          <p:cNvSpPr/>
          <p:nvPr/>
        </p:nvSpPr>
        <p:spPr>
          <a:xfrm>
            <a:off x="680400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8"/>
          <p:cNvSpPr/>
          <p:nvPr/>
        </p:nvSpPr>
        <p:spPr>
          <a:xfrm>
            <a:off x="363528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1"/>
          <p:cNvSpPr/>
          <p:nvPr/>
        </p:nvSpPr>
        <p:spPr>
          <a:xfrm>
            <a:off x="5148360" y="198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6804000" y="198612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4"/>
          <p:cNvSpPr/>
          <p:nvPr/>
        </p:nvSpPr>
        <p:spPr>
          <a:xfrm>
            <a:off x="5148360" y="2349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5"/>
          <p:cNvSpPr/>
          <p:nvPr/>
        </p:nvSpPr>
        <p:spPr>
          <a:xfrm>
            <a:off x="6804000" y="23432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363528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7"/>
          <p:cNvSpPr/>
          <p:nvPr/>
        </p:nvSpPr>
        <p:spPr>
          <a:xfrm>
            <a:off x="5148360" y="162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>
            <a:hlinkClick r:id="" action="ppaction://hlinkshowjump?jump=nextslide"/>
          </p:cNvPr>
          <p:cNvSpPr/>
          <p:nvPr/>
        </p:nvSpPr>
        <p:spPr>
          <a:xfrm>
            <a:off x="680400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9"/>
          <p:cNvSpPr/>
          <p:nvPr/>
        </p:nvSpPr>
        <p:spPr>
          <a:xfrm>
            <a:off x="3635280" y="198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3635280" y="2349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1"/>
          <p:cNvSpPr/>
          <p:nvPr/>
        </p:nvSpPr>
        <p:spPr>
          <a:xfrm>
            <a:off x="3635280" y="270828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2"/>
          <p:cNvSpPr/>
          <p:nvPr/>
        </p:nvSpPr>
        <p:spPr>
          <a:xfrm>
            <a:off x="363528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148360" y="342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6"/>
          <p:cNvSpPr/>
          <p:nvPr/>
        </p:nvSpPr>
        <p:spPr>
          <a:xfrm>
            <a:off x="5148360" y="5013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7"/>
          <p:cNvSpPr/>
          <p:nvPr/>
        </p:nvSpPr>
        <p:spPr>
          <a:xfrm>
            <a:off x="5148360" y="537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8"/>
          <p:cNvSpPr/>
          <p:nvPr/>
        </p:nvSpPr>
        <p:spPr>
          <a:xfrm>
            <a:off x="5148360" y="5732640"/>
            <a:ext cx="42840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9"/>
          <p:cNvSpPr/>
          <p:nvPr/>
        </p:nvSpPr>
        <p:spPr>
          <a:xfrm>
            <a:off x="5148360" y="393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50"/>
          <p:cNvSpPr/>
          <p:nvPr/>
        </p:nvSpPr>
        <p:spPr>
          <a:xfrm>
            <a:off x="5148360" y="4292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5148360" y="4653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2"/>
          <p:cNvSpPr/>
          <p:nvPr/>
        </p:nvSpPr>
        <p:spPr>
          <a:xfrm>
            <a:off x="6804000" y="5013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3"/>
          <p:cNvSpPr/>
          <p:nvPr/>
        </p:nvSpPr>
        <p:spPr>
          <a:xfrm>
            <a:off x="6804000" y="537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4"/>
          <p:cNvSpPr/>
          <p:nvPr/>
        </p:nvSpPr>
        <p:spPr>
          <a:xfrm>
            <a:off x="6804000" y="573264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5"/>
          <p:cNvSpPr/>
          <p:nvPr/>
        </p:nvSpPr>
        <p:spPr>
          <a:xfrm>
            <a:off x="6804000" y="393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804000" y="4292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7"/>
          <p:cNvSpPr/>
          <p:nvPr/>
        </p:nvSpPr>
        <p:spPr>
          <a:xfrm>
            <a:off x="6804000" y="4653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множение 44"/>
          <p:cNvSpPr/>
          <p:nvPr/>
        </p:nvSpPr>
        <p:spPr>
          <a:xfrm>
            <a:off x="6732720" y="1557360"/>
            <a:ext cx="576000" cy="431640"/>
          </a:xfrm>
          <a:custGeom>
            <a:avLst/>
            <a:gdLst/>
            <a:ahLst/>
            <a:rect l="l" t="t" r="r" b="b"/>
            <a:pathLst>
              <a:path w="576262" h="431800">
                <a:moveTo>
                  <a:pt x="107954" y="144345"/>
                </a:moveTo>
                <a:lnTo>
                  <a:pt x="168854" y="63070"/>
                </a:lnTo>
                <a:lnTo>
                  <a:pt x="288131" y="152446"/>
                </a:lnTo>
                <a:lnTo>
                  <a:pt x="407408" y="63070"/>
                </a:lnTo>
                <a:lnTo>
                  <a:pt x="468308" y="144345"/>
                </a:lnTo>
                <a:lnTo>
                  <a:pt x="372814" y="215900"/>
                </a:lnTo>
                <a:lnTo>
                  <a:pt x="468308" y="287455"/>
                </a:lnTo>
                <a:lnTo>
                  <a:pt x="407408" y="368730"/>
                </a:lnTo>
                <a:lnTo>
                  <a:pt x="288131" y="279354"/>
                </a:lnTo>
                <a:lnTo>
                  <a:pt x="168854" y="368730"/>
                </a:lnTo>
                <a:lnTo>
                  <a:pt x="107954" y="287455"/>
                </a:lnTo>
                <a:lnTo>
                  <a:pt x="203448" y="215900"/>
                </a:lnTo>
                <a:lnTo>
                  <a:pt x="107954" y="144345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множение 45"/>
          <p:cNvSpPr/>
          <p:nvPr/>
        </p:nvSpPr>
        <p:spPr>
          <a:xfrm>
            <a:off x="3564000" y="184464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множение 58"/>
          <p:cNvSpPr/>
          <p:nvPr/>
        </p:nvSpPr>
        <p:spPr>
          <a:xfrm>
            <a:off x="5076720" y="220500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множение 59"/>
          <p:cNvSpPr/>
          <p:nvPr/>
        </p:nvSpPr>
        <p:spPr>
          <a:xfrm>
            <a:off x="3564000" y="256536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множение 62"/>
          <p:cNvSpPr/>
          <p:nvPr/>
        </p:nvSpPr>
        <p:spPr>
          <a:xfrm>
            <a:off x="5003640" y="292428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множение 63"/>
          <p:cNvSpPr/>
          <p:nvPr/>
        </p:nvSpPr>
        <p:spPr>
          <a:xfrm>
            <a:off x="6659640" y="3284640"/>
            <a:ext cx="642960" cy="57132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множение 64"/>
          <p:cNvSpPr/>
          <p:nvPr/>
        </p:nvSpPr>
        <p:spPr>
          <a:xfrm>
            <a:off x="5003640" y="378936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множение 65"/>
          <p:cNvSpPr/>
          <p:nvPr/>
        </p:nvSpPr>
        <p:spPr>
          <a:xfrm>
            <a:off x="6659640" y="4149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множение 66"/>
          <p:cNvSpPr/>
          <p:nvPr/>
        </p:nvSpPr>
        <p:spPr>
          <a:xfrm>
            <a:off x="6659640" y="4581360"/>
            <a:ext cx="642960" cy="471600"/>
          </a:xfrm>
          <a:custGeom>
            <a:avLst/>
            <a:gdLst/>
            <a:ahLst/>
            <a:rect l="l" t="t" r="r" b="b"/>
            <a:pathLst>
              <a:path w="642937" h="471488">
                <a:moveTo>
                  <a:pt x="121628" y="157952"/>
                </a:moveTo>
                <a:lnTo>
                  <a:pt x="187207" y="68527"/>
                </a:lnTo>
                <a:lnTo>
                  <a:pt x="321469" y="166986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6"/>
                </a:lnTo>
                <a:lnTo>
                  <a:pt x="455730" y="402961"/>
                </a:lnTo>
                <a:lnTo>
                  <a:pt x="321469" y="304502"/>
                </a:lnTo>
                <a:lnTo>
                  <a:pt x="187207" y="402961"/>
                </a:lnTo>
                <a:lnTo>
                  <a:pt x="121628" y="313536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множение 67"/>
          <p:cNvSpPr/>
          <p:nvPr/>
        </p:nvSpPr>
        <p:spPr>
          <a:xfrm>
            <a:off x="6659640" y="4869000"/>
            <a:ext cx="642960" cy="471240"/>
          </a:xfrm>
          <a:custGeom>
            <a:avLst/>
            <a:gdLst/>
            <a:ahLst/>
            <a:rect l="l" t="t" r="r" b="b"/>
            <a:pathLst>
              <a:path w="642937" h="471487">
                <a:moveTo>
                  <a:pt x="121628" y="157952"/>
                </a:moveTo>
                <a:lnTo>
                  <a:pt x="187207" y="68527"/>
                </a:lnTo>
                <a:lnTo>
                  <a:pt x="321469" y="166985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5"/>
                </a:lnTo>
                <a:lnTo>
                  <a:pt x="455730" y="402960"/>
                </a:lnTo>
                <a:lnTo>
                  <a:pt x="321469" y="304502"/>
                </a:lnTo>
                <a:lnTo>
                  <a:pt x="187207" y="402960"/>
                </a:lnTo>
                <a:lnTo>
                  <a:pt x="121628" y="313535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множение 68"/>
          <p:cNvSpPr/>
          <p:nvPr/>
        </p:nvSpPr>
        <p:spPr>
          <a:xfrm>
            <a:off x="3564000" y="5157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множение 69"/>
          <p:cNvSpPr/>
          <p:nvPr/>
        </p:nvSpPr>
        <p:spPr>
          <a:xfrm>
            <a:off x="5076720" y="558972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8626320" cy="2530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presentation"/>
          <p:cNvPicPr/>
          <p:nvPr/>
        </p:nvPicPr>
        <p:blipFill>
          <a:blip r:embed="rId2"/>
          <a:stretch/>
        </p:blipFill>
        <p:spPr>
          <a:xfrm>
            <a:off x="2268360" y="3500280"/>
            <a:ext cx="47865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73" descr=""/>
          <p:cNvPicPr/>
          <p:nvPr/>
        </p:nvPicPr>
        <p:blipFill>
          <a:blip r:embed="rId1"/>
          <a:stretch/>
        </p:blipFill>
        <p:spPr>
          <a:xfrm>
            <a:off x="3797280" y="3260880"/>
            <a:ext cx="5005440" cy="51019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69" name="Freeform 3"/>
            <p:cNvSpPr/>
            <p:nvPr/>
          </p:nvSpPr>
          <p:spPr>
            <a:xfrm>
              <a:off x="3848040" y="74916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3924360" y="270828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867120" y="550548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3851280" y="522612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3854520" y="466740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3848040" y="438768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841920" y="410220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841920" y="382284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3828960" y="354348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3924360" y="299088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3854520" y="243216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3835440" y="215280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3841920" y="187308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835440" y="160020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3848040" y="132084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860640" y="104148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73600" y="74916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835440" y="578484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8775720" y="77472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8464680" y="76212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8153280" y="76212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7848720" y="76212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7537320" y="75564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7213680" y="74916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6921360" y="77472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6616800" y="77472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5994360" y="73656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568944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5384880" y="76824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5067360" y="76212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768920" y="76212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446400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4152960" y="76212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0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AutoShape 51" descr=""/>
          <p:cNvPicPr/>
          <p:nvPr/>
        </p:nvPicPr>
        <p:blipFill>
          <a:blip r:embed="rId2"/>
          <a:stretch/>
        </p:blipFill>
        <p:spPr>
          <a:xfrm>
            <a:off x="517680" y="2743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55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56" descr=""/>
          <p:cNvPicPr/>
          <p:nvPr/>
        </p:nvPicPr>
        <p:blipFill>
          <a:blip r:embed="rId4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57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58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18" name="AutoShape 58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59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21" name="AutoShape 59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ext Box 64" descr=""/>
          <p:cNvPicPr/>
          <p:nvPr/>
        </p:nvPicPr>
        <p:blipFill>
          <a:blip r:embed="rId8"/>
          <a:stretch/>
        </p:blipFill>
        <p:spPr>
          <a:xfrm>
            <a:off x="646200" y="-122400"/>
            <a:ext cx="6029280" cy="1244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5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30" name="Freeform 53"/>
            <p:cNvSpPr/>
            <p:nvPr/>
          </p:nvSpPr>
          <p:spPr>
            <a:xfrm>
              <a:off x="5107320" y="3263760"/>
              <a:ext cx="1195200" cy="2556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92" h="16">
                  <a:moveTo>
                    <a:pt x="0" y="16"/>
                  </a:moveTo>
                  <a:lnTo>
                    <a:pt x="7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3" descr=""/>
          <p:cNvPicPr/>
          <p:nvPr/>
        </p:nvPicPr>
        <p:blipFill>
          <a:blip r:embed="rId9"/>
          <a:stretch/>
        </p:blipFill>
        <p:spPr>
          <a:xfrm>
            <a:off x="1042920" y="361620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10"/>
          <a:stretch/>
        </p:blipFill>
        <p:spPr>
          <a:xfrm>
            <a:off x="1058760" y="4452840"/>
            <a:ext cx="315288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3851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Человек родился быть господином, повелителем, царём природы, но мудрость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с которой он должен править, не дана ему от рождения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на приобретается учением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Н.И. Лобачевск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76" descr=""/>
          <p:cNvPicPr/>
          <p:nvPr/>
        </p:nvPicPr>
        <p:blipFill>
          <a:blip r:embed="rId1"/>
          <a:stretch/>
        </p:blipFill>
        <p:spPr>
          <a:xfrm>
            <a:off x="3790800" y="738360"/>
            <a:ext cx="5091120" cy="51019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37" name="Freeform 3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2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3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AutoShape 48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83" name="AutoShape 49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AutoShape 50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pic>
        <p:nvPicPr>
          <p:cNvPr id="485" name="AutoShape 51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86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87" name="AutoShape 52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90" name="AutoShape 53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7430"/>
              <a:gd name="adj2" fmla="val 227972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ext Box 57" descr=""/>
          <p:cNvPicPr/>
          <p:nvPr/>
        </p:nvPicPr>
        <p:blipFill>
          <a:blip r:embed="rId8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8"/>
          <p:cNvSpPr/>
          <p:nvPr/>
        </p:nvSpPr>
        <p:spPr>
          <a:xfrm>
            <a:off x="26460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2808360" cy="53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4" descr=""/>
          <p:cNvPicPr/>
          <p:nvPr/>
        </p:nvPicPr>
        <p:blipFill>
          <a:blip r:embed="rId10"/>
          <a:stretch/>
        </p:blipFill>
        <p:spPr>
          <a:xfrm>
            <a:off x="1042920" y="3645000"/>
            <a:ext cx="3152880" cy="56988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6" descr=""/>
          <p:cNvPicPr/>
          <p:nvPr/>
        </p:nvPicPr>
        <p:blipFill>
          <a:blip r:embed="rId11"/>
          <a:stretch/>
        </p:blipFill>
        <p:spPr>
          <a:xfrm>
            <a:off x="1235160" y="1268280"/>
            <a:ext cx="360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02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05" name="Freeform 73"/>
            <p:cNvSpPr/>
            <p:nvPr/>
          </p:nvSpPr>
          <p:spPr>
            <a:xfrm>
              <a:off x="3886200" y="3284640"/>
              <a:ext cx="1192320" cy="1728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51" h="11">
                  <a:moveTo>
                    <a:pt x="751" y="0"/>
                  </a:move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3" descr=""/>
          <p:cNvPicPr/>
          <p:nvPr/>
        </p:nvPicPr>
        <p:blipFill>
          <a:blip r:embed="rId1"/>
          <a:stretch/>
        </p:blipFill>
        <p:spPr>
          <a:xfrm>
            <a:off x="3797280" y="743040"/>
            <a:ext cx="5078520" cy="51037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09" name="Freeform 5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 flipV="1">
            <a:off x="5867280" y="3835440"/>
            <a:ext cx="2070360" cy="3022560"/>
          </a:xfrm>
          <a:custGeom>
            <a:avLst/>
            <a:gdLst>
              <a:gd name="textAreaLeft" fmla="*/ 0 w 2070360"/>
              <a:gd name="textAreaRight" fmla="*/ 2070720 w 207036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7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8"/>
          <p:cNvSpPr/>
          <p:nvPr/>
        </p:nvSpPr>
        <p:spPr>
          <a:xfrm>
            <a:off x="1190880" y="1989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AutoShape 49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50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51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555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556" name="AutoShape 52" descr=""/>
            <p:cNvPicPr/>
            <p:nvPr/>
          </p:nvPicPr>
          <p:blipFill>
            <a:blip r:embed="rId5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559" name="AutoShape 53" descr=""/>
            <p:cNvPicPr/>
            <p:nvPr/>
          </p:nvPicPr>
          <p:blipFill>
            <a:blip r:embed="rId6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 Box 57" descr=""/>
          <p:cNvPicPr/>
          <p:nvPr/>
        </p:nvPicPr>
        <p:blipFill>
          <a:blip r:embed="rId7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8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3" descr=""/>
          <p:cNvPicPr/>
          <p:nvPr/>
        </p:nvPicPr>
        <p:blipFill>
          <a:blip r:embed="rId8"/>
          <a:stretch/>
        </p:blipFill>
        <p:spPr>
          <a:xfrm>
            <a:off x="1071720" y="4429080"/>
            <a:ext cx="1922400" cy="69840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5" descr=""/>
          <p:cNvPicPr/>
          <p:nvPr/>
        </p:nvPicPr>
        <p:blipFill>
          <a:blip r:embed="rId9"/>
          <a:stretch/>
        </p:blipFill>
        <p:spPr>
          <a:xfrm>
            <a:off x="1763640" y="12682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6" descr=""/>
          <p:cNvPicPr/>
          <p:nvPr/>
        </p:nvPicPr>
        <p:blipFill>
          <a:blip r:embed="rId10"/>
          <a:stretch/>
        </p:blipFill>
        <p:spPr>
          <a:xfrm>
            <a:off x="1504800" y="3645000"/>
            <a:ext cx="517680" cy="555480"/>
          </a:xfrm>
          <a:prstGeom prst="rect">
            <a:avLst/>
          </a:prstGeom>
          <a:ln w="0">
            <a:noFill/>
          </a:ln>
        </p:spPr>
      </p:pic>
      <p:pic>
        <p:nvPicPr>
          <p:cNvPr id="569" name="AutoShape 64" descr=""/>
          <p:cNvPicPr/>
          <p:nvPr/>
        </p:nvPicPr>
        <p:blipFill>
          <a:blip r:embed="rId11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7" descr=""/>
          <p:cNvPicPr/>
          <p:nvPr/>
        </p:nvPicPr>
        <p:blipFill>
          <a:blip r:embed="rId12"/>
          <a:stretch/>
        </p:blipFill>
        <p:spPr>
          <a:xfrm>
            <a:off x="971640" y="2852640"/>
            <a:ext cx="3024000" cy="53496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54903">
                  <a:alpha val="82352"/>
                </a:srgbClr>
              </a:gs>
              <a:gs pos="100000">
                <a:srgbClr val="b83703">
                  <a:alpha val="82352"/>
                </a:srgbClr>
              </a:gs>
            </a:gsLst>
            <a:lin ang="5400000"/>
          </a:gradFill>
          <a:ln w="12600">
            <a:solidFill>
              <a:srgbClr val="dc551e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75" name="Freeform 4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"/>
          <p:cNvSpPr/>
          <p:nvPr/>
        </p:nvSpPr>
        <p:spPr>
          <a:xfrm flipV="1">
            <a:off x="6156360" y="328464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1198440" y="19890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49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AutoShape 50" descr=""/>
          <p:cNvPicPr/>
          <p:nvPr/>
        </p:nvPicPr>
        <p:blipFill>
          <a:blip r:embed="rId2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620" name="AutoShape 51" descr=""/>
          <p:cNvPicPr/>
          <p:nvPr/>
        </p:nvPicPr>
        <p:blipFill>
          <a:blip r:embed="rId3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21" name="AutoShape 53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622" name="AutoShape 53" descr=""/>
            <p:cNvPicPr/>
            <p:nvPr/>
          </p:nvPicPr>
          <p:blipFill>
            <a:blip r:embed="rId4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AutoShape 54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625" name="AutoShape 54" descr=""/>
            <p:cNvPicPr/>
            <p:nvPr/>
          </p:nvPicPr>
          <p:blipFill>
            <a:blip r:embed="rId5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6"/>
          <p:cNvSpPr/>
          <p:nvPr/>
        </p:nvSpPr>
        <p:spPr>
          <a:xfrm>
            <a:off x="3276720" y="2781360"/>
            <a:ext cx="1944720" cy="720720"/>
          </a:xfrm>
          <a:prstGeom prst="wedgeEllipseCallout">
            <a:avLst>
              <a:gd name="adj1" fmla="val -102976"/>
              <a:gd name="adj2" fmla="val 11255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 Box 58" descr=""/>
          <p:cNvPicPr/>
          <p:nvPr/>
        </p:nvPicPr>
        <p:blipFill>
          <a:blip r:embed="rId6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9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3" descr=""/>
          <p:cNvPicPr/>
          <p:nvPr/>
        </p:nvPicPr>
        <p:blipFill>
          <a:blip r:embed="rId7"/>
          <a:stretch/>
        </p:blipFill>
        <p:spPr>
          <a:xfrm>
            <a:off x="1000080" y="4429080"/>
            <a:ext cx="3427560" cy="69840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" descr=""/>
          <p:cNvPicPr/>
          <p:nvPr/>
        </p:nvPicPr>
        <p:blipFill>
          <a:blip r:embed="rId8"/>
          <a:stretch/>
        </p:blipFill>
        <p:spPr>
          <a:xfrm>
            <a:off x="1227240" y="3645000"/>
            <a:ext cx="1073160" cy="555480"/>
          </a:xfrm>
          <a:prstGeom prst="rect">
            <a:avLst/>
          </a:prstGeom>
          <a:ln w="0">
            <a:noFill/>
          </a:ln>
        </p:spPr>
      </p:pic>
      <p:pic>
        <p:nvPicPr>
          <p:cNvPr id="634" name="AutoShape 74" descr=""/>
          <p:cNvPicPr/>
          <p:nvPr/>
        </p:nvPicPr>
        <p:blipFill>
          <a:blip r:embed="rId9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5"/>
          <p:cNvSpPr/>
          <p:nvPr/>
        </p:nvSpPr>
        <p:spPr>
          <a:xfrm>
            <a:off x="4140360" y="508464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Object 5" descr=""/>
          <p:cNvPicPr/>
          <p:nvPr/>
        </p:nvPicPr>
        <p:blipFill>
          <a:blip r:embed="rId10"/>
          <a:stretch/>
        </p:blipFill>
        <p:spPr>
          <a:xfrm>
            <a:off x="1187280" y="2852640"/>
            <a:ext cx="1224000" cy="58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Заголовок 1" descr=""/>
          <p:cNvPicPr/>
          <p:nvPr/>
        </p:nvPicPr>
        <p:blipFill>
          <a:blip r:embed="rId1"/>
          <a:stretch/>
        </p:blipFill>
        <p:spPr>
          <a:xfrm>
            <a:off x="762120" y="4133880"/>
            <a:ext cx="8070840" cy="2236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AG00040_"/>
          <p:cNvPicPr/>
          <p:nvPr/>
        </p:nvPicPr>
        <p:blipFill>
          <a:blip r:embed="rId2"/>
          <a:srcRect l="-46619" t="0" r="-46619" b="0"/>
          <a:stretch/>
        </p:blipFill>
        <p:spPr>
          <a:xfrm>
            <a:off x="971640" y="1052640"/>
            <a:ext cx="64562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576000" cy="480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еравенства вида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g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≥0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l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≤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где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х – переменная,</a:t>
            </a: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– некоторые числа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причём   а ≠ 0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зывают 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квадратными неравенствами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67c7f"/>
                </a:solidFill>
                <a:latin typeface="Calibri"/>
              </a:rPr>
              <a:t>Решение квадратных неравенст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bx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 с 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)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8000" y="1557000"/>
            <a:ext cx="555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Вводим соответствующую функц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пределяем направление ветв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болы 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(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верх;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низ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Находим нули функции, т.е. реша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=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357120"/>
            <a:ext cx="8572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имеет корни, то отмеча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на координатной прямой 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тически рисуем параболу в соответств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направлением ветв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не имеет корней, то схематически рисуем параболу в соответствии с направлени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в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ходим решение неравенства с уче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а знака неравен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1   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628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611280" y="2205000"/>
            <a:ext cx="76197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у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 = 1 и х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тметим числа 1 и -3 на координ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й и построим эскиз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отрезок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Дуга 7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933120" y="1714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3074760" y="17146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2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  <a:lnTo>
                  <a:pt x="886619" y="1214438"/>
                </a:lnTo>
                <a:lnTo>
                  <a:pt x="83929" y="698675"/>
                </a:lnTo>
                <a:close/>
              </a:path>
              <a:path fill="none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4"/>
          <p:cNvSpPr/>
          <p:nvPr/>
        </p:nvSpPr>
        <p:spPr>
          <a:xfrm>
            <a:off x="1428840" y="1714680"/>
            <a:ext cx="164304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7"/>
          <p:cNvSpPr/>
          <p:nvPr/>
        </p:nvSpPr>
        <p:spPr>
          <a:xfrm>
            <a:off x="300024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2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61880" y="2276640"/>
            <a:ext cx="762012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ветви направлены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0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касается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, кроме х =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-0,5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-0,5;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Дуга 7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1935720" y="171468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2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6"/>
          <p:cNvSpPr/>
          <p:nvPr/>
        </p:nvSpPr>
        <p:spPr>
          <a:xfrm>
            <a:off x="2143080" y="164304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12:34:24Z</dcterms:created>
  <dc:creator>User</dc:creator>
  <dc:description/>
  <dc:language>en-US</dc:language>
  <cp:lastModifiedBy>Гошкадор Наталья</cp:lastModifiedBy>
  <dcterms:modified xsi:type="dcterms:W3CDTF">2013-02-05T13:04:5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3000000000001024140</vt:lpwstr>
  </property>
</Properties>
</file>