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8A55-62E0-4962-8F8C-B91BAE04152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1344-3C17-46FC-9E36-6FFFFC6918B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EB5F-116F-4FFD-BC3A-C9C4E5FC6E2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31B-0EE6-4B2E-8E03-C08B5984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C1C-1207-4AB6-A584-F23838C3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D74-7C5F-4CDA-A852-99496C38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015-9717-461E-B406-67C71870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80E-D3F7-4B68-9DEF-68752C7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BF1-7B46-4BA3-8A1E-F32DA37B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CDF-986E-443F-9F77-63F43D5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E7C-7DE1-4FCA-A7CC-BAC01E7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157-9880-454C-B8EA-E10CDD4F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8FD-74E9-444E-9271-7CD75DB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750-5AF7-4BBA-9C55-9BFC59F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711-1D12-4B8B-BB93-87564DD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3AC-A246-4ED7-9150-AC95E14C2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доровьесберегающий  у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ок по математик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ла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сс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Все действия с обыкновенными дроб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bde"/>
                </a:solidFill>
                <a:latin typeface="Calibri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Краснова 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Учитель математики ДонецкогоУВК№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838160" y="378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«Единственная красота, которую я знаю,это здоровь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      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Генрих   Гей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аинственный ост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Код  к шиф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Таблица 5" descr=""/>
          <p:cNvPicPr/>
          <p:nvPr/>
        </p:nvPicPr>
        <p:blipFill>
          <a:blip r:embed="rId2"/>
          <a:stretch/>
        </p:blipFill>
        <p:spPr>
          <a:xfrm>
            <a:off x="1328760" y="2462040"/>
            <a:ext cx="713268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Таинственныйостров.</a:t>
            </a:r>
            <a:br>
              <a:rPr sz="4000"/>
            </a:b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Расшифровка прав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7560" y="3068640"/>
          <a:ext cx="8056800" cy="647640"/>
        </p:xfrm>
        <a:graphic>
          <a:graphicData uri="http://schemas.openxmlformats.org/drawingml/2006/table">
            <a:tbl>
              <a:tblPr/>
              <a:tblGrid>
                <a:gridCol w="481320"/>
                <a:gridCol w="480960"/>
                <a:gridCol w="480960"/>
                <a:gridCol w="480960"/>
                <a:gridCol w="515880"/>
                <a:gridCol w="504720"/>
                <a:gridCol w="503280"/>
                <a:gridCol w="505080"/>
                <a:gridCol w="502920"/>
                <a:gridCol w="505080"/>
                <a:gridCol w="503280"/>
                <a:gridCol w="504720"/>
                <a:gridCol w="576360"/>
                <a:gridCol w="503280"/>
                <a:gridCol w="504720"/>
                <a:gridCol w="50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</a:tr>
            </a:tbl>
          </a:graphicData>
        </a:graphic>
      </p:graphicFrame>
      <p:grpSp>
        <p:nvGrpSpPr>
          <p:cNvPr id="134" name="Группа 19"/>
          <p:cNvGrpSpPr/>
          <p:nvPr/>
        </p:nvGrpSpPr>
        <p:grpSpPr>
          <a:xfrm>
            <a:off x="506520" y="3716280"/>
            <a:ext cx="8113680" cy="792360"/>
            <a:chOff x="506520" y="3716280"/>
            <a:chExt cx="8113680" cy="79236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50652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оугольник 4"/>
            <p:cNvSpPr/>
            <p:nvPr/>
          </p:nvSpPr>
          <p:spPr>
            <a:xfrm>
              <a:off x="10245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оугольник 5"/>
            <p:cNvSpPr/>
            <p:nvPr/>
          </p:nvSpPr>
          <p:spPr>
            <a:xfrm>
              <a:off x="1542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оугольник 6"/>
            <p:cNvSpPr/>
            <p:nvPr/>
          </p:nvSpPr>
          <p:spPr>
            <a:xfrm>
              <a:off x="20606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оугольник 7"/>
            <p:cNvSpPr/>
            <p:nvPr/>
          </p:nvSpPr>
          <p:spPr>
            <a:xfrm>
              <a:off x="2541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оугольник 8"/>
            <p:cNvSpPr/>
            <p:nvPr/>
          </p:nvSpPr>
          <p:spPr>
            <a:xfrm>
              <a:off x="30279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оугольник 9"/>
            <p:cNvSpPr/>
            <p:nvPr/>
          </p:nvSpPr>
          <p:spPr>
            <a:xfrm>
              <a:off x="35460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10"/>
            <p:cNvSpPr/>
            <p:nvPr/>
          </p:nvSpPr>
          <p:spPr>
            <a:xfrm>
              <a:off x="402948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оугольник 11"/>
            <p:cNvSpPr/>
            <p:nvPr/>
          </p:nvSpPr>
          <p:spPr>
            <a:xfrm>
              <a:off x="45504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Прямоугольник 12"/>
            <p:cNvSpPr/>
            <p:nvPr/>
          </p:nvSpPr>
          <p:spPr>
            <a:xfrm>
              <a:off x="50522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Прямоугольник 13"/>
            <p:cNvSpPr/>
            <p:nvPr/>
          </p:nvSpPr>
          <p:spPr>
            <a:xfrm>
              <a:off x="55677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Прямоугольник 14"/>
            <p:cNvSpPr/>
            <p:nvPr/>
          </p:nvSpPr>
          <p:spPr>
            <a:xfrm>
              <a:off x="60858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Прямоугольник 15"/>
            <p:cNvSpPr/>
            <p:nvPr/>
          </p:nvSpPr>
          <p:spPr>
            <a:xfrm>
              <a:off x="6590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рямоугольник 16"/>
            <p:cNvSpPr/>
            <p:nvPr/>
          </p:nvSpPr>
          <p:spPr>
            <a:xfrm>
              <a:off x="7094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Прямоугольник 17"/>
            <p:cNvSpPr/>
            <p:nvPr/>
          </p:nvSpPr>
          <p:spPr>
            <a:xfrm>
              <a:off x="7598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18"/>
            <p:cNvSpPr/>
            <p:nvPr/>
          </p:nvSpPr>
          <p:spPr>
            <a:xfrm>
              <a:off x="8102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MS900069481[1].wav" descr=""/>
          <p:cNvPicPr/>
          <p:nvPr/>
        </p:nvPicPr>
        <p:blipFill>
          <a:blip r:embed="rId2"/>
          <a:stretch/>
        </p:blipFill>
        <p:spPr>
          <a:xfrm>
            <a:off x="776160" y="112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576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1042920" y="2276640"/>
            <a:ext cx="68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точный рацион ребенка вашего возраста составляет около2,5 кг. Из них: хлеб составляет 1/10 от общей массы, масло сливочное- 1/100, фрукты свежие- 1/20, картофель 1/20, Овощи свежие-11/50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чные продукты-11/50, мясные продукты- 7/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ь сколько ( в граммах) каждого продукта должен получать ребенок ежесуточ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d3232"/>
                </a:solidFill>
                <a:latin typeface="Calibri"/>
              </a:rPr>
              <a:t>Прив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из  неправильной дроби  выделить целую ча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смешанное число представит в виде неправильной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Сформулировать основное свойство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Что значит сократить дроб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сократим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перемножить обыкновенные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692360" y="765000"/>
            <a:ext cx="57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умножить дробь на чис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перемножить смешанные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ие числа  называются взаимно обратны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дроб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дробь от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число по дроб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Горы от 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Объект 15" descr=""/>
          <p:cNvPicPr/>
          <p:nvPr/>
        </p:nvPicPr>
        <p:blipFill>
          <a:blip r:embed="rId2"/>
          <a:stretch/>
        </p:blipFill>
        <p:spPr>
          <a:xfrm>
            <a:off x="469800" y="907920"/>
            <a:ext cx="7991640" cy="60231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16064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692360" y="2349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ма выполнить № 477(б, в),525    и составить кроссворд или написать сказку о «стране Обыкновенные дроб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ревня Историческа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Дроби в Древнем Ри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Дроби в Древнем Егип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Вавилонские шестидесятиричные дро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Задача Ахмесса:</a:t>
            </a: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"Разделить 7 хлебов между 8 людьм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6840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5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62626"/>
                </a:solidFill>
                <a:latin typeface="Calibri"/>
              </a:rPr>
              <a:t>Задача Ахмесса:</a:t>
            </a:r>
            <a:r>
              <a:rPr b="1" i="1" lang="ru-RU" sz="2500" spc="-1" strike="noStrike">
                <a:solidFill>
                  <a:srgbClr val="262626"/>
                </a:solidFill>
                <a:latin typeface="Calibri"/>
              </a:rPr>
              <a:t>"Разделить 7 хлебов между 8 людьми"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617840" y="2274840"/>
            <a:ext cx="619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 Египетски задача решалась так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робь 7/8 записывали в виде долей: 1/2 + 1/4 + 1/8. Значит, каждому человеку надо дать полхлеба, четверть хлеба и восьмушку хлеба; поэтому четыре хлеба разрезаем пополам, два хлеба - на 4 части и один хлеб - на 8 долей, после чего каждому даем его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Calibri"/>
              </a:rPr>
              <a:t>Замок Кроссворд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1.Как называется дробь, у которй числитель и знаменатель взаимнопростые чис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2.Результат сл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3.Числитеь больше знамен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4.Результат умн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5. Как называется дроби,произведение которых равно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4419720" y="1407960"/>
            <a:ext cx="420048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606680" y="69228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606680" y="1125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06680" y="1557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606680" y="1989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06680" y="2421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92360" y="2852640"/>
          <a:ext cx="6010200" cy="490680"/>
        </p:xfrm>
        <a:graphic>
          <a:graphicData uri="http://schemas.openxmlformats.org/drawingml/2006/table">
            <a:tbl>
              <a:tblPr/>
              <a:tblGrid>
                <a:gridCol w="21888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06680" y="3573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606680" y="400536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06680" y="4437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39640" y="-171360"/>
            <a:ext cx="822960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606680" y="4869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606680" y="530064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06680" y="5732640"/>
          <a:ext cx="6095880" cy="4921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MS900069280[1].wav" descr=""/>
          <p:cNvPicPr/>
          <p:nvPr/>
        </p:nvPicPr>
        <p:blipFill>
          <a:blip r:embed="rId3"/>
          <a:stretch/>
        </p:blipFill>
        <p:spPr>
          <a:xfrm>
            <a:off x="395280" y="460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16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ция Антиникот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Никотин чрезвычайно сильный яд,к которому можно привыкнуть. Никотин действует  преимущественно на нервную систему,пищеварение, а также на дыхательную  и сердечно-сосудистую систему. Курильщик наносит вред не только себе,но и здоровью окружающих люде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1908000"/>
            <a:ext cx="771228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естод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Box 2" descr=""/>
          <p:cNvPicPr/>
          <p:nvPr/>
        </p:nvPicPr>
        <p:blipFill>
          <a:blip r:embed="rId2"/>
          <a:stretch/>
        </p:blipFill>
        <p:spPr>
          <a:xfrm>
            <a:off x="139680" y="944640"/>
            <a:ext cx="8832960" cy="414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с одним вырезанным углом 3"/>
          <p:cNvSpPr/>
          <p:nvPr/>
        </p:nvSpPr>
        <p:spPr>
          <a:xfrm>
            <a:off x="1155600" y="1352520"/>
            <a:ext cx="914400" cy="30816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830760" y="1324080"/>
            <a:ext cx="914400" cy="3031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6732720" y="1413000"/>
            <a:ext cx="914400" cy="2775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30800" y="12906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482640" y="13208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404400" y="13669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38400" y="174960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.Укажите наименьшую дробь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189080" y="2116080"/>
            <a:ext cx="1174680" cy="317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3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3944880" y="2120760"/>
            <a:ext cx="1203480" cy="343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5/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791400" y="2062080"/>
            <a:ext cx="914400" cy="365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7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730800" y="210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531960" y="20700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6417000" y="20588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55880" y="245412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. Прикаких значениях Х верно равенство дробей  12/10 =24/Х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1189080" y="2870280"/>
            <a:ext cx="914400" cy="299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919680" y="2874960"/>
            <a:ext cx="914400" cy="309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6821640" y="2881440"/>
            <a:ext cx="914400" cy="2664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730800" y="29066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519000" y="284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6403680" y="2833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147600" y="3147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).Найдите значение выражения (1/12+3/12)◦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1189080" y="3656160"/>
            <a:ext cx="914400" cy="272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3902040" y="3608280"/>
            <a:ext cx="914400" cy="2732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6851520" y="3533760"/>
            <a:ext cx="914400" cy="284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730080" y="36320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531960" y="354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422760" y="34941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166680" y="3860640"/>
            <a:ext cx="88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5).Какое число надо поставить вместо Х, чтобы равенство 3/7 ◦2=Х было верн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2"/>
          <p:cNvSpPr/>
          <p:nvPr/>
        </p:nvSpPr>
        <p:spPr>
          <a:xfrm>
            <a:off x="1189080" y="45068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3944880" y="4437000"/>
            <a:ext cx="914400" cy="3589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4"/>
          <p:cNvSpPr/>
          <p:nvPr/>
        </p:nvSpPr>
        <p:spPr>
          <a:xfrm>
            <a:off x="6880320" y="4325760"/>
            <a:ext cx="914400" cy="360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5"/>
          <p:cNvSpPr/>
          <p:nvPr/>
        </p:nvSpPr>
        <p:spPr>
          <a:xfrm>
            <a:off x="730080" y="4473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3501720" y="4338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443280" y="428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189360" y="495468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6).Какое число является корнем уравнения Х+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7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9"/>
          <p:cNvSpPr/>
          <p:nvPr/>
        </p:nvSpPr>
        <p:spPr>
          <a:xfrm>
            <a:off x="1189080" y="551988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0"/>
          <p:cNvSpPr/>
          <p:nvPr/>
        </p:nvSpPr>
        <p:spPr>
          <a:xfrm>
            <a:off x="3946680" y="5473800"/>
            <a:ext cx="914400" cy="369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41"/>
          <p:cNvSpPr/>
          <p:nvPr/>
        </p:nvSpPr>
        <p:spPr>
          <a:xfrm>
            <a:off x="6948360" y="54356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30800" y="54738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3"/>
          <p:cNvSpPr/>
          <p:nvPr/>
        </p:nvSpPr>
        <p:spPr>
          <a:xfrm>
            <a:off x="3605760" y="54864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4"/>
          <p:cNvSpPr/>
          <p:nvPr/>
        </p:nvSpPr>
        <p:spPr>
          <a:xfrm>
            <a:off x="6548040" y="5435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43360" y="579600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7).Найти 2/3 от числа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6"/>
          <p:cNvSpPr/>
          <p:nvPr/>
        </p:nvSpPr>
        <p:spPr>
          <a:xfrm>
            <a:off x="1130400" y="6369120"/>
            <a:ext cx="914400" cy="3207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7"/>
          <p:cNvSpPr/>
          <p:nvPr/>
        </p:nvSpPr>
        <p:spPr>
          <a:xfrm>
            <a:off x="4038480" y="6397560"/>
            <a:ext cx="914400" cy="316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8"/>
          <p:cNvSpPr/>
          <p:nvPr/>
        </p:nvSpPr>
        <p:spPr>
          <a:xfrm>
            <a:off x="6918480" y="6326280"/>
            <a:ext cx="914400" cy="363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30080" y="63453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3607920" y="6370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6474240" y="63691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MS900065437[1].mid" descr=""/>
          <p:cNvPicPr/>
          <p:nvPr/>
        </p:nvPicPr>
        <p:blipFill>
          <a:blip r:embed="rId3"/>
          <a:stretch/>
        </p:blipFill>
        <p:spPr>
          <a:xfrm>
            <a:off x="609480" y="47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7:50:06Z</dcterms:created>
  <dc:creator>Валюшенька</dc:creator>
  <dc:description/>
  <dc:language>en-US</dc:language>
  <cp:lastModifiedBy>Admin</cp:lastModifiedBy>
  <dcterms:modified xsi:type="dcterms:W3CDTF">2012-11-28T10:23:58Z</dcterms:modified>
  <cp:revision>124</cp:revision>
  <dc:subject/>
  <dc:title> Здоровьесберегающий  урок по математике  в 6 классе «Все действия с обыкновенными дробя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39000000000001024140</vt:lpwstr>
  </property>
</Properties>
</file>