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wmf" ContentType="image/x-wmf"/>
  <Override PartName="/ppt/media/image8.wmf" ContentType="image/x-wmf"/>
  <Override PartName="/ppt/media/image16.png" ContentType="image/png"/>
  <Override PartName="/ppt/media/image14.wmf" ContentType="image/x-wmf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A3F-8320-434A-929A-6F11BECC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7C85-24E4-4547-9211-52D90455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4B1F-87DC-4672-9FF8-136599A7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4E7-4740-491B-ABE1-F747D6BD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C08F-7F52-4733-BC67-BA72E5F1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3566-CBD4-431B-84F9-8E247EAB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EEBC-F943-4DEB-8472-EBB7417B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63F5F-491C-4D9A-9164-2A63A6E2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16F0-ACE9-4760-8EF1-344ADF60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19E2-63D9-4CA0-A246-B212F8B7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B018-B0EB-422E-A227-30271CF0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1CC-5C9A-46F3-BBDF-4B7485CB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838F-729B-46A1-A4F1-D950D227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71ED-D88B-4330-9D75-91751397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C595-10DE-4D48-A44D-287F3847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79C3-4F57-4BE8-833E-85C92E70E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8D12-E4AB-449F-8755-0D921E1D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7CCA-DF7B-4DDD-ADA3-270F6353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31B-A10F-4A58-ADD0-6C6AD8AC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904-BF79-4CB6-B7D4-54678D36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22F2-6897-4B00-9964-EAF9B9BB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CABB-E4B9-452D-8C98-C02108A7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9F0C-6F08-4635-B1A8-91DCAE9C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4E3-2551-471A-9E4D-FDABCFF1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7BF2-E0D1-432C-8A1B-0926E54ACB86}" type="datetime">
              <a:rPr b="1" lang="ru-RU" sz="1000" spc="-1" strike="noStrike">
                <a:solidFill>
                  <a:srgbClr val="000000"/>
                </a:solidFill>
                <a:latin typeface="Eurostil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urosti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5E41-45B8-4BCF-8360-258E4C25EF3F}" type="slidenum">
              <a:rPr b="1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7C3E-C6CD-4F0D-8D85-814EE0B8CEB4}" type="datetime">
              <a:rPr b="1" lang="ru-RU" sz="1000" spc="-1" strike="noStrike">
                <a:solidFill>
                  <a:srgbClr val="000000"/>
                </a:solidFill>
                <a:latin typeface="Eurostil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urosti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F27A-0E13-43F6-8D5A-EF2E3C12A466}" type="slidenum">
              <a:rPr b="1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55800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 Black"/>
              </a:rPr>
              <a:t>ИСПОЛЬЗОВАНИЕ   ФОРМУЛ СОКРАЩЁННОГО  </a:t>
            </a:r>
            <a:br>
              <a:rPr sz="4000"/>
            </a:b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 Black"/>
              </a:rPr>
              <a:t> УМНОЖЕНИЯ</a:t>
            </a:r>
            <a:endParaRPr b="0" lang="en-US" sz="4000" spc="-1" strike="noStrike">
              <a:solidFill>
                <a:srgbClr val="274e75"/>
              </a:solidFill>
              <a:latin typeface="Impact"/>
            </a:endParaRPr>
          </a:p>
        </p:txBody>
      </p:sp>
      <p:pic>
        <p:nvPicPr>
          <p:cNvPr id="83" name="Picture 7" descr="230920102236"/>
          <p:cNvPicPr/>
          <p:nvPr/>
        </p:nvPicPr>
        <p:blipFill>
          <a:blip r:embed="rId2"/>
          <a:stretch/>
        </p:blipFill>
        <p:spPr>
          <a:xfrm>
            <a:off x="1908000" y="3716280"/>
            <a:ext cx="3600720" cy="269892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84" name="Picture 8" descr="230920102234"/>
          <p:cNvPicPr/>
          <p:nvPr/>
        </p:nvPicPr>
        <p:blipFill>
          <a:blip r:embed="rId3"/>
          <a:stretch/>
        </p:blipFill>
        <p:spPr>
          <a:xfrm>
            <a:off x="5435640" y="1700280"/>
            <a:ext cx="3519360" cy="263844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143B-03BC-44CE-81F7-2AC554EB9242}" type="slidenum">
              <a:t>1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4e75"/>
                </a:solidFill>
                <a:latin typeface="Arial"/>
              </a:rPr>
              <a:t>Замените знак * одночленом так, чтобы получившийся трехчлен можно было представить в виде двучлена:</a:t>
            </a:r>
            <a:endParaRPr b="0" lang="en-US" sz="32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796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16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* + 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9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12ab + *.</a:t>
            </a:r>
            <a:endParaRPr b="1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-6120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80"/>
                </a:solidFill>
                <a:latin typeface="Odessa Script"/>
                <a:ea typeface="Times New Roman"/>
              </a:rPr>
              <a:t>            </a:t>
            </a:r>
            <a:r>
              <a:rPr b="1" i="1" lang="ru-RU" sz="3200" spc="-1" strike="noStrike">
                <a:solidFill>
                  <a:srgbClr val="ff0066"/>
                </a:solidFill>
                <a:latin typeface="Odessa Script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ff0066"/>
                </a:solidFill>
                <a:latin typeface="Impact"/>
                <a:ea typeface="Times New Roman"/>
              </a:rPr>
              <a:t>    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  <a:ea typeface="Times New Roman"/>
              </a:rPr>
              <a:t>№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80"/>
                </a:solidFill>
                <a:latin typeface="Odessa Script"/>
                <a:ea typeface="Times New Roman"/>
              </a:rPr>
              <a:t>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http://www.tmn.fio.ru/works/04x/311/boy.gif"/>
          <p:cNvPicPr/>
          <p:nvPr/>
        </p:nvPicPr>
        <p:blipFill>
          <a:blip r:embed="rId2"/>
          <a:stretch/>
        </p:blipFill>
        <p:spPr>
          <a:xfrm>
            <a:off x="4500720" y="2133720"/>
            <a:ext cx="4248000" cy="31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CEB-97F4-43CD-BCE3-2D71418E88D4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№</a:t>
            </a:r>
            <a:r>
              <a:rPr b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6  Вычислить наиболее простым способом:</a:t>
            </a:r>
            <a:endParaRPr b="0" lang="en-US" sz="4000" spc="-1" strike="noStrike">
              <a:solidFill>
                <a:srgbClr val="274e75"/>
              </a:solidFill>
              <a:latin typeface="Impact"/>
            </a:endParaRPr>
          </a:p>
        </p:txBody>
      </p:sp>
      <p:pic>
        <p:nvPicPr>
          <p:cNvPr id="144" name="Picture 4" descr="img4"/>
          <p:cNvPicPr/>
          <p:nvPr/>
        </p:nvPicPr>
        <p:blipFill>
          <a:blip r:embed="rId2"/>
          <a:stretch/>
        </p:blipFill>
        <p:spPr>
          <a:xfrm>
            <a:off x="0" y="2276640"/>
            <a:ext cx="8935920" cy="1697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851280" y="491508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: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114-25F5-4283-974C-BF5F6309CD23}" type="slidenum">
              <a:t>11</a:t>
            </a:fld>
          </a:p>
        </p:txBody>
      </p:sp>
    </p:spTree>
  </p:cSld>
  <p:transition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UPER043"/>
          <p:cNvPicPr/>
          <p:nvPr/>
        </p:nvPicPr>
        <p:blipFill>
          <a:blip r:embed="rId2"/>
          <a:stretch/>
        </p:blipFill>
        <p:spPr>
          <a:xfrm>
            <a:off x="6084720" y="1557360"/>
            <a:ext cx="2462400" cy="5300640"/>
          </a:xfrm>
          <a:prstGeom prst="rect">
            <a:avLst/>
          </a:prstGeom>
          <a:ln w="0">
            <a:noFill/>
          </a:ln>
        </p:spPr>
      </p:pic>
      <p:sp>
        <p:nvSpPr>
          <p:cNvPr id="147" name="WordArt 3"/>
          <p:cNvSpPr txBox="1"/>
          <p:nvPr/>
        </p:nvSpPr>
        <p:spPr>
          <a:xfrm>
            <a:off x="1000080" y="1268280"/>
            <a:ext cx="47228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C6C0-2849-4453-B644-34F83B35450E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66"/>
                </a:solidFill>
                <a:uFillTx/>
                <a:latin typeface="Arial"/>
              </a:rPr>
              <a:t>Итог урока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cc"/>
                </a:solidFill>
                <a:uFillTx/>
                <a:latin typeface="Times New Roman"/>
              </a:rPr>
              <a:t>Домашнее задание: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) повторить выученные формулы сокращенного умножения 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чебник «Алгебра 7» 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автор А.Г. Мерзляк) § 15-17;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) выполнить  № 549(1;2); № 631 (3;4), стр. 130 № 10-11, учащиеся, имеющие высокий уровень знаний, вместо №11 выполняют №644* (1).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29E6-A42A-4C72-B5C0-69826E243BF5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езентации использованы анимационные слайды (3;5) из тренажера Савченко Елены Михайловны, МОУ гимназии №1 г. Полярные Зори, Мурманской области.</a:t>
            </a:r>
            <a:r>
              <a:rPr b="1" lang="ru-RU" sz="2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17F-DF0D-4540-A147-D28FF8B4C6BA}" type="slidenum">
              <a:t>1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1128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ознавать формулы сокращенного умножения (ФСУ);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ять ФСУ при решении упражнений разной степени сложности;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тать алгебраические выраж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ять свойства степене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ршенствовать навыки компьютерной грамотности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79280" y="333360"/>
            <a:ext cx="914400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Что нужно знать и уметь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?</a:t>
            </a:r>
            <a:endParaRPr b="0" lang="en-US" sz="4000" spc="-1" strike="noStrike">
              <a:solidFill>
                <a:srgbClr val="274e75"/>
              </a:solidFill>
              <a:latin typeface="Impact"/>
            </a:endParaRPr>
          </a:p>
        </p:txBody>
      </p:sp>
      <p:pic>
        <p:nvPicPr>
          <p:cNvPr id="87" name="Picture 4" descr="CRTN054"/>
          <p:cNvPicPr/>
          <p:nvPr/>
        </p:nvPicPr>
        <p:blipFill>
          <a:blip r:embed="rId2"/>
          <a:stretch/>
        </p:blipFill>
        <p:spPr>
          <a:xfrm>
            <a:off x="6715080" y="3214800"/>
            <a:ext cx="1944720" cy="17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5063-CFA3-4810-8D52-2E3149893B16}" type="slidenum">
              <a:t>2</a:t>
            </a:fld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686800" cy="3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Произведение  разности  двух выражений  на  их  сумму  равно…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25480" y="1916280"/>
            <a:ext cx="45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)(а 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lang="ru-RU" sz="4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635280" y="4292640"/>
            <a:ext cx="5257800" cy="1368360"/>
          </a:xfrm>
          <a:prstGeom prst="wedgeRoundRectCallout">
            <a:avLst>
              <a:gd name="adj1" fmla="val -63041"/>
              <a:gd name="adj2" fmla="val -76680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ости квадра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их выражени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ANTN070"/>
          <p:cNvPicPr/>
          <p:nvPr/>
        </p:nvPicPr>
        <p:blipFill>
          <a:blip r:embed="rId2"/>
          <a:stretch/>
        </p:blipFill>
        <p:spPr>
          <a:xfrm>
            <a:off x="179280" y="2852640"/>
            <a:ext cx="3273480" cy="26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B52-88BC-4890-A7D5-664497265531}" type="slidenum">
              <a:t>3</a:t>
            </a:fld>
          </a:p>
        </p:txBody>
      </p:sp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3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Квадрат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суммы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     </a:t>
            </a: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(разности).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39640" y="14842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)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±2ab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+b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2276640"/>
            <a:ext cx="7236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Квадрат суммы (разности) двух выражений равен  квадрату первого выражения плюс (минус) удвоенному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изведению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лю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вадрат второго выра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SUPER043"/>
          <p:cNvPicPr/>
          <p:nvPr/>
        </p:nvPicPr>
        <p:blipFill>
          <a:blip r:embed="rId2"/>
          <a:stretch/>
        </p:blipFill>
        <p:spPr>
          <a:xfrm>
            <a:off x="6856560" y="2276640"/>
            <a:ext cx="2060280" cy="44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DD7-5978-4203-A0A4-BD5DCE788C8F}" type="slidenum">
              <a:t>4</a:t>
            </a:fld>
          </a:p>
        </p:txBody>
      </p:sp>
    </p:spTree>
  </p:cSld>
  <p:transition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Потренируйся !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613080" y="1268280"/>
            <a:ext cx="25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 -y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12360" y="198900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d-k)(cd+k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34320" y="270828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2y)(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1/2y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34320" y="3500280"/>
            <a:ext cx="349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2z)(5f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z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10920" y="4292640"/>
            <a:ext cx="50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,2a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,5b)(0,5b-0,2a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3960" y="5084640"/>
            <a:ext cx="44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/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6x)(6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/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777600" y="5877000"/>
            <a:ext cx="37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(3-12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3300120" y="126828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598200" y="1989000"/>
            <a:ext cx="14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4739760" y="2637000"/>
            <a:ext cx="17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1/4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4234680" y="3500280"/>
            <a:ext cx="174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f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4z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5746320" y="4292640"/>
            <a:ext cx="29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0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5037840" y="508464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/9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36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4583520" y="587700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-144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7" descr="ANTN069"/>
          <p:cNvPicPr/>
          <p:nvPr/>
        </p:nvPicPr>
        <p:blipFill>
          <a:blip r:embed="rId2"/>
          <a:stretch/>
        </p:blipFill>
        <p:spPr>
          <a:xfrm>
            <a:off x="6588000" y="1268280"/>
            <a:ext cx="2341800" cy="2170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3"/>
          <a:stretch/>
        </p:blipFill>
        <p:spPr>
          <a:xfrm>
            <a:off x="6446880" y="2852640"/>
            <a:ext cx="2697120" cy="55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487-E7A8-41A0-9668-F36A3B62F08C}" type="slidenum">
              <a:t>5</a:t>
            </a:fld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Назвать примеры,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в которых допущена   ошибка!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7448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(3x – 1)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9х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 - 9х +1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2.   (2a + в)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4а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+ 2ав + в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Eurostile"/>
              </a:rPr>
              <a:t>3.   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(y –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-18у+ 81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4.  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x + a)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                 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</a:rPr>
              <a:t>25х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+ 10ха +а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2997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    (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6.     (0,5x +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2,5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b² + (b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Object 6" descr=""/>
          <p:cNvPicPr/>
          <p:nvPr/>
        </p:nvPicPr>
        <p:blipFill>
          <a:blip r:embed="rId2"/>
          <a:stretch/>
        </p:blipFill>
        <p:spPr>
          <a:xfrm>
            <a:off x="4932360" y="2924280"/>
            <a:ext cx="180036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4DE-3ACA-42EB-9301-0370FEEB2117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cc"/>
                </a:solidFill>
                <a:uFillTx/>
                <a:latin typeface="Arial"/>
              </a:rPr>
              <a:t>Работаем в тетрадях</a:t>
            </a:r>
            <a:br>
              <a:rPr sz="4000"/>
            </a:br>
            <a:r>
              <a:rPr b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№1.   Вычислить,  используя формулы сокращенного умножения:</a:t>
            </a:r>
            <a:r>
              <a:rPr b="0" lang="ru-RU" sz="3600" spc="-1" strike="noStrike">
                <a:solidFill>
                  <a:srgbClr val="274e75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Object 7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456000" cy="1825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997800" y="3789360"/>
            <a:ext cx="19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: 1/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EE7C-C9C9-4250-A384-1D9FF9D7FFCE}" type="slidenum">
              <a:t>7</a:t>
            </a:fld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Реши упражнения и узнаешь о новой науке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6443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ставить в виде произведения: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(2х – 1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- (х + 2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х + 3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ить уравнение: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25у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- 4  = 0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с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9 - 6с =0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4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ости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300720" y="1916280"/>
            <a:ext cx="25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430320" y="378612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217560" y="25718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145920" y="4500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6360120" y="5786280"/>
            <a:ext cx="7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9" descr=""/>
          <p:cNvPicPr/>
          <p:nvPr/>
        </p:nvPicPr>
        <p:blipFill>
          <a:blip r:embed="rId2"/>
          <a:stretch/>
        </p:blipFill>
        <p:spPr>
          <a:xfrm>
            <a:off x="826920" y="5734080"/>
            <a:ext cx="4605480" cy="66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89A0-1875-4130-B7C7-C916C3998D44}" type="slidenum">
              <a:t>8</a:t>
            </a:fld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Семиотика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Object 6" descr=""/>
          <p:cNvPicPr/>
          <p:nvPr/>
        </p:nvPicPr>
        <p:blipFill>
          <a:blip r:embed="rId3"/>
          <a:stretch/>
        </p:blipFill>
        <p:spPr>
          <a:xfrm>
            <a:off x="0" y="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ject 8" descr=""/>
          <p:cNvPicPr/>
          <p:nvPr/>
        </p:nvPicPr>
        <p:blipFill>
          <a:blip r:embed="rId4"/>
          <a:stretch/>
        </p:blipFill>
        <p:spPr>
          <a:xfrm>
            <a:off x="0" y="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urostile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От греч. </a:t>
            </a:r>
            <a:r>
              <a:rPr b="1" lang="en-US" sz="3600" spc="-1" strike="noStrike">
                <a:solidFill>
                  <a:srgbClr val="000000"/>
                </a:solidFill>
                <a:latin typeface="Edwardian Script ITC"/>
              </a:rPr>
              <a:t>Semeion – 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знак, признак.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Наука, исследующая свойства знаков и знаковых систем (главным образом естественных и искусственных языков)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+, </a:t>
            </a:r>
            <a:r>
              <a:rPr b="1" lang="en-US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%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&gt;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&lt;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, =,…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E0B-1BFD-46DA-B701-FCDF6EE82FA7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6:39:09Z</dcterms:created>
  <dc:creator>WERT</dc:creator>
  <dc:description/>
  <dc:language>en-US</dc:language>
  <cp:lastModifiedBy>WERT</cp:lastModifiedBy>
  <dcterms:modified xsi:type="dcterms:W3CDTF">2012-06-30T11:41:52Z</dcterms:modified>
  <cp:revision>55</cp:revision>
  <dc:subject/>
  <dc:title>Cloud Skipp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5000000000001024140</vt:lpwstr>
  </property>
</Properties>
</file>