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gif" ContentType="image/gif"/>
  <Override PartName="/ppt/media/image13.wmf" ContentType="image/x-wmf"/>
  <Override PartName="/ppt/media/image8.wmf" ContentType="image/x-wmf"/>
  <Override PartName="/ppt/media/image16.png" ContentType="image/png"/>
  <Override PartName="/ppt/media/image14.wmf" ContentType="image/x-wmf"/>
  <Override PartName="/ppt/media/image1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5.wmf" ContentType="image/x-wmf"/>
  <Override PartName="/ppt/media/image10.wmf" ContentType="image/x-wmf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2081-B502-4AFF-863A-9ED543AB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E104-211E-48DF-99C4-70DE95F2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AA91-5689-4D58-BBF6-1EEBC8677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49A3-1D27-430A-8350-ED4B5675B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9712-C520-4D4F-83AB-45510A63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35056-98C2-44AC-9AD3-2AA237C55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2CDC-F6D4-4645-A06E-F2B8C3FB2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31367-BA2E-407A-8A41-3942FD1B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29DA-8D6C-4564-9D12-6D36F491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2FE26-EFBA-478D-AA24-A234319F9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1D8F-F9E6-46AA-BCEB-5F7174F9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8189-1B6A-4871-94B9-9383037E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E77D1-6300-43B7-8AEC-5215B801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D10FB-AEA0-46B5-92F9-9C539937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2F77A-DA44-42E3-BAD9-CE7A0230F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6705D-D143-4082-A828-CB70B349A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996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72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996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272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7B98-39A7-4C74-AFA5-8F4255FE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E1CB-92A9-4D9D-B7F1-6916008D1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C241-C9D9-42AF-9577-95B346EC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8FDD-1215-4FE4-81AC-A741A880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E36-BA51-49FC-B524-3B9A01B1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9CE-F35E-49B0-A0C0-598C4F03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542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1190-17F4-49AE-80D6-D4D12C39B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542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8814-2981-4C96-897B-208E9B107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89051-D0F4-4A2E-856A-DB39F2D6AD09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9FB13-20F0-447F-A207-FFE67FAAEA4D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Eurosti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Eurostil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Eurostile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74e75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6A88F-E8AB-460B-A490-E227A0525E17}" type="datetime">
              <a:rPr b="1" lang="ru-RU" sz="1000" spc="-1" strike="noStrike">
                <a:solidFill>
                  <a:srgbClr val="000000"/>
                </a:solidFill>
                <a:latin typeface="Eurostile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Eurostile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Eurosti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2CD-658E-4A06-BA6C-B40FCA5FFB52}" type="slidenum">
              <a:rPr b="1" lang="en-US" sz="1000" spc="-1" strike="noStrike">
                <a:solidFill>
                  <a:srgbClr val="000000"/>
                </a:solidFill>
                <a:latin typeface="Eurostil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55800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ИСПОЛЬЗОВАНИЕ   ФОРМУЛ СОКРАЩЁННОГО  </a:t>
            </a:r>
            <a:br>
              <a:rPr sz="4000"/>
            </a:br>
            <a:r>
              <a:rPr b="0" lang="ru-RU" sz="4000" spc="-1" strike="noStrike" u="sng">
                <a:solidFill>
                  <a:srgbClr val="ff0066"/>
                </a:solidFill>
                <a:uFillTx/>
                <a:latin typeface="Arial Black"/>
              </a:rPr>
              <a:t> УМНОЖЕНИЯ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3" name="Picture 7" descr="230920102236"/>
          <p:cNvPicPr/>
          <p:nvPr/>
        </p:nvPicPr>
        <p:blipFill>
          <a:blip r:embed="rId2"/>
          <a:stretch/>
        </p:blipFill>
        <p:spPr>
          <a:xfrm>
            <a:off x="1908000" y="3716280"/>
            <a:ext cx="3600720" cy="2698920"/>
          </a:xfrm>
          <a:prstGeom prst="rect">
            <a:avLst/>
          </a:prstGeom>
          <a:ln w="38160">
            <a:solidFill>
              <a:srgbClr val="ff0066"/>
            </a:solidFill>
            <a:miter/>
          </a:ln>
        </p:spPr>
      </p:pic>
      <p:pic>
        <p:nvPicPr>
          <p:cNvPr id="84" name="Picture 8" descr="230920102234"/>
          <p:cNvPicPr/>
          <p:nvPr/>
        </p:nvPicPr>
        <p:blipFill>
          <a:blip r:embed="rId3"/>
          <a:stretch/>
        </p:blipFill>
        <p:spPr>
          <a:xfrm>
            <a:off x="5435640" y="1700280"/>
            <a:ext cx="3519360" cy="2638440"/>
          </a:xfrm>
          <a:prstGeom prst="rect">
            <a:avLst/>
          </a:prstGeom>
          <a:ln w="38160">
            <a:solidFill>
              <a:srgbClr val="00808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3E35F-FFF4-4F68-B7B9-D04AC54258BE}" type="slidenum">
              <a:t>1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74e75"/>
                </a:solidFill>
                <a:latin typeface="Arial"/>
              </a:rPr>
              <a:t>Замените знак * одночленом так, чтобы получившийся трехчлен можно было представить в виде двучлена:</a:t>
            </a:r>
            <a:endParaRPr b="0" lang="en-US" sz="32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7961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) 16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+ * + b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) 9a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²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– 12ab + *.</a:t>
            </a: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0" y="-6120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  </a:t>
            </a:r>
            <a:r>
              <a:rPr b="1" i="1" lang="ru-RU" sz="3200" spc="-1" strike="noStrike">
                <a:solidFill>
                  <a:srgbClr val="ff0066"/>
                </a:solidFill>
                <a:latin typeface="Odessa Script"/>
                <a:ea typeface="Times New Roman"/>
              </a:rPr>
              <a:t> </a:t>
            </a:r>
            <a:r>
              <a:rPr b="1" i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    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№</a:t>
            </a:r>
            <a:r>
              <a:rPr b="1" lang="ru-RU" sz="3200" spc="-1" strike="noStrike">
                <a:solidFill>
                  <a:srgbClr val="ff0066"/>
                </a:solidFill>
                <a:latin typeface="Impact"/>
                <a:ea typeface="Times New Roman"/>
              </a:rPr>
              <a:t>5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000080"/>
                </a:solidFill>
                <a:latin typeface="Odessa Script"/>
                <a:ea typeface="Times New Roman"/>
              </a:rPr>
              <a:t>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5" descr="http://www.tmn.fio.ru/works/04x/311/boy.gif"/>
          <p:cNvPicPr/>
          <p:nvPr/>
        </p:nvPicPr>
        <p:blipFill>
          <a:blip r:embed="rId2"/>
          <a:stretch/>
        </p:blipFill>
        <p:spPr>
          <a:xfrm>
            <a:off x="4500720" y="2133720"/>
            <a:ext cx="4248000" cy="31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FD6A-34D8-4911-875D-AA34B8A439BE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</a:t>
            </a: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6  Вычислить наиболее простым способом: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144" name="Picture 4" descr="img4"/>
          <p:cNvPicPr/>
          <p:nvPr/>
        </p:nvPicPr>
        <p:blipFill>
          <a:blip r:embed="rId2"/>
          <a:stretch/>
        </p:blipFill>
        <p:spPr>
          <a:xfrm>
            <a:off x="0" y="2276640"/>
            <a:ext cx="8935920" cy="16970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7"/>
          <p:cNvSpPr/>
          <p:nvPr/>
        </p:nvSpPr>
        <p:spPr>
          <a:xfrm>
            <a:off x="3851280" y="4915080"/>
            <a:ext cx="173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вет: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2206D-1E46-4149-8EA2-3D3DEF25B822}" type="slidenum">
              <a:t>11</a:t>
            </a:fld>
          </a:p>
        </p:txBody>
      </p:sp>
    </p:spTree>
  </p:cSld>
  <p:transition>
    <p:fade thruBlk="true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2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UPER043"/>
          <p:cNvPicPr/>
          <p:nvPr/>
        </p:nvPicPr>
        <p:blipFill>
          <a:blip r:embed="rId2"/>
          <a:stretch/>
        </p:blipFill>
        <p:spPr>
          <a:xfrm>
            <a:off x="6084720" y="1557360"/>
            <a:ext cx="2462400" cy="5300640"/>
          </a:xfrm>
          <a:prstGeom prst="rect">
            <a:avLst/>
          </a:prstGeom>
          <a:ln w="0">
            <a:noFill/>
          </a:ln>
        </p:spPr>
      </p:pic>
      <p:sp>
        <p:nvSpPr>
          <p:cNvPr id="147" name="WordArt 3"/>
          <p:cNvSpPr txBox="1"/>
          <p:nvPr/>
        </p:nvSpPr>
        <p:spPr>
          <a:xfrm>
            <a:off x="1000080" y="1268280"/>
            <a:ext cx="4722840" cy="23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олодцы!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0A1B-98B1-4B9A-A060-9076215C6DC3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0066"/>
                </a:solidFill>
                <a:uFillTx/>
                <a:latin typeface="Arial"/>
              </a:rPr>
              <a:t>Итог урока</a:t>
            </a:r>
            <a:endParaRPr b="0" lang="en-US" sz="48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3333cc"/>
                </a:solidFill>
                <a:uFillTx/>
                <a:latin typeface="Times New Roman"/>
              </a:rPr>
              <a:t>Домашнее задание: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а) повторить выученные формулы сокращенного умножения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Учебник «Алгебра 7»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автор А.Г. Мерзляк) § 15-17;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326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б) выполнить  № 549(1;2); № 631 (3;4), стр. 130 № 10-11, учащиеся, имеющие высокий уровень знаний, вместо №11 выполняют №644* (1)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513F-6E2F-418A-AA64-9B4DBC34E899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-54360"/>
            <a:ext cx="91440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презентации использованы анимационные слайды (3;5) из тренажера Савченко Елены Михайловны, МОУ гимназии №1 г. Полярные Зори, Мурманской области.</a:t>
            </a: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EF9-0FA8-420C-8076-3856BD87D8F0}" type="slidenum">
              <a:t>14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61128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спознавать формулы сокращенного умножения (ФСУ)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менять ФСУ при решении упражнений разной степени сложности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итать алгебраические выраж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•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менять свойства степене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ршенствовать навыки компьютерной грамотности.</a:t>
            </a: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79280" y="333360"/>
            <a:ext cx="9144000" cy="36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Что нужно знать и уметь</a:t>
            </a:r>
            <a:r>
              <a:rPr b="1" lang="en-US" sz="4000" spc="-1" strike="noStrike" u="sng">
                <a:solidFill>
                  <a:srgbClr val="ff0066"/>
                </a:solidFill>
                <a:uFillTx/>
                <a:latin typeface="Arial"/>
              </a:rPr>
              <a:t>?</a:t>
            </a:r>
            <a:endParaRPr b="0" lang="en-US" sz="4000" spc="-1" strike="noStrike">
              <a:solidFill>
                <a:srgbClr val="274e75"/>
              </a:solidFill>
              <a:latin typeface="Impact"/>
            </a:endParaRPr>
          </a:p>
        </p:txBody>
      </p:sp>
      <p:pic>
        <p:nvPicPr>
          <p:cNvPr id="87" name="Picture 4" descr="CRTN054"/>
          <p:cNvPicPr/>
          <p:nvPr/>
        </p:nvPicPr>
        <p:blipFill>
          <a:blip r:embed="rId2"/>
          <a:stretch/>
        </p:blipFill>
        <p:spPr>
          <a:xfrm>
            <a:off x="6715080" y="3214800"/>
            <a:ext cx="1944720" cy="1755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5881-4F2A-4FC3-BA38-D63FCBEBA4EB}" type="slidenum">
              <a:t>2</a:t>
            </a:fld>
          </a:p>
        </p:txBody>
      </p:sp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686800" cy="3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роизведение  разности  двух выражений  на  их  сумму  равно…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1725480" y="1916280"/>
            <a:ext cx="45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(а +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)=</a:t>
            </a:r>
            <a:r>
              <a:rPr b="1" lang="ru-RU" sz="4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-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/>
          <p:cNvSpPr/>
          <p:nvPr/>
        </p:nvSpPr>
        <p:spPr>
          <a:xfrm>
            <a:off x="3635280" y="4292640"/>
            <a:ext cx="5257800" cy="1368360"/>
          </a:xfrm>
          <a:prstGeom prst="wedgeRoundRectCallout">
            <a:avLst>
              <a:gd name="adj1" fmla="val -63041"/>
              <a:gd name="adj2" fmla="val -76680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зности квадрато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этих выражени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5" descr="ANTN070"/>
          <p:cNvPicPr/>
          <p:nvPr/>
        </p:nvPicPr>
        <p:blipFill>
          <a:blip r:embed="rId2"/>
          <a:stretch/>
        </p:blipFill>
        <p:spPr>
          <a:xfrm>
            <a:off x="179280" y="2852640"/>
            <a:ext cx="3273480" cy="26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DFDE-1360-4DC1-8E15-363D4DE6079C}" type="slidenum">
              <a:t>3</a:t>
            </a:fld>
          </a:p>
        </p:txBody>
      </p:sp>
    </p:spTree>
  </p:cSld>
  <p:transition>
    <p:fade thruBlk="true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33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Квадрат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суммы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   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(разности).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539640" y="1484280"/>
            <a:ext cx="822960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±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b)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a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±2ab</a:t>
            </a:r>
            <a:r>
              <a:rPr b="1" i="1" lang="ru-RU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    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+b</a:t>
            </a:r>
            <a:r>
              <a:rPr b="1" i="1" lang="en-US" sz="44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0" y="2276640"/>
            <a:ext cx="7236000" cy="39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Квадрат суммы (разности) двух выражений равен  квадрату первого выражения плюс (минус) удвоенному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и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  <a:ea typeface="Arial"/>
              </a:rPr>
              <a:t>произведению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лю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квадрат второго выра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7" descr="SUPER043"/>
          <p:cNvPicPr/>
          <p:nvPr/>
        </p:nvPicPr>
        <p:blipFill>
          <a:blip r:embed="rId2"/>
          <a:stretch/>
        </p:blipFill>
        <p:spPr>
          <a:xfrm>
            <a:off x="6856560" y="2276640"/>
            <a:ext cx="2060280" cy="4437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B37-72FF-4947-A476-2CC6F493861A}" type="slidenum">
              <a:t>4</a:t>
            </a:fld>
          </a:p>
        </p:txBody>
      </p:sp>
    </p:spTree>
  </p:cSld>
  <p:transition>
    <p:fade thruBlk="true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3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8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Потренируйся 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613080" y="1268280"/>
            <a:ext cx="251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y)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 -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612360" y="1989000"/>
            <a:ext cx="289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d-k)(cd+k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634320" y="2708280"/>
            <a:ext cx="39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2y)(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2y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634320" y="3500280"/>
            <a:ext cx="349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2z)(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+2z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10920" y="4292640"/>
            <a:ext cx="50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2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5b)(0,5b-0,2a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633960" y="5084640"/>
            <a:ext cx="44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6x)(6x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/3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9"/>
          <p:cNvSpPr/>
          <p:nvPr/>
        </p:nvSpPr>
        <p:spPr>
          <a:xfrm>
            <a:off x="777600" y="5877000"/>
            <a:ext cx="375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(3-12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)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3300120" y="1268280"/>
            <a:ext cx="10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1"/>
          <p:cNvSpPr/>
          <p:nvPr/>
        </p:nvSpPr>
        <p:spPr>
          <a:xfrm>
            <a:off x="3598200" y="1989000"/>
            <a:ext cx="148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k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2"/>
          <p:cNvSpPr/>
          <p:nvPr/>
        </p:nvSpPr>
        <p:spPr>
          <a:xfrm>
            <a:off x="4739760" y="2637000"/>
            <a:ext cx="172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1/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13"/>
          <p:cNvSpPr/>
          <p:nvPr/>
        </p:nvSpPr>
        <p:spPr>
          <a:xfrm>
            <a:off x="4234680" y="3500280"/>
            <a:ext cx="174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5f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4z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14"/>
          <p:cNvSpPr/>
          <p:nvPr/>
        </p:nvSpPr>
        <p:spPr>
          <a:xfrm>
            <a:off x="5746320" y="4292640"/>
            <a:ext cx="29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5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0,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04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15"/>
          <p:cNvSpPr/>
          <p:nvPr/>
        </p:nvSpPr>
        <p:spPr>
          <a:xfrm>
            <a:off x="5037840" y="5084640"/>
            <a:ext cx="237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4/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-36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4583520" y="5877000"/>
            <a:ext cx="17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9-144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7" descr="ANTN069"/>
          <p:cNvPicPr/>
          <p:nvPr/>
        </p:nvPicPr>
        <p:blipFill>
          <a:blip r:embed="rId2"/>
          <a:stretch/>
        </p:blipFill>
        <p:spPr>
          <a:xfrm>
            <a:off x="6588000" y="1268280"/>
            <a:ext cx="2341800" cy="2170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H:\Documents and Settings\Aida\Рабочий стол\текстуры и фоны, клипарты\новеньки картинки\pencil rolling hc.gif"/>
          <p:cNvPicPr/>
          <p:nvPr/>
        </p:nvPicPr>
        <p:blipFill>
          <a:blip r:embed="rId3"/>
          <a:stretch/>
        </p:blipFill>
        <p:spPr>
          <a:xfrm>
            <a:off x="6446880" y="2852640"/>
            <a:ext cx="2697120" cy="55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8968D-2916-4EA6-86EA-193756CCCB34}" type="slidenum">
              <a:t>5</a:t>
            </a:fld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Назвать примеры, </a:t>
            </a:r>
            <a:r>
              <a:rPr b="1" lang="en-US" sz="3600" spc="-1" strike="noStrike" u="sng">
                <a:solidFill>
                  <a:srgbClr val="ff0066"/>
                </a:solidFill>
                <a:uFillTx/>
                <a:latin typeface="Arial"/>
              </a:rPr>
              <a:t> </a:t>
            </a: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в которых допущена   ошибка!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1280" y="907560"/>
            <a:ext cx="7448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00"/>
              </a:buClr>
              <a:buFont typeface="Eurosti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Eurostile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(3x – 1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 - 9х +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2.   (2a + в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+ 2ав + в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3. 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(y – 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9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у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-18у+ 81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4.  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Eurostile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x + a)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</a:rPr>
              <a:t>                 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</a:rPr>
              <a:t>25х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Eurostile"/>
                <a:ea typeface="Arial"/>
              </a:rPr>
              <a:t>+ 10ха +а</a:t>
            </a:r>
            <a:r>
              <a:rPr b="1" lang="en-US" sz="2800" spc="-1" strike="noStrike">
                <a:solidFill>
                  <a:srgbClr val="000000"/>
                </a:solidFill>
                <a:latin typeface="Eurostile"/>
                <a:ea typeface="Arial"/>
              </a:rPr>
              <a:t>²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2997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    (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   6.     (0,5x + 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2,5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+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b² + (b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Object 6" descr=""/>
          <p:cNvPicPr/>
          <p:nvPr/>
        </p:nvPicPr>
        <p:blipFill>
          <a:blip r:embed="rId2"/>
          <a:stretch/>
        </p:blipFill>
        <p:spPr>
          <a:xfrm>
            <a:off x="4932360" y="2924280"/>
            <a:ext cx="180036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02F-EA01-4AD7-B2EB-3C9E30267426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cc"/>
                </a:solidFill>
                <a:uFillTx/>
                <a:latin typeface="Arial"/>
              </a:rPr>
              <a:t>Работаем в тетрадях</a:t>
            </a:r>
            <a:br>
              <a:rPr sz="4000"/>
            </a:br>
            <a:r>
              <a:rPr b="1" lang="ru-RU" sz="4000" spc="-1" strike="noStrike" u="sng">
                <a:solidFill>
                  <a:srgbClr val="ff0066"/>
                </a:solidFill>
                <a:uFillTx/>
                <a:latin typeface="Arial"/>
              </a:rPr>
              <a:t>№1.   Вычислить,  используя формулы сокращенного умножения:</a:t>
            </a:r>
            <a:r>
              <a:rPr b="0" lang="ru-RU" sz="3600" spc="-1" strike="noStrike">
                <a:solidFill>
                  <a:srgbClr val="274e75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Object 7" descr=""/>
          <p:cNvPicPr/>
          <p:nvPr/>
        </p:nvPicPr>
        <p:blipFill>
          <a:blip r:embed="rId2"/>
          <a:stretch/>
        </p:blipFill>
        <p:spPr>
          <a:xfrm>
            <a:off x="468360" y="2133720"/>
            <a:ext cx="3456000" cy="1825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1"/>
          <p:cNvSpPr/>
          <p:nvPr/>
        </p:nvSpPr>
        <p:spPr>
          <a:xfrm>
            <a:off x="3997800" y="3789360"/>
            <a:ext cx="19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твет: 1/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6E18-39AB-4953-9839-7DD9392C1336}" type="slidenum">
              <a:t>7</a:t>
            </a:fld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0066"/>
                </a:solidFill>
                <a:uFillTx/>
                <a:latin typeface="Arial"/>
              </a:rPr>
              <a:t>Реши упражнения и узнаешь о новой науке</a:t>
            </a:r>
            <a:endParaRPr b="0" lang="en-US" sz="36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644364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ить в виде произведения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(2х – 1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(х + 2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(х + 3)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-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Решить уравнение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25у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- 4  = 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с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+ 9 - 6с =0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lang="uk-UA" sz="2800" spc="-1" strike="noStrike">
                <a:solidFill>
                  <a:srgbClr val="000000"/>
                </a:solidFill>
                <a:latin typeface="Times New Roman"/>
              </a:rPr>
              <a:t>4.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простит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6300720" y="1916280"/>
            <a:ext cx="25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6430320" y="378612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6217560" y="257184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"/>
          <p:cNvSpPr/>
          <p:nvPr/>
        </p:nvSpPr>
        <p:spPr>
          <a:xfrm>
            <a:off x="6145920" y="4500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6360120" y="5786280"/>
            <a:ext cx="77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Object 9" descr=""/>
          <p:cNvPicPr/>
          <p:nvPr/>
        </p:nvPicPr>
        <p:blipFill>
          <a:blip r:embed="rId2"/>
          <a:stretch/>
        </p:blipFill>
        <p:spPr>
          <a:xfrm>
            <a:off x="826920" y="5734080"/>
            <a:ext cx="4605480" cy="66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F38-9996-46FB-A67A-140320F66CBB}" type="slidenum">
              <a:t>8</a:t>
            </a:fld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66"/>
                </a:solidFill>
                <a:uFillTx/>
                <a:latin typeface="Arial"/>
              </a:rPr>
              <a:t>Семиотика</a:t>
            </a:r>
            <a:endParaRPr b="0" lang="en-US" sz="4400" spc="-1" strike="noStrike">
              <a:solidFill>
                <a:srgbClr val="274e75"/>
              </a:solidFill>
              <a:latin typeface="Impact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Object 4" descr=""/>
          <p:cNvPicPr/>
          <p:nvPr/>
        </p:nvPicPr>
        <p:blipFill>
          <a:blip r:embed="rId2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Object 6" descr=""/>
          <p:cNvPicPr/>
          <p:nvPr/>
        </p:nvPicPr>
        <p:blipFill>
          <a:blip r:embed="rId3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Object 8" descr=""/>
          <p:cNvPicPr/>
          <p:nvPr/>
        </p:nvPicPr>
        <p:blipFill>
          <a:blip r:embed="rId4"/>
          <a:stretch/>
        </p:blipFill>
        <p:spPr>
          <a:xfrm>
            <a:off x="0" y="0"/>
            <a:ext cx="123840" cy="123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353440" cy="51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Eurostile"/>
              </a:rPr>
              <a:t>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От греч.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</a:rPr>
              <a:t>Semeion –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знак, признак.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Наука, исследующая свойства знаков и знаковых систем (главным образом естественных и искусственных языков)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  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</a:rPr>
              <a:t>+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%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g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</a:t>
            </a:r>
            <a:r>
              <a:rPr b="1" lang="en-US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&lt;</a:t>
            </a:r>
            <a:r>
              <a:rPr b="1" lang="ru-RU" sz="3600" spc="-1" strike="noStrike">
                <a:solidFill>
                  <a:srgbClr val="000000"/>
                </a:solidFill>
                <a:latin typeface="Edwardian Script ITC"/>
                <a:ea typeface="Arial"/>
              </a:rPr>
              <a:t>, =,…</a:t>
            </a:r>
            <a:endParaRPr b="1" lang="en-US" sz="3600" spc="-1" strike="noStrike">
              <a:solidFill>
                <a:srgbClr val="000000"/>
              </a:solidFill>
              <a:latin typeface="Eurosti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Кутателадзе Е.В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7D2-8ABD-4391-824A-8A3C718134D9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8T06:39:09Z</dcterms:created>
  <dc:creator>WERT</dc:creator>
  <dc:description/>
  <dc:language>en-US</dc:language>
  <cp:lastModifiedBy>WERT</cp:lastModifiedBy>
  <dcterms:modified xsi:type="dcterms:W3CDTF">2012-06-30T11:41:52Z</dcterms:modified>
  <cp:revision>55</cp:revision>
  <dc:subject/>
  <dc:title>Cloud Skipp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05000000000001024140</vt:lpwstr>
  </property>
</Properties>
</file>