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ED3-B02D-451A-A7BB-4C01AA0F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BFD-2728-497F-8C36-9D8C452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4AC-ABF6-4711-8EBC-81064FB4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DE7-B984-4230-B007-124307B5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2E56-7B2D-4B56-B6F9-87964D5F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DE1D-43E3-4F8B-AD1C-CA151CD6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973-8D44-448A-AC13-CE0CD48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935-2715-4619-840E-11E5FC05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41F-3858-4390-BDAF-205F048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708D-5767-409C-A41D-3EAFDB8B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D14-9984-4395-BBE6-3719B89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A8D-1D2F-49B4-AAA8-45D36F7C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1279-6FC2-45E3-A20A-32198BE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8311-511A-424A-B542-34D5E544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77E5-470B-47BE-B1D7-83F71F76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8DBE-13C3-40CF-A413-7297E95F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1EA2-C6D6-4D2C-B5F3-F6FB668A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0AC-CEE1-4BBC-BA28-26FF9527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A4D-D74C-4397-AC91-77637CCE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6C3-D46D-4C1D-84C8-98CF449E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A65-D503-4C30-8958-2586C8AE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A09-5DBA-4762-A2E8-C6169E9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B60-B474-4F21-85E4-9CCC2D6B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DCF-4E4D-46F1-802D-C1060C1B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29DB-D357-4915-B476-8417A3BF0324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EA15-7F14-4036-96F5-BB6791179813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1E37-3F28-4576-8DD0-B61A1007B999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0DC8-A293-442A-A009-B956704ACEE9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580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ИСПОЛЬЗОВАНИЕ   ФОРМУЛ СОКРАЩЁННОГО  </a:t>
            </a: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 УМНОЖЕНИЯ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3" name="Picture 7" descr="230920102236"/>
          <p:cNvPicPr/>
          <p:nvPr/>
        </p:nvPicPr>
        <p:blipFill>
          <a:blip r:embed="rId2"/>
          <a:stretch/>
        </p:blipFill>
        <p:spPr>
          <a:xfrm>
            <a:off x="1908000" y="3716280"/>
            <a:ext cx="3600720" cy="26989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84" name="Picture 8" descr="230920102234"/>
          <p:cNvPicPr/>
          <p:nvPr/>
        </p:nvPicPr>
        <p:blipFill>
          <a:blip r:embed="rId3"/>
          <a:stretch/>
        </p:blipFill>
        <p:spPr>
          <a:xfrm>
            <a:off x="5435640" y="1700280"/>
            <a:ext cx="3519360" cy="26384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BC9C-ADD0-4BAA-938F-5B50AF329A8F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4e75"/>
                </a:solidFill>
                <a:latin typeface="Arial"/>
              </a:rPr>
              <a:t>Замените знак * одночленом так, чтобы получившийся трехчлен можно было представить в виде двучлена:</a:t>
            </a:r>
            <a:endParaRPr b="0" lang="en-US" sz="32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16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* +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9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12ab + *.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-6120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  </a:t>
            </a:r>
            <a:r>
              <a:rPr b="1" i="1" lang="ru-RU" sz="3200" spc="-1" strike="noStrike">
                <a:solidFill>
                  <a:srgbClr val="ff0066"/>
                </a:solidFill>
                <a:latin typeface="Odessa Script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   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http://www.tmn.fio.ru/works/04x/311/boy.gif"/>
          <p:cNvPicPr/>
          <p:nvPr/>
        </p:nvPicPr>
        <p:blipFill>
          <a:blip r:embed="rId2"/>
          <a:stretch/>
        </p:blipFill>
        <p:spPr>
          <a:xfrm>
            <a:off x="4500720" y="2133720"/>
            <a:ext cx="4248000" cy="31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663-1DAC-4F23-BEA7-5BA2366A950F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</a:t>
            </a: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6  Вычислить наиболее простым способом: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44" name="Picture 4" descr="img4"/>
          <p:cNvPicPr/>
          <p:nvPr/>
        </p:nvPicPr>
        <p:blipFill>
          <a:blip r:embed="rId2"/>
          <a:stretch/>
        </p:blipFill>
        <p:spPr>
          <a:xfrm>
            <a:off x="0" y="2276640"/>
            <a:ext cx="8935920" cy="169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851280" y="491508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F02-C8BE-4ED1-8890-CB66E1B700F9}" type="slidenum">
              <a:t>11</a:t>
            </a:fld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UPER043"/>
          <p:cNvPicPr/>
          <p:nvPr/>
        </p:nvPicPr>
        <p:blipFill>
          <a:blip r:embed="rId2"/>
          <a:stretch/>
        </p:blipFill>
        <p:spPr>
          <a:xfrm>
            <a:off x="6084720" y="1557360"/>
            <a:ext cx="2462400" cy="53006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1000080" y="1268280"/>
            <a:ext cx="47228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1EE-314F-4223-A6D6-A35DDDB510F5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Итог урока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: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) повторить выученные формулы сокращенного умножения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ебник «Алгебра 7»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автор А.Г. Мерзляк) § 15-17;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) выполнить  № 549(1;2); № 631 (3;4), стр. 130 № 10-11, учащиеся, имеющие высокий уровень знаний, вместо №11 выполняют №644* (1)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3F0-AB00-4C75-9A41-4C43B32D5B0D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езентации использованы анимационные слайды (3;5) из тренажера Савченко Елены Михайловны, МОУ гимназии №1 г. Полярные Зори, Мурманской области.</a:t>
            </a: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1F9-DFD6-4757-AEE4-CEA349ADBAAE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знавать формулы сокращенного умножения (ФСУ)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ять ФСУ при решении упражнений разной степени сложности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ть алгебраические выра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свойства степен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ть навыки компьютерной грамотности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914400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Что нужно знать и уметь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?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7" name="Picture 4" descr="CRTN054"/>
          <p:cNvPicPr/>
          <p:nvPr/>
        </p:nvPicPr>
        <p:blipFill>
          <a:blip r:embed="rId2"/>
          <a:stretch/>
        </p:blipFill>
        <p:spPr>
          <a:xfrm>
            <a:off x="6715080" y="3214800"/>
            <a:ext cx="194472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670-266A-4C49-AAC6-999CAC2FA3B8}" type="slidenum">
              <a:t>2</a:t>
            </a:fld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686800" cy="3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роизведение  разности  двух выражений  на  их  сумму  равно…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25480" y="1916280"/>
            <a:ext cx="45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(а 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ru-RU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635280" y="4292640"/>
            <a:ext cx="5257800" cy="1368360"/>
          </a:xfrm>
          <a:prstGeom prst="wedgeRoundRectCallout">
            <a:avLst>
              <a:gd name="adj1" fmla="val -63041"/>
              <a:gd name="adj2" fmla="val -7668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и квад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их выраж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NTN070"/>
          <p:cNvPicPr/>
          <p:nvPr/>
        </p:nvPicPr>
        <p:blipFill>
          <a:blip r:embed="rId2"/>
          <a:stretch/>
        </p:blipFill>
        <p:spPr>
          <a:xfrm>
            <a:off x="179280" y="2852640"/>
            <a:ext cx="3273480" cy="26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398-34D2-47DF-A681-62F9BE361946}" type="slidenum">
              <a:t>3</a:t>
            </a:fld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Квадрат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суммы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(разности).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14842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±2a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+b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76640"/>
            <a:ext cx="72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вадрат суммы (разности) двух выражений равен  квадрату первого выражения плюс (минус) удвоенно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изведени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 второго вы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SUPER043"/>
          <p:cNvPicPr/>
          <p:nvPr/>
        </p:nvPicPr>
        <p:blipFill>
          <a:blip r:embed="rId2"/>
          <a:stretch/>
        </p:blipFill>
        <p:spPr>
          <a:xfrm>
            <a:off x="6856560" y="2276640"/>
            <a:ext cx="206028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10E-DA58-4EEC-9815-8C6698874CE2}" type="slidenum">
              <a:t>4</a:t>
            </a:fld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отренируйся 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13080" y="1268280"/>
            <a:ext cx="25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2360" y="198900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d-k)(cd+k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4320" y="270828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y)(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2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34320" y="35002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z)(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z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0920" y="4292640"/>
            <a:ext cx="50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2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5b)(0,5b-0,2a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3960" y="5084640"/>
            <a:ext cx="44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6x)(6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77600" y="587700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(3-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300120" y="126828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598200" y="1989000"/>
            <a:ext cx="14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739760" y="2637000"/>
            <a:ext cx="17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234680" y="350028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4z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5746320" y="4292640"/>
            <a:ext cx="29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037840" y="5084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/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6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583520" y="58770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-14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7" descr="ANTN069"/>
          <p:cNvPicPr/>
          <p:nvPr/>
        </p:nvPicPr>
        <p:blipFill>
          <a:blip r:embed="rId2"/>
          <a:stretch/>
        </p:blipFill>
        <p:spPr>
          <a:xfrm>
            <a:off x="6588000" y="1268280"/>
            <a:ext cx="2341800" cy="217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6446880" y="285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617-E26A-48BF-B4B9-CE41300C69AA}" type="slidenum">
              <a:t>5</a:t>
            </a:fld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Назвать примеры,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в которых допущена   ошибка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7448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(3x – 1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 - 9х +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2.   (2a + в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+ 2ав + в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(y –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-18у+ 8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.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x + a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25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+ 10ха +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997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    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6.     (0,5x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,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b² + (b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6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180036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6A5-8A81-4E66-9061-3D44CAC76729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"/>
              </a:rPr>
              <a:t>Работаем в тетрадях</a:t>
            </a:r>
            <a:br>
              <a:rPr sz="4000"/>
            </a:b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1.   Вычислить,  используя формулы сокращенного умножения:</a:t>
            </a:r>
            <a:r>
              <a:rPr b="0" lang="ru-RU" sz="3600" spc="-1" strike="noStrike">
                <a:solidFill>
                  <a:srgbClr val="274e75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7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456000" cy="1825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997800" y="378936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1/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EE0-7FD6-4B81-AF44-05C07CF5C153}" type="slidenum">
              <a:t>7</a:t>
            </a:fld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Реши упражнения и узнаешь о новой науке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44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ить в виде произведения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(2х – 1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(х + 2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х + 3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25у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4  = 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9 - 6с =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ост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00720" y="191628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30320" y="378612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217560" y="25718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145920" y="4500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360120" y="57862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9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460548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CE8-6557-42CA-B83A-7A0AED6FC242}" type="slidenum">
              <a:t>8</a:t>
            </a:fld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Семиотика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3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8" descr=""/>
          <p:cNvPicPr/>
          <p:nvPr/>
        </p:nvPicPr>
        <p:blipFill>
          <a:blip r:embed="rId4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urostile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От греч.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</a:rPr>
              <a:t>Semeion –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знак, признак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Наука, исследующая свойства знаков и знаковых систем (главным образом естественных и искусственных языков)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+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%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l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=,…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15D-F6D8-4052-863B-0F71833F99F4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6:39:09Z</dcterms:created>
  <dc:creator>WERT</dc:creator>
  <dc:description/>
  <dc:language>en-US</dc:language>
  <cp:lastModifiedBy>WERT</cp:lastModifiedBy>
  <dcterms:modified xsi:type="dcterms:W3CDTF">2012-06-30T11:41:52Z</dcterms:modified>
  <cp:revision>55</cp:revision>
  <dc:subject/>
  <dc:title>Cloud Skip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