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83.png" ContentType="image/pn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88.png" ContentType="image/png"/>
  <Override PartName="/ppt/media/image48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1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109.jpeg" ContentType="image/jpeg"/>
  <Override PartName="/ppt/media/image55.jpeg" ContentType="image/jpeg"/>
  <Override PartName="/ppt/media/image12.jpeg" ContentType="image/jpeg"/>
  <Override PartName="/ppt/media/image29.jpeg" ContentType="image/jpeg"/>
  <Override PartName="/ppt/media/image108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10.png" ContentType="image/png"/>
  <Override PartName="/ppt/media/image107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8.png" ContentType="image/png"/>
  <Override PartName="/ppt/media/image82.jpeg" ContentType="image/jpeg"/>
  <Override PartName="/ppt/media/image85.png" ContentType="image/png"/>
  <Override PartName="/ppt/media/image119.jpeg" ContentType="image/jpeg"/>
  <Override PartName="/ppt/media/image6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56.jpeg" ContentType="image/jpeg"/>
  <Override PartName="/ppt/media/image3.png" ContentType="image/png"/>
  <Override PartName="/ppt/media/image92.jpeg" ContentType="image/jpeg"/>
  <Override PartName="/ppt/media/image112.jpeg" ContentType="image/jpeg"/>
  <Override PartName="/ppt/media/image17.jpeg" ContentType="image/jpeg"/>
  <Override PartName="/ppt/media/image43.jpeg" ContentType="image/jpeg"/>
  <Override PartName="/ppt/media/image5.png" ContentType="image/png"/>
  <Override PartName="/ppt/media/image98.jpeg" ContentType="image/jpeg"/>
  <Override PartName="/ppt/media/image52.jpeg" ContentType="image/jpeg"/>
  <Override PartName="/ppt/media/image47.png" ContentType="image/png"/>
  <Override PartName="/ppt/media/image74.jpeg" ContentType="image/jpeg"/>
  <Override PartName="/ppt/media/image93.jpeg" ContentType="image/jpeg"/>
  <Override PartName="/ppt/media/image94.jpeg" ContentType="image/jpeg"/>
  <Override PartName="/ppt/media/image110.jpeg" ContentType="image/jpeg"/>
  <Override PartName="/ppt/media/image90.jpeg" ContentType="image/jpeg"/>
  <Override PartName="/ppt/media/image97.png" ContentType="image/png"/>
  <Override PartName="/ppt/media/image63.jpeg" ContentType="image/jpeg"/>
  <Override PartName="/ppt/media/image111.jpeg" ContentType="image/jpeg"/>
  <Override PartName="/ppt/media/image91.jpeg" ContentType="image/jpeg"/>
  <Override PartName="/ppt/media/image95.jpeg" ContentType="image/jpeg"/>
  <Override PartName="/ppt/media/image76.jpeg" ContentType="image/jpeg"/>
  <Override PartName="/ppt/media/image102.png" ContentType="image/png"/>
  <Override PartName="/ppt/media/image125.jpeg" ContentType="image/jpeg"/>
  <Override PartName="/ppt/media/image77.png" ContentType="image/png"/>
  <Override PartName="/ppt/media/image96.jpeg" ContentType="image/jpeg"/>
  <Override PartName="/ppt/media/image113.jpeg" ContentType="image/jpeg"/>
  <Override PartName="/ppt/media/image39.png" ContentType="image/png"/>
  <Override PartName="/ppt/media/image103.jpeg" ContentType="image/jpeg"/>
  <Override PartName="/ppt/media/image124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123.jpeg" ContentType="image/jpeg"/>
  <Override PartName="/ppt/media/image71.jpeg" ContentType="image/jpeg"/>
  <Override PartName="/ppt/media/image122.jpeg" ContentType="image/jpeg"/>
  <Override PartName="/ppt/media/image116.jpeg" ContentType="image/jpeg"/>
  <Override PartName="/ppt/media/image99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70.jpeg" ContentType="image/jpeg"/>
  <Override PartName="/ppt/media/image68.jpeg" ContentType="image/jpeg"/>
  <Override PartName="/ppt/media/image120.png" ContentType="image/png"/>
  <Override PartName="/ppt/media/image69.png" ContentType="image/png"/>
  <Override PartName="/ppt/media/image67.jpeg" ContentType="image/jpeg"/>
  <Override PartName="/ppt/media/image66.jpeg" ContentType="image/jpeg"/>
  <Override PartName="/ppt/media/image65.jpeg" ContentType="image/jpeg"/>
  <Override PartName="/ppt/media/image61.jpeg" ContentType="image/jpeg"/>
  <Override PartName="/ppt/media/image78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6.jpeg" ContentType="image/jpeg"/>
  <Override PartName="/ppt/media/image105.jpeg" ContentType="image/jpeg"/>
  <Override PartName="/ppt/media/image73.jpeg" ContentType="image/jpeg"/>
  <Override PartName="/ppt/media/image24.png" ContentType="image/png"/>
  <Override PartName="/ppt/media/image19.png" ContentType="image/png"/>
  <Override PartName="/ppt/media/image79.jpeg" ContentType="image/jpeg"/>
  <Override PartName="/ppt/media/image62.jpeg" ContentType="image/jpeg"/>
  <Override PartName="/ppt/media/image16.jpeg" ContentType="image/jpeg"/>
  <Override PartName="/ppt/media/image75.png" ContentType="image/pn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18.png" ContentType="image/png"/>
  <Override PartName="/ppt/media/image1.jpeg" ContentType="image/jpeg"/>
  <Override PartName="/ppt/media/image3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B41B-1EA2-4683-AF64-F660042006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C011-A73B-4253-88A8-61733AC331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30B8-3F35-4AFD-9A32-DDC98C48BA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F749-5943-4E4A-9CA1-A1BBF8EB88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3851-C8D9-418E-8226-9BF2552CD9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6963-7181-4757-B552-FCC1109450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46B9-B3DB-48E8-9F66-48D51FBC02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F06F-818C-407A-81EA-EA79742BE3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A5A-7BC1-4F4D-AFB0-7FBC7D4B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D96-D34F-4687-AF07-790FAC7E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B9374-3B02-4F40-ACB6-23018D40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C2800-4379-4171-8885-A78CD088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68CE5-D8F0-476E-9EF3-A47B9A0E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12498-3734-4C0B-B48F-0A1ECFB8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FADE4-525A-47E1-8168-40778739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66026-FD84-447C-9567-5791AB2D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DB77A-1F69-47E8-B04B-E9B47BA4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4478C-1E5E-4140-88D3-D939CC45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E5DFC-399F-4173-B784-E31981FA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9D8-F071-406E-8584-75339DF1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AA0-0BAC-4704-8C57-103ABB4C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9F6E-7308-435E-BA30-6FB8B034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119E-8577-455E-9673-9DF537CA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D5F0-3AF9-462B-A11A-3054A973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D646-D33F-4AD1-B756-13FBBA78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ED7B-544F-4516-B835-8BE1C4C2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8918-3C1E-417C-B72E-16BB5F0A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4EC0-BA2A-47FE-BE51-69D47224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F07-7A27-4147-BBA1-15C0CE5B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2465-BAD5-49FA-ADA1-C6214DB8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070B-768D-4B56-A0AB-B073B370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DD2C-4068-4036-8318-A48EBFC9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906E-E92D-412E-B5C4-CBDC675F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A10D-6EEC-4552-9A6E-E427395F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6C8F-5B36-406B-88A0-1294336D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5D0F0-3236-4DA4-B384-8ED5F8A8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4133-7A62-43FA-8C17-56D35E32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97B9B-92F7-4A4C-B8A5-6128D7D9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606C-35F5-4A4A-9C2E-FAA6DFFD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AE3-F01B-4F23-A3BD-B76C23EB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FE9C4-8301-4C6D-A8D3-2E704CD6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5CD4-680C-4493-BFD0-301B2D49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9C79-3058-489B-874A-03D57018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917A3-96ED-4405-B1E7-0927633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14FD-5F3B-41C2-80E0-F1364574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880D8-BCE0-4C88-BA0F-02FEFF83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9A765-7FFD-4687-9F2E-8C054239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AA93-F100-49EA-A4E2-2E7583F7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68FD5-786F-4166-8843-6A66AB78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17647-1878-447C-8621-FB03F792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14A-2575-4A62-A4C4-0FDB05BA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DA3A1-6592-4BF1-B9D0-0C76B1DF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501D2-FA8F-41D5-8E20-92B24D1F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5EAD-1EB6-4FED-A01A-B8D2FC22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EADD6-4462-4473-9731-8DBA07D2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FEDE3-6596-4EE0-A288-45A5522A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65133-0889-4F4F-935A-5C4F332D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27EB-E7E1-4888-8D52-80AC16D8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6CEAB-26B6-4FF4-80BE-E2782337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1E7D4-5729-4F12-B89E-532F44CB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0CAE3-A5E7-44B0-ABEB-9522E691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1E1-1E3C-476D-BD48-719E71D8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9B388-C733-477E-9026-719E16B2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1C734-0603-4DF9-9B0E-D327BF10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CDA78-05C2-4AFC-B348-5555F487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C9501-8132-4034-A981-4F6D1930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9C145-AC43-46A6-931E-F157E886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260FA-AD84-466D-8A6D-A864579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1D2B8-6ACA-4159-9FFF-D97FD9E0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F1C27-5DFA-4606-B5A2-7A1F33E1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F469A-CB0B-488B-AF4A-351F3B33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B4661-7DE2-4BC4-8546-8AACFA22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53D-3D0C-46E7-907B-0282DC83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902C9-D053-49CA-91CF-C5E08088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124D7-9227-477B-90A6-5AB1D169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2767B-2CAB-4CCF-990E-B4529034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61E07-0A70-4B45-A45D-421D74F1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B8329-0E10-4F3D-B407-72755477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AC94D-9F91-4614-8501-040781D0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B8D1A-A439-448E-BF7B-F6DD41BD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9B810-4C61-4507-8020-06035CDA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06F10-A3DC-4C00-82CC-C12E09E6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D1B40-CD94-48CA-92E1-D5064E25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AFF-5362-4997-BFE2-88A5DDC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CCEB5-2240-493E-BC8D-09E0355C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BC8A9-C689-4092-8583-DECA0B5D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E07AF-0A7E-4027-96CD-F94DB22F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0F1E7-D9D1-41EB-8D75-6453A281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F522F-568B-414A-9EBA-C2B1983C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56379-2A33-4F35-B6B8-1EDC4B08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E7437-E4EF-4BEE-A7F6-616445C7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68974-1367-4E24-B0BE-64B9612A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8596C-EA8C-4A17-8710-D06B058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1A23F-7D31-43F8-AD2B-E6CF7B38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596-F307-4DD2-91F9-4FC29B60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B5AF0-3C48-4FB0-B1E6-44A2ADB8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6006D-5131-473D-B4AE-13E9E69A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33BE2-5F60-4528-88E7-5F916CF8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6F87F-06CB-4292-AA15-59F40F92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9FE0F-0FCE-45A6-B5FE-9631DB9F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C54AA-4795-42CA-B882-3F4020D8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4E329-9600-4533-BF82-053190F9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36188-2873-44F8-9E62-84FDDF6B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CA605-78D7-49C7-9AE5-200897A3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F6BFC-319C-4A00-9799-7F007D1E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0BA-2C37-437D-AD83-799C718E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46873-0A69-43D2-BD18-D468FA1A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21984-943C-4836-ADC6-47D01EB6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D30CA-24A4-43A2-AE57-053F371B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482AD-7B25-4FBC-8887-59A2B379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5B360-E374-499A-94C1-6BF43945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F1D96-0B0E-4A56-9A12-55B539FD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48559-6BB0-45B4-940E-7180F9F4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29371-2873-4412-87F3-7466130C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692E7-FEBD-44BF-BC29-F73A2C89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6ED7D-B579-45A7-B498-10CBED50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CDE4-CFF2-4016-9F78-38D106A74D1C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284E-6578-43F7-806B-F583706A62D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EF75-E23E-4C14-A5BB-2102D15C274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AB77-AD56-43DB-8E23-8B338F0CDF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C4D8-DB4E-4E80-8F80-15682C1107A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8C5F-FFEE-43C6-B01D-10FC086214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74CB-419A-4A2E-BEDA-354B01F751D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0726-4FE0-4530-B4DE-DC9D51DCB7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D9D8-8666-4850-A4D8-2243F8DDF547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977E-3B3F-4551-A9D6-623BF198676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F589-A6F3-439C-9F01-7238EF9C3F92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6494-C963-4719-9CAD-658DB31A98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E1BF-BDEA-47E8-AB0A-C3491645EAE8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1BD3-FF45-4F41-9777-426D3D40A0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988F-E670-470B-8698-B79C6D0092A8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3F4A-9D51-4CBA-8AF2-3AFA3D58722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15FB-C052-43BB-B772-575597A8537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D7B6-62E0-4077-9802-C9CCD25E69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pn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pn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image" Target="../media/image92.jpeg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pn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image" Target="../media/image100.jpeg"/><Relationship Id="rId6" Type="http://schemas.openxmlformats.org/officeDocument/2006/relationships/image" Target="../media/image101.jpeg"/><Relationship Id="rId7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image" Target="../media/image103.jpe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image" Target="../media/image111.jpeg"/><Relationship Id="rId7" Type="http://schemas.openxmlformats.org/officeDocument/2006/relationships/image" Target="../media/image112.jpeg"/><Relationship Id="rId8" Type="http://schemas.openxmlformats.org/officeDocument/2006/relationships/image" Target="../media/image113.jpeg"/><Relationship Id="rId9" Type="http://schemas.openxmlformats.org/officeDocument/2006/relationships/image" Target="../media/image114.jpeg"/><Relationship Id="rId10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8.pn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0.pn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image" Target="../media/image123.jpeg"/><Relationship Id="rId6" Type="http://schemas.openxmlformats.org/officeDocument/2006/relationships/image" Target="../media/image124.jpeg"/><Relationship Id="rId7" Type="http://schemas.openxmlformats.org/officeDocument/2006/relationships/image" Target="../media/image125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4" descr=""/>
          <p:cNvPicPr/>
          <p:nvPr/>
        </p:nvPicPr>
        <p:blipFill>
          <a:blip r:embed="rId2"/>
          <a:stretch/>
        </p:blipFill>
        <p:spPr>
          <a:xfrm>
            <a:off x="4632480" y="4925880"/>
            <a:ext cx="2176200" cy="1938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86200" y="285840"/>
            <a:ext cx="41292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Культур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Древнего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Египт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09" name="Рисунок 6" descr="dbc3d17b38e3.jpg"/>
          <p:cNvPicPr/>
          <p:nvPr/>
        </p:nvPicPr>
        <p:blipFill>
          <a:blip r:embed="rId3"/>
          <a:stretch/>
        </p:blipFill>
        <p:spPr>
          <a:xfrm>
            <a:off x="-357120" y="17640"/>
            <a:ext cx="5153040" cy="68403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0"/>
          <p:cNvSpPr/>
          <p:nvPr/>
        </p:nvSpPr>
        <p:spPr>
          <a:xfrm flipH="1">
            <a:off x="2232000" y="3500280"/>
            <a:ext cx="54000" cy="92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Рисунок 12" descr="lotos.jpg"/>
          <p:cNvPicPr/>
          <p:nvPr/>
        </p:nvPicPr>
        <p:blipFill>
          <a:blip r:embed="rId4"/>
          <a:stretch/>
        </p:blipFill>
        <p:spPr>
          <a:xfrm>
            <a:off x="6572160" y="4842000"/>
            <a:ext cx="2700360" cy="2016000"/>
          </a:xfrm>
          <a:prstGeom prst="rect">
            <a:avLst/>
          </a:prstGeom>
          <a:ln w="0">
            <a:noFill/>
          </a:ln>
        </p:spPr>
      </p:pic>
      <p:sp>
        <p:nvSpPr>
          <p:cNvPr id="412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2DE9-E798-4D80-9C6D-2ACD17DD8A8C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АСТАБ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0" y="71388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РИНАДЛЕЖНОСТИ ДЛЯ ПИСЬМ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9" name="Picture 2" descr="C:\Documents and Settings\Maria\Мои документы\Культурология\Репродукции\Мастаба_Шепсескафа.jpg"/>
          <p:cNvPicPr/>
          <p:nvPr/>
        </p:nvPicPr>
        <p:blipFill>
          <a:blip r:embed="rId2"/>
          <a:stretch/>
        </p:blipFill>
        <p:spPr>
          <a:xfrm>
            <a:off x="428760" y="1285920"/>
            <a:ext cx="3311280" cy="2484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C:\Documents and Settings\Maria\Мои документы\Культурология\Репродукции\180px-Mastaba.jpg"/>
          <p:cNvPicPr/>
          <p:nvPr/>
        </p:nvPicPr>
        <p:blipFill>
          <a:blip r:embed="rId3"/>
          <a:stretch/>
        </p:blipFill>
        <p:spPr>
          <a:xfrm>
            <a:off x="142920" y="4214880"/>
            <a:ext cx="3591000" cy="2214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4"/>
          <a:stretch/>
        </p:blipFill>
        <p:spPr>
          <a:xfrm>
            <a:off x="5357880" y="1214280"/>
            <a:ext cx="24955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8280-F2BB-4327-B6BD-C14B05727A3B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Заголовок 6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004320" cy="15177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Эпоху </a:t>
            </a:r>
            <a:r>
              <a:rPr b="1" i="1" lang="ru-RU" sz="1600" spc="-1" strike="noStrike" u="sng">
                <a:solidFill>
                  <a:srgbClr val="624139"/>
                </a:solidFill>
                <a:uFillTx/>
                <a:latin typeface="Constantia"/>
              </a:rPr>
              <a:t>Древнего царства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(</a:t>
            </a:r>
            <a:r>
              <a:rPr b="1" i="1" lang="en-US" sz="16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тыс. до н. э.) сами египтяне рассматривали как золотой век в истории своей культуры, поскольку в этот период: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Утверждается медный век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столица- Мемфис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правление фараонов: Джосера, Хеопса, Хефрена, Микерин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ысокого уровня достигают земледелие, садоводство, огородничество и виноградарство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дется каменное строительство, включая монументальные сооружения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вершается становление иероглифического письм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появляется первый свиток папирус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складывается система счет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осуществляются первые попытки мумификации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в эпоху Древнего царства оформляется вся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ная система культов, а среди многочисленных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богов устанавливается своеобразная иерархия с Богом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олнца Амоном-Ра во главе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хоронения фараонов производят в гробницах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ился монументальный стиль египетского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искусства и выработались изобразительные канон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лика роль  скульптур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85" name="Picture 1" descr="D:\Documents and Settings\Admin\Мои документы\Мои рисунки\attach.jpg"/>
          <p:cNvPicPr/>
          <p:nvPr/>
        </p:nvPicPr>
        <p:blipFill>
          <a:blip r:embed="rId3"/>
          <a:stretch/>
        </p:blipFill>
        <p:spPr>
          <a:xfrm>
            <a:off x="8326440" y="1143000"/>
            <a:ext cx="817560" cy="2627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D:\Documents and Settings\Admin\Рабочий стол\Египет\Египет\0b29d757919bc06222fa056e69a57d3b.jpeg"/>
          <p:cNvPicPr/>
          <p:nvPr/>
        </p:nvPicPr>
        <p:blipFill>
          <a:blip r:embed="rId4"/>
          <a:stretch/>
        </p:blipFill>
        <p:spPr>
          <a:xfrm>
            <a:off x="5684760" y="4554360"/>
            <a:ext cx="34592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2"/>
          <a:stretch/>
        </p:blipFill>
        <p:spPr>
          <a:xfrm>
            <a:off x="3767040" y="384120"/>
            <a:ext cx="5383440" cy="1481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C:\Documents and Settings\Maria\Мои документы\Культурология\Репродукции\пирамида джосера.jpg"/>
          <p:cNvPicPr/>
          <p:nvPr/>
        </p:nvPicPr>
        <p:blipFill>
          <a:blip r:embed="rId3"/>
          <a:stretch/>
        </p:blipFill>
        <p:spPr>
          <a:xfrm>
            <a:off x="2857680" y="1785960"/>
            <a:ext cx="6286320" cy="47149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" descr=""/>
          <p:cNvPicPr/>
          <p:nvPr/>
        </p:nvPicPr>
        <p:blipFill>
          <a:blip r:embed="rId4"/>
          <a:stretch/>
        </p:blipFill>
        <p:spPr>
          <a:xfrm>
            <a:off x="0" y="0"/>
            <a:ext cx="3657600" cy="20098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0" y="2928960"/>
            <a:ext cx="235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фараона Джосер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в Саккар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тыс. до н. э.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рхитекто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мхотеп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9010800" y="3285720"/>
            <a:ext cx="133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3" name="Рисунок 3" descr="a8.jpg"/>
          <p:cNvPicPr/>
          <p:nvPr/>
        </p:nvPicPr>
        <p:blipFill>
          <a:blip r:embed="rId3"/>
          <a:stretch/>
        </p:blipFill>
        <p:spPr>
          <a:xfrm>
            <a:off x="0" y="1125360"/>
            <a:ext cx="3887640" cy="2590920"/>
          </a:xfrm>
          <a:prstGeom prst="rect">
            <a:avLst/>
          </a:prstGeom>
          <a:ln w="0">
            <a:noFill/>
          </a:ln>
        </p:spPr>
      </p:pic>
      <p:pic>
        <p:nvPicPr>
          <p:cNvPr id="494" name="Содержимое 3" descr="a92.jpg"/>
          <p:cNvPicPr/>
          <p:nvPr/>
        </p:nvPicPr>
        <p:blipFill>
          <a:blip r:embed="rId4"/>
          <a:stretch/>
        </p:blipFill>
        <p:spPr>
          <a:xfrm>
            <a:off x="2174760" y="3689280"/>
            <a:ext cx="6969240" cy="3168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" descr=""/>
          <p:cNvPicPr/>
          <p:nvPr/>
        </p:nvPicPr>
        <p:blipFill>
          <a:blip r:embed="rId5"/>
          <a:stretch/>
        </p:blipFill>
        <p:spPr>
          <a:xfrm>
            <a:off x="4786200" y="1214280"/>
            <a:ext cx="3979800" cy="2340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"/>
          <p:cNvSpPr/>
          <p:nvPr/>
        </p:nvSpPr>
        <p:spPr>
          <a:xfrm>
            <a:off x="0" y="4357800"/>
            <a:ext cx="21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ы фараон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еопса, Хефре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 Микерин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из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9" name="Picture 7" descr="1241604153_030007b"/>
          <p:cNvPicPr/>
          <p:nvPr/>
        </p:nvPicPr>
        <p:blipFill>
          <a:blip r:embed="rId2"/>
          <a:stretch/>
        </p:blipFill>
        <p:spPr>
          <a:xfrm>
            <a:off x="3276720" y="2766960"/>
            <a:ext cx="6351480" cy="4091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9" descr="stroenie_heops3"/>
          <p:cNvPicPr/>
          <p:nvPr/>
        </p:nvPicPr>
        <p:blipFill>
          <a:blip r:embed="rId3"/>
          <a:stretch/>
        </p:blipFill>
        <p:spPr>
          <a:xfrm>
            <a:off x="0" y="0"/>
            <a:ext cx="5580000" cy="41972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5529d6d4aef6"/>
          <p:cNvPicPr/>
          <p:nvPr/>
        </p:nvPicPr>
        <p:blipFill>
          <a:blip r:embed="rId4"/>
          <a:stretch/>
        </p:blipFill>
        <p:spPr>
          <a:xfrm>
            <a:off x="0" y="4005360"/>
            <a:ext cx="3276720" cy="28526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1" descr="16658"/>
          <p:cNvPicPr/>
          <p:nvPr/>
        </p:nvPicPr>
        <p:blipFill>
          <a:blip r:embed="rId5"/>
          <a:stretch/>
        </p:blipFill>
        <p:spPr>
          <a:xfrm>
            <a:off x="5580000" y="0"/>
            <a:ext cx="4584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6AB6-D60C-4C2B-A22A-1BF09BE980C0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4" name="Заголовок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699760" cy="14749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-360" y="1071360"/>
            <a:ext cx="41432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Египетские статуи исполнялись согласно канону (греч. «норма», «правило») — строгим законам, которым подчинялось изобразительное искусство. Они представляли собой фигуры, стоящие с выдвинутой вперёд ногой либо сидящие на троне с прижатыми к груди или лежащими на коленях руками и сомкнутыми ногами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06" name="Содержимое 14" descr="Хефрен_009.jpg"/>
          <p:cNvPicPr/>
          <p:nvPr/>
        </p:nvPicPr>
        <p:blipFill>
          <a:blip r:embed="rId3"/>
          <a:stretch/>
        </p:blipFill>
        <p:spPr>
          <a:xfrm>
            <a:off x="3929040" y="1143000"/>
            <a:ext cx="2928960" cy="501012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15" descr="Хефрен Диокситовая.jpg"/>
          <p:cNvPicPr/>
          <p:nvPr/>
        </p:nvPicPr>
        <p:blipFill>
          <a:blip r:embed="rId4"/>
          <a:stretch/>
        </p:blipFill>
        <p:spPr>
          <a:xfrm>
            <a:off x="7367760" y="0"/>
            <a:ext cx="1776240" cy="133200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7"/>
          <p:cNvSpPr/>
          <p:nvPr/>
        </p:nvSpPr>
        <p:spPr>
          <a:xfrm>
            <a:off x="6858000" y="1643040"/>
            <a:ext cx="214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Хефр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заупокойного хра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 Гиз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F23B-FD83-4729-94F1-2EA3FCCD62E2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0" name="Рисунок 5" descr="image027.jpg"/>
          <p:cNvPicPr/>
          <p:nvPr/>
        </p:nvPicPr>
        <p:blipFill>
          <a:blip r:embed="rId2"/>
          <a:stretch/>
        </p:blipFill>
        <p:spPr>
          <a:xfrm>
            <a:off x="2214720" y="0"/>
            <a:ext cx="3649680" cy="4319640"/>
          </a:xfrm>
          <a:prstGeom prst="rect">
            <a:avLst/>
          </a:prstGeom>
          <a:ln w="0">
            <a:noFill/>
          </a:ln>
        </p:spPr>
      </p:pic>
      <p:sp>
        <p:nvSpPr>
          <p:cNvPr id="511" name="TextBox 6"/>
          <p:cNvSpPr/>
          <p:nvPr/>
        </p:nvSpPr>
        <p:spPr>
          <a:xfrm>
            <a:off x="2214720" y="450072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царевича Рахотепа и его супруги Нофрет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в Медум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2" name="Содержимое 6" descr="004406.jpg"/>
          <p:cNvPicPr/>
          <p:nvPr/>
        </p:nvPicPr>
        <p:blipFill>
          <a:blip r:embed="rId3"/>
          <a:stretch/>
        </p:blipFill>
        <p:spPr>
          <a:xfrm>
            <a:off x="6219720" y="0"/>
            <a:ext cx="2924280" cy="38098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8"/>
          <p:cNvSpPr/>
          <p:nvPr/>
        </p:nvSpPr>
        <p:spPr>
          <a:xfrm>
            <a:off x="6500880" y="392904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я писца Ка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з гробницы в Саккар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III тыс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ариж.Лув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4" name="Рисунок 9" descr="image028.jpg"/>
          <p:cNvPicPr/>
          <p:nvPr/>
        </p:nvPicPr>
        <p:blipFill>
          <a:blip r:embed="rId4"/>
          <a:stretch/>
        </p:blipFill>
        <p:spPr>
          <a:xfrm>
            <a:off x="0" y="0"/>
            <a:ext cx="1405080" cy="399564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1"/>
          <p:cNvSpPr/>
          <p:nvPr/>
        </p:nvSpPr>
        <p:spPr>
          <a:xfrm>
            <a:off x="0" y="40006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вельмож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апера (Сельский староста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Саккар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Заголовок 1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8759520" cy="1951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C:\Documents and Settings\Maria\Мои документы\Культурология\Репродукции\Имхотеп скульптор визирь учерный Лрев ЦарствоJPG.JPG"/>
          <p:cNvPicPr/>
          <p:nvPr/>
        </p:nvPicPr>
        <p:blipFill>
          <a:blip r:embed="rId3"/>
          <a:stretch/>
        </p:blipFill>
        <p:spPr>
          <a:xfrm>
            <a:off x="0" y="192888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C:\Documents and Settings\Maria\Мои документы\Культурология\Репродукции\царевич Рахотеп.jpg"/>
          <p:cNvPicPr/>
          <p:nvPr/>
        </p:nvPicPr>
        <p:blipFill>
          <a:blip r:embed="rId4"/>
          <a:stretch/>
        </p:blipFill>
        <p:spPr>
          <a:xfrm>
            <a:off x="2500200" y="185724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C:\Documents and Settings\Maria\Мои документы\Культурология\Репродукции\нефертити супруга эхнатона.jpg"/>
          <p:cNvPicPr/>
          <p:nvPr/>
        </p:nvPicPr>
        <p:blipFill>
          <a:blip r:embed="rId5"/>
          <a:stretch/>
        </p:blipFill>
        <p:spPr>
          <a:xfrm>
            <a:off x="6031080" y="2714760"/>
            <a:ext cx="3112920" cy="414324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7"/>
          <p:cNvSpPr/>
          <p:nvPr/>
        </p:nvSpPr>
        <p:spPr>
          <a:xfrm>
            <a:off x="2643120" y="42148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евича Рахотепа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Прямоугольник 8"/>
          <p:cNvSpPr/>
          <p:nvPr/>
        </p:nvSpPr>
        <p:spPr>
          <a:xfrm>
            <a:off x="0" y="51436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Имхотеп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Прямоугольник 9"/>
          <p:cNvSpPr/>
          <p:nvPr/>
        </p:nvSpPr>
        <p:spPr>
          <a:xfrm>
            <a:off x="5429160" y="23572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ицы Неферти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3" name="Picture 1" descr="D:\Documents and Settings\Admin\Рабочий стол\Египет\Египет\0b2950a9555da5093d91bf9671a109b8.jpeg"/>
          <p:cNvPicPr/>
          <p:nvPr/>
        </p:nvPicPr>
        <p:blipFill>
          <a:blip r:embed="rId6"/>
          <a:stretch/>
        </p:blipFill>
        <p:spPr>
          <a:xfrm>
            <a:off x="2428920" y="5021280"/>
            <a:ext cx="1285920" cy="18367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0"/>
          <p:cNvSpPr/>
          <p:nvPr/>
        </p:nvSpPr>
        <p:spPr>
          <a:xfrm>
            <a:off x="3643200" y="507204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этка, изображающа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Жреца Аменхотепа и его жену Ранна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6C38-B2E6-46BA-9625-1EEC41440539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D:\Documents and Settings\Admin\Мои документы\Мои рисунки\медум.jpg"/>
          <p:cNvPicPr/>
          <p:nvPr/>
        </p:nvPicPr>
        <p:blipFill>
          <a:blip r:embed="rId3"/>
          <a:stretch/>
        </p:blipFill>
        <p:spPr>
          <a:xfrm>
            <a:off x="0" y="857160"/>
            <a:ext cx="1887480" cy="111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D:\Documents and Settings\Admin\Мои документы\Мои рисунки\i_334.jpg"/>
          <p:cNvPicPr/>
          <p:nvPr/>
        </p:nvPicPr>
        <p:blipFill>
          <a:blip r:embed="rId4"/>
          <a:stretch/>
        </p:blipFill>
        <p:spPr>
          <a:xfrm>
            <a:off x="2214720" y="1428840"/>
            <a:ext cx="6810120" cy="134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D:\Documents and Settings\Admin\Мои документы\Мои рисунки\rГробница Ти.jpg"/>
          <p:cNvPicPr/>
          <p:nvPr/>
        </p:nvPicPr>
        <p:blipFill>
          <a:blip r:embed="rId5"/>
          <a:stretch/>
        </p:blipFill>
        <p:spPr>
          <a:xfrm>
            <a:off x="5857920" y="3932280"/>
            <a:ext cx="3011400" cy="29257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7"/>
          <p:cNvSpPr/>
          <p:nvPr/>
        </p:nvSpPr>
        <p:spPr>
          <a:xfrm>
            <a:off x="0" y="2000160"/>
            <a:ext cx="221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«Гуси». Фрес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зодче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ефермаата в Медум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5929200" y="292896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вельможи Ти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э в 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2" name="Рисунок 11" descr="Gnf[[jntg.jpg"/>
          <p:cNvPicPr/>
          <p:nvPr/>
        </p:nvPicPr>
        <p:blipFill>
          <a:blip r:embed="rId6"/>
          <a:stretch/>
        </p:blipFill>
        <p:spPr>
          <a:xfrm>
            <a:off x="-214200" y="4214880"/>
            <a:ext cx="3693960" cy="24112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12" descr="Птаххотеп.jpg"/>
          <p:cNvPicPr/>
          <p:nvPr/>
        </p:nvPicPr>
        <p:blipFill>
          <a:blip r:embed="rId7"/>
          <a:stretch/>
        </p:blipFill>
        <p:spPr>
          <a:xfrm>
            <a:off x="2357280" y="2857680"/>
            <a:ext cx="3227400" cy="21952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13"/>
          <p:cNvSpPr/>
          <p:nvPr/>
        </p:nvSpPr>
        <p:spPr>
          <a:xfrm>
            <a:off x="3571920" y="550080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Птаххотеп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 ю до н. э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Стрелка вниз 14"/>
          <p:cNvSpPr/>
          <p:nvPr/>
        </p:nvSpPr>
        <p:spPr>
          <a:xfrm>
            <a:off x="7143840" y="378612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Стрелка влево 15"/>
          <p:cNvSpPr/>
          <p:nvPr/>
        </p:nvSpPr>
        <p:spPr>
          <a:xfrm rot="2316600">
            <a:off x="3795480" y="5051520"/>
            <a:ext cx="28548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Стрелка вверх 16"/>
          <p:cNvSpPr/>
          <p:nvPr/>
        </p:nvSpPr>
        <p:spPr>
          <a:xfrm rot="2794800">
            <a:off x="1823040" y="2015280"/>
            <a:ext cx="285840" cy="255600"/>
          </a:xfrm>
          <a:prstGeom prst="upArrow">
            <a:avLst>
              <a:gd name="adj1" fmla="val 63583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8839440" cy="17002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0" y="12855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В этот период интенсивно развивается выплавка (бронзы)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К ужеимеющимся ремеслам добавляется производство стекл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Заупокойный культ обслуживает и царей и вельмож, и средние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слои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Фараон воспринимается и как бог, как живой человек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в деле мумификации и бальзамировании были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достигнуты благодаря развитию медицины, знанию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натомии и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физиологии человек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  Целители-жрецы разрабатывали учение о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мозге, о кровеносных сосудах, о пульсе и сердц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 в математике и   астрономии, Геродот называл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тян учителями геометрии. Астрономы умели предсказывать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затмения, начало разлива Нила; солнечный календарь становился более совершенным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40" name="Picture 5" descr="D:\Documents and Settings\Admin\Мои документы\Мои рисунки\1255014393_6.jpg"/>
          <p:cNvPicPr/>
          <p:nvPr/>
        </p:nvPicPr>
        <p:blipFill>
          <a:blip r:embed="rId3"/>
          <a:stretch/>
        </p:blipFill>
        <p:spPr>
          <a:xfrm>
            <a:off x="7572240" y="2357280"/>
            <a:ext cx="1336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4" descr=""/>
          <p:cNvPicPr/>
          <p:nvPr/>
        </p:nvPicPr>
        <p:blipFill>
          <a:blip r:embed="rId2"/>
          <a:stretch/>
        </p:blipFill>
        <p:spPr>
          <a:xfrm>
            <a:off x="298440" y="-152280"/>
            <a:ext cx="8699400" cy="1414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Культура Древнего Египта  -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древнейшая культура человечества, существовавшая примерно с конца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 до 332 г. до н. э.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В истории Древнего Египта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выделяют несколько периодов.   </a:t>
            </a:r>
            <a:r>
              <a:rPr b="0" lang="ru-RU" sz="2200" spc="-1" strike="noStrike" u="sng">
                <a:solidFill>
                  <a:srgbClr val="523227"/>
                </a:solidFill>
                <a:uFillTx/>
                <a:latin typeface="Constantia"/>
              </a:rPr>
              <a:t>Первый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 из  них  именуется 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одинастинеск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- э.), в течение которого зарождалась египетская цивилизация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ующие периоды, охватывающие 30 династий фараонов, 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египетский жрец Манефон,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написавший историю своей страны, предложил называть следующими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царствами: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рев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Сред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конец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— начало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Новым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ний период древнеегипетской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истории иногда называют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Поздним временем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</a:t>
            </a: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5" name="Номер слайда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46F4-0C63-4B0E-BD0C-2BF9D127284F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6" name="Picture 3" descr="D:\Documents and Settings\Admin\Мои документы\Мои рисунки\allfons_ru-2202.jpg"/>
          <p:cNvPicPr/>
          <p:nvPr/>
        </p:nvPicPr>
        <p:blipFill>
          <a:blip r:embed="rId3"/>
          <a:stretch/>
        </p:blipFill>
        <p:spPr>
          <a:xfrm rot="693600">
            <a:off x="5089680" y="4576680"/>
            <a:ext cx="3857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5275-1C75-4946-AD37-0DAD7D16D7AC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2" name="Заголовок 8" descr=""/>
          <p:cNvPicPr/>
          <p:nvPr/>
        </p:nvPicPr>
        <p:blipFill>
          <a:blip r:embed="rId2"/>
          <a:stretch/>
        </p:blipFill>
        <p:spPr>
          <a:xfrm>
            <a:off x="285840" y="-115920"/>
            <a:ext cx="5078160" cy="1481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" descr=""/>
          <p:cNvPicPr/>
          <p:nvPr/>
        </p:nvPicPr>
        <p:blipFill>
          <a:blip r:embed="rId3"/>
          <a:stretch/>
        </p:blipFill>
        <p:spPr>
          <a:xfrm>
            <a:off x="0" y="928800"/>
            <a:ext cx="2863800" cy="2124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"/>
          <p:cNvPicPr/>
          <p:nvPr/>
        </p:nvPicPr>
        <p:blipFill>
          <a:blip r:embed="rId4"/>
          <a:stretch/>
        </p:blipFill>
        <p:spPr>
          <a:xfrm>
            <a:off x="6143760" y="0"/>
            <a:ext cx="2904840" cy="2268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5"/>
          <a:stretch/>
        </p:blipFill>
        <p:spPr>
          <a:xfrm>
            <a:off x="3357720" y="928800"/>
            <a:ext cx="2158920" cy="3708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12"/>
          <p:cNvSpPr/>
          <p:nvPr/>
        </p:nvSpPr>
        <p:spPr>
          <a:xfrm flipH="1">
            <a:off x="3642480" y="1714680"/>
            <a:ext cx="7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7" name="Picture 6" descr="D:\Documents and Settings\Admin\Мои документы\Мои рисунки\004413.jpg"/>
          <p:cNvPicPr/>
          <p:nvPr/>
        </p:nvPicPr>
        <p:blipFill>
          <a:blip r:embed="rId6"/>
          <a:stretch/>
        </p:blipFill>
        <p:spPr>
          <a:xfrm>
            <a:off x="5786280" y="3286080"/>
            <a:ext cx="3071880" cy="28432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20"/>
          <p:cNvSpPr/>
          <p:nvPr/>
        </p:nvSpPr>
        <p:spPr>
          <a:xfrm>
            <a:off x="3143160" y="4643280"/>
            <a:ext cx="257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енемхета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  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TextBox 21"/>
          <p:cNvSpPr/>
          <p:nvPr/>
        </p:nvSpPr>
        <p:spPr>
          <a:xfrm>
            <a:off x="5715000" y="2214720"/>
            <a:ext cx="329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Удод. Роспись 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в Бени-Гасане</a:t>
            </a:r>
            <a:r>
              <a:rPr b="1" i="1" lang="ru-RU" sz="1800" spc="-1" strike="noStrike">
                <a:solidFill>
                  <a:srgbClr val="00b05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TextBox 23"/>
          <p:cNvSpPr/>
          <p:nvPr/>
        </p:nvSpPr>
        <p:spPr>
          <a:xfrm>
            <a:off x="0" y="314316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и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Бени-Гасан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1" name="Picture 8" descr="D:\Documents and Settings\Admin\Рабочий стол\Египет\Египет\image1281318086.jpg"/>
          <p:cNvPicPr/>
          <p:nvPr/>
        </p:nvPicPr>
        <p:blipFill>
          <a:blip r:embed="rId7"/>
          <a:stretch/>
        </p:blipFill>
        <p:spPr>
          <a:xfrm>
            <a:off x="-285840" y="4429080"/>
            <a:ext cx="33926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E94C-CFBD-482D-A765-DBE0DFEB274C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3" name="Заголовок 5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" descr=""/>
          <p:cNvPicPr/>
          <p:nvPr/>
        </p:nvPicPr>
        <p:blipFill>
          <a:blip r:embed="rId3"/>
          <a:stretch/>
        </p:blipFill>
        <p:spPr>
          <a:xfrm>
            <a:off x="285840" y="1428840"/>
            <a:ext cx="5683320" cy="5327640"/>
          </a:xfrm>
          <a:prstGeom prst="rect">
            <a:avLst/>
          </a:prstGeom>
          <a:ln w="0">
            <a:noFill/>
          </a:ln>
        </p:spPr>
      </p:pic>
      <p:sp>
        <p:nvSpPr>
          <p:cNvPr id="555" name="TextBox 7"/>
          <p:cNvSpPr/>
          <p:nvPr/>
        </p:nvSpPr>
        <p:spPr>
          <a:xfrm>
            <a:off x="6000840" y="1357200"/>
            <a:ext cx="3143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Ювелирные издели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1  — ожерель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2  — пекторал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3  — кольцо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4 — подвеска с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карабее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*Пектораль — нагрудно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украшение в вид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ямоугольно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легка скошенной ввер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ластины, которую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лали 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рудь умершему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ектораль бы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дним из обязательны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едметов заупокойно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A262-F0B2-4AA1-8E1F-2E75FB0AC7B1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Заголовок 5" descr=""/>
          <p:cNvPicPr/>
          <p:nvPr/>
        </p:nvPicPr>
        <p:blipFill>
          <a:blip r:embed="rId2"/>
          <a:stretch/>
        </p:blipFill>
        <p:spPr>
          <a:xfrm>
            <a:off x="450720" y="-146160"/>
            <a:ext cx="8699760" cy="14814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213840" y="999720"/>
            <a:ext cx="464364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4139"/>
                </a:solidFill>
                <a:latin typeface="Constantia"/>
              </a:rPr>
              <a:t>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Характеризуется изгнанием гиксосов, объединением страны, периодом Амарны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нач. 14 в. до . э. ) Место погребения- Долина царей. Храмовое строительство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Храмы в Карнаке, Луксоре…)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59" name="Picture 1" descr=""/>
          <p:cNvPicPr/>
          <p:nvPr/>
        </p:nvPicPr>
        <p:blipFill>
          <a:blip r:embed="rId3"/>
          <a:stretch/>
        </p:blipFill>
        <p:spPr>
          <a:xfrm>
            <a:off x="4500720" y="1000080"/>
            <a:ext cx="4600440" cy="33480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14"/>
          <p:cNvSpPr/>
          <p:nvPr/>
        </p:nvSpPr>
        <p:spPr>
          <a:xfrm>
            <a:off x="4572000" y="4500720"/>
            <a:ext cx="36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и фараона Аменхотепа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Колоссы Мемнон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4"/>
          <a:stretch/>
        </p:blipFill>
        <p:spPr>
          <a:xfrm>
            <a:off x="0" y="3786120"/>
            <a:ext cx="3619440" cy="22478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1"/>
          <p:cNvSpPr/>
          <p:nvPr/>
        </p:nvSpPr>
        <p:spPr>
          <a:xfrm>
            <a:off x="285840" y="6000840"/>
            <a:ext cx="72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«Плакальщики». Рельеф из Мемфис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5E63-E200-46F6-9D38-A145CEBE6D4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4" name="Заголовок 5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699760" cy="1199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142880" y="3571920"/>
            <a:ext cx="500076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nstantia"/>
              </a:rPr>
              <a:t>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етский 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3"/>
          <a:stretch/>
        </p:blipFill>
        <p:spPr>
          <a:xfrm>
            <a:off x="4000680" y="1071720"/>
            <a:ext cx="4464000" cy="2625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4"/>
          <a:stretch/>
        </p:blipFill>
        <p:spPr>
          <a:xfrm>
            <a:off x="142920" y="1214280"/>
            <a:ext cx="2867040" cy="1571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"/>
          <p:cNvPicPr/>
          <p:nvPr/>
        </p:nvPicPr>
        <p:blipFill>
          <a:blip r:embed="rId5"/>
          <a:stretch/>
        </p:blipFill>
        <p:spPr>
          <a:xfrm>
            <a:off x="0" y="2971800"/>
            <a:ext cx="928800" cy="3886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6"/>
          <a:stretch/>
        </p:blipFill>
        <p:spPr>
          <a:xfrm>
            <a:off x="2643120" y="2857680"/>
            <a:ext cx="1514520" cy="389556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5"/>
          <p:cNvSpPr/>
          <p:nvPr/>
        </p:nvSpPr>
        <p:spPr>
          <a:xfrm>
            <a:off x="500040" y="8571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пители колон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TextBox 17"/>
          <p:cNvSpPr/>
          <p:nvPr/>
        </p:nvSpPr>
        <p:spPr>
          <a:xfrm>
            <a:off x="714240" y="357192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е колон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апирусовидная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Лотосовидна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Стрелка влево 18"/>
          <p:cNvSpPr/>
          <p:nvPr/>
        </p:nvSpPr>
        <p:spPr>
          <a:xfrm>
            <a:off x="571680" y="4357800"/>
            <a:ext cx="4284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Стрелка вправо 19"/>
          <p:cNvSpPr/>
          <p:nvPr/>
        </p:nvSpPr>
        <p:spPr>
          <a:xfrm>
            <a:off x="2500200" y="4857840"/>
            <a:ext cx="549360" cy="428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TextBox 20"/>
          <p:cNvSpPr/>
          <p:nvPr/>
        </p:nvSpPr>
        <p:spPr>
          <a:xfrm>
            <a:off x="4406040" y="135720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й хра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D86C-A677-4B54-A868-29FF6917DC50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6" name="Picture 1" descr=""/>
          <p:cNvPicPr/>
          <p:nvPr/>
        </p:nvPicPr>
        <p:blipFill>
          <a:blip r:embed="rId2"/>
          <a:stretch/>
        </p:blipFill>
        <p:spPr>
          <a:xfrm>
            <a:off x="0" y="928800"/>
            <a:ext cx="4057560" cy="27352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2908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В ДЕЙР ЭЛЬ-БАХРИ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Храм царицы Хатшепсут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)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3"/>
          <a:stretch/>
        </p:blipFill>
        <p:spPr>
          <a:xfrm>
            <a:off x="4500720" y="714240"/>
            <a:ext cx="4238640" cy="2934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4"/>
          <a:stretch/>
        </p:blipFill>
        <p:spPr>
          <a:xfrm>
            <a:off x="5214960" y="3714840"/>
            <a:ext cx="3647880" cy="241920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6"/>
          <p:cNvSpPr/>
          <p:nvPr/>
        </p:nvSpPr>
        <p:spPr>
          <a:xfrm>
            <a:off x="4500720" y="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24139"/>
                </a:solidFill>
                <a:latin typeface="Constantia"/>
              </a:rPr>
              <a:t>ХРАМ АМОНА.КАРНА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1" name="Picture 1" descr=""/>
          <p:cNvPicPr/>
          <p:nvPr/>
        </p:nvPicPr>
        <p:blipFill>
          <a:blip r:embed="rId5"/>
          <a:stretch/>
        </p:blipFill>
        <p:spPr>
          <a:xfrm>
            <a:off x="0" y="4446720"/>
            <a:ext cx="4687920" cy="24112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24"/>
          <p:cNvSpPr/>
          <p:nvPr/>
        </p:nvSpPr>
        <p:spPr>
          <a:xfrm>
            <a:off x="142920" y="371484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АМОНА  В ЛУКСОР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D6F0-E208-47A8-841E-3C47B7DCBC6B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4" name="Заголовок 4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74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3"/>
          <a:stretch/>
        </p:blipFill>
        <p:spPr>
          <a:xfrm>
            <a:off x="5643720" y="2571840"/>
            <a:ext cx="3276360" cy="4032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"/>
          <p:cNvPicPr/>
          <p:nvPr/>
        </p:nvPicPr>
        <p:blipFill>
          <a:blip r:embed="rId4"/>
          <a:stretch/>
        </p:blipFill>
        <p:spPr>
          <a:xfrm>
            <a:off x="3286080" y="1285920"/>
            <a:ext cx="1933560" cy="3019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"/>
          <p:cNvPicPr/>
          <p:nvPr/>
        </p:nvPicPr>
        <p:blipFill>
          <a:blip r:embed="rId5"/>
          <a:stretch/>
        </p:blipFill>
        <p:spPr>
          <a:xfrm>
            <a:off x="0" y="785880"/>
            <a:ext cx="2604960" cy="23763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3"/>
          <p:cNvSpPr/>
          <p:nvPr/>
        </p:nvSpPr>
        <p:spPr>
          <a:xfrm>
            <a:off x="5442840" y="157176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Охота в нильских заросля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Британский музей, Лондо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TextBox 17"/>
          <p:cNvSpPr/>
          <p:nvPr/>
        </p:nvSpPr>
        <p:spPr>
          <a:xfrm>
            <a:off x="3214800" y="4214880"/>
            <a:ext cx="25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 и танцовщиц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ебамун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TextBox 18"/>
          <p:cNvSpPr/>
          <p:nvPr/>
        </p:nvSpPr>
        <p:spPr>
          <a:xfrm>
            <a:off x="0" y="30002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ахт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3438360" y="6153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2" name="Picture 8" descr="D:\Documents and Settings\Admin\Рабочий стол\Египет\dancer-of-ancient-egypt-michal-boubin.jpg"/>
          <p:cNvPicPr/>
          <p:nvPr/>
        </p:nvPicPr>
        <p:blipFill>
          <a:blip r:embed="rId6"/>
          <a:stretch/>
        </p:blipFill>
        <p:spPr>
          <a:xfrm>
            <a:off x="214200" y="4429080"/>
            <a:ext cx="27432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FF8B-6162-4C13-9BEE-02FDC2C3893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4" name="Заголовок 3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-360" y="1599840"/>
            <a:ext cx="47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onstantia"/>
              </a:rPr>
              <a:t>   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В XIV в. до н. э. фараон Аменхотеп IV (1368 — около 1351 гг. до н. э.) провёл религиозную реформу, оказавшую существенное влияние на искусство Нового царств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96" name="Picture 1" descr=""/>
          <p:cNvPicPr/>
          <p:nvPr/>
        </p:nvPicPr>
        <p:blipFill>
          <a:blip r:embed="rId3"/>
          <a:stretch/>
        </p:blipFill>
        <p:spPr>
          <a:xfrm>
            <a:off x="5715000" y="1214280"/>
            <a:ext cx="2990880" cy="361980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16"/>
          <p:cNvSpPr/>
          <p:nvPr/>
        </p:nvSpPr>
        <p:spPr>
          <a:xfrm>
            <a:off x="142920" y="3857760"/>
            <a:ext cx="485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динственным и истинным богом был провозглашён Атон — само сияюще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а небе солнце, носитель великой животворной силы, Атон изображался в виде диска с исходя­щими от него лучами, которые за­вершались знаком жизни — анхом (крестом с петлёй в верхней части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TextBox 17"/>
          <p:cNvSpPr/>
          <p:nvPr/>
        </p:nvSpPr>
        <p:spPr>
          <a:xfrm>
            <a:off x="5572080" y="485784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клонение богу солнца Атону (Эхнатон и Нефертити с дочерью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ельеф из Амарны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. до н. э. 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D463-D36C-4E2F-86B2-5A9A3B2026D6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0" name="Picture 1" descr=""/>
          <p:cNvPicPr/>
          <p:nvPr/>
        </p:nvPicPr>
        <p:blipFill>
          <a:blip r:embed="rId2"/>
          <a:stretch/>
        </p:blipFill>
        <p:spPr>
          <a:xfrm>
            <a:off x="2143080" y="4000680"/>
            <a:ext cx="3886200" cy="3019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"/>
          <p:cNvPicPr/>
          <p:nvPr/>
        </p:nvPicPr>
        <p:blipFill>
          <a:blip r:embed="rId3"/>
          <a:stretch/>
        </p:blipFill>
        <p:spPr>
          <a:xfrm>
            <a:off x="4286160" y="0"/>
            <a:ext cx="3006720" cy="40687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13"/>
          <p:cNvSpPr/>
          <p:nvPr/>
        </p:nvSpPr>
        <p:spPr>
          <a:xfrm>
            <a:off x="7215120" y="357120"/>
            <a:ext cx="1714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Нефертити из Амар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сударственный музей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Берли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571760" y="0"/>
            <a:ext cx="2638440" cy="4068720"/>
          </a:xfrm>
          <a:prstGeom prst="rect">
            <a:avLst/>
          </a:prstGeom>
          <a:ln w="0">
            <a:noFill/>
          </a:ln>
        </p:spPr>
      </p:pic>
      <p:sp>
        <p:nvSpPr>
          <p:cNvPr id="604" name="TextBox 15"/>
          <p:cNvSpPr/>
          <p:nvPr/>
        </p:nvSpPr>
        <p:spPr>
          <a:xfrm>
            <a:off x="0" y="214200"/>
            <a:ext cx="1643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 Нефертит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Амарны.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AF6D-0A73-4B06-BC06-67A9C4B13A66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6" name="Заголовок 5" descr=""/>
          <p:cNvPicPr/>
          <p:nvPr/>
        </p:nvPicPr>
        <p:blipFill>
          <a:blip r:embed="rId2"/>
          <a:stretch/>
        </p:blipFill>
        <p:spPr>
          <a:xfrm>
            <a:off x="1706400" y="-36360"/>
            <a:ext cx="6231240" cy="16524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2065320" cy="33116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1"/>
          <p:cNvSpPr/>
          <p:nvPr/>
        </p:nvSpPr>
        <p:spPr>
          <a:xfrm>
            <a:off x="214200" y="4429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9" name="Picture 4" descr="D:\Documents and Settings\Admin\Рабочий стол\Египет\Картинки 9 кл египет\i_332.jpg.jpg"/>
          <p:cNvPicPr/>
          <p:nvPr/>
        </p:nvPicPr>
        <p:blipFill>
          <a:blip r:embed="rId4"/>
          <a:stretch/>
        </p:blipFill>
        <p:spPr>
          <a:xfrm>
            <a:off x="3214800" y="1143000"/>
            <a:ext cx="2601720" cy="3816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D:\Documents and Settings\Admin\Рабочий стол\Египет\Картинки 9 кл египет\Tutankhamun_14.jpg"/>
          <p:cNvPicPr/>
          <p:nvPr/>
        </p:nvPicPr>
        <p:blipFill>
          <a:blip r:embed="rId5"/>
          <a:stretch/>
        </p:blipFill>
        <p:spPr>
          <a:xfrm>
            <a:off x="0" y="5076720"/>
            <a:ext cx="4762440" cy="17812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D:\Documents and Settings\Admin\Рабочий стол\Египет\Картинки 9 кл египет\1faf8924f124.jpg"/>
          <p:cNvPicPr/>
          <p:nvPr/>
        </p:nvPicPr>
        <p:blipFill>
          <a:blip r:embed="rId6"/>
          <a:stretch/>
        </p:blipFill>
        <p:spPr>
          <a:xfrm>
            <a:off x="6786720" y="0"/>
            <a:ext cx="2936880" cy="27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D:\Documents and Settings\Admin\Рабочий стол\Египет\Картинки 9 кл египет\01.JPG"/>
          <p:cNvPicPr/>
          <p:nvPr/>
        </p:nvPicPr>
        <p:blipFill>
          <a:blip r:embed="rId7"/>
          <a:stretch/>
        </p:blipFill>
        <p:spPr>
          <a:xfrm>
            <a:off x="785880" y="3286080"/>
            <a:ext cx="2127240" cy="1619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" descr="D:\Documents and Settings\Admin\Рабочий стол\Египет\Золотой трон Тутанхамона.jpg"/>
          <p:cNvPicPr/>
          <p:nvPr/>
        </p:nvPicPr>
        <p:blipFill>
          <a:blip r:embed="rId8"/>
          <a:stretch/>
        </p:blipFill>
        <p:spPr>
          <a:xfrm>
            <a:off x="6643800" y="3186000"/>
            <a:ext cx="2616120" cy="3672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D:\Documents and Settings\Admin\Рабочий стол\Египет\Ларец для благовонийpg.jpg"/>
          <p:cNvPicPr/>
          <p:nvPr/>
        </p:nvPicPr>
        <p:blipFill>
          <a:blip r:embed="rId9"/>
          <a:stretch/>
        </p:blipFill>
        <p:spPr>
          <a:xfrm>
            <a:off x="5072040" y="4786200"/>
            <a:ext cx="16016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тоотооо"/>
          <p:cNvPicPr/>
          <p:nvPr/>
        </p:nvPicPr>
        <p:blipFill>
          <a:blip r:embed="rId2"/>
          <a:stretch/>
        </p:blipFill>
        <p:spPr>
          <a:xfrm rot="1613400">
            <a:off x="4757400" y="1401840"/>
            <a:ext cx="4343400" cy="2808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1_2f95f6b4601c6dc045e5a95fd83568f6"/>
          <p:cNvPicPr/>
          <p:nvPr/>
        </p:nvPicPr>
        <p:blipFill>
          <a:blip r:embed="rId3"/>
          <a:stretch/>
        </p:blipFill>
        <p:spPr>
          <a:xfrm rot="21139200">
            <a:off x="177480" y="925200"/>
            <a:ext cx="4437000" cy="2952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0" descr="долина"/>
          <p:cNvPicPr/>
          <p:nvPr/>
        </p:nvPicPr>
        <p:blipFill>
          <a:blip r:embed="rId4"/>
          <a:stretch/>
        </p:blipFill>
        <p:spPr>
          <a:xfrm>
            <a:off x="1714680" y="3941640"/>
            <a:ext cx="5308560" cy="2916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Большой храм в Абу-Симбеле (XIII в.), посвящённый Амону-Ра</a:t>
            </a:r>
            <a:br>
              <a:rPr sz="1800"/>
            </a:b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0683-D25F-45F9-AC54-AB034F18C39B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Заголовок 4" descr=""/>
          <p:cNvPicPr/>
          <p:nvPr/>
        </p:nvPicPr>
        <p:blipFill>
          <a:blip r:embed="rId2"/>
          <a:stretch/>
        </p:blipFill>
        <p:spPr>
          <a:xfrm>
            <a:off x="-109440" y="-6480"/>
            <a:ext cx="6334200" cy="1890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-360" y="1213920"/>
            <a:ext cx="628668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многочисленных богов Египта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(боги солнца Ра или Амон-Ра, бог Осирис,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богини Исида, Сет, Маат); 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обожествленного царя — фараона. Проведение установленных богами законов в жизнь, исполнительная власть находилась в руках царей. Фараон был одновременно живым, земным богом и верховным жрецом, отправлявшим важные  ритуалы,   которые   обеспечивали   процветание страны. Выражением идеи бессмертия и неограниченной власти фараона над простыми смертными стали пирамиды;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диких и домашних животных, птиц, рыб и насекомых. В число священных входили: лев, корова, бык, кошка, козел, крокодил; птицы — сокол, ибис и коршун, а также пчела, змея, навозный жук-скарабей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0" name="Picture 1" descr="D:\Documents and Settings\Admin\Рабочий стол\Египет\Ancient Egyptian Life.jpg"/>
          <p:cNvPicPr/>
          <p:nvPr/>
        </p:nvPicPr>
        <p:blipFill>
          <a:blip r:embed="rId3"/>
          <a:stretch/>
        </p:blipFill>
        <p:spPr>
          <a:xfrm>
            <a:off x="6143760" y="4626000"/>
            <a:ext cx="2817720" cy="2232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D:\Documents and Settings\Admin\Рабочий стол\Египет\75bb89a3979959a09f4e4e206e7.jpg"/>
          <p:cNvPicPr/>
          <p:nvPr/>
        </p:nvPicPr>
        <p:blipFill>
          <a:blip r:embed="rId4"/>
          <a:stretch/>
        </p:blipFill>
        <p:spPr>
          <a:xfrm>
            <a:off x="6273720" y="0"/>
            <a:ext cx="2870280" cy="1979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D:\Documents and Settings\Admin\Рабочий стол\Египет\Египет\feb84971dc55.jpg"/>
          <p:cNvPicPr/>
          <p:nvPr/>
        </p:nvPicPr>
        <p:blipFill>
          <a:blip r:embed="rId5"/>
          <a:stretch/>
        </p:blipFill>
        <p:spPr>
          <a:xfrm>
            <a:off x="6858000" y="2000160"/>
            <a:ext cx="1911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3577-4405-431F-91E4-A3784844397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0" name="Заголовок 5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699760" cy="12384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0" y="857160"/>
            <a:ext cx="68580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Особенности культуры Древнего Египта: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1.Архитектура представлена пирамидами, храмами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2.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3.Капители колонн: пальмоподобные, лотосоподобные, папирусоподобн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4.Стены храмов украшены живописью( линейные, геометричные, расположенные в виде горизонтальных строчек)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5.Канон в изображениях: тело в фас, а ноги и голова в профиль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6. В скульптуре 3 положения: фигуры, стоящие с выдвинутой впе­рёд ногой либо сидящие на троне с прижатыми к груди или лежащими на коленях руками и сомкнутыми ног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7.Раскраска  скульптур была таковой: тело мужчины красно- коричневое, тело женщины светло- жёлтое или жёлто- розовое, волосы чёрные, одежды бел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8.Фигура фараона выделялась размер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622" name="Picture 5" descr="D:\Documents and Settings\Admin\Рабочий стол\Египет\the-ancient-egyptian-goddess-isis-leading-queen-nefertari-ben-morales-correa.jpg"/>
          <p:cNvPicPr/>
          <p:nvPr/>
        </p:nvPicPr>
        <p:blipFill>
          <a:blip r:embed="rId3"/>
          <a:stretch/>
        </p:blipFill>
        <p:spPr>
          <a:xfrm>
            <a:off x="6715080" y="1785960"/>
            <a:ext cx="22766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18A5-7594-4D23-B392-D03E3BE64B8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4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699760" cy="1346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D:\Documents and Settings\Admin\Рабочий стол\Египет\5588a3ecee53bbcc08aec615e72.jpg"/>
          <p:cNvPicPr/>
          <p:nvPr/>
        </p:nvPicPr>
        <p:blipFill>
          <a:blip r:embed="rId3"/>
          <a:stretch/>
        </p:blipFill>
        <p:spPr>
          <a:xfrm rot="20149200">
            <a:off x="77760" y="1104840"/>
            <a:ext cx="2630520" cy="33847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D:\Documents and Settings\Admin\Рабочий стол\Египет\1295779217_05_thumb.jpg"/>
          <p:cNvPicPr/>
          <p:nvPr/>
        </p:nvPicPr>
        <p:blipFill>
          <a:blip r:embed="rId4"/>
          <a:stretch/>
        </p:blipFill>
        <p:spPr>
          <a:xfrm rot="1831800">
            <a:off x="6597720" y="1057320"/>
            <a:ext cx="3201840" cy="2663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D:\Documents and Settings\Admin\Рабочий стол\Египет\2f4212e81bd8d64431183063871.jpg"/>
          <p:cNvPicPr/>
          <p:nvPr/>
        </p:nvPicPr>
        <p:blipFill>
          <a:blip r:embed="rId5"/>
          <a:stretch/>
        </p:blipFill>
        <p:spPr>
          <a:xfrm>
            <a:off x="428760" y="4876920"/>
            <a:ext cx="6350040" cy="1981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D:\Documents and Settings\Admin\Рабочий стол\Египет\column_pictures.jpg"/>
          <p:cNvPicPr/>
          <p:nvPr/>
        </p:nvPicPr>
        <p:blipFill>
          <a:blip r:embed="rId6"/>
          <a:stretch/>
        </p:blipFill>
        <p:spPr>
          <a:xfrm>
            <a:off x="3286080" y="1071720"/>
            <a:ext cx="2530440" cy="3492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D:\Documents and Settings\Admin\Рабочий стол\Египет\Золотые серьгиjpg.jpg"/>
          <p:cNvPicPr/>
          <p:nvPr/>
        </p:nvPicPr>
        <p:blipFill>
          <a:blip r:embed="rId7"/>
          <a:stretch/>
        </p:blipFill>
        <p:spPr>
          <a:xfrm>
            <a:off x="6881760" y="4286160"/>
            <a:ext cx="22622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FE3A-779F-4F14-8C7A-3BA27E14CF52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281160" y="-6480"/>
            <a:ext cx="8697600" cy="854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42560" y="155376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nstantia"/>
              </a:rPr>
              <a:t>                        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6" name="Picture 4" descr="47120409_ancient_egypt_gods_2"/>
          <p:cNvPicPr/>
          <p:nvPr/>
        </p:nvPicPr>
        <p:blipFill>
          <a:blip r:embed="rId3"/>
          <a:stretch/>
        </p:blipFill>
        <p:spPr>
          <a:xfrm>
            <a:off x="0" y="214200"/>
            <a:ext cx="2200320" cy="356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59"/>
          <p:cNvPicPr/>
          <p:nvPr/>
        </p:nvPicPr>
        <p:blipFill>
          <a:blip r:embed="rId4"/>
          <a:stretch/>
        </p:blipFill>
        <p:spPr>
          <a:xfrm>
            <a:off x="3714840" y="1143000"/>
            <a:ext cx="4825800" cy="3500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7"/>
          <p:cNvSpPr/>
          <p:nvPr/>
        </p:nvSpPr>
        <p:spPr>
          <a:xfrm>
            <a:off x="324000" y="3714840"/>
            <a:ext cx="11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он 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3929040" y="4714920"/>
            <a:ext cx="4964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Геб- бог земл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Нут- богиня неб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мон Ра- бог солнц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Шу- бог воздух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Прямоугольник 9"/>
          <p:cNvSpPr/>
          <p:nvPr/>
        </p:nvSpPr>
        <p:spPr>
          <a:xfrm flipV="1" rot="10800000">
            <a:off x="2301840" y="2678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Религия и мифология Древнего Егип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1" name="Picture 1" descr="D:\Documents and Settings\Admin\Рабочий стол\Египет\Египет\egypt07003.jpg"/>
          <p:cNvPicPr/>
          <p:nvPr/>
        </p:nvPicPr>
        <p:blipFill>
          <a:blip r:embed="rId5"/>
          <a:stretch/>
        </p:blipFill>
        <p:spPr>
          <a:xfrm>
            <a:off x="285840" y="4357800"/>
            <a:ext cx="25430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4" descr=""/>
          <p:cNvPicPr/>
          <p:nvPr/>
        </p:nvPicPr>
        <p:blipFill>
          <a:blip r:embed="rId2"/>
          <a:stretch/>
        </p:blipFill>
        <p:spPr>
          <a:xfrm>
            <a:off x="298440" y="-6480"/>
            <a:ext cx="8699400" cy="1474920"/>
          </a:xfrm>
          <a:prstGeom prst="rect">
            <a:avLst/>
          </a:prstGeom>
          <a:ln w="0">
            <a:noFill/>
          </a:ln>
        </p:spPr>
      </p:pic>
      <p:sp>
        <p:nvSpPr>
          <p:cNvPr id="433" name="Номер слайда 1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0A1C-6F3A-4405-B7A7-363D053EE8CC}" type="slidenum">
              <a:rPr b="0" lang="ru-RU" sz="1200" spc="-1" strike="noStrike">
                <a:solidFill>
                  <a:srgbClr val="c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4" name="Picture 2" descr="C:\Documents and Settings\Maria\Мои документы\Культурология\Репродукции\амон.png"/>
          <p:cNvPicPr/>
          <p:nvPr/>
        </p:nvPicPr>
        <p:blipFill>
          <a:blip r:embed="rId3"/>
          <a:stretch/>
        </p:blipFill>
        <p:spPr>
          <a:xfrm>
            <a:off x="0" y="1071720"/>
            <a:ext cx="1959120" cy="49323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7"/>
          <p:cNvSpPr/>
          <p:nvPr/>
        </p:nvSpPr>
        <p:spPr>
          <a:xfrm>
            <a:off x="0" y="62118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мон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царь бог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6" name="Picture 3" descr="C:\Documents and Settings\Maria\Мои документы\Культурология\Репродукции\ра солнце.png"/>
          <p:cNvPicPr/>
          <p:nvPr/>
        </p:nvPicPr>
        <p:blipFill>
          <a:blip r:embed="rId4"/>
          <a:stretch/>
        </p:blipFill>
        <p:spPr>
          <a:xfrm>
            <a:off x="2143080" y="2786040"/>
            <a:ext cx="1708200" cy="35006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9"/>
          <p:cNvSpPr/>
          <p:nvPr/>
        </p:nvSpPr>
        <p:spPr>
          <a:xfrm>
            <a:off x="1928880" y="6286680"/>
            <a:ext cx="18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Ра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солнц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8" name="Picture 4" descr="C:\Documents and Settings\Maria\Мои документы\Культурология\Репродукции\осирис бог возрождения.png"/>
          <p:cNvPicPr/>
          <p:nvPr/>
        </p:nvPicPr>
        <p:blipFill>
          <a:blip r:embed="rId5"/>
          <a:stretch/>
        </p:blipFill>
        <p:spPr>
          <a:xfrm>
            <a:off x="3714840" y="1357200"/>
            <a:ext cx="1774800" cy="385308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1"/>
          <p:cNvSpPr/>
          <p:nvPr/>
        </p:nvSpPr>
        <p:spPr>
          <a:xfrm>
            <a:off x="3786120" y="521496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сирис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возрожд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5" descr="C:\Documents and Settings\Maria\Мои документы\Культурология\Репродукции\сет пустыня злоjpg.jpg"/>
          <p:cNvPicPr/>
          <p:nvPr/>
        </p:nvPicPr>
        <p:blipFill>
          <a:blip r:embed="rId6"/>
          <a:stretch/>
        </p:blipFill>
        <p:spPr>
          <a:xfrm>
            <a:off x="5715000" y="2286000"/>
            <a:ext cx="1581120" cy="32148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3"/>
          <p:cNvSpPr/>
          <p:nvPr/>
        </p:nvSpPr>
        <p:spPr>
          <a:xfrm>
            <a:off x="5715000" y="550080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ет ( Сетх)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устыни и зл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2" name="Picture 6" descr="C:\Documents and Settings\Maria\Мои документы\Культурология\Репродукции\птах искусство и ремеслаpng.png"/>
          <p:cNvPicPr/>
          <p:nvPr/>
        </p:nvPicPr>
        <p:blipFill>
          <a:blip r:embed="rId7"/>
          <a:stretch/>
        </p:blipFill>
        <p:spPr>
          <a:xfrm>
            <a:off x="7643880" y="1857240"/>
            <a:ext cx="1150920" cy="378648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5"/>
          <p:cNvSpPr/>
          <p:nvPr/>
        </p:nvSpPr>
        <p:spPr>
          <a:xfrm>
            <a:off x="7429680" y="5572080"/>
            <a:ext cx="171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тах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окровитель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искусства и ремес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920880" y="208080"/>
            <a:ext cx="8388360" cy="865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C:\Documents and Settings\Maria\Мои документы\Культурология\Репродукции\анубис- покров умерших.jpg"/>
          <p:cNvPicPr/>
          <p:nvPr/>
        </p:nvPicPr>
        <p:blipFill>
          <a:blip r:embed="rId3"/>
          <a:stretch/>
        </p:blipFill>
        <p:spPr>
          <a:xfrm>
            <a:off x="214200" y="928800"/>
            <a:ext cx="2714760" cy="2017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Maria\Мои документы\Культурология\Репродукции\bcblf .jpg"/>
          <p:cNvPicPr/>
          <p:nvPr/>
        </p:nvPicPr>
        <p:blipFill>
          <a:blip r:embed="rId4"/>
          <a:stretch/>
        </p:blipFill>
        <p:spPr>
          <a:xfrm>
            <a:off x="214200" y="371484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C:\Documents and Settings\Maria\Мои документы\Культурология\Репродукции\нут небо.JPG"/>
          <p:cNvPicPr/>
          <p:nvPr/>
        </p:nvPicPr>
        <p:blipFill>
          <a:blip r:embed="rId5"/>
          <a:stretch/>
        </p:blipFill>
        <p:spPr>
          <a:xfrm>
            <a:off x="3571920" y="1071720"/>
            <a:ext cx="2943360" cy="2043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C:\Documents and Settings\Maria\Мои документы\Культурология\Репродукции\апоп змей враг солнца.jpg"/>
          <p:cNvPicPr/>
          <p:nvPr/>
        </p:nvPicPr>
        <p:blipFill>
          <a:blip r:embed="rId6"/>
          <a:stretch/>
        </p:blipFill>
        <p:spPr>
          <a:xfrm>
            <a:off x="3643200" y="378612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C:\Documents and Settings\Maria\Мои документы\Культурология\Репродукции\апис свящ бык осирис.jpg"/>
          <p:cNvPicPr/>
          <p:nvPr/>
        </p:nvPicPr>
        <p:blipFill>
          <a:blip r:embed="rId7"/>
          <a:stretch/>
        </p:blipFill>
        <p:spPr>
          <a:xfrm>
            <a:off x="6786720" y="2214720"/>
            <a:ext cx="2125440" cy="283356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8"/>
          <p:cNvSpPr/>
          <p:nvPr/>
        </p:nvSpPr>
        <p:spPr>
          <a:xfrm>
            <a:off x="214200" y="30718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нубис-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окровитель умерши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Прямоугольник 9"/>
          <p:cNvSpPr/>
          <p:nvPr/>
        </p:nvSpPr>
        <p:spPr>
          <a:xfrm>
            <a:off x="7143840" y="521496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и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священный бык Осири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Прямоугольник 10"/>
          <p:cNvSpPr/>
          <p:nvPr/>
        </p:nvSpPr>
        <p:spPr>
          <a:xfrm>
            <a:off x="214200" y="564372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сид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женственности и материнст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Прямоугольник 11"/>
          <p:cNvSpPr/>
          <p:nvPr/>
        </p:nvSpPr>
        <p:spPr>
          <a:xfrm flipV="1" rot="10800000">
            <a:off x="4071600" y="600444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оп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(змей) - бог зла, враг солнц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Прямоугольник 12"/>
          <p:cNvSpPr/>
          <p:nvPr/>
        </p:nvSpPr>
        <p:spPr>
          <a:xfrm>
            <a:off x="3869640" y="3214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у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иня неб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Номер слайда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F4B5-50C3-4D53-9F20-73EA49B3819D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9018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C:\Documents and Settings\Maria\Мои документы\Культурология\Репродукции\бастет покров женщин веселья краслоты.jpg"/>
          <p:cNvPicPr/>
          <p:nvPr/>
        </p:nvPicPr>
        <p:blipFill>
          <a:blip r:embed="rId3"/>
          <a:stretch/>
        </p:blipFill>
        <p:spPr>
          <a:xfrm>
            <a:off x="285840" y="928800"/>
            <a:ext cx="2035080" cy="27144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C:\Documents and Settings\Maria\Мои документы\Культурология\Репродукции\маат вселенс гармония истина.jpg"/>
          <p:cNvPicPr/>
          <p:nvPr/>
        </p:nvPicPr>
        <p:blipFill>
          <a:blip r:embed="rId4"/>
          <a:stretch/>
        </p:blipFill>
        <p:spPr>
          <a:xfrm>
            <a:off x="2452680" y="2428920"/>
            <a:ext cx="1790640" cy="2714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:\Documents and Settings\Maria\Мои документы\Культурология\Репродукции\себек воды и нила отпугив силы тьмы.jpg"/>
          <p:cNvPicPr/>
          <p:nvPr/>
        </p:nvPicPr>
        <p:blipFill>
          <a:blip r:embed="rId5"/>
          <a:stretch/>
        </p:blipFill>
        <p:spPr>
          <a:xfrm>
            <a:off x="6715080" y="714240"/>
            <a:ext cx="1997280" cy="4648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:\Documents and Settings\Maria\Мои документы\Культурология\Репродукции\тот мудрость и знание.jpg"/>
          <p:cNvPicPr/>
          <p:nvPr/>
        </p:nvPicPr>
        <p:blipFill>
          <a:blip r:embed="rId6"/>
          <a:stretch/>
        </p:blipFill>
        <p:spPr>
          <a:xfrm>
            <a:off x="4429080" y="2357280"/>
            <a:ext cx="1998720" cy="335772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7"/>
          <p:cNvSpPr/>
          <p:nvPr/>
        </p:nvSpPr>
        <p:spPr>
          <a:xfrm>
            <a:off x="214200" y="3786120"/>
            <a:ext cx="20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асте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покровительница женщин, красоты и весель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Прямоугольник 8"/>
          <p:cNvSpPr/>
          <p:nvPr/>
        </p:nvSpPr>
        <p:spPr>
          <a:xfrm>
            <a:off x="2571840" y="535788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аа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истины и гармо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Прямоугольник 9"/>
          <p:cNvSpPr/>
          <p:nvPr/>
        </p:nvSpPr>
        <p:spPr>
          <a:xfrm>
            <a:off x="4357800" y="578628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мудрости и зн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Прямоугольник 10"/>
          <p:cNvSpPr/>
          <p:nvPr/>
        </p:nvSpPr>
        <p:spPr>
          <a:xfrm>
            <a:off x="6858000" y="550080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ебек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воды, Нила, отпугивает силы тьм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Номер слайда 10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8619-49AB-4779-80E1-ABADA4ED9DF6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BB68-900F-4A1B-94E9-3DCF63724D81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136160" y="5084280"/>
            <a:ext cx="8007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Богиня плодородия- Баст или Бастет</a:t>
            </a: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68" name="Picture 4" descr="67070725"/>
          <p:cNvPicPr/>
          <p:nvPr/>
        </p:nvPicPr>
        <p:blipFill>
          <a:blip r:embed="rId2"/>
          <a:stretch/>
        </p:blipFill>
        <p:spPr>
          <a:xfrm>
            <a:off x="179280" y="189000"/>
            <a:ext cx="2590920" cy="4824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1281421979_egypt29"/>
          <p:cNvPicPr/>
          <p:nvPr/>
        </p:nvPicPr>
        <p:blipFill>
          <a:blip r:embed="rId3"/>
          <a:stretch/>
        </p:blipFill>
        <p:spPr>
          <a:xfrm>
            <a:off x="6516720" y="260280"/>
            <a:ext cx="2448000" cy="46814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victorina013"/>
          <p:cNvPicPr/>
          <p:nvPr/>
        </p:nvPicPr>
        <p:blipFill>
          <a:blip r:embed="rId4"/>
          <a:stretch/>
        </p:blipFill>
        <p:spPr>
          <a:xfrm>
            <a:off x="3071880" y="428760"/>
            <a:ext cx="311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0571-C10F-4A15-B10C-CBE98119DBBD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4139"/>
                </a:solidFill>
                <a:latin typeface="Constantia"/>
              </a:rPr>
              <a:t>Это период объединения Верхнего и Нижнего Египта в единое государство</a:t>
            </a:r>
            <a:r>
              <a:rPr b="1" i="1" lang="uk-UA" sz="2400" spc="-1" strike="noStrike">
                <a:solidFill>
                  <a:srgbClr val="c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3" name="Содержимое 6" descr="плита2jpeg.jpeg"/>
          <p:cNvPicPr/>
          <p:nvPr/>
        </p:nvPicPr>
        <p:blipFill>
          <a:blip r:embed="rId2"/>
          <a:stretch/>
        </p:blipFill>
        <p:spPr>
          <a:xfrm>
            <a:off x="357120" y="1962000"/>
            <a:ext cx="3278160" cy="4896000"/>
          </a:xfrm>
          <a:prstGeom prst="rect">
            <a:avLst/>
          </a:prstGeom>
          <a:ln w="0">
            <a:noFill/>
          </a:ln>
        </p:spPr>
      </p:pic>
      <p:pic>
        <p:nvPicPr>
          <p:cNvPr id="474" name="Заголовок 1" descr=""/>
          <p:cNvPicPr/>
          <p:nvPr/>
        </p:nvPicPr>
        <p:blipFill>
          <a:blip r:embed="rId3"/>
          <a:stretch/>
        </p:blipFill>
        <p:spPr>
          <a:xfrm>
            <a:off x="450720" y="19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475" name="Содержимое 3" descr="плита.jpeg"/>
          <p:cNvPicPr/>
          <p:nvPr/>
        </p:nvPicPr>
        <p:blipFill>
          <a:blip r:embed="rId4"/>
          <a:stretch/>
        </p:blipFill>
        <p:spPr>
          <a:xfrm>
            <a:off x="3143160" y="1962000"/>
            <a:ext cx="3381480" cy="48960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9"/>
          <p:cNvSpPr/>
          <p:nvPr/>
        </p:nvSpPr>
        <p:spPr>
          <a:xfrm>
            <a:off x="6572160" y="3786120"/>
            <a:ext cx="257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Рельеф шиферно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плиты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Нармер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(Ок. 3000 г. до н.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Египетский музей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3:28:55Z</dcterms:created>
  <dc:creator>Admin</dc:creator>
  <dc:description/>
  <dc:language>en-US</dc:language>
  <cp:lastModifiedBy>Admin</cp:lastModifiedBy>
  <dcterms:modified xsi:type="dcterms:W3CDTF">2013-02-04T11:42:42Z</dcterms:modified>
  <cp:revision>1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45000000000001024140</vt:lpwstr>
  </property>
</Properties>
</file>