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12.jpeg" ContentType="image/jpeg"/>
  <Override PartName="/ppt/media/image29.jpeg" ContentType="image/jpeg"/>
  <Override PartName="/ppt/media/image108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0.png" ContentType="image/png"/>
  <Override PartName="/ppt/media/image107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1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43.jpeg" ContentType="image/jpeg"/>
  <Override PartName="/ppt/media/image5.png" ContentType="image/png"/>
  <Override PartName="/ppt/media/image98.jpeg" ContentType="image/jpeg"/>
  <Override PartName="/ppt/media/image52.jpeg" ContentType="image/jpeg"/>
  <Override PartName="/ppt/media/image47.png" ContentType="image/png"/>
  <Override PartName="/ppt/media/image74.jpeg" ContentType="image/jpeg"/>
  <Override PartName="/ppt/media/image93.jpeg" ContentType="image/jpeg"/>
  <Override PartName="/ppt/media/image94.jpeg" ContentType="image/jpeg"/>
  <Override PartName="/ppt/media/image110.jpeg" ContentType="image/jpeg"/>
  <Override PartName="/ppt/media/image90.jpeg" ContentType="image/jpeg"/>
  <Override PartName="/ppt/media/image97.png" ContentType="image/png"/>
  <Override PartName="/ppt/media/image63.jpeg" ContentType="image/jpeg"/>
  <Override PartName="/ppt/media/image111.jpeg" ContentType="image/jpeg"/>
  <Override PartName="/ppt/media/image91.jpeg" ContentType="image/jpeg"/>
  <Override PartName="/ppt/media/image95.jpeg" ContentType="image/jpeg"/>
  <Override PartName="/ppt/media/image76.jpeg" ContentType="image/jpeg"/>
  <Override PartName="/ppt/media/image102.png" ContentType="image/png"/>
  <Override PartName="/ppt/media/image125.jpeg" ContentType="image/jpeg"/>
  <Override PartName="/ppt/media/image77.png" ContentType="image/png"/>
  <Override PartName="/ppt/media/image96.jpeg" ContentType="image/jpeg"/>
  <Override PartName="/ppt/media/image113.jpeg" ContentType="image/jpeg"/>
  <Override PartName="/ppt/media/image39.png" ContentType="image/png"/>
  <Override PartName="/ppt/media/image103.jpeg" ContentType="image/jpeg"/>
  <Override PartName="/ppt/media/image124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23.jpeg" ContentType="image/jpeg"/>
  <Override PartName="/ppt/media/image71.jpeg" ContentType="image/jpeg"/>
  <Override PartName="/ppt/media/image122.jpeg" ContentType="image/jpeg"/>
  <Override PartName="/ppt/media/image116.jpeg" ContentType="image/jpeg"/>
  <Override PartName="/ppt/media/image99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70.jpeg" ContentType="image/jpeg"/>
  <Override PartName="/ppt/media/image68.jpeg" ContentType="image/jpeg"/>
  <Override PartName="/ppt/media/image120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6.jpeg" ContentType="image/jpeg"/>
  <Override PartName="/ppt/media/image105.jpeg" ContentType="image/jpeg"/>
  <Override PartName="/ppt/media/image73.jpeg" ContentType="image/jpeg"/>
  <Override PartName="/ppt/media/image24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16.jpeg" ContentType="image/jpeg"/>
  <Override PartName="/ppt/media/image75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1EBB-A669-4097-B108-399EC4A7D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CBE4-E922-4551-B886-A3EAB3CC36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0C9D-5EBF-4675-8ADA-84E80B24E7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4AF8-901A-491B-9C32-F402CCED6B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5F76-1D89-49D9-9FAD-360F381289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D59-7D57-44E0-B77A-49D4109041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F665-6D66-4B9A-A19A-8A69C9467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48E3-2136-40DC-9DED-EEA22FDCC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A37-FDB9-46CB-B0A8-47C519A2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8C2C-E2BE-46F5-AA5A-9E580020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178BC-CF4F-4739-99FC-D5D4523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56EF7-0158-411F-9741-5F98EDB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8318B-CA74-4EF2-92DC-7716512D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EE80B-F598-4F31-9782-8D501476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3E260-4CE1-4419-84AE-4F706D4C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1C94B-E056-46B1-A93E-7C5D3F6F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EA24E-FA2B-480D-A123-0DE95E4A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9BF22-3764-498B-87BA-B3C9F6ED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58BA4-F443-4D70-A070-71AA609E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387-318C-474F-8589-53804DB8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A4B-F7F5-4A61-A84C-1BD32B48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14D-335F-4F76-8A44-B0E39D13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6206-E944-43AE-AB13-6C28D5F2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64EA-52FC-4840-AC5B-C5A0E1E4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779-F833-4C7D-A8CD-0BF9AA7C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401E-B563-402B-BF2A-7AF7B96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737-235D-4514-AB55-611B75E1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0C47-3541-4248-8C24-D0EED37D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59C-3B8A-4F9D-BB17-3BB829E3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C494-1656-40E6-8320-17399D4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23A5-00E1-497E-AED8-C6708B40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34F8-F89D-4303-8E66-6B96B759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4A0F-B6BC-48A6-BE48-FC8A9363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7E72-08E0-4875-9DB2-4B991E5D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E362-79F9-4EDF-8180-27C8D0FC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995F-8A00-482B-9F3B-3F489ED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AE1F1-0462-4E56-94CD-64723A3E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58B7-351B-4B3F-8FEB-5DC978EC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3A4B-8BB9-478B-9325-B26348F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189-F33C-4A1B-8674-67B5CE06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5C0E-90F2-482D-A1A4-2263FB57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D8C1-9E42-40E7-8814-611D4BB1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9614-4F04-4917-A115-8ABCE2A1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C932-6529-496C-AD8F-6B24AAA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F1427-7E19-41D0-AE43-02131877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390C-F359-4086-9796-E36A7F71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6C49-42A2-4379-875D-60C1080A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628C-2D20-451E-83C9-8993908B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F7B36-DBEA-4CAE-83D5-51F6115E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7E08-AE66-4F83-BEA4-E242C536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0422-A5C8-427D-B737-46F81037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00990-8756-4515-A001-46F63556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D938-5BF5-47B6-AB8D-D34B7E7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5A67-45A3-4263-8AF9-0AC348B3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2D72-10C8-4ACD-A18A-342F738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9A2C-6CCA-41D2-9AD1-BD5768A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B4BB-DDA9-47F4-9E03-517B402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CA835-2550-42F7-BBED-B0E78280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6E4B-C11C-40FE-9D57-F6A428BC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F279-4C40-4B30-B165-BADE801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7C61B-EBB7-41D9-A37F-2C565D33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0C34-B379-440A-80F1-8EA0753F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24119-4DE2-4DBC-A195-EE97D895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F886-F66E-4F67-A0B7-1B80F1D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0AB1-95FB-432B-9BF5-C74BD99A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A6DFE-0698-4A63-96A2-4FA4C5C6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47FA-C77A-4957-B388-8E67B844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0EA27-6DBA-4175-B0E1-A6DE99DA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2E30A-BF20-4506-8DF7-4529CFD6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A078-BDF4-473B-8434-EB2C7BD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6AF7-95CE-4867-877D-7EED7798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C04EE-7DFD-4023-ACBC-C742E9F9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E21-2E3E-410D-A2DC-B7CD03C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BD1B5-F30C-4B8F-BDE2-1E916872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58EA-F14E-459D-8E69-6723A3F8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71BC2-C730-4C50-9DE7-BFAB17A1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ACDAF-6C77-4832-9D16-DF9CDCE7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C27E2-5296-4FAC-AB2B-7F76908D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086E-C066-42AE-8775-AA37066A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DF5B2-871A-426A-A392-B9A8EF0A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1485-1478-42F2-8B1E-D7FB2E4F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9D04A-4FE4-4F4B-8EC6-0D03CAB4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8615-7B09-4B25-8562-453DDF7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656-E3BC-43F0-B781-DF741288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5A1F1-9AAE-4267-9E8D-FA95D202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73CEA-2072-4BF1-B79D-068C24C6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1D3F-D6B8-4819-8103-E267BA21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24F7D-A5B9-46F1-975F-A37A7B1E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2F07-DE0D-4C41-9A2E-5CC633AB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1139-84AC-41BF-88B6-0127F48B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4EB61-683E-4ABF-B1B2-132CC453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958B-9D43-4834-8D96-E751E360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E05DD-9FC6-407E-BE40-FC425D6B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AE06C-D0A0-4D0E-AC01-019971A8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AD6-803F-4824-86AC-22FA983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677AB-099F-49BE-8166-17B0B61D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E5312-7E84-4FBD-BF16-636C2E5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81A6-A963-4A2B-ACA9-F1877AF9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7CC4B-D452-4A0F-AA54-49A11EA0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F9E0-36AC-4346-97C0-438264F7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1A318-5CD8-435D-B0FD-75D83212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3DFD-6463-4244-AA53-CC211FB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9E506-955B-4302-A0FF-3D9357EB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BBB4-FF17-4620-910D-BCCF666C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C11E3-5962-4EA1-BAB5-002CF2FE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3AD-551B-417B-9712-306EF7DD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7417F-5236-4BFC-B379-E137E5BC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533F5-5D40-4686-989E-C0824D1F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0E794-9E0A-4365-9684-088D9157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9795A-86AA-4CBF-B516-9297A3E2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26B42-3C20-439D-A6C5-231B603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3288F-204F-4EDF-A0A5-B6D1D32E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07C9A-873D-4B2F-95D2-BDA78DDC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50D4D-8F40-49DB-9A06-AC214362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EB5DA-1EBD-4631-84AB-CA55B944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E97E5-03C9-46D3-B603-2CFA898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178-564F-4D4F-B585-F984FF356D5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7340-C263-453E-9BC5-94F1DC8610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2CA-25EF-4AE0-931E-58C29B4E1B3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CEB1-38B5-48C8-AF37-F20CEECD2A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0EF2-A60C-49C4-A56B-FF1FDD0C5AE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39E-6780-4FC8-8B0D-F818CA2C9D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1566-B789-4B27-AB70-EB61F4308AD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D4EA-F94A-47CD-B4A2-1EBF36EB92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DCE1-428D-4257-807B-484E6B90CEB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AFD4-D701-4EF6-A291-93797A5C25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5749-D033-4951-96BF-41E49EB2718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333E-F3E9-4D9E-BAC6-7AA35DA7EDB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726-060E-49C6-B3B2-B45A9D20E356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DD1E-48B7-42A2-913D-80E09D1225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7F0F-4399-448B-94A5-15275BE3C37F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1D7F-530C-4D2A-BEB6-AA05C19AE4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880-FFDF-4775-A731-68976AB37FC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A188-A99F-4C23-89A4-1A439DFC5A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image" Target="../media/image123.jpeg"/><Relationship Id="rId6" Type="http://schemas.openxmlformats.org/officeDocument/2006/relationships/image" Target="../media/image124.jpeg"/><Relationship Id="rId7" Type="http://schemas.openxmlformats.org/officeDocument/2006/relationships/image" Target="../media/image125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2"/>
          <a:stretch/>
        </p:blipFill>
        <p:spPr>
          <a:xfrm>
            <a:off x="4632480" y="4925880"/>
            <a:ext cx="2176200" cy="1938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6200" y="285840"/>
            <a:ext cx="41292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Культур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Древнего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Египт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9" name="Рисунок 6" descr="dbc3d17b38e3.jpg"/>
          <p:cNvPicPr/>
          <p:nvPr/>
        </p:nvPicPr>
        <p:blipFill>
          <a:blip r:embed="rId3"/>
          <a:stretch/>
        </p:blipFill>
        <p:spPr>
          <a:xfrm>
            <a:off x="-357120" y="17640"/>
            <a:ext cx="5153040" cy="6840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 flipH="1">
            <a:off x="2232000" y="3500280"/>
            <a:ext cx="54000" cy="92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Рисунок 12" descr="lotos.jpg"/>
          <p:cNvPicPr/>
          <p:nvPr/>
        </p:nvPicPr>
        <p:blipFill>
          <a:blip r:embed="rId4"/>
          <a:stretch/>
        </p:blipFill>
        <p:spPr>
          <a:xfrm>
            <a:off x="6572160" y="4842000"/>
            <a:ext cx="2700360" cy="201600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260E-1387-4D47-B80E-644A3F17815A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АСТАБ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0" y="71388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РИНАДЛЕЖНОСТИ ДЛЯ ПИСЬМ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9" name="Picture 2" descr="C:\Documents and Settings\Maria\Мои документы\Культурология\Репродукции\Мастаба_Шепсескафа.jpg"/>
          <p:cNvPicPr/>
          <p:nvPr/>
        </p:nvPicPr>
        <p:blipFill>
          <a:blip r:embed="rId2"/>
          <a:stretch/>
        </p:blipFill>
        <p:spPr>
          <a:xfrm>
            <a:off x="428760" y="12859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Documents and Settings\Maria\Мои документы\Культурология\Репродукции\180px-Mastaba.jpg"/>
          <p:cNvPicPr/>
          <p:nvPr/>
        </p:nvPicPr>
        <p:blipFill>
          <a:blip r:embed="rId3"/>
          <a:stretch/>
        </p:blipFill>
        <p:spPr>
          <a:xfrm>
            <a:off x="142920" y="4214880"/>
            <a:ext cx="3591000" cy="2214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5357880" y="1214280"/>
            <a:ext cx="2495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48A-5A5F-4C33-B284-C0AB98C6D07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Заголовок 6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004320" cy="151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Эпоху </a:t>
            </a:r>
            <a:r>
              <a:rPr b="1" i="1" lang="ru-RU" sz="1600" spc="-1" strike="noStrike" u="sng">
                <a:solidFill>
                  <a:srgbClr val="624139"/>
                </a:solidFill>
                <a:uFillTx/>
                <a:latin typeface="Constantia"/>
              </a:rPr>
              <a:t>Древнего царства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(</a:t>
            </a:r>
            <a:r>
              <a:rPr b="1" i="1" lang="en-US" sz="16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тыс. до н. э.) сами египтяне рассматривали как золотой век в истории своей культуры, поскольку в этот период: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Утверждается медный век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столица- Мемфис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правление фараонов: Джосера, Хеопса, Хефрена, Микерин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ысокого уровня достигают земледелие, садоводство, огородничество и виноградарство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дется каменное строительство, включая монументальные сооружения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вершается становление иероглифического письм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появляется первый свиток папирус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складывается система счет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осуществляются первые попытки мумификации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в эпоху Древнего царства оформляется вся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ная система культов, а среди многочисленных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богов устанавливается своеобразная иерархия с Богом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олнца Амоном-Ра во главе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хоронения фараонов производят в гробницах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ился монументальный стиль египетского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искусства и выработались изобразительные канон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лика роль  скульптур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85" name="Picture 1" descr="D:\Documents and Settings\Admin\Мои документы\Мои рисунки\attach.jpg"/>
          <p:cNvPicPr/>
          <p:nvPr/>
        </p:nvPicPr>
        <p:blipFill>
          <a:blip r:embed="rId3"/>
          <a:stretch/>
        </p:blipFill>
        <p:spPr>
          <a:xfrm>
            <a:off x="8326440" y="1143000"/>
            <a:ext cx="817560" cy="26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D:\Documents and Settings\Admin\Рабочий стол\Египет\Египет\0b29d757919bc06222fa056e69a57d3b.jpeg"/>
          <p:cNvPicPr/>
          <p:nvPr/>
        </p:nvPicPr>
        <p:blipFill>
          <a:blip r:embed="rId4"/>
          <a:stretch/>
        </p:blipFill>
        <p:spPr>
          <a:xfrm>
            <a:off x="5684760" y="4554360"/>
            <a:ext cx="3459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2"/>
          <a:stretch/>
        </p:blipFill>
        <p:spPr>
          <a:xfrm>
            <a:off x="3767040" y="384120"/>
            <a:ext cx="5383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Documents and Settings\Maria\Мои документы\Культурология\Репродукции\пирамида джосера.jpg"/>
          <p:cNvPicPr/>
          <p:nvPr/>
        </p:nvPicPr>
        <p:blipFill>
          <a:blip r:embed="rId3"/>
          <a:stretch/>
        </p:blipFill>
        <p:spPr>
          <a:xfrm>
            <a:off x="2857680" y="17859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3657600" cy="20098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0" y="29289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фараона Джосе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в Саккар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тыс. до н. э.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рхитект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мхоте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9010800" y="3285720"/>
            <a:ext cx="133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3" name="Рисунок 3" descr="a8.jpg"/>
          <p:cNvPicPr/>
          <p:nvPr/>
        </p:nvPicPr>
        <p:blipFill>
          <a:blip r:embed="rId3"/>
          <a:stretch/>
        </p:blipFill>
        <p:spPr>
          <a:xfrm>
            <a:off x="0" y="1125360"/>
            <a:ext cx="38876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Содержимое 3" descr="a92.jpg"/>
          <p:cNvPicPr/>
          <p:nvPr/>
        </p:nvPicPr>
        <p:blipFill>
          <a:blip r:embed="rId4"/>
          <a:stretch/>
        </p:blipFill>
        <p:spPr>
          <a:xfrm>
            <a:off x="2174760" y="3689280"/>
            <a:ext cx="6969240" cy="3168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"/>
          <p:cNvPicPr/>
          <p:nvPr/>
        </p:nvPicPr>
        <p:blipFill>
          <a:blip r:embed="rId5"/>
          <a:stretch/>
        </p:blipFill>
        <p:spPr>
          <a:xfrm>
            <a:off x="4786200" y="1214280"/>
            <a:ext cx="3979800" cy="2340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0" y="435780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ы фараон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еопса, Хефре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 Микери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и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9" name="Picture 7" descr="1241604153_030007b"/>
          <p:cNvPicPr/>
          <p:nvPr/>
        </p:nvPicPr>
        <p:blipFill>
          <a:blip r:embed="rId2"/>
          <a:stretch/>
        </p:blipFill>
        <p:spPr>
          <a:xfrm>
            <a:off x="3276720" y="2766960"/>
            <a:ext cx="6351480" cy="409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stroenie_heops3"/>
          <p:cNvPicPr/>
          <p:nvPr/>
        </p:nvPicPr>
        <p:blipFill>
          <a:blip r:embed="rId3"/>
          <a:stretch/>
        </p:blipFill>
        <p:spPr>
          <a:xfrm>
            <a:off x="0" y="0"/>
            <a:ext cx="5580000" cy="4197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5529d6d4aef6"/>
          <p:cNvPicPr/>
          <p:nvPr/>
        </p:nvPicPr>
        <p:blipFill>
          <a:blip r:embed="rId4"/>
          <a:stretch/>
        </p:blipFill>
        <p:spPr>
          <a:xfrm>
            <a:off x="0" y="400536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16658"/>
          <p:cNvPicPr/>
          <p:nvPr/>
        </p:nvPicPr>
        <p:blipFill>
          <a:blip r:embed="rId5"/>
          <a:stretch/>
        </p:blipFill>
        <p:spPr>
          <a:xfrm>
            <a:off x="5580000" y="0"/>
            <a:ext cx="4584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FD82-E730-4F77-9CEA-A152846DD66E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699760" cy="147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-360" y="107136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Египетские статуи исполнялись согласно канону (греч. «норма», «правило») — строгим законам, которым подчинялось изобразительное искусство. Они представляли собой фигуры, стоящие с выдвинутой вперёд ногой либо сидящие на троне с прижатыми к груди или лежащими на коленях руками и сомкнутыми ногами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06" name="Содержимое 14" descr="Хефрен_009.jpg"/>
          <p:cNvPicPr/>
          <p:nvPr/>
        </p:nvPicPr>
        <p:blipFill>
          <a:blip r:embed="rId3"/>
          <a:stretch/>
        </p:blipFill>
        <p:spPr>
          <a:xfrm>
            <a:off x="3929040" y="1143000"/>
            <a:ext cx="2928960" cy="50101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5" descr="Хефрен Диокситовая.jpg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332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7"/>
          <p:cNvSpPr/>
          <p:nvPr/>
        </p:nvSpPr>
        <p:spPr>
          <a:xfrm>
            <a:off x="6858000" y="164304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Хефр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заупокойного хра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Ги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E4D6-6345-4190-A91F-F6DB2A3B53E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Рисунок 5" descr="image027.jpg"/>
          <p:cNvPicPr/>
          <p:nvPr/>
        </p:nvPicPr>
        <p:blipFill>
          <a:blip r:embed="rId2"/>
          <a:stretch/>
        </p:blipFill>
        <p:spPr>
          <a:xfrm>
            <a:off x="2214720" y="0"/>
            <a:ext cx="3649680" cy="4319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6"/>
          <p:cNvSpPr/>
          <p:nvPr/>
        </p:nvSpPr>
        <p:spPr>
          <a:xfrm>
            <a:off x="2214720" y="45007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царевича Рахотепа и его супруги Нофрет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в Медум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Содержимое 6" descr="004406.jpg"/>
          <p:cNvPicPr/>
          <p:nvPr/>
        </p:nvPicPr>
        <p:blipFill>
          <a:blip r:embed="rId3"/>
          <a:stretch/>
        </p:blipFill>
        <p:spPr>
          <a:xfrm>
            <a:off x="6219720" y="0"/>
            <a:ext cx="2924280" cy="3809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6500880" y="39290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я писца К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з гробницы в Сакка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III тыс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ариж.Лув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Рисунок 9" descr="image028.jpg"/>
          <p:cNvPicPr/>
          <p:nvPr/>
        </p:nvPicPr>
        <p:blipFill>
          <a:blip r:embed="rId4"/>
          <a:stretch/>
        </p:blipFill>
        <p:spPr>
          <a:xfrm>
            <a:off x="0" y="0"/>
            <a:ext cx="1405080" cy="399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0" y="40006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вельмо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апера (Сельский староста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Сакка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759520" cy="1951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Documents and Settings\Maria\Мои документы\Культурология\Репродукции\Имхотеп скульптор визирь учерный Лрев ЦарствоJPG.JPG"/>
          <p:cNvPicPr/>
          <p:nvPr/>
        </p:nvPicPr>
        <p:blipFill>
          <a:blip r:embed="rId3"/>
          <a:stretch/>
        </p:blipFill>
        <p:spPr>
          <a:xfrm>
            <a:off x="0" y="192888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C:\Documents and Settings\Maria\Мои документы\Культурология\Репродукции\царевич Рахотеп.jpg"/>
          <p:cNvPicPr/>
          <p:nvPr/>
        </p:nvPicPr>
        <p:blipFill>
          <a:blip r:embed="rId4"/>
          <a:stretch/>
        </p:blipFill>
        <p:spPr>
          <a:xfrm>
            <a:off x="2500200" y="18572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:\Documents and Settings\Maria\Мои документы\Культурология\Репродукции\нефертити супруга эхнатона.jpg"/>
          <p:cNvPicPr/>
          <p:nvPr/>
        </p:nvPicPr>
        <p:blipFill>
          <a:blip r:embed="rId5"/>
          <a:stretch/>
        </p:blipFill>
        <p:spPr>
          <a:xfrm>
            <a:off x="6031080" y="2714760"/>
            <a:ext cx="3112920" cy="41432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7"/>
          <p:cNvSpPr/>
          <p:nvPr/>
        </p:nvSpPr>
        <p:spPr>
          <a:xfrm>
            <a:off x="2643120" y="4214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евича Рахотеп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0" y="5143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Имхотеп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542916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ицы Неферти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1" descr="D:\Documents and Settings\Admin\Рабочий стол\Египет\Египет\0b2950a9555da5093d91bf9671a109b8.jpeg"/>
          <p:cNvPicPr/>
          <p:nvPr/>
        </p:nvPicPr>
        <p:blipFill>
          <a:blip r:embed="rId6"/>
          <a:stretch/>
        </p:blipFill>
        <p:spPr>
          <a:xfrm>
            <a:off x="2428920" y="5021280"/>
            <a:ext cx="1285920" cy="1836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0"/>
          <p:cNvSpPr/>
          <p:nvPr/>
        </p:nvSpPr>
        <p:spPr>
          <a:xfrm>
            <a:off x="3643200" y="5072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этка, изображающ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Жреца Аменхотепа и его жену Ранн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B3FA-5028-431D-AF6E-BDB013A3CBD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D:\Documents and Settings\Admin\Мои документы\Мои рисунки\медум.jpg"/>
          <p:cNvPicPr/>
          <p:nvPr/>
        </p:nvPicPr>
        <p:blipFill>
          <a:blip r:embed="rId3"/>
          <a:stretch/>
        </p:blipFill>
        <p:spPr>
          <a:xfrm>
            <a:off x="0" y="857160"/>
            <a:ext cx="1887480" cy="111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D:\Documents and Settings\Admin\Мои документы\Мои рисунки\i_334.jpg"/>
          <p:cNvPicPr/>
          <p:nvPr/>
        </p:nvPicPr>
        <p:blipFill>
          <a:blip r:embed="rId4"/>
          <a:stretch/>
        </p:blipFill>
        <p:spPr>
          <a:xfrm>
            <a:off x="2214720" y="1428840"/>
            <a:ext cx="6810120" cy="134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D:\Documents and Settings\Admin\Мои документы\Мои рисунки\rГробница Ти.jpg"/>
          <p:cNvPicPr/>
          <p:nvPr/>
        </p:nvPicPr>
        <p:blipFill>
          <a:blip r:embed="rId5"/>
          <a:stretch/>
        </p:blipFill>
        <p:spPr>
          <a:xfrm>
            <a:off x="5857920" y="3932280"/>
            <a:ext cx="3011400" cy="2925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0" y="200016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«Гуси». Фрес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зодче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ефермаата в Меду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929200" y="29289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вельможи Ти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э в 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Рисунок 11" descr="Gnf[[jntg.jpg"/>
          <p:cNvPicPr/>
          <p:nvPr/>
        </p:nvPicPr>
        <p:blipFill>
          <a:blip r:embed="rId6"/>
          <a:stretch/>
        </p:blipFill>
        <p:spPr>
          <a:xfrm>
            <a:off x="-214200" y="4214880"/>
            <a:ext cx="3693960" cy="24112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2" descr="Птаххотеп.jpg"/>
          <p:cNvPicPr/>
          <p:nvPr/>
        </p:nvPicPr>
        <p:blipFill>
          <a:blip r:embed="rId7"/>
          <a:stretch/>
        </p:blipFill>
        <p:spPr>
          <a:xfrm>
            <a:off x="2357280" y="2857680"/>
            <a:ext cx="3227400" cy="21952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3"/>
          <p:cNvSpPr/>
          <p:nvPr/>
        </p:nvSpPr>
        <p:spPr>
          <a:xfrm>
            <a:off x="3571920" y="550080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Птаххот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 ю до н. э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Стрелка вниз 14"/>
          <p:cNvSpPr/>
          <p:nvPr/>
        </p:nvSpPr>
        <p:spPr>
          <a:xfrm>
            <a:off x="7143840" y="37861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Стрелка влево 15"/>
          <p:cNvSpPr/>
          <p:nvPr/>
        </p:nvSpPr>
        <p:spPr>
          <a:xfrm rot="2316600">
            <a:off x="3795480" y="505152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Стрелка вверх 16"/>
          <p:cNvSpPr/>
          <p:nvPr/>
        </p:nvSpPr>
        <p:spPr>
          <a:xfrm rot="2794800">
            <a:off x="1823040" y="2015280"/>
            <a:ext cx="285840" cy="255600"/>
          </a:xfrm>
          <a:prstGeom prst="upArrow">
            <a:avLst>
              <a:gd name="adj1" fmla="val 63583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8839440" cy="1700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В этот период интенсивно развивается выплавка (бронзы)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К ужеимеющимся ремеслам добавляется производство стекл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Заупокойный культ обслуживает и царей и вельмож, и средние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слои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Фараон воспринимается и как бог, как живой человек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в деле мумификации и бальзамировании были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достигнуты благодаря развитию медицины, знанию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натомии и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физиологии человек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  Целители-жрецы разрабатывали учение о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мозге, о кровеносных сосудах, о пульсе и сердц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 в математике и   астрономии, Геродот называл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тян учителями геометрии. Астрономы умели предсказывать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затмения, начало разлива Нила; солнечный календарь становился более совершенным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40" name="Picture 5" descr="D:\Documents and Settings\Admin\Мои документы\Мои рисунки\1255014393_6.jpg"/>
          <p:cNvPicPr/>
          <p:nvPr/>
        </p:nvPicPr>
        <p:blipFill>
          <a:blip r:embed="rId3"/>
          <a:stretch/>
        </p:blipFill>
        <p:spPr>
          <a:xfrm>
            <a:off x="7572240" y="2357280"/>
            <a:ext cx="1336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2"/>
          <a:stretch/>
        </p:blipFill>
        <p:spPr>
          <a:xfrm>
            <a:off x="298440" y="-15228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Культура Древнего Египта  -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древнейшая культура человечества, существовавшая примерно с конца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 до 332 г. до н. э.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В истории Древнего Египта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выделяют несколько периодов.   </a:t>
            </a:r>
            <a:r>
              <a:rPr b="0" lang="ru-RU" sz="2200" spc="-1" strike="noStrike" u="sng">
                <a:solidFill>
                  <a:srgbClr val="523227"/>
                </a:solidFill>
                <a:uFillTx/>
                <a:latin typeface="Constantia"/>
              </a:rPr>
              <a:t>Первый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 из  них  именуется 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одинастинеск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- э.), в течение которого зарождалась египетская цивилизация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ующие периоды, охватывающие 30 династий фараонов, 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египетский жрец Манефон,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написавший историю своей страны, предложил называть следующими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царствами: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рев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Сред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конец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— начало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Новым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ний период древнеегипетской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истории иногда называют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Поздним временем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</a:t>
            </a: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E136-5EDA-42BB-8A66-E2455973EEF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3" descr="D:\Documents and Settings\Admin\Мои документы\Мои рисунки\allfons_ru-2202.jpg"/>
          <p:cNvPicPr/>
          <p:nvPr/>
        </p:nvPicPr>
        <p:blipFill>
          <a:blip r:embed="rId3"/>
          <a:stretch/>
        </p:blipFill>
        <p:spPr>
          <a:xfrm rot="693600">
            <a:off x="5089680" y="4576680"/>
            <a:ext cx="3857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10B3-14B4-4A3E-BCFA-F0D27A02078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2" name="Заголовок 8" descr=""/>
          <p:cNvPicPr/>
          <p:nvPr/>
        </p:nvPicPr>
        <p:blipFill>
          <a:blip r:embed="rId2"/>
          <a:stretch/>
        </p:blipFill>
        <p:spPr>
          <a:xfrm>
            <a:off x="285840" y="-115920"/>
            <a:ext cx="5078160" cy="1481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"/>
          <p:cNvPicPr/>
          <p:nvPr/>
        </p:nvPicPr>
        <p:blipFill>
          <a:blip r:embed="rId3"/>
          <a:stretch/>
        </p:blipFill>
        <p:spPr>
          <a:xfrm>
            <a:off x="0" y="928800"/>
            <a:ext cx="2863800" cy="21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4"/>
          <a:stretch/>
        </p:blipFill>
        <p:spPr>
          <a:xfrm>
            <a:off x="6143760" y="0"/>
            <a:ext cx="2904840" cy="226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158920" cy="3708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2"/>
          <p:cNvSpPr/>
          <p:nvPr/>
        </p:nvSpPr>
        <p:spPr>
          <a:xfrm flipH="1">
            <a:off x="36424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7" name="Picture 6" descr="D:\Documents and Settings\Admin\Мои документы\Мои рисунки\004413.jpg"/>
          <p:cNvPicPr/>
          <p:nvPr/>
        </p:nvPicPr>
        <p:blipFill>
          <a:blip r:embed="rId6"/>
          <a:stretch/>
        </p:blipFill>
        <p:spPr>
          <a:xfrm>
            <a:off x="5786280" y="3286080"/>
            <a:ext cx="3071880" cy="2843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0"/>
          <p:cNvSpPr/>
          <p:nvPr/>
        </p:nvSpPr>
        <p:spPr>
          <a:xfrm>
            <a:off x="3143160" y="464328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енемхета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  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715000" y="2214720"/>
            <a:ext cx="32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Удод. Роспись 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в Бени-Гасане</a:t>
            </a:r>
            <a:r>
              <a:rPr b="1" i="1" lang="ru-RU" sz="1800" spc="-1" strike="noStrike">
                <a:solidFill>
                  <a:srgbClr val="00b05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0" y="3143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и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Бени-Гаса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8" descr="D:\Documents and Settings\Admin\Рабочий стол\Египет\Египет\image1281318086.jpg"/>
          <p:cNvPicPr/>
          <p:nvPr/>
        </p:nvPicPr>
        <p:blipFill>
          <a:blip r:embed="rId7"/>
          <a:stretch/>
        </p:blipFill>
        <p:spPr>
          <a:xfrm>
            <a:off x="-285840" y="4429080"/>
            <a:ext cx="3392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215-86E4-41AC-BA34-75B23547F75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3" name="Заголовок 5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5683320" cy="532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6000840" y="135720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Ювелирные издел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1  — ожерель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2  — пекторал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3  — кольц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4 — подвеска с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карабе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*Пектораль — нагруд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украшение в вид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ямоуголь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легка скошенной ввер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ластины, котору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лали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рудь умершему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ектораль бы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дним из обязате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едметов заупокойн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49AA-117E-4338-8A9D-02C1D6D008B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Заголовок 5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699760" cy="1481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213840" y="999720"/>
            <a:ext cx="46436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13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Характеризуется изгнанием гиксосов, объединением страны, периодом Амарны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нач. 14 в. до . э. ) Место погребения- Долина царей. Храмовое строительство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Храмы в Карнаке, Луксоре…)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3"/>
          <a:stretch/>
        </p:blipFill>
        <p:spPr>
          <a:xfrm>
            <a:off x="4500720" y="1000080"/>
            <a:ext cx="4600440" cy="3348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4"/>
          <p:cNvSpPr/>
          <p:nvPr/>
        </p:nvSpPr>
        <p:spPr>
          <a:xfrm>
            <a:off x="4572000" y="4500720"/>
            <a:ext cx="36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и фараона Аменхотепа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Колоссы Мемнон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4"/>
          <a:stretch/>
        </p:blipFill>
        <p:spPr>
          <a:xfrm>
            <a:off x="0" y="378612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1"/>
          <p:cNvSpPr/>
          <p:nvPr/>
        </p:nvSpPr>
        <p:spPr>
          <a:xfrm>
            <a:off x="285840" y="6000840"/>
            <a:ext cx="72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«Плакальщики». Рельеф из Мемфи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16A2-3574-4235-9455-E5809EB9494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4" name="Заголовок 5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142880" y="357192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етский 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3"/>
          <a:stretch/>
        </p:blipFill>
        <p:spPr>
          <a:xfrm>
            <a:off x="4000680" y="1071720"/>
            <a:ext cx="4464000" cy="2625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4"/>
          <a:stretch/>
        </p:blipFill>
        <p:spPr>
          <a:xfrm>
            <a:off x="142920" y="1214280"/>
            <a:ext cx="2867040" cy="1571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5"/>
          <a:stretch/>
        </p:blipFill>
        <p:spPr>
          <a:xfrm>
            <a:off x="0" y="2971800"/>
            <a:ext cx="928800" cy="388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6"/>
          <a:stretch/>
        </p:blipFill>
        <p:spPr>
          <a:xfrm>
            <a:off x="2643120" y="2857680"/>
            <a:ext cx="1514520" cy="38955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500040" y="8571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пители колон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14240" y="35719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е колон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апирусовидна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Лотосовидна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Стрелка влево 18"/>
          <p:cNvSpPr/>
          <p:nvPr/>
        </p:nvSpPr>
        <p:spPr>
          <a:xfrm>
            <a:off x="571680" y="435780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Стрелка вправо 19"/>
          <p:cNvSpPr/>
          <p:nvPr/>
        </p:nvSpPr>
        <p:spPr>
          <a:xfrm>
            <a:off x="2500200" y="4857840"/>
            <a:ext cx="549360" cy="428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4406040" y="135720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й х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E08-0264-418A-A659-09646290791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0" y="928800"/>
            <a:ext cx="4057560" cy="2735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90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В ДЕЙР ЭЛЬ-БАХРИ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Храм царицы Хатшепсут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)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3"/>
          <a:stretch/>
        </p:blipFill>
        <p:spPr>
          <a:xfrm>
            <a:off x="4500720" y="714240"/>
            <a:ext cx="4238640" cy="293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5214960" y="3714840"/>
            <a:ext cx="3647880" cy="2419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24139"/>
                </a:solidFill>
                <a:latin typeface="Constantia"/>
              </a:rPr>
              <a:t>ХРАМ АМОНА.КАРН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5"/>
          <a:stretch/>
        </p:blipFill>
        <p:spPr>
          <a:xfrm>
            <a:off x="0" y="4446720"/>
            <a:ext cx="4687920" cy="241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4"/>
          <p:cNvSpPr/>
          <p:nvPr/>
        </p:nvSpPr>
        <p:spPr>
          <a:xfrm>
            <a:off x="142920" y="3714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АМОНА  В ЛУКСОР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AECA-AAA3-4150-8A56-526427E6FD1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4" name="Заголовок 4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74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5643720" y="2571840"/>
            <a:ext cx="3276360" cy="403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1933560" cy="3019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0" y="785880"/>
            <a:ext cx="2604960" cy="2376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5442840" y="157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Охота в нильских зарос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Британский музей, Лондо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214800" y="421488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 и танцовщиц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ебамун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Box 18"/>
          <p:cNvSpPr/>
          <p:nvPr/>
        </p:nvSpPr>
        <p:spPr>
          <a:xfrm>
            <a:off x="0" y="3000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ахт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3438360" y="615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8" descr="D:\Documents and Settings\Admin\Рабочий стол\Египет\dancer-of-ancient-egypt-michal-boubin.jpg"/>
          <p:cNvPicPr/>
          <p:nvPr/>
        </p:nvPicPr>
        <p:blipFill>
          <a:blip r:embed="rId6"/>
          <a:stretch/>
        </p:blipFill>
        <p:spPr>
          <a:xfrm>
            <a:off x="214200" y="4429080"/>
            <a:ext cx="2743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0717-1EF7-4C72-8562-5DD52871A7C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4" name="Заголовок 3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-360" y="1599840"/>
            <a:ext cx="47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В XIV в. до н. э. фараон Аменхотеп IV (1368 — около 1351 гг. до н. э.) провёл религиозную реформу, оказавшую существенное влияние на искусство Нового царств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5715000" y="1214280"/>
            <a:ext cx="2990880" cy="36198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16"/>
          <p:cNvSpPr/>
          <p:nvPr/>
        </p:nvSpPr>
        <p:spPr>
          <a:xfrm>
            <a:off x="142920" y="385776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динственным и истинным богом был провозглашён Атон — само сияющ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а небе солнце, носитель великой животворной силы, Атон изображался в виде диска с исходя­щими от него лучами, которые за­вершались знаком жизни — анхом (крестом с петлёй в верхней част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5572080" y="4857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клонение богу солнца Атону (Эхнатон и Нефертити с дочерью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ельеф из Амарны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. до н. э. 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31DC-B55F-4C4B-8B7B-2DBFBB2694D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4286160" y="0"/>
            <a:ext cx="30067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3"/>
          <p:cNvSpPr/>
          <p:nvPr/>
        </p:nvSpPr>
        <p:spPr>
          <a:xfrm>
            <a:off x="7215120" y="357120"/>
            <a:ext cx="171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ефертити из Амар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сударственный музей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ли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571760" y="0"/>
            <a:ext cx="2638440" cy="40687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5"/>
          <p:cNvSpPr/>
          <p:nvPr/>
        </p:nvSpPr>
        <p:spPr>
          <a:xfrm>
            <a:off x="0" y="214200"/>
            <a:ext cx="1643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 Неферти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Амарны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E4E-0F97-4E40-B63C-3F8C740F46E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Заголовок 5" descr=""/>
          <p:cNvPicPr/>
          <p:nvPr/>
        </p:nvPicPr>
        <p:blipFill>
          <a:blip r:embed="rId2"/>
          <a:stretch/>
        </p:blipFill>
        <p:spPr>
          <a:xfrm>
            <a:off x="1706400" y="-36360"/>
            <a:ext cx="6231240" cy="1652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2065320" cy="33116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1"/>
          <p:cNvSpPr/>
          <p:nvPr/>
        </p:nvSpPr>
        <p:spPr>
          <a:xfrm>
            <a:off x="214200" y="4429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4" descr="D:\Documents and Settings\Admin\Рабочий стол\Египет\Картинки 9 кл египет\i_332.jpg.jpg"/>
          <p:cNvPicPr/>
          <p:nvPr/>
        </p:nvPicPr>
        <p:blipFill>
          <a:blip r:embed="rId4"/>
          <a:stretch/>
        </p:blipFill>
        <p:spPr>
          <a:xfrm>
            <a:off x="3214800" y="1143000"/>
            <a:ext cx="2601720" cy="381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D:\Documents and Settings\Admin\Рабочий стол\Египет\Картинки 9 кл египет\Tutankhamun_14.jpg"/>
          <p:cNvPicPr/>
          <p:nvPr/>
        </p:nvPicPr>
        <p:blipFill>
          <a:blip r:embed="rId5"/>
          <a:stretch/>
        </p:blipFill>
        <p:spPr>
          <a:xfrm>
            <a:off x="0" y="5076720"/>
            <a:ext cx="4762440" cy="1781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D:\Documents and Settings\Admin\Рабочий стол\Египет\Картинки 9 кл египет\1faf8924f124.jpg"/>
          <p:cNvPicPr/>
          <p:nvPr/>
        </p:nvPicPr>
        <p:blipFill>
          <a:blip r:embed="rId6"/>
          <a:stretch/>
        </p:blipFill>
        <p:spPr>
          <a:xfrm>
            <a:off x="6786720" y="0"/>
            <a:ext cx="2936880" cy="27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D:\Documents and Settings\Admin\Рабочий стол\Египет\Картинки 9 кл египет\01.JPG"/>
          <p:cNvPicPr/>
          <p:nvPr/>
        </p:nvPicPr>
        <p:blipFill>
          <a:blip r:embed="rId7"/>
          <a:stretch/>
        </p:blipFill>
        <p:spPr>
          <a:xfrm>
            <a:off x="785880" y="3286080"/>
            <a:ext cx="2127240" cy="16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D:\Documents and Settings\Admin\Рабочий стол\Египет\Золотой трон Тутанхамона.jpg"/>
          <p:cNvPicPr/>
          <p:nvPr/>
        </p:nvPicPr>
        <p:blipFill>
          <a:blip r:embed="rId8"/>
          <a:stretch/>
        </p:blipFill>
        <p:spPr>
          <a:xfrm>
            <a:off x="6643800" y="3186000"/>
            <a:ext cx="2616120" cy="367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:\Documents and Settings\Admin\Рабочий стол\Египет\Ларец для благовонийpg.jpg"/>
          <p:cNvPicPr/>
          <p:nvPr/>
        </p:nvPicPr>
        <p:blipFill>
          <a:blip r:embed="rId9"/>
          <a:stretch/>
        </p:blipFill>
        <p:spPr>
          <a:xfrm>
            <a:off x="5072040" y="4786200"/>
            <a:ext cx="1601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тоотооо"/>
          <p:cNvPicPr/>
          <p:nvPr/>
        </p:nvPicPr>
        <p:blipFill>
          <a:blip r:embed="rId2"/>
          <a:stretch/>
        </p:blipFill>
        <p:spPr>
          <a:xfrm rot="1613400">
            <a:off x="4757400" y="1401840"/>
            <a:ext cx="4343400" cy="28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1_2f95f6b4601c6dc045e5a95fd83568f6"/>
          <p:cNvPicPr/>
          <p:nvPr/>
        </p:nvPicPr>
        <p:blipFill>
          <a:blip r:embed="rId3"/>
          <a:stretch/>
        </p:blipFill>
        <p:spPr>
          <a:xfrm rot="21139200">
            <a:off x="177480" y="925200"/>
            <a:ext cx="4437000" cy="29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долина"/>
          <p:cNvPicPr/>
          <p:nvPr/>
        </p:nvPicPr>
        <p:blipFill>
          <a:blip r:embed="rId4"/>
          <a:stretch/>
        </p:blipFill>
        <p:spPr>
          <a:xfrm>
            <a:off x="1714680" y="3941640"/>
            <a:ext cx="5308560" cy="2916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Большой храм в Абу-Симбеле (XIII в.), посвящённый Амону-Ра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217C-908F-48F4-A46C-21C1AE2ABFD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-109440" y="-6480"/>
            <a:ext cx="6334200" cy="1890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13920"/>
            <a:ext cx="62866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многочисленных богов Египта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(боги солнца Ра или Амон-Ра, бог Осирис,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богини Исида, Сет, Маат); 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обожествленного царя — фараона. Проведение установленных богами законов в жизнь, исполнительная власть находилась в руках царей. Фараон был одновременно живым, земным богом и верховным жрецом, отправлявшим важные  ритуалы,   которые   обеспечивали   процветание страны. Выражением идеи бессмертия и неограниченной власти фараона над простыми смертными стали пирамиды;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диких и домашних животных, птиц, рыб и насекомых. В число священных входили: лев, корова, бык, кошка, козел, крокодил; птицы — сокол, ибис и коршун, а также пчела, змея, навозный жук-скарабей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0" name="Picture 1" descr="D:\Documents and Settings\Admin\Рабочий стол\Египет\Ancient Egyptian Life.jpg"/>
          <p:cNvPicPr/>
          <p:nvPr/>
        </p:nvPicPr>
        <p:blipFill>
          <a:blip r:embed="rId3"/>
          <a:stretch/>
        </p:blipFill>
        <p:spPr>
          <a:xfrm>
            <a:off x="6143760" y="4626000"/>
            <a:ext cx="281772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D:\Documents and Settings\Admin\Рабочий стол\Египет\75bb89a3979959a09f4e4e206e7.jpg"/>
          <p:cNvPicPr/>
          <p:nvPr/>
        </p:nvPicPr>
        <p:blipFill>
          <a:blip r:embed="rId4"/>
          <a:stretch/>
        </p:blipFill>
        <p:spPr>
          <a:xfrm>
            <a:off x="6273720" y="0"/>
            <a:ext cx="2870280" cy="197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D:\Documents and Settings\Admin\Рабочий стол\Египет\Египет\feb84971dc55.jpg"/>
          <p:cNvPicPr/>
          <p:nvPr/>
        </p:nvPicPr>
        <p:blipFill>
          <a:blip r:embed="rId5"/>
          <a:stretch/>
        </p:blipFill>
        <p:spPr>
          <a:xfrm>
            <a:off x="6858000" y="2000160"/>
            <a:ext cx="191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1DD-A9C9-4FEA-B260-E56F65BCD437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0" name="Заголовок 5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2384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0" y="857160"/>
            <a:ext cx="6858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Особенности культуры Древнего Египта: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1.Архитектура представлена пирамидами, храмами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2.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3.Капители колонн: пальмоподобные, лотосоподобные, папирусоподобн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4.Стены храмов украшены живописью( линейные, геометричные, расположенные в виде горизонтальных строчек)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5.Канон в изображениях: тело в фас, а ноги и голова в профиль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6. В скульптуре 3 положения: фигуры, стоящие с выдвинутой впе­рёд ногой либо сидящие на троне с прижатыми к груди или лежащими на коленях руками и сомкнутыми ног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7.Раскраска  скульптур была таковой: тело мужчины красно- коричневое, тело женщины светло- жёлтое или жёлто- розовое, волосы чёрные, одежды бел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8.Фигура фараона выделялась размер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622" name="Picture 5" descr="D:\Documents and Settings\Admin\Рабочий стол\Египет\the-ancient-egyptian-goddess-isis-leading-queen-nefertari-ben-morales-correa.jpg"/>
          <p:cNvPicPr/>
          <p:nvPr/>
        </p:nvPicPr>
        <p:blipFill>
          <a:blip r:embed="rId3"/>
          <a:stretch/>
        </p:blipFill>
        <p:spPr>
          <a:xfrm>
            <a:off x="6715080" y="1785960"/>
            <a:ext cx="2276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EEB-0440-4F6F-A20F-0AAEF13A549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699760" cy="134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Admin\Рабочий стол\Египет\5588a3ecee53bbcc08aec615e72.jpg"/>
          <p:cNvPicPr/>
          <p:nvPr/>
        </p:nvPicPr>
        <p:blipFill>
          <a:blip r:embed="rId3"/>
          <a:stretch/>
        </p:blipFill>
        <p:spPr>
          <a:xfrm rot="20149200">
            <a:off x="77760" y="1104840"/>
            <a:ext cx="2630520" cy="338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D:\Documents and Settings\Admin\Рабочий стол\Египет\1295779217_05_thumb.jpg"/>
          <p:cNvPicPr/>
          <p:nvPr/>
        </p:nvPicPr>
        <p:blipFill>
          <a:blip r:embed="rId4"/>
          <a:stretch/>
        </p:blipFill>
        <p:spPr>
          <a:xfrm rot="1831800">
            <a:off x="6597720" y="1057320"/>
            <a:ext cx="3201840" cy="2663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D:\Documents and Settings\Admin\Рабочий стол\Египет\2f4212e81bd8d64431183063871.jpg"/>
          <p:cNvPicPr/>
          <p:nvPr/>
        </p:nvPicPr>
        <p:blipFill>
          <a:blip r:embed="rId5"/>
          <a:stretch/>
        </p:blipFill>
        <p:spPr>
          <a:xfrm>
            <a:off x="428760" y="4876920"/>
            <a:ext cx="6350040" cy="1981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D:\Documents and Settings\Admin\Рабочий стол\Египет\column_pictures.jpg"/>
          <p:cNvPicPr/>
          <p:nvPr/>
        </p:nvPicPr>
        <p:blipFill>
          <a:blip r:embed="rId6"/>
          <a:stretch/>
        </p:blipFill>
        <p:spPr>
          <a:xfrm>
            <a:off x="3286080" y="1071720"/>
            <a:ext cx="2530440" cy="349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Admin\Рабочий стол\Египет\Золотые серьгиjpg.jpg"/>
          <p:cNvPicPr/>
          <p:nvPr/>
        </p:nvPicPr>
        <p:blipFill>
          <a:blip r:embed="rId7"/>
          <a:stretch/>
        </p:blipFill>
        <p:spPr>
          <a:xfrm>
            <a:off x="6881760" y="4286160"/>
            <a:ext cx="2262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373E-93E9-4057-8273-4EE0A3E8C48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69760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42560" y="155376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nstantia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6" name="Picture 4" descr="47120409_ancient_egypt_gods_2"/>
          <p:cNvPicPr/>
          <p:nvPr/>
        </p:nvPicPr>
        <p:blipFill>
          <a:blip r:embed="rId3"/>
          <a:stretch/>
        </p:blipFill>
        <p:spPr>
          <a:xfrm>
            <a:off x="0" y="214200"/>
            <a:ext cx="2200320" cy="356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59"/>
          <p:cNvPicPr/>
          <p:nvPr/>
        </p:nvPicPr>
        <p:blipFill>
          <a:blip r:embed="rId4"/>
          <a:stretch/>
        </p:blipFill>
        <p:spPr>
          <a:xfrm>
            <a:off x="3714840" y="1143000"/>
            <a:ext cx="4825800" cy="3500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324000" y="3714840"/>
            <a:ext cx="11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он 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929040" y="4714920"/>
            <a:ext cx="4964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Геб- бог земл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Нут- богиня неб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мон Ра- бог солнц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Шу- бог воздух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 flipV="1" rot="10800000">
            <a:off x="2301840" y="267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елигия и мифология Древнего Егип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1" descr="D:\Documents and Settings\Admin\Рабочий стол\Египет\Египет\egypt07003.jpg"/>
          <p:cNvPicPr/>
          <p:nvPr/>
        </p:nvPicPr>
        <p:blipFill>
          <a:blip r:embed="rId5"/>
          <a:stretch/>
        </p:blipFill>
        <p:spPr>
          <a:xfrm>
            <a:off x="285840" y="4357800"/>
            <a:ext cx="2543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147492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1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C4C4-02C8-474A-81C3-ECDF213318B2}" type="slidenum">
              <a:rPr b="0" lang="ru-RU" sz="1200" spc="-1" strike="noStrike">
                <a:solidFill>
                  <a:srgbClr val="c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4" name="Picture 2" descr="C:\Documents and Settings\Maria\Мои документы\Культурология\Репродукции\амон.png"/>
          <p:cNvPicPr/>
          <p:nvPr/>
        </p:nvPicPr>
        <p:blipFill>
          <a:blip r:embed="rId3"/>
          <a:stretch/>
        </p:blipFill>
        <p:spPr>
          <a:xfrm>
            <a:off x="0" y="1071720"/>
            <a:ext cx="1959120" cy="4932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0" y="6211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мон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царь бог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3" descr="C:\Documents and Settings\Maria\Мои документы\Культурология\Репродукции\ра солнце.png"/>
          <p:cNvPicPr/>
          <p:nvPr/>
        </p:nvPicPr>
        <p:blipFill>
          <a:blip r:embed="rId4"/>
          <a:stretch/>
        </p:blipFill>
        <p:spPr>
          <a:xfrm>
            <a:off x="2143080" y="2786040"/>
            <a:ext cx="1708200" cy="3500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1928880" y="62866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Ра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солнц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8" name="Picture 4" descr="C:\Documents and Settings\Maria\Мои документы\Культурология\Репродукции\осирис бог возрождения.png"/>
          <p:cNvPicPr/>
          <p:nvPr/>
        </p:nvPicPr>
        <p:blipFill>
          <a:blip r:embed="rId5"/>
          <a:stretch/>
        </p:blipFill>
        <p:spPr>
          <a:xfrm>
            <a:off x="3714840" y="1357200"/>
            <a:ext cx="1774800" cy="3853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3786120" y="52149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сирис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возро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5" descr="C:\Documents and Settings\Maria\Мои документы\Культурология\Репродукции\сет пустыня злоjpg.jpg"/>
          <p:cNvPicPr/>
          <p:nvPr/>
        </p:nvPicPr>
        <p:blipFill>
          <a:blip r:embed="rId6"/>
          <a:stretch/>
        </p:blipFill>
        <p:spPr>
          <a:xfrm>
            <a:off x="5715000" y="2286000"/>
            <a:ext cx="1581120" cy="3214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5715000" y="55008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ет ( Сетх)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устыни и з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2" name="Picture 6" descr="C:\Documents and Settings\Maria\Мои документы\Культурология\Репродукции\птах искусство и ремеслаpng.png"/>
          <p:cNvPicPr/>
          <p:nvPr/>
        </p:nvPicPr>
        <p:blipFill>
          <a:blip r:embed="rId7"/>
          <a:stretch/>
        </p:blipFill>
        <p:spPr>
          <a:xfrm>
            <a:off x="7643880" y="1857240"/>
            <a:ext cx="1150920" cy="37864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5"/>
          <p:cNvSpPr/>
          <p:nvPr/>
        </p:nvSpPr>
        <p:spPr>
          <a:xfrm>
            <a:off x="7429680" y="557208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тах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окровител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искусства и ремес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8388360" cy="865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Maria\Мои документы\Культурология\Репродукции\анубис- покров умерших.jpg"/>
          <p:cNvPicPr/>
          <p:nvPr/>
        </p:nvPicPr>
        <p:blipFill>
          <a:blip r:embed="rId3"/>
          <a:stretch/>
        </p:blipFill>
        <p:spPr>
          <a:xfrm>
            <a:off x="214200" y="928800"/>
            <a:ext cx="2714760" cy="2017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Maria\Мои документы\Культурология\Репродукции\bcblf .jpg"/>
          <p:cNvPicPr/>
          <p:nvPr/>
        </p:nvPicPr>
        <p:blipFill>
          <a:blip r:embed="rId4"/>
          <a:stretch/>
        </p:blipFill>
        <p:spPr>
          <a:xfrm>
            <a:off x="214200" y="3714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Maria\Мои документы\Культурология\Репродукции\нут небо.JPG"/>
          <p:cNvPicPr/>
          <p:nvPr/>
        </p:nvPicPr>
        <p:blipFill>
          <a:blip r:embed="rId5"/>
          <a:stretch/>
        </p:blipFill>
        <p:spPr>
          <a:xfrm>
            <a:off x="3571920" y="1071720"/>
            <a:ext cx="2943360" cy="20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Documents and Settings\Maria\Мои документы\Культурология\Репродукции\апоп змей враг солнца.jpg"/>
          <p:cNvPicPr/>
          <p:nvPr/>
        </p:nvPicPr>
        <p:blipFill>
          <a:blip r:embed="rId6"/>
          <a:stretch/>
        </p:blipFill>
        <p:spPr>
          <a:xfrm>
            <a:off x="3643200" y="3786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C:\Documents and Settings\Maria\Мои документы\Культурология\Репродукции\апис свящ бык осирис.jpg"/>
          <p:cNvPicPr/>
          <p:nvPr/>
        </p:nvPicPr>
        <p:blipFill>
          <a:blip r:embed="rId7"/>
          <a:stretch/>
        </p:blipFill>
        <p:spPr>
          <a:xfrm>
            <a:off x="6786720" y="2214720"/>
            <a:ext cx="2125440" cy="28335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8"/>
          <p:cNvSpPr/>
          <p:nvPr/>
        </p:nvSpPr>
        <p:spPr>
          <a:xfrm>
            <a:off x="214200" y="3071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нубис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кровитель умерш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ик 9"/>
          <p:cNvSpPr/>
          <p:nvPr/>
        </p:nvSpPr>
        <p:spPr>
          <a:xfrm>
            <a:off x="7143840" y="521496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и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священный бык Осири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оугольник 10"/>
          <p:cNvSpPr/>
          <p:nvPr/>
        </p:nvSpPr>
        <p:spPr>
          <a:xfrm>
            <a:off x="214200" y="5643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си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женственности и материн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рямоугольник 11"/>
          <p:cNvSpPr/>
          <p:nvPr/>
        </p:nvSpPr>
        <p:spPr>
          <a:xfrm flipV="1" rot="10800000">
            <a:off x="4071600" y="60044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о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змей) - бог зла, враг солн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Прямоугольник 12"/>
          <p:cNvSpPr/>
          <p:nvPr/>
        </p:nvSpPr>
        <p:spPr>
          <a:xfrm>
            <a:off x="3869640" y="3214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у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иня н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0B5B-C7EE-4FCB-A315-A9BED8543C65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Maria\Мои документы\Культурология\Репродукции\бастет покров женщин веселья краслоты.jpg"/>
          <p:cNvPicPr/>
          <p:nvPr/>
        </p:nvPicPr>
        <p:blipFill>
          <a:blip r:embed="rId3"/>
          <a:stretch/>
        </p:blipFill>
        <p:spPr>
          <a:xfrm>
            <a:off x="285840" y="928800"/>
            <a:ext cx="2035080" cy="27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Maria\Мои документы\Культурология\Репродукции\маат вселенс гармония истина.jpg"/>
          <p:cNvPicPr/>
          <p:nvPr/>
        </p:nvPicPr>
        <p:blipFill>
          <a:blip r:embed="rId4"/>
          <a:stretch/>
        </p:blipFill>
        <p:spPr>
          <a:xfrm>
            <a:off x="2452680" y="242892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:\Documents and Settings\Maria\Мои документы\Культурология\Репродукции\себек воды и нила отпугив силы тьмы.jpg"/>
          <p:cNvPicPr/>
          <p:nvPr/>
        </p:nvPicPr>
        <p:blipFill>
          <a:blip r:embed="rId5"/>
          <a:stretch/>
        </p:blipFill>
        <p:spPr>
          <a:xfrm>
            <a:off x="6715080" y="714240"/>
            <a:ext cx="1997280" cy="4648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Maria\Мои документы\Культурология\Репродукции\тот мудрость и знание.jpg"/>
          <p:cNvPicPr/>
          <p:nvPr/>
        </p:nvPicPr>
        <p:blipFill>
          <a:blip r:embed="rId6"/>
          <a:stretch/>
        </p:blipFill>
        <p:spPr>
          <a:xfrm>
            <a:off x="4429080" y="2357280"/>
            <a:ext cx="1998720" cy="335772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7"/>
          <p:cNvSpPr/>
          <p:nvPr/>
        </p:nvSpPr>
        <p:spPr>
          <a:xfrm>
            <a:off x="214200" y="3786120"/>
            <a:ext cx="20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ст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кровительница женщин, красоты и весель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2571840" y="535788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а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истины и гармо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4357800" y="5786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мудрости и зн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6858000" y="55008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воды, Нила, отпугивает силы тьм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Номер слайда 10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EE1-ED3D-49B4-BCFD-CF31AB05041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E3E-4999-484D-94D8-AFFEDA4E8B9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3616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Богиня плодородия- Баст или Бастет</a:t>
            </a: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68" name="Picture 4" descr="67070725"/>
          <p:cNvPicPr/>
          <p:nvPr/>
        </p:nvPicPr>
        <p:blipFill>
          <a:blip r:embed="rId2"/>
          <a:stretch/>
        </p:blipFill>
        <p:spPr>
          <a:xfrm>
            <a:off x="179280" y="189000"/>
            <a:ext cx="2590920" cy="48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1281421979_egypt29"/>
          <p:cNvPicPr/>
          <p:nvPr/>
        </p:nvPicPr>
        <p:blipFill>
          <a:blip r:embed="rId3"/>
          <a:stretch/>
        </p:blipFill>
        <p:spPr>
          <a:xfrm>
            <a:off x="6516720" y="260280"/>
            <a:ext cx="2448000" cy="4681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victorina013"/>
          <p:cNvPicPr/>
          <p:nvPr/>
        </p:nvPicPr>
        <p:blipFill>
          <a:blip r:embed="rId4"/>
          <a:stretch/>
        </p:blipFill>
        <p:spPr>
          <a:xfrm>
            <a:off x="3071880" y="428760"/>
            <a:ext cx="311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11A3-E5EC-4E2D-AAFA-C7282985128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4139"/>
                </a:solidFill>
                <a:latin typeface="Constantia"/>
              </a:rPr>
              <a:t>Это период объединения Верхнего и Нижнего Египта в единое государство</a:t>
            </a:r>
            <a:r>
              <a:rPr b="1" i="1" lang="uk-UA" sz="2400" spc="-1" strike="noStrike">
                <a:solidFill>
                  <a:srgbClr val="c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3" name="Содержимое 6" descr="плита2jpeg.jpeg"/>
          <p:cNvPicPr/>
          <p:nvPr/>
        </p:nvPicPr>
        <p:blipFill>
          <a:blip r:embed="rId2"/>
          <a:stretch/>
        </p:blipFill>
        <p:spPr>
          <a:xfrm>
            <a:off x="357120" y="1962000"/>
            <a:ext cx="3278160" cy="4896000"/>
          </a:xfrm>
          <a:prstGeom prst="rect">
            <a:avLst/>
          </a:prstGeom>
          <a:ln w="0">
            <a:noFill/>
          </a:ln>
        </p:spPr>
      </p:pic>
      <p:pic>
        <p:nvPicPr>
          <p:cNvPr id="474" name="Заголовок 1" descr=""/>
          <p:cNvPicPr/>
          <p:nvPr/>
        </p:nvPicPr>
        <p:blipFill>
          <a:blip r:embed="rId3"/>
          <a:stretch/>
        </p:blipFill>
        <p:spPr>
          <a:xfrm>
            <a:off x="450720" y="19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475" name="Содержимое 3" descr="плита.jpeg"/>
          <p:cNvPicPr/>
          <p:nvPr/>
        </p:nvPicPr>
        <p:blipFill>
          <a:blip r:embed="rId4"/>
          <a:stretch/>
        </p:blipFill>
        <p:spPr>
          <a:xfrm>
            <a:off x="3143160" y="1962000"/>
            <a:ext cx="3381480" cy="4896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"/>
          <p:cNvSpPr/>
          <p:nvPr/>
        </p:nvSpPr>
        <p:spPr>
          <a:xfrm>
            <a:off x="6572160" y="378612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Рельеф шиферн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плиты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Нарме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(Ок. 3000 г. до н.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Египетский музей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28:55Z</dcterms:created>
  <dc:creator>Admin</dc:creator>
  <dc:description/>
  <dc:language>en-US</dc:language>
  <cp:lastModifiedBy>Admin</cp:lastModifiedBy>
  <dcterms:modified xsi:type="dcterms:W3CDTF">2013-02-04T11:42:42Z</dcterms:modified>
  <cp:revision>1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45000000000001024140</vt:lpwstr>
  </property>
</Properties>
</file>