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camera.wav" ContentType="audio/x-wav"/>
  <Override PartName="/ppt/media/image59.jpeg" ContentType="image/jpe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drumroll.wav" ContentType="audio/x-wav"/>
  <Override PartName="/ppt/media/image73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22.jpeg" ContentType="image/jpeg"/>
  <Override PartName="/ppt/media/image79.wmf" ContentType="image/x-wmf"/>
  <Override PartName="/ppt/media/image15.jpeg" ContentType="image/jpeg"/>
  <Override PartName="/ppt/media/image20.jpeg" ContentType="image/jpeg"/>
  <Override PartName="/ppt/media/image21.jpeg" ContentType="image/jpeg"/>
  <Override PartName="/ppt/media/image58.jpeg" ContentType="image/jpeg"/>
  <Override PartName="/ppt/media/image16.jpeg" ContentType="image/jpeg"/>
  <Override PartName="/ppt/media/image30.png" ContentType="image/png"/>
  <Override PartName="/ppt/media/image14.jpeg" ContentType="image/jpeg"/>
  <Override PartName="/ppt/media/image60.jpeg" ContentType="image/jpeg"/>
  <Override PartName="/ppt/media/image77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74.jpeg" ContentType="image/jpeg"/>
  <Override PartName="/ppt/media/image69.jpeg" ContentType="image/jpeg"/>
  <Override PartName="/ppt/media/image19.jpeg" ContentType="image/jpeg"/>
  <Override PartName="/ppt/media/image57.jpeg" ContentType="image/jpeg"/>
  <Override PartName="/ppt/media/image63.jpeg" ContentType="image/jpeg"/>
  <Override PartName="/ppt/media/image6.jpeg" ContentType="image/jpeg"/>
  <Override PartName="/ppt/media/image78.wmf" ContentType="image/x-wmf"/>
  <Override PartName="/ppt/media/image65.jpeg" ContentType="image/jpeg"/>
  <Override PartName="/ppt/media/image8.jpeg" ContentType="image/jpeg"/>
  <Override PartName="/ppt/media/image38.png" ContentType="image/png"/>
  <Override PartName="/ppt/media/image76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B92D-21DF-4EF9-AA7D-D16FABE6D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5DF-0692-482F-806D-3E568A067A6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240-E366-4286-AC5E-A5D559DC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D4-54D0-4F50-AA62-7F5429C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EEB-78CC-43A0-A87A-6B33F3E7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1C8-D35A-420B-B2C6-2FF5FA58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381E-77DD-4C6A-89DA-1625F21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3A4-12BB-489D-A3DF-FE7D57C1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D049-F004-4EE4-B727-9B64072B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C51-E59C-4C14-BDB9-4306A741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320C-A693-4018-9EC1-02FC9C76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2EA3-55E9-4042-A08E-66943B0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8524-F39E-435F-BBD6-E230D87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ED9-E9F5-407B-A892-A5C6F36E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F540-2BE1-4583-9FD8-AA303B5B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79C-6290-4BAE-9840-A75A169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2B45-B606-4A47-B050-5ABFEDEA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B2D-F1D7-48E1-84D9-B86BF51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4FEC-DEE0-4711-B695-DD655CC6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4F2-861D-4CE3-B82D-24612D3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9C2-BEFA-44E1-90BB-3C58CA81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D20-62C9-4DA2-9F53-F928131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B22-9915-43E0-BC3B-D37DABE7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BF8-5853-4F9B-9391-C59BC68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DFB-CF81-4466-AAB3-ACE90A6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BB6-AF60-40C5-9745-6DDEDE0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1BF-9C19-4AEC-AA4F-B36A5C6EA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8505-696B-4138-BC08-8FB683EBA03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image" Target="../media/image46.jpeg"/><Relationship Id="rId17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1080" y="-458640"/>
            <a:ext cx="9074160" cy="62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Открытый урок 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по геометрии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в 9 классе</a:t>
            </a: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2556000" y="3860640"/>
            <a:ext cx="1600200" cy="148608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1403280" y="1052640"/>
            <a:ext cx="669780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556000" y="907560"/>
            <a:ext cx="26636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 flipV="1">
            <a:off x="3348000" y="1844280"/>
            <a:ext cx="158436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2843280" y="907560"/>
            <a:ext cx="331308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140360" y="2349000"/>
            <a:ext cx="158400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851280" y="1844280"/>
            <a:ext cx="26654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AutoShape 9"/>
          <p:cNvSpPr/>
          <p:nvPr/>
        </p:nvSpPr>
        <p:spPr>
          <a:xfrm rot="2049000">
            <a:off x="4932360" y="765000"/>
            <a:ext cx="1600200" cy="148608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311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 rot="1965600">
            <a:off x="7358760" y="4816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851280" y="5157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195640" y="4292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132000" y="342900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24360" y="3933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248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148360" y="220500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4716360" y="1844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643280" y="561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516720" y="1628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6156360" y="620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роение фигуры, симметричной данной относительно оси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231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Line 5"/>
          <p:cNvSpPr/>
          <p:nvPr/>
        </p:nvSpPr>
        <p:spPr>
          <a:xfrm flipV="1">
            <a:off x="468360" y="4797360"/>
            <a:ext cx="3198600" cy="4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WordArt 15"/>
          <p:cNvSpPr txBox="1"/>
          <p:nvPr/>
        </p:nvSpPr>
        <p:spPr>
          <a:xfrm>
            <a:off x="468360" y="1341360"/>
            <a:ext cx="32004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8 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79480" y="28116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, обладающие осевой симметри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гура может иметь несколько осей симметр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71920" y="3962520"/>
            <a:ext cx="251496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6629400" y="1295280"/>
            <a:ext cx="0" cy="4876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3962520" y="3580920"/>
            <a:ext cx="4343400" cy="2514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Line 7"/>
          <p:cNvSpPr/>
          <p:nvPr/>
        </p:nvSpPr>
        <p:spPr>
          <a:xfrm flipH="1" flipV="1">
            <a:off x="5257440" y="3733920"/>
            <a:ext cx="38862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колько осей симметрии имеет прямоугольник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00720" y="1628640"/>
            <a:ext cx="0" cy="457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380880" y="3886200"/>
            <a:ext cx="8610840" cy="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круга</a:t>
            </a: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бесконечно много осей симметрии, все они являются диаметрам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69120" y="2263320"/>
            <a:ext cx="3071880" cy="320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2050920" y="2420640"/>
            <a:ext cx="4753080" cy="2663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2340000" y="1773360"/>
            <a:ext cx="3672000" cy="403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476360" y="3429000"/>
            <a:ext cx="5832360" cy="936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6" descr=""/>
          <p:cNvPicPr/>
          <p:nvPr/>
        </p:nvPicPr>
        <p:blipFill>
          <a:blip r:embed="rId1"/>
          <a:stretch/>
        </p:blipFill>
        <p:spPr>
          <a:xfrm>
            <a:off x="4500720" y="3421080"/>
            <a:ext cx="4643280" cy="343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0" y="3352680"/>
            <a:ext cx="4500720" cy="3505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32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1887480" y="6048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Осевая и центральная симметрия в растительном мир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5738760" y="3357720"/>
            <a:ext cx="3405240" cy="3500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123984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0" y="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имметри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- очень важная вещь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часто различна о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 точечка О, симметрии цент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ывает же только од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а красива и строг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очна и грациоз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сегда, везде, во всем  нуж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размерна и серьез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ранцузский сад, дворец  антич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нежинки зубчатый узо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леновый  лист, вокзал столичный -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дин у них у всех зако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т центр, вот ось. Лучи прям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 делят на кус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 без ошибок, точно,  ясн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огли чертить учен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4" name="Picture 15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1668600" cy="129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1727280" cy="1037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4"/>
          <a:stretch/>
        </p:blipFill>
        <p:spPr>
          <a:xfrm>
            <a:off x="4500720" y="5229360"/>
            <a:ext cx="1446120" cy="1628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"/>
          <p:cNvPicPr/>
          <p:nvPr/>
        </p:nvPicPr>
        <p:blipFill>
          <a:blip r:embed="rId5"/>
          <a:stretch/>
        </p:blipFill>
        <p:spPr>
          <a:xfrm>
            <a:off x="6087960" y="0"/>
            <a:ext cx="305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02384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505620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3984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1984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9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"/>
          <p:cNvPicPr/>
          <p:nvPr/>
        </p:nvPicPr>
        <p:blipFill>
          <a:blip r:embed="rId2"/>
          <a:srcRect l="0" t="0" r="0" b="31"/>
          <a:stretch/>
        </p:blipFill>
        <p:spPr>
          <a:xfrm>
            <a:off x="4356000" y="0"/>
            <a:ext cx="4788000" cy="32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"/>
          <p:cNvPicPr/>
          <p:nvPr/>
        </p:nvPicPr>
        <p:blipFill>
          <a:blip r:embed="rId3"/>
          <a:stretch/>
        </p:blipFill>
        <p:spPr>
          <a:xfrm>
            <a:off x="0" y="3276720"/>
            <a:ext cx="4284720" cy="35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"/>
          <p:cNvPicPr/>
          <p:nvPr/>
        </p:nvPicPr>
        <p:blipFill>
          <a:blip r:embed="rId4"/>
          <a:srcRect l="0" t="0" r="7" b="123"/>
          <a:stretch/>
        </p:blipFill>
        <p:spPr>
          <a:xfrm>
            <a:off x="4427640" y="3505320"/>
            <a:ext cx="4716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смотрите, какая красота и симметричнос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68180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0" y="0"/>
            <a:ext cx="93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Задание: провести оси симметрии на живых объекта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листочке, я в кристалл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живописи, архитектур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геометрии, я в человеке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дним я нравлюсь, другие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аходят меня скучно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о все признают, чт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– элемент красоты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35948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50760" y="603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832200" y="553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6732720" y="3867120"/>
            <a:ext cx="2209680" cy="29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2"/>
          <a:stretch/>
        </p:blipFill>
        <p:spPr>
          <a:xfrm>
            <a:off x="3203640" y="479736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3"/>
          <a:stretch/>
        </p:blipFill>
        <p:spPr>
          <a:xfrm>
            <a:off x="0" y="4619520"/>
            <a:ext cx="29336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250920" y="5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дание: провести лучевую симметри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090520" cy="189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tretch/>
        </p:blipFill>
        <p:spPr>
          <a:xfrm>
            <a:off x="3098880" y="2276640"/>
            <a:ext cx="2120760" cy="19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3"/>
          <a:stretch/>
        </p:blipFill>
        <p:spPr>
          <a:xfrm>
            <a:off x="5867280" y="2206800"/>
            <a:ext cx="2048040" cy="1942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5"/>
          <a:stretch/>
        </p:blipFill>
        <p:spPr>
          <a:xfrm>
            <a:off x="5003640" y="4508640"/>
            <a:ext cx="23590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160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059280" y="189000"/>
            <a:ext cx="3816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имметрия в живой приро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14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2585880" y="2133720"/>
            <a:ext cx="3210120" cy="23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"/>
          <p:cNvPicPr/>
          <p:nvPr/>
        </p:nvPicPr>
        <p:blipFill>
          <a:blip r:embed="rId4"/>
          <a:stretch/>
        </p:blipFill>
        <p:spPr>
          <a:xfrm>
            <a:off x="0" y="4440240"/>
            <a:ext cx="3564000" cy="2417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5"/>
          <a:stretch/>
        </p:blipFill>
        <p:spPr>
          <a:xfrm>
            <a:off x="5781600" y="3456000"/>
            <a:ext cx="336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мметрия относительно плоскост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212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Точк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А и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A1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имметричны относительно плоскости 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68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278604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3004920" cy="35622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3203640" y="40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лоск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495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245600" y="-7920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8456"/>
                </a:solidFill>
                <a:latin typeface="Times New Roman"/>
              </a:rPr>
              <a:t>Зеркальная симметрия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4456080" y="3532320"/>
            <a:ext cx="46879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850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окус со словам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Напишите на листе бумаги заглавными печатными буквами два слова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и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. Затем возьмите зеркало и поставьте его вертикально так , чтобы линия пересечения плоскости зеркала с плоскостью листа делила эти слова по горизонтали. Какое слово  зеркало оставило прежним, а какое изменило до неузнаваемости? Почему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460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Зеркало не подействовало на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, тогда как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оно изменило до неузнаваемости . Этот " фокус " имеет простое объяснение . Разумеется , зеркало одинаковым образом отражает нижнюю половину обеих слов . Однако в отличии от слова " ЧАЙ " слово " КОФЕ " обладает горизонтальной осью симметрии , именно поэтому оно не искажается при отражении в зеркале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470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Физкультминутка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 поля, с моря, с дальних  гор(медленно  машут  руками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тры  к  нам  летят  во  двор (покачивание  рук  вверху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й  ветер  вербу  мнет  (наклоны в стороны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  второй  березу  гнет (покачивание  вперед,  назад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етий  ветер  дуб  ломает-(энергичные  наклоны и приседан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чу  пыли  поднимает (руки в стороны  вверх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 глаза  не  засори (потирание глаз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рнись и не  смотри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,  два,  три  и   себя на место посади.(возвраще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воротная симметрия или повор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Picture 13" descr="Копия Инь - янъ"/>
          <p:cNvPicPr/>
          <p:nvPr/>
        </p:nvPicPr>
        <p:blipFill>
          <a:blip r:embed="rId1"/>
          <a:stretch/>
        </p:blipFill>
        <p:spPr>
          <a:xfrm>
            <a:off x="1187280" y="3789360"/>
            <a:ext cx="1366920" cy="135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"/>
          <p:cNvPicPr/>
          <p:nvPr/>
        </p:nvPicPr>
        <p:blipFill>
          <a:blip r:embed="rId3"/>
          <a:stretch/>
        </p:blipFill>
        <p:spPr>
          <a:xfrm>
            <a:off x="6732720" y="16286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"/>
          <p:cNvPicPr/>
          <p:nvPr/>
        </p:nvPicPr>
        <p:blipFill>
          <a:blip r:embed="rId4"/>
          <a:stretch/>
        </p:blipFill>
        <p:spPr>
          <a:xfrm>
            <a:off x="6516720" y="371628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"/>
          <p:cNvPicPr/>
          <p:nvPr/>
        </p:nvPicPr>
        <p:blipFill>
          <a:blip r:embed="rId6"/>
          <a:stretch/>
        </p:blipFill>
        <p:spPr>
          <a:xfrm>
            <a:off x="1258920" y="1773360"/>
            <a:ext cx="137160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интовая симметрия – это поворот и перенос одновременно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раковины моллюска - винтовая  симметрия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5" name="Picture 4" descr="Копия морск  раковина"/>
          <p:cNvPicPr/>
          <p:nvPr/>
        </p:nvPicPr>
        <p:blipFill>
          <a:blip r:embed="rId1"/>
          <a:stretch/>
        </p:blipFill>
        <p:spPr>
          <a:xfrm>
            <a:off x="1893960" y="2666880"/>
            <a:ext cx="1598400" cy="269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раковина моллюска"/>
          <p:cNvPicPr/>
          <p:nvPr/>
        </p:nvPicPr>
        <p:blipFill>
          <a:blip r:embed="rId2"/>
          <a:stretch/>
        </p:blipFill>
        <p:spPr>
          <a:xfrm>
            <a:off x="4572000" y="2492280"/>
            <a:ext cx="261612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ереносная (скользящая) симметрия или параллельный перенос вдоль прямой. Примером является орнамент – бордюр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8" name="Picture 3" descr="снеж"/>
          <p:cNvPicPr/>
          <p:nvPr/>
        </p:nvPicPr>
        <p:blipFill>
          <a:blip r:embed="rId1"/>
          <a:stretch/>
        </p:blipFill>
        <p:spPr>
          <a:xfrm>
            <a:off x="11430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снеж"/>
          <p:cNvPicPr/>
          <p:nvPr/>
        </p:nvPicPr>
        <p:blipFill>
          <a:blip r:embed="rId2"/>
          <a:stretch/>
        </p:blipFill>
        <p:spPr>
          <a:xfrm>
            <a:off x="2438280" y="2820960"/>
            <a:ext cx="1274760" cy="132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снеж"/>
          <p:cNvPicPr/>
          <p:nvPr/>
        </p:nvPicPr>
        <p:blipFill>
          <a:blip r:embed="rId3"/>
          <a:stretch/>
        </p:blipFill>
        <p:spPr>
          <a:xfrm>
            <a:off x="373392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снеж"/>
          <p:cNvPicPr/>
          <p:nvPr/>
        </p:nvPicPr>
        <p:blipFill>
          <a:blip r:embed="rId4"/>
          <a:stretch/>
        </p:blipFill>
        <p:spPr>
          <a:xfrm>
            <a:off x="50292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снеж"/>
          <p:cNvPicPr/>
          <p:nvPr/>
        </p:nvPicPr>
        <p:blipFill>
          <a:blip r:embed="rId5"/>
          <a:stretch/>
        </p:blipFill>
        <p:spPr>
          <a:xfrm>
            <a:off x="6324480" y="2819520"/>
            <a:ext cx="127476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cc"/>
                </a:solidFill>
                <a:uFillTx/>
                <a:latin typeface="Times New Roman"/>
              </a:rPr>
              <a:t>Тема: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889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Times New Roman"/>
              </a:rPr>
              <a:t>«Геометрические преобразования»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47840" y="1260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имметрия в алгебр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11280" y="260280"/>
            <a:ext cx="81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хождение координаты точки</a:t>
            </a:r>
            <a:endParaRPr b="1" lang="en-US" sz="4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468360" y="2276640"/>
            <a:ext cx="7272360" cy="4241160"/>
            <a:chOff x="468360" y="2276640"/>
            <a:chExt cx="7272360" cy="4241160"/>
          </a:xfrm>
        </p:grpSpPr>
        <p:sp>
          <p:nvSpPr>
            <p:cNvPr id="337" name="Line 5"/>
            <p:cNvSpPr/>
            <p:nvPr/>
          </p:nvSpPr>
          <p:spPr>
            <a:xfrm flipV="1">
              <a:off x="4213080" y="2413080"/>
              <a:ext cx="0" cy="4104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755640" y="4357440"/>
              <a:ext cx="66978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339" name="Group 7"/>
            <p:cNvGrpSpPr/>
            <p:nvPr/>
          </p:nvGrpSpPr>
          <p:grpSpPr>
            <a:xfrm>
              <a:off x="468360" y="2276640"/>
              <a:ext cx="7272360" cy="4241160"/>
              <a:chOff x="468360" y="2276640"/>
              <a:chExt cx="7272360" cy="4241160"/>
            </a:xfrm>
          </p:grpSpPr>
          <p:grpSp>
            <p:nvGrpSpPr>
              <p:cNvPr id="340" name="Group 8"/>
              <p:cNvGrpSpPr/>
              <p:nvPr/>
            </p:nvGrpSpPr>
            <p:grpSpPr>
              <a:xfrm>
                <a:off x="468360" y="2341440"/>
                <a:ext cx="7272360" cy="4176360"/>
                <a:chOff x="468360" y="2341440"/>
                <a:chExt cx="7272360" cy="4176360"/>
              </a:xfrm>
            </p:grpSpPr>
            <p:grpSp>
              <p:nvGrpSpPr>
                <p:cNvPr id="341" name="Group 9"/>
                <p:cNvGrpSpPr/>
                <p:nvPr/>
              </p:nvGrpSpPr>
              <p:grpSpPr>
                <a:xfrm>
                  <a:off x="539640" y="2341440"/>
                  <a:ext cx="7124760" cy="4176360"/>
                  <a:chOff x="539640" y="2341440"/>
                  <a:chExt cx="7124760" cy="4176360"/>
                </a:xfrm>
              </p:grpSpPr>
              <p:sp>
                <p:nvSpPr>
                  <p:cNvPr id="342" name="Line 10"/>
                  <p:cNvSpPr/>
                  <p:nvPr/>
                </p:nvSpPr>
                <p:spPr>
                  <a:xfrm>
                    <a:off x="539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Line 11"/>
                  <p:cNvSpPr/>
                  <p:nvPr/>
                </p:nvSpPr>
                <p:spPr>
                  <a:xfrm>
                    <a:off x="755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4" name="Line 12"/>
                  <p:cNvSpPr/>
                  <p:nvPr/>
                </p:nvSpPr>
                <p:spPr>
                  <a:xfrm>
                    <a:off x="971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5" name="Line 13"/>
                  <p:cNvSpPr/>
                  <p:nvPr/>
                </p:nvSpPr>
                <p:spPr>
                  <a:xfrm>
                    <a:off x="1187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6" name="Line 14"/>
                  <p:cNvSpPr/>
                  <p:nvPr/>
                </p:nvSpPr>
                <p:spPr>
                  <a:xfrm>
                    <a:off x="1403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7" name="Line 15"/>
                  <p:cNvSpPr/>
                  <p:nvPr/>
                </p:nvSpPr>
                <p:spPr>
                  <a:xfrm>
                    <a:off x="1619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Line 16"/>
                  <p:cNvSpPr/>
                  <p:nvPr/>
                </p:nvSpPr>
                <p:spPr>
                  <a:xfrm>
                    <a:off x="1835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9" name="Line 17"/>
                  <p:cNvSpPr/>
                  <p:nvPr/>
                </p:nvSpPr>
                <p:spPr>
                  <a:xfrm>
                    <a:off x="2051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0" name="Line 18"/>
                  <p:cNvSpPr/>
                  <p:nvPr/>
                </p:nvSpPr>
                <p:spPr>
                  <a:xfrm>
                    <a:off x="2266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1" name="Line 19"/>
                  <p:cNvSpPr/>
                  <p:nvPr/>
                </p:nvSpPr>
                <p:spPr>
                  <a:xfrm>
                    <a:off x="2482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2" name="Line 20"/>
                  <p:cNvSpPr/>
                  <p:nvPr/>
                </p:nvSpPr>
                <p:spPr>
                  <a:xfrm>
                    <a:off x="2698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Line 21"/>
                  <p:cNvSpPr/>
                  <p:nvPr/>
                </p:nvSpPr>
                <p:spPr>
                  <a:xfrm>
                    <a:off x="2914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4" name="Line 22"/>
                  <p:cNvSpPr/>
                  <p:nvPr/>
                </p:nvSpPr>
                <p:spPr>
                  <a:xfrm>
                    <a:off x="3130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5" name="Line 23"/>
                  <p:cNvSpPr/>
                  <p:nvPr/>
                </p:nvSpPr>
                <p:spPr>
                  <a:xfrm>
                    <a:off x="3346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24"/>
                  <p:cNvSpPr/>
                  <p:nvPr/>
                </p:nvSpPr>
                <p:spPr>
                  <a:xfrm>
                    <a:off x="3562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25"/>
                  <p:cNvSpPr/>
                  <p:nvPr/>
                </p:nvSpPr>
                <p:spPr>
                  <a:xfrm>
                    <a:off x="3778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26"/>
                  <p:cNvSpPr/>
                  <p:nvPr/>
                </p:nvSpPr>
                <p:spPr>
                  <a:xfrm>
                    <a:off x="3994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Line 27"/>
                  <p:cNvSpPr/>
                  <p:nvPr/>
                </p:nvSpPr>
                <p:spPr>
                  <a:xfrm>
                    <a:off x="4210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0" name="Line 28"/>
                  <p:cNvSpPr/>
                  <p:nvPr/>
                </p:nvSpPr>
                <p:spPr>
                  <a:xfrm>
                    <a:off x="4425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1" name="Line 29"/>
                  <p:cNvSpPr/>
                  <p:nvPr/>
                </p:nvSpPr>
                <p:spPr>
                  <a:xfrm>
                    <a:off x="4641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2" name="Line 30"/>
                  <p:cNvSpPr/>
                  <p:nvPr/>
                </p:nvSpPr>
                <p:spPr>
                  <a:xfrm>
                    <a:off x="4857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Line 31"/>
                  <p:cNvSpPr/>
                  <p:nvPr/>
                </p:nvSpPr>
                <p:spPr>
                  <a:xfrm>
                    <a:off x="5073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Line 32"/>
                  <p:cNvSpPr/>
                  <p:nvPr/>
                </p:nvSpPr>
                <p:spPr>
                  <a:xfrm>
                    <a:off x="5289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5" name="Line 33"/>
                  <p:cNvSpPr/>
                  <p:nvPr/>
                </p:nvSpPr>
                <p:spPr>
                  <a:xfrm>
                    <a:off x="5505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Line 34"/>
                  <p:cNvSpPr/>
                  <p:nvPr/>
                </p:nvSpPr>
                <p:spPr>
                  <a:xfrm>
                    <a:off x="5721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7" name="Line 35"/>
                  <p:cNvSpPr/>
                  <p:nvPr/>
                </p:nvSpPr>
                <p:spPr>
                  <a:xfrm>
                    <a:off x="5937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8" name="Line 36"/>
                  <p:cNvSpPr/>
                  <p:nvPr/>
                </p:nvSpPr>
                <p:spPr>
                  <a:xfrm>
                    <a:off x="6153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Line 37"/>
                  <p:cNvSpPr/>
                  <p:nvPr/>
                </p:nvSpPr>
                <p:spPr>
                  <a:xfrm>
                    <a:off x="6369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Line 38"/>
                  <p:cNvSpPr/>
                  <p:nvPr/>
                </p:nvSpPr>
                <p:spPr>
                  <a:xfrm>
                    <a:off x="6585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1" name="Line 39"/>
                  <p:cNvSpPr/>
                  <p:nvPr/>
                </p:nvSpPr>
                <p:spPr>
                  <a:xfrm>
                    <a:off x="6800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2" name="Line 40"/>
                  <p:cNvSpPr/>
                  <p:nvPr/>
                </p:nvSpPr>
                <p:spPr>
                  <a:xfrm>
                    <a:off x="7016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3" name="Line 41"/>
                  <p:cNvSpPr/>
                  <p:nvPr/>
                </p:nvSpPr>
                <p:spPr>
                  <a:xfrm>
                    <a:off x="7232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" name="Line 42"/>
                  <p:cNvSpPr/>
                  <p:nvPr/>
                </p:nvSpPr>
                <p:spPr>
                  <a:xfrm>
                    <a:off x="7448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5" name="Line 43"/>
                  <p:cNvSpPr/>
                  <p:nvPr/>
                </p:nvSpPr>
                <p:spPr>
                  <a:xfrm>
                    <a:off x="76644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76" name="Group 44"/>
                <p:cNvGrpSpPr/>
                <p:nvPr/>
              </p:nvGrpSpPr>
              <p:grpSpPr>
                <a:xfrm>
                  <a:off x="468360" y="2412720"/>
                  <a:ext cx="7272360" cy="4101480"/>
                  <a:chOff x="468360" y="2412720"/>
                  <a:chExt cx="7272360" cy="4101480"/>
                </a:xfrm>
              </p:grpSpPr>
              <p:sp>
                <p:nvSpPr>
                  <p:cNvPr id="377" name="Line 45"/>
                  <p:cNvSpPr/>
                  <p:nvPr/>
                </p:nvSpPr>
                <p:spPr>
                  <a:xfrm>
                    <a:off x="468360" y="4139280"/>
                    <a:ext cx="727236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78" name="Group 46"/>
                  <p:cNvGrpSpPr/>
                  <p:nvPr/>
                </p:nvGrpSpPr>
                <p:grpSpPr>
                  <a:xfrm>
                    <a:off x="468360" y="2412720"/>
                    <a:ext cx="7272360" cy="4101480"/>
                    <a:chOff x="468360" y="2412720"/>
                    <a:chExt cx="7272360" cy="4101480"/>
                  </a:xfrm>
                </p:grpSpPr>
                <p:sp>
                  <p:nvSpPr>
                    <p:cNvPr id="379" name="Line 47"/>
                    <p:cNvSpPr/>
                    <p:nvPr/>
                  </p:nvSpPr>
                  <p:spPr>
                    <a:xfrm>
                      <a:off x="468360" y="24127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0" name="Line 48"/>
                    <p:cNvSpPr/>
                    <p:nvPr/>
                  </p:nvSpPr>
                  <p:spPr>
                    <a:xfrm>
                      <a:off x="468360" y="2628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1" name="Line 49"/>
                    <p:cNvSpPr/>
                    <p:nvPr/>
                  </p:nvSpPr>
                  <p:spPr>
                    <a:xfrm>
                      <a:off x="468360" y="2844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2" name="Line 50"/>
                    <p:cNvSpPr/>
                    <p:nvPr/>
                  </p:nvSpPr>
                  <p:spPr>
                    <a:xfrm>
                      <a:off x="468360" y="3060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3" name="Line 51"/>
                    <p:cNvSpPr/>
                    <p:nvPr/>
                  </p:nvSpPr>
                  <p:spPr>
                    <a:xfrm>
                      <a:off x="468360" y="3275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4" name="Line 52"/>
                    <p:cNvSpPr/>
                    <p:nvPr/>
                  </p:nvSpPr>
                  <p:spPr>
                    <a:xfrm>
                      <a:off x="468360" y="3491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5" name="Line 53"/>
                    <p:cNvSpPr/>
                    <p:nvPr/>
                  </p:nvSpPr>
                  <p:spPr>
                    <a:xfrm>
                      <a:off x="468360" y="3707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6" name="Line 54"/>
                    <p:cNvSpPr/>
                    <p:nvPr/>
                  </p:nvSpPr>
                  <p:spPr>
                    <a:xfrm>
                      <a:off x="468360" y="3923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7" name="Line 55"/>
                    <p:cNvSpPr/>
                    <p:nvPr/>
                  </p:nvSpPr>
                  <p:spPr>
                    <a:xfrm>
                      <a:off x="468360" y="4355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8" name="Line 56"/>
                    <p:cNvSpPr/>
                    <p:nvPr/>
                  </p:nvSpPr>
                  <p:spPr>
                    <a:xfrm>
                      <a:off x="468360" y="4571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Line 57"/>
                    <p:cNvSpPr/>
                    <p:nvPr/>
                  </p:nvSpPr>
                  <p:spPr>
                    <a:xfrm>
                      <a:off x="468360" y="4786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Line 58"/>
                    <p:cNvSpPr/>
                    <p:nvPr/>
                  </p:nvSpPr>
                  <p:spPr>
                    <a:xfrm>
                      <a:off x="468360" y="5002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1" name="Line 59"/>
                    <p:cNvSpPr/>
                    <p:nvPr/>
                  </p:nvSpPr>
                  <p:spPr>
                    <a:xfrm>
                      <a:off x="468360" y="5218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Line 60"/>
                    <p:cNvSpPr/>
                    <p:nvPr/>
                  </p:nvSpPr>
                  <p:spPr>
                    <a:xfrm>
                      <a:off x="468360" y="5434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Line 61"/>
                    <p:cNvSpPr/>
                    <p:nvPr/>
                  </p:nvSpPr>
                  <p:spPr>
                    <a:xfrm>
                      <a:off x="468360" y="5650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4" name="Line 62"/>
                    <p:cNvSpPr/>
                    <p:nvPr/>
                  </p:nvSpPr>
                  <p:spPr>
                    <a:xfrm>
                      <a:off x="468360" y="5866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Line 63"/>
                    <p:cNvSpPr/>
                    <p:nvPr/>
                  </p:nvSpPr>
                  <p:spPr>
                    <a:xfrm>
                      <a:off x="468360" y="6082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6" name="Line 64"/>
                    <p:cNvSpPr/>
                    <p:nvPr/>
                  </p:nvSpPr>
                  <p:spPr>
                    <a:xfrm>
                      <a:off x="468360" y="6298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7" name="Line 65"/>
                    <p:cNvSpPr/>
                    <p:nvPr/>
                  </p:nvSpPr>
                  <p:spPr>
                    <a:xfrm>
                      <a:off x="468360" y="65142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398" name="Text Box 66"/>
              <p:cNvSpPr/>
              <p:nvPr/>
            </p:nvSpPr>
            <p:spPr>
              <a:xfrm>
                <a:off x="7142040" y="393228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x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839760" y="2276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y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3937680" y="429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Monotype Corsiva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1" name="Line 69"/>
              <p:cNvSpPr/>
              <p:nvPr/>
            </p:nvSpPr>
            <p:spPr>
              <a:xfrm>
                <a:off x="4140000" y="4141800"/>
                <a:ext cx="144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2" name="Line 70"/>
              <p:cNvSpPr/>
              <p:nvPr/>
            </p:nvSpPr>
            <p:spPr>
              <a:xfrm>
                <a:off x="4429080" y="4284720"/>
                <a:ext cx="0" cy="1440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3" name="Text Box 71"/>
              <p:cNvSpPr/>
              <p:nvPr/>
            </p:nvSpPr>
            <p:spPr>
              <a:xfrm>
                <a:off x="3813840" y="390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4" name="Text Box 72"/>
              <p:cNvSpPr/>
              <p:nvPr/>
            </p:nvSpPr>
            <p:spPr>
              <a:xfrm>
                <a:off x="4266360" y="4292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405" name="Oval 73"/>
          <p:cNvSpPr/>
          <p:nvPr/>
        </p:nvSpPr>
        <p:spPr>
          <a:xfrm>
            <a:off x="6084720" y="278136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Oval 74"/>
          <p:cNvSpPr/>
          <p:nvPr/>
        </p:nvSpPr>
        <p:spPr>
          <a:xfrm>
            <a:off x="2195640" y="278136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WordArt 75"/>
          <p:cNvSpPr txBox="1"/>
          <p:nvPr/>
        </p:nvSpPr>
        <p:spPr>
          <a:xfrm>
            <a:off x="5148360" y="465300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76"/>
          <p:cNvSpPr txBox="1"/>
          <p:nvPr/>
        </p:nvSpPr>
        <p:spPr>
          <a:xfrm>
            <a:off x="1763640" y="2349360"/>
            <a:ext cx="30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Oval 77"/>
          <p:cNvSpPr/>
          <p:nvPr/>
        </p:nvSpPr>
        <p:spPr>
          <a:xfrm>
            <a:off x="3276720" y="515772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Oval 78"/>
          <p:cNvSpPr/>
          <p:nvPr/>
        </p:nvSpPr>
        <p:spPr>
          <a:xfrm>
            <a:off x="5003640" y="515772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WordArt 79"/>
          <p:cNvSpPr txBox="1"/>
          <p:nvPr/>
        </p:nvSpPr>
        <p:spPr>
          <a:xfrm>
            <a:off x="2987640" y="4365720"/>
            <a:ext cx="14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WordArt 80"/>
          <p:cNvSpPr txBox="1"/>
          <p:nvPr/>
        </p:nvSpPr>
        <p:spPr>
          <a:xfrm>
            <a:off x="5796000" y="2349360"/>
            <a:ext cx="333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81"/>
          <p:cNvSpPr txBox="1"/>
          <p:nvPr/>
        </p:nvSpPr>
        <p:spPr>
          <a:xfrm>
            <a:off x="7524720" y="2565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(4;-4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WordArt 82"/>
          <p:cNvSpPr txBox="1"/>
          <p:nvPr/>
        </p:nvSpPr>
        <p:spPr>
          <a:xfrm>
            <a:off x="7596360" y="335772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(-9;7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5" name="WordArt 83"/>
          <p:cNvSpPr txBox="1"/>
          <p:nvPr/>
        </p:nvSpPr>
        <p:spPr>
          <a:xfrm>
            <a:off x="7740720" y="4221000"/>
            <a:ext cx="121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(9;7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84"/>
          <p:cNvSpPr txBox="1"/>
          <p:nvPr/>
        </p:nvSpPr>
        <p:spPr>
          <a:xfrm>
            <a:off x="7596360" y="5013360"/>
            <a:ext cx="129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(-4;-4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йти соответстви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8" name="Picture 4" descr="винтовая лестница"/>
          <p:cNvPicPr/>
          <p:nvPr/>
        </p:nvPicPr>
        <p:blipFill>
          <a:blip r:embed="rId1"/>
          <a:stretch/>
        </p:blipFill>
        <p:spPr>
          <a:xfrm>
            <a:off x="0" y="0"/>
            <a:ext cx="2195640" cy="191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морская звезда"/>
          <p:cNvPicPr/>
          <p:nvPr/>
        </p:nvPicPr>
        <p:blipFill>
          <a:blip r:embed="rId2"/>
          <a:stretch/>
        </p:blipFill>
        <p:spPr>
          <a:xfrm>
            <a:off x="2411280" y="1125360"/>
            <a:ext cx="2305080" cy="208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кружева5"/>
          <p:cNvPicPr/>
          <p:nvPr/>
        </p:nvPicPr>
        <p:blipFill>
          <a:blip r:embed="rId3"/>
          <a:stretch/>
        </p:blipFill>
        <p:spPr>
          <a:xfrm>
            <a:off x="0" y="2349360"/>
            <a:ext cx="2160720" cy="2035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воная гладь"/>
          <p:cNvPicPr/>
          <p:nvPr/>
        </p:nvPicPr>
        <p:blipFill>
          <a:blip r:embed="rId4"/>
          <a:stretch/>
        </p:blipFill>
        <p:spPr>
          <a:xfrm>
            <a:off x="0" y="4724280"/>
            <a:ext cx="2340000" cy="1836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KVAZ-41"/>
          <p:cNvPicPr/>
          <p:nvPr/>
        </p:nvPicPr>
        <p:blipFill>
          <a:blip r:embed="rId5"/>
          <a:stretch/>
        </p:blipFill>
        <p:spPr>
          <a:xfrm>
            <a:off x="2556000" y="3646440"/>
            <a:ext cx="2303280" cy="22734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0"/>
          <p:cNvSpPr/>
          <p:nvPr/>
        </p:nvSpPr>
        <p:spPr>
          <a:xfrm>
            <a:off x="5202000" y="10731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Лучев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220000" y="1844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Осе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136480" y="25369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Зеркальн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367240" y="32907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инто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5233320" y="4265640"/>
            <a:ext cx="22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Поворотн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Применение симметрии в различных областях науки и техники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1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3"/>
          <p:cNvPicPr/>
          <p:nvPr/>
        </p:nvPicPr>
        <p:blipFill>
          <a:blip r:embed="rId2"/>
          <a:stretch/>
        </p:blipFill>
        <p:spPr>
          <a:xfrm>
            <a:off x="7093080" y="2276640"/>
            <a:ext cx="16556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8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onstructions_025"/>
          <p:cNvPicPr/>
          <p:nvPr/>
        </p:nvPicPr>
        <p:blipFill>
          <a:blip r:embed="rId4"/>
          <a:stretch/>
        </p:blipFill>
        <p:spPr>
          <a:xfrm>
            <a:off x="3995640" y="2565360"/>
            <a:ext cx="5326200" cy="4292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ities_054"/>
          <p:cNvPicPr/>
          <p:nvPr/>
        </p:nvPicPr>
        <p:blipFill>
          <a:blip r:embed="rId5"/>
          <a:stretch/>
        </p:blipFill>
        <p:spPr>
          <a:xfrm>
            <a:off x="0" y="0"/>
            <a:ext cx="5292720" cy="3716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3132000" y="0"/>
            <a:ext cx="3600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AR048"/>
          <p:cNvPicPr/>
          <p:nvPr/>
        </p:nvPicPr>
        <p:blipFill>
          <a:blip r:embed="rId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AR051"/>
          <p:cNvPicPr/>
          <p:nvPr/>
        </p:nvPicPr>
        <p:blipFill>
          <a:blip r:embed="rId2"/>
          <a:stretch/>
        </p:blipFill>
        <p:spPr>
          <a:xfrm>
            <a:off x="4500720" y="0"/>
            <a:ext cx="4679640" cy="3429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AR77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CAR220"/>
          <p:cNvPicPr/>
          <p:nvPr/>
        </p:nvPicPr>
        <p:blipFill>
          <a:blip r:embed="rId4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6"/>
          <p:cNvSpPr/>
          <p:nvPr/>
        </p:nvSpPr>
        <p:spPr>
          <a:xfrm>
            <a:off x="2197080" y="0"/>
            <a:ext cx="4319640" cy="40464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мметрия в автомобилестроен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17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1835280" y="2924280"/>
            <a:ext cx="5257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имметрия в орнаментах, бордюрах и рисунк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ссероплетение и круже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4" descr="биссер1"/>
          <p:cNvPicPr/>
          <p:nvPr/>
        </p:nvPicPr>
        <p:blipFill>
          <a:blip r:embed="rId1"/>
          <a:stretch/>
        </p:blipFill>
        <p:spPr>
          <a:xfrm>
            <a:off x="768240" y="1413000"/>
            <a:ext cx="1920960" cy="2087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биссер2"/>
          <p:cNvPicPr/>
          <p:nvPr/>
        </p:nvPicPr>
        <p:blipFill>
          <a:blip r:embed="rId2"/>
          <a:stretch/>
        </p:blipFill>
        <p:spPr>
          <a:xfrm>
            <a:off x="3570120" y="1432080"/>
            <a:ext cx="2176560" cy="2016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кружева4"/>
          <p:cNvPicPr/>
          <p:nvPr/>
        </p:nvPicPr>
        <p:blipFill>
          <a:blip r:embed="rId3"/>
          <a:stretch/>
        </p:blipFill>
        <p:spPr>
          <a:xfrm>
            <a:off x="6443640" y="14320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кружева2"/>
          <p:cNvPicPr/>
          <p:nvPr/>
        </p:nvPicPr>
        <p:blipFill>
          <a:blip r:embed="rId4"/>
          <a:stretch/>
        </p:blipFill>
        <p:spPr>
          <a:xfrm>
            <a:off x="577800" y="407664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кружева1"/>
          <p:cNvPicPr/>
          <p:nvPr/>
        </p:nvPicPr>
        <p:blipFill>
          <a:blip r:embed="rId5"/>
          <a:stretch/>
        </p:blipFill>
        <p:spPr>
          <a:xfrm>
            <a:off x="3514680" y="4103640"/>
            <a:ext cx="2232000" cy="1895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кружева7"/>
          <p:cNvPicPr/>
          <p:nvPr/>
        </p:nvPicPr>
        <p:blipFill>
          <a:blip r:embed="rId6"/>
          <a:stretch/>
        </p:blipFill>
        <p:spPr>
          <a:xfrm>
            <a:off x="6478560" y="4076640"/>
            <a:ext cx="2197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286000" y="304920"/>
            <a:ext cx="2971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го(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58920" y="907920"/>
          <a:ext cx="7149960" cy="4757760"/>
        </p:xfrm>
        <a:graphic>
          <a:graphicData uri="http://schemas.openxmlformats.org/drawingml/2006/table">
            <a:tbl>
              <a:tblPr/>
              <a:tblGrid>
                <a:gridCol w="503280"/>
                <a:gridCol w="415800"/>
                <a:gridCol w="415800"/>
                <a:gridCol w="416160"/>
                <a:gridCol w="412560"/>
                <a:gridCol w="416160"/>
                <a:gridCol w="415800"/>
                <a:gridCol w="415800"/>
                <a:gridCol w="416160"/>
                <a:gridCol w="409320"/>
                <a:gridCol w="420840"/>
                <a:gridCol w="415800"/>
                <a:gridCol w="414360"/>
                <a:gridCol w="427320"/>
                <a:gridCol w="403200"/>
                <a:gridCol w="415800"/>
                <a:gridCol w="4158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5410080" y="17524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04812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828800" y="838080"/>
          <a:ext cx="6330960" cy="4459320"/>
        </p:xfrm>
        <a:graphic>
          <a:graphicData uri="http://schemas.openxmlformats.org/drawingml/2006/table">
            <a:tbl>
              <a:tblPr/>
              <a:tblGrid>
                <a:gridCol w="434880"/>
                <a:gridCol w="362160"/>
                <a:gridCol w="414360"/>
                <a:gridCol w="358560"/>
                <a:gridCol w="357120"/>
                <a:gridCol w="384480"/>
                <a:gridCol w="333360"/>
                <a:gridCol w="374400"/>
                <a:gridCol w="358920"/>
                <a:gridCol w="353880"/>
                <a:gridCol w="409680"/>
                <a:gridCol w="358920"/>
                <a:gridCol w="423720"/>
                <a:gridCol w="368280"/>
                <a:gridCol w="304920"/>
                <a:gridCol w="374400"/>
                <a:gridCol w="3589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7" name="Line 204"/>
          <p:cNvSpPr/>
          <p:nvPr/>
        </p:nvSpPr>
        <p:spPr>
          <a:xfrm>
            <a:off x="6019920" y="1143000"/>
            <a:ext cx="19810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Line 205"/>
          <p:cNvSpPr/>
          <p:nvPr/>
        </p:nvSpPr>
        <p:spPr>
          <a:xfrm>
            <a:off x="2843280" y="112536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Line 206"/>
          <p:cNvSpPr/>
          <p:nvPr/>
        </p:nvSpPr>
        <p:spPr>
          <a:xfrm>
            <a:off x="1981080" y="5334120"/>
            <a:ext cx="35053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Line 207"/>
          <p:cNvSpPr/>
          <p:nvPr/>
        </p:nvSpPr>
        <p:spPr>
          <a:xfrm>
            <a:off x="2771640" y="1125360"/>
            <a:ext cx="0" cy="26640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Line 208"/>
          <p:cNvSpPr/>
          <p:nvPr/>
        </p:nvSpPr>
        <p:spPr>
          <a:xfrm>
            <a:off x="3132000" y="242100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Line 209"/>
          <p:cNvSpPr/>
          <p:nvPr/>
        </p:nvSpPr>
        <p:spPr>
          <a:xfrm>
            <a:off x="6804000" y="2852640"/>
            <a:ext cx="1368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Line 210"/>
          <p:cNvSpPr/>
          <p:nvPr/>
        </p:nvSpPr>
        <p:spPr>
          <a:xfrm>
            <a:off x="2411280" y="162864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Line 211"/>
          <p:cNvSpPr/>
          <p:nvPr/>
        </p:nvSpPr>
        <p:spPr>
          <a:xfrm>
            <a:off x="2050920" y="4869000"/>
            <a:ext cx="29527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Line 212"/>
          <p:cNvSpPr/>
          <p:nvPr/>
        </p:nvSpPr>
        <p:spPr>
          <a:xfrm>
            <a:off x="4572000" y="393372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Line 213"/>
          <p:cNvSpPr/>
          <p:nvPr/>
        </p:nvSpPr>
        <p:spPr>
          <a:xfrm>
            <a:off x="1979640" y="3933720"/>
            <a:ext cx="2448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Line 214"/>
          <p:cNvSpPr/>
          <p:nvPr/>
        </p:nvSpPr>
        <p:spPr>
          <a:xfrm>
            <a:off x="1979640" y="4437000"/>
            <a:ext cx="3456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Line 215"/>
          <p:cNvSpPr/>
          <p:nvPr/>
        </p:nvSpPr>
        <p:spPr>
          <a:xfrm flipH="1">
            <a:off x="4282560" y="1557360"/>
            <a:ext cx="1800" cy="23763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Цель урока:</a:t>
            </a:r>
            <a:br>
              <a:rPr sz="60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аучиться различать многообразные проявления симметрии в окружающем мире, приводить примеры из жизни.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казать важную, исключительную роль принципа симметрии в научном познании мира и в человеческ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132000" y="40428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– это гармония и красота, также равновесие и устойчиво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102384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феод"/>
          <p:cNvPicPr/>
          <p:nvPr/>
        </p:nvPicPr>
        <p:blipFill>
          <a:blip r:embed="rId2"/>
          <a:stretch/>
        </p:blipFill>
        <p:spPr>
          <a:xfrm>
            <a:off x="7149960" y="0"/>
            <a:ext cx="1994040" cy="2276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Гриб"/>
          <p:cNvPicPr/>
          <p:nvPr/>
        </p:nvPicPr>
        <p:blipFill>
          <a:blip r:embed="rId3"/>
          <a:stretch/>
        </p:blipFill>
        <p:spPr>
          <a:xfrm>
            <a:off x="6896160" y="4581360"/>
            <a:ext cx="2247840" cy="2276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Вологодские кружева"/>
          <p:cNvPicPr/>
          <p:nvPr/>
        </p:nvPicPr>
        <p:blipFill>
          <a:blip r:embed="rId4"/>
          <a:stretch/>
        </p:blipFill>
        <p:spPr>
          <a:xfrm>
            <a:off x="3564000" y="4653000"/>
            <a:ext cx="2808360" cy="2205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Геометрия осени"/>
          <p:cNvPicPr/>
          <p:nvPr/>
        </p:nvPicPr>
        <p:blipFill>
          <a:blip r:embed="rId5"/>
          <a:stretch/>
        </p:blipFill>
        <p:spPr>
          <a:xfrm>
            <a:off x="0" y="3789360"/>
            <a:ext cx="3059280" cy="309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Яйцо церк"/>
          <p:cNvPicPr/>
          <p:nvPr/>
        </p:nvPicPr>
        <p:blipFill>
          <a:blip r:embed="rId6"/>
          <a:stretch/>
        </p:blipFill>
        <p:spPr>
          <a:xfrm>
            <a:off x="7149960" y="2276640"/>
            <a:ext cx="198144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Составить биологический кроссвор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80" name="Picture 5" descr="MCj03466450000[1]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1952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MCj02321330000[1]"/>
          <p:cNvPicPr/>
          <p:nvPr/>
        </p:nvPicPr>
        <p:blipFill>
          <a:blip r:embed="rId2"/>
          <a:stretch/>
        </p:blipFill>
        <p:spPr>
          <a:xfrm>
            <a:off x="5219640" y="4221000"/>
            <a:ext cx="324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248920" y="-87480"/>
            <a:ext cx="57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Виды симметрии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557360"/>
            <a:ext cx="91440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Симметрия относительно плоскости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оротн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5. Винтов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. Скользящ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Симметрия относительно точ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ЦЕНТРАЛЬНАЯ СИММЕТР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—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, которая задается следующи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разом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771640" y="4149720"/>
            <a:ext cx="324036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348000" y="278136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276720" y="270828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508720" y="5445000"/>
            <a:ext cx="14436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18640" y="42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7640" y="42210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06160" y="22766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72436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502880" y="3716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2172000">
            <a:off x="1258560" y="4147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52156"/>
                </a:srgbClr>
              </a:gs>
              <a:gs pos="100000">
                <a:srgbClr val="765e00">
                  <a:alpha val="49019"/>
                </a:srgbClr>
              </a:gs>
            </a:gsLst>
            <a:lin ang="32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 flipV="1">
            <a:off x="1619280" y="3141720"/>
            <a:ext cx="2735280" cy="189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4356000" y="1197000"/>
            <a:ext cx="27352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2700000" y="3141720"/>
            <a:ext cx="165564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4356000" y="476280"/>
            <a:ext cx="1656000" cy="26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4067280" y="3141720"/>
            <a:ext cx="28872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4355640" y="1268280"/>
            <a:ext cx="36036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1908000" y="314172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356000" y="278136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12"/>
          <p:cNvSpPr/>
          <p:nvPr/>
        </p:nvSpPr>
        <p:spPr>
          <a:xfrm rot="12901800">
            <a:off x="4858920" y="691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763640" y="3068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067280" y="4797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87280" y="4941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484360" y="5805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6804000" y="270828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211640" y="836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164360" y="981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867280" y="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356000" y="32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72320" y="26028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троение  фигур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мметричной данн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тносительно точк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3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03640" y="206064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Фигуры, обладающие центральной симметри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16080" y="97488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211640" y="1197000"/>
            <a:ext cx="0" cy="2233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276720" y="2205000"/>
            <a:ext cx="185724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421160" y="907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20364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414036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5076720" y="213372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6036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72760" y="162864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6372360" y="4653000"/>
            <a:ext cx="0" cy="957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22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Oval 31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806440" y="5157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eaeaea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08:50Z</dcterms:created>
  <dc:creator>COMP</dc:creator>
  <dc:description/>
  <dc:language>en-US</dc:language>
  <cp:lastModifiedBy>Денис</cp:lastModifiedBy>
  <dcterms:modified xsi:type="dcterms:W3CDTF">2012-05-31T14:34:57Z</dcterms:modified>
  <cp:revision>20</cp:revision>
  <dc:subject/>
  <dc:title>Интегрированный урок  по геометрии и биологии  в 8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4140</vt:lpwstr>
  </property>
</Properties>
</file>