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218A-45BE-47EB-841B-48250C062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7033-ADE2-4D0F-B79F-355862AD5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2DD-23B6-430F-B6FA-40B93ECC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679-06E1-40C2-996A-FBEC36E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EDC-A1F7-4A55-B548-F2A33A9F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B41-93F5-401B-A0C7-675C34A7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B1D-B1EB-4EA7-A537-FC340B31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8E2-0676-4B9B-9DB5-B1FA5FE0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F9E-55D1-44B0-B0DA-3F06604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CBC-6CF4-4DFE-9D46-13BAAAFF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40D-17FE-4FB7-839C-4875AE6A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398-4EB8-4C21-A703-33DB9F0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EC0-DCE1-408A-9DDE-E959244B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9CD-8D2C-4088-A19A-A989B13F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B3A9-151F-4C0C-9F1A-7808A2D9F2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-324000" y="2749680"/>
            <a:ext cx="8856720" cy="30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Сочетательное</a:t>
            </a:r>
            <a:r>
              <a:rPr b="0" lang="uk-UA" sz="4800" spc="-1" strike="noStrike">
                <a:solidFill>
                  <a:srgbClr val="0000ff"/>
                </a:solidFill>
                <a:latin typeface="Arial Black"/>
              </a:rPr>
              <a:t> и </a:t>
            </a: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распределитель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свойства</a:t>
            </a:r>
            <a:r>
              <a:rPr b="0" lang="uk-UA" sz="4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000ff"/>
                </a:solidFill>
                <a:latin typeface="Arial Black"/>
              </a:rPr>
              <a:t>умножен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443640" y="4776840"/>
            <a:ext cx="2736720" cy="210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L:\В РОО урок ИКТ\картинки\6a00d8346409b553ef0134802fd7bc970c-800wi.jpg"/>
          <p:cNvPicPr/>
          <p:nvPr/>
        </p:nvPicPr>
        <p:blipFill>
          <a:blip r:embed="rId2"/>
          <a:stretch/>
        </p:blipFill>
        <p:spPr>
          <a:xfrm>
            <a:off x="324000" y="333360"/>
            <a:ext cx="2617560" cy="21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373560" y="1117440"/>
            <a:ext cx="544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Тема 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50920" y="5985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Ш № 85  Учитель математики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нчук В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69840" y="2492280"/>
            <a:ext cx="24624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ильям Отред (Англия) ввёл знак умнож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виде косого крестик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631 год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Уилям Отред "/>
          <p:cNvPicPr/>
          <p:nvPr/>
        </p:nvPicPr>
        <p:blipFill>
          <a:blip r:embed="rId1"/>
          <a:stretch/>
        </p:blipFill>
        <p:spPr>
          <a:xfrm>
            <a:off x="371520" y="4149720"/>
            <a:ext cx="2160720" cy="229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L:\В РОО урок ИКТ\картинки\i_matemat_1.jpg"/>
          <p:cNvPicPr/>
          <p:nvPr/>
        </p:nvPicPr>
        <p:blipFill>
          <a:blip r:embed="rId2"/>
          <a:stretch/>
        </p:blipFill>
        <p:spPr>
          <a:xfrm>
            <a:off x="69840" y="33480"/>
            <a:ext cx="3753000" cy="2387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4"/>
          <p:cNvSpPr/>
          <p:nvPr/>
        </p:nvSpPr>
        <p:spPr>
          <a:xfrm>
            <a:off x="3276720" y="2717640"/>
            <a:ext cx="25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ьер  Эригон  в  1634 году ввел символ «прямоуг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ганн   Ран ввел символ «звёздочка»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59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Gottfried Wilhelm von Leibniz.jpg"/>
          <p:cNvPicPr/>
          <p:nvPr/>
        </p:nvPicPr>
        <p:blipFill>
          <a:blip r:embed="rId3"/>
          <a:stretch/>
        </p:blipFill>
        <p:spPr>
          <a:xfrm>
            <a:off x="6954840" y="4149720"/>
            <a:ext cx="186516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6"/>
          <p:cNvSpPr/>
          <p:nvPr/>
        </p:nvSpPr>
        <p:spPr>
          <a:xfrm>
            <a:off x="6337440" y="3009960"/>
            <a:ext cx="29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йбниц заменил крестик на 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нец XVII ве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триховая стрелка вправо 12"/>
          <p:cNvSpPr/>
          <p:nvPr/>
        </p:nvSpPr>
        <p:spPr>
          <a:xfrm>
            <a:off x="2484360" y="2924280"/>
            <a:ext cx="935280" cy="720720"/>
          </a:xfrm>
          <a:custGeom>
            <a:avLst/>
            <a:gdLst/>
            <a:ahLst/>
            <a:rect l="l" t="t" r="r" b="b"/>
            <a:pathLst>
              <a:path w="935037" h="720725">
                <a:moveTo>
                  <a:pt x="0" y="180181"/>
                </a:moveTo>
                <a:lnTo>
                  <a:pt x="22523" y="180181"/>
                </a:lnTo>
                <a:lnTo>
                  <a:pt x="22523" y="540544"/>
                </a:lnTo>
                <a:lnTo>
                  <a:pt x="0" y="540544"/>
                </a:lnTo>
                <a:lnTo>
                  <a:pt x="0" y="180181"/>
                </a:lnTo>
                <a:close/>
                <a:moveTo>
                  <a:pt x="45045" y="180181"/>
                </a:moveTo>
                <a:lnTo>
                  <a:pt x="90091" y="180181"/>
                </a:lnTo>
                <a:lnTo>
                  <a:pt x="90091" y="540544"/>
                </a:lnTo>
                <a:lnTo>
                  <a:pt x="45045" y="540544"/>
                </a:lnTo>
                <a:lnTo>
                  <a:pt x="45045" y="180181"/>
                </a:lnTo>
                <a:close/>
                <a:moveTo>
                  <a:pt x="112613" y="180181"/>
                </a:moveTo>
                <a:lnTo>
                  <a:pt x="574675" y="180181"/>
                </a:lnTo>
                <a:lnTo>
                  <a:pt x="574675" y="0"/>
                </a:lnTo>
                <a:lnTo>
                  <a:pt x="935037" y="360363"/>
                </a:lnTo>
                <a:lnTo>
                  <a:pt x="574675" y="720725"/>
                </a:lnTo>
                <a:lnTo>
                  <a:pt x="574675" y="540544"/>
                </a:lnTo>
                <a:lnTo>
                  <a:pt x="112613" y="540544"/>
                </a:lnTo>
                <a:lnTo>
                  <a:pt x="112613" y="180181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Штриховая стрелка вправо 22"/>
          <p:cNvSpPr/>
          <p:nvPr/>
        </p:nvSpPr>
        <p:spPr>
          <a:xfrm rot="5400000">
            <a:off x="4148280" y="4068720"/>
            <a:ext cx="792000" cy="665280"/>
          </a:xfrm>
          <a:custGeom>
            <a:avLst/>
            <a:gdLst/>
            <a:ahLst/>
            <a:rect l="l" t="t" r="r" b="b"/>
            <a:pathLst>
              <a:path w="792162" h="665162">
                <a:moveTo>
                  <a:pt x="0" y="166291"/>
                </a:moveTo>
                <a:lnTo>
                  <a:pt x="20786" y="166291"/>
                </a:lnTo>
                <a:lnTo>
                  <a:pt x="20786" y="498872"/>
                </a:lnTo>
                <a:lnTo>
                  <a:pt x="0" y="498872"/>
                </a:lnTo>
                <a:lnTo>
                  <a:pt x="0" y="166291"/>
                </a:lnTo>
                <a:close/>
                <a:moveTo>
                  <a:pt x="41573" y="166291"/>
                </a:moveTo>
                <a:lnTo>
                  <a:pt x="83145" y="166291"/>
                </a:lnTo>
                <a:lnTo>
                  <a:pt x="83145" y="498872"/>
                </a:lnTo>
                <a:lnTo>
                  <a:pt x="41573" y="498872"/>
                </a:lnTo>
                <a:lnTo>
                  <a:pt x="41573" y="166291"/>
                </a:lnTo>
                <a:close/>
                <a:moveTo>
                  <a:pt x="103932" y="166291"/>
                </a:moveTo>
                <a:lnTo>
                  <a:pt x="459581" y="166291"/>
                </a:lnTo>
                <a:lnTo>
                  <a:pt x="459581" y="0"/>
                </a:lnTo>
                <a:lnTo>
                  <a:pt x="792162" y="332581"/>
                </a:lnTo>
                <a:lnTo>
                  <a:pt x="459581" y="665162"/>
                </a:lnTo>
                <a:lnTo>
                  <a:pt x="459581" y="498872"/>
                </a:lnTo>
                <a:lnTo>
                  <a:pt x="103932" y="498872"/>
                </a:lnTo>
                <a:lnTo>
                  <a:pt x="103932" y="166291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08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триховая стрелка вправо 23"/>
          <p:cNvSpPr/>
          <p:nvPr/>
        </p:nvSpPr>
        <p:spPr>
          <a:xfrm rot="18801600">
            <a:off x="5645160" y="4762080"/>
            <a:ext cx="947880" cy="623880"/>
          </a:xfrm>
          <a:custGeom>
            <a:avLst/>
            <a:gdLst/>
            <a:ahLst/>
            <a:rect l="l" t="t" r="r" b="b"/>
            <a:pathLst>
              <a:path w="947738" h="623888">
                <a:moveTo>
                  <a:pt x="0" y="155972"/>
                </a:moveTo>
                <a:lnTo>
                  <a:pt x="19497" y="155972"/>
                </a:lnTo>
                <a:lnTo>
                  <a:pt x="19497" y="467916"/>
                </a:lnTo>
                <a:lnTo>
                  <a:pt x="0" y="467916"/>
                </a:lnTo>
                <a:lnTo>
                  <a:pt x="0" y="155972"/>
                </a:lnTo>
                <a:close/>
                <a:moveTo>
                  <a:pt x="38993" y="155972"/>
                </a:moveTo>
                <a:lnTo>
                  <a:pt x="77986" y="155972"/>
                </a:lnTo>
                <a:lnTo>
                  <a:pt x="77986" y="467916"/>
                </a:lnTo>
                <a:lnTo>
                  <a:pt x="38993" y="467916"/>
                </a:lnTo>
                <a:lnTo>
                  <a:pt x="38993" y="155972"/>
                </a:lnTo>
                <a:close/>
                <a:moveTo>
                  <a:pt x="97483" y="155972"/>
                </a:moveTo>
                <a:lnTo>
                  <a:pt x="635794" y="155972"/>
                </a:lnTo>
                <a:lnTo>
                  <a:pt x="635794" y="0"/>
                </a:lnTo>
                <a:lnTo>
                  <a:pt x="947738" y="311944"/>
                </a:lnTo>
                <a:lnTo>
                  <a:pt x="635794" y="623888"/>
                </a:lnTo>
                <a:lnTo>
                  <a:pt x="635794" y="467916"/>
                </a:lnTo>
                <a:lnTo>
                  <a:pt x="97483" y="467916"/>
                </a:lnTo>
                <a:lnTo>
                  <a:pt x="97483" y="155972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8996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708360" y="26028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Bookman Old Style"/>
              </a:rPr>
              <a:t>ЗНАК УМНОЖ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a • b) • c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810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7200" spc="-1" strike="noStrike">
                <a:solidFill>
                  <a:srgbClr val="3333ff"/>
                </a:solidFill>
                <a:latin typeface="Arial Black"/>
              </a:rPr>
              <a:t>(a • c )• b 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81000" algn="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7200" spc="-1" strike="noStrike">
                <a:solidFill>
                  <a:srgbClr val="00b050"/>
                </a:solidFill>
                <a:latin typeface="Arial Black"/>
              </a:rPr>
              <a:t>(b • c )• 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84360" y="44280"/>
            <a:ext cx="77752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d60093"/>
                </a:solidFill>
                <a:latin typeface="Bookman Old Style"/>
              </a:rPr>
              <a:t>Сочетательное свойство умножения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468360" y="1969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50920" y="2379600"/>
            <a:ext cx="87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a + b) • c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</a:t>
            </a:r>
            <a:r>
              <a:rPr b="0" lang="ru-RU" sz="4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 • c + b • c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=</a:t>
            </a:r>
            <a:r>
              <a:rPr b="0" lang="ru-RU" sz="4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ac + bc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a - b) • c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 • c - b • c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r>
              <a:rPr b="0" lang="en-US" sz="4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ac - b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826920" y="109440"/>
            <a:ext cx="777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3300"/>
                </a:solidFill>
                <a:latin typeface="Bookman Old Style"/>
              </a:rPr>
              <a:t>Распределительное свойство умноже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179280" y="196920"/>
            <a:ext cx="878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употреблялся в обиходе великорусских крестья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и унаследован ими от глубокой дре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использовали русские крестьяне и 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Умножить </a:t>
            </a:r>
            <a:r>
              <a:rPr b="0" lang="ru-RU" sz="3600" spc="-1" strike="noStrike" u="sng">
                <a:solidFill>
                  <a:srgbClr val="4f81bd"/>
                </a:solidFill>
                <a:uFillTx/>
                <a:latin typeface="Arial Black"/>
                <a:ea typeface="Aharoni"/>
              </a:rPr>
              <a:t>26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на 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 Black"/>
                <a:ea typeface="Aharon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Black"/>
                <a:ea typeface="Aharoni"/>
              </a:rPr>
              <a:t> 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  <a:ea typeface="Aharoni"/>
              </a:rPr>
              <a:t>Множители записывают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  <a:ea typeface="Aharoni"/>
              </a:rPr>
              <a:t>Один из них повторно удваивают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Bookman Old Style"/>
                <a:ea typeface="Aharoni"/>
              </a:rPr>
              <a:t>другой делят на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6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6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5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                                      104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08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2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416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начит, 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2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416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40" y="122040"/>
            <a:ext cx="8785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СПОСОБ УМНОЖЕНИЯ </a:t>
            </a: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НАТУРАЛЬНЫХ ЧИСЕ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68360" y="196920"/>
            <a:ext cx="8280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Умножить </a:t>
            </a:r>
            <a:r>
              <a:rPr b="0" lang="ru-RU" sz="3600" spc="-1" strike="noStrike" u="sng">
                <a:solidFill>
                  <a:srgbClr val="4f81bd"/>
                </a:solidFill>
                <a:uFillTx/>
                <a:latin typeface="Arial Black"/>
                <a:ea typeface="Aharoni"/>
              </a:rPr>
              <a:t>35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на 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 Black"/>
                <a:ea typeface="Aharoni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Black"/>
                <a:ea typeface="Aharoni"/>
              </a:rPr>
              <a:t>      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  <a:ea typeface="Aharoni"/>
              </a:rPr>
              <a:t>Множители записывают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  <a:ea typeface="Aharoni"/>
              </a:rPr>
              <a:t>Один из них повторно удваивают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Bookman Old Style"/>
                <a:ea typeface="Aharoni"/>
              </a:rPr>
              <a:t>другой делят на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35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26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70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3(1)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                                 140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80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3(1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560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Значит, 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3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26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56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800" spc="-1" strike="noStrike">
                <a:solidFill>
                  <a:srgbClr val="6600cc"/>
                </a:solidFill>
                <a:latin typeface="Arial Black"/>
              </a:rPr>
              <a:t>28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70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910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СПОСОБ УМНОЖЕНИЯ </a:t>
            </a: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НАТУРАЛЬНЫХ ЧИСЕ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889360" y="3627360"/>
            <a:ext cx="60912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60066"/>
                </a:solidFill>
                <a:latin typeface="Arial"/>
              </a:rPr>
              <a:t>Дополнительное задани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Aharoni"/>
              </a:rPr>
              <a:t>умножить способом, который использовали русские крестьяне и куп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12 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•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 32    и    36 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•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24000" y="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08000" y="262080"/>
            <a:ext cx="8785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33cc"/>
                </a:solidFill>
                <a:uFillTx/>
                <a:latin typeface="Ampir Deco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п.16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учи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43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435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437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439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реш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L:\В РОО урок ИКТ\картинки\russkiy-yazyk-matematika-fizika-dlya-shkolnikov_46052411_1_F.jpg"/>
          <p:cNvPicPr/>
          <p:nvPr/>
        </p:nvPicPr>
        <p:blipFill>
          <a:blip r:embed="rId1"/>
          <a:stretch/>
        </p:blipFill>
        <p:spPr>
          <a:xfrm>
            <a:off x="34920" y="4365720"/>
            <a:ext cx="251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27:13Z</dcterms:created>
  <dc:creator>Grey Wolf</dc:creator>
  <dc:description/>
  <dc:language>en-US</dc:language>
  <cp:lastModifiedBy>Валентина</cp:lastModifiedBy>
  <dcterms:modified xsi:type="dcterms:W3CDTF">2012-04-25T19:36:48Z</dcterms:modified>
  <cp:revision>2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3000000000001024140</vt:lpwstr>
  </property>
</Properties>
</file>