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png" ContentType="image/png"/>
  <Override PartName="/ppt/media/image27.jpeg" ContentType="image/jpeg"/>
  <Override PartName="/ppt/media/image9.jpeg" ContentType="image/jpeg"/>
  <Override PartName="/ppt/media/image8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4.jpeg" ContentType="image/jpeg"/>
  <Override PartName="/ppt/media/image23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8.png" ContentType="image/png"/>
  <Override PartName="/ppt/media/image28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E30B-71D9-46B1-A861-28C6F9C34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07D2-C698-4A56-AA07-A32C874B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7E56-58C9-468F-ACD2-8043A3F26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D8C5-C141-469F-9AA1-DE1BD2073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4AAF-6C80-4D32-9869-7081DD723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3F05-8B5E-4698-AE94-B1390E67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98DE-7ACF-4668-B4CF-1D69CCE8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DB8F-704E-418B-ABAA-25C5C9F0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1B5C-CCE7-4E0E-8D1F-6226E78F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05F9-233C-487E-8DAF-5370CFCC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A915-B3AC-424E-A112-31A38275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32E9-5221-4A6A-A277-E7C13190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3183-7BF8-4650-BB11-932225F4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D2D0-736F-40D3-9E4E-A056C5D7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A7AA-AD38-42C7-86A0-C04C5F15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051E-8478-4461-B702-261660D4B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8BFA-DEBD-4029-895A-D0F57E4B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30DA1-1D96-4DAD-AD62-155EFFB0A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5518B-7B47-4F74-868C-8250FCFA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BD47D-1945-4EC0-A7D8-40DEE29B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35E89-C686-4F2C-9CD0-0D48709E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D490C-327A-4547-AEE4-C2EF732E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5ECE-6B5A-4F15-901C-075B364C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A9189-A330-4303-91AA-19AAFC47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90C60-ADB8-4C67-81CB-42814236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1E2F0-6023-4DDB-9B9A-2E9617A8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7725E-FDFD-4135-9B62-CC7AC622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3FFF7-78C4-45CB-B333-6D07AEA9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7831B-6B3E-4A74-80F2-ABC453ACC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A734B-62CF-4DD3-AB4C-5D63A48A7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6ABF4-E2C1-4B5A-9291-2A6B41F8E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5AA22-4A58-4B4D-B836-20463587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40B59-3622-4F98-B32E-8A805F4D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4EB5-8A59-4529-9037-D9019D91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F7F2A-484F-4914-BA81-C7423E8C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2AE15-9CE2-436C-A575-6303E41E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8A827-04A7-4922-976F-81543929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2C43D-92BA-42A3-82C2-54EF123E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41319-F20E-45C0-8BE7-C7311C99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C9562-AF84-4F3A-82B4-721721F8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B5A3E-F78B-43C9-9FBA-3932ABAB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74D78-24B1-4FCD-BBBD-7FEA98994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E52C5-8372-4182-B0E3-151CDCFF3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84749-0404-418A-B566-18EDE8629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0E56-35BF-4E70-A4AF-D4CA89DF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7B105-F8FB-4C54-A072-B9871000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7A521-7AED-4DC6-90C3-512B35B1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14EB0-7865-4143-B1C0-C3CA2D60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2A54D-0219-4614-A2CA-CFBD97E8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B4A54-2052-46BD-B6C1-0CF0B7D6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8C588-8EB3-4E70-974B-AB9D1347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AD78A-2DCA-4B14-9380-78A5DF3A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D19AF-C922-4B04-9ECF-9B1C8E18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D0F1C-2F1F-4C6A-AA7C-EDF3F7B9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8294F-0BAC-47AC-AA77-09D5F9E07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59B3-D361-4DCE-81AE-5752E973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30A81-78BA-46BC-8D92-E46A1A021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9EC4-DD12-41F0-B0F9-104679E0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6805-316B-481C-AF88-E7CDC215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A443-E632-4E9E-95A3-19CAB2DA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ACF8-40DE-4B65-96CC-55EFA89299C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EC2B-5074-4C2C-ADAD-E8B900DAAE9B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EACB-5502-4C78-A7B7-89080BE33EE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1935-314F-4A0D-BF9A-580D50846C19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7589-BB49-47C7-9971-C2AFAF47DEB9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6956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Заголовок 1" descr=""/>
          <p:cNvPicPr/>
          <p:nvPr/>
        </p:nvPicPr>
        <p:blipFill>
          <a:blip r:embed="rId3"/>
          <a:stretch/>
        </p:blipFill>
        <p:spPr>
          <a:xfrm>
            <a:off x="3297240" y="1884240"/>
            <a:ext cx="5664240" cy="1608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6 класс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2"/>
          <a:stretch/>
        </p:blipFill>
        <p:spPr>
          <a:xfrm>
            <a:off x="642960" y="1461960"/>
            <a:ext cx="6715080" cy="52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Содержимое 3" descr="0010-010-Razgadajte-krossvord.jpg"/>
          <p:cNvPicPr/>
          <p:nvPr/>
        </p:nvPicPr>
        <p:blipFill>
          <a:blip r:embed="rId1"/>
          <a:srcRect l="0" t="47585" r="0" b="0"/>
          <a:stretch/>
        </p:blipFill>
        <p:spPr>
          <a:xfrm>
            <a:off x="357120" y="785880"/>
            <a:ext cx="77151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Содержимое 3" descr="0010-010-Razgadajte-krossvord.jpg"/>
          <p:cNvPicPr/>
          <p:nvPr/>
        </p:nvPicPr>
        <p:blipFill>
          <a:blip r:embed="rId1"/>
          <a:srcRect l="0" t="0" r="21932" b="50977"/>
          <a:stretch/>
        </p:blipFill>
        <p:spPr>
          <a:xfrm>
            <a:off x="0" y="714240"/>
            <a:ext cx="82152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"/>
          <p:cNvPicPr/>
          <p:nvPr/>
        </p:nvPicPr>
        <p:blipFill>
          <a:blip r:embed="rId2"/>
          <a:stretch/>
        </p:blipFill>
        <p:spPr>
          <a:xfrm>
            <a:off x="782640" y="1609560"/>
            <a:ext cx="658800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"/>
          <p:cNvPicPr/>
          <p:nvPr/>
        </p:nvPicPr>
        <p:blipFill>
          <a:blip r:embed="rId2"/>
          <a:stretch/>
        </p:blipFill>
        <p:spPr>
          <a:xfrm>
            <a:off x="785880" y="1465200"/>
            <a:ext cx="650088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"/>
          <p:cNvPicPr/>
          <p:nvPr/>
        </p:nvPicPr>
        <p:blipFill>
          <a:blip r:embed="rId2"/>
          <a:stretch/>
        </p:blipFill>
        <p:spPr>
          <a:xfrm>
            <a:off x="785880" y="1503360"/>
            <a:ext cx="650088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0" name="Содержимое 3" descr="snap3018.jpg"/>
          <p:cNvPicPr/>
          <p:nvPr/>
        </p:nvPicPr>
        <p:blipFill>
          <a:blip r:embed="rId1"/>
          <a:stretch/>
        </p:blipFill>
        <p:spPr>
          <a:xfrm>
            <a:off x="1785960" y="285840"/>
            <a:ext cx="450072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rcRect l="0" t="0" r="-83" b="44"/>
          <a:stretch/>
        </p:blipFill>
        <p:spPr>
          <a:xfrm>
            <a:off x="571680" y="214200"/>
            <a:ext cx="72514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324000" y="-42840"/>
            <a:ext cx="7491240" cy="725400"/>
          </a:xfrm>
          <a:prstGeom prst="rect">
            <a:avLst/>
          </a:prstGeom>
          <a:ln w="0">
            <a:noFill/>
          </a:ln>
        </p:spPr>
      </p:pic>
      <p:pic>
        <p:nvPicPr>
          <p:cNvPr id="224" name="Содержимое 3" descr="D:\Документы школа\Кафедра математики и физики\1.jpg"/>
          <p:cNvPicPr/>
          <p:nvPr/>
        </p:nvPicPr>
        <p:blipFill>
          <a:blip r:embed="rId2"/>
          <a:stretch/>
        </p:blipFill>
        <p:spPr>
          <a:xfrm>
            <a:off x="571680" y="714240"/>
            <a:ext cx="6429240" cy="255600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4" descr="D:\Документы школа\Кафедра математики и физики\2.jpg"/>
          <p:cNvPicPr/>
          <p:nvPr/>
        </p:nvPicPr>
        <p:blipFill>
          <a:blip r:embed="rId3"/>
          <a:stretch/>
        </p:blipFill>
        <p:spPr>
          <a:xfrm>
            <a:off x="500040" y="3309840"/>
            <a:ext cx="652932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1 вариант                      2 вариант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1.А)                                     1.В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2.Г)                                      2.Б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3.Б)                                      3.А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4.Г)                                      4.А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785880" y="157176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"/>
          <p:cNvPicPr/>
          <p:nvPr/>
        </p:nvPicPr>
        <p:blipFill>
          <a:blip r:embed="rId2"/>
          <a:stretch/>
        </p:blipFill>
        <p:spPr>
          <a:xfrm>
            <a:off x="714240" y="141120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17640" y="2071800"/>
            <a:ext cx="90039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-163440" y="2143080"/>
            <a:ext cx="90043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509760" y="1571760"/>
            <a:ext cx="819756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rebuchet MS"/>
              </a:rPr>
              <a:t>ИТЛИЬЛЕСЧ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rebuchet MS"/>
              </a:rPr>
              <a:t>ПРИЦЯОРОП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3:57:23Z</dcterms:created>
  <dc:creator>Школа</dc:creator>
  <dc:description/>
  <dc:language>en-US</dc:language>
  <cp:lastModifiedBy>Admin</cp:lastModifiedBy>
  <dcterms:modified xsi:type="dcterms:W3CDTF">2012-04-26T08:37:04Z</dcterms:modified>
  <cp:revision>7</cp:revision>
  <dc:subject/>
  <dc:title>Путешествие в страну Дроб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816000000000001024140</vt:lpwstr>
  </property>
</Properties>
</file>