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png" ContentType="image/png"/>
  <Override PartName="/ppt/media/image27.jpeg" ContentType="image/jpeg"/>
  <Override PartName="/ppt/media/image9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4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png" ContentType="image/png"/>
  <Override PartName="/ppt/media/image28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7A2-82E9-41E0-AA87-64ABD645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2DB0-27B0-49CF-B2F4-CC257180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3F92-5118-445D-AEA1-F315CA9D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419-E613-416D-A514-8302EDE9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D203-401D-4841-9436-D86BA7EF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4E50-195A-4FAD-BF54-B2BF692A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5A95-3F3B-41EA-B2AC-4E480CF0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DD99-CFC4-4F20-A3A2-F4375E2B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FE58-D9D0-4799-AC24-C833B6DD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B3C4-4A2D-4C11-84C5-597C1C6E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A5BB-4D2E-4629-A3BE-2A33DCDD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C653-54A4-4831-99F5-0A4311DF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578F-2ABA-4D16-B715-B297F65E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980C-4113-464C-8AC8-DA3B1284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2850-BA76-4BC1-BF00-251609D6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EB05-17A7-4B1A-A612-DDF9F839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F4E7-5D5D-475A-9735-0F981E01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B0E37-C8A9-4389-95C5-457FF3F5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2CD03-057D-41E5-B6B6-F55823E0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7F74A-3DDA-413F-AC66-25ED0D0E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23592-ED1E-4335-BD87-1ADD4F24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BF499-5EE6-41A7-A0DB-F13D230E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734-C610-4379-B60B-CB6E5D2C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BBC35-EDE0-4F48-8E39-FC03D982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A3548-A189-4863-87A9-B59A9B47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C0D05-69E7-4A67-8E6A-68D0E642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D51BA-F50E-414C-9C88-34F6E4F0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3487A-EB9C-4E2C-84CC-DB9E9FD7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2CCB7-B0B3-4079-9174-6D0E0E34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8DB0E-5268-4841-9D8E-D6C0C06A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5C217-97E8-4447-A4D6-1AAB5D7A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4F584-6501-45A1-B8D0-A0FE8F5F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87646-D18E-40B8-8485-39775562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7657-15F0-478C-807C-DCC3D5BA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CCD6F-EC8F-44EC-89BF-D8DC8D2D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417A9-737E-4537-BF04-307BC3FD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E78F7-1CAB-4738-875B-FADA2D20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B5969-4810-4997-B582-5FAC31AB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AAC36-9A3B-43D6-A022-E38497CA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ADE50-CB6C-46AA-8F79-40723A76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D52A4-2241-4B7E-AB53-C8E0F4AF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FB155-61ED-4110-8A8D-D060C1B4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AFFE3-2FD0-4D5E-B3B3-AFDAB7C4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0E769-38EB-45B7-B0E5-2CEB1488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41BE-E6A2-401E-9F79-A6EA9447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AD0FB-F8FC-440B-8D52-DAFF8595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9B451-E5BC-40E8-9391-9901E4CA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71238-CD22-4505-97E9-652BCB0C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65A7E-037F-4B56-8AD3-794B98C9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ECFC9-3EFB-4598-86D2-170DDF66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AC19B-0EBB-442A-A372-E7EAE587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24838-5D37-43DD-B434-468A2F5E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97BB9-1106-432F-9BD0-574D58D7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1DC06-B5EE-4B44-B506-ED520C82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4B3FB-FE8A-4743-B528-08F1DDAF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E33-9352-44F6-BD7F-2DAE4ED2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E6A62-303C-4884-BAA9-45EEBA40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3D4-0780-4B61-AA2B-E66E0624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FDE-BDDC-4442-982F-0ADD1DEF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2C46-290C-479D-A3A4-71DF2FA2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114F-E610-42F9-842E-81F4C80B3FD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1302-07F3-4383-AE49-23E92965EE1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5120-7043-44F1-BAD6-E91F268D485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EAA9-8A41-4DA9-98D2-E9E8BA5D941E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DDB5-C184-452D-800A-AA5FD39D70D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Заголовок 1" descr=""/>
          <p:cNvPicPr/>
          <p:nvPr/>
        </p:nvPicPr>
        <p:blipFill>
          <a:blip r:embed="rId3"/>
          <a:stretch/>
        </p:blipFill>
        <p:spPr>
          <a:xfrm>
            <a:off x="3297240" y="1884240"/>
            <a:ext cx="5664240" cy="1608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6 класс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642960" y="1461960"/>
            <a:ext cx="6715080" cy="52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Содержимое 3" descr="0010-010-Razgadajte-krossvord.jpg"/>
          <p:cNvPicPr/>
          <p:nvPr/>
        </p:nvPicPr>
        <p:blipFill>
          <a:blip r:embed="rId1"/>
          <a:srcRect l="0" t="47585" r="0" b="0"/>
          <a:stretch/>
        </p:blipFill>
        <p:spPr>
          <a:xfrm>
            <a:off x="357120" y="785880"/>
            <a:ext cx="77151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Содержимое 3" descr="0010-010-Razgadajte-krossvord.jpg"/>
          <p:cNvPicPr/>
          <p:nvPr/>
        </p:nvPicPr>
        <p:blipFill>
          <a:blip r:embed="rId1"/>
          <a:srcRect l="0" t="0" r="21932" b="50977"/>
          <a:stretch/>
        </p:blipFill>
        <p:spPr>
          <a:xfrm>
            <a:off x="0" y="714240"/>
            <a:ext cx="82152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782640" y="1609560"/>
            <a:ext cx="658800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785880" y="1465200"/>
            <a:ext cx="65008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785880" y="1503360"/>
            <a:ext cx="650088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Содержимое 3" descr="snap3018.jpg"/>
          <p:cNvPicPr/>
          <p:nvPr/>
        </p:nvPicPr>
        <p:blipFill>
          <a:blip r:embed="rId1"/>
          <a:stretch/>
        </p:blipFill>
        <p:spPr>
          <a:xfrm>
            <a:off x="1785960" y="285840"/>
            <a:ext cx="45007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rcRect l="0" t="0" r="-83" b="44"/>
          <a:stretch/>
        </p:blipFill>
        <p:spPr>
          <a:xfrm>
            <a:off x="571680" y="214200"/>
            <a:ext cx="7251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324000" y="-42840"/>
            <a:ext cx="7491240" cy="725400"/>
          </a:xfrm>
          <a:prstGeom prst="rect">
            <a:avLst/>
          </a:prstGeom>
          <a:ln w="0">
            <a:noFill/>
          </a:ln>
        </p:spPr>
      </p:pic>
      <p:pic>
        <p:nvPicPr>
          <p:cNvPr id="224" name="Содержимое 3" descr="D:\Документы школа\Кафедра математики и физики\1.jpg"/>
          <p:cNvPicPr/>
          <p:nvPr/>
        </p:nvPicPr>
        <p:blipFill>
          <a:blip r:embed="rId2"/>
          <a:stretch/>
        </p:blipFill>
        <p:spPr>
          <a:xfrm>
            <a:off x="571680" y="714240"/>
            <a:ext cx="6429240" cy="25560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D:\Документы школа\Кафедра математики и физики\2.jpg"/>
          <p:cNvPicPr/>
          <p:nvPr/>
        </p:nvPicPr>
        <p:blipFill>
          <a:blip r:embed="rId3"/>
          <a:stretch/>
        </p:blipFill>
        <p:spPr>
          <a:xfrm>
            <a:off x="500040" y="3309840"/>
            <a:ext cx="65293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 вариант                      2 вариант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.А)                                     1.В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2.Г)                                      2.Б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3.Б)                                      3.А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4.Г)                                      4.А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714240" y="14112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17640" y="2071800"/>
            <a:ext cx="90039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-163440" y="2143080"/>
            <a:ext cx="9004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509760" y="1571760"/>
            <a:ext cx="81975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ИТЛИЬЛЕСЧ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rebuchet MS"/>
              </a:rPr>
              <a:t>ПРИЦЯОРОП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3:57:23Z</dcterms:created>
  <dc:creator>Школа</dc:creator>
  <dc:description/>
  <dc:language>en-US</dc:language>
  <cp:lastModifiedBy>Admin</cp:lastModifiedBy>
  <dcterms:modified xsi:type="dcterms:W3CDTF">2012-04-26T08:37:04Z</dcterms:modified>
  <cp:revision>7</cp:revision>
  <dc:subject/>
  <dc:title>Путешествие в страну Дроб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816000000000001024140</vt:lpwstr>
  </property>
</Properties>
</file>