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png" ContentType="image/png"/>
  <Override PartName="/ppt/media/image27.jpeg" ContentType="image/jpeg"/>
  <Override PartName="/ppt/media/image9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png" ContentType="image/png"/>
  <Override PartName="/ppt/media/image28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7CD-0841-4C28-B8E6-FDB34F6C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C619-AECE-45E4-9E14-7D1DAE96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14BF-E027-4597-BEFF-11ED36AA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1D61-2ED3-417F-8E05-E1626C12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31FD-D827-4C70-A81E-9A9F93C7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BCC6-4C29-4E72-88FF-D6CA3456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3228-D305-444F-AC38-2ED41513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6020-DF2E-46C7-A2F3-D76AC03E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7617-9483-4578-ADF3-E6B9C914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1136-F7AC-4F67-A8CB-EDBE3608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28FD-BD64-4388-8A92-2E2AFA2A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7E0-731F-4FCC-A222-66AA8E6B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D786-5EEA-4258-BD81-6AFAA89D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C7B3-2349-45D6-AB63-783B5EA9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3020-0C6B-4B74-9736-5DD5838B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CF66-637C-4F4B-B713-39226C58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FE78-7185-4E5C-998D-BF8A199E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5ADC0-AC4B-4DE8-94C6-E7F68FD7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032B5-17E6-4FF5-83E1-D2FD7507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9709F-6F2F-4E79-BA48-6B1BE682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8F3F9-F568-4CDE-9493-E7602383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B20DC-4D99-4C8C-A6FB-7F380346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BDD-1B97-4AD9-8299-A9A945F6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7CE7A-732C-4CD2-87BA-FC250C5D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F3388-B7AC-41AD-8A43-7E4C2E4C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020CF-8F12-4A14-9A9A-2F5F0215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81CB4-C25B-411E-9DE3-9C74F328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86CAC-4F54-45C4-B7FC-FC0CAD2C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141CA-1CE6-4C1F-A0DF-11CA58CD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BE446-718C-41DD-8484-1FA46111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D6E4F-A826-4676-A63D-4F314657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5397F-CEE8-409F-B671-7E339DD8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68040-739F-4A8A-98F8-268923F9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341-58C5-4BDB-A73E-D8C27CF2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962D4-FCBD-4C53-A642-B0416BD0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AD2E1-B5C7-4C45-B71D-AE7029B8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EC16F-ED16-45F7-9567-AE246F7B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04508-DDB2-4A02-AF1E-28D3041B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F9051-B1E1-46AD-889C-F839FAAD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FF407-7353-4D49-99E0-4F752310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1E76A-A78C-41B1-AD98-34DC6D97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7A089-FABA-42C2-898A-6DFA54E0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78E29-C718-4858-87AF-997FF4C7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BD72B-1107-41DF-8E4F-D0965D9F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32EC-33C4-4249-A155-8588E7F2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500D7-86AB-4A1F-8D6B-7D8D5168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C614F-CB2F-4158-A657-23FBE988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86764-1311-401C-89AB-5947BBFC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DBA2B-7932-4E46-BB62-B62EA044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9D2DA-F450-4310-A352-DAFC9D3E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BFA82-02AF-438C-A187-D2F36C82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F9EFE-EBD5-4269-8487-8F12F417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D2B2B-F3F6-40F9-80A4-FB5B482E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C5220-BED9-4278-93BF-D1705DC0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9A8D1-A913-417A-9E8B-74B150F7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5835-6F56-4FD0-92C3-4A0BC67F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4C7C4-F016-4E85-95EB-7AF7F277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59D-7037-4C0D-BC5D-285D9F86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6E8-4556-406A-ABF3-8A9EE2B7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14BF-48A1-405F-B481-B3C2F7EB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8873-5CFF-40B7-A4F7-9CAA1F21004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FBA4-4BD5-4A15-BECD-333FAA9F3A57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90F4-9DCA-45AB-8A3A-08BA1045737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ACC4-5AB8-4655-8BC3-CBB0E6C7B544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9B0D-6616-4DBC-8451-3192122D493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Заголовок 1" descr=""/>
          <p:cNvPicPr/>
          <p:nvPr/>
        </p:nvPicPr>
        <p:blipFill>
          <a:blip r:embed="rId3"/>
          <a:stretch/>
        </p:blipFill>
        <p:spPr>
          <a:xfrm>
            <a:off x="3297240" y="1884240"/>
            <a:ext cx="5664240" cy="1608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6 класс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642960" y="1461960"/>
            <a:ext cx="6715080" cy="52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Содержимое 3" descr="0010-010-Razgadajte-krossvord.jpg"/>
          <p:cNvPicPr/>
          <p:nvPr/>
        </p:nvPicPr>
        <p:blipFill>
          <a:blip r:embed="rId1"/>
          <a:srcRect l="0" t="47585" r="0" b="0"/>
          <a:stretch/>
        </p:blipFill>
        <p:spPr>
          <a:xfrm>
            <a:off x="357120" y="785880"/>
            <a:ext cx="77151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Содержимое 3" descr="0010-010-Razgadajte-krossvord.jpg"/>
          <p:cNvPicPr/>
          <p:nvPr/>
        </p:nvPicPr>
        <p:blipFill>
          <a:blip r:embed="rId1"/>
          <a:srcRect l="0" t="0" r="21932" b="50977"/>
          <a:stretch/>
        </p:blipFill>
        <p:spPr>
          <a:xfrm>
            <a:off x="0" y="714240"/>
            <a:ext cx="82152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782640" y="1609560"/>
            <a:ext cx="658800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785880" y="1465200"/>
            <a:ext cx="6500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785880" y="1503360"/>
            <a:ext cx="650088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Содержимое 3" descr="snap3018.jpg"/>
          <p:cNvPicPr/>
          <p:nvPr/>
        </p:nvPicPr>
        <p:blipFill>
          <a:blip r:embed="rId1"/>
          <a:stretch/>
        </p:blipFill>
        <p:spPr>
          <a:xfrm>
            <a:off x="1785960" y="285840"/>
            <a:ext cx="45007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rcRect l="0" t="0" r="-83" b="44"/>
          <a:stretch/>
        </p:blipFill>
        <p:spPr>
          <a:xfrm>
            <a:off x="571680" y="214200"/>
            <a:ext cx="7251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324000" y="-42840"/>
            <a:ext cx="7491240" cy="725400"/>
          </a:xfrm>
          <a:prstGeom prst="rect">
            <a:avLst/>
          </a:prstGeom>
          <a:ln w="0">
            <a:noFill/>
          </a:ln>
        </p:spPr>
      </p:pic>
      <p:pic>
        <p:nvPicPr>
          <p:cNvPr id="224" name="Содержимое 3" descr="D:\Документы школа\Кафедра математики и физики\1.jpg"/>
          <p:cNvPicPr/>
          <p:nvPr/>
        </p:nvPicPr>
        <p:blipFill>
          <a:blip r:embed="rId2"/>
          <a:stretch/>
        </p:blipFill>
        <p:spPr>
          <a:xfrm>
            <a:off x="571680" y="714240"/>
            <a:ext cx="6429240" cy="25560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D:\Документы школа\Кафедра математики и физики\2.jpg"/>
          <p:cNvPicPr/>
          <p:nvPr/>
        </p:nvPicPr>
        <p:blipFill>
          <a:blip r:embed="rId3"/>
          <a:stretch/>
        </p:blipFill>
        <p:spPr>
          <a:xfrm>
            <a:off x="500040" y="3309840"/>
            <a:ext cx="65293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 вариант                      2 вариан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.А)                                     1.В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2.Г)                                      2.Б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3.Б)                                      3.А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4.Г)                                      4.А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714240" y="1411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7640" y="2071800"/>
            <a:ext cx="90039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-163440" y="2143080"/>
            <a:ext cx="9004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509760" y="1571760"/>
            <a:ext cx="81975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ИТЛИЬЛЕСЧ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ПРИЦЯОРОП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57:23Z</dcterms:created>
  <dc:creator>Школа</dc:creator>
  <dc:description/>
  <dc:language>en-US</dc:language>
  <cp:lastModifiedBy>Admin</cp:lastModifiedBy>
  <dcterms:modified xsi:type="dcterms:W3CDTF">2012-04-26T08:37:04Z</dcterms:modified>
  <cp:revision>7</cp:revision>
  <dc:subject/>
  <dc:title>Путешествие в страну Дроб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816000000000001024140</vt:lpwstr>
  </property>
</Properties>
</file>