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png" ContentType="image/png"/>
  <Override PartName="/ppt/media/image27.jpeg" ContentType="image/jpeg"/>
  <Override PartName="/ppt/media/image9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png" ContentType="image/png"/>
  <Override PartName="/ppt/media/image28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A14E-57DE-443E-A622-218C580E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C3F-5D9D-4CF7-A563-16D38468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1BA-52F3-4DBD-8E4D-9D20D6F8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015-A698-493C-87C3-8634BF7B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78E1-0638-478B-83AB-20554D15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3644-70D7-4890-B530-F5F62260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FD8A-8802-49EE-A3B1-8A69C177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EE96-C205-4330-A8FC-E3F9211D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DD35-D80E-4C2B-92DD-B6FA9537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7C3F-D478-4DFB-B49A-D61CA64A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370E-9251-4AEB-AB5E-F61C8D9C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434-7B3F-4153-83DD-6A3A7F69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50AC-67CD-46F1-8B59-3CA20AA9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75FE-25C5-4403-90D7-07292B62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72C4-6FBE-4693-95D4-6D97F6F3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6F1D-738B-4A14-9B25-9125B9A0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C41C-2CBF-4F62-9D5E-BBFA46BB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787AA-30E0-4985-94DA-59D6F836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CE3F-7CB5-45DB-9DFB-28DCD28F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3CB99-C41C-4897-A166-8A888795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CB3A5-87D5-49F5-8B47-2C493A59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3984E-93EF-443B-A84B-24045A18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AA1-710C-4361-BEB8-109616BA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A5040-3D6D-44F5-B406-AA76D420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92B38-26A4-419E-8E73-4BF64E72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21EE7-5D56-41B0-B337-995DC974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171AD-D7BB-4CDE-B684-C67BC971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FF50F-E52A-4B7B-8C04-528DDE57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4A68A-5695-4F41-9519-CB22498C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FB64-CF6B-4A5A-8DA6-C19FC181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118AD-90DC-4EFD-A86D-5C612F08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95CE7-E5C5-44B5-8826-C7AD5358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2BBEC-6D4E-4D97-9AEE-CF2F8285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EB5-0B93-4A4E-B562-E7BD6642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A0C50-E250-4FE9-8C93-8B7ED947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03411-5C3B-4578-89F5-4DC2B4FA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2E4D8-02FD-4BE8-BCD1-86A16032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B673F-2364-4C29-8EBE-BD15A917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CE0EB-4487-4263-9C45-598A6D6B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5979F-BFB0-43A1-AC6E-DBA4C2EB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80D31-778A-4E76-8C91-05CF1430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4A150-D5F9-4AF2-AF77-37471A1A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6B4C7-F559-4743-89BA-4F195F2E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20943-8B81-4378-8364-2FAABED6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009-F3A6-428C-AD7F-C0A46B0F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7618B-E772-427F-995F-30A68947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30B2E-800F-4240-97B4-6FA4489D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E0573-C4F0-4AEB-A9F8-C16090E3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80B8E-5B10-446C-BDFE-26DDC99C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BE120-D144-4C82-9B98-E09C18FF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0A514-F18A-4B4C-80A7-28506032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61EE9-15EF-4664-A84A-B2CD3219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7F11B-ED86-46B0-A69B-2FAF1385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3295C-4718-4638-B761-B24F777C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F88E3-49B2-4418-8384-A2349355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76A-2FFE-4958-8806-8460FA57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9243F-832D-408B-A027-D853BF56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090-79FF-4F70-B6DB-E85DE95B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5CE-37FB-4A69-8FE5-B3E0C5ED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E01-BF93-42B2-A931-037332A1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83AB-42D0-4DC6-9FBD-18EC10BA6DA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AE69-65BF-441E-8741-F53408F399A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AE1F-FB4E-4F54-9EAE-11E0C6CCD87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A262-F2E6-4770-B0B0-77204C82E3E7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E1D1-63E0-4CFD-9ACB-FE9A23C3C51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1" descr=""/>
          <p:cNvPicPr/>
          <p:nvPr/>
        </p:nvPicPr>
        <p:blipFill>
          <a:blip r:embed="rId3"/>
          <a:stretch/>
        </p:blipFill>
        <p:spPr>
          <a:xfrm>
            <a:off x="3297240" y="1884240"/>
            <a:ext cx="5664240" cy="1608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6 класс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642960" y="1461960"/>
            <a:ext cx="6715080" cy="52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Содержимое 3" descr="0010-010-Razgadajte-krossvord.jpg"/>
          <p:cNvPicPr/>
          <p:nvPr/>
        </p:nvPicPr>
        <p:blipFill>
          <a:blip r:embed="rId1"/>
          <a:srcRect l="0" t="47585" r="0" b="0"/>
          <a:stretch/>
        </p:blipFill>
        <p:spPr>
          <a:xfrm>
            <a:off x="357120" y="785880"/>
            <a:ext cx="77151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Содержимое 3" descr="0010-010-Razgadajte-krossvord.jpg"/>
          <p:cNvPicPr/>
          <p:nvPr/>
        </p:nvPicPr>
        <p:blipFill>
          <a:blip r:embed="rId1"/>
          <a:srcRect l="0" t="0" r="21932" b="50977"/>
          <a:stretch/>
        </p:blipFill>
        <p:spPr>
          <a:xfrm>
            <a:off x="0" y="714240"/>
            <a:ext cx="82152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782640" y="1609560"/>
            <a:ext cx="658800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785880" y="1465200"/>
            <a:ext cx="6500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785880" y="1503360"/>
            <a:ext cx="650088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Содержимое 3" descr="snap3018.jpg"/>
          <p:cNvPicPr/>
          <p:nvPr/>
        </p:nvPicPr>
        <p:blipFill>
          <a:blip r:embed="rId1"/>
          <a:stretch/>
        </p:blipFill>
        <p:spPr>
          <a:xfrm>
            <a:off x="1785960" y="285840"/>
            <a:ext cx="45007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rcRect l="0" t="0" r="-83" b="44"/>
          <a:stretch/>
        </p:blipFill>
        <p:spPr>
          <a:xfrm>
            <a:off x="571680" y="214200"/>
            <a:ext cx="7251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324000" y="-42840"/>
            <a:ext cx="7491240" cy="72540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3" descr="D:\Документы школа\Кафедра математики и физики\1.jpg"/>
          <p:cNvPicPr/>
          <p:nvPr/>
        </p:nvPicPr>
        <p:blipFill>
          <a:blip r:embed="rId2"/>
          <a:stretch/>
        </p:blipFill>
        <p:spPr>
          <a:xfrm>
            <a:off x="571680" y="714240"/>
            <a:ext cx="6429240" cy="25560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D:\Документы школа\Кафедра математики и физики\2.jpg"/>
          <p:cNvPicPr/>
          <p:nvPr/>
        </p:nvPicPr>
        <p:blipFill>
          <a:blip r:embed="rId3"/>
          <a:stretch/>
        </p:blipFill>
        <p:spPr>
          <a:xfrm>
            <a:off x="500040" y="3309840"/>
            <a:ext cx="65293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 вариант                      2 вариан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.А)                                     1.В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2.Г)                                      2.Б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3.Б)                                      3.А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4.Г)                                      4.А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714240" y="1411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7640" y="2071800"/>
            <a:ext cx="90039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-163440" y="2143080"/>
            <a:ext cx="9004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509760" y="1571760"/>
            <a:ext cx="81975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ИТЛИЬЛЕСЧ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ПРИЦЯОРОП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57:23Z</dcterms:created>
  <dc:creator>Школа</dc:creator>
  <dc:description/>
  <dc:language>en-US</dc:language>
  <cp:lastModifiedBy>Admin</cp:lastModifiedBy>
  <dcterms:modified xsi:type="dcterms:W3CDTF">2012-04-26T08:37:04Z</dcterms:modified>
  <cp:revision>7</cp:revision>
  <dc:subject/>
  <dc:title>Путешествие в страну Дроб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16000000000001024140</vt:lpwstr>
  </property>
</Properties>
</file>