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11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86.jpeg" ContentType="image/jpeg"/>
  <Override PartName="/ppt/media/image106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75.jpeg" ContentType="image/jpeg"/>
  <Override PartName="/ppt/media/image77.jpeg" ContentType="image/jpeg"/>
  <Override PartName="/ppt/media/image60.jpeg" ContentType="image/jpeg"/>
  <Override PartName="/ppt/media/image99.jpeg" ContentType="image/jpeg"/>
  <Override PartName="/ppt/media/image27.png" ContentType="image/png"/>
  <Override PartName="/ppt/media/image33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9F39-311D-4EC4-9A46-CB5598D880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5F78-3940-4FDB-A139-82BA4A7717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B374-EFD2-4D39-98A6-BF42D6AECA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5FBC-B4E0-4C93-9FA5-D960F7DE5C0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B4A4-FDD5-4C65-B594-0FA1DFDDDF7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77BE-B96E-45F4-8673-D66E65D5065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F1E-2B04-4378-83A7-DD7DECCA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8B9-D1C7-4FE8-BCD9-ADC946B2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6C2-B1BC-47DB-922F-019AAE52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3D5-841D-48F1-BA26-75A17AE2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EFAC-22AD-43EE-893C-E68804C6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D757-3924-4B99-A457-BD35AC7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EFCA-46F0-4CD9-86A3-76E239AC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7F43-30EE-4033-85AC-3A0A041E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153F-17F6-4B1A-A7D0-641F52A9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568-E735-4BD1-BA86-17B0C8F8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6B40-7EC9-4CC0-8C1F-2EA506AD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C22-9038-4202-82B4-50519F28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9D81-00F9-44E5-81C9-A77E2D79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4B16-7B38-477A-A266-C9EF84EE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CFD3-EDE6-429D-858D-BA993BBB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887B-07D1-4F47-9195-766DF14A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D085-4BEC-489E-995C-B40777C1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2CAA-AE83-443A-9CB5-E38B2079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DF6F1-A36D-43D3-A124-38B28894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0C05-8AF5-4B31-8669-99D9F27C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F3A8-F2F2-4FB2-8622-EC588E04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7E0C-8B37-436E-8E44-A474F094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057-B878-4E46-AC4F-B3D81027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23F2-72CB-4769-94D8-ED41D08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26BE-2198-47B0-B86A-9CCC556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947F-3A27-47DD-8503-6ED0D6A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C7E6-A56B-47E2-8C7F-A1301B23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7BB8-8419-4690-9419-2C53749D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51A1-22ED-4FF0-8874-1C217377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A0C0-B6E3-4775-81FE-27EDA708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B7A2C-4C94-42AB-B195-2FDCF8F9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B71E-3E52-4178-9BC1-D2F3379A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A9670-AA6E-42DF-93F0-613C5194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CFE-D167-4A83-B0F2-756B1810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2636-575A-459E-8C86-C1FFB5AC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A32B-CE6A-47C6-B160-6C728165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9202-4B27-409E-AA68-249E20B3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A596-71C5-4F2C-A5C5-2386B591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69EDB-F932-457B-9A37-6FB82530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3ED05-C995-4111-8CA1-8B183AC4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F346-C314-4627-9353-963CA0A7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2B00B-5239-44FD-A076-BBC4780B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4A52-820F-45E4-BEC6-45AA1E94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E963B-8C2B-464C-92BC-C025CF06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9A3-8B4C-48D7-BAA1-8B07A8AC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37814-86B5-42D7-9710-A5D28B3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A3AF1-880B-41DD-89A6-0705E836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38732-2E5C-4817-8695-22913095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51E0-6635-4C98-852B-2CAB679B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CBCF4-EA38-428B-8A60-AA6446CF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FC4E6-019E-46E0-A750-52DCF213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E22A7-7BEE-404C-BA36-2E5161B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89916-34A3-4383-B650-07F05D67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79E2-1C46-4BE4-820D-FCEE50FB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8ACD-026B-4A9D-866C-90643C3F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6F2-5BA5-4E57-AC54-09507353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F7E3D-FC52-4604-BDB3-6DA11A53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BE87D-E6FE-4CD5-8034-180CDB06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3904-A807-47CD-884A-D6B5EEBC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5DBC2-0BC0-4E2B-98D5-2104270C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86646-8185-4A30-AC59-B768F49B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EC3B1-C3C4-4F31-A8AD-BC0C27C7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F420-EFBD-4DFD-9621-1C65B8E9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5CB23-9E77-4981-9931-EAC6975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EBEF-3DD9-48B3-9101-EF9B6EEB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F5BF5-B02B-4D4A-992F-F4456CEB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2F4-D8F4-4DE9-AF54-04EE870C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1EC43-04AB-4325-BC02-87F19AB7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28DB3-E6AF-4471-A450-A1142C9D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F85FF-884D-4EDE-A7A7-468EF217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41730-1DB1-4ED0-A79C-5920B166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AB60A-A9C2-402E-94D9-E3481D2D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CBDAF-9DA2-4EE7-978D-8CA99670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F89C7-FACC-4BF1-A14B-E3F11A45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96347-B804-4A5F-B1F7-0F265AB2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23E1-D4AF-4B31-8E50-BDEC77EF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BCF55-FA2E-49E3-BC53-DD1FAC9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1F9-5833-493E-8F26-F98611E7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55E46-7392-4C42-B25B-9201FF0E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CF091-A224-4D80-8A5D-12AF73C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04FCF-3F29-4C1C-8DB0-0346C1DB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DA0F0-5C19-4E61-A3DF-95AB556E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6771B-F445-4C68-A4C1-1B28A7C1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8BB-60C1-49A0-AE2F-87867B9C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D13F-DDAB-482C-AEBF-8833AC1DCC6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2260-CC35-4261-9DB1-1D814DB8F8D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DCEA-2F01-44E4-9626-5AD1D5436DF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0984-FA82-4958-BD93-6ED283C801D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A4D0-DDBA-4E82-9432-EAC4AB43998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34B3-EA40-43F2-964F-FC1C740F3CC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315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17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18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319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1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2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323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5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6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9CB4-AA02-4ADE-A488-905A7B4CC2F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2.jpeg"/><Relationship Id="rId3" Type="http://schemas.openxmlformats.org/officeDocument/2006/relationships/image" Target="../media/image4.jpeg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image" Target="../media/image108.jpeg"/><Relationship Id="rId5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image" Target="../media/image119.jpe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C:\Documents and Settings\Admin\Рабочий стол\Худ культура 9 класс\античность среднев\иллюстрации\октавиан Август.jpg"/>
          <p:cNvPicPr/>
          <p:nvPr/>
        </p:nvPicPr>
        <p:blipFill>
          <a:blip r:embed="rId1"/>
          <a:stretch/>
        </p:blipFill>
        <p:spPr>
          <a:xfrm>
            <a:off x="6500880" y="0"/>
            <a:ext cx="2400120" cy="3600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Documents and Settings\Admin\Рабочий стол\Худ культура 9 класс\античность среднев\иллюстрации\23.jpg"/>
          <p:cNvPicPr/>
          <p:nvPr/>
        </p:nvPicPr>
        <p:blipFill>
          <a:blip r:embed="rId2"/>
          <a:stretch/>
        </p:blipFill>
        <p:spPr>
          <a:xfrm>
            <a:off x="0" y="0"/>
            <a:ext cx="6137280" cy="3600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Documents and Settings\Admin\Рабочий стол\Худ культура 9 класс\античность среднев\иллюстрации\Новая папка\09 агесандр афродита милосская.jpg"/>
          <p:cNvPicPr/>
          <p:nvPr/>
        </p:nvPicPr>
        <p:blipFill>
          <a:blip r:embed="rId3"/>
          <a:stretch/>
        </p:blipFill>
        <p:spPr>
          <a:xfrm>
            <a:off x="0" y="3714840"/>
            <a:ext cx="1568520" cy="3887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Documents and Settings\Admin\Рабочий стол\Худ культура 9 класс\античность среднев\иллюстрации\Новая папка\07 Лаокоон.jpg"/>
          <p:cNvPicPr/>
          <p:nvPr/>
        </p:nvPicPr>
        <p:blipFill>
          <a:blip r:embed="rId4"/>
          <a:stretch/>
        </p:blipFill>
        <p:spPr>
          <a:xfrm>
            <a:off x="2286000" y="407196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C:\Documents and Settings\Admin\Рабочий стол\Худ культура 9 класс\античность среднев\иллюстрации\Новая папка\11 ника Самофрауийская.jpg"/>
          <p:cNvPicPr/>
          <p:nvPr/>
        </p:nvPicPr>
        <p:blipFill>
          <a:blip r:embed="rId5"/>
          <a:stretch/>
        </p:blipFill>
        <p:spPr>
          <a:xfrm>
            <a:off x="6357960" y="3929040"/>
            <a:ext cx="25160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3" descr="C:\Documents and Settings\Admin\Рабочий стол\Худ культура 9 класс\античность среднев\иллюстрации\Minoan_Dolphins_Fresco_Art_Knossos_650px.jpg"/>
          <p:cNvPicPr/>
          <p:nvPr/>
        </p:nvPicPr>
        <p:blipFill>
          <a:blip r:embed="rId1"/>
          <a:stretch/>
        </p:blipFill>
        <p:spPr>
          <a:xfrm>
            <a:off x="3105000" y="2571840"/>
            <a:ext cx="6039000" cy="3995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C:\Documents and Settings\Admin\Рабочий стол\Худ культура 9 класс\античность среднев\иллюстрации\Minoan_Kamares_Ware_Pottery.JPG"/>
          <p:cNvPicPr/>
          <p:nvPr/>
        </p:nvPicPr>
        <p:blipFill>
          <a:blip r:embed="rId2"/>
          <a:stretch/>
        </p:blipFill>
        <p:spPr>
          <a:xfrm>
            <a:off x="214200" y="3143160"/>
            <a:ext cx="2189160" cy="3311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C:\Documents and Settings\Admin\Рабочий стол\Худ культура 9 класс\античность среднев\иллюстрации\Minoan_Octopus_Fresco_Art_650px.jpg"/>
          <p:cNvPicPr/>
          <p:nvPr/>
        </p:nvPicPr>
        <p:blipFill>
          <a:blip r:embed="rId3"/>
          <a:stretch/>
        </p:blipFill>
        <p:spPr>
          <a:xfrm>
            <a:off x="0" y="0"/>
            <a:ext cx="2908440" cy="2700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C:\Documents and Settings\Admin\Рабочий стол\Худ культура 9 класс\античность среднев\иллюстрации\Palace_of_Knossos.jpg"/>
          <p:cNvPicPr/>
          <p:nvPr/>
        </p:nvPicPr>
        <p:blipFill>
          <a:blip r:embed="rId4"/>
          <a:stretch/>
        </p:blipFill>
        <p:spPr>
          <a:xfrm>
            <a:off x="3786120" y="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2.Гомеровская и раннеархаическая культур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XI-VIII вв до н.э.)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59" name="Picture 2" descr="C:\Documents and Settings\Admin\Рабочий стол\Худ культура 9 класс\античность среднев\иллюстрации\Franklin Simmons - Пенелопа.jpg"/>
          <p:cNvPicPr/>
          <p:nvPr/>
        </p:nvPicPr>
        <p:blipFill>
          <a:blip r:embed="rId1"/>
          <a:stretch/>
        </p:blipFill>
        <p:spPr>
          <a:xfrm>
            <a:off x="4572000" y="1285920"/>
            <a:ext cx="1593720" cy="2362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Documents and Settings\Admin\Рабочий стол\Худ культура 9 класс\античность среднев\иллюстрации\N. C. Wyeth. Одиссей и Пенелопа.jpg"/>
          <p:cNvPicPr/>
          <p:nvPr/>
        </p:nvPicPr>
        <p:blipFill>
          <a:blip r:embed="rId2"/>
          <a:stretch/>
        </p:blipFill>
        <p:spPr>
          <a:xfrm>
            <a:off x="4857840" y="3689280"/>
            <a:ext cx="4013280" cy="3168720"/>
          </a:xfrm>
          <a:prstGeom prst="rect">
            <a:avLst/>
          </a:prstGeom>
          <a:ln w="0">
            <a:noFill/>
          </a:ln>
        </p:spPr>
      </p:pic>
      <p:sp>
        <p:nvSpPr>
          <p:cNvPr id="461" name="TextBox 13"/>
          <p:cNvSpPr/>
          <p:nvPr/>
        </p:nvSpPr>
        <p:spPr>
          <a:xfrm>
            <a:off x="6072120" y="128592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Ф. Симмон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“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Пенелопа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2" name="Picture 5" descr="C:\Documents and Settings\Admin\Рабочий стол\Худ культура 9 класс\античность среднев\иллюстрации\Гвидо Рени. Похищение Елены.jpg"/>
          <p:cNvPicPr/>
          <p:nvPr/>
        </p:nvPicPr>
        <p:blipFill>
          <a:blip r:embed="rId3"/>
          <a:stretch/>
        </p:blipFill>
        <p:spPr>
          <a:xfrm>
            <a:off x="0" y="1285920"/>
            <a:ext cx="2960640" cy="280836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5"/>
          <p:cNvSpPr/>
          <p:nvPr/>
        </p:nvSpPr>
        <p:spPr>
          <a:xfrm>
            <a:off x="3000240" y="1214280"/>
            <a:ext cx="15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Гвидо Рени “Похищение Елен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ы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4" name="Picture 6" descr="C:\Documents and Settings\Admin\Рабочий стол\Худ культура 9 класс\античность среднев\иллюстрации\Антонио Канова. Елена Троянская.jpg"/>
          <p:cNvPicPr/>
          <p:nvPr/>
        </p:nvPicPr>
        <p:blipFill>
          <a:blip r:embed="rId4"/>
          <a:stretch/>
        </p:blipFill>
        <p:spPr>
          <a:xfrm>
            <a:off x="214200" y="4230720"/>
            <a:ext cx="1963800" cy="2627280"/>
          </a:xfrm>
          <a:prstGeom prst="rect">
            <a:avLst/>
          </a:prstGeom>
          <a:ln w="0">
            <a:noFill/>
          </a:ln>
        </p:spPr>
      </p:pic>
      <p:sp>
        <p:nvSpPr>
          <p:cNvPr id="465" name="TextBox 17"/>
          <p:cNvSpPr/>
          <p:nvPr/>
        </p:nvSpPr>
        <p:spPr>
          <a:xfrm>
            <a:off x="2000160" y="607212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анов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Елена Троянская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6" name="Picture 7" descr="C:\Documents and Settings\Admin\Рабочий стол\Худ культура 9 класс\античность среднев\иллюстрации\троянский конт.jpg"/>
          <p:cNvPicPr/>
          <p:nvPr/>
        </p:nvPicPr>
        <p:blipFill>
          <a:blip r:embed="rId5"/>
          <a:stretch/>
        </p:blipFill>
        <p:spPr>
          <a:xfrm>
            <a:off x="3000240" y="3643200"/>
            <a:ext cx="1687680" cy="2330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9"/>
          <p:cNvSpPr/>
          <p:nvPr/>
        </p:nvSpPr>
        <p:spPr>
          <a:xfrm>
            <a:off x="6689160" y="357192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. Уайе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Одиссей и 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енелоп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8" name="Picture 8" descr="C:\Documents and Settings\Admin\Рабочий стол\Худ культура 9 класс\античность среднев\иллюстрации\Гмер.jpg"/>
          <p:cNvPicPr/>
          <p:nvPr/>
        </p:nvPicPr>
        <p:blipFill>
          <a:blip r:embed="rId6"/>
          <a:stretch/>
        </p:blipFill>
        <p:spPr>
          <a:xfrm>
            <a:off x="7734240" y="-142920"/>
            <a:ext cx="1409760" cy="20527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21"/>
          <p:cNvSpPr/>
          <p:nvPr/>
        </p:nvSpPr>
        <p:spPr>
          <a:xfrm>
            <a:off x="7963560" y="20001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ГОМЕ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TextBox 26"/>
          <p:cNvSpPr/>
          <p:nvPr/>
        </p:nvSpPr>
        <p:spPr>
          <a:xfrm>
            <a:off x="3000240" y="3214800"/>
            <a:ext cx="21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онь Троян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1" name="Picture 10" descr="C:\Documents and Settings\Admin\Рабочий стол\Худ культура 9 класс\античность среднев\иллюстрации\Римская мозаика, 2 век.jpg"/>
          <p:cNvPicPr/>
          <p:nvPr/>
        </p:nvPicPr>
        <p:blipFill>
          <a:blip r:embed="rId7"/>
          <a:stretch/>
        </p:blipFill>
        <p:spPr>
          <a:xfrm>
            <a:off x="6429240" y="2286000"/>
            <a:ext cx="25164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Documents and Settings\Admin\Рабочий стол\Худ культура 9 класс\античность среднев\иллюстрации\кратер2.gif"/>
          <p:cNvPicPr/>
          <p:nvPr/>
        </p:nvPicPr>
        <p:blipFill>
          <a:blip r:embed="rId1"/>
          <a:stretch/>
        </p:blipFill>
        <p:spPr>
          <a:xfrm>
            <a:off x="500040" y="0"/>
            <a:ext cx="2124000" cy="19080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2"/>
          <p:cNvSpPr/>
          <p:nvPr/>
        </p:nvSpPr>
        <p:spPr>
          <a:xfrm>
            <a:off x="785880" y="200016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ратер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4" name="Picture 3" descr="C:\Documents and Settings\Admin\Рабочий стол\Худ культура 9 класс\античность среднев\иллюстрации\гидрияgif.gif"/>
          <p:cNvPicPr/>
          <p:nvPr/>
        </p:nvPicPr>
        <p:blipFill>
          <a:blip r:embed="rId2"/>
          <a:stretch/>
        </p:blipFill>
        <p:spPr>
          <a:xfrm>
            <a:off x="3786120" y="0"/>
            <a:ext cx="1530360" cy="1944720"/>
          </a:xfrm>
          <a:prstGeom prst="rect">
            <a:avLst/>
          </a:prstGeom>
          <a:ln w="0">
            <a:noFill/>
          </a:ln>
        </p:spPr>
      </p:pic>
      <p:sp>
        <p:nvSpPr>
          <p:cNvPr id="475" name="TextBox 4"/>
          <p:cNvSpPr/>
          <p:nvPr/>
        </p:nvSpPr>
        <p:spPr>
          <a:xfrm>
            <a:off x="392904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идр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6" name="Picture 4" descr="C:\Documents and Settings\Admin\Рабочий стол\Худ культура 9 класс\античность среднев\иллюстрации\киликgif.gif"/>
          <p:cNvPicPr/>
          <p:nvPr/>
        </p:nvPicPr>
        <p:blipFill>
          <a:blip r:embed="rId3"/>
          <a:stretch/>
        </p:blipFill>
        <p:spPr>
          <a:xfrm>
            <a:off x="1714680" y="3000240"/>
            <a:ext cx="5570280" cy="1764000"/>
          </a:xfrm>
          <a:prstGeom prst="rect">
            <a:avLst/>
          </a:prstGeom>
          <a:ln w="0">
            <a:noFill/>
          </a:ln>
        </p:spPr>
      </p:pic>
      <p:sp>
        <p:nvSpPr>
          <p:cNvPr id="477" name="TextBox 6"/>
          <p:cNvSpPr/>
          <p:nvPr/>
        </p:nvSpPr>
        <p:spPr>
          <a:xfrm>
            <a:off x="3901320" y="4857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илик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8" name="Picture 5" descr="C:\Documents and Settings\Admin\Рабочий стол\Худ культура 9 класс\античность среднев\иллюстрации\лекифgif.gif"/>
          <p:cNvPicPr/>
          <p:nvPr/>
        </p:nvPicPr>
        <p:blipFill>
          <a:blip r:embed="rId4"/>
          <a:stretch/>
        </p:blipFill>
        <p:spPr>
          <a:xfrm>
            <a:off x="7786800" y="3357720"/>
            <a:ext cx="1020600" cy="1908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C:\Documents and Settings\Admin\Рабочий стол\Худ культура 9 класс\античность среднев\иллюстрации\амфораgif.gif"/>
          <p:cNvPicPr/>
          <p:nvPr/>
        </p:nvPicPr>
        <p:blipFill>
          <a:blip r:embed="rId5"/>
          <a:stretch/>
        </p:blipFill>
        <p:spPr>
          <a:xfrm>
            <a:off x="7000920" y="0"/>
            <a:ext cx="1388880" cy="1908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C:\Documents and Settings\Admin\Рабочий стол\Худ культура 9 класс\античность среднев\иллюстрации\пелика.gif"/>
          <p:cNvPicPr/>
          <p:nvPr/>
        </p:nvPicPr>
        <p:blipFill>
          <a:blip r:embed="rId6"/>
          <a:stretch/>
        </p:blipFill>
        <p:spPr>
          <a:xfrm>
            <a:off x="357120" y="3571920"/>
            <a:ext cx="1274760" cy="19447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12"/>
          <p:cNvSpPr/>
          <p:nvPr/>
        </p:nvSpPr>
        <p:spPr>
          <a:xfrm>
            <a:off x="7715160" y="535788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Лекиф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Прямоугольник 13"/>
          <p:cNvSpPr/>
          <p:nvPr/>
        </p:nvSpPr>
        <p:spPr>
          <a:xfrm>
            <a:off x="7000920" y="200016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мфо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531360" y="557208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Пелика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0080" y="85680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3. Архаическая культура </a:t>
            </a:r>
            <a:br>
              <a:rPr sz="40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VII-VI вв до н.э.)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85" name="Picture 2" descr="C:\Documents and Settings\Admin\Рабочий стол\Худ культура 9 класс\античность среднев\иллюстрации\Ахилл и Аякс игр в костиjpg.jpg"/>
          <p:cNvPicPr/>
          <p:nvPr/>
        </p:nvPicPr>
        <p:blipFill>
          <a:blip r:embed="rId1"/>
          <a:stretch/>
        </p:blipFill>
        <p:spPr>
          <a:xfrm>
            <a:off x="0" y="1928880"/>
            <a:ext cx="2641680" cy="35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C:\Documents and Settings\Admin\Рабочий стол\Худ культура 9 класс\античность среднев\иллюстрации\ласточка.jpg"/>
          <p:cNvPicPr/>
          <p:nvPr/>
        </p:nvPicPr>
        <p:blipFill>
          <a:blip r:embed="rId2"/>
          <a:stretch/>
        </p:blipFill>
        <p:spPr>
          <a:xfrm>
            <a:off x="5875200" y="2143080"/>
            <a:ext cx="3268800" cy="417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C:\Documents and Settings\Admin\Рабочий стол\Худ культура 9 класс\античность среднев\иллюстрации\ваза франсуа.jpg"/>
          <p:cNvPicPr/>
          <p:nvPr/>
        </p:nvPicPr>
        <p:blipFill>
          <a:blip r:embed="rId3"/>
          <a:stretch/>
        </p:blipFill>
        <p:spPr>
          <a:xfrm>
            <a:off x="2643120" y="2928960"/>
            <a:ext cx="3081240" cy="313200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1"/>
          <p:cNvSpPr/>
          <p:nvPr/>
        </p:nvSpPr>
        <p:spPr>
          <a:xfrm>
            <a:off x="0" y="542916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Амфора “Ахилл и Аякс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играющие в кост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0" y="0"/>
            <a:ext cx="36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Чернофигурная вазопис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TextBox 14"/>
          <p:cNvSpPr/>
          <p:nvPr/>
        </p:nvSpPr>
        <p:spPr>
          <a:xfrm>
            <a:off x="2428920" y="621180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ратер Ваза “ Франсуа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литий. Ерготи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TextBox 15"/>
          <p:cNvSpPr/>
          <p:nvPr/>
        </p:nvSpPr>
        <p:spPr>
          <a:xfrm>
            <a:off x="5857920" y="0"/>
            <a:ext cx="329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Краснофигурная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вазопис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TextBox 16"/>
          <p:cNvSpPr/>
          <p:nvPr/>
        </p:nvSpPr>
        <p:spPr>
          <a:xfrm>
            <a:off x="5715000" y="62866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Евфроний. Пелика с ласточ</a:t>
            </a:r>
            <a:r>
              <a:rPr b="0" lang="uk-UA" sz="1800" spc="-1" strike="noStrike">
                <a:solidFill>
                  <a:srgbClr val="ffffff"/>
                </a:solidFill>
                <a:latin typeface="Cambria"/>
              </a:rPr>
              <a:t>ко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Архаическая архитектура и скульптур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94" name="Picture 3" descr="C:\Documents and Settings\Admin\Рабочий стол\Худ культура 9 класс\античность среднев\иллюстрации\arh2.jpg"/>
          <p:cNvPicPr/>
          <p:nvPr/>
        </p:nvPicPr>
        <p:blipFill>
          <a:blip r:embed="rId1"/>
          <a:stretch/>
        </p:blipFill>
        <p:spPr>
          <a:xfrm>
            <a:off x="4857840" y="1386000"/>
            <a:ext cx="3951360" cy="5472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C:\Documents and Settings\Admin\Рабочий стол\11 класс для уроков\контрольные 11 класс\скульптура Контрольная\Новая папка\08 кора.JPG"/>
          <p:cNvPicPr/>
          <p:nvPr/>
        </p:nvPicPr>
        <p:blipFill>
          <a:blip r:embed="rId2"/>
          <a:stretch/>
        </p:blipFill>
        <p:spPr>
          <a:xfrm>
            <a:off x="2643120" y="2825640"/>
            <a:ext cx="1743120" cy="40323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5" descr="C:\Documents and Settings\Admin\Рабочий стол\11 класс для уроков\контрольные 11 класс\скульптура Контрольная\Новая папка\04 Rehjc.jpg"/>
          <p:cNvPicPr/>
          <p:nvPr/>
        </p:nvPicPr>
        <p:blipFill>
          <a:blip r:embed="rId3"/>
          <a:stretch/>
        </p:blipFill>
        <p:spPr>
          <a:xfrm>
            <a:off x="0" y="0"/>
            <a:ext cx="1496880" cy="39956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1714680" y="857160"/>
            <a:ext cx="24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уросы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–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зображения атлет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ез одежды .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озводились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есть победителе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соревнованиях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0" y="4071960"/>
            <a:ext cx="271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оры -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женские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зображения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рапированном одежде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крашенные: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олосы, глаза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Губы - красным цвето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, одежда украшалась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зорами синего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расного и зеленог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цветов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Храм Артемиды в Эфесе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42560" y="714240"/>
            <a:ext cx="5715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строен в честь покровительницы города – Артемиды – богини плодородия, охоты, луны, покровительницы целомудрия и охранительницы рожениц. Строительство храма длилось 120 лет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рам Артемиды построен был жителями города Эфеса, желавшими отдать дань почитаемой богине. Строительство было окончено уже в начале V в. до н.э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356 году до н.э. храм подвергся разрушению от рук печально известного Герострата. Молодой человек из Эфеса пытался увековечить свое имя. Однако не сумев создать ничего великого, он решил, что войти в историю можно не только создавая, но и разрушая. Так он и поджег храм. Конечно, эфессцы пытались сделать все возможное, чтобы имя Герострата кануло в лету. Упоминание его имени где бы то ни было было запрещено. По иронии судьбы, возможно, именно благодаря этим мерам мы и знаем его имя до сих пор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929200" y="1857240"/>
            <a:ext cx="27655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2" name="Picture 2" descr="C:\Documents and Settings\Admin\Рабочий стол\Худ культура 9 класс\античность среднев\иллюстрации\храм в эфесе.jpeg"/>
          <p:cNvPicPr/>
          <p:nvPr/>
        </p:nvPicPr>
        <p:blipFill>
          <a:blip r:embed="rId1"/>
          <a:stretch/>
        </p:blipFill>
        <p:spPr>
          <a:xfrm>
            <a:off x="5857920" y="642960"/>
            <a:ext cx="4286160" cy="3048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C:\Documents and Settings\Admin\Рабочий стол\Худ культура 9 класс\античность среднев\иллюстрации\эфесjpg.jpg"/>
          <p:cNvPicPr/>
          <p:nvPr/>
        </p:nvPicPr>
        <p:blipFill>
          <a:blip r:embed="rId2"/>
          <a:stretch/>
        </p:blipFill>
        <p:spPr>
          <a:xfrm>
            <a:off x="5786280" y="3267000"/>
            <a:ext cx="4800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3.Клас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ческая культу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V в-I-III четверть IV в. до н.э.)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35720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Афинский акрополь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644720" y="1500120"/>
            <a:ext cx="4498920" cy="49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mbria"/>
              </a:rPr>
              <a:t>Священная дорога, по которой от агоры к храму богини-покровительницы двигалась во время главного праздника Великих панафиней процессия афинян, ведет к Пропилеям. В левом, выступающем их крыле, располагалась Пинакотека (собрание картин-пинак, принесенных в дар богине Афине), в правом находилось хранилище рукописей и помещение для привратника и сторожей. Справа от Пропилей на пиргосе (выступе укрепленной скалы) стоит маленький, легкий и изящный храм ионического ордера, освященный Афине-Нике, известный как храм Ники Аптерос (Бескрылой Победы; 443-420, архитектор Калликрат). 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0" y="5786280"/>
            <a:ext cx="85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опилеи   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      (от греч. propэlaion - преддверие, вход)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пилон, парадный проход, проезд, образованны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имметричными портиками и колоннадами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положенными по оси движения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9" name="Picture 3" descr="C:\Documents and Settings\Admin\Рабочий стол\Худ культура 9 класс\античность среднев\иллюстрации\акропольpg.jpg"/>
          <p:cNvPicPr/>
          <p:nvPr/>
        </p:nvPicPr>
        <p:blipFill>
          <a:blip r:embed="rId1"/>
          <a:stretch/>
        </p:blipFill>
        <p:spPr>
          <a:xfrm>
            <a:off x="0" y="1928880"/>
            <a:ext cx="5135400" cy="3851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C:\Documents and Settings\Admin\Рабочий стол\Худ культура 9 класс\античность среднев\иллюстрации\акрополь.jpg"/>
          <p:cNvPicPr/>
          <p:nvPr/>
        </p:nvPicPr>
        <p:blipFill>
          <a:blip r:embed="rId2"/>
          <a:stretch/>
        </p:blipFill>
        <p:spPr>
          <a:xfrm>
            <a:off x="5915160" y="5286240"/>
            <a:ext cx="32288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Афинский акрополь </a:t>
            </a:r>
            <a:br>
              <a:rPr sz="4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арх.. Иктин и Калликрат под. рук. Фидия</a:t>
            </a:r>
            <a:endParaRPr b="0" lang="en-US" sz="2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5120" y="78588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арфенон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8578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14" name="Picture 2" descr="C:\Documents and Settings\Admin\Рабочий стол\Худ культура 9 класс\античность среднев\иллюстрации\парфенон.jpg"/>
          <p:cNvPicPr/>
          <p:nvPr/>
        </p:nvPicPr>
        <p:blipFill>
          <a:blip r:embed="rId1"/>
          <a:stretch/>
        </p:blipFill>
        <p:spPr>
          <a:xfrm>
            <a:off x="0" y="1214280"/>
            <a:ext cx="4746600" cy="356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C:\Documents and Settings\Admin\Рабочий стол\Худ культура 9 класс\античность среднев\иллюстрации\Akropol-v-Afinah-foto-3.jpg"/>
          <p:cNvPicPr/>
          <p:nvPr/>
        </p:nvPicPr>
        <p:blipFill>
          <a:blip r:embed="rId2"/>
          <a:stretch/>
        </p:blipFill>
        <p:spPr>
          <a:xfrm>
            <a:off x="4857840" y="1285920"/>
            <a:ext cx="4460760" cy="334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:\Documents and Settings\Admin\Рабочий стол\Худ культура 9 класс\античность среднев\иллюстрации\Akropol-v-Afinah-foto-16.jpg"/>
          <p:cNvPicPr/>
          <p:nvPr/>
        </p:nvPicPr>
        <p:blipFill>
          <a:blip r:embed="rId3"/>
          <a:stretch/>
        </p:blipFill>
        <p:spPr>
          <a:xfrm>
            <a:off x="4857840" y="4857840"/>
            <a:ext cx="4605120" cy="3492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C:\Documents and Settings\Admin\Рабочий стол\Худ культура 9 класс\античность среднев\иллюстрации\хр ники апртеросjpg.jpg"/>
          <p:cNvPicPr/>
          <p:nvPr/>
        </p:nvPicPr>
        <p:blipFill>
          <a:blip r:embed="rId4"/>
          <a:stretch/>
        </p:blipFill>
        <p:spPr>
          <a:xfrm>
            <a:off x="0" y="5273640"/>
            <a:ext cx="4371840" cy="316872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357960" y="7858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Эрехтейон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57120" y="4857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Храм Ники Аптеро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C:\Documents and Settings\Admin\Рабочий стол\Худ культура 9 класс\античность среднев\иллюстрации\никаpeg.jpeg"/>
          <p:cNvPicPr/>
          <p:nvPr/>
        </p:nvPicPr>
        <p:blipFill>
          <a:blip r:embed="rId1"/>
          <a:stretch/>
        </p:blipFill>
        <p:spPr>
          <a:xfrm>
            <a:off x="4214880" y="428760"/>
            <a:ext cx="2077920" cy="3168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Documents and Settings\Admin\Рабочий стол\11 класс для уроков\контрольные 11 класс\скульптура Контрольная\Новая папка\05 афина парфенос.jpg"/>
          <p:cNvPicPr/>
          <p:nvPr/>
        </p:nvPicPr>
        <p:blipFill>
          <a:blip r:embed="rId2"/>
          <a:stretch/>
        </p:blipFill>
        <p:spPr>
          <a:xfrm>
            <a:off x="6572160" y="357120"/>
            <a:ext cx="2981520" cy="5705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Documents and Settings\Admin\Рабочий стол\Худ культура 9 класс\античность среднев\иллюстрации\всадникиjpg.jpg"/>
          <p:cNvPicPr/>
          <p:nvPr/>
        </p:nvPicPr>
        <p:blipFill>
          <a:blip r:embed="rId3"/>
          <a:stretch/>
        </p:blipFill>
        <p:spPr>
          <a:xfrm>
            <a:off x="0" y="-357120"/>
            <a:ext cx="4229280" cy="3276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C:\Documents and Settings\Admin\Рабочий стол\Худ культура 9 класс\античность среднев\иллюстрации\панафин шествjpg.jpg"/>
          <p:cNvPicPr/>
          <p:nvPr/>
        </p:nvPicPr>
        <p:blipFill>
          <a:blip r:embed="rId4"/>
          <a:stretch/>
        </p:blipFill>
        <p:spPr>
          <a:xfrm>
            <a:off x="0" y="3429000"/>
            <a:ext cx="6248520" cy="3619440"/>
          </a:xfrm>
          <a:prstGeom prst="rect">
            <a:avLst/>
          </a:prstGeom>
          <a:ln w="0">
            <a:noFill/>
          </a:ln>
        </p:spPr>
      </p:pic>
      <p:sp>
        <p:nvSpPr>
          <p:cNvPr id="524" name="TextBox 8"/>
          <p:cNvSpPr/>
          <p:nvPr/>
        </p:nvSpPr>
        <p:spPr>
          <a:xfrm>
            <a:off x="642960" y="30002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Рельефы Парфено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TextBox 9"/>
          <p:cNvSpPr/>
          <p:nvPr/>
        </p:nvSpPr>
        <p:spPr>
          <a:xfrm>
            <a:off x="6500880" y="62118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идий Афина Парфено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4379400" y="0"/>
            <a:ext cx="29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ика, развязывающа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андалию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Скульптура классического период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28" name="Picture 2" descr="C:\Documents and Settings\Admin\Рабочий стол\11 класс для уроков\контрольные 11 класс\скульптура Контрольная\Новая папка\01 Мирон дискобол.jpg"/>
          <p:cNvPicPr/>
          <p:nvPr/>
        </p:nvPicPr>
        <p:blipFill>
          <a:blip r:embed="rId1"/>
          <a:stretch/>
        </p:blipFill>
        <p:spPr>
          <a:xfrm>
            <a:off x="0" y="571680"/>
            <a:ext cx="2174760" cy="3384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F:\мамино\11 класс\скульптура на урок2й3й\скульптура 11 класс\05Мирон афина и Марсий.jpg"/>
          <p:cNvPicPr/>
          <p:nvPr/>
        </p:nvPicPr>
        <p:blipFill>
          <a:blip r:embed="rId2"/>
          <a:stretch/>
        </p:blipFill>
        <p:spPr>
          <a:xfrm>
            <a:off x="0" y="4357800"/>
            <a:ext cx="3882960" cy="2663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F:\мамино\11 класс\скульптура на урок2й3й\скульптура 11 класс\10 афина промахос.jpg"/>
          <p:cNvPicPr/>
          <p:nvPr/>
        </p:nvPicPr>
        <p:blipFill>
          <a:blip r:embed="rId3"/>
          <a:stretch/>
        </p:blipFill>
        <p:spPr>
          <a:xfrm>
            <a:off x="7358040" y="0"/>
            <a:ext cx="2016000" cy="3600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F:\мамино\11 класс\скульптура на урок2й3й\3_1_1_Iskusstvo_Drevnej_Grecii_Klassika_files\4.jpg"/>
          <p:cNvPicPr/>
          <p:nvPr/>
        </p:nvPicPr>
        <p:blipFill>
          <a:blip r:embed="rId4"/>
          <a:stretch/>
        </p:blipFill>
        <p:spPr>
          <a:xfrm>
            <a:off x="2643120" y="642960"/>
            <a:ext cx="4392720" cy="295272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3"/>
          <p:cNvSpPr/>
          <p:nvPr/>
        </p:nvSpPr>
        <p:spPr>
          <a:xfrm>
            <a:off x="-142920" y="39290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рон « Дискобол», « Афина и Марсий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3000240" y="357192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идий. Статуя Зевса Олимпийског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TextBox 15"/>
          <p:cNvSpPr/>
          <p:nvPr/>
        </p:nvSpPr>
        <p:spPr>
          <a:xfrm>
            <a:off x="7643880" y="357192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идий Афи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махо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5" name="Picture 6" descr="C:\Documents and Settings\Admin\Рабочий стол\Худ культура 9 класс\античность среднев\иллюстрации\дорифорpg.jpg"/>
          <p:cNvPicPr/>
          <p:nvPr/>
        </p:nvPicPr>
        <p:blipFill>
          <a:blip r:embed="rId5"/>
          <a:stretch/>
        </p:blipFill>
        <p:spPr>
          <a:xfrm>
            <a:off x="4429080" y="3929040"/>
            <a:ext cx="2781360" cy="32511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"/>
          <p:cNvSpPr/>
          <p:nvPr/>
        </p:nvSpPr>
        <p:spPr>
          <a:xfrm>
            <a:off x="7250400" y="47862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ликле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 Дорифор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рупнейшие европейские стили.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Античность </a:t>
            </a:r>
            <a:br>
              <a:rPr sz="4400"/>
            </a:br>
            <a:endParaRPr b="0" lang="en-US" sz="5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4268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6000"/>
          </a:bodyPr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mbria"/>
            </a:endParaRPr>
          </a:p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ерик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3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4560" y="1285560"/>
            <a:ext cx="4041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Окт</a:t>
            </a: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иан Август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84" name="Содержимое 9" descr="август_XL.jpg"/>
          <p:cNvPicPr/>
          <p:nvPr/>
        </p:nvPicPr>
        <p:blipFill>
          <a:blip r:embed="rId1"/>
          <a:stretch/>
        </p:blipFill>
        <p:spPr>
          <a:xfrm>
            <a:off x="4857840" y="2214720"/>
            <a:ext cx="3570120" cy="42145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2" descr="перикл.jpg"/>
          <p:cNvPicPr/>
          <p:nvPr/>
        </p:nvPicPr>
        <p:blipFill>
          <a:blip r:embed="rId2"/>
          <a:stretch/>
        </p:blipFill>
        <p:spPr>
          <a:xfrm>
            <a:off x="357120" y="2214720"/>
            <a:ext cx="35704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Живопись классического период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38" name="Picture 2" descr="C:\Documents and Settings\Admin\Рабочий стол\Худ культура 9 класс\античность среднев\иллюстрации\гр ныр.jpg"/>
          <p:cNvPicPr/>
          <p:nvPr/>
        </p:nvPicPr>
        <p:blipFill>
          <a:blip r:embed="rId1"/>
          <a:stretch/>
        </p:blipFill>
        <p:spPr>
          <a:xfrm>
            <a:off x="4017960" y="1000080"/>
            <a:ext cx="5126040" cy="3203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C:\Documents and Settings\Admin\Рабочий стол\Худ культура 9 класс\античность среднев\иллюстрации\гр ныр1.jpg"/>
          <p:cNvPicPr/>
          <p:nvPr/>
        </p:nvPicPr>
        <p:blipFill>
          <a:blip r:embed="rId2"/>
          <a:stretch/>
        </p:blipFill>
        <p:spPr>
          <a:xfrm>
            <a:off x="-2357280" y="3705120"/>
            <a:ext cx="7619760" cy="3152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C:\Documents and Settings\Admin\Рабочий стол\Худ культура 9 класс\античность среднев\иллюстрации\0_383ef_246dfdea_XL.jpg"/>
          <p:cNvPicPr/>
          <p:nvPr/>
        </p:nvPicPr>
        <p:blipFill>
          <a:blip r:embed="rId3"/>
          <a:stretch/>
        </p:blipFill>
        <p:spPr>
          <a:xfrm>
            <a:off x="-2143080" y="1143000"/>
            <a:ext cx="5178240" cy="2627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C:\Documents and Settings\Admin\Рабочий стол\Худ культура 9 класс\античность среднев\иллюстрации\сц охоты.jpg"/>
          <p:cNvPicPr/>
          <p:nvPr/>
        </p:nvPicPr>
        <p:blipFill>
          <a:blip r:embed="rId4"/>
          <a:stretch/>
        </p:blipFill>
        <p:spPr>
          <a:xfrm>
            <a:off x="5483160" y="3870360"/>
            <a:ext cx="3660840" cy="2987640"/>
          </a:xfrm>
          <a:prstGeom prst="rect">
            <a:avLst/>
          </a:prstGeom>
          <a:ln w="0">
            <a:noFill/>
          </a:ln>
        </p:spPr>
      </p:pic>
      <p:sp>
        <p:nvSpPr>
          <p:cNvPr id="542" name="TextBox 6"/>
          <p:cNvSpPr/>
          <p:nvPr/>
        </p:nvSpPr>
        <p:spPr>
          <a:xfrm>
            <a:off x="2357280" y="642960"/>
            <a:ext cx="30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Гробница Ныряльщик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здняя классик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857160"/>
            <a:ext cx="52164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Эсхил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526 - 456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«Персы», «Агамемнон», «Прометей Прикованный »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«Медея»,«Киклоп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000760" y="1000080"/>
            <a:ext cx="4286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офокл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90 - е гг. V в-406г. До н.э.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"Царь Эдип», «Антигона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46" name="Picture 2" descr="C:\Documents and Settings\Admin\Рабочий стол\Худ культура 9 класс\античность среднев\иллюстрации\Софокл.jpg"/>
          <p:cNvPicPr/>
          <p:nvPr/>
        </p:nvPicPr>
        <p:blipFill>
          <a:blip r:embed="rId1"/>
          <a:stretch/>
        </p:blipFill>
        <p:spPr>
          <a:xfrm>
            <a:off x="6357960" y="2286000"/>
            <a:ext cx="2279520" cy="2735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C:\Documents and Settings\Admin\Рабочий стол\Худ культура 9 класс\античность среднев\иллюстрации\Эсхилpg.jpg"/>
          <p:cNvPicPr/>
          <p:nvPr/>
        </p:nvPicPr>
        <p:blipFill>
          <a:blip r:embed="rId2"/>
          <a:stretch/>
        </p:blipFill>
        <p:spPr>
          <a:xfrm>
            <a:off x="0" y="221472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C:\Documents and Settings\Admin\Рабочий стол\Худ культура 9 класс\античность среднев\иллюстрации\Новая папка\Еврипидdsggd.jpg"/>
          <p:cNvPicPr/>
          <p:nvPr/>
        </p:nvPicPr>
        <p:blipFill>
          <a:blip r:embed="rId3"/>
          <a:stretch/>
        </p:blipFill>
        <p:spPr>
          <a:xfrm>
            <a:off x="2428920" y="442908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549" name="TextBox 7"/>
          <p:cNvSpPr/>
          <p:nvPr/>
        </p:nvSpPr>
        <p:spPr>
          <a:xfrm>
            <a:off x="2214720" y="3071880"/>
            <a:ext cx="41256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mbria"/>
              </a:rPr>
              <a:t>Эврипид</a:t>
            </a: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446 - ок. 385 г. до н э.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50" name="Picture 2" descr="C:\Documents and Settings\Admin\Рабочий стол\Худ культура 9 класс\античность среднев\иллюстрации\280px-Bust_Alexander_BM_1857.jpg"/>
          <p:cNvPicPr/>
          <p:nvPr/>
        </p:nvPicPr>
        <p:blipFill>
          <a:blip r:embed="rId4"/>
          <a:stretch/>
        </p:blipFill>
        <p:spPr>
          <a:xfrm>
            <a:off x="6429240" y="-571680"/>
            <a:ext cx="1094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Галикарнасский мавзолей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52" name="Picture 3" descr="C:\Documents and Settings\Admin\Рабочий стол\Худ культура 9 класс\античность среднев\иллюстрации\галикарнjpg.jpg"/>
          <p:cNvPicPr/>
          <p:nvPr/>
        </p:nvPicPr>
        <p:blipFill>
          <a:blip r:embed="rId1"/>
          <a:stretch/>
        </p:blipFill>
        <p:spPr>
          <a:xfrm>
            <a:off x="428760" y="1428840"/>
            <a:ext cx="3301920" cy="29462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C:\Documents and Settings\Admin\Рабочий стол\Худ культура 9 класс\античность среднев\иллюстрации\Galikarnasskii-mavzolei1.jpg"/>
          <p:cNvPicPr/>
          <p:nvPr/>
        </p:nvPicPr>
        <p:blipFill>
          <a:blip r:embed="rId2"/>
          <a:stretch/>
        </p:blipFill>
        <p:spPr>
          <a:xfrm>
            <a:off x="3929040" y="1428840"/>
            <a:ext cx="5048280" cy="3343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C:\Documents and Settings\Admin\Рабочий стол\Худ культура 9 класс\античность среднев\иллюстрации\галикарн.jpg"/>
          <p:cNvPicPr/>
          <p:nvPr/>
        </p:nvPicPr>
        <p:blipFill>
          <a:blip r:embed="rId3"/>
          <a:stretch/>
        </p:blipFill>
        <p:spPr>
          <a:xfrm>
            <a:off x="214200" y="4429080"/>
            <a:ext cx="3565800" cy="2735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C:\Documents and Settings\Admin\Рабочий стол\Худ культура 9 класс\античность среднев\иллюстрации\мавсол и артемисияjpg.jpg"/>
          <p:cNvPicPr/>
          <p:nvPr/>
        </p:nvPicPr>
        <p:blipFill>
          <a:blip r:embed="rId4"/>
          <a:stretch/>
        </p:blipFill>
        <p:spPr>
          <a:xfrm>
            <a:off x="3786120" y="5040360"/>
            <a:ext cx="3267000" cy="36352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0"/>
          <p:cNvSpPr/>
          <p:nvPr/>
        </p:nvSpPr>
        <p:spPr>
          <a:xfrm>
            <a:off x="6929280" y="578628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авсол и Артемиси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C:\Documents and Settings\Admin\Рабочий стол\Худ культура 9 класс\античность среднев\иллюстрации\скопас 2 менада2jpg.jpg"/>
          <p:cNvPicPr/>
          <p:nvPr/>
        </p:nvPicPr>
        <p:blipFill>
          <a:blip r:embed="rId1"/>
          <a:stretch/>
        </p:blipFill>
        <p:spPr>
          <a:xfrm>
            <a:off x="0" y="0"/>
            <a:ext cx="1979640" cy="3672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F:\мамино\11 класс\скульптура на урок2й3й\скульптура 11 класс\13. статуя афродиты книдской.jpg"/>
          <p:cNvPicPr/>
          <p:nvPr/>
        </p:nvPicPr>
        <p:blipFill>
          <a:blip r:embed="rId2"/>
          <a:stretch/>
        </p:blipFill>
        <p:spPr>
          <a:xfrm>
            <a:off x="6929280" y="0"/>
            <a:ext cx="1584360" cy="3384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C:\Documents and Settings\Admin\Рабочий стол\Худ культура 9 класс\античность среднев\иллюстрации\Гермесjpg.jpg"/>
          <p:cNvPicPr/>
          <p:nvPr/>
        </p:nvPicPr>
        <p:blipFill>
          <a:blip r:embed="rId3"/>
          <a:stretch/>
        </p:blipFill>
        <p:spPr>
          <a:xfrm>
            <a:off x="4500720" y="0"/>
            <a:ext cx="1776240" cy="3132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8"/>
          <p:cNvSpPr/>
          <p:nvPr/>
        </p:nvSpPr>
        <p:spPr>
          <a:xfrm>
            <a:off x="0" y="371484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копа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Менад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TextBox 9"/>
          <p:cNvSpPr/>
          <p:nvPr/>
        </p:nvSpPr>
        <p:spPr>
          <a:xfrm>
            <a:off x="4572000" y="321480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акситель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Герме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 младенцем Дионисом»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TextBox 10"/>
          <p:cNvSpPr/>
          <p:nvPr/>
        </p:nvSpPr>
        <p:spPr>
          <a:xfrm>
            <a:off x="6929280" y="3429000"/>
            <a:ext cx="150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акситель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Афрод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нидская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3" name="Picture 5" descr="C:\Documents and Settings\Admin\Рабочий стол\Худ культура 9 класс\античность среднев\иллюстрации\czar02.jpg"/>
          <p:cNvPicPr/>
          <p:nvPr/>
        </p:nvPicPr>
        <p:blipFill>
          <a:blip r:embed="rId4"/>
          <a:stretch/>
        </p:blipFill>
        <p:spPr>
          <a:xfrm>
            <a:off x="0" y="4357800"/>
            <a:ext cx="2090880" cy="324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C:\Documents and Settings\Admin\Рабочий стол\Худ культура 9 класс\античность среднев\иллюстрации\granik.jpg"/>
          <p:cNvPicPr/>
          <p:nvPr/>
        </p:nvPicPr>
        <p:blipFill>
          <a:blip r:embed="rId5"/>
          <a:stretch/>
        </p:blipFill>
        <p:spPr>
          <a:xfrm>
            <a:off x="2143080" y="4214880"/>
            <a:ext cx="4803840" cy="341928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14"/>
          <p:cNvSpPr/>
          <p:nvPr/>
        </p:nvSpPr>
        <p:spPr>
          <a:xfrm>
            <a:off x="6814440" y="500076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итва Александ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 Дарием при Иссах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6" name="Picture 7" descr="F:\мамино\11 класс\скульптура на урок2й3й\скульптура 11 класс\19 апллон бельведерский Леохар.jpg"/>
          <p:cNvPicPr/>
          <p:nvPr/>
        </p:nvPicPr>
        <p:blipFill>
          <a:blip r:embed="rId6"/>
          <a:stretch/>
        </p:blipFill>
        <p:spPr>
          <a:xfrm>
            <a:off x="2428920" y="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567" name="TextBox 16"/>
          <p:cNvSpPr/>
          <p:nvPr/>
        </p:nvSpPr>
        <p:spPr>
          <a:xfrm>
            <a:off x="2277000" y="328608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Леохар « Аполл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ельведерский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5.Эллинистическая  культура </a:t>
            </a:r>
            <a:br>
              <a:rPr sz="40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конец IVст. до. н.э -I ст. н.э.)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1071720"/>
            <a:ext cx="436104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Александрийский  маяк бы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репостью -форпостом Александри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 наблюдательным пунктом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 построен  в  виде трехэтажной башни высотой 120 метров. На третьем этаже, в круглой, обнесенной колоннами башне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чно горел громадный костер, отражавшийся сложной системой зеркал. Дрова для костра доставлялись наверх по спиральной лестнице, такой пологой и широкой, что по ней на стометровую высоту въезжали повозки, запряженные ослам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а башне находилось множество остроумных технических приспособлений: флюгера, астрономические приборы, час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929280" y="928800"/>
            <a:ext cx="221472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Маяк был настолько великолепен, что Сострат Книдский, его  создатель, страшась забвения, пошел на рискованное нарушение указов Птоломеев.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В основании маяка он высек надпись: "Сострат, сын Декстифона из Книда, посвятил богам-спасителям ради мореплавателей". Надпись он прикрыл слоем штукатурки, на которой было вырезано имя Птоломея Сотера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1" name="Picture 2" descr="C:\Documents and Settings\Admin\Рабочий стол\Худ культура 9 класс\античность среднев\иллюстрации\faros_mayak3.jpg"/>
          <p:cNvPicPr/>
          <p:nvPr/>
        </p:nvPicPr>
        <p:blipFill>
          <a:blip r:embed="rId1"/>
          <a:stretch/>
        </p:blipFill>
        <p:spPr>
          <a:xfrm>
            <a:off x="4357800" y="1428840"/>
            <a:ext cx="3052800" cy="4176720"/>
          </a:xfrm>
          <a:prstGeom prst="rect">
            <a:avLst/>
          </a:prstGeom>
          <a:ln w="0">
            <a:noFill/>
          </a:ln>
        </p:spPr>
      </p:pic>
      <p:sp>
        <p:nvSpPr>
          <p:cNvPr id="572" name="TextBox 6"/>
          <p:cNvSpPr/>
          <p:nvPr/>
        </p:nvSpPr>
        <p:spPr>
          <a:xfrm>
            <a:off x="4591080" y="600084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Александрийский маяк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острат Книд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ергамский алтарь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74" name="Picture 2" descr="C:\Documents and Settings\Admin\Рабочий стол\Худ культура 9 класс\античность среднев\иллюстрации\перг алт.jpg"/>
          <p:cNvPicPr/>
          <p:nvPr/>
        </p:nvPicPr>
        <p:blipFill>
          <a:blip r:embed="rId1"/>
          <a:stretch/>
        </p:blipFill>
        <p:spPr>
          <a:xfrm>
            <a:off x="-500040" y="738360"/>
            <a:ext cx="4743360" cy="61196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C:\Documents and Settings\Admin\Рабочий стол\Худ культура 9 класс\античность среднев\иллюстрации\sпергам Борьба афины с гигантомpg.jpg"/>
          <p:cNvPicPr/>
          <p:nvPr/>
        </p:nvPicPr>
        <p:blipFill>
          <a:blip r:embed="rId2"/>
          <a:stretch/>
        </p:blipFill>
        <p:spPr>
          <a:xfrm>
            <a:off x="4429080" y="857160"/>
            <a:ext cx="4923000" cy="28796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C:\Documents and Settings\Admin\Рабочий стол\Худ культура 9 класс\античность среднев\иллюстрации\борьба зевса с гигантами.jpg"/>
          <p:cNvPicPr/>
          <p:nvPr/>
        </p:nvPicPr>
        <p:blipFill>
          <a:blip r:embed="rId3"/>
          <a:stretch/>
        </p:blipFill>
        <p:spPr>
          <a:xfrm>
            <a:off x="4429080" y="3978360"/>
            <a:ext cx="4881600" cy="2879640"/>
          </a:xfrm>
          <a:prstGeom prst="rect">
            <a:avLst/>
          </a:prstGeom>
          <a:ln w="0">
            <a:noFill/>
          </a:ln>
        </p:spPr>
      </p:pic>
      <p:sp>
        <p:nvSpPr>
          <p:cNvPr id="577" name="TextBox 9"/>
          <p:cNvSpPr/>
          <p:nvPr/>
        </p:nvSpPr>
        <p:spPr>
          <a:xfrm>
            <a:off x="4643280" y="37148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рьба Зевса с гигантами ( фрагмент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TextBox 10"/>
          <p:cNvSpPr/>
          <p:nvPr/>
        </p:nvSpPr>
        <p:spPr>
          <a:xfrm>
            <a:off x="4816080" y="571680"/>
            <a:ext cx="48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рьба Афины с гигантом ( фрагмент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ocuments and Settings\Admin\Рабочий стол\11 класс для уроков\контрольные 11 класс\скульптура Контрольная\Новая папка\09 агесандр афродита милосская.jpg"/>
          <p:cNvPicPr/>
          <p:nvPr/>
        </p:nvPicPr>
        <p:blipFill>
          <a:blip r:embed="rId1"/>
          <a:stretch/>
        </p:blipFill>
        <p:spPr>
          <a:xfrm>
            <a:off x="0" y="0"/>
            <a:ext cx="1495440" cy="3708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C:\Documents and Settings\Admin\Рабочий стол\11 класс для уроков\контрольные 11 класс\скульптура Контрольная\Новая папка\11 ника Самофрауийская.jpg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3527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C:\Documents and Settings\Admin\Рабочий стол\11 класс для уроков\контрольные 11 класс\скульптура Контрольная\Новая папка\07 Лаокоон.jpg"/>
          <p:cNvPicPr/>
          <p:nvPr/>
        </p:nvPicPr>
        <p:blipFill>
          <a:blip r:embed="rId3"/>
          <a:stretch/>
        </p:blipFill>
        <p:spPr>
          <a:xfrm>
            <a:off x="1928880" y="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4"/>
          <p:cNvSpPr/>
          <p:nvPr/>
        </p:nvSpPr>
        <p:spPr>
          <a:xfrm>
            <a:off x="2000160" y="40006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кульптурная групп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Лаокоон с сыновьями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6357960" y="35002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еизвестный ав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Ника Самофракийская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Прямоугольник 7"/>
          <p:cNvSpPr/>
          <p:nvPr/>
        </p:nvSpPr>
        <p:spPr>
          <a:xfrm>
            <a:off x="2000160" y="3929040"/>
            <a:ext cx="35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гесандр, Полидор. Атенод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0" y="3643200"/>
            <a:ext cx="15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гесанд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Венера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илосская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86" name="Picture 6" descr="C:\Documents and Settings\Admin\Рабочий стол\Худ культура 9 класс\античность среднев\иллюстрации\30238692.jpg"/>
          <p:cNvPicPr/>
          <p:nvPr/>
        </p:nvPicPr>
        <p:blipFill>
          <a:blip r:embed="rId4"/>
          <a:stretch/>
        </p:blipFill>
        <p:spPr>
          <a:xfrm>
            <a:off x="5286240" y="4429080"/>
            <a:ext cx="2678400" cy="3311640"/>
          </a:xfrm>
          <a:prstGeom prst="rect">
            <a:avLst/>
          </a:prstGeom>
          <a:ln w="0">
            <a:noFill/>
          </a:ln>
        </p:spPr>
      </p:pic>
      <p:sp>
        <p:nvSpPr>
          <p:cNvPr id="587" name="TextBox 11"/>
          <p:cNvSpPr/>
          <p:nvPr/>
        </p:nvSpPr>
        <p:spPr>
          <a:xfrm>
            <a:off x="2857680" y="55720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амея Гонзаг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ультура Древнего Рима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1071720" y="1000080"/>
            <a:ext cx="6715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ультура древнего Рима представлена ​​следующими периодами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:</a:t>
            </a:r>
            <a:br>
              <a:rPr sz="1800"/>
            </a:b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Царский период - VIII-VI вв до н. есть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Республиканский период-V-I вв до н.е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Имперский период-I-V вв н.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90" name="Picture 2" descr="C:\Documents and Settings\Admin\Рабочий стол\Худ культура 9 класс\античность среднев\иллюстрации\римск форум.jpg"/>
          <p:cNvPicPr/>
          <p:nvPr/>
        </p:nvPicPr>
        <p:blipFill>
          <a:blip r:embed="rId1"/>
          <a:stretch/>
        </p:blipFill>
        <p:spPr>
          <a:xfrm>
            <a:off x="571680" y="3143160"/>
            <a:ext cx="7041960" cy="3456000"/>
          </a:xfrm>
          <a:prstGeom prst="rect">
            <a:avLst/>
          </a:prstGeom>
          <a:ln w="0">
            <a:noFill/>
          </a:ln>
        </p:spPr>
      </p:pic>
      <p:sp>
        <p:nvSpPr>
          <p:cNvPr id="591" name="TextBox 7"/>
          <p:cNvSpPr/>
          <p:nvPr/>
        </p:nvSpPr>
        <p:spPr>
          <a:xfrm>
            <a:off x="7810200" y="4000680"/>
            <a:ext cx="12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Рим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ору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3" descr="C:\Documents and Settings\Admin\Рабочий стол\Худ культура 9 класс\античность среднев\иллюстрации\Kolizey-v-Rime-foto-17.jpg"/>
          <p:cNvPicPr/>
          <p:nvPr/>
        </p:nvPicPr>
        <p:blipFill>
          <a:blip r:embed="rId1"/>
          <a:stretch/>
        </p:blipFill>
        <p:spPr>
          <a:xfrm>
            <a:off x="0" y="3402000"/>
            <a:ext cx="4321080" cy="3456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C:\Documents and Settings\Admin\Рабочий стол\Худ культура 9 класс\античность среднев\иллюстрации\колонна траяна.jpg"/>
          <p:cNvPicPr/>
          <p:nvPr/>
        </p:nvPicPr>
        <p:blipFill>
          <a:blip r:embed="rId2"/>
          <a:stretch/>
        </p:blipFill>
        <p:spPr>
          <a:xfrm>
            <a:off x="6000840" y="3214800"/>
            <a:ext cx="2973240" cy="4464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C:\Documents and Settings\Admin\Рабочий стол\Худ культура 9 класс\античность среднев\иллюстрации\пантеон715.jpg"/>
          <p:cNvPicPr/>
          <p:nvPr/>
        </p:nvPicPr>
        <p:blipFill>
          <a:blip r:embed="rId3"/>
          <a:stretch/>
        </p:blipFill>
        <p:spPr>
          <a:xfrm>
            <a:off x="0" y="0"/>
            <a:ext cx="4227480" cy="31687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C:\Documents and Settings\Admin\Рабочий стол\Худ культура 9 класс\античность среднев\иллюстрации\rim-panteon.jpg"/>
          <p:cNvPicPr/>
          <p:nvPr/>
        </p:nvPicPr>
        <p:blipFill>
          <a:blip r:embed="rId4"/>
          <a:stretch/>
        </p:blipFill>
        <p:spPr>
          <a:xfrm>
            <a:off x="5932440" y="0"/>
            <a:ext cx="3211560" cy="3168720"/>
          </a:xfrm>
          <a:prstGeom prst="rect">
            <a:avLst/>
          </a:prstGeom>
          <a:ln w="0">
            <a:noFill/>
          </a:ln>
        </p:spPr>
      </p:pic>
      <p:sp>
        <p:nvSpPr>
          <p:cNvPr id="596" name="TextBox 7"/>
          <p:cNvSpPr/>
          <p:nvPr/>
        </p:nvSpPr>
        <p:spPr>
          <a:xfrm>
            <a:off x="4357800" y="64296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антеон-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храм всех бог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TextBox 8"/>
          <p:cNvSpPr/>
          <p:nvPr/>
        </p:nvSpPr>
        <p:spPr>
          <a:xfrm>
            <a:off x="5857920" y="32860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олонна Трая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TextBox 9"/>
          <p:cNvSpPr/>
          <p:nvPr/>
        </p:nvSpPr>
        <p:spPr>
          <a:xfrm>
            <a:off x="4321440" y="40006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олизе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C:\Documents and Settings\Admin\Рабочий стол\Худ культура 9 класс\античность среднев\иллюстрации\каракалла.jpg"/>
          <p:cNvPicPr/>
          <p:nvPr/>
        </p:nvPicPr>
        <p:blipFill>
          <a:blip r:embed="rId1"/>
          <a:stretch/>
        </p:blipFill>
        <p:spPr>
          <a:xfrm>
            <a:off x="0" y="0"/>
            <a:ext cx="3441600" cy="4176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C:\Documents and Settings\Admin\Рабочий стол\Худ культура 9 класс\античность среднев\иллюстрации\октавиан Август.jpg"/>
          <p:cNvPicPr/>
          <p:nvPr/>
        </p:nvPicPr>
        <p:blipFill>
          <a:blip r:embed="rId2"/>
          <a:stretch/>
        </p:blipFill>
        <p:spPr>
          <a:xfrm>
            <a:off x="6350040" y="0"/>
            <a:ext cx="2735280" cy="41036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C:\Documents and Settings\Admin\Рабочий стол\Худ культура 9 класс\античность среднев\иллюстрации\476px-ImageRomeArchofTitus02.jpg"/>
          <p:cNvPicPr/>
          <p:nvPr/>
        </p:nvPicPr>
        <p:blipFill>
          <a:blip r:embed="rId3"/>
          <a:stretch/>
        </p:blipFill>
        <p:spPr>
          <a:xfrm>
            <a:off x="3357720" y="3000240"/>
            <a:ext cx="32335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6"/>
          <p:cNvSpPr/>
          <p:nvPr/>
        </p:nvSpPr>
        <p:spPr>
          <a:xfrm>
            <a:off x="158400" y="40719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мператор Каракалл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3" name="TextBox 7"/>
          <p:cNvSpPr/>
          <p:nvPr/>
        </p:nvSpPr>
        <p:spPr>
          <a:xfrm>
            <a:off x="6615000" y="43578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мператор Авгус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3357720" y="252396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риумфальная арка Т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7" descr="raffael-the-school-of-athens.jpg"/>
          <p:cNvPicPr/>
          <p:nvPr/>
        </p:nvPicPr>
        <p:blipFill>
          <a:blip r:embed="rId1"/>
          <a:stretch/>
        </p:blipFill>
        <p:spPr>
          <a:xfrm>
            <a:off x="0" y="1357200"/>
            <a:ext cx="6137280" cy="4572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Admin\Рабочий стол\Худ культура 9 класс\античность среднев\иллюстрации\ЭвклидStatueOxford.jpg"/>
          <p:cNvPicPr/>
          <p:nvPr/>
        </p:nvPicPr>
        <p:blipFill>
          <a:blip r:embed="rId2"/>
          <a:stretch/>
        </p:blipFill>
        <p:spPr>
          <a:xfrm>
            <a:off x="6429240" y="3286080"/>
            <a:ext cx="2341800" cy="32083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евняя Греция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00040" y="642600"/>
            <a:ext cx="55008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Рафаэль « Афинская школа» Платон и Аристотель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71760" y="2928960"/>
            <a:ext cx="2622600" cy="31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Эвклид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1" name="Picture 3" descr="C:\Documents and Settings\Admin\Рабочий стол\Худ культура 9 класс\античность среднев\иллюстрации\Платон и арист.jpg"/>
          <p:cNvPicPr/>
          <p:nvPr/>
        </p:nvPicPr>
        <p:blipFill>
          <a:blip r:embed="rId3"/>
          <a:stretch/>
        </p:blipFill>
        <p:spPr>
          <a:xfrm>
            <a:off x="6238800" y="0"/>
            <a:ext cx="2905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:\Documents and Settings\Admin\Рабочий стол\Худ культура 9 класс\античность среднев\иллюстрации\342px-Fayum-Man-Gold-Crown.jpg"/>
          <p:cNvPicPr/>
          <p:nvPr/>
        </p:nvPicPr>
        <p:blipFill>
          <a:blip r:embed="rId1"/>
          <a:stretch/>
        </p:blipFill>
        <p:spPr>
          <a:xfrm>
            <a:off x="142920" y="714240"/>
            <a:ext cx="2297160" cy="40323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Фаюмские портреты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607" name="Picture 3" descr="C:\Documents and Settings\Admin\Рабочий стол\Худ культура 9 класс\античность среднев\иллюстрации\450px-Portrait_du_Fayoum_01a.JPG"/>
          <p:cNvPicPr/>
          <p:nvPr/>
        </p:nvPicPr>
        <p:blipFill>
          <a:blip r:embed="rId2"/>
          <a:stretch/>
        </p:blipFill>
        <p:spPr>
          <a:xfrm>
            <a:off x="2714760" y="714240"/>
            <a:ext cx="3051000" cy="406872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0"/>
          <p:cNvSpPr/>
          <p:nvPr/>
        </p:nvSpPr>
        <p:spPr>
          <a:xfrm>
            <a:off x="2643120" y="47862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молодой девушк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09" name="Picture 5" descr="C:\Documents and Settings\Admin\Рабочий стол\Худ культура 9 класс\античность среднев\иллюстрации\Portrait_d’homme_barbu.jpg"/>
          <p:cNvPicPr/>
          <p:nvPr/>
        </p:nvPicPr>
        <p:blipFill>
          <a:blip r:embed="rId3"/>
          <a:stretch/>
        </p:blipFill>
        <p:spPr>
          <a:xfrm>
            <a:off x="6072120" y="714240"/>
            <a:ext cx="2933640" cy="4032360"/>
          </a:xfrm>
          <a:prstGeom prst="rect">
            <a:avLst/>
          </a:prstGeom>
          <a:ln w="0">
            <a:noFill/>
          </a:ln>
        </p:spPr>
      </p:pic>
      <p:sp>
        <p:nvSpPr>
          <p:cNvPr id="610" name="TextBox 12"/>
          <p:cNvSpPr/>
          <p:nvPr/>
        </p:nvSpPr>
        <p:spPr>
          <a:xfrm>
            <a:off x="6357960" y="471492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мужчины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 растением в руках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285840" y="47149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юнош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TextBox 14"/>
          <p:cNvSpPr/>
          <p:nvPr/>
        </p:nvSpPr>
        <p:spPr>
          <a:xfrm>
            <a:off x="428760" y="5214960"/>
            <a:ext cx="8386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аюмские портреты — лучшие сохранившиеся образцы античной живописи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и изображают лица жителей древнего Египта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Эллинистический и Римский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ериоды в I—III веках нашей эры. Ранние фаюмские портреты выполнены в технике  энкаустики- это восковая живопись расплавленными красками. Портрет заменяет традиционную погребальную маску на муми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614" name="Picture 3" descr="C:\Documents and Settings\Admin\Рабочий стол\Худ культура 9 класс\античность среднев\иллюстрации\КЛЕОПАТРАpg.jpg"/>
          <p:cNvPicPr/>
          <p:nvPr/>
        </p:nvPicPr>
        <p:blipFill>
          <a:blip r:embed="rId1"/>
          <a:stretch/>
        </p:blipFill>
        <p:spPr>
          <a:xfrm>
            <a:off x="142920" y="714240"/>
            <a:ext cx="2286000" cy="2826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C:\Documents and Settings\Admin\Рабочий стол\Худ культура 9 класс\античность среднев\иллюстрации\241418-Leyzif2000.jpg"/>
          <p:cNvPicPr/>
          <p:nvPr/>
        </p:nvPicPr>
        <p:blipFill>
          <a:blip r:embed="rId2"/>
          <a:stretch/>
        </p:blipFill>
        <p:spPr>
          <a:xfrm>
            <a:off x="1714680" y="3643200"/>
            <a:ext cx="5400360" cy="36482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Documents and Settings\Admin\Рабочий стол\Худ культура 9 класс\античность среднев\иллюстрации\МАРК АНТОНИЙjpg.jpg"/>
          <p:cNvPicPr/>
          <p:nvPr/>
        </p:nvPicPr>
        <p:blipFill>
          <a:blip r:embed="rId3"/>
          <a:stretch/>
        </p:blipFill>
        <p:spPr>
          <a:xfrm>
            <a:off x="2786040" y="857160"/>
            <a:ext cx="1714680" cy="2411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C:\Documents and Settings\Admin\Рабочий стол\Худ культура 9 класс\античность среднев\иллюстрации\ЮЛИЙ ЦЕЗАРЬjpg.jpg"/>
          <p:cNvPicPr/>
          <p:nvPr/>
        </p:nvPicPr>
        <p:blipFill>
          <a:blip r:embed="rId4"/>
          <a:stretch/>
        </p:blipFill>
        <p:spPr>
          <a:xfrm>
            <a:off x="4929120" y="571680"/>
            <a:ext cx="3452760" cy="27349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C:\Documents and Settings\Admin\Рабочий стол\Худ культура 9 класс\античность среднев\иллюстрации\НЕРОН.JPG"/>
          <p:cNvPicPr/>
          <p:nvPr/>
        </p:nvPicPr>
        <p:blipFill>
          <a:blip r:embed="rId5"/>
          <a:stretch/>
        </p:blipFill>
        <p:spPr>
          <a:xfrm>
            <a:off x="7048440" y="3429000"/>
            <a:ext cx="2095560" cy="3124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C:\Documents and Settings\Admin\Рабочий стол\Худ культура 9 класс\античность среднев\иллюстрации\КАЛИГУЛА.jpg"/>
          <p:cNvPicPr/>
          <p:nvPr/>
        </p:nvPicPr>
        <p:blipFill>
          <a:blip r:embed="rId6"/>
          <a:stretch/>
        </p:blipFill>
        <p:spPr>
          <a:xfrm>
            <a:off x="-642960" y="3726000"/>
            <a:ext cx="2214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Documents and Settings\Admin\Рабочий стол\Худ культура 9 класс\античность среднев\иллюстрации\Зевс_nike.jpg"/>
          <p:cNvPicPr/>
          <p:nvPr/>
        </p:nvPicPr>
        <p:blipFill>
          <a:blip r:embed="rId1"/>
          <a:stretch/>
        </p:blipFill>
        <p:spPr>
          <a:xfrm>
            <a:off x="3929040" y="714240"/>
            <a:ext cx="1200240" cy="1476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Documents and Settings\Admin\Рабочий стол\Худ культура 9 класс\античность среднев\иллюстрации\посейдон.jpg"/>
          <p:cNvPicPr/>
          <p:nvPr/>
        </p:nvPicPr>
        <p:blipFill>
          <a:blip r:embed="rId2"/>
          <a:stretch/>
        </p:blipFill>
        <p:spPr>
          <a:xfrm>
            <a:off x="7215120" y="714240"/>
            <a:ext cx="1154160" cy="1368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Documents and Settings\Admin\Рабочий стол\Худ культура 9 класс\античность среднев\иллюстрации\аид.jpg"/>
          <p:cNvPicPr/>
          <p:nvPr/>
        </p:nvPicPr>
        <p:blipFill>
          <a:blip r:embed="rId3"/>
          <a:stretch/>
        </p:blipFill>
        <p:spPr>
          <a:xfrm>
            <a:off x="1428840" y="785880"/>
            <a:ext cx="939600" cy="1368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356760" y="999720"/>
            <a:ext cx="40388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Боги Древней Греции и Рима</a:t>
            </a:r>
            <a:endParaRPr b="0" lang="en-US" sz="36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7" name="TextBox 14"/>
          <p:cNvSpPr/>
          <p:nvPr/>
        </p:nvSpPr>
        <p:spPr>
          <a:xfrm>
            <a:off x="2643120" y="85716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Зев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Юпитер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TextBox 15"/>
          <p:cNvSpPr/>
          <p:nvPr/>
        </p:nvSpPr>
        <p:spPr>
          <a:xfrm>
            <a:off x="214200" y="9288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ид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Плутон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TextBox 17"/>
          <p:cNvSpPr/>
          <p:nvPr/>
        </p:nvSpPr>
        <p:spPr>
          <a:xfrm>
            <a:off x="5786280" y="8571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осейд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Нептун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0" name="Picture 5" descr="C:\Documents and Settings\Admin\Рабочий стол\Худ культура 9 класс\античность среднев\иллюстрации\Гера.jpg"/>
          <p:cNvPicPr/>
          <p:nvPr/>
        </p:nvPicPr>
        <p:blipFill>
          <a:blip r:embed="rId4"/>
          <a:stretch/>
        </p:blipFill>
        <p:spPr>
          <a:xfrm>
            <a:off x="5143680" y="2143080"/>
            <a:ext cx="803160" cy="14032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9"/>
          <p:cNvSpPr/>
          <p:nvPr/>
        </p:nvSpPr>
        <p:spPr>
          <a:xfrm>
            <a:off x="3714840" y="25002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Юнон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2" name="Picture 6" descr="C:\Documents and Settings\Admin\Рабочий стол\Худ культура 9 класс\античность среднев\иллюстрации\афина.jpg"/>
          <p:cNvPicPr/>
          <p:nvPr/>
        </p:nvPicPr>
        <p:blipFill>
          <a:blip r:embed="rId5"/>
          <a:stretch/>
        </p:blipFill>
        <p:spPr>
          <a:xfrm>
            <a:off x="1000080" y="2857680"/>
            <a:ext cx="91620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Admin\Рабочий стол\Худ культура 9 класс\античность среднев\иллюстрации\аполлон.gif"/>
          <p:cNvPicPr/>
          <p:nvPr/>
        </p:nvPicPr>
        <p:blipFill>
          <a:blip r:embed="rId6"/>
          <a:stretch/>
        </p:blipFill>
        <p:spPr>
          <a:xfrm>
            <a:off x="3929040" y="3500280"/>
            <a:ext cx="1476360" cy="1619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Admin\Рабочий стол\Худ культура 9 класс\античность среднев\иллюстрации\aртемидаjpg.jpg"/>
          <p:cNvPicPr/>
          <p:nvPr/>
        </p:nvPicPr>
        <p:blipFill>
          <a:blip r:embed="rId7"/>
          <a:stretch/>
        </p:blipFill>
        <p:spPr>
          <a:xfrm>
            <a:off x="7500960" y="2643120"/>
            <a:ext cx="969840" cy="1260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3"/>
          <p:cNvSpPr/>
          <p:nvPr/>
        </p:nvSpPr>
        <p:spPr>
          <a:xfrm>
            <a:off x="0" y="385776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фи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инерв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TextBox 24"/>
          <p:cNvSpPr/>
          <p:nvPr/>
        </p:nvSpPr>
        <p:spPr>
          <a:xfrm>
            <a:off x="2786040" y="385776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полл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TextBox 25"/>
          <p:cNvSpPr/>
          <p:nvPr/>
        </p:nvSpPr>
        <p:spPr>
          <a:xfrm>
            <a:off x="6072120" y="36432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ртемид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Диан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8" name="Picture 9" descr="C:\Documents and Settings\Admin\Рабочий стол\Худ культура 9 класс\античность среднев\иллюстрации\Афродита.jpg"/>
          <p:cNvPicPr/>
          <p:nvPr/>
        </p:nvPicPr>
        <p:blipFill>
          <a:blip r:embed="rId8"/>
          <a:stretch/>
        </p:blipFill>
        <p:spPr>
          <a:xfrm>
            <a:off x="500040" y="4857840"/>
            <a:ext cx="1244520" cy="1116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C:\Documents and Settings\Admin\Рабочий стол\Худ культура 9 класс\античность среднев\иллюстрации\дионисjpg.jpg"/>
          <p:cNvPicPr/>
          <p:nvPr/>
        </p:nvPicPr>
        <p:blipFill>
          <a:blip r:embed="rId9"/>
          <a:stretch/>
        </p:blipFill>
        <p:spPr>
          <a:xfrm>
            <a:off x="7572240" y="4429080"/>
            <a:ext cx="652680" cy="13320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0"/>
          <p:cNvSpPr/>
          <p:nvPr/>
        </p:nvSpPr>
        <p:spPr>
          <a:xfrm>
            <a:off x="448560" y="61437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фрод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енер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TextBox 31"/>
          <p:cNvSpPr/>
          <p:nvPr/>
        </p:nvSpPr>
        <p:spPr>
          <a:xfrm rot="405000">
            <a:off x="7253280" y="57481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иони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акх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TextBox 32"/>
          <p:cNvSpPr/>
          <p:nvPr/>
        </p:nvSpPr>
        <p:spPr>
          <a:xfrm>
            <a:off x="5500800" y="62118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рме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еркури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Picture 15" descr="C:\Documents and Settings\Admin\Рабочий стол\Худ культура 9 класс\античность среднев\иллюстрации\Гермес.JPG"/>
          <p:cNvPicPr/>
          <p:nvPr/>
        </p:nvPicPr>
        <p:blipFill>
          <a:blip r:embed="rId10"/>
          <a:stretch/>
        </p:blipFill>
        <p:spPr>
          <a:xfrm>
            <a:off x="5357880" y="4500720"/>
            <a:ext cx="1342800" cy="1618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8" descr="C:\Documents and Settings\Admin\Рабочий стол\Худ культура 9 класс\античность среднев\иллюстрации\c_Ares-Mars.JPG"/>
          <p:cNvPicPr/>
          <p:nvPr/>
        </p:nvPicPr>
        <p:blipFill>
          <a:blip r:embed="rId11"/>
          <a:stretch/>
        </p:blipFill>
        <p:spPr>
          <a:xfrm>
            <a:off x="1857240" y="5214960"/>
            <a:ext cx="1106640" cy="1476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8"/>
          <p:cNvSpPr/>
          <p:nvPr/>
        </p:nvSpPr>
        <p:spPr>
          <a:xfrm>
            <a:off x="2000160" y="65721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ре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арс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Picture 19" descr="C:\Documents and Settings\Admin\Рабочий стол\Худ культура 9 класс\античность среднев\иллюстрации\Гефест25.JPG"/>
          <p:cNvPicPr/>
          <p:nvPr/>
        </p:nvPicPr>
        <p:blipFill>
          <a:blip r:embed="rId12"/>
          <a:stretch/>
        </p:blipFill>
        <p:spPr>
          <a:xfrm>
            <a:off x="3214800" y="5072040"/>
            <a:ext cx="2165400" cy="16192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1"/>
          <p:cNvSpPr/>
          <p:nvPr/>
        </p:nvSpPr>
        <p:spPr>
          <a:xfrm>
            <a:off x="3357720" y="6572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фес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улкан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Герои 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19" name="Picture 2" descr="C:\Documents and Settings\Admin\Рабочий стол\Худ культура 9 класс\античность среднев\иллюстрации\Тесей и минои.jpg"/>
          <p:cNvPicPr/>
          <p:nvPr/>
        </p:nvPicPr>
        <p:blipFill>
          <a:blip r:embed="rId1"/>
          <a:stretch/>
        </p:blipFill>
        <p:spPr>
          <a:xfrm>
            <a:off x="142920" y="142920"/>
            <a:ext cx="3092400" cy="3419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Admin\Рабочий стол\Худ культура 9 класс\античность среднев\иллюстрации\лисипп pg.jpg"/>
          <p:cNvPicPr/>
          <p:nvPr/>
        </p:nvPicPr>
        <p:blipFill>
          <a:blip r:embed="rId2"/>
          <a:stretch/>
        </p:blipFill>
        <p:spPr>
          <a:xfrm>
            <a:off x="0" y="4214880"/>
            <a:ext cx="2314440" cy="3851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C:\Documents and Settings\Admin\Рабочий стол\Худ культура 9 класс\античность среднев\иллюстрации\персей.jpg"/>
          <p:cNvPicPr/>
          <p:nvPr/>
        </p:nvPicPr>
        <p:blipFill>
          <a:blip r:embed="rId3"/>
          <a:stretch/>
        </p:blipFill>
        <p:spPr>
          <a:xfrm>
            <a:off x="6143760" y="4500720"/>
            <a:ext cx="3136680" cy="3708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C:\Documents and Settings\Admin\Рабочий стол\Худ культура 9 класс\античность среднев\иллюстрации\300px-Heinrich_fueger_1817_prometheus_brings_fire_to_mankind.jpg"/>
          <p:cNvPicPr/>
          <p:nvPr/>
        </p:nvPicPr>
        <p:blipFill>
          <a:blip r:embed="rId4"/>
          <a:stretch/>
        </p:blipFill>
        <p:spPr>
          <a:xfrm>
            <a:off x="3571920" y="857160"/>
            <a:ext cx="2346120" cy="3348000"/>
          </a:xfrm>
          <a:prstGeom prst="rect">
            <a:avLst/>
          </a:prstGeom>
          <a:ln w="0">
            <a:noFill/>
          </a:ln>
        </p:spPr>
      </p:pic>
      <p:sp>
        <p:nvSpPr>
          <p:cNvPr id="423" name="TextBox 19"/>
          <p:cNvSpPr/>
          <p:nvPr/>
        </p:nvSpPr>
        <p:spPr>
          <a:xfrm>
            <a:off x="1643040" y="43578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Лисипп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Геракл со львом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7643880" y="6643800"/>
            <a:ext cx="150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анов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Персей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 головой Медузы»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TextBox 10"/>
          <p:cNvSpPr/>
          <p:nvPr/>
        </p:nvSpPr>
        <p:spPr>
          <a:xfrm>
            <a:off x="285840" y="3571920"/>
            <a:ext cx="29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Ж. Раме «Тесей и Минотавр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6" name="Picture 2" descr="C:\Documents and Settings\Admin\Рабочий стол\Худ культура 9 класс\античность среднев\иллюстрации\theseus_minotaurus_3.gif"/>
          <p:cNvPicPr/>
          <p:nvPr/>
        </p:nvPicPr>
        <p:blipFill>
          <a:blip r:embed="rId5"/>
          <a:stretch/>
        </p:blipFill>
        <p:spPr>
          <a:xfrm>
            <a:off x="3214800" y="4714920"/>
            <a:ext cx="2600280" cy="285732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2"/>
          <p:cNvSpPr/>
          <p:nvPr/>
        </p:nvSpPr>
        <p:spPr>
          <a:xfrm>
            <a:off x="3214800" y="750096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Тесей и Минотавр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рагмент чернофигурно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азопис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3286080" y="3214800"/>
            <a:ext cx="314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. Фюгер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Прометей несёт людям огонь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TextBox 14"/>
          <p:cNvSpPr/>
          <p:nvPr/>
        </p:nvSpPr>
        <p:spPr>
          <a:xfrm>
            <a:off x="6143760" y="385776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Ясон и золотое руно»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рагмент чернофигурной вазопис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0" name="Picture 3" descr="C:\Documents and Settings\Admin\Рабочий стол\Худ культура 9 класс\античность среднев\иллюстрации\ясон1pg.jpg"/>
          <p:cNvPicPr/>
          <p:nvPr/>
        </p:nvPicPr>
        <p:blipFill>
          <a:blip r:embed="rId6"/>
          <a:stretch/>
        </p:blipFill>
        <p:spPr>
          <a:xfrm>
            <a:off x="6357960" y="142920"/>
            <a:ext cx="255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"/>
          <p:cNvSpPr/>
          <p:nvPr/>
        </p:nvSpPr>
        <p:spPr>
          <a:xfrm>
            <a:off x="43920" y="29880"/>
            <a:ext cx="91465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Главная тема греческого искусства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Человек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Античная культура базируется на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фологической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е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Высшим смыслом существования человека есть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роиз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Ведущие сооружения-храмы, театры, общественны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ния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Характерной чертой являетс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дерная систе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Особенностью являетс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кциональность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балансированность композиций и равновеси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авных часте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Основные черты античного стиля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3" name="Picture 2" descr="C:\Documents and Settings\Admin\Рабочий стол\Худ культура 9 класс\античность среднев\иллюстрации\гадрия с обр погр01.jpg"/>
          <p:cNvPicPr/>
          <p:nvPr/>
        </p:nvPicPr>
        <p:blipFill>
          <a:blip r:embed="rId1"/>
          <a:stretch/>
        </p:blipFill>
        <p:spPr>
          <a:xfrm>
            <a:off x="7897680" y="0"/>
            <a:ext cx="1246320" cy="1800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Admin\Рабочий стол\Худ культура 9 класс\античность среднев\иллюстрации\амфора чернjpg.jpg"/>
          <p:cNvPicPr/>
          <p:nvPr/>
        </p:nvPicPr>
        <p:blipFill>
          <a:blip r:embed="rId2"/>
          <a:stretch/>
        </p:blipFill>
        <p:spPr>
          <a:xfrm>
            <a:off x="7918560" y="5057640"/>
            <a:ext cx="1225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1565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ериодизация культуры Древней Греции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480" y="1785960"/>
            <a:ext cx="84294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1. Эгейская (Крито - Микенская) культура  (III тыс до н.э. - XI вв 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2. Гомеровская и раннеархаическая культура (XI-VIII вв .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3. Архаическая культура (VII-VI вв. до н.э.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4. Классическая культура (V в-I-III четверть IV в. 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5. Эллинистическая культура (конец IVст. до. н.э-I ст.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14280" y="-21420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.Эгейская ( Крито - Микенская) культур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II тис до н.э.-XI вв до н. э)</a:t>
            </a:r>
            <a:br>
              <a:rPr sz="2400"/>
            </a:b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8" name="Picture 2" descr="C:\Documents and Settings\Admin\Рабочий стол\Худ культура 9 класс\античность среднев\иллюстрации\кноссjpg.jpg"/>
          <p:cNvPicPr/>
          <p:nvPr/>
        </p:nvPicPr>
        <p:blipFill>
          <a:blip r:embed="rId1"/>
          <a:stretch/>
        </p:blipFill>
        <p:spPr>
          <a:xfrm>
            <a:off x="-1500120" y="0"/>
            <a:ext cx="3000240" cy="3995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C:\Documents and Settings\Admin\Рабочий стол\Худ культура 9 класс\античность среднев\иллюстрации\кноссск4.jpg"/>
          <p:cNvPicPr/>
          <p:nvPr/>
        </p:nvPicPr>
        <p:blipFill>
          <a:blip r:embed="rId2"/>
          <a:stretch/>
        </p:blipFill>
        <p:spPr>
          <a:xfrm rot="21280200">
            <a:off x="1666440" y="1174680"/>
            <a:ext cx="5477040" cy="3863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C:\Documents and Settings\Admin\Рабочий стол\Худ культура 9 класс\античность среднев\иллюстрации\4кноссjpg.jpg"/>
          <p:cNvPicPr/>
          <p:nvPr/>
        </p:nvPicPr>
        <p:blipFill>
          <a:blip r:embed="rId3"/>
          <a:stretch/>
        </p:blipFill>
        <p:spPr>
          <a:xfrm>
            <a:off x="-785880" y="3786120"/>
            <a:ext cx="4800600" cy="35290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9"/>
          <p:cNvSpPr/>
          <p:nvPr/>
        </p:nvSpPr>
        <p:spPr>
          <a:xfrm>
            <a:off x="7215120" y="1714680"/>
            <a:ext cx="171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носский дворец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Picture 4" descr="C:\Documents and Settings\Admin\Рабочий стол\Худ культура 9 класс\античность среднев\иллюстрации\Krete_Knossos_08.jpg"/>
          <p:cNvPicPr/>
          <p:nvPr/>
        </p:nvPicPr>
        <p:blipFill>
          <a:blip r:embed="rId4"/>
          <a:stretch/>
        </p:blipFill>
        <p:spPr>
          <a:xfrm>
            <a:off x="4246560" y="3929040"/>
            <a:ext cx="4897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C:\Documents and Settings\Admin\Рабочий стол\Худ культура 9 класс\античность среднев\иллюстрации\Дамы кносс718.jpg"/>
          <p:cNvPicPr/>
          <p:nvPr/>
        </p:nvPicPr>
        <p:blipFill>
          <a:blip r:embed="rId1"/>
          <a:stretch/>
        </p:blipFill>
        <p:spPr>
          <a:xfrm>
            <a:off x="2928960" y="4929120"/>
            <a:ext cx="4356000" cy="29163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Фрески  дворца в Кноссе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45" name="Picture 4" descr="C:\Documents and Settings\Admin\Рабочий стол\Худ культура 9 класс\античность среднев\иллюстрации\парижанка_001.jpg"/>
          <p:cNvPicPr/>
          <p:nvPr/>
        </p:nvPicPr>
        <p:blipFill>
          <a:blip r:embed="rId2"/>
          <a:stretch/>
        </p:blipFill>
        <p:spPr>
          <a:xfrm>
            <a:off x="0" y="0"/>
            <a:ext cx="185724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C:\Documents and Settings\Admin\Рабочий стол\Худ культура 9 класс\античность среднев\иллюстрации\игры с быком кносс.jpg"/>
          <p:cNvPicPr/>
          <p:nvPr/>
        </p:nvPicPr>
        <p:blipFill>
          <a:blip r:embed="rId3"/>
          <a:stretch/>
        </p:blipFill>
        <p:spPr>
          <a:xfrm>
            <a:off x="2903400" y="642960"/>
            <a:ext cx="6240600" cy="3779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C:\Documents and Settings\Admin\Рабочий стол\Худ культура 9 класс\античность среднев\иллюстрации\трон царя миноса.jpg"/>
          <p:cNvPicPr/>
          <p:nvPr/>
        </p:nvPicPr>
        <p:blipFill>
          <a:blip r:embed="rId4"/>
          <a:stretch/>
        </p:blipFill>
        <p:spPr>
          <a:xfrm>
            <a:off x="7500960" y="4357800"/>
            <a:ext cx="4554360" cy="334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C:\Documents and Settings\Admin\Рабочий стол\Худ культура 9 класс\античность среднев\иллюстрации\Minoan_Priest_King_Feathered_Prince_of_Lilies_Fresco_Art_650px.jpg"/>
          <p:cNvPicPr/>
          <p:nvPr/>
        </p:nvPicPr>
        <p:blipFill>
          <a:blip r:embed="rId5"/>
          <a:stretch/>
        </p:blipFill>
        <p:spPr>
          <a:xfrm>
            <a:off x="-642960" y="3286080"/>
            <a:ext cx="3365640" cy="511164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2928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Парижанк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TextBox 9"/>
          <p:cNvSpPr/>
          <p:nvPr/>
        </p:nvSpPr>
        <p:spPr>
          <a:xfrm>
            <a:off x="3786120" y="442908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Игры с быком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TextBox 10"/>
          <p:cNvSpPr/>
          <p:nvPr/>
        </p:nvSpPr>
        <p:spPr>
          <a:xfrm>
            <a:off x="7858080" y="4500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Тронный зал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6143760" y="5143680"/>
            <a:ext cx="21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реска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Дамы в голубом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TextBox 12"/>
          <p:cNvSpPr/>
          <p:nvPr/>
        </p:nvSpPr>
        <p:spPr>
          <a:xfrm>
            <a:off x="1357200" y="4357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Царь- жрец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6T08:05:55Z</dcterms:modified>
  <cp:revision>1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2e000000000001024140</vt:lpwstr>
  </property>
</Properties>
</file>