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8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11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86.jpeg" ContentType="image/jpeg"/>
  <Override PartName="/ppt/media/image106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115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66.jpeg" ContentType="image/jpeg"/>
  <Override PartName="/ppt/media/image91.jpeg" ContentType="image/jpeg"/>
  <Override PartName="/ppt/media/image111.jpeg" ContentType="image/jpeg"/>
  <Override PartName="/ppt/media/image94.jpeg" ContentType="image/jpeg"/>
  <Override PartName="/ppt/media/image75.jpeg" ContentType="image/jpeg"/>
  <Override PartName="/ppt/media/image77.jpeg" ContentType="image/jpeg"/>
  <Override PartName="/ppt/media/image60.jpeg" ContentType="image/jpeg"/>
  <Override PartName="/ppt/media/image99.jpeg" ContentType="image/jpeg"/>
  <Override PartName="/ppt/media/image27.png" ContentType="image/png"/>
  <Override PartName="/ppt/media/image33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76.jpeg" ContentType="image/jpeg"/>
  <Override PartName="/ppt/media/image22.jpeg" ContentType="image/jpeg"/>
  <Override PartName="/ppt/media/image118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19.jpeg" ContentType="image/jpeg"/>
  <Override PartName="/ppt/media/image102.jpeg" ContentType="image/jpeg"/>
  <Override PartName="/ppt/media/image82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45FE-F786-459B-AF92-AD09969F6E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56B3-DE5D-47E4-B1A1-5141AA3114F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7822-4AB3-4BBC-8ABE-BA4CB4DEAA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6EEF-E972-4B89-8B0F-705183F6B6F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8260-D225-4E94-9472-4D3E2A4AD9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156A-A6F9-4D7D-B7C6-23F48885FF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D79-A038-41AA-A331-832997A2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D73-0248-4034-9B2E-D31C5033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9B6-A4E5-457C-BC62-4235810D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10D-CE12-4662-B397-17772342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4EED-ABC1-438B-A8CB-F8B8D87D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199F-0632-4892-A347-A8C729FC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B1BA-86B9-4EEA-A0F8-79FDF228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5A20-4757-4328-8FBA-F431ADFD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F71A-7B49-4FB0-9A72-F2AEBB9C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8ED9-EE51-4D92-AE44-C5F3BFFC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2E19-9C93-4446-AF64-EE85690E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885-F1A7-4483-870C-F3AF38C2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E05F-B43F-494F-8D60-1C69021C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AB2C-E3C1-4F1D-8B91-B8355965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3EAB-F625-4960-96FE-BF046FF3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09A3-CDAD-4438-88AC-B252BA3F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3202-CB6A-4788-A05F-AC32CF2D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84744-10D5-46B8-9A3D-13FCAE30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4397-5832-4D80-8C9D-559A7048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D0B31-7471-4D3C-A18C-6B37F107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20B37-C057-42B2-A413-B2BA36E3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FDD0A-B786-4325-8DB1-514A4765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1CE-B003-4B6E-8AE8-E9CFDD49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8E580-0C37-439F-9E3F-4A868E81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0E74-9565-4610-B344-7F8AAB99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392EE-DF4D-4F38-8A5D-FF8EC341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F060-FF04-4BC1-8015-17BB5954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5D57-EF28-4B7B-93A5-A0C10DF1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92CDD-4B6A-4381-AD91-F7CFF378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F9855-546B-45C5-90A7-CED7E359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D60A2-C8A4-498F-BBA1-621642EA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100DE-A842-4730-8E20-0C392D87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DDFA0-927B-4E46-B2BB-CEF22280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502-156C-410B-AEF0-CA9171A9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F2807-9ABA-4B1A-B599-41AE7A65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FE277-90EC-4C91-A130-D5EA3217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4CAE1-37F9-4C6C-B2CE-2A77986B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6825F-1D15-4307-BC71-76F9E4F2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942BE-AA94-43D6-97CB-F2415E3F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A3BFE-C001-4EC2-BE3D-2F013A6C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E97C9-D631-45D4-ACDA-2AF07253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3080B-C880-493C-882A-984FF8C3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A19F5-3BFE-4370-A55E-7073335F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A8A45-1107-4AC0-BF08-7B66D82E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BD5-4127-43F9-82A2-488E88F6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4E8C3-0F88-44EC-B509-AD1D0A4A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1D13A-D3DF-47F2-B961-9F8DE6C9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49EB6-73B6-47C9-8D48-9AE5E6DA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6C00C-75FB-4EC7-A02C-6F3B4B0E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A3017-B938-415F-AFDC-1D372883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C5EF7-462C-4CF4-AD57-5BF7561B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7B73A-4DE4-4DF2-806F-78C2DF98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CA05B-4678-4324-997C-457591CB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111ED-D657-4692-8A99-29CE1A3C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67F5E-4A19-42BF-A2FF-DBC51DC6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D9A-7374-4109-8D38-83FFD709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959A3-BCFE-4731-9E8D-19F62BE4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8DAE7-F7CC-495C-AF8D-19B67F48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BB185-BB85-4D7F-BF24-E0625A1A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7339A-B050-43F7-89F0-747008CE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CFADE-BE29-4EEA-A2D3-803B8204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F8744-3F4E-43B0-910F-C3228C7B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447E6-9A6F-49DC-A701-F0290ADD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DEAD0-12B8-4F22-9BE9-4DE4A501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9A08A-31F5-4382-AB02-DD0F78BE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FCCB2-C4B7-4E70-83C3-171585A1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1D2-0F08-426C-B132-6FFA8D6A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0410A-C673-4637-9D7C-8771B5B6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E932E-74D6-480C-8EA6-2CD0F4BB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FB69B-88AA-464B-B87F-71371404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FD982-F666-4D82-813A-45014E69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704FC-95BA-4F29-BFF5-9CAB2F41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9B2A5-97C0-4F61-8A4A-DCAED043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5D227-01D8-434F-89BA-76FC7364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E3B86-E325-4C55-8BAB-2A1E0C74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4EC4C-0B1C-4635-B833-85C49377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6CDA3-D308-4AF5-8625-E0D7208F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211-0562-4982-8E43-F0CC4C32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F7A2E-E3EF-40C6-ADEA-2447430F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41927-8850-4CF4-B547-5FBBF200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FC0B9-218C-4EF6-8478-CC9AA1A1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C424F-E81C-4DF5-8479-C1E7AAA4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C859B-3AEA-4319-805A-6EDD2FBC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0A9-1862-4717-BD35-98BFA193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71CD-E827-485E-AE27-DC2EB2E8C90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Прямоугольник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Прямоугольник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Прямоугольник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Прямоугольник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Прямоугольник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Прямоугольник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" name="Прямоугольник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Прямоугольник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7C01-CB5F-4918-8BDC-4D7DCB39D4E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Полилиния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Полилиния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Полилиния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Полилиния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Полилиния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Полилиния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Полилиния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Полилиния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Полилиния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Полилиния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Полилиния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Полилиния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Полилиния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Полилиния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Полилиния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Прямоугольник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Прямоугольник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Прямоугольник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Прямоугольник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E977-14CA-4798-B15D-72D71A3B202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FC0E-F8D2-4C05-9D8B-3CA1ED6F67B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Прямоугольник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Прямоугольник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Прямоугольник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Прямоугольник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Прямоугольник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Прямоугольник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Прямоугольник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Прямоугольник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Прямоугольник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50B1-12B1-4452-8015-C768ED3AFF7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F0D4-F5B1-4ACA-8D00-B040DD9DB72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Прямоугольник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Прямая соединительная линия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315" name="Группа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17" name="Прямая соединительная линия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18" name="Прямая соединительная линия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grpSp>
        <p:nvGrpSpPr>
          <p:cNvPr id="319" name="Группа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21" name="Прямая соединительная линия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22" name="Прямая соединительная линия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grpSp>
        <p:nvGrpSpPr>
          <p:cNvPr id="323" name="Группа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25" name="Прямая соединительная линия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26" name="Прямая соединительная линия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69A9-83B9-40AD-A591-4D9AB13CD56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2.jpeg"/><Relationship Id="rId3" Type="http://schemas.openxmlformats.org/officeDocument/2006/relationships/image" Target="../media/image4.jpeg"/><Relationship Id="rId4" Type="http://schemas.openxmlformats.org/officeDocument/2006/relationships/image" Target="../media/image103.jpeg"/><Relationship Id="rId5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image" Target="../media/image108.jpeg"/><Relationship Id="rId5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image" Target="../media/image118.jpeg"/><Relationship Id="rId6" Type="http://schemas.openxmlformats.org/officeDocument/2006/relationships/image" Target="../media/image119.jpe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C:\Documents and Settings\Admin\Рабочий стол\Худ культура 9 класс\античность среднев\иллюстрации\октавиан Август.jpg"/>
          <p:cNvPicPr/>
          <p:nvPr/>
        </p:nvPicPr>
        <p:blipFill>
          <a:blip r:embed="rId1"/>
          <a:stretch/>
        </p:blipFill>
        <p:spPr>
          <a:xfrm>
            <a:off x="6500880" y="0"/>
            <a:ext cx="2400120" cy="3600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Documents and Settings\Admin\Рабочий стол\Худ культура 9 класс\античность среднев\иллюстрации\23.jpg"/>
          <p:cNvPicPr/>
          <p:nvPr/>
        </p:nvPicPr>
        <p:blipFill>
          <a:blip r:embed="rId2"/>
          <a:stretch/>
        </p:blipFill>
        <p:spPr>
          <a:xfrm>
            <a:off x="0" y="0"/>
            <a:ext cx="6137280" cy="3600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C:\Documents and Settings\Admin\Рабочий стол\Худ культура 9 класс\античность среднев\иллюстрации\Новая папка\09 агесандр афродита милосская.jpg"/>
          <p:cNvPicPr/>
          <p:nvPr/>
        </p:nvPicPr>
        <p:blipFill>
          <a:blip r:embed="rId3"/>
          <a:stretch/>
        </p:blipFill>
        <p:spPr>
          <a:xfrm>
            <a:off x="0" y="3714840"/>
            <a:ext cx="1568520" cy="3887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C:\Documents and Settings\Admin\Рабочий стол\Худ культура 9 класс\античность среднев\иллюстрации\Новая папка\07 Лаокоон.jpg"/>
          <p:cNvPicPr/>
          <p:nvPr/>
        </p:nvPicPr>
        <p:blipFill>
          <a:blip r:embed="rId4"/>
          <a:stretch/>
        </p:blipFill>
        <p:spPr>
          <a:xfrm>
            <a:off x="2286000" y="407196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C:\Documents and Settings\Admin\Рабочий стол\Худ культура 9 класс\античность среднев\иллюстрации\Новая папка\11 ника Самофрауийская.jpg"/>
          <p:cNvPicPr/>
          <p:nvPr/>
        </p:nvPicPr>
        <p:blipFill>
          <a:blip r:embed="rId5"/>
          <a:stretch/>
        </p:blipFill>
        <p:spPr>
          <a:xfrm>
            <a:off x="6357960" y="3929040"/>
            <a:ext cx="251604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3" descr="C:\Documents and Settings\Admin\Рабочий стол\Худ культура 9 класс\античность среднев\иллюстрации\Minoan_Dolphins_Fresco_Art_Knossos_650px.jpg"/>
          <p:cNvPicPr/>
          <p:nvPr/>
        </p:nvPicPr>
        <p:blipFill>
          <a:blip r:embed="rId1"/>
          <a:stretch/>
        </p:blipFill>
        <p:spPr>
          <a:xfrm>
            <a:off x="3105000" y="2571840"/>
            <a:ext cx="6039000" cy="3995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C:\Documents and Settings\Admin\Рабочий стол\Худ культура 9 класс\античность среднев\иллюстрации\Minoan_Kamares_Ware_Pottery.JPG"/>
          <p:cNvPicPr/>
          <p:nvPr/>
        </p:nvPicPr>
        <p:blipFill>
          <a:blip r:embed="rId2"/>
          <a:stretch/>
        </p:blipFill>
        <p:spPr>
          <a:xfrm>
            <a:off x="214200" y="3143160"/>
            <a:ext cx="2189160" cy="3311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9" descr="C:\Documents and Settings\Admin\Рабочий стол\Худ культура 9 класс\античность среднев\иллюстрации\Minoan_Octopus_Fresco_Art_650px.jpg"/>
          <p:cNvPicPr/>
          <p:nvPr/>
        </p:nvPicPr>
        <p:blipFill>
          <a:blip r:embed="rId3"/>
          <a:stretch/>
        </p:blipFill>
        <p:spPr>
          <a:xfrm>
            <a:off x="0" y="0"/>
            <a:ext cx="2908440" cy="27003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0" descr="C:\Documents and Settings\Admin\Рабочий стол\Худ культура 9 класс\античность среднев\иллюстрации\Palace_of_Knossos.jpg"/>
          <p:cNvPicPr/>
          <p:nvPr/>
        </p:nvPicPr>
        <p:blipFill>
          <a:blip r:embed="rId4"/>
          <a:stretch/>
        </p:blipFill>
        <p:spPr>
          <a:xfrm>
            <a:off x="3786120" y="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2.Гомеровская и раннеархаическая культур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XI-VIII вв до н.э.)</a:t>
            </a:r>
            <a:br>
              <a:rPr sz="2400"/>
            </a:b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59" name="Picture 2" descr="C:\Documents and Settings\Admin\Рабочий стол\Худ культура 9 класс\античность среднев\иллюстрации\Franklin Simmons - Пенелопа.jpg"/>
          <p:cNvPicPr/>
          <p:nvPr/>
        </p:nvPicPr>
        <p:blipFill>
          <a:blip r:embed="rId1"/>
          <a:stretch/>
        </p:blipFill>
        <p:spPr>
          <a:xfrm>
            <a:off x="4572000" y="1285920"/>
            <a:ext cx="1593720" cy="2362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C:\Documents and Settings\Admin\Рабочий стол\Худ культура 9 класс\античность среднев\иллюстрации\N. C. Wyeth. Одиссей и Пенелопа.jpg"/>
          <p:cNvPicPr/>
          <p:nvPr/>
        </p:nvPicPr>
        <p:blipFill>
          <a:blip r:embed="rId2"/>
          <a:stretch/>
        </p:blipFill>
        <p:spPr>
          <a:xfrm>
            <a:off x="4857840" y="3689280"/>
            <a:ext cx="4013280" cy="3168720"/>
          </a:xfrm>
          <a:prstGeom prst="rect">
            <a:avLst/>
          </a:prstGeom>
          <a:ln w="0">
            <a:noFill/>
          </a:ln>
        </p:spPr>
      </p:pic>
      <p:sp>
        <p:nvSpPr>
          <p:cNvPr id="461" name="TextBox 13"/>
          <p:cNvSpPr/>
          <p:nvPr/>
        </p:nvSpPr>
        <p:spPr>
          <a:xfrm>
            <a:off x="6072120" y="128592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Ф. Симмон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“</a:t>
            </a: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Пенелопа”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2" name="Picture 5" descr="C:\Documents and Settings\Admin\Рабочий стол\Худ культура 9 класс\античность среднев\иллюстрации\Гвидо Рени. Похищение Елены.jpg"/>
          <p:cNvPicPr/>
          <p:nvPr/>
        </p:nvPicPr>
        <p:blipFill>
          <a:blip r:embed="rId3"/>
          <a:stretch/>
        </p:blipFill>
        <p:spPr>
          <a:xfrm>
            <a:off x="0" y="1285920"/>
            <a:ext cx="2960640" cy="2808360"/>
          </a:xfrm>
          <a:prstGeom prst="rect">
            <a:avLst/>
          </a:prstGeom>
          <a:ln w="0">
            <a:noFill/>
          </a:ln>
        </p:spPr>
      </p:pic>
      <p:sp>
        <p:nvSpPr>
          <p:cNvPr id="463" name="TextBox 15"/>
          <p:cNvSpPr/>
          <p:nvPr/>
        </p:nvSpPr>
        <p:spPr>
          <a:xfrm>
            <a:off x="3000240" y="1214280"/>
            <a:ext cx="15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Гвидо Рени “Похищение Елен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ы</a:t>
            </a: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4" name="Picture 6" descr="C:\Documents and Settings\Admin\Рабочий стол\Худ культура 9 класс\античность среднев\иллюстрации\Антонио Канова. Елена Троянская.jpg"/>
          <p:cNvPicPr/>
          <p:nvPr/>
        </p:nvPicPr>
        <p:blipFill>
          <a:blip r:embed="rId4"/>
          <a:stretch/>
        </p:blipFill>
        <p:spPr>
          <a:xfrm>
            <a:off x="214200" y="4230720"/>
            <a:ext cx="1963800" cy="2627280"/>
          </a:xfrm>
          <a:prstGeom prst="rect">
            <a:avLst/>
          </a:prstGeom>
          <a:ln w="0">
            <a:noFill/>
          </a:ln>
        </p:spPr>
      </p:pic>
      <p:sp>
        <p:nvSpPr>
          <p:cNvPr id="465" name="TextBox 17"/>
          <p:cNvSpPr/>
          <p:nvPr/>
        </p:nvSpPr>
        <p:spPr>
          <a:xfrm>
            <a:off x="2000160" y="607212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анов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Елена Троянская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6" name="Picture 7" descr="C:\Documents and Settings\Admin\Рабочий стол\Худ культура 9 класс\античность среднев\иллюстрации\троянский конт.jpg"/>
          <p:cNvPicPr/>
          <p:nvPr/>
        </p:nvPicPr>
        <p:blipFill>
          <a:blip r:embed="rId5"/>
          <a:stretch/>
        </p:blipFill>
        <p:spPr>
          <a:xfrm>
            <a:off x="3000240" y="3643200"/>
            <a:ext cx="1687680" cy="233064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9"/>
          <p:cNvSpPr/>
          <p:nvPr/>
        </p:nvSpPr>
        <p:spPr>
          <a:xfrm>
            <a:off x="6689160" y="3571920"/>
            <a:ext cx="28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. Уайе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Одиссей и </a:t>
            </a: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П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енелоп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8" name="Picture 8" descr="C:\Documents and Settings\Admin\Рабочий стол\Худ культура 9 класс\античность среднев\иллюстрации\Гмер.jpg"/>
          <p:cNvPicPr/>
          <p:nvPr/>
        </p:nvPicPr>
        <p:blipFill>
          <a:blip r:embed="rId6"/>
          <a:stretch/>
        </p:blipFill>
        <p:spPr>
          <a:xfrm>
            <a:off x="7734240" y="-142920"/>
            <a:ext cx="1409760" cy="20527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21"/>
          <p:cNvSpPr/>
          <p:nvPr/>
        </p:nvSpPr>
        <p:spPr>
          <a:xfrm>
            <a:off x="7963560" y="20001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ГОМЕ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TextBox 26"/>
          <p:cNvSpPr/>
          <p:nvPr/>
        </p:nvSpPr>
        <p:spPr>
          <a:xfrm>
            <a:off x="3000240" y="3214800"/>
            <a:ext cx="21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Конь Троянски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1" name="Picture 10" descr="C:\Documents and Settings\Admin\Рабочий стол\Худ культура 9 класс\античность среднев\иллюстрации\Римская мозаика, 2 век.jpg"/>
          <p:cNvPicPr/>
          <p:nvPr/>
        </p:nvPicPr>
        <p:blipFill>
          <a:blip r:embed="rId7"/>
          <a:stretch/>
        </p:blipFill>
        <p:spPr>
          <a:xfrm>
            <a:off x="6429240" y="2286000"/>
            <a:ext cx="25164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:\Documents and Settings\Admin\Рабочий стол\Худ культура 9 класс\античность среднев\иллюстрации\кратер2.gif"/>
          <p:cNvPicPr/>
          <p:nvPr/>
        </p:nvPicPr>
        <p:blipFill>
          <a:blip r:embed="rId1"/>
          <a:stretch/>
        </p:blipFill>
        <p:spPr>
          <a:xfrm>
            <a:off x="500040" y="0"/>
            <a:ext cx="2124000" cy="1908000"/>
          </a:xfrm>
          <a:prstGeom prst="rect">
            <a:avLst/>
          </a:prstGeom>
          <a:ln w="0">
            <a:noFill/>
          </a:ln>
        </p:spPr>
      </p:pic>
      <p:sp>
        <p:nvSpPr>
          <p:cNvPr id="473" name="TextBox 2"/>
          <p:cNvSpPr/>
          <p:nvPr/>
        </p:nvSpPr>
        <p:spPr>
          <a:xfrm>
            <a:off x="785880" y="200016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ратер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4" name="Picture 3" descr="C:\Documents and Settings\Admin\Рабочий стол\Худ культура 9 класс\античность среднев\иллюстрации\гидрияgif.gif"/>
          <p:cNvPicPr/>
          <p:nvPr/>
        </p:nvPicPr>
        <p:blipFill>
          <a:blip r:embed="rId2"/>
          <a:stretch/>
        </p:blipFill>
        <p:spPr>
          <a:xfrm>
            <a:off x="3786120" y="0"/>
            <a:ext cx="1530360" cy="1944720"/>
          </a:xfrm>
          <a:prstGeom prst="rect">
            <a:avLst/>
          </a:prstGeom>
          <a:ln w="0">
            <a:noFill/>
          </a:ln>
        </p:spPr>
      </p:pic>
      <p:sp>
        <p:nvSpPr>
          <p:cNvPr id="475" name="TextBox 4"/>
          <p:cNvSpPr/>
          <p:nvPr/>
        </p:nvSpPr>
        <p:spPr>
          <a:xfrm>
            <a:off x="392904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идр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ия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6" name="Picture 4" descr="C:\Documents and Settings\Admin\Рабочий стол\Худ культура 9 класс\античность среднев\иллюстрации\киликgif.gif"/>
          <p:cNvPicPr/>
          <p:nvPr/>
        </p:nvPicPr>
        <p:blipFill>
          <a:blip r:embed="rId3"/>
          <a:stretch/>
        </p:blipFill>
        <p:spPr>
          <a:xfrm>
            <a:off x="1714680" y="3000240"/>
            <a:ext cx="5570280" cy="1764000"/>
          </a:xfrm>
          <a:prstGeom prst="rect">
            <a:avLst/>
          </a:prstGeom>
          <a:ln w="0">
            <a:noFill/>
          </a:ln>
        </p:spPr>
      </p:pic>
      <p:sp>
        <p:nvSpPr>
          <p:cNvPr id="477" name="TextBox 6"/>
          <p:cNvSpPr/>
          <p:nvPr/>
        </p:nvSpPr>
        <p:spPr>
          <a:xfrm>
            <a:off x="3901320" y="4857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илик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8" name="Picture 5" descr="C:\Documents and Settings\Admin\Рабочий стол\Худ культура 9 класс\античность среднев\иллюстрации\лекифgif.gif"/>
          <p:cNvPicPr/>
          <p:nvPr/>
        </p:nvPicPr>
        <p:blipFill>
          <a:blip r:embed="rId4"/>
          <a:stretch/>
        </p:blipFill>
        <p:spPr>
          <a:xfrm>
            <a:off x="7786800" y="3357720"/>
            <a:ext cx="1020600" cy="1908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6" descr="C:\Documents and Settings\Admin\Рабочий стол\Худ культура 9 класс\античность среднев\иллюстрации\амфораgif.gif"/>
          <p:cNvPicPr/>
          <p:nvPr/>
        </p:nvPicPr>
        <p:blipFill>
          <a:blip r:embed="rId5"/>
          <a:stretch/>
        </p:blipFill>
        <p:spPr>
          <a:xfrm>
            <a:off x="7000920" y="0"/>
            <a:ext cx="1388880" cy="1908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C:\Documents and Settings\Admin\Рабочий стол\Худ культура 9 класс\античность среднев\иллюстрации\пелика.gif"/>
          <p:cNvPicPr/>
          <p:nvPr/>
        </p:nvPicPr>
        <p:blipFill>
          <a:blip r:embed="rId6"/>
          <a:stretch/>
        </p:blipFill>
        <p:spPr>
          <a:xfrm>
            <a:off x="357120" y="3571920"/>
            <a:ext cx="1274760" cy="1944720"/>
          </a:xfrm>
          <a:prstGeom prst="rect">
            <a:avLst/>
          </a:prstGeom>
          <a:ln w="0">
            <a:noFill/>
          </a:ln>
        </p:spPr>
      </p:pic>
      <p:sp>
        <p:nvSpPr>
          <p:cNvPr id="481" name="Прямоугольник 12"/>
          <p:cNvSpPr/>
          <p:nvPr/>
        </p:nvSpPr>
        <p:spPr>
          <a:xfrm>
            <a:off x="7715160" y="5357880"/>
            <a:ext cx="9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Лекиф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Прямоугольник 13"/>
          <p:cNvSpPr/>
          <p:nvPr/>
        </p:nvSpPr>
        <p:spPr>
          <a:xfrm>
            <a:off x="7000920" y="200016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мфор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TextBox 14"/>
          <p:cNvSpPr/>
          <p:nvPr/>
        </p:nvSpPr>
        <p:spPr>
          <a:xfrm>
            <a:off x="531360" y="557208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Пелика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00080" y="85680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3. Архаическая культура </a:t>
            </a:r>
            <a:br>
              <a:rPr sz="40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VII-VI вв до н.э.)</a:t>
            </a: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85" name="Picture 2" descr="C:\Documents and Settings\Admin\Рабочий стол\Худ культура 9 класс\античность среднев\иллюстрации\Ахилл и Аякс игр в костиjpg.jpg"/>
          <p:cNvPicPr/>
          <p:nvPr/>
        </p:nvPicPr>
        <p:blipFill>
          <a:blip r:embed="rId1"/>
          <a:stretch/>
        </p:blipFill>
        <p:spPr>
          <a:xfrm>
            <a:off x="0" y="1928880"/>
            <a:ext cx="2641680" cy="3527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C:\Documents and Settings\Admin\Рабочий стол\Худ культура 9 класс\античность среднев\иллюстрации\ласточка.jpg"/>
          <p:cNvPicPr/>
          <p:nvPr/>
        </p:nvPicPr>
        <p:blipFill>
          <a:blip r:embed="rId2"/>
          <a:stretch/>
        </p:blipFill>
        <p:spPr>
          <a:xfrm>
            <a:off x="5875200" y="2143080"/>
            <a:ext cx="3268800" cy="4176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C:\Documents and Settings\Admin\Рабочий стол\Худ культура 9 класс\античность среднев\иллюстрации\ваза франсуа.jpg"/>
          <p:cNvPicPr/>
          <p:nvPr/>
        </p:nvPicPr>
        <p:blipFill>
          <a:blip r:embed="rId3"/>
          <a:stretch/>
        </p:blipFill>
        <p:spPr>
          <a:xfrm>
            <a:off x="2643120" y="2928960"/>
            <a:ext cx="3081240" cy="313200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11"/>
          <p:cNvSpPr/>
          <p:nvPr/>
        </p:nvSpPr>
        <p:spPr>
          <a:xfrm>
            <a:off x="0" y="542916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Амфора “Ахилл и Аякс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играющие в кост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0" y="0"/>
            <a:ext cx="369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mbria"/>
              </a:rPr>
              <a:t>Чернофигурная вазопись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TextBox 14"/>
          <p:cNvSpPr/>
          <p:nvPr/>
        </p:nvSpPr>
        <p:spPr>
          <a:xfrm>
            <a:off x="2428920" y="6211800"/>
            <a:ext cx="35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Кратер Ваза “ Франсуа”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Клитий. Ерготи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TextBox 15"/>
          <p:cNvSpPr/>
          <p:nvPr/>
        </p:nvSpPr>
        <p:spPr>
          <a:xfrm>
            <a:off x="5857920" y="0"/>
            <a:ext cx="329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mbria"/>
              </a:rPr>
              <a:t>Краснофигурная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mbria"/>
              </a:rPr>
              <a:t>вазопись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2" name="TextBox 16"/>
          <p:cNvSpPr/>
          <p:nvPr/>
        </p:nvSpPr>
        <p:spPr>
          <a:xfrm>
            <a:off x="5715000" y="62866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Евфроний. Пелика с ласточ</a:t>
            </a:r>
            <a:r>
              <a:rPr b="0" lang="uk-UA" sz="1800" spc="-1" strike="noStrike">
                <a:solidFill>
                  <a:srgbClr val="ffffff"/>
                </a:solidFill>
                <a:latin typeface="Cambria"/>
              </a:rPr>
              <a:t>ко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Архаическая архитектура и скульптура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94" name="Picture 3" descr="C:\Documents and Settings\Admin\Рабочий стол\Худ культура 9 класс\античность среднев\иллюстрации\arh2.jpg"/>
          <p:cNvPicPr/>
          <p:nvPr/>
        </p:nvPicPr>
        <p:blipFill>
          <a:blip r:embed="rId1"/>
          <a:stretch/>
        </p:blipFill>
        <p:spPr>
          <a:xfrm>
            <a:off x="4857840" y="1386000"/>
            <a:ext cx="3951360" cy="5472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C:\Documents and Settings\Admin\Рабочий стол\11 класс для уроков\контрольные 11 класс\скульптура Контрольная\Новая папка\08 кора.JPG"/>
          <p:cNvPicPr/>
          <p:nvPr/>
        </p:nvPicPr>
        <p:blipFill>
          <a:blip r:embed="rId2"/>
          <a:stretch/>
        </p:blipFill>
        <p:spPr>
          <a:xfrm>
            <a:off x="2643120" y="2825640"/>
            <a:ext cx="1743120" cy="40323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5" descr="C:\Documents and Settings\Admin\Рабочий стол\11 класс для уроков\контрольные 11 класс\скульптура Контрольная\Новая папка\04 Rehjc.jpg"/>
          <p:cNvPicPr/>
          <p:nvPr/>
        </p:nvPicPr>
        <p:blipFill>
          <a:blip r:embed="rId3"/>
          <a:stretch/>
        </p:blipFill>
        <p:spPr>
          <a:xfrm>
            <a:off x="0" y="0"/>
            <a:ext cx="1496880" cy="39956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1714680" y="857160"/>
            <a:ext cx="24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уросы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–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зображения атлетов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без одежды .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озводились в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честь победителе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 соревнованиях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TextBox 9"/>
          <p:cNvSpPr/>
          <p:nvPr/>
        </p:nvSpPr>
        <p:spPr>
          <a:xfrm>
            <a:off x="0" y="4071960"/>
            <a:ext cx="271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оры -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женские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зображения в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рапированном одежде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скрашенные: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олосы, глаза,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Губы - красным цвето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, одежда украшалась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зорами синего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расного и зеленого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цветов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Храм Артемиды в Эфесе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42560" y="714240"/>
            <a:ext cx="5715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строен в честь покровительницы города – Артемиды – богини плодородия, охоты, луны, покровительницы целомудрия и охранительницы рожениц. Строительство храма длилось 120 лет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Храм Артемиды построен был жителями города Эфеса, желавшими отдать дань почитаемой богине. Строительство было окончено уже в начале V в. до н.э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 356 году до н.э. храм подвергся разрушению от рук печально известного Герострата. Молодой человек из Эфеса пытался увековечить свое имя. Однако не сумев создать ничего великого, он решил, что войти в историю можно не только создавая, но и разрушая. Так он и поджег храм. Конечно, эфессцы пытались сделать все возможное, чтобы имя Герострата кануло в лету. Упоминание его имени где бы то ни было было запрещено. По иронии судьбы, возможно, именно благодаря этим мерам мы и знаем его имя до сих пор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929200" y="1857240"/>
            <a:ext cx="27655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02" name="Picture 2" descr="C:\Documents and Settings\Admin\Рабочий стол\Худ культура 9 класс\античность среднев\иллюстрации\храм в эфесе.jpeg"/>
          <p:cNvPicPr/>
          <p:nvPr/>
        </p:nvPicPr>
        <p:blipFill>
          <a:blip r:embed="rId1"/>
          <a:stretch/>
        </p:blipFill>
        <p:spPr>
          <a:xfrm>
            <a:off x="5857920" y="642960"/>
            <a:ext cx="4286160" cy="3048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C:\Documents and Settings\Admin\Рабочий стол\Худ культура 9 класс\античность среднев\иллюстрации\эфесjpg.jpg"/>
          <p:cNvPicPr/>
          <p:nvPr/>
        </p:nvPicPr>
        <p:blipFill>
          <a:blip r:embed="rId2"/>
          <a:stretch/>
        </p:blipFill>
        <p:spPr>
          <a:xfrm>
            <a:off x="5786280" y="3267000"/>
            <a:ext cx="48006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3.Клас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ческая культур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V в-I-III четверть IV в. до н.э.)</a:t>
            </a: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35720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Афинский акрополь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644720" y="1500120"/>
            <a:ext cx="4498920" cy="49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mbria"/>
              </a:rPr>
              <a:t>Священная дорога, по которой от агоры к храму богини-покровительницы двигалась во время главного праздника Великих панафиней процессия афинян, ведет к Пропилеям. В левом, выступающем их крыле, располагалась Пинакотека (собрание картин-пинак, принесенных в дар богине Афине), в правом находилось хранилище рукописей и помещение для привратника и сторожей. Справа от Пропилей на пиргосе (выступе укрепленной скалы) стоит маленький, легкий и изящный храм ионического ордера, освященный Афине-Нике, известный как храм Ники Аптерос (Бескрылой Победы; 443-420, архитектор Калликрат). </a:t>
            </a: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0" y="5786280"/>
            <a:ext cx="85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ропилеи   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      (от греч. propэlaion - преддверие, вход),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опилон, парадный проход, проезд, образованны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имметричными портиками и колоннадами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сположенными по оси движения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09" name="Picture 3" descr="C:\Documents and Settings\Admin\Рабочий стол\Худ культура 9 класс\античность среднев\иллюстрации\акропольpg.jpg"/>
          <p:cNvPicPr/>
          <p:nvPr/>
        </p:nvPicPr>
        <p:blipFill>
          <a:blip r:embed="rId1"/>
          <a:stretch/>
        </p:blipFill>
        <p:spPr>
          <a:xfrm>
            <a:off x="0" y="1928880"/>
            <a:ext cx="5135400" cy="3851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" descr="C:\Documents and Settings\Admin\Рабочий стол\Худ культура 9 класс\античность среднев\иллюстрации\акрополь.jpg"/>
          <p:cNvPicPr/>
          <p:nvPr/>
        </p:nvPicPr>
        <p:blipFill>
          <a:blip r:embed="rId2"/>
          <a:stretch/>
        </p:blipFill>
        <p:spPr>
          <a:xfrm>
            <a:off x="5915160" y="5286240"/>
            <a:ext cx="32288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Афинский акрополь </a:t>
            </a:r>
            <a:br>
              <a:rPr sz="4000"/>
            </a:b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арх.. Иктин и Калликрат под. рук. Фидия</a:t>
            </a:r>
            <a:endParaRPr b="0" lang="en-US" sz="2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65120" y="78588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Парфенон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857840" y="2000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14" name="Picture 2" descr="C:\Documents and Settings\Admin\Рабочий стол\Худ культура 9 класс\античность среднев\иллюстрации\парфенон.jpg"/>
          <p:cNvPicPr/>
          <p:nvPr/>
        </p:nvPicPr>
        <p:blipFill>
          <a:blip r:embed="rId1"/>
          <a:stretch/>
        </p:blipFill>
        <p:spPr>
          <a:xfrm>
            <a:off x="0" y="1214280"/>
            <a:ext cx="4746600" cy="356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C:\Documents and Settings\Admin\Рабочий стол\Худ культура 9 класс\античность среднев\иллюстрации\Akropol-v-Afinah-foto-3.jpg"/>
          <p:cNvPicPr/>
          <p:nvPr/>
        </p:nvPicPr>
        <p:blipFill>
          <a:blip r:embed="rId2"/>
          <a:stretch/>
        </p:blipFill>
        <p:spPr>
          <a:xfrm>
            <a:off x="4857840" y="1285920"/>
            <a:ext cx="4460760" cy="334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C:\Documents and Settings\Admin\Рабочий стол\Худ культура 9 класс\античность среднев\иллюстрации\Akropol-v-Afinah-foto-16.jpg"/>
          <p:cNvPicPr/>
          <p:nvPr/>
        </p:nvPicPr>
        <p:blipFill>
          <a:blip r:embed="rId3"/>
          <a:stretch/>
        </p:blipFill>
        <p:spPr>
          <a:xfrm>
            <a:off x="4857840" y="4857840"/>
            <a:ext cx="4605120" cy="34923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C:\Documents and Settings\Admin\Рабочий стол\Худ культура 9 класс\античность среднев\иллюстрации\хр ники апртеросjpg.jpg"/>
          <p:cNvPicPr/>
          <p:nvPr/>
        </p:nvPicPr>
        <p:blipFill>
          <a:blip r:embed="rId4"/>
          <a:stretch/>
        </p:blipFill>
        <p:spPr>
          <a:xfrm>
            <a:off x="0" y="5273640"/>
            <a:ext cx="4371840" cy="316872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2"/>
          <p:cNvSpPr/>
          <p:nvPr/>
        </p:nvSpPr>
        <p:spPr>
          <a:xfrm>
            <a:off x="6357960" y="7858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Эрехтейон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357120" y="48578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Храм Ники Аптеро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5" descr="C:\Documents and Settings\Admin\Рабочий стол\Худ культура 9 класс\античность среднев\иллюстрации\никаpeg.jpeg"/>
          <p:cNvPicPr/>
          <p:nvPr/>
        </p:nvPicPr>
        <p:blipFill>
          <a:blip r:embed="rId1"/>
          <a:stretch/>
        </p:blipFill>
        <p:spPr>
          <a:xfrm>
            <a:off x="4214880" y="428760"/>
            <a:ext cx="2077920" cy="3168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Documents and Settings\Admin\Рабочий стол\11 класс для уроков\контрольные 11 класс\скульптура Контрольная\Новая папка\05 афина парфенос.jpg"/>
          <p:cNvPicPr/>
          <p:nvPr/>
        </p:nvPicPr>
        <p:blipFill>
          <a:blip r:embed="rId2"/>
          <a:stretch/>
        </p:blipFill>
        <p:spPr>
          <a:xfrm>
            <a:off x="6572160" y="357120"/>
            <a:ext cx="2981520" cy="57056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C:\Documents and Settings\Admin\Рабочий стол\Худ культура 9 класс\античность среднев\иллюстрации\всадникиjpg.jpg"/>
          <p:cNvPicPr/>
          <p:nvPr/>
        </p:nvPicPr>
        <p:blipFill>
          <a:blip r:embed="rId3"/>
          <a:stretch/>
        </p:blipFill>
        <p:spPr>
          <a:xfrm>
            <a:off x="0" y="-357120"/>
            <a:ext cx="4229280" cy="32763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C:\Documents and Settings\Admin\Рабочий стол\Худ культура 9 класс\античность среднев\иллюстрации\панафин шествjpg.jpg"/>
          <p:cNvPicPr/>
          <p:nvPr/>
        </p:nvPicPr>
        <p:blipFill>
          <a:blip r:embed="rId4"/>
          <a:stretch/>
        </p:blipFill>
        <p:spPr>
          <a:xfrm>
            <a:off x="0" y="3429000"/>
            <a:ext cx="6248520" cy="3619440"/>
          </a:xfrm>
          <a:prstGeom prst="rect">
            <a:avLst/>
          </a:prstGeom>
          <a:ln w="0">
            <a:noFill/>
          </a:ln>
        </p:spPr>
      </p:pic>
      <p:sp>
        <p:nvSpPr>
          <p:cNvPr id="524" name="TextBox 8"/>
          <p:cNvSpPr/>
          <p:nvPr/>
        </p:nvSpPr>
        <p:spPr>
          <a:xfrm>
            <a:off x="642960" y="30002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Рельефы Парфено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5" name="TextBox 9"/>
          <p:cNvSpPr/>
          <p:nvPr/>
        </p:nvSpPr>
        <p:spPr>
          <a:xfrm>
            <a:off x="6500880" y="62118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Фидий Афина Парфено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4379400" y="0"/>
            <a:ext cx="292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ика, развязывающа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андалию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Скульптура классического периода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528" name="Picture 2" descr="C:\Documents and Settings\Admin\Рабочий стол\11 класс для уроков\контрольные 11 класс\скульптура Контрольная\Новая папка\01 Мирон дискобол.jpg"/>
          <p:cNvPicPr/>
          <p:nvPr/>
        </p:nvPicPr>
        <p:blipFill>
          <a:blip r:embed="rId1"/>
          <a:stretch/>
        </p:blipFill>
        <p:spPr>
          <a:xfrm>
            <a:off x="0" y="571680"/>
            <a:ext cx="2174760" cy="3384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F:\мамино\11 класс\скульптура на урок2й3й\скульптура 11 класс\05Мирон афина и Марсий.jpg"/>
          <p:cNvPicPr/>
          <p:nvPr/>
        </p:nvPicPr>
        <p:blipFill>
          <a:blip r:embed="rId2"/>
          <a:stretch/>
        </p:blipFill>
        <p:spPr>
          <a:xfrm>
            <a:off x="0" y="4357800"/>
            <a:ext cx="3882960" cy="2663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" descr="F:\мамино\11 класс\скульптура на урок2й3й\скульптура 11 класс\10 афина промахос.jpg"/>
          <p:cNvPicPr/>
          <p:nvPr/>
        </p:nvPicPr>
        <p:blipFill>
          <a:blip r:embed="rId3"/>
          <a:stretch/>
        </p:blipFill>
        <p:spPr>
          <a:xfrm>
            <a:off x="7358040" y="0"/>
            <a:ext cx="2016000" cy="36003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F:\мамино\11 класс\скульптура на урок2й3й\3_1_1_Iskusstvo_Drevnej_Grecii_Klassika_files\4.jpg"/>
          <p:cNvPicPr/>
          <p:nvPr/>
        </p:nvPicPr>
        <p:blipFill>
          <a:blip r:embed="rId4"/>
          <a:stretch/>
        </p:blipFill>
        <p:spPr>
          <a:xfrm>
            <a:off x="2643120" y="642960"/>
            <a:ext cx="4392720" cy="2952720"/>
          </a:xfrm>
          <a:prstGeom prst="rect">
            <a:avLst/>
          </a:prstGeom>
          <a:ln w="0">
            <a:noFill/>
          </a:ln>
        </p:spPr>
      </p:pic>
      <p:sp>
        <p:nvSpPr>
          <p:cNvPr id="532" name="TextBox 13"/>
          <p:cNvSpPr/>
          <p:nvPr/>
        </p:nvSpPr>
        <p:spPr>
          <a:xfrm>
            <a:off x="-142920" y="39290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ирон « Дискобол», « Афина и Марсий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TextBox 14"/>
          <p:cNvSpPr/>
          <p:nvPr/>
        </p:nvSpPr>
        <p:spPr>
          <a:xfrm>
            <a:off x="3000240" y="3571920"/>
            <a:ext cx="39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идий. Статуя Зевса Олимпийского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TextBox 15"/>
          <p:cNvSpPr/>
          <p:nvPr/>
        </p:nvSpPr>
        <p:spPr>
          <a:xfrm>
            <a:off x="7643880" y="3571920"/>
            <a:ext cx="16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идий Афи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омахо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5" name="Picture 6" descr="C:\Documents and Settings\Admin\Рабочий стол\Худ культура 9 класс\античность среднев\иллюстрации\дорифорpg.jpg"/>
          <p:cNvPicPr/>
          <p:nvPr/>
        </p:nvPicPr>
        <p:blipFill>
          <a:blip r:embed="rId5"/>
          <a:stretch/>
        </p:blipFill>
        <p:spPr>
          <a:xfrm>
            <a:off x="4429080" y="3929040"/>
            <a:ext cx="2781360" cy="325116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8"/>
          <p:cNvSpPr/>
          <p:nvPr/>
        </p:nvSpPr>
        <p:spPr>
          <a:xfrm>
            <a:off x="7250400" y="478620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ликле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 Дорифор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Крупнейшие европейские стили. </a:t>
            </a: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Античность </a:t>
            </a:r>
            <a:br>
              <a:rPr sz="4400"/>
            </a:br>
            <a:endParaRPr b="0" lang="en-US" sz="5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42680"/>
            <a:ext cx="40402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6000"/>
          </a:bodyPr>
          <a:p>
            <a:pPr marL="33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mbria"/>
            </a:endParaRPr>
          </a:p>
          <a:p>
            <a:pPr marL="33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33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Перик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3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4560" y="1285560"/>
            <a:ext cx="4041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Окт</a:t>
            </a:r>
            <a:r>
              <a:rPr b="1" lang="uk-UA" sz="2800" spc="-1" strike="noStrike">
                <a:solidFill>
                  <a:srgbClr val="ffffff"/>
                </a:solidFill>
                <a:latin typeface="Cambri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виан Август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84" name="Содержимое 9" descr="август_XL.jpg"/>
          <p:cNvPicPr/>
          <p:nvPr/>
        </p:nvPicPr>
        <p:blipFill>
          <a:blip r:embed="rId1"/>
          <a:stretch/>
        </p:blipFill>
        <p:spPr>
          <a:xfrm>
            <a:off x="4857840" y="2214720"/>
            <a:ext cx="3570120" cy="42145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2" descr="перикл.jpg"/>
          <p:cNvPicPr/>
          <p:nvPr/>
        </p:nvPicPr>
        <p:blipFill>
          <a:blip r:embed="rId2"/>
          <a:stretch/>
        </p:blipFill>
        <p:spPr>
          <a:xfrm>
            <a:off x="357120" y="2214720"/>
            <a:ext cx="35704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Живопись классического периода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538" name="Picture 2" descr="C:\Documents and Settings\Admin\Рабочий стол\Худ культура 9 класс\античность среднев\иллюстрации\гр ныр.jpg"/>
          <p:cNvPicPr/>
          <p:nvPr/>
        </p:nvPicPr>
        <p:blipFill>
          <a:blip r:embed="rId1"/>
          <a:stretch/>
        </p:blipFill>
        <p:spPr>
          <a:xfrm>
            <a:off x="4017960" y="1000080"/>
            <a:ext cx="5126040" cy="3203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C:\Documents and Settings\Admin\Рабочий стол\Худ культура 9 класс\античность среднев\иллюстрации\гр ныр1.jpg"/>
          <p:cNvPicPr/>
          <p:nvPr/>
        </p:nvPicPr>
        <p:blipFill>
          <a:blip r:embed="rId2"/>
          <a:stretch/>
        </p:blipFill>
        <p:spPr>
          <a:xfrm>
            <a:off x="-2357280" y="3705120"/>
            <a:ext cx="7619760" cy="3152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C:\Documents and Settings\Admin\Рабочий стол\Худ культура 9 класс\античность среднев\иллюстрации\0_383ef_246dfdea_XL.jpg"/>
          <p:cNvPicPr/>
          <p:nvPr/>
        </p:nvPicPr>
        <p:blipFill>
          <a:blip r:embed="rId3"/>
          <a:stretch/>
        </p:blipFill>
        <p:spPr>
          <a:xfrm>
            <a:off x="-2143080" y="1143000"/>
            <a:ext cx="5178240" cy="2627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C:\Documents and Settings\Admin\Рабочий стол\Худ культура 9 класс\античность среднев\иллюстрации\сц охоты.jpg"/>
          <p:cNvPicPr/>
          <p:nvPr/>
        </p:nvPicPr>
        <p:blipFill>
          <a:blip r:embed="rId4"/>
          <a:stretch/>
        </p:blipFill>
        <p:spPr>
          <a:xfrm>
            <a:off x="5483160" y="3870360"/>
            <a:ext cx="3660840" cy="2987640"/>
          </a:xfrm>
          <a:prstGeom prst="rect">
            <a:avLst/>
          </a:prstGeom>
          <a:ln w="0">
            <a:noFill/>
          </a:ln>
        </p:spPr>
      </p:pic>
      <p:sp>
        <p:nvSpPr>
          <p:cNvPr id="542" name="TextBox 6"/>
          <p:cNvSpPr/>
          <p:nvPr/>
        </p:nvSpPr>
        <p:spPr>
          <a:xfrm>
            <a:off x="2357280" y="642960"/>
            <a:ext cx="304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Гробница Ныряльщика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оздняя классика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0" y="857160"/>
            <a:ext cx="52164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Эсхил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(526 - 456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«Персы», «Агамемнон», «Прометей Прикованный »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«Медея»,«Киклоп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000760" y="1000080"/>
            <a:ext cx="428616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офокл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(90 - е гг. V в-406г. До н.э.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"Царь Эдип», «Антигона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46" name="Picture 2" descr="C:\Documents and Settings\Admin\Рабочий стол\Худ культура 9 класс\античность среднев\иллюстрации\Софокл.jpg"/>
          <p:cNvPicPr/>
          <p:nvPr/>
        </p:nvPicPr>
        <p:blipFill>
          <a:blip r:embed="rId1"/>
          <a:stretch/>
        </p:blipFill>
        <p:spPr>
          <a:xfrm>
            <a:off x="6357960" y="2286000"/>
            <a:ext cx="2279520" cy="27352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C:\Documents and Settings\Admin\Рабочий стол\Худ культура 9 класс\античность среднев\иллюстрации\Эсхилpg.jpg"/>
          <p:cNvPicPr/>
          <p:nvPr/>
        </p:nvPicPr>
        <p:blipFill>
          <a:blip r:embed="rId2"/>
          <a:stretch/>
        </p:blipFill>
        <p:spPr>
          <a:xfrm>
            <a:off x="0" y="2214720"/>
            <a:ext cx="2160720" cy="2592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C:\Documents and Settings\Admin\Рабочий стол\Худ культура 9 класс\античность среднев\иллюстрации\Новая папка\Еврипидdsggd.jpg"/>
          <p:cNvPicPr/>
          <p:nvPr/>
        </p:nvPicPr>
        <p:blipFill>
          <a:blip r:embed="rId3"/>
          <a:stretch/>
        </p:blipFill>
        <p:spPr>
          <a:xfrm>
            <a:off x="2428920" y="4429080"/>
            <a:ext cx="2286000" cy="2714760"/>
          </a:xfrm>
          <a:prstGeom prst="rect">
            <a:avLst/>
          </a:prstGeom>
          <a:ln w="0">
            <a:noFill/>
          </a:ln>
        </p:spPr>
      </p:pic>
      <p:sp>
        <p:nvSpPr>
          <p:cNvPr id="549" name="TextBox 7"/>
          <p:cNvSpPr/>
          <p:nvPr/>
        </p:nvSpPr>
        <p:spPr>
          <a:xfrm>
            <a:off x="2214720" y="3071880"/>
            <a:ext cx="41256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mbria"/>
              </a:rPr>
              <a:t>Эврипид</a:t>
            </a: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(446 - ок. 385 г. до н э.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50" name="Picture 2" descr="C:\Documents and Settings\Admin\Рабочий стол\Худ культура 9 класс\античность среднев\иллюстрации\280px-Bust_Alexander_BM_1857.jpg"/>
          <p:cNvPicPr/>
          <p:nvPr/>
        </p:nvPicPr>
        <p:blipFill>
          <a:blip r:embed="rId4"/>
          <a:stretch/>
        </p:blipFill>
        <p:spPr>
          <a:xfrm>
            <a:off x="6429240" y="-571680"/>
            <a:ext cx="10940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Галикарнасский мавзолей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552" name="Picture 3" descr="C:\Documents and Settings\Admin\Рабочий стол\Худ культура 9 класс\античность среднев\иллюстрации\галикарнjpg.jpg"/>
          <p:cNvPicPr/>
          <p:nvPr/>
        </p:nvPicPr>
        <p:blipFill>
          <a:blip r:embed="rId1"/>
          <a:stretch/>
        </p:blipFill>
        <p:spPr>
          <a:xfrm>
            <a:off x="428760" y="1428840"/>
            <a:ext cx="3301920" cy="29462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C:\Documents and Settings\Admin\Рабочий стол\Худ культура 9 класс\античность среднев\иллюстрации\Galikarnasskii-mavzolei1.jpg"/>
          <p:cNvPicPr/>
          <p:nvPr/>
        </p:nvPicPr>
        <p:blipFill>
          <a:blip r:embed="rId2"/>
          <a:stretch/>
        </p:blipFill>
        <p:spPr>
          <a:xfrm>
            <a:off x="3929040" y="1428840"/>
            <a:ext cx="5048280" cy="3343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C:\Documents and Settings\Admin\Рабочий стол\Худ культура 9 класс\античность среднев\иллюстрации\галикарн.jpg"/>
          <p:cNvPicPr/>
          <p:nvPr/>
        </p:nvPicPr>
        <p:blipFill>
          <a:blip r:embed="rId3"/>
          <a:stretch/>
        </p:blipFill>
        <p:spPr>
          <a:xfrm>
            <a:off x="214200" y="4429080"/>
            <a:ext cx="3565800" cy="2735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C:\Documents and Settings\Admin\Рабочий стол\Худ культура 9 класс\античность среднев\иллюстрации\мавсол и артемисияjpg.jpg"/>
          <p:cNvPicPr/>
          <p:nvPr/>
        </p:nvPicPr>
        <p:blipFill>
          <a:blip r:embed="rId4"/>
          <a:stretch/>
        </p:blipFill>
        <p:spPr>
          <a:xfrm>
            <a:off x="3786120" y="5040360"/>
            <a:ext cx="3267000" cy="3635280"/>
          </a:xfrm>
          <a:prstGeom prst="rect">
            <a:avLst/>
          </a:prstGeom>
          <a:ln w="0">
            <a:noFill/>
          </a:ln>
        </p:spPr>
      </p:pic>
      <p:sp>
        <p:nvSpPr>
          <p:cNvPr id="556" name="TextBox 10"/>
          <p:cNvSpPr/>
          <p:nvPr/>
        </p:nvSpPr>
        <p:spPr>
          <a:xfrm>
            <a:off x="6929280" y="578628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Мавсол и Артемиси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C:\Documents and Settings\Admin\Рабочий стол\Худ культура 9 класс\античность среднев\иллюстрации\скопас 2 менада2jpg.jpg"/>
          <p:cNvPicPr/>
          <p:nvPr/>
        </p:nvPicPr>
        <p:blipFill>
          <a:blip r:embed="rId1"/>
          <a:stretch/>
        </p:blipFill>
        <p:spPr>
          <a:xfrm>
            <a:off x="0" y="0"/>
            <a:ext cx="1979640" cy="3672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" descr="F:\мамино\11 класс\скульптура на урок2й3й\скульптура 11 класс\13. статуя афродиты книдской.jpg"/>
          <p:cNvPicPr/>
          <p:nvPr/>
        </p:nvPicPr>
        <p:blipFill>
          <a:blip r:embed="rId2"/>
          <a:stretch/>
        </p:blipFill>
        <p:spPr>
          <a:xfrm>
            <a:off x="6929280" y="0"/>
            <a:ext cx="1584360" cy="33847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C:\Documents and Settings\Admin\Рабочий стол\Худ культура 9 класс\античность среднев\иллюстрации\Гермесjpg.jpg"/>
          <p:cNvPicPr/>
          <p:nvPr/>
        </p:nvPicPr>
        <p:blipFill>
          <a:blip r:embed="rId3"/>
          <a:stretch/>
        </p:blipFill>
        <p:spPr>
          <a:xfrm>
            <a:off x="4500720" y="0"/>
            <a:ext cx="1776240" cy="31320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8"/>
          <p:cNvSpPr/>
          <p:nvPr/>
        </p:nvSpPr>
        <p:spPr>
          <a:xfrm>
            <a:off x="0" y="3714840"/>
            <a:ext cx="20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копас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Менада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1" name="TextBox 9"/>
          <p:cNvSpPr/>
          <p:nvPr/>
        </p:nvSpPr>
        <p:spPr>
          <a:xfrm>
            <a:off x="4572000" y="321480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ракситель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Гермес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 младенцем Дионисом»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TextBox 10"/>
          <p:cNvSpPr/>
          <p:nvPr/>
        </p:nvSpPr>
        <p:spPr>
          <a:xfrm>
            <a:off x="6929280" y="3429000"/>
            <a:ext cx="150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ракситель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Афродит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нидская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63" name="Picture 5" descr="C:\Documents and Settings\Admin\Рабочий стол\Худ культура 9 класс\античность среднев\иллюстрации\czar02.jpg"/>
          <p:cNvPicPr/>
          <p:nvPr/>
        </p:nvPicPr>
        <p:blipFill>
          <a:blip r:embed="rId4"/>
          <a:stretch/>
        </p:blipFill>
        <p:spPr>
          <a:xfrm>
            <a:off x="0" y="4357800"/>
            <a:ext cx="2090880" cy="3240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C:\Documents and Settings\Admin\Рабочий стол\Худ культура 9 класс\античность среднев\иллюстрации\granik.jpg"/>
          <p:cNvPicPr/>
          <p:nvPr/>
        </p:nvPicPr>
        <p:blipFill>
          <a:blip r:embed="rId5"/>
          <a:stretch/>
        </p:blipFill>
        <p:spPr>
          <a:xfrm>
            <a:off x="2143080" y="4214880"/>
            <a:ext cx="4803840" cy="3419280"/>
          </a:xfrm>
          <a:prstGeom prst="rect">
            <a:avLst/>
          </a:prstGeom>
          <a:ln w="0">
            <a:noFill/>
          </a:ln>
        </p:spPr>
      </p:pic>
      <p:sp>
        <p:nvSpPr>
          <p:cNvPr id="565" name="Прямоугольник 14"/>
          <p:cNvSpPr/>
          <p:nvPr/>
        </p:nvSpPr>
        <p:spPr>
          <a:xfrm>
            <a:off x="6814440" y="500076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итва Александр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 Дарием при Иссах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66" name="Picture 7" descr="F:\мамино\11 класс\скульптура на урок2й3й\скульптура 11 класс\19 апллон бельведерский Леохар.jpg"/>
          <p:cNvPicPr/>
          <p:nvPr/>
        </p:nvPicPr>
        <p:blipFill>
          <a:blip r:embed="rId6"/>
          <a:stretch/>
        </p:blipFill>
        <p:spPr>
          <a:xfrm>
            <a:off x="2428920" y="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567" name="TextBox 16"/>
          <p:cNvSpPr/>
          <p:nvPr/>
        </p:nvSpPr>
        <p:spPr>
          <a:xfrm>
            <a:off x="2277000" y="3286080"/>
            <a:ext cx="23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Леохар « Аполлон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ельведерский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5.Эллинистическая  культура </a:t>
            </a:r>
            <a:br>
              <a:rPr sz="40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конец IVст. до. н.э -I ст. н.э.)</a:t>
            </a:r>
            <a:br>
              <a:rPr sz="2400"/>
            </a:b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0" y="1071720"/>
            <a:ext cx="436104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Александрийский  маяк был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репостью -форпостом Александрии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 наблюдательным пунктом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н построен  в  виде трехэтажной башни высотой 120 метров. На третьем этаже, в круглой, обнесенной колоннами башне,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ечно горел громадный костер, отражавшийся сложной системой зеркал. Дрова для костра доставлялись наверх по спиральной лестнице, такой пологой и широкой, что по ней на стометровую высоту въезжали повозки, запряженные ослам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а башне находилось множество остроумных технических приспособлений: флюгера, астрономические приборы, час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929280" y="928800"/>
            <a:ext cx="221472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Маяк был настолько великолепен, что Сострат Книдский, его  создатель, страшась забвения, пошел на рискованное нарушение указов Птоломеев.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В основании маяка он высек надпись: "Сострат, сын Декстифона из Книда, посвятил богам-спасителям ради мореплавателей". Надпись он прикрыл слоем штукатурки, на которой было вырезано имя Птоломея Сотера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71" name="Picture 2" descr="C:\Documents and Settings\Admin\Рабочий стол\Худ культура 9 класс\античность среднев\иллюстрации\faros_mayak3.jpg"/>
          <p:cNvPicPr/>
          <p:nvPr/>
        </p:nvPicPr>
        <p:blipFill>
          <a:blip r:embed="rId1"/>
          <a:stretch/>
        </p:blipFill>
        <p:spPr>
          <a:xfrm>
            <a:off x="4357800" y="1428840"/>
            <a:ext cx="3052800" cy="4176720"/>
          </a:xfrm>
          <a:prstGeom prst="rect">
            <a:avLst/>
          </a:prstGeom>
          <a:ln w="0">
            <a:noFill/>
          </a:ln>
        </p:spPr>
      </p:pic>
      <p:sp>
        <p:nvSpPr>
          <p:cNvPr id="572" name="TextBox 6"/>
          <p:cNvSpPr/>
          <p:nvPr/>
        </p:nvSpPr>
        <p:spPr>
          <a:xfrm>
            <a:off x="4591080" y="6000840"/>
            <a:ext cx="31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Александрийский маяк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Сострат Книдски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Пергамский алтарь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574" name="Picture 2" descr="C:\Documents and Settings\Admin\Рабочий стол\Худ культура 9 класс\античность среднев\иллюстрации\перг алт.jpg"/>
          <p:cNvPicPr/>
          <p:nvPr/>
        </p:nvPicPr>
        <p:blipFill>
          <a:blip r:embed="rId1"/>
          <a:stretch/>
        </p:blipFill>
        <p:spPr>
          <a:xfrm>
            <a:off x="-500040" y="738360"/>
            <a:ext cx="4743360" cy="61196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C:\Documents and Settings\Admin\Рабочий стол\Худ культура 9 класс\античность среднев\иллюстрации\sпергам Борьба афины с гигантомpg.jpg"/>
          <p:cNvPicPr/>
          <p:nvPr/>
        </p:nvPicPr>
        <p:blipFill>
          <a:blip r:embed="rId2"/>
          <a:stretch/>
        </p:blipFill>
        <p:spPr>
          <a:xfrm>
            <a:off x="4429080" y="857160"/>
            <a:ext cx="4923000" cy="28796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" descr="C:\Documents and Settings\Admin\Рабочий стол\Худ культура 9 класс\античность среднев\иллюстрации\борьба зевса с гигантами.jpg"/>
          <p:cNvPicPr/>
          <p:nvPr/>
        </p:nvPicPr>
        <p:blipFill>
          <a:blip r:embed="rId3"/>
          <a:stretch/>
        </p:blipFill>
        <p:spPr>
          <a:xfrm>
            <a:off x="4429080" y="3978360"/>
            <a:ext cx="4881600" cy="2879640"/>
          </a:xfrm>
          <a:prstGeom prst="rect">
            <a:avLst/>
          </a:prstGeom>
          <a:ln w="0">
            <a:noFill/>
          </a:ln>
        </p:spPr>
      </p:pic>
      <p:sp>
        <p:nvSpPr>
          <p:cNvPr id="577" name="TextBox 9"/>
          <p:cNvSpPr/>
          <p:nvPr/>
        </p:nvSpPr>
        <p:spPr>
          <a:xfrm>
            <a:off x="4643280" y="37148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орьба Зевса с гигантами ( фрагмент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8" name="TextBox 10"/>
          <p:cNvSpPr/>
          <p:nvPr/>
        </p:nvSpPr>
        <p:spPr>
          <a:xfrm>
            <a:off x="4816080" y="571680"/>
            <a:ext cx="48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орьба Афины с гигантом ( фрагмент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ocuments and Settings\Admin\Рабочий стол\11 класс для уроков\контрольные 11 класс\скульптура Контрольная\Новая папка\09 агесандр афродита милосская.jpg"/>
          <p:cNvPicPr/>
          <p:nvPr/>
        </p:nvPicPr>
        <p:blipFill>
          <a:blip r:embed="rId1"/>
          <a:stretch/>
        </p:blipFill>
        <p:spPr>
          <a:xfrm>
            <a:off x="0" y="0"/>
            <a:ext cx="1495440" cy="3708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" descr="C:\Documents and Settings\Admin\Рабочий стол\11 класс для уроков\контрольные 11 класс\скульптура Контрольная\Новая папка\11 ника Самофрауийская.jpg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35272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C:\Documents and Settings\Admin\Рабочий стол\11 класс для уроков\контрольные 11 класс\скульптура Контрольная\Новая папка\07 Лаокоон.jpg"/>
          <p:cNvPicPr/>
          <p:nvPr/>
        </p:nvPicPr>
        <p:blipFill>
          <a:blip r:embed="rId3"/>
          <a:stretch/>
        </p:blipFill>
        <p:spPr>
          <a:xfrm>
            <a:off x="1928880" y="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582" name="TextBox 4"/>
          <p:cNvSpPr/>
          <p:nvPr/>
        </p:nvSpPr>
        <p:spPr>
          <a:xfrm>
            <a:off x="2000160" y="400068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кульптурная групп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Лаокоон с сыновьями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6357960" y="350028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еизвестный ав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Ника Самофракийская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Прямоугольник 7"/>
          <p:cNvSpPr/>
          <p:nvPr/>
        </p:nvSpPr>
        <p:spPr>
          <a:xfrm>
            <a:off x="2000160" y="3929040"/>
            <a:ext cx="35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гесандр, Полидор. Атенод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0" y="3643200"/>
            <a:ext cx="15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гесанд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Венера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Милосская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86" name="Picture 6" descr="C:\Documents and Settings\Admin\Рабочий стол\Худ культура 9 класс\античность среднев\иллюстрации\30238692.jpg"/>
          <p:cNvPicPr/>
          <p:nvPr/>
        </p:nvPicPr>
        <p:blipFill>
          <a:blip r:embed="rId4"/>
          <a:stretch/>
        </p:blipFill>
        <p:spPr>
          <a:xfrm>
            <a:off x="5286240" y="4429080"/>
            <a:ext cx="2678400" cy="3311640"/>
          </a:xfrm>
          <a:prstGeom prst="rect">
            <a:avLst/>
          </a:prstGeom>
          <a:ln w="0">
            <a:noFill/>
          </a:ln>
        </p:spPr>
      </p:pic>
      <p:sp>
        <p:nvSpPr>
          <p:cNvPr id="587" name="TextBox 11"/>
          <p:cNvSpPr/>
          <p:nvPr/>
        </p:nvSpPr>
        <p:spPr>
          <a:xfrm>
            <a:off x="2857680" y="557208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амея Гонзаг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ультура Древнего Рима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89" name="Прямоугольник 3"/>
          <p:cNvSpPr/>
          <p:nvPr/>
        </p:nvSpPr>
        <p:spPr>
          <a:xfrm>
            <a:off x="1071720" y="1000080"/>
            <a:ext cx="67150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Культура древнего Рима представлена ​​следующими периодами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:</a:t>
            </a:r>
            <a:br>
              <a:rPr sz="1800"/>
            </a:b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Царский период - VIII-VI вв до н. есть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Республиканский период-V-I вв до н.е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Имперский период-I-V вв н.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90" name="Picture 2" descr="C:\Documents and Settings\Admin\Рабочий стол\Худ культура 9 класс\античность среднев\иллюстрации\римск форум.jpg"/>
          <p:cNvPicPr/>
          <p:nvPr/>
        </p:nvPicPr>
        <p:blipFill>
          <a:blip r:embed="rId1"/>
          <a:stretch/>
        </p:blipFill>
        <p:spPr>
          <a:xfrm>
            <a:off x="571680" y="3143160"/>
            <a:ext cx="7041960" cy="3456000"/>
          </a:xfrm>
          <a:prstGeom prst="rect">
            <a:avLst/>
          </a:prstGeom>
          <a:ln w="0">
            <a:noFill/>
          </a:ln>
        </p:spPr>
      </p:pic>
      <p:sp>
        <p:nvSpPr>
          <p:cNvPr id="591" name="TextBox 7"/>
          <p:cNvSpPr/>
          <p:nvPr/>
        </p:nvSpPr>
        <p:spPr>
          <a:xfrm>
            <a:off x="7810200" y="4000680"/>
            <a:ext cx="12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Римски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фору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3" descr="C:\Documents and Settings\Admin\Рабочий стол\Худ культура 9 класс\античность среднев\иллюстрации\Kolizey-v-Rime-foto-17.jpg"/>
          <p:cNvPicPr/>
          <p:nvPr/>
        </p:nvPicPr>
        <p:blipFill>
          <a:blip r:embed="rId1"/>
          <a:stretch/>
        </p:blipFill>
        <p:spPr>
          <a:xfrm>
            <a:off x="0" y="3402000"/>
            <a:ext cx="4321080" cy="3456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C:\Documents and Settings\Admin\Рабочий стол\Худ культура 9 класс\античность среднев\иллюстрации\колонна траяна.jpg"/>
          <p:cNvPicPr/>
          <p:nvPr/>
        </p:nvPicPr>
        <p:blipFill>
          <a:blip r:embed="rId2"/>
          <a:stretch/>
        </p:blipFill>
        <p:spPr>
          <a:xfrm>
            <a:off x="6000840" y="3214800"/>
            <a:ext cx="2973240" cy="4464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C:\Documents and Settings\Admin\Рабочий стол\Худ культура 9 класс\античность среднев\иллюстрации\пантеон715.jpg"/>
          <p:cNvPicPr/>
          <p:nvPr/>
        </p:nvPicPr>
        <p:blipFill>
          <a:blip r:embed="rId3"/>
          <a:stretch/>
        </p:blipFill>
        <p:spPr>
          <a:xfrm>
            <a:off x="0" y="0"/>
            <a:ext cx="4227480" cy="31687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C:\Documents and Settings\Admin\Рабочий стол\Худ культура 9 класс\античность среднев\иллюстрации\rim-panteon.jpg"/>
          <p:cNvPicPr/>
          <p:nvPr/>
        </p:nvPicPr>
        <p:blipFill>
          <a:blip r:embed="rId4"/>
          <a:stretch/>
        </p:blipFill>
        <p:spPr>
          <a:xfrm>
            <a:off x="5932440" y="0"/>
            <a:ext cx="3211560" cy="3168720"/>
          </a:xfrm>
          <a:prstGeom prst="rect">
            <a:avLst/>
          </a:prstGeom>
          <a:ln w="0">
            <a:noFill/>
          </a:ln>
        </p:spPr>
      </p:pic>
      <p:sp>
        <p:nvSpPr>
          <p:cNvPr id="596" name="TextBox 7"/>
          <p:cNvSpPr/>
          <p:nvPr/>
        </p:nvSpPr>
        <p:spPr>
          <a:xfrm>
            <a:off x="4357800" y="642960"/>
            <a:ext cx="14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антеон-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храм всех богов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7" name="TextBox 8"/>
          <p:cNvSpPr/>
          <p:nvPr/>
        </p:nvSpPr>
        <p:spPr>
          <a:xfrm>
            <a:off x="5857920" y="32860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олонна Трая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8" name="TextBox 9"/>
          <p:cNvSpPr/>
          <p:nvPr/>
        </p:nvSpPr>
        <p:spPr>
          <a:xfrm>
            <a:off x="4321440" y="40006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олизе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C:\Documents and Settings\Admin\Рабочий стол\Худ культура 9 класс\античность среднев\иллюстрации\каракалла.jpg"/>
          <p:cNvPicPr/>
          <p:nvPr/>
        </p:nvPicPr>
        <p:blipFill>
          <a:blip r:embed="rId1"/>
          <a:stretch/>
        </p:blipFill>
        <p:spPr>
          <a:xfrm>
            <a:off x="0" y="0"/>
            <a:ext cx="3441600" cy="4176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C:\Documents and Settings\Admin\Рабочий стол\Худ культура 9 класс\античность среднев\иллюстрации\октавиан Август.jpg"/>
          <p:cNvPicPr/>
          <p:nvPr/>
        </p:nvPicPr>
        <p:blipFill>
          <a:blip r:embed="rId2"/>
          <a:stretch/>
        </p:blipFill>
        <p:spPr>
          <a:xfrm>
            <a:off x="6350040" y="0"/>
            <a:ext cx="2735280" cy="41036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C:\Documents and Settings\Admin\Рабочий стол\Худ культура 9 класс\античность среднев\иллюстрации\476px-ImageRomeArchofTitus02.jpg"/>
          <p:cNvPicPr/>
          <p:nvPr/>
        </p:nvPicPr>
        <p:blipFill>
          <a:blip r:embed="rId3"/>
          <a:stretch/>
        </p:blipFill>
        <p:spPr>
          <a:xfrm>
            <a:off x="3357720" y="3000240"/>
            <a:ext cx="3233520" cy="40687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6"/>
          <p:cNvSpPr/>
          <p:nvPr/>
        </p:nvSpPr>
        <p:spPr>
          <a:xfrm>
            <a:off x="158400" y="407196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мператор Каракалл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3" name="TextBox 7"/>
          <p:cNvSpPr/>
          <p:nvPr/>
        </p:nvSpPr>
        <p:spPr>
          <a:xfrm>
            <a:off x="6615000" y="43578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мператор Авгус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4" name="TextBox 8"/>
          <p:cNvSpPr/>
          <p:nvPr/>
        </p:nvSpPr>
        <p:spPr>
          <a:xfrm>
            <a:off x="3357720" y="2523960"/>
            <a:ext cx="28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риумфальная арка Тит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7" descr="raffael-the-school-of-athens.jpg"/>
          <p:cNvPicPr/>
          <p:nvPr/>
        </p:nvPicPr>
        <p:blipFill>
          <a:blip r:embed="rId1"/>
          <a:stretch/>
        </p:blipFill>
        <p:spPr>
          <a:xfrm>
            <a:off x="0" y="1357200"/>
            <a:ext cx="6137280" cy="4572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Documents and Settings\Admin\Рабочий стол\Худ культура 9 класс\античность среднев\иллюстрации\ЭвклидStatueOxford.jpg"/>
          <p:cNvPicPr/>
          <p:nvPr/>
        </p:nvPicPr>
        <p:blipFill>
          <a:blip r:embed="rId2"/>
          <a:stretch/>
        </p:blipFill>
        <p:spPr>
          <a:xfrm>
            <a:off x="6429240" y="3286080"/>
            <a:ext cx="2341800" cy="32083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евняя Греция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00040" y="642600"/>
            <a:ext cx="55008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Рафаэль « Афинская школа» Платон и Аристотель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71760" y="2928960"/>
            <a:ext cx="2622600" cy="31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Эвклид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1" name="Picture 3" descr="C:\Documents and Settings\Admin\Рабочий стол\Худ культура 9 класс\античность среднев\иллюстрации\Платон и арист.jpg"/>
          <p:cNvPicPr/>
          <p:nvPr/>
        </p:nvPicPr>
        <p:blipFill>
          <a:blip r:embed="rId3"/>
          <a:stretch/>
        </p:blipFill>
        <p:spPr>
          <a:xfrm>
            <a:off x="6238800" y="0"/>
            <a:ext cx="29052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C:\Documents and Settings\Admin\Рабочий стол\Худ культура 9 класс\античность среднев\иллюстрации\342px-Fayum-Man-Gold-Crown.jpg"/>
          <p:cNvPicPr/>
          <p:nvPr/>
        </p:nvPicPr>
        <p:blipFill>
          <a:blip r:embed="rId1"/>
          <a:stretch/>
        </p:blipFill>
        <p:spPr>
          <a:xfrm>
            <a:off x="142920" y="714240"/>
            <a:ext cx="2297160" cy="403236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Фаюмские портреты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607" name="Picture 3" descr="C:\Documents and Settings\Admin\Рабочий стол\Худ культура 9 класс\античность среднев\иллюстрации\450px-Portrait_du_Fayoum_01a.JPG"/>
          <p:cNvPicPr/>
          <p:nvPr/>
        </p:nvPicPr>
        <p:blipFill>
          <a:blip r:embed="rId2"/>
          <a:stretch/>
        </p:blipFill>
        <p:spPr>
          <a:xfrm>
            <a:off x="2714760" y="714240"/>
            <a:ext cx="3051000" cy="4068720"/>
          </a:xfrm>
          <a:prstGeom prst="rect">
            <a:avLst/>
          </a:prstGeom>
          <a:ln w="0">
            <a:noFill/>
          </a:ln>
        </p:spPr>
      </p:pic>
      <p:sp>
        <p:nvSpPr>
          <p:cNvPr id="608" name="TextBox 10"/>
          <p:cNvSpPr/>
          <p:nvPr/>
        </p:nvSpPr>
        <p:spPr>
          <a:xfrm>
            <a:off x="2643120" y="47862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ртрет молодой девушк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09" name="Picture 5" descr="C:\Documents and Settings\Admin\Рабочий стол\Худ культура 9 класс\античность среднев\иллюстрации\Portrait_d’homme_barbu.jpg"/>
          <p:cNvPicPr/>
          <p:nvPr/>
        </p:nvPicPr>
        <p:blipFill>
          <a:blip r:embed="rId3"/>
          <a:stretch/>
        </p:blipFill>
        <p:spPr>
          <a:xfrm>
            <a:off x="6072120" y="714240"/>
            <a:ext cx="2933640" cy="4032360"/>
          </a:xfrm>
          <a:prstGeom prst="rect">
            <a:avLst/>
          </a:prstGeom>
          <a:ln w="0">
            <a:noFill/>
          </a:ln>
        </p:spPr>
      </p:pic>
      <p:sp>
        <p:nvSpPr>
          <p:cNvPr id="610" name="TextBox 12"/>
          <p:cNvSpPr/>
          <p:nvPr/>
        </p:nvSpPr>
        <p:spPr>
          <a:xfrm>
            <a:off x="6357960" y="471492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ртрет мужчины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 растением в руках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285840" y="47149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ртрет юнош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2" name="TextBox 14"/>
          <p:cNvSpPr/>
          <p:nvPr/>
        </p:nvSpPr>
        <p:spPr>
          <a:xfrm>
            <a:off x="428760" y="5214960"/>
            <a:ext cx="8386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аюмские портреты — лучшие сохранившиеся образцы античной живописи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ни изображают лица жителей древнего Египта в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Эллинистический и Римский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ериоды в I—III веках нашей эры. Ранние фаюмские портреты выполнены в технике  энкаустики- это восковая живопись расплавленными красками. Портрет заменяет традиционную погребальную маску на мумии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614" name="Picture 3" descr="C:\Documents and Settings\Admin\Рабочий стол\Худ культура 9 класс\античность среднев\иллюстрации\КЛЕОПАТРАpg.jpg"/>
          <p:cNvPicPr/>
          <p:nvPr/>
        </p:nvPicPr>
        <p:blipFill>
          <a:blip r:embed="rId1"/>
          <a:stretch/>
        </p:blipFill>
        <p:spPr>
          <a:xfrm>
            <a:off x="142920" y="714240"/>
            <a:ext cx="2286000" cy="2826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C:\Documents and Settings\Admin\Рабочий стол\Худ культура 9 класс\античность среднев\иллюстрации\241418-Leyzif2000.jpg"/>
          <p:cNvPicPr/>
          <p:nvPr/>
        </p:nvPicPr>
        <p:blipFill>
          <a:blip r:embed="rId2"/>
          <a:stretch/>
        </p:blipFill>
        <p:spPr>
          <a:xfrm>
            <a:off x="1714680" y="3643200"/>
            <a:ext cx="5400360" cy="36482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C:\Documents and Settings\Admin\Рабочий стол\Худ культура 9 класс\античность среднев\иллюстрации\МАРК АНТОНИЙjpg.jpg"/>
          <p:cNvPicPr/>
          <p:nvPr/>
        </p:nvPicPr>
        <p:blipFill>
          <a:blip r:embed="rId3"/>
          <a:stretch/>
        </p:blipFill>
        <p:spPr>
          <a:xfrm>
            <a:off x="2786040" y="857160"/>
            <a:ext cx="1714680" cy="2411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C:\Documents and Settings\Admin\Рабочий стол\Худ культура 9 класс\античность среднев\иллюстрации\ЮЛИЙ ЦЕЗАРЬjpg.jpg"/>
          <p:cNvPicPr/>
          <p:nvPr/>
        </p:nvPicPr>
        <p:blipFill>
          <a:blip r:embed="rId4"/>
          <a:stretch/>
        </p:blipFill>
        <p:spPr>
          <a:xfrm>
            <a:off x="4929120" y="571680"/>
            <a:ext cx="3452760" cy="27349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C:\Documents and Settings\Admin\Рабочий стол\Худ культура 9 класс\античность среднев\иллюстрации\НЕРОН.JPG"/>
          <p:cNvPicPr/>
          <p:nvPr/>
        </p:nvPicPr>
        <p:blipFill>
          <a:blip r:embed="rId5"/>
          <a:stretch/>
        </p:blipFill>
        <p:spPr>
          <a:xfrm>
            <a:off x="7048440" y="3429000"/>
            <a:ext cx="2095560" cy="31240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C:\Documents and Settings\Admin\Рабочий стол\Худ культура 9 класс\античность среднев\иллюстрации\КАЛИГУЛА.jpg"/>
          <p:cNvPicPr/>
          <p:nvPr/>
        </p:nvPicPr>
        <p:blipFill>
          <a:blip r:embed="rId6"/>
          <a:stretch/>
        </p:blipFill>
        <p:spPr>
          <a:xfrm>
            <a:off x="-642960" y="3726000"/>
            <a:ext cx="2214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C:\Documents and Settings\Admin\Рабочий стол\Худ культура 9 класс\античность среднев\иллюстрации\Зевс_nike.jpg"/>
          <p:cNvPicPr/>
          <p:nvPr/>
        </p:nvPicPr>
        <p:blipFill>
          <a:blip r:embed="rId1"/>
          <a:stretch/>
        </p:blipFill>
        <p:spPr>
          <a:xfrm>
            <a:off x="3929040" y="714240"/>
            <a:ext cx="1200240" cy="1476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C:\Documents and Settings\Admin\Рабочий стол\Худ культура 9 класс\античность среднев\иллюстрации\посейдон.jpg"/>
          <p:cNvPicPr/>
          <p:nvPr/>
        </p:nvPicPr>
        <p:blipFill>
          <a:blip r:embed="rId2"/>
          <a:stretch/>
        </p:blipFill>
        <p:spPr>
          <a:xfrm>
            <a:off x="7215120" y="714240"/>
            <a:ext cx="1154160" cy="1368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C:\Documents and Settings\Admin\Рабочий стол\Худ культура 9 класс\античность среднев\иллюстрации\аид.jpg"/>
          <p:cNvPicPr/>
          <p:nvPr/>
        </p:nvPicPr>
        <p:blipFill>
          <a:blip r:embed="rId3"/>
          <a:stretch/>
        </p:blipFill>
        <p:spPr>
          <a:xfrm>
            <a:off x="1428840" y="785880"/>
            <a:ext cx="939600" cy="1368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356760" y="999720"/>
            <a:ext cx="403884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0012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Боги Древней Греции и Рима</a:t>
            </a:r>
            <a:endParaRPr b="0" lang="en-US" sz="36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97" name="TextBox 14"/>
          <p:cNvSpPr/>
          <p:nvPr/>
        </p:nvSpPr>
        <p:spPr>
          <a:xfrm>
            <a:off x="2643120" y="85716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Зев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Юпитер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TextBox 15"/>
          <p:cNvSpPr/>
          <p:nvPr/>
        </p:nvSpPr>
        <p:spPr>
          <a:xfrm>
            <a:off x="214200" y="92880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ид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Плутон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TextBox 17"/>
          <p:cNvSpPr/>
          <p:nvPr/>
        </p:nvSpPr>
        <p:spPr>
          <a:xfrm>
            <a:off x="5786280" y="8571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осейдон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Нептун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0" name="Picture 5" descr="C:\Documents and Settings\Admin\Рабочий стол\Худ культура 9 класс\античность среднев\иллюстрации\Гера.jpg"/>
          <p:cNvPicPr/>
          <p:nvPr/>
        </p:nvPicPr>
        <p:blipFill>
          <a:blip r:embed="rId4"/>
          <a:stretch/>
        </p:blipFill>
        <p:spPr>
          <a:xfrm>
            <a:off x="5143680" y="2143080"/>
            <a:ext cx="803160" cy="140328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9"/>
          <p:cNvSpPr/>
          <p:nvPr/>
        </p:nvSpPr>
        <p:spPr>
          <a:xfrm>
            <a:off x="3714840" y="25002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Гер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Юнон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2" name="Picture 6" descr="C:\Documents and Settings\Admin\Рабочий стол\Худ культура 9 класс\античность среднев\иллюстрации\афина.jpg"/>
          <p:cNvPicPr/>
          <p:nvPr/>
        </p:nvPicPr>
        <p:blipFill>
          <a:blip r:embed="rId5"/>
          <a:stretch/>
        </p:blipFill>
        <p:spPr>
          <a:xfrm>
            <a:off x="1000080" y="2857680"/>
            <a:ext cx="916200" cy="1295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C:\Documents and Settings\Admin\Рабочий стол\Худ культура 9 класс\античность среднев\иллюстрации\аполлон.gif"/>
          <p:cNvPicPr/>
          <p:nvPr/>
        </p:nvPicPr>
        <p:blipFill>
          <a:blip r:embed="rId6"/>
          <a:stretch/>
        </p:blipFill>
        <p:spPr>
          <a:xfrm>
            <a:off x="3929040" y="3500280"/>
            <a:ext cx="1476360" cy="1619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C:\Documents and Settings\Admin\Рабочий стол\Худ культура 9 класс\античность среднев\иллюстрации\aртемидаjpg.jpg"/>
          <p:cNvPicPr/>
          <p:nvPr/>
        </p:nvPicPr>
        <p:blipFill>
          <a:blip r:embed="rId7"/>
          <a:stretch/>
        </p:blipFill>
        <p:spPr>
          <a:xfrm>
            <a:off x="7500960" y="2643120"/>
            <a:ext cx="969840" cy="12607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23"/>
          <p:cNvSpPr/>
          <p:nvPr/>
        </p:nvSpPr>
        <p:spPr>
          <a:xfrm>
            <a:off x="0" y="385776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фи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Минерв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TextBox 24"/>
          <p:cNvSpPr/>
          <p:nvPr/>
        </p:nvSpPr>
        <p:spPr>
          <a:xfrm>
            <a:off x="2786040" y="3857760"/>
            <a:ext cx="12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поллон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TextBox 25"/>
          <p:cNvSpPr/>
          <p:nvPr/>
        </p:nvSpPr>
        <p:spPr>
          <a:xfrm>
            <a:off x="6072120" y="36432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ртемид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Диан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8" name="Picture 9" descr="C:\Documents and Settings\Admin\Рабочий стол\Худ культура 9 класс\античность среднев\иллюстрации\Афродита.jpg"/>
          <p:cNvPicPr/>
          <p:nvPr/>
        </p:nvPicPr>
        <p:blipFill>
          <a:blip r:embed="rId8"/>
          <a:stretch/>
        </p:blipFill>
        <p:spPr>
          <a:xfrm>
            <a:off x="500040" y="4857840"/>
            <a:ext cx="1244520" cy="1116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C:\Documents and Settings\Admin\Рабочий стол\Худ культура 9 класс\античность среднев\иллюстрации\дионисjpg.jpg"/>
          <p:cNvPicPr/>
          <p:nvPr/>
        </p:nvPicPr>
        <p:blipFill>
          <a:blip r:embed="rId9"/>
          <a:stretch/>
        </p:blipFill>
        <p:spPr>
          <a:xfrm>
            <a:off x="7572240" y="4429080"/>
            <a:ext cx="652680" cy="133200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0"/>
          <p:cNvSpPr/>
          <p:nvPr/>
        </p:nvSpPr>
        <p:spPr>
          <a:xfrm>
            <a:off x="448560" y="614376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фродит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Венер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1" name="TextBox 31"/>
          <p:cNvSpPr/>
          <p:nvPr/>
        </p:nvSpPr>
        <p:spPr>
          <a:xfrm rot="405000">
            <a:off x="7253280" y="574812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Дионис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Вакх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TextBox 32"/>
          <p:cNvSpPr/>
          <p:nvPr/>
        </p:nvSpPr>
        <p:spPr>
          <a:xfrm>
            <a:off x="5500800" y="621180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Герме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Меркури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Picture 15" descr="C:\Documents and Settings\Admin\Рабочий стол\Худ культура 9 класс\античность среднев\иллюстрации\Гермес.JPG"/>
          <p:cNvPicPr/>
          <p:nvPr/>
        </p:nvPicPr>
        <p:blipFill>
          <a:blip r:embed="rId10"/>
          <a:stretch/>
        </p:blipFill>
        <p:spPr>
          <a:xfrm>
            <a:off x="5357880" y="4500720"/>
            <a:ext cx="1342800" cy="1618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8" descr="C:\Documents and Settings\Admin\Рабочий стол\Худ культура 9 класс\античность среднев\иллюстрации\c_Ares-Mars.JPG"/>
          <p:cNvPicPr/>
          <p:nvPr/>
        </p:nvPicPr>
        <p:blipFill>
          <a:blip r:embed="rId11"/>
          <a:stretch/>
        </p:blipFill>
        <p:spPr>
          <a:xfrm>
            <a:off x="1857240" y="5214960"/>
            <a:ext cx="1106640" cy="1476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8"/>
          <p:cNvSpPr/>
          <p:nvPr/>
        </p:nvSpPr>
        <p:spPr>
          <a:xfrm>
            <a:off x="2000160" y="657216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ре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Марс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6" name="Picture 19" descr="C:\Documents and Settings\Admin\Рабочий стол\Худ культура 9 класс\античность среднев\иллюстрации\Гефест25.JPG"/>
          <p:cNvPicPr/>
          <p:nvPr/>
        </p:nvPicPr>
        <p:blipFill>
          <a:blip r:embed="rId12"/>
          <a:stretch/>
        </p:blipFill>
        <p:spPr>
          <a:xfrm>
            <a:off x="3214800" y="5072040"/>
            <a:ext cx="2165400" cy="16192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51"/>
          <p:cNvSpPr/>
          <p:nvPr/>
        </p:nvSpPr>
        <p:spPr>
          <a:xfrm>
            <a:off x="3357720" y="65721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Гефес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Вулкан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Герои 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19" name="Picture 2" descr="C:\Documents and Settings\Admin\Рабочий стол\Худ культура 9 класс\античность среднев\иллюстрации\Тесей и минои.jpg"/>
          <p:cNvPicPr/>
          <p:nvPr/>
        </p:nvPicPr>
        <p:blipFill>
          <a:blip r:embed="rId1"/>
          <a:stretch/>
        </p:blipFill>
        <p:spPr>
          <a:xfrm>
            <a:off x="142920" y="142920"/>
            <a:ext cx="3092400" cy="3419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Documents and Settings\Admin\Рабочий стол\Худ культура 9 класс\античность среднев\иллюстрации\лисипп pg.jpg"/>
          <p:cNvPicPr/>
          <p:nvPr/>
        </p:nvPicPr>
        <p:blipFill>
          <a:blip r:embed="rId2"/>
          <a:stretch/>
        </p:blipFill>
        <p:spPr>
          <a:xfrm>
            <a:off x="0" y="4214880"/>
            <a:ext cx="2314440" cy="3851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C:\Documents and Settings\Admin\Рабочий стол\Худ культура 9 класс\античность среднев\иллюстрации\персей.jpg"/>
          <p:cNvPicPr/>
          <p:nvPr/>
        </p:nvPicPr>
        <p:blipFill>
          <a:blip r:embed="rId3"/>
          <a:stretch/>
        </p:blipFill>
        <p:spPr>
          <a:xfrm>
            <a:off x="6143760" y="4500720"/>
            <a:ext cx="3136680" cy="3708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" descr="C:\Documents and Settings\Admin\Рабочий стол\Худ культура 9 класс\античность среднев\иллюстрации\300px-Heinrich_fueger_1817_prometheus_brings_fire_to_mankind.jpg"/>
          <p:cNvPicPr/>
          <p:nvPr/>
        </p:nvPicPr>
        <p:blipFill>
          <a:blip r:embed="rId4"/>
          <a:stretch/>
        </p:blipFill>
        <p:spPr>
          <a:xfrm>
            <a:off x="3571920" y="857160"/>
            <a:ext cx="2346120" cy="3348000"/>
          </a:xfrm>
          <a:prstGeom prst="rect">
            <a:avLst/>
          </a:prstGeom>
          <a:ln w="0">
            <a:noFill/>
          </a:ln>
        </p:spPr>
      </p:pic>
      <p:sp>
        <p:nvSpPr>
          <p:cNvPr id="423" name="TextBox 19"/>
          <p:cNvSpPr/>
          <p:nvPr/>
        </p:nvSpPr>
        <p:spPr>
          <a:xfrm>
            <a:off x="1643040" y="43578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Лисипп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Геракл со львом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7643880" y="6643800"/>
            <a:ext cx="150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анов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Персей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 головой Медузы»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TextBox 10"/>
          <p:cNvSpPr/>
          <p:nvPr/>
        </p:nvSpPr>
        <p:spPr>
          <a:xfrm>
            <a:off x="285840" y="3571920"/>
            <a:ext cx="293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Ж. Раме «Тесей и Минотавр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6" name="Picture 2" descr="C:\Documents and Settings\Admin\Рабочий стол\Худ культура 9 класс\античность среднев\иллюстрации\theseus_minotaurus_3.gif"/>
          <p:cNvPicPr/>
          <p:nvPr/>
        </p:nvPicPr>
        <p:blipFill>
          <a:blip r:embed="rId5"/>
          <a:stretch/>
        </p:blipFill>
        <p:spPr>
          <a:xfrm>
            <a:off x="3214800" y="4714920"/>
            <a:ext cx="2600280" cy="285732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2"/>
          <p:cNvSpPr/>
          <p:nvPr/>
        </p:nvSpPr>
        <p:spPr>
          <a:xfrm>
            <a:off x="3214800" y="750096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Тесей и Минотавр»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рагмент чернофигурно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азопис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TextBox 13"/>
          <p:cNvSpPr/>
          <p:nvPr/>
        </p:nvSpPr>
        <p:spPr>
          <a:xfrm>
            <a:off x="3286080" y="3214800"/>
            <a:ext cx="314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. Фюгер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Прометей несёт людям огонь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TextBox 14"/>
          <p:cNvSpPr/>
          <p:nvPr/>
        </p:nvSpPr>
        <p:spPr>
          <a:xfrm>
            <a:off x="6143760" y="385776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Ясон и золотое руно»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рагмент чернофигурной вазопис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0" name="Picture 3" descr="C:\Documents and Settings\Admin\Рабочий стол\Худ культура 9 класс\античность среднев\иллюстрации\ясон1pg.jpg"/>
          <p:cNvPicPr/>
          <p:nvPr/>
        </p:nvPicPr>
        <p:blipFill>
          <a:blip r:embed="rId6"/>
          <a:stretch/>
        </p:blipFill>
        <p:spPr>
          <a:xfrm>
            <a:off x="6357960" y="142920"/>
            <a:ext cx="255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"/>
          <p:cNvSpPr/>
          <p:nvPr/>
        </p:nvSpPr>
        <p:spPr>
          <a:xfrm>
            <a:off x="43920" y="29880"/>
            <a:ext cx="914652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Главная тема греческого искусства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Человек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Античная культура базируется на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фологической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нове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Высшим смыслом существования человека есть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роиз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Ведущие сооружения-храмы, театры, общественные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ания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Характерной чертой является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дерная систем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Особенностью является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ункциональность,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балансированность композиций и равновесие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ставных часте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Основные черты античного стиля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33" name="Picture 2" descr="C:\Documents and Settings\Admin\Рабочий стол\Худ культура 9 класс\античность среднев\иллюстрации\гадрия с обр погр01.jpg"/>
          <p:cNvPicPr/>
          <p:nvPr/>
        </p:nvPicPr>
        <p:blipFill>
          <a:blip r:embed="rId1"/>
          <a:stretch/>
        </p:blipFill>
        <p:spPr>
          <a:xfrm>
            <a:off x="7897680" y="0"/>
            <a:ext cx="1246320" cy="1800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Documents and Settings\Admin\Рабочий стол\Худ культура 9 класс\античность среднев\иллюстрации\амфора чернjpg.jpg"/>
          <p:cNvPicPr/>
          <p:nvPr/>
        </p:nvPicPr>
        <p:blipFill>
          <a:blip r:embed="rId2"/>
          <a:stretch/>
        </p:blipFill>
        <p:spPr>
          <a:xfrm>
            <a:off x="7918560" y="5057640"/>
            <a:ext cx="1225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1565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Периодизация культуры Древней Греции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85480" y="1785960"/>
            <a:ext cx="84294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1. Эгейская (Крито - Микенская) культура  (III тыс до н.э. - XI вв до н.э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2. Гомеровская и раннеархаическая культура (XI-VIII вв .до н.э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3. Архаическая культура (VII-VI вв. до н.э.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4. Классическая культура (V в-I-III четверть IV в. до н.э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5. Эллинистическая культура (конец IVст. до. н.э-I ст. н.э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14280" y="-21420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1.Эгейская ( Крито - Микенская) культура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III тис до н.э.-XI вв до н. э)</a:t>
            </a:r>
            <a:br>
              <a:rPr sz="2400"/>
            </a:br>
            <a:r>
              <a:rPr b="0" lang="ru-RU" sz="4000" spc="-1" strike="noStrike">
                <a:solidFill>
                  <a:srgbClr val="c1eeff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38" name="Picture 2" descr="C:\Documents and Settings\Admin\Рабочий стол\Худ культура 9 класс\античность среднев\иллюстрации\кноссjpg.jpg"/>
          <p:cNvPicPr/>
          <p:nvPr/>
        </p:nvPicPr>
        <p:blipFill>
          <a:blip r:embed="rId1"/>
          <a:stretch/>
        </p:blipFill>
        <p:spPr>
          <a:xfrm>
            <a:off x="-1500120" y="0"/>
            <a:ext cx="3000240" cy="3995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C:\Documents and Settings\Admin\Рабочий стол\Худ культура 9 класс\античность среднев\иллюстрации\кноссск4.jpg"/>
          <p:cNvPicPr/>
          <p:nvPr/>
        </p:nvPicPr>
        <p:blipFill>
          <a:blip r:embed="rId2"/>
          <a:stretch/>
        </p:blipFill>
        <p:spPr>
          <a:xfrm rot="21280200">
            <a:off x="1666440" y="1174680"/>
            <a:ext cx="5477040" cy="38638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C:\Documents and Settings\Admin\Рабочий стол\Худ культура 9 класс\античность среднев\иллюстрации\4кноссjpg.jpg"/>
          <p:cNvPicPr/>
          <p:nvPr/>
        </p:nvPicPr>
        <p:blipFill>
          <a:blip r:embed="rId3"/>
          <a:stretch/>
        </p:blipFill>
        <p:spPr>
          <a:xfrm>
            <a:off x="-785880" y="3786120"/>
            <a:ext cx="4800600" cy="35290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9"/>
          <p:cNvSpPr/>
          <p:nvPr/>
        </p:nvSpPr>
        <p:spPr>
          <a:xfrm>
            <a:off x="7215120" y="1714680"/>
            <a:ext cx="171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носский дворец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2" name="Picture 4" descr="C:\Documents and Settings\Admin\Рабочий стол\Худ культура 9 класс\античность среднев\иллюстрации\Krete_Knossos_08.jpg"/>
          <p:cNvPicPr/>
          <p:nvPr/>
        </p:nvPicPr>
        <p:blipFill>
          <a:blip r:embed="rId4"/>
          <a:stretch/>
        </p:blipFill>
        <p:spPr>
          <a:xfrm>
            <a:off x="4246560" y="3929040"/>
            <a:ext cx="4897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C:\Documents and Settings\Admin\Рабочий стол\Худ культура 9 класс\античность среднев\иллюстрации\Дамы кносс718.jpg"/>
          <p:cNvPicPr/>
          <p:nvPr/>
        </p:nvPicPr>
        <p:blipFill>
          <a:blip r:embed="rId1"/>
          <a:stretch/>
        </p:blipFill>
        <p:spPr>
          <a:xfrm>
            <a:off x="2928960" y="4929120"/>
            <a:ext cx="4356000" cy="29163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Фрески  дворца в Кноссе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45" name="Picture 4" descr="C:\Documents and Settings\Admin\Рабочий стол\Худ культура 9 класс\античность среднев\иллюстрации\парижанка_001.jpg"/>
          <p:cNvPicPr/>
          <p:nvPr/>
        </p:nvPicPr>
        <p:blipFill>
          <a:blip r:embed="rId2"/>
          <a:stretch/>
        </p:blipFill>
        <p:spPr>
          <a:xfrm>
            <a:off x="0" y="0"/>
            <a:ext cx="1857240" cy="2952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C:\Documents and Settings\Admin\Рабочий стол\Худ культура 9 класс\античность среднев\иллюстрации\игры с быком кносс.jpg"/>
          <p:cNvPicPr/>
          <p:nvPr/>
        </p:nvPicPr>
        <p:blipFill>
          <a:blip r:embed="rId3"/>
          <a:stretch/>
        </p:blipFill>
        <p:spPr>
          <a:xfrm>
            <a:off x="2903400" y="642960"/>
            <a:ext cx="6240600" cy="37796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6" descr="C:\Documents and Settings\Admin\Рабочий стол\Худ культура 9 класс\античность среднев\иллюстрации\трон царя миноса.jpg"/>
          <p:cNvPicPr/>
          <p:nvPr/>
        </p:nvPicPr>
        <p:blipFill>
          <a:blip r:embed="rId4"/>
          <a:stretch/>
        </p:blipFill>
        <p:spPr>
          <a:xfrm>
            <a:off x="7500960" y="4357800"/>
            <a:ext cx="4554360" cy="334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C:\Documents and Settings\Admin\Рабочий стол\Худ культура 9 класс\античность среднев\иллюстрации\Minoan_Priest_King_Feathered_Prince_of_Lilies_Fresco_Art_650px.jpg"/>
          <p:cNvPicPr/>
          <p:nvPr/>
        </p:nvPicPr>
        <p:blipFill>
          <a:blip r:embed="rId5"/>
          <a:stretch/>
        </p:blipFill>
        <p:spPr>
          <a:xfrm>
            <a:off x="-642960" y="3286080"/>
            <a:ext cx="3365640" cy="511164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0" y="29289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Парижанка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TextBox 9"/>
          <p:cNvSpPr/>
          <p:nvPr/>
        </p:nvSpPr>
        <p:spPr>
          <a:xfrm>
            <a:off x="3786120" y="442908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Игры с быком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1" name="TextBox 10"/>
          <p:cNvSpPr/>
          <p:nvPr/>
        </p:nvSpPr>
        <p:spPr>
          <a:xfrm>
            <a:off x="7858080" y="45007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Тронный зал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2" name="TextBox 11"/>
          <p:cNvSpPr/>
          <p:nvPr/>
        </p:nvSpPr>
        <p:spPr>
          <a:xfrm>
            <a:off x="6143760" y="5143680"/>
            <a:ext cx="21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Фреска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Дамы в голубом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TextBox 12"/>
          <p:cNvSpPr/>
          <p:nvPr/>
        </p:nvSpPr>
        <p:spPr>
          <a:xfrm>
            <a:off x="1357200" y="4357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Царь- жрец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6T08:05:55Z</dcterms:modified>
  <cp:revision>1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2e000000000001024140</vt:lpwstr>
  </property>
</Properties>
</file>