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49.jpeg" ContentType="image/jpeg"/>
  <Override PartName="/ppt/media/image8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77.png" ContentType="image/png"/>
  <Override PartName="/ppt/media/image76.png" ContentType="image/png"/>
  <Override PartName="/ppt/media/image79.png" ContentType="image/png"/>
  <Override PartName="/ppt/media/image67.png" ContentType="image/png"/>
  <Override PartName="/ppt/media/image75.png" ContentType="image/png"/>
  <Override PartName="/ppt/media/image74.png" ContentType="image/png"/>
  <Override PartName="/ppt/media/image87.jpeg" ContentType="image/jpe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93.png" ContentType="image/png"/>
  <Override PartName="/ppt/media/image28.png" ContentType="image/png"/>
  <Override PartName="/ppt/media/image5.png" ContentType="image/png"/>
  <Override PartName="/ppt/media/image82.png" ContentType="image/png"/>
  <Override PartName="/ppt/media/image1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520-58FF-4A14-85DF-903E335F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92B-E9B4-405B-A460-BA79E6F8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3F5-1289-4AAA-865A-A06EF216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A0E-6C62-4315-BA48-CEE6B52F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067-7AF6-4E94-9FA5-4F298B56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68C-5DB4-4C91-98E8-B425DA26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D8C-2E6F-4F93-8ADC-22C19B4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D3F-3BC5-40F1-A6A2-AB19D528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C4C-C240-4611-9DEF-8D619AF9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BDA-F2C7-4EA6-BC06-0343031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BEE-A5A3-436F-B26A-2BD9432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F7C-68F1-42F3-A941-859ADF14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1FD-8C5B-4D07-8DAB-D9BD69940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4.png"/><Relationship Id="rId14" Type="http://schemas.openxmlformats.org/officeDocument/2006/relationships/image" Target="../media/image85.png"/><Relationship Id="rId15" Type="http://schemas.openxmlformats.org/officeDocument/2006/relationships/image" Target="../media/image86.png"/><Relationship Id="rId16" Type="http://schemas.openxmlformats.org/officeDocument/2006/relationships/image" Target="../media/image86.png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6000" y="836280"/>
            <a:ext cx="287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а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ью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ir_isaac_newton_1702.jpg"/>
          <p:cNvPicPr/>
          <p:nvPr/>
        </p:nvPicPr>
        <p:blipFill>
          <a:blip r:embed="rId1"/>
          <a:stretch/>
        </p:blipFill>
        <p:spPr>
          <a:xfrm>
            <a:off x="0" y="0"/>
            <a:ext cx="550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14368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214720"/>
            <a:ext cx="3414960" cy="785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428760" y="4000680"/>
            <a:ext cx="3882960" cy="7855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143680"/>
            <a:ext cx="2428560" cy="7984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4071960"/>
            <a:ext cx="2357280" cy="785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25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72040" y="5286240"/>
            <a:ext cx="3286080" cy="655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357280" y="2143080"/>
            <a:ext cx="34210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857160" y="3500280"/>
            <a:ext cx="1121040" cy="12146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857160" y="4857840"/>
            <a:ext cx="1814760" cy="1214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3857760"/>
            <a:ext cx="2357640" cy="70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25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4929120" y="5214960"/>
            <a:ext cx="3942000" cy="78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143080"/>
            <a:ext cx="3157560" cy="7146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928800" y="3571920"/>
            <a:ext cx="1697040" cy="7858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928800" y="4643280"/>
            <a:ext cx="1143000" cy="15764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14840"/>
            <a:ext cx="2735280" cy="785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вестно, что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из области определения функция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имеет максимумы, которые равны -1 и 5, и минимум, который равен 1, причё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a)=3, f(b)=6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Чему равно наибольшее и наименьшее значения функци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кстремальные задач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888320" y="5453280"/>
            <a:ext cx="125568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ьер Фер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78920" y="1341360"/>
            <a:ext cx="5761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Выдающийся французский математик. Юрист, советник парламента. Математикой занимался в свободное время от работы. Создатель теории чисел, один из основоположников аналитической геометрии, дифференциального исчисления и теории вероят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«Ферма сделал больше для развития чисел, чем  любой другой учёный в течение более тысячи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4" descr="Pierre_de_Fermat"/>
          <p:cNvPicPr/>
          <p:nvPr/>
        </p:nvPicPr>
        <p:blipFill>
          <a:blip r:embed="rId2"/>
          <a:stretch/>
        </p:blipFill>
        <p:spPr>
          <a:xfrm>
            <a:off x="6084720" y="1413000"/>
            <a:ext cx="290700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Готфрид Лейбни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554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1684г появилась работа Готфрида Лейбница «Новый метод нахождения наибольших и наименьших значений», в которой заложены основы математического анализа. Уже само название труда показывает, какую важную роль сыграла задача о нахождении экстремума в становлении современной математи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6" descr="Gottfried_Wilhelm_von_Leibniz"/>
          <p:cNvPicPr/>
          <p:nvPr/>
        </p:nvPicPr>
        <p:blipFill>
          <a:blip r:embed="rId2"/>
          <a:stretch/>
        </p:blipFill>
        <p:spPr>
          <a:xfrm>
            <a:off x="5940360" y="1557360"/>
            <a:ext cx="3203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08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Лев Семёнович Понтряг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62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Следующий шаг в теории экстремума был сделан, когда стали искать кривые, наилучшие с той или иной точки зрения. Первую задачу такого рода решил Ньютон в 1687году , но её решение так до конца и не поняли вплоть до середины ХХ ве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это время появилось новое направление в теории экстремума, названное оптимальным управлением, - одним из его создателей был российский математи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Лев Семёнович Понтрягин</a:t>
            </a:r>
            <a:r>
              <a:rPr b="1" lang="ru-RU" sz="26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6" descr="lev-semenovich-pontryagin-01"/>
          <p:cNvPicPr/>
          <p:nvPr/>
        </p:nvPicPr>
        <p:blipFill>
          <a:blip r:embed="rId2"/>
          <a:stretch/>
        </p:blipFill>
        <p:spPr>
          <a:xfrm>
            <a:off x="6372360" y="1700280"/>
            <a:ext cx="277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ны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8186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ждение наибольшего и наименьшего значений функции на отрез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е и построение графиков фун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урав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ельство 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геометрических и алгебраических задач на вычисление наибольшего и наименьшего зна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33200" y="1206360"/>
            <a:ext cx="8802720" cy="33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alibri"/>
              </a:rPr>
              <a:t>Нахождение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 Скорости и ускорение прямолинейного движения тела или материальной точ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 Угловая скорость тела вра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)  Скорость изменения температуры в результате нагре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)  Освещённость электрической ламп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ознакомились с задачами, которые встречаются в экономике. Среди них наиболее характер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395280" y="28526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Определение прибыли предприят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95280" y="371628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Определение затрат предприятий в зависимости от объема продукции, которая выпускает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395280" y="508464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Нахождение оптимальных размеров продукции с наибольшим (наименьшим) объемом(площадью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357120" y="2143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Определение  продуктивности тру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762120" y="1752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ковые стороны и меньшее основание трапеции имеют длину 20 м. Найти большее основание трапеции так, чтобы площадь трапеции была наиболь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Рисунок 40" descr="Рисунок3.png"/>
          <p:cNvPicPr/>
          <p:nvPr/>
        </p:nvPicPr>
        <p:blipFill>
          <a:blip r:embed="rId1"/>
          <a:stretch/>
        </p:blipFill>
        <p:spPr>
          <a:xfrm>
            <a:off x="304920" y="1905120"/>
            <a:ext cx="4071960" cy="3429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2"/>
          <p:cNvSpPr/>
          <p:nvPr/>
        </p:nvSpPr>
        <p:spPr>
          <a:xfrm>
            <a:off x="4211640" y="1700280"/>
            <a:ext cx="49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лощадь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, x&gt;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гда АВ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 + 2*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20 + 2x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 =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1648080" cy="4665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8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9" descr=""/>
          <p:cNvPicPr/>
          <p:nvPr/>
        </p:nvPicPr>
        <p:blipFill>
          <a:blip r:embed="rId3"/>
          <a:stretch/>
        </p:blipFill>
        <p:spPr>
          <a:xfrm>
            <a:off x="6300720" y="3573360"/>
            <a:ext cx="144792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1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45720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45720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2847960" cy="5716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685800" y="533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1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4848120" cy="5713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-5396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2981160" cy="466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687960" y="213372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1219320" y="2209680"/>
            <a:ext cx="685800" cy="409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9"/>
          <p:cNvSpPr/>
          <p:nvPr/>
        </p:nvSpPr>
        <p:spPr>
          <a:xfrm>
            <a:off x="45720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45720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5720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Рисунок 21" descr="Рисунок9.png"/>
          <p:cNvPicPr/>
          <p:nvPr/>
        </p:nvPicPr>
        <p:blipFill>
          <a:blip r:embed="rId5"/>
          <a:stretch/>
        </p:blipFill>
        <p:spPr>
          <a:xfrm>
            <a:off x="2209680" y="4191120"/>
            <a:ext cx="3595680" cy="768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121932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(S)=(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Group 30"/>
          <p:cNvGrpSpPr/>
          <p:nvPr/>
        </p:nvGrpSpPr>
        <p:grpSpPr>
          <a:xfrm>
            <a:off x="2133720" y="1981080"/>
            <a:ext cx="3809880" cy="1008360"/>
            <a:chOff x="2133720" y="1981080"/>
            <a:chExt cx="3809880" cy="1008360"/>
          </a:xfrm>
        </p:grpSpPr>
        <p:sp>
          <p:nvSpPr>
            <p:cNvPr id="460" name="Text Box 25"/>
            <p:cNvSpPr/>
            <p:nvPr/>
          </p:nvSpPr>
          <p:spPr>
            <a:xfrm>
              <a:off x="2133720" y="2209680"/>
              <a:ext cx="3809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AutoShape 26"/>
            <p:cNvSpPr/>
            <p:nvPr/>
          </p:nvSpPr>
          <p:spPr>
            <a:xfrm>
              <a:off x="2743200" y="198108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3048120" y="19810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2971800" y="25905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400-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AutoShape 31"/>
          <p:cNvSpPr/>
          <p:nvPr/>
        </p:nvSpPr>
        <p:spPr>
          <a:xfrm>
            <a:off x="2743200" y="3048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32"/>
          <p:cNvSpPr/>
          <p:nvPr/>
        </p:nvSpPr>
        <p:spPr>
          <a:xfrm>
            <a:off x="3048120" y="3048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3"/>
          <p:cNvSpPr/>
          <p:nvPr/>
        </p:nvSpPr>
        <p:spPr>
          <a:xfrm>
            <a:off x="297180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-x)(20+x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841320" y="685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134400" cy="60948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-53964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-539640" y="44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3952800" cy="82872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8"/>
          <p:cNvSpPr/>
          <p:nvPr/>
        </p:nvSpPr>
        <p:spPr>
          <a:xfrm>
            <a:off x="-53964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124080" cy="8571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4"/>
          <a:stretch/>
        </p:blipFill>
        <p:spPr>
          <a:xfrm>
            <a:off x="1219320" y="1981080"/>
            <a:ext cx="3171600" cy="8575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3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14" descr=""/>
          <p:cNvPicPr/>
          <p:nvPr/>
        </p:nvPicPr>
        <p:blipFill>
          <a:blip r:embed="rId5"/>
          <a:stretch/>
        </p:blipFill>
        <p:spPr>
          <a:xfrm>
            <a:off x="4419720" y="1981080"/>
            <a:ext cx="2867040" cy="8575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6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17" descr=""/>
          <p:cNvPicPr/>
          <p:nvPr/>
        </p:nvPicPr>
        <p:blipFill>
          <a:blip r:embed="rId6"/>
          <a:stretch/>
        </p:blipFill>
        <p:spPr>
          <a:xfrm>
            <a:off x="1371600" y="3048120"/>
            <a:ext cx="2390760" cy="4093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9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4"/>
          <p:cNvSpPr/>
          <p:nvPr/>
        </p:nvSpPr>
        <p:spPr>
          <a:xfrm>
            <a:off x="1476360" y="357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1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1247760" cy="40968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3095640" cy="4194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7" descr=""/>
          <p:cNvPicPr/>
          <p:nvPr/>
        </p:nvPicPr>
        <p:blipFill>
          <a:blip r:embed="rId3"/>
          <a:stretch/>
        </p:blipFill>
        <p:spPr>
          <a:xfrm>
            <a:off x="1295280" y="160020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9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1219320" y="2099520"/>
            <a:ext cx="579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-20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0 – критическ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12" descr="Рисунок6.png"/>
          <p:cNvPicPr/>
          <p:nvPr/>
        </p:nvPicPr>
        <p:blipFill>
          <a:blip r:embed="rId4"/>
          <a:stretch/>
        </p:blipFill>
        <p:spPr>
          <a:xfrm>
            <a:off x="1332000" y="2781360"/>
            <a:ext cx="3382920" cy="92700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3"/>
          <p:cNvSpPr/>
          <p:nvPr/>
        </p:nvSpPr>
        <p:spPr>
          <a:xfrm>
            <a:off x="1399320" y="3962520"/>
            <a:ext cx="1239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4"/>
          <p:cNvSpPr/>
          <p:nvPr/>
        </p:nvSpPr>
        <p:spPr>
          <a:xfrm>
            <a:off x="1143000" y="4648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 + 2*10 = 40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трапеции будет наибольшей, если большее основание будет 40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15"/>
          <p:cNvSpPr/>
          <p:nvPr/>
        </p:nvSpPr>
        <p:spPr>
          <a:xfrm>
            <a:off x="1227960" y="5943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40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Блок-схема: узел 16"/>
          <p:cNvSpPr/>
          <p:nvPr/>
        </p:nvSpPr>
        <p:spPr>
          <a:xfrm>
            <a:off x="3780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Блок-схема: узел 17"/>
          <p:cNvSpPr/>
          <p:nvPr/>
        </p:nvSpPr>
        <p:spPr>
          <a:xfrm>
            <a:off x="2124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357120" y="42876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а. Предприятию поручается погрузка 100 станков и выделяется на это 1000 гривен, но из это суммы вычитается 40 гривен за каждый час погрузки. Предприятие заключает договор с бригадой грузчиков, по которому они получают премию в 1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вен, 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рость погрузки. При какой скорости предприятие получит максимальную прибыль и какова величина этой прибы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2"/>
          <a:stretch/>
        </p:blipFill>
        <p:spPr>
          <a:xfrm>
            <a:off x="1571760" y="1571760"/>
            <a:ext cx="9284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7" name=""/>
          <p:cNvGraphicFramePr/>
          <p:nvPr/>
        </p:nvGraphicFramePr>
        <p:xfrm>
          <a:off x="285840" y="142920"/>
          <a:ext cx="8501040" cy="6500880"/>
        </p:xfrm>
        <a:graphic>
          <a:graphicData uri="http://schemas.openxmlformats.org/drawingml/2006/table">
            <a:tbl>
              <a:tblPr/>
              <a:tblGrid>
                <a:gridCol w="347400"/>
                <a:gridCol w="815364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усть Р- прибыль пред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скорость по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&gt;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=20 (V&gt;0)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тическая т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 P(X)= P(20)=6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ксимальная прибыль предприятия 600 грн, если скор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:                      ; 600 грив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857520" cy="42876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5267520" cy="5526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3" descr=""/>
          <p:cNvPicPr/>
          <p:nvPr/>
        </p:nvPicPr>
        <p:blipFill>
          <a:blip r:embed="rId3"/>
          <a:stretch/>
        </p:blipFill>
        <p:spPr>
          <a:xfrm>
            <a:off x="714240" y="2286000"/>
            <a:ext cx="4067280" cy="50472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5" descr=""/>
          <p:cNvPicPr/>
          <p:nvPr/>
        </p:nvPicPr>
        <p:blipFill>
          <a:blip r:embed="rId4"/>
          <a:stretch/>
        </p:blipFill>
        <p:spPr>
          <a:xfrm>
            <a:off x="714240" y="2714760"/>
            <a:ext cx="981360" cy="304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5"/>
          <a:stretch/>
        </p:blipFill>
        <p:spPr>
          <a:xfrm>
            <a:off x="714240" y="2928960"/>
            <a:ext cx="1971720" cy="590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"/>
          <p:cNvPicPr/>
          <p:nvPr/>
        </p:nvPicPr>
        <p:blipFill>
          <a:blip r:embed="rId6"/>
          <a:stretch/>
        </p:blipFill>
        <p:spPr>
          <a:xfrm>
            <a:off x="857160" y="3429000"/>
            <a:ext cx="1333440" cy="314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"/>
          <p:cNvPicPr/>
          <p:nvPr/>
        </p:nvPicPr>
        <p:blipFill>
          <a:blip r:embed="rId7"/>
          <a:stretch/>
        </p:blipFill>
        <p:spPr>
          <a:xfrm>
            <a:off x="857160" y="3714840"/>
            <a:ext cx="933480" cy="31428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9" descr="Безымянный1.bmp"/>
          <p:cNvPicPr/>
          <p:nvPr/>
        </p:nvPicPr>
        <p:blipFill>
          <a:blip r:embed="rId8"/>
          <a:stretch/>
        </p:blipFill>
        <p:spPr>
          <a:xfrm>
            <a:off x="714240" y="4286160"/>
            <a:ext cx="5754960" cy="1320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"/>
          <p:cNvPicPr/>
          <p:nvPr/>
        </p:nvPicPr>
        <p:blipFill>
          <a:blip r:embed="rId9"/>
          <a:stretch/>
        </p:blipFill>
        <p:spPr>
          <a:xfrm>
            <a:off x="857160" y="4857840"/>
            <a:ext cx="542880" cy="3045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3" descr=""/>
          <p:cNvPicPr/>
          <p:nvPr/>
        </p:nvPicPr>
        <p:blipFill>
          <a:blip r:embed="rId10"/>
          <a:stretch/>
        </p:blipFill>
        <p:spPr>
          <a:xfrm>
            <a:off x="857160" y="5214960"/>
            <a:ext cx="48600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5" descr=""/>
          <p:cNvPicPr/>
          <p:nvPr/>
        </p:nvPicPr>
        <p:blipFill>
          <a:blip r:embed="rId11"/>
          <a:stretch/>
        </p:blipFill>
        <p:spPr>
          <a:xfrm>
            <a:off x="2714760" y="5286240"/>
            <a:ext cx="12384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7" descr=""/>
          <p:cNvPicPr/>
          <p:nvPr/>
        </p:nvPicPr>
        <p:blipFill>
          <a:blip r:embed="rId12"/>
          <a:stretch/>
        </p:blipFill>
        <p:spPr>
          <a:xfrm>
            <a:off x="4143240" y="5286240"/>
            <a:ext cx="257400" cy="304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9" descr=""/>
          <p:cNvPicPr/>
          <p:nvPr/>
        </p:nvPicPr>
        <p:blipFill>
          <a:blip r:embed="rId13"/>
          <a:stretch/>
        </p:blipFill>
        <p:spPr>
          <a:xfrm>
            <a:off x="6357960" y="5286240"/>
            <a:ext cx="214200" cy="3049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" descr=""/>
          <p:cNvPicPr/>
          <p:nvPr/>
        </p:nvPicPr>
        <p:blipFill>
          <a:blip r:embed="rId14"/>
          <a:stretch/>
        </p:blipFill>
        <p:spPr>
          <a:xfrm>
            <a:off x="4143240" y="4643280"/>
            <a:ext cx="319320" cy="262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1" descr=""/>
          <p:cNvPicPr/>
          <p:nvPr/>
        </p:nvPicPr>
        <p:blipFill>
          <a:blip r:embed="rId15"/>
          <a:stretch/>
        </p:blipFill>
        <p:spPr>
          <a:xfrm>
            <a:off x="6786720" y="5929200"/>
            <a:ext cx="1000080" cy="357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1" descr=""/>
          <p:cNvPicPr/>
          <p:nvPr/>
        </p:nvPicPr>
        <p:blipFill>
          <a:blip r:embed="rId16"/>
          <a:stretch/>
        </p:blipFill>
        <p:spPr>
          <a:xfrm>
            <a:off x="1428840" y="6286680"/>
            <a:ext cx="10000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1116000" y="765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 центром круглого стола, радиус котор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подвешена электрическая лампа. На какой высоте она должна находиться, чтобы освещение на краях стола было наибольши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Овал 3"/>
          <p:cNvSpPr/>
          <p:nvPr/>
        </p:nvSpPr>
        <p:spPr>
          <a:xfrm>
            <a:off x="1562040" y="4154400"/>
            <a:ext cx="3240000" cy="1162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Прямоугольный треугольник 6"/>
          <p:cNvSpPr/>
          <p:nvPr/>
        </p:nvSpPr>
        <p:spPr>
          <a:xfrm>
            <a:off x="3181320" y="2637000"/>
            <a:ext cx="1381320" cy="2363760"/>
          </a:xfrm>
          <a:custGeom>
            <a:avLst/>
            <a:gdLst/>
            <a:ahLst/>
            <a:rect l="l" t="t" r="r" b="b"/>
            <a:pathLst>
              <a:path w="1503403" h="2244852">
                <a:moveTo>
                  <a:pt x="0" y="1976118"/>
                </a:moveTo>
                <a:lnTo>
                  <a:pt x="0" y="0"/>
                </a:lnTo>
                <a:lnTo>
                  <a:pt x="1503403" y="2244852"/>
                </a:lnTo>
                <a:lnTo>
                  <a:pt x="0" y="1976118"/>
                </a:lnTo>
                <a:close/>
              </a:path>
            </a:pathLst>
          </a:custGeom>
          <a:noFill/>
          <a:ln w="2844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5"/>
          <p:cNvSpPr/>
          <p:nvPr/>
        </p:nvSpPr>
        <p:spPr>
          <a:xfrm>
            <a:off x="2835360" y="24242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6"/>
          <p:cNvSpPr/>
          <p:nvPr/>
        </p:nvSpPr>
        <p:spPr>
          <a:xfrm>
            <a:off x="2932200" y="4557600"/>
            <a:ext cx="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8"/>
          <p:cNvSpPr/>
          <p:nvPr/>
        </p:nvSpPr>
        <p:spPr>
          <a:xfrm>
            <a:off x="4551480" y="4905360"/>
            <a:ext cx="1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Блок-схема: узел суммирования 20"/>
          <p:cNvSpPr/>
          <p:nvPr/>
        </p:nvSpPr>
        <p:spPr>
          <a:xfrm>
            <a:off x="3073320" y="2529000"/>
            <a:ext cx="216000" cy="215640"/>
          </a:xfrm>
          <a:prstGeom prst="flowChartSummingJunction">
            <a:avLst/>
          </a:prstGeom>
          <a:solidFill>
            <a:srgbClr val="d99694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олилиния 27"/>
          <p:cNvSpPr/>
          <p:nvPr/>
        </p:nvSpPr>
        <p:spPr>
          <a:xfrm>
            <a:off x="4322880" y="4776840"/>
            <a:ext cx="122040" cy="160200"/>
          </a:xfrm>
          <a:custGeom>
            <a:avLst/>
            <a:gdLst/>
            <a:ahLst/>
            <a:rect l="l" t="t" r="r" b="b"/>
            <a:pathLst>
              <a:path w="121023" h="161364">
                <a:moveTo>
                  <a:pt x="121023" y="0"/>
                </a:moveTo>
                <a:cubicBezTo>
                  <a:pt x="84043" y="20170"/>
                  <a:pt x="47064" y="40341"/>
                  <a:pt x="26894" y="67235"/>
                </a:cubicBezTo>
                <a:cubicBezTo>
                  <a:pt x="6724" y="94129"/>
                  <a:pt x="4482" y="141194"/>
                  <a:pt x="0" y="161364"/>
                </a:cubicBezTo>
              </a:path>
            </a:pathLst>
          </a:custGeom>
          <a:noFill/>
          <a:ln w="2844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28"/>
          <p:cNvSpPr/>
          <p:nvPr/>
        </p:nvSpPr>
        <p:spPr>
          <a:xfrm>
            <a:off x="3564000" y="47768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066680" y="1566720"/>
            <a:ext cx="6656400" cy="1365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643200"/>
            <a:ext cx="3214800" cy="107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14240" y="5000760"/>
            <a:ext cx="2786040" cy="69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143680" y="3857760"/>
            <a:ext cx="3143160" cy="64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143680" y="5000760"/>
            <a:ext cx="3105000" cy="61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Таблица 5" descr=""/>
          <p:cNvPicPr/>
          <p:nvPr/>
        </p:nvPicPr>
        <p:blipFill>
          <a:blip r:embed="rId2"/>
          <a:stretch/>
        </p:blipFill>
        <p:spPr>
          <a:xfrm>
            <a:off x="969840" y="-85680"/>
            <a:ext cx="818064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Таблица 1" descr=""/>
          <p:cNvPicPr/>
          <p:nvPr/>
        </p:nvPicPr>
        <p:blipFill>
          <a:blip r:embed="rId2"/>
          <a:stretch/>
        </p:blipFill>
        <p:spPr>
          <a:xfrm>
            <a:off x="933480" y="-30240"/>
            <a:ext cx="8259840" cy="4535640"/>
          </a:xfrm>
          <a:prstGeom prst="rect">
            <a:avLst/>
          </a:prstGeom>
          <a:ln w="0">
            <a:noFill/>
          </a:ln>
        </p:spPr>
      </p:pic>
      <p:cxnSp>
        <p:nvCxnSpPr>
          <p:cNvPr id="537" name="Прямая со стрелкой 3"/>
          <p:cNvCxnSpPr/>
          <p:nvPr/>
        </p:nvCxnSpPr>
        <p:spPr>
          <a:xfrm>
            <a:off x="3684600" y="1267920"/>
            <a:ext cx="2543760" cy="1080"/>
          </a:xfrm>
          <a:prstGeom prst="straightConnector1">
            <a:avLst/>
          </a:prstGeom>
          <a:ln w="3168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38" name="Полилиния 4"/>
          <p:cNvSpPr/>
          <p:nvPr/>
        </p:nvSpPr>
        <p:spPr>
          <a:xfrm>
            <a:off x="3616200" y="995400"/>
            <a:ext cx="1317600" cy="268200"/>
          </a:xfrm>
          <a:custGeom>
            <a:avLst/>
            <a:gdLst/>
            <a:ahLst/>
            <a:rect l="l" t="t" r="r" b="b"/>
            <a:pathLst>
              <a:path w="1196788" h="268970">
                <a:moveTo>
                  <a:pt x="0" y="255522"/>
                </a:moveTo>
                <a:cubicBezTo>
                  <a:pt x="196103" y="126654"/>
                  <a:pt x="392206" y="-2213"/>
                  <a:pt x="591671" y="28"/>
                </a:cubicBezTo>
                <a:cubicBezTo>
                  <a:pt x="791136" y="2269"/>
                  <a:pt x="1089212" y="233111"/>
                  <a:pt x="1196788" y="268970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Полилиния 11"/>
          <p:cNvSpPr/>
          <p:nvPr/>
        </p:nvSpPr>
        <p:spPr>
          <a:xfrm>
            <a:off x="4933800" y="925560"/>
            <a:ext cx="1949760" cy="342720"/>
          </a:xfrm>
          <a:custGeom>
            <a:avLst/>
            <a:gdLst/>
            <a:ahLst/>
            <a:rect l="l" t="t" r="r" b="b"/>
            <a:pathLst>
              <a:path w="1949823" h="343439">
                <a:moveTo>
                  <a:pt x="0" y="343439"/>
                </a:moveTo>
                <a:cubicBezTo>
                  <a:pt x="294715" y="201124"/>
                  <a:pt x="589430" y="65534"/>
                  <a:pt x="914400" y="20710"/>
                </a:cubicBezTo>
                <a:cubicBezTo>
                  <a:pt x="1239371" y="-24114"/>
                  <a:pt x="1594596" y="8383"/>
                  <a:pt x="1949823" y="7449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Овал 12"/>
          <p:cNvSpPr/>
          <p:nvPr/>
        </p:nvSpPr>
        <p:spPr>
          <a:xfrm>
            <a:off x="3583080" y="1222200"/>
            <a:ext cx="101520" cy="92160"/>
          </a:xfrm>
          <a:prstGeom prst="ellipse">
            <a:avLst/>
          </a:prstGeom>
          <a:noFill/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Прямая соединительная линия 14"/>
          <p:cNvSpPr/>
          <p:nvPr/>
        </p:nvSpPr>
        <p:spPr>
          <a:xfrm flipH="1">
            <a:off x="2339640" y="1268280"/>
            <a:ext cx="124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5"/>
          <p:cNvSpPr/>
          <p:nvPr/>
        </p:nvSpPr>
        <p:spPr>
          <a:xfrm>
            <a:off x="3530520" y="1268280"/>
            <a:ext cx="1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TextBox 16" descr=""/>
          <p:cNvPicPr/>
          <p:nvPr/>
        </p:nvPicPr>
        <p:blipFill>
          <a:blip r:embed="rId3"/>
          <a:stretch/>
        </p:blipFill>
        <p:spPr>
          <a:xfrm>
            <a:off x="4711680" y="1255680"/>
            <a:ext cx="225360" cy="480960"/>
          </a:xfrm>
          <a:prstGeom prst="rect">
            <a:avLst/>
          </a:prstGeom>
          <a:ln w="0">
            <a:noFill/>
          </a:ln>
        </p:spPr>
      </p:pic>
      <p:pic>
        <p:nvPicPr>
          <p:cNvPr id="544" name="TextBox 17" descr=""/>
          <p:cNvPicPr/>
          <p:nvPr/>
        </p:nvPicPr>
        <p:blipFill>
          <a:blip r:embed="rId4"/>
          <a:stretch/>
        </p:blipFill>
        <p:spPr>
          <a:xfrm>
            <a:off x="6132600" y="1122480"/>
            <a:ext cx="225360" cy="382320"/>
          </a:xfrm>
          <a:prstGeom prst="rect">
            <a:avLst/>
          </a:prstGeom>
          <a:ln w="0">
            <a:noFill/>
          </a:ln>
        </p:spPr>
      </p:pic>
      <p:sp>
        <p:nvSpPr>
          <p:cNvPr id="545" name="Плюс 18"/>
          <p:cNvSpPr/>
          <p:nvPr/>
        </p:nvSpPr>
        <p:spPr>
          <a:xfrm>
            <a:off x="4157640" y="1079640"/>
            <a:ext cx="117360" cy="142560"/>
          </a:xfrm>
          <a:custGeom>
            <a:avLst/>
            <a:gdLst>
              <a:gd name="textAreaLeft" fmla="*/ 15480 w 117360"/>
              <a:gd name="textAreaRight" fmla="*/ 101880 w 117360"/>
              <a:gd name="textAreaTop" fmla="*/ 57600 h 142560"/>
              <a:gd name="textAreaBottom" fmla="*/ 84960 h 142560"/>
            </a:gdLst>
            <a:ahLst/>
            <a:rect l="textAreaLeft" t="textAreaTop" r="textAreaRight" b="textAreaBottom"/>
            <a:pathLst>
              <a:path w="117235" h="144016">
                <a:moveTo>
                  <a:pt x="15539" y="58221"/>
                </a:moveTo>
                <a:lnTo>
                  <a:pt x="44831" y="58221"/>
                </a:lnTo>
                <a:lnTo>
                  <a:pt x="44831" y="19089"/>
                </a:lnTo>
                <a:lnTo>
                  <a:pt x="72404" y="19089"/>
                </a:lnTo>
                <a:lnTo>
                  <a:pt x="72404" y="58221"/>
                </a:lnTo>
                <a:lnTo>
                  <a:pt x="101696" y="58221"/>
                </a:lnTo>
                <a:lnTo>
                  <a:pt x="101696" y="85795"/>
                </a:lnTo>
                <a:lnTo>
                  <a:pt x="72404" y="85795"/>
                </a:lnTo>
                <a:lnTo>
                  <a:pt x="72404" y="124927"/>
                </a:lnTo>
                <a:lnTo>
                  <a:pt x="44831" y="124927"/>
                </a:lnTo>
                <a:lnTo>
                  <a:pt x="44831" y="85795"/>
                </a:lnTo>
                <a:lnTo>
                  <a:pt x="15539" y="85795"/>
                </a:lnTo>
                <a:close/>
              </a:path>
            </a:pathLst>
          </a:custGeom>
          <a:noFill/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инус 19"/>
          <p:cNvSpPr/>
          <p:nvPr/>
        </p:nvSpPr>
        <p:spPr>
          <a:xfrm>
            <a:off x="5848200" y="1050840"/>
            <a:ext cx="122400" cy="157320"/>
          </a:xfrm>
          <a:custGeom>
            <a:avLst/>
            <a:gdLst>
              <a:gd name="textAreaLeft" fmla="*/ 16200 w 122400"/>
              <a:gd name="textAreaRight" fmla="*/ 106200 w 122400"/>
              <a:gd name="textAreaTop" fmla="*/ 60120 h 157320"/>
              <a:gd name="textAreaBottom" fmla="*/ 97200 h 157320"/>
            </a:gdLst>
            <a:ahLst/>
            <a:rect l="textAreaLeft" t="textAreaTop" r="textAreaRight" b="textAreaBottom"/>
            <a:pathLst>
              <a:path w="122747" h="158380">
                <a:moveTo>
                  <a:pt x="16270" y="60565"/>
                </a:moveTo>
                <a:lnTo>
                  <a:pt x="106477" y="60565"/>
                </a:lnTo>
                <a:lnTo>
                  <a:pt x="106477" y="97815"/>
                </a:lnTo>
                <a:lnTo>
                  <a:pt x="16270" y="9781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20"/>
          <p:cNvSpPr/>
          <p:nvPr/>
        </p:nvSpPr>
        <p:spPr>
          <a:xfrm>
            <a:off x="4649760" y="80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TextBox 22" descr=""/>
          <p:cNvPicPr/>
          <p:nvPr/>
        </p:nvPicPr>
        <p:blipFill>
          <a:blip r:embed="rId5"/>
          <a:stretch/>
        </p:blipFill>
        <p:spPr>
          <a:xfrm>
            <a:off x="969840" y="4552920"/>
            <a:ext cx="73566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2214720" y="1928880"/>
            <a:ext cx="4143240" cy="87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1071720" y="3571920"/>
            <a:ext cx="1928520" cy="660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1000080" y="4786200"/>
            <a:ext cx="2500200" cy="757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500720" y="3571920"/>
            <a:ext cx="3000240" cy="69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500720" y="4786200"/>
            <a:ext cx="3286080" cy="65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214720" y="1928880"/>
            <a:ext cx="3857400" cy="857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500280"/>
            <a:ext cx="2097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85880" y="5000760"/>
            <a:ext cx="2722320" cy="1214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000760" y="3571920"/>
            <a:ext cx="2781000" cy="1285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5429160"/>
            <a:ext cx="3305160" cy="64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357880"/>
            <a:ext cx="3671640" cy="714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214720" y="1785960"/>
            <a:ext cx="4190760" cy="1000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357720"/>
            <a:ext cx="2446200" cy="1285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600280" cy="1214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3429000"/>
            <a:ext cx="2571480" cy="1454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000160" y="1928880"/>
            <a:ext cx="4624560" cy="785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357120" y="3714840"/>
            <a:ext cx="3668760" cy="7142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357120" y="5072040"/>
            <a:ext cx="3654360" cy="714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857840" y="3643200"/>
            <a:ext cx="171432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4929120"/>
            <a:ext cx="3582720" cy="714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000160"/>
            <a:ext cx="3157560" cy="928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500280"/>
            <a:ext cx="2143080" cy="793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4857840"/>
            <a:ext cx="1428480" cy="83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</p:pic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6"/>
          <a:stretch/>
        </p:blipFill>
        <p:spPr>
          <a:xfrm>
            <a:off x="4853160" y="3492360"/>
            <a:ext cx="2511360" cy="82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143080"/>
            <a:ext cx="3246480" cy="785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786120"/>
            <a:ext cx="2071440" cy="8082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508120" cy="7855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86120"/>
            <a:ext cx="2786040" cy="730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12:05Z</dcterms:created>
  <dc:creator>фв</dc:creator>
  <dc:description/>
  <dc:language>en-US</dc:language>
  <cp:lastModifiedBy>Admin</cp:lastModifiedBy>
  <dcterms:modified xsi:type="dcterms:W3CDTF">2012-02-28T08:19:20Z</dcterms:modified>
  <cp:revision>6</cp:revision>
  <dc:subject/>
  <dc:title>Найти производную функции y=f(x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</Properties>
</file>