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A4C-C3FC-4544-B8FB-CD74CCA8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50A-88F6-449E-9106-2D148EC5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7A8C-32E6-4C92-A804-62151973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32AC-AB91-4498-AC06-21EABCCE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4D1-E221-4B61-A3BD-494C2724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AFA-AA7D-4281-A770-87C207BE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086-B589-4B31-93A5-5091AA27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C50-3AFE-4D27-9B40-96F25FB7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281-61F9-4717-A55B-27097A84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A71F-3FA6-4558-9810-F87D5AEB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A82-1BFD-447D-AE80-20A2FE81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2B5-2BF9-49FD-B0B4-6F430011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D628-ADCF-4083-B95E-B86369007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Готовимся к контрольной работ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Математика ум в порядок приводи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357336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0"/>
          <p:cNvSpPr/>
          <p:nvPr/>
        </p:nvSpPr>
        <p:spPr>
          <a:xfrm>
            <a:off x="785880" y="5000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1"/>
          <p:cNvSpPr/>
          <p:nvPr/>
        </p:nvSpPr>
        <p:spPr>
          <a:xfrm>
            <a:off x="3571920" y="5000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6286680" y="5000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785880" y="235728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4"/>
          <p:cNvSpPr/>
          <p:nvPr/>
        </p:nvSpPr>
        <p:spPr>
          <a:xfrm>
            <a:off x="3500280" y="235728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5"/>
          <p:cNvSpPr/>
          <p:nvPr/>
        </p:nvSpPr>
        <p:spPr>
          <a:xfrm>
            <a:off x="6357960" y="235728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6"/>
          <p:cNvSpPr/>
          <p:nvPr/>
        </p:nvSpPr>
        <p:spPr>
          <a:xfrm>
            <a:off x="785880" y="4143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7"/>
          <p:cNvSpPr/>
          <p:nvPr/>
        </p:nvSpPr>
        <p:spPr>
          <a:xfrm>
            <a:off x="3500280" y="4143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8"/>
          <p:cNvSpPr/>
          <p:nvPr/>
        </p:nvSpPr>
        <p:spPr>
          <a:xfrm>
            <a:off x="6429240" y="421488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9293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Запишите числа в тетра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3" descr="masha-i-medved-pozvoni-mne-pozvoni-1-8-serii_scene1.jpg"/>
          <p:cNvPicPr/>
          <p:nvPr/>
        </p:nvPicPr>
        <p:blipFill>
          <a:blip r:embed="rId1"/>
          <a:stretch/>
        </p:blipFill>
        <p:spPr>
          <a:xfrm>
            <a:off x="1908000" y="1197000"/>
            <a:ext cx="5715000" cy="4073400"/>
          </a:xfrm>
          <a:prstGeom prst="rect">
            <a:avLst/>
          </a:prstGeom>
          <a:ln w="0">
            <a:noFill/>
          </a:ln>
        </p:spPr>
      </p:pic>
      <p:sp>
        <p:nvSpPr>
          <p:cNvPr id="80" name="Заголовок 1"/>
          <p:cNvSpPr/>
          <p:nvPr/>
        </p:nvSpPr>
        <p:spPr>
          <a:xfrm>
            <a:off x="1000080" y="5715000"/>
            <a:ext cx="7929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1897"/>
                </a:solidFill>
                <a:latin typeface="Arial"/>
              </a:rPr>
              <a:t>40 секунд для записи «пошли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0"/>
          <p:cNvSpPr/>
          <p:nvPr/>
        </p:nvSpPr>
        <p:spPr>
          <a:xfrm>
            <a:off x="642960" y="11430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1"/>
          <p:cNvSpPr/>
          <p:nvPr/>
        </p:nvSpPr>
        <p:spPr>
          <a:xfrm>
            <a:off x="3429000" y="11430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2"/>
          <p:cNvSpPr/>
          <p:nvPr/>
        </p:nvSpPr>
        <p:spPr>
          <a:xfrm>
            <a:off x="6143760" y="11430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3"/>
          <p:cNvSpPr/>
          <p:nvPr/>
        </p:nvSpPr>
        <p:spPr>
          <a:xfrm>
            <a:off x="642960" y="3000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4"/>
          <p:cNvSpPr/>
          <p:nvPr/>
        </p:nvSpPr>
        <p:spPr>
          <a:xfrm>
            <a:off x="3357720" y="3000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5"/>
          <p:cNvSpPr/>
          <p:nvPr/>
        </p:nvSpPr>
        <p:spPr>
          <a:xfrm>
            <a:off x="6215040" y="30002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6"/>
          <p:cNvSpPr/>
          <p:nvPr/>
        </p:nvSpPr>
        <p:spPr>
          <a:xfrm>
            <a:off x="642960" y="47862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7"/>
          <p:cNvSpPr/>
          <p:nvPr/>
        </p:nvSpPr>
        <p:spPr>
          <a:xfrm>
            <a:off x="3357720" y="478620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8"/>
          <p:cNvSpPr/>
          <p:nvPr/>
        </p:nvSpPr>
        <p:spPr>
          <a:xfrm>
            <a:off x="6286680" y="4857840"/>
            <a:ext cx="22860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92936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колько чисел Вы запомни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Задания для любозна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е число нужно подставить вместо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бы корнем уравнения  41 – (а – х) = 16 было число 17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треугольников изображено на рисун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700360" y="58770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3276720" y="47242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 flipV="1">
            <a:off x="2700360" y="465300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 flipH="1" flipV="1">
            <a:off x="5076720" y="4724280"/>
            <a:ext cx="503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 flipH="1">
            <a:off x="4500720" y="4724280"/>
            <a:ext cx="576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>
            <a:off x="3348000" y="4724280"/>
            <a:ext cx="115272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0"/>
          <p:cNvSpPr/>
          <p:nvPr/>
        </p:nvSpPr>
        <p:spPr>
          <a:xfrm>
            <a:off x="3059280" y="522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>
            <a:off x="3059280" y="5229360"/>
            <a:ext cx="433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2"/>
          <p:cNvSpPr/>
          <p:nvPr/>
        </p:nvSpPr>
        <p:spPr>
          <a:xfrm flipH="1">
            <a:off x="3419280" y="522936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оверя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 а = 42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 7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3" descr="2.jpg"/>
          <p:cNvPicPr/>
          <p:nvPr/>
        </p:nvPicPr>
        <p:blipFill>
          <a:blip r:embed="rId1"/>
          <a:stretch/>
        </p:blipFill>
        <p:spPr>
          <a:xfrm>
            <a:off x="2843280" y="3573360"/>
            <a:ext cx="3554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5280120" cy="396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4560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Урав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амостоятель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бал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х – 479 = 1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(х + 83) – 92 =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8" descr="2a1bdf2c.jpg"/>
          <p:cNvPicPr/>
          <p:nvPr/>
        </p:nvPicPr>
        <p:blipFill>
          <a:blip r:embed="rId1"/>
          <a:stretch/>
        </p:blipFill>
        <p:spPr>
          <a:xfrm>
            <a:off x="5148360" y="1844640"/>
            <a:ext cx="35002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оверьте пожалуйс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  х = 643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  х = 137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бал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2" descr="deti.jpg"/>
          <p:cNvPicPr/>
          <p:nvPr/>
        </p:nvPicPr>
        <p:blipFill>
          <a:blip r:embed="rId1"/>
          <a:stretch/>
        </p:blipFill>
        <p:spPr>
          <a:xfrm>
            <a:off x="6588000" y="3933720"/>
            <a:ext cx="20005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Уг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417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амостоятель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бал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                   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балл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ндивидуальная задач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3564000" y="242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3564000" y="2421000"/>
            <a:ext cx="1224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3564000" y="2421000"/>
            <a:ext cx="187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21510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те пожалуйс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∟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B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∟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1) 83          6) 16              11) 1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113        7) 157            12)  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19          8) 130            13)  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146        9) 113            14)  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 37        10) 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зкультминут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«ТАНЦУЮТ ВСЕ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8360" y="3181320"/>
            <a:ext cx="604872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Многоуголь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амостоятельно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 сторона треугольника равна 6см, вторая - в 4 раза длиннее первой, а третья - а 3см короче второй. Найти периметр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0cf4ea3511b5f9e7e13d5d76e12e6fe5.png"/>
          <p:cNvPicPr/>
          <p:nvPr/>
        </p:nvPicPr>
        <p:blipFill>
          <a:blip r:embed="rId1"/>
          <a:stretch/>
        </p:blipFill>
        <p:spPr>
          <a:xfrm>
            <a:off x="2340000" y="3573360"/>
            <a:ext cx="44100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оверьте пожалуйс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4 = 24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) – длина второй сторо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4 – 3 = 21(см) – длина третьей сторо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+ 24 + 21 = 51(см) – периметр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51см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бал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9297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роверьте свою памят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3" descr="48764951.jpg"/>
          <p:cNvPicPr/>
          <p:nvPr/>
        </p:nvPicPr>
        <p:blipFill>
          <a:blip r:embed="rId1"/>
          <a:stretch/>
        </p:blipFill>
        <p:spPr>
          <a:xfrm>
            <a:off x="2771640" y="836640"/>
            <a:ext cx="4286520" cy="3214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642960" y="3857760"/>
            <a:ext cx="7929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йчас Вы увидите числа, которые «исчезнут» через 15 секун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пробуйте их запомни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отовы к провер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6:27:45Z</dcterms:created>
  <dc:creator>Admin</dc:creator>
  <dc:description/>
  <dc:language>en-US</dc:language>
  <cp:lastModifiedBy>Admin</cp:lastModifiedBy>
  <dcterms:modified xsi:type="dcterms:W3CDTF">2011-11-13T19:19:53Z</dcterms:modified>
  <cp:revision>9</cp:revision>
  <dc:subject/>
  <dc:title>Уравн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5000000000001024140</vt:lpwstr>
  </property>
</Properties>
</file>