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FB7-6FBD-458F-9930-EC8BC434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142-B1BE-4ABD-A648-D6DBB28E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3B9-33AE-462B-80C8-98CDB339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F50-6595-46CD-A2C3-C604D784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C26-CACA-4F6A-941C-7E3E0E38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61E-C938-4822-A3E7-06166372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15E-F98C-4058-840F-CEA3918E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5DB-D320-46A5-9332-453051B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837-D1C9-45FF-AB36-10638B3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5BD-7407-49FB-9928-9CAAE20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673-6B54-4B5A-ABAE-F6D754B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083-BA08-4320-92C2-93DCE2D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80A-2502-4FF5-9452-B7F75EE9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отовимся к контрольной раб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атематика ум в порядок привод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5733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0"/>
          <p:cNvSpPr/>
          <p:nvPr/>
        </p:nvSpPr>
        <p:spPr>
          <a:xfrm>
            <a:off x="7858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57192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62866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858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35002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635796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7858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35002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6429240" y="42148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929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пишите числа в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masha-i-medved-pozvoni-mne-pozvoni-1-8-serii_scene1.jpg"/>
          <p:cNvPicPr/>
          <p:nvPr/>
        </p:nvPicPr>
        <p:blipFill>
          <a:blip r:embed="rId1"/>
          <a:stretch/>
        </p:blipFill>
        <p:spPr>
          <a:xfrm>
            <a:off x="1908000" y="1197000"/>
            <a:ext cx="5715000" cy="40734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1000080" y="5715000"/>
            <a:ext cx="792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897"/>
                </a:solidFill>
                <a:latin typeface="Arial"/>
              </a:rPr>
              <a:t>40 секунд для записи «пошли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0"/>
          <p:cNvSpPr/>
          <p:nvPr/>
        </p:nvSpPr>
        <p:spPr>
          <a:xfrm>
            <a:off x="6429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2900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61437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4296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35772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21504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64296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335772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6286680" y="48578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929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чисел Вы запомн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я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число нужно подставить вмес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рнем уравнения  41 – (а – х) = 16 было число 17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треугольников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700360" y="587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7672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2700360" y="4653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 flipV="1">
            <a:off x="5076720" y="47242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500720" y="4724280"/>
            <a:ext cx="576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348000" y="472428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059280" y="5229360"/>
            <a:ext cx="43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341928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 = 42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7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2.jpg"/>
          <p:cNvPicPr/>
          <p:nvPr/>
        </p:nvPicPr>
        <p:blipFill>
          <a:blip r:embed="rId1"/>
          <a:stretch/>
        </p:blipFill>
        <p:spPr>
          <a:xfrm>
            <a:off x="2843280" y="3573360"/>
            <a:ext cx="3554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5280120" cy="39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 – 479 =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х + 83) – 9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2a1bdf2c.jpg"/>
          <p:cNvPicPr/>
          <p:nvPr/>
        </p:nvPicPr>
        <p:blipFill>
          <a:blip r:embed="rId1"/>
          <a:stretch/>
        </p:blipFill>
        <p:spPr>
          <a:xfrm>
            <a:off x="5148360" y="1844640"/>
            <a:ext cx="3500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 х = 643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 х = 137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deti.jpg"/>
          <p:cNvPicPr/>
          <p:nvPr/>
        </p:nvPicPr>
        <p:blipFill>
          <a:blip r:embed="rId1"/>
          <a:stretch/>
        </p:blipFill>
        <p:spPr>
          <a:xfrm>
            <a:off x="6588000" y="3933720"/>
            <a:ext cx="2000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дивидуальная з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564000" y="242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64000" y="242100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3564000" y="2421000"/>
            <a:ext cx="18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2151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) 83          6) 16              11)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13        7) 157            12)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9          8) 130            13) 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146        9) 113            14) 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37        10)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ТАНЦУЮТ ВСЕ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3181320"/>
            <a:ext cx="6048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сторона треугольника равна 6см, вторая - в 4 раза длиннее первой, а третья - а 3см короче второй. Найти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0cf4ea3511b5f9e7e13d5d76e12e6fe5.png"/>
          <p:cNvPicPr/>
          <p:nvPr/>
        </p:nvPicPr>
        <p:blipFill>
          <a:blip r:embed="rId1"/>
          <a:stretch/>
        </p:blipFill>
        <p:spPr>
          <a:xfrm>
            <a:off x="2340000" y="3573360"/>
            <a:ext cx="44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4 = 24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) – длина второ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– 3 = 21(см) – длина третье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+ 24 + 21 = 51(см) – периметр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51см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929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ьте свою памя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48764951.jpg"/>
          <p:cNvPicPr/>
          <p:nvPr/>
        </p:nvPicPr>
        <p:blipFill>
          <a:blip r:embed="rId1"/>
          <a:stretch/>
        </p:blipFill>
        <p:spPr>
          <a:xfrm>
            <a:off x="277164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2960" y="385776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йчас Вы увидите числа, которые «исчезнут» через 15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пробуйте их запомн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товы к прове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6:27:45Z</dcterms:created>
  <dc:creator>Admin</dc:creator>
  <dc:description/>
  <dc:language>en-US</dc:language>
  <cp:lastModifiedBy>Admin</cp:lastModifiedBy>
  <dcterms:modified xsi:type="dcterms:W3CDTF">2011-11-13T19:19:53Z</dcterms:modified>
  <cp:revision>9</cp:revision>
  <dc:subject/>
  <dc:title>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5000000000001024140</vt:lpwstr>
  </property>
</Properties>
</file>