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8BE-C0EF-46E0-9441-C3974685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8EC-A70F-43F3-BDB5-523AAC07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DEC-834E-4430-9EB2-FDAB0AB7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F57-4EB9-4D4E-B6BF-F3B4BBC9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3DE-326D-4783-90E1-42A6E5D9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9FA-91E1-4F99-AFD1-C9929A46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44D-5106-415B-A74F-18CB5FD0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2D6-E89A-49C7-96EC-FCCA715B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D3A-AF21-4704-B4DB-D70DE140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FF2-AB15-41A2-8A02-5F5CBF79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2EA-8666-4CA8-9C76-76A10F53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F65-6DC4-4C7C-BDDA-865CA33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07DD-6625-4E19-A46E-AD0A2918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Готовимся к контрольной рабо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атематика ум в порядок привод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57336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0"/>
          <p:cNvSpPr/>
          <p:nvPr/>
        </p:nvSpPr>
        <p:spPr>
          <a:xfrm>
            <a:off x="7858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357192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62866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858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35002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635796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7858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35002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6429240" y="42148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9293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пишите числа в тетр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masha-i-medved-pozvoni-mne-pozvoni-1-8-serii_scene1.jpg"/>
          <p:cNvPicPr/>
          <p:nvPr/>
        </p:nvPicPr>
        <p:blipFill>
          <a:blip r:embed="rId1"/>
          <a:stretch/>
        </p:blipFill>
        <p:spPr>
          <a:xfrm>
            <a:off x="1908000" y="1197000"/>
            <a:ext cx="5715000" cy="407340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1000080" y="5715000"/>
            <a:ext cx="7929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1897"/>
                </a:solidFill>
                <a:latin typeface="Arial"/>
              </a:rPr>
              <a:t>40 секунд для записи «пошли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0"/>
          <p:cNvSpPr/>
          <p:nvPr/>
        </p:nvSpPr>
        <p:spPr>
          <a:xfrm>
            <a:off x="6429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342900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61437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64296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335772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621504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64296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7"/>
          <p:cNvSpPr/>
          <p:nvPr/>
        </p:nvSpPr>
        <p:spPr>
          <a:xfrm>
            <a:off x="335772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8"/>
          <p:cNvSpPr/>
          <p:nvPr/>
        </p:nvSpPr>
        <p:spPr>
          <a:xfrm>
            <a:off x="6286680" y="48578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92936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лько чисел Вы запомни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дания для любозн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число нужно подставить вмест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корнем уравнения  41 – (а – х) = 16 было число 17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треугольников изображено на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700360" y="5877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3276720" y="4724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2700360" y="4653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H="1" flipV="1">
            <a:off x="5076720" y="4724280"/>
            <a:ext cx="503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4500720" y="4724280"/>
            <a:ext cx="576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3348000" y="4724280"/>
            <a:ext cx="1152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305928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3059280" y="5229360"/>
            <a:ext cx="43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 flipH="1">
            <a:off x="3419280" y="522936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а = 42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7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2.jpg"/>
          <p:cNvPicPr/>
          <p:nvPr/>
        </p:nvPicPr>
        <p:blipFill>
          <a:blip r:embed="rId1"/>
          <a:stretch/>
        </p:blipFill>
        <p:spPr>
          <a:xfrm>
            <a:off x="2843280" y="3573360"/>
            <a:ext cx="3554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5280120" cy="396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456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х – 479 =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х + 83) – 92 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8" descr="2a1bdf2c.jpg"/>
          <p:cNvPicPr/>
          <p:nvPr/>
        </p:nvPicPr>
        <p:blipFill>
          <a:blip r:embed="rId1"/>
          <a:stretch/>
        </p:blipFill>
        <p:spPr>
          <a:xfrm>
            <a:off x="5148360" y="1844640"/>
            <a:ext cx="3500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 х = 643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 х = 137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2" descr="deti.jpg"/>
          <p:cNvPicPr/>
          <p:nvPr/>
        </p:nvPicPr>
        <p:blipFill>
          <a:blip r:embed="rId1"/>
          <a:stretch/>
        </p:blipFill>
        <p:spPr>
          <a:xfrm>
            <a:off x="6588000" y="3933720"/>
            <a:ext cx="20005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            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ндивидуальная з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3564000" y="242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564000" y="2421000"/>
            <a:ext cx="1224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3564000" y="2421000"/>
            <a:ext cx="18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2151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) 83          6) 16              11)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13        7) 157            12) 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19          8) 130            13)  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146        9) 113            14)  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 37        10)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зкультминут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«ТАНЦУЮТ ВСЕ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3181320"/>
            <a:ext cx="60487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Много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сторона треугольника равна 6см, вторая - в 4 раза длиннее первой, а третья - а 3см короче второй. Найти периметр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0cf4ea3511b5f9e7e13d5d76e12e6fe5.png"/>
          <p:cNvPicPr/>
          <p:nvPr/>
        </p:nvPicPr>
        <p:blipFill>
          <a:blip r:embed="rId1"/>
          <a:stretch/>
        </p:blipFill>
        <p:spPr>
          <a:xfrm>
            <a:off x="2340000" y="3573360"/>
            <a:ext cx="44100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4 = 24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) – длина второ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4 – 3 = 21(см) – длина третье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+ 24 + 21 = 51(см) – периметр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51см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929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верьте свою памя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48764951.jpg"/>
          <p:cNvPicPr/>
          <p:nvPr/>
        </p:nvPicPr>
        <p:blipFill>
          <a:blip r:embed="rId1"/>
          <a:stretch/>
        </p:blipFill>
        <p:spPr>
          <a:xfrm>
            <a:off x="2771640" y="836640"/>
            <a:ext cx="4286520" cy="3214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42960" y="385776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йчас Вы увидите числа, которые «исчезнут» через 15 секу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пробуйте их запомни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отовы к провер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6:27:45Z</dcterms:created>
  <dc:creator>Admin</dc:creator>
  <dc:description/>
  <dc:language>en-US</dc:language>
  <cp:lastModifiedBy>Admin</cp:lastModifiedBy>
  <dcterms:modified xsi:type="dcterms:W3CDTF">2011-11-13T19:19:53Z</dcterms:modified>
  <cp:revision>9</cp:revision>
  <dc:subject/>
  <dc:title>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5000000000001024140</vt:lpwstr>
  </property>
</Properties>
</file>