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36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763-59F4-45AE-8F61-C1A80D5F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9D0-8687-410A-9CDA-7AE00F2B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994-AFCD-44CA-9558-4E17D602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4D6-48CC-4B3B-B532-A42AEFB7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580C-D4F1-41EA-9578-6BDC582A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DB4B-83EC-4A68-937B-BED83027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D7E7-C48A-4BF5-88AF-84156ECD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EADB-B583-459D-9751-D1BAACC8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657A-8B8D-4C6B-9567-F65103B0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CA04-C557-4F32-B769-10A3F6B4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73C3-7EBA-49F3-B330-4F1002AD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AFE-8538-4AEC-8411-D2C9FEB5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6DF2-F152-4F4A-85BA-321AA6D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1E53-6D02-47A8-A29A-2256806B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870E-8125-4D4F-9C51-38A9F28E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70F7-629E-4A75-A0EE-C73EA5C2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FF8C-8692-4A6D-9219-8220CC3E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12EB-B2CB-4B8E-986D-F564C13D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2229-1C69-41BF-AB75-73BA8343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8B2D-F2A3-4388-8A13-73C91A01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CF47-E8BD-4492-8960-5542F0B1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F8DE-717C-4A6A-9AEB-1A28ED6B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20E-ED33-4F15-AC59-5AB7B509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A541-89DC-434F-9A1A-60180FF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8598-B540-4F11-909E-F5EB8B1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0785-8A4C-4DC7-926B-3CBB7AD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ADD9-2828-4BC7-8736-11EF962D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32D4-DF21-44CA-8FD3-9E10F07A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0EFF-4437-46E4-B574-BD2987A6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87A5-F794-4A0C-B613-0E28A7D0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CCF8-1F7C-46F4-9FC4-50A25738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9925-0659-4775-BA42-59BCE344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D158-8677-4140-B12A-5A6916A2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B15-EA44-4375-8E6B-922B7451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940BA-44F5-4293-A85E-5BF20C7A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3A4A-B0E4-45AC-B20A-9CCA14CA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E773-20E7-4E1A-A8D6-C478B076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79A05-9B97-4701-9E3C-114C7EB9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F1E3-0E85-4352-8550-C152115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A52D-A0F1-48E3-BA90-647EE1D3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D8C0-6DFC-4143-AC96-0F76C9AC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4460-EEB0-4448-BDFC-D5399806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9DB5-DC0B-42C8-80C9-C6CD8719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47C2E-6F66-48F0-8D0D-84948E22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DF4-76F3-41E0-831D-16E55700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E7AA1-E084-4E82-835A-2B7AE0B6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D99C-E47A-4153-8C07-C610049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4BA5-76C8-46FB-A19E-585361C5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9D2C6-3DB1-49C7-BB25-2F8E8C4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A0568-3F60-4176-BC33-3A30D531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89F11-A6DF-4836-9DAF-CA790360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6EE8-8C46-42B1-8AC8-11F514BB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54A9-88F2-4B8D-AEB0-91EB06E2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98FF-0674-49DB-BD25-1EDE11B0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5AF4-AE1C-4419-A8EF-8FC818E1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BDF-F69A-4FA4-89D5-05459695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1953-04BA-4224-B7DD-C6BFFD91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B45-2D45-48DE-83C7-0010AC8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9A8-D86F-4A8D-9AE8-4AF6672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BEA-5E49-48D1-9DF3-A5450BD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D113-F353-410A-B72A-C4A61D51FD0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E520-6B91-45F3-9B43-404F8857A8D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85AD-00DA-46A7-8303-30744B665F3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4A9A-F941-4449-A742-F683836892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2FA6-1DA6-4339-9262-16EBEA525C9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5.wm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17431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Rectangle 6" descr=""/>
          <p:cNvPicPr/>
          <p:nvPr/>
        </p:nvPicPr>
        <p:blipFill>
          <a:blip r:embed="rId1"/>
          <a:stretch/>
        </p:blipFill>
        <p:spPr>
          <a:xfrm>
            <a:off x="128520" y="835200"/>
            <a:ext cx="8618760" cy="4492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1174320" y="52498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Бизбиз Елена Анатольевна, учитель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полянской ОШ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-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упе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60520" y="1627200"/>
            <a:ext cx="785160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332000" y="1341360"/>
            <a:ext cx="6400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на дробь чтоб разделить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олго нечего мудри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обратную делителю бер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Так вы частное искомое найд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И на эту дробь тепер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Умножайте поскор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28200" y="4255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Чтобы запомнить правило деления обыкновенных дроб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очитай стихотво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332000" y="5013360"/>
            <a:ext cx="4103640" cy="792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9"/>
          <p:cNvSpPr/>
          <p:nvPr/>
        </p:nvSpPr>
        <p:spPr>
          <a:xfrm>
            <a:off x="1189080" y="5802480"/>
            <a:ext cx="726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сейчас тебе предстоит выполнить самостоятельную рабо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Самостоятельная работа</a:t>
            </a:r>
            <a:br>
              <a:rPr sz="24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 каждое правильное решение – 1 бал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3 – 5 баллов оценка «3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6 – 8 баллов оценка «4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9 баллов оценка «5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Object 7" descr=""/>
          <p:cNvPicPr/>
          <p:nvPr/>
        </p:nvPicPr>
        <p:blipFill>
          <a:blip r:embed="rId1"/>
          <a:stretch/>
        </p:blipFill>
        <p:spPr>
          <a:xfrm>
            <a:off x="1298520" y="2349360"/>
            <a:ext cx="1112760" cy="3889440"/>
          </a:xfrm>
          <a:prstGeom prst="rect">
            <a:avLst/>
          </a:prstGeom>
          <a:ln w="0">
            <a:noFill/>
          </a:ln>
        </p:spPr>
      </p:pic>
      <p:pic>
        <p:nvPicPr>
          <p:cNvPr id="336" name="Object 11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863640" cy="3744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4520" y="1844280"/>
            <a:ext cx="2519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отве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493236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лодец, ты хорошо потрудился,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огорчайся, есл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учил плохую оценку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втори ещё раз правило деления дроби на дробь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92428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Чтобы разделить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дну дробь на другую, надо делимое умножить на число, обратное делителю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50920" y="549360"/>
          <a:ext cx="8569080" cy="1439640"/>
        </p:xfrm>
        <a:graphic>
          <a:graphicData uri="http://schemas.openxmlformats.org/drawingml/2006/table">
            <a:tbl>
              <a:tblPr/>
              <a:tblGrid>
                <a:gridCol w="714240"/>
                <a:gridCol w="712800"/>
                <a:gridCol w="714240"/>
                <a:gridCol w="714600"/>
                <a:gridCol w="714240"/>
                <a:gridCol w="716040"/>
                <a:gridCol w="712800"/>
                <a:gridCol w="714240"/>
                <a:gridCol w="714600"/>
                <a:gridCol w="714240"/>
                <a:gridCol w="712800"/>
                <a:gridCol w="7142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5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04920" cy="647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Object 55" descr=""/>
          <p:cNvPicPr/>
          <p:nvPr/>
        </p:nvPicPr>
        <p:blipFill>
          <a:blip r:embed="rId2"/>
          <a:stretch/>
        </p:blipFill>
        <p:spPr>
          <a:xfrm>
            <a:off x="179712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Object 57" descr=""/>
          <p:cNvPicPr/>
          <p:nvPr/>
        </p:nvPicPr>
        <p:blipFill>
          <a:blip r:embed="rId3"/>
          <a:stretch/>
        </p:blipFill>
        <p:spPr>
          <a:xfrm>
            <a:off x="3954600" y="1341360"/>
            <a:ext cx="330120" cy="57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Object 59" descr=""/>
          <p:cNvPicPr/>
          <p:nvPr/>
        </p:nvPicPr>
        <p:blipFill>
          <a:blip r:embed="rId4"/>
          <a:stretch/>
        </p:blipFill>
        <p:spPr>
          <a:xfrm>
            <a:off x="538164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Object 63" descr=""/>
          <p:cNvPicPr/>
          <p:nvPr/>
        </p:nvPicPr>
        <p:blipFill>
          <a:blip r:embed="rId5"/>
          <a:stretch/>
        </p:blipFill>
        <p:spPr>
          <a:xfrm>
            <a:off x="6732720" y="1268280"/>
            <a:ext cx="431640" cy="64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5"/>
          <p:cNvSpPr/>
          <p:nvPr/>
        </p:nvSpPr>
        <p:spPr>
          <a:xfrm>
            <a:off x="663480" y="234936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Здесь зашифровано словосочетание.  Ты сможешь его прочитат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выполнив задания 1 -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Object 66" descr=""/>
          <p:cNvPicPr/>
          <p:nvPr/>
        </p:nvPicPr>
        <p:blipFill>
          <a:blip r:embed="rId6"/>
          <a:stretch/>
        </p:blipFill>
        <p:spPr>
          <a:xfrm>
            <a:off x="611280" y="3068640"/>
            <a:ext cx="587160" cy="56988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67" descr=""/>
          <p:cNvPicPr/>
          <p:nvPr/>
        </p:nvPicPr>
        <p:blipFill>
          <a:blip r:embed="rId7"/>
          <a:stretch/>
        </p:blipFill>
        <p:spPr>
          <a:xfrm>
            <a:off x="611280" y="4653000"/>
            <a:ext cx="55872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68" descr=""/>
          <p:cNvPicPr/>
          <p:nvPr/>
        </p:nvPicPr>
        <p:blipFill>
          <a:blip r:embed="rId8"/>
          <a:stretch/>
        </p:blipFill>
        <p:spPr>
          <a:xfrm>
            <a:off x="2556000" y="3068640"/>
            <a:ext cx="503280" cy="49536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9" descr=""/>
          <p:cNvPicPr/>
          <p:nvPr/>
        </p:nvPicPr>
        <p:blipFill>
          <a:blip r:embed="rId9"/>
          <a:stretch/>
        </p:blipFill>
        <p:spPr>
          <a:xfrm>
            <a:off x="2484360" y="4632480"/>
            <a:ext cx="935280" cy="52524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0" descr=""/>
          <p:cNvPicPr/>
          <p:nvPr/>
        </p:nvPicPr>
        <p:blipFill>
          <a:blip r:embed="rId10"/>
          <a:stretch/>
        </p:blipFill>
        <p:spPr>
          <a:xfrm>
            <a:off x="4356000" y="2997360"/>
            <a:ext cx="1224000" cy="57600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71" descr=""/>
          <p:cNvPicPr/>
          <p:nvPr/>
        </p:nvPicPr>
        <p:blipFill>
          <a:blip r:embed="rId11"/>
          <a:stretch/>
        </p:blipFill>
        <p:spPr>
          <a:xfrm>
            <a:off x="4500720" y="4365720"/>
            <a:ext cx="1008000" cy="57600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72" descr=""/>
          <p:cNvPicPr/>
          <p:nvPr/>
        </p:nvPicPr>
        <p:blipFill>
          <a:blip r:embed="rId12"/>
          <a:stretch/>
        </p:blipFill>
        <p:spPr>
          <a:xfrm>
            <a:off x="7524720" y="2997360"/>
            <a:ext cx="1081080" cy="57600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73" descr=""/>
          <p:cNvPicPr/>
          <p:nvPr/>
        </p:nvPicPr>
        <p:blipFill>
          <a:blip r:embed="rId13"/>
          <a:stretch/>
        </p:blipFill>
        <p:spPr>
          <a:xfrm>
            <a:off x="611280" y="3860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74" descr=""/>
          <p:cNvPicPr/>
          <p:nvPr/>
        </p:nvPicPr>
        <p:blipFill>
          <a:blip r:embed="rId14"/>
          <a:stretch/>
        </p:blipFill>
        <p:spPr>
          <a:xfrm>
            <a:off x="611280" y="5445000"/>
            <a:ext cx="790560" cy="5050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75" descr=""/>
          <p:cNvPicPr/>
          <p:nvPr/>
        </p:nvPicPr>
        <p:blipFill>
          <a:blip r:embed="rId15"/>
          <a:stretch/>
        </p:blipFill>
        <p:spPr>
          <a:xfrm>
            <a:off x="2556000" y="3860640"/>
            <a:ext cx="865080" cy="50508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76" descr=""/>
          <p:cNvPicPr/>
          <p:nvPr/>
        </p:nvPicPr>
        <p:blipFill>
          <a:blip r:embed="rId16"/>
          <a:stretch/>
        </p:blipFill>
        <p:spPr>
          <a:xfrm>
            <a:off x="2556000" y="5445000"/>
            <a:ext cx="647640" cy="62712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77" descr=""/>
          <p:cNvPicPr/>
          <p:nvPr/>
        </p:nvPicPr>
        <p:blipFill>
          <a:blip r:embed="rId17"/>
          <a:stretch/>
        </p:blipFill>
        <p:spPr>
          <a:xfrm>
            <a:off x="4356000" y="3716280"/>
            <a:ext cx="2017800" cy="36036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78" descr=""/>
          <p:cNvPicPr/>
          <p:nvPr/>
        </p:nvPicPr>
        <p:blipFill>
          <a:blip r:embed="rId18"/>
          <a:stretch/>
        </p:blipFill>
        <p:spPr>
          <a:xfrm>
            <a:off x="4356000" y="5084640"/>
            <a:ext cx="2376720" cy="6494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79" descr=""/>
          <p:cNvPicPr/>
          <p:nvPr/>
        </p:nvPicPr>
        <p:blipFill>
          <a:blip r:embed="rId19"/>
          <a:stretch/>
        </p:blipFill>
        <p:spPr>
          <a:xfrm>
            <a:off x="7451640" y="3789360"/>
            <a:ext cx="129708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0"/>
          <p:cNvSpPr/>
          <p:nvPr/>
        </p:nvSpPr>
        <p:spPr>
          <a:xfrm>
            <a:off x="3906000" y="5897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16056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1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84"/>
          <p:cNvSpPr/>
          <p:nvPr/>
        </p:nvSpPr>
        <p:spPr>
          <a:xfrm>
            <a:off x="16056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960560" y="308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6"/>
          <p:cNvSpPr/>
          <p:nvPr/>
        </p:nvSpPr>
        <p:spPr>
          <a:xfrm>
            <a:off x="19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7"/>
          <p:cNvSpPr/>
          <p:nvPr/>
        </p:nvSpPr>
        <p:spPr>
          <a:xfrm>
            <a:off x="198144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8"/>
          <p:cNvSpPr/>
          <p:nvPr/>
        </p:nvSpPr>
        <p:spPr>
          <a:xfrm>
            <a:off x="1960560" y="553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89"/>
          <p:cNvSpPr/>
          <p:nvPr/>
        </p:nvSpPr>
        <p:spPr>
          <a:xfrm>
            <a:off x="160560" y="474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90"/>
          <p:cNvSpPr/>
          <p:nvPr/>
        </p:nvSpPr>
        <p:spPr>
          <a:xfrm>
            <a:off x="3834000" y="3016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1"/>
          <p:cNvSpPr/>
          <p:nvPr/>
        </p:nvSpPr>
        <p:spPr>
          <a:xfrm>
            <a:off x="378180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2"/>
          <p:cNvSpPr/>
          <p:nvPr/>
        </p:nvSpPr>
        <p:spPr>
          <a:xfrm>
            <a:off x="378180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3"/>
          <p:cNvSpPr/>
          <p:nvPr/>
        </p:nvSpPr>
        <p:spPr>
          <a:xfrm>
            <a:off x="3760920" y="517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4"/>
          <p:cNvSpPr/>
          <p:nvPr/>
        </p:nvSpPr>
        <p:spPr>
          <a:xfrm>
            <a:off x="6929640" y="308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5"/>
          <p:cNvSpPr/>
          <p:nvPr/>
        </p:nvSpPr>
        <p:spPr>
          <a:xfrm>
            <a:off x="6929640" y="3952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8674200" cy="27842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1349640" y="3305160"/>
            <a:ext cx="666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умножение в стари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читалось нелёгким дел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 деление было ещё сложн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360360" y="401760"/>
            <a:ext cx="85089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Реши уравн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Object 5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300400" cy="1584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606240" y="3786120"/>
            <a:ext cx="844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олько действие умнож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какое число надо умножить обе части уравнения, чтобы множи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  х  был равен 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Object 5" descr=""/>
          <p:cNvPicPr/>
          <p:nvPr/>
        </p:nvPicPr>
        <p:blipFill>
          <a:blip r:embed="rId1"/>
          <a:stretch/>
        </p:blipFill>
        <p:spPr>
          <a:xfrm>
            <a:off x="3260880" y="649440"/>
            <a:ext cx="1108080" cy="76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j0299125"/>
          <p:cNvPicPr/>
          <p:nvPr/>
        </p:nvPicPr>
        <p:blipFill>
          <a:blip r:embed="rId2"/>
          <a:stretch/>
        </p:blipFill>
        <p:spPr>
          <a:xfrm>
            <a:off x="6443640" y="1557360"/>
            <a:ext cx="1728720" cy="2592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Object 6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468360" y="436572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? Подумай и ответь на вопро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 законы умножения использованы при решен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м числом является множитель 4 для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этом уравнении что мы иска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йти неизвестный множите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Object 9" descr=""/>
          <p:cNvPicPr/>
          <p:nvPr/>
        </p:nvPicPr>
        <p:blipFill>
          <a:blip r:embed="rId4"/>
          <a:stretch/>
        </p:blipFill>
        <p:spPr>
          <a:xfrm>
            <a:off x="6588000" y="4941720"/>
            <a:ext cx="360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Object 5" descr=""/>
          <p:cNvPicPr/>
          <p:nvPr/>
        </p:nvPicPr>
        <p:blipFill>
          <a:blip r:embed="rId1"/>
          <a:stretch/>
        </p:blipFill>
        <p:spPr>
          <a:xfrm>
            <a:off x="4357800" y="1125360"/>
            <a:ext cx="1077840" cy="79092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6" descr=""/>
          <p:cNvPicPr/>
          <p:nvPr/>
        </p:nvPicPr>
        <p:blipFill>
          <a:blip r:embed="rId2"/>
          <a:stretch/>
        </p:blipFill>
        <p:spPr>
          <a:xfrm>
            <a:off x="755640" y="2014560"/>
            <a:ext cx="1152360" cy="153180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8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1224000" cy="84276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10" descr=""/>
          <p:cNvPicPr/>
          <p:nvPr/>
        </p:nvPicPr>
        <p:blipFill>
          <a:blip r:embed="rId4"/>
          <a:stretch/>
        </p:blipFill>
        <p:spPr>
          <a:xfrm>
            <a:off x="4392720" y="1989000"/>
            <a:ext cx="1295280" cy="1778040"/>
          </a:xfrm>
          <a:prstGeom prst="rect">
            <a:avLst/>
          </a:prstGeom>
          <a:ln w="0">
            <a:noFill/>
          </a:ln>
        </p:spPr>
      </p:pic>
      <p:pic>
        <p:nvPicPr>
          <p:cNvPr id="306" name="Object 20" descr=""/>
          <p:cNvPicPr/>
          <p:nvPr/>
        </p:nvPicPr>
        <p:blipFill>
          <a:blip r:embed="rId5"/>
          <a:stretch/>
        </p:blipFill>
        <p:spPr>
          <a:xfrm>
            <a:off x="1979640" y="4292640"/>
            <a:ext cx="3281400" cy="826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2"/>
          <p:cNvSpPr/>
          <p:nvPr/>
        </p:nvSpPr>
        <p:spPr>
          <a:xfrm>
            <a:off x="3276720" y="263700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4140360" y="3068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1403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59259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4140360" y="3860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74760" y="45068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84640" y="5370480"/>
            <a:ext cx="75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Чтобы разделить одну дробь на другую, над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елимое умножить на число , обратное делите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что делать, если делимое и делитель смешанные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натуральн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6012000" y="422100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робуй сформулир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о деления дроб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5280" y="475920"/>
            <a:ext cx="74026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1</a:t>
            </a:r>
            <a:br>
              <a:rPr sz="28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: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Надо представить смешанные числа в виде неправильных дробей.</a:t>
            </a:r>
            <a:br>
              <a:rPr sz="2400"/>
            </a:br>
            <a:br>
              <a:rPr sz="20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2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bject 5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408720" cy="934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Object 9" descr=""/>
          <p:cNvPicPr/>
          <p:nvPr/>
        </p:nvPicPr>
        <p:blipFill>
          <a:blip r:embed="rId2"/>
          <a:stretch/>
        </p:blipFill>
        <p:spPr>
          <a:xfrm>
            <a:off x="803160" y="4005360"/>
            <a:ext cx="6767640" cy="8636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852480" y="4892760"/>
            <a:ext cx="74376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до представить натуральное число в виде неправильной дроби со знаменателем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оверь себя!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35120" y="1700280"/>
            <a:ext cx="740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ученик в каждом из данных примеров допустил ошиб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оги ему, найди ошиб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Object 6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400720" cy="30970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900360" y="2997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951120" y="4002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951120" y="5010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13:13Z</dcterms:created>
  <dc:creator>Ирина</dc:creator>
  <dc:description/>
  <dc:language>en-US</dc:language>
  <cp:lastModifiedBy>User</cp:lastModifiedBy>
  <dcterms:modified xsi:type="dcterms:W3CDTF">2012-02-05T07:06:18Z</dcterms:modified>
  <cp:revision>17</cp:revision>
  <dc:subject/>
  <dc:title>Деление обыкновенных дробей  8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a000000000001024140</vt:lpwstr>
  </property>
  <property fmtid="{D5CDD505-2E9C-101B-9397-08002B2CF9AE}" pid="3" name="Version">
    <vt:r8>9</vt:r8>
  </property>
</Properties>
</file>