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F6D-5603-4842-802A-5DFDC575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793-B22F-4E6E-B8A0-1FF1C9F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40D-54F0-4727-ADCA-FE648CC2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D61-D699-4CB8-819A-26FE749C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901F-737C-407F-BFD3-80088249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6041-9580-441D-BBAF-DB2248F4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BE00-369B-42CF-B7BD-6ECCCB4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31FC-0808-4E3F-A2C3-1611980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F22E-1145-4C7B-9094-B3F3319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93B7-E681-410D-BE9C-D449862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745-4C1E-4099-B9D5-EBBC03D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1FA-FB44-4B3E-AED4-D8806412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1F6D-8218-4F82-8D12-DF1C0B5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4D7B-1967-454B-8844-1E49633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52CB-9A95-4832-9AD4-C021FBB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9591-816F-4664-BCD7-7E3FBAC4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3EC-9A7B-499C-9D5B-7D2047C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AFEE-E47D-4B56-A1CD-C02599C3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8735-81DF-488E-BC18-DF85C0E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E2AD-F146-430D-963D-286144F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4D25-45DA-49D3-ADD5-77415EF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6052-981E-4593-93DE-FEF6EAD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1EB-B774-47B7-A375-45C45113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B2A5-2D7D-472C-A272-A218D27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DE6C-0A59-4340-B3F6-8D899D1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39C9-8BF6-46C4-ACFD-C1B39C04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AC1A-8DE2-472E-842B-8108238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C05D-C5D0-4C08-9C93-87C3E2EF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8C9A-7106-4A51-9680-04FE6A04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0D49-9B45-408B-91A8-BB219FD9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7310-BA76-4E51-9FBF-F8E36E48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1101-F770-43F2-9E59-45315E2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1E32-09CF-43B2-B306-EA400AF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14F-C992-4859-97AA-EFEDC517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2162-090F-411B-96B8-5CF6C82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9D7A-6B9D-46A6-9E06-71A78198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EEA1-A6DD-445E-9BF1-7B20E490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A7A3-6000-43B9-842A-A2A6B13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3E49-EB26-414E-8739-D1D9277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9161-E9C8-4B1C-AB72-594BB19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AC7B-0C64-484F-87E9-0B5019C8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767B-6C5E-4C4D-9018-62BBACD0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7868-610E-4E83-BD96-20A72CB7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7841-E51F-47D4-A09E-F503BAC7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C8F-61A4-449C-8AB3-1251631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E2C7-BAAC-485B-8509-E0A80F7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FEA3-2D8E-4348-A6BD-F771F5C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D3B3-D2FD-419A-BA3F-AE55448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F996-FCDC-4E66-876E-BD0042FB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A767-6E4C-4E5C-910D-EFEB2D5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C836-21AA-4ACA-887C-BEC6F47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1267-3E16-47E2-A7C4-5AFAC71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AF8A-538E-460E-95E2-9D7D17A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6E4BB-440A-4DDF-8BD4-078C752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5B27-587E-4E24-B596-02F419D0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DB1-45F7-45BA-B955-FD753B1F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FD90-1449-40E0-A413-A36A5DE3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7B1-75AD-4026-B453-6A35C9B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29F-9BD5-45AD-B285-1F21B52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B62-3267-462E-815F-F4DCB3A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9C1-0071-4990-A1CD-DDC8833364E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6BE-7D36-471B-8687-2A121F2AACF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26A-6A01-4957-9569-84A85C062AA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1B54-1802-4852-B2E0-51BD88DA86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1E2-74BD-49D7-83C8-182E8D76049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7431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ectangle 6" descr=""/>
          <p:cNvPicPr/>
          <p:nvPr/>
        </p:nvPicPr>
        <p:blipFill>
          <a:blip r:embed="rId1"/>
          <a:stretch/>
        </p:blipFill>
        <p:spPr>
          <a:xfrm>
            <a:off x="128520" y="835200"/>
            <a:ext cx="8618760" cy="4492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1174320" y="52498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Бизбиз Елена Анатольевна, 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полянской О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упе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60520" y="16272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400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на дробь чтоб разделить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олго нечего мудри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обратную делителю бер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Так вы частное искомое найд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И на эту дробь тепер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Умножайте поскор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28200" y="4255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Чтобы запомнить правило деления обыкновенных д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332000" y="5013360"/>
            <a:ext cx="41036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9"/>
          <p:cNvSpPr/>
          <p:nvPr/>
        </p:nvSpPr>
        <p:spPr>
          <a:xfrm>
            <a:off x="1189080" y="5802480"/>
            <a:ext cx="72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сейчас тебе предстоит выполнить самостоятельную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Самостоятельная работа</a:t>
            </a:r>
            <a:br>
              <a:rPr sz="24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ое правильное решение – 1 бал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3 – 5 баллов оценка «3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6 – 8 баллов оценка «4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9 баллов оценка «5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Object 7" descr=""/>
          <p:cNvPicPr/>
          <p:nvPr/>
        </p:nvPicPr>
        <p:blipFill>
          <a:blip r:embed="rId1"/>
          <a:stretch/>
        </p:blipFill>
        <p:spPr>
          <a:xfrm>
            <a:off x="1298520" y="2349360"/>
            <a:ext cx="1112760" cy="388944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1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863640" cy="3744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4520" y="1844280"/>
            <a:ext cx="2519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4932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ец, ты хорошо потрудилс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огорчайся, есл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ил плохую оценку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втори ещё раз правило деления дроби на дроб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Чтобы разде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дну дробь на другую, надо делимое умножить на число, обратное делител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549360"/>
          <a:ext cx="8569080" cy="143964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6040"/>
                <a:gridCol w="712800"/>
                <a:gridCol w="714240"/>
                <a:gridCol w="714600"/>
                <a:gridCol w="714240"/>
                <a:gridCol w="712800"/>
                <a:gridCol w="7142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5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04920" cy="64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Object 55" descr=""/>
          <p:cNvPicPr/>
          <p:nvPr/>
        </p:nvPicPr>
        <p:blipFill>
          <a:blip r:embed="rId2"/>
          <a:stretch/>
        </p:blipFill>
        <p:spPr>
          <a:xfrm>
            <a:off x="179712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Object 57" descr=""/>
          <p:cNvPicPr/>
          <p:nvPr/>
        </p:nvPicPr>
        <p:blipFill>
          <a:blip r:embed="rId3"/>
          <a:stretch/>
        </p:blipFill>
        <p:spPr>
          <a:xfrm>
            <a:off x="3954600" y="1341360"/>
            <a:ext cx="330120" cy="5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59" descr=""/>
          <p:cNvPicPr/>
          <p:nvPr/>
        </p:nvPicPr>
        <p:blipFill>
          <a:blip r:embed="rId4"/>
          <a:stretch/>
        </p:blipFill>
        <p:spPr>
          <a:xfrm>
            <a:off x="538164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63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431640" cy="64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5"/>
          <p:cNvSpPr/>
          <p:nvPr/>
        </p:nvSpPr>
        <p:spPr>
          <a:xfrm>
            <a:off x="663480" y="234936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Здесь зашифровано словосочетание.  Ты сможешь его прочитат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выполнив задания 1 -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66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587160" cy="56988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7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55872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68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03280" cy="4953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9" descr=""/>
          <p:cNvPicPr/>
          <p:nvPr/>
        </p:nvPicPr>
        <p:blipFill>
          <a:blip r:embed="rId9"/>
          <a:stretch/>
        </p:blipFill>
        <p:spPr>
          <a:xfrm>
            <a:off x="2484360" y="4632480"/>
            <a:ext cx="935280" cy="5252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1224000" cy="57600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71" descr=""/>
          <p:cNvPicPr/>
          <p:nvPr/>
        </p:nvPicPr>
        <p:blipFill>
          <a:blip r:embed="rId11"/>
          <a:stretch/>
        </p:blipFill>
        <p:spPr>
          <a:xfrm>
            <a:off x="4500720" y="436572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72" descr=""/>
          <p:cNvPicPr/>
          <p:nvPr/>
        </p:nvPicPr>
        <p:blipFill>
          <a:blip r:embed="rId12"/>
          <a:stretch/>
        </p:blipFill>
        <p:spPr>
          <a:xfrm>
            <a:off x="7524720" y="2997360"/>
            <a:ext cx="1081080" cy="576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73" descr=""/>
          <p:cNvPicPr/>
          <p:nvPr/>
        </p:nvPicPr>
        <p:blipFill>
          <a:blip r:embed="rId13"/>
          <a:stretch/>
        </p:blipFill>
        <p:spPr>
          <a:xfrm>
            <a:off x="611280" y="3860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74" descr=""/>
          <p:cNvPicPr/>
          <p:nvPr/>
        </p:nvPicPr>
        <p:blipFill>
          <a:blip r:embed="rId14"/>
          <a:stretch/>
        </p:blipFill>
        <p:spPr>
          <a:xfrm>
            <a:off x="611280" y="5445000"/>
            <a:ext cx="79056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5" descr=""/>
          <p:cNvPicPr/>
          <p:nvPr/>
        </p:nvPicPr>
        <p:blipFill>
          <a:blip r:embed="rId15"/>
          <a:stretch/>
        </p:blipFill>
        <p:spPr>
          <a:xfrm>
            <a:off x="2556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6" descr=""/>
          <p:cNvPicPr/>
          <p:nvPr/>
        </p:nvPicPr>
        <p:blipFill>
          <a:blip r:embed="rId16"/>
          <a:stretch/>
        </p:blipFill>
        <p:spPr>
          <a:xfrm>
            <a:off x="2556000" y="544500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77" descr=""/>
          <p:cNvPicPr/>
          <p:nvPr/>
        </p:nvPicPr>
        <p:blipFill>
          <a:blip r:embed="rId17"/>
          <a:stretch/>
        </p:blipFill>
        <p:spPr>
          <a:xfrm>
            <a:off x="4356000" y="371628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78" descr=""/>
          <p:cNvPicPr/>
          <p:nvPr/>
        </p:nvPicPr>
        <p:blipFill>
          <a:blip r:embed="rId18"/>
          <a:stretch/>
        </p:blipFill>
        <p:spPr>
          <a:xfrm>
            <a:off x="4356000" y="5084640"/>
            <a:ext cx="237672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79" descr=""/>
          <p:cNvPicPr/>
          <p:nvPr/>
        </p:nvPicPr>
        <p:blipFill>
          <a:blip r:embed="rId19"/>
          <a:stretch/>
        </p:blipFill>
        <p:spPr>
          <a:xfrm>
            <a:off x="7451640" y="378936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0"/>
          <p:cNvSpPr/>
          <p:nvPr/>
        </p:nvSpPr>
        <p:spPr>
          <a:xfrm>
            <a:off x="390600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160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1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4"/>
          <p:cNvSpPr/>
          <p:nvPr/>
        </p:nvSpPr>
        <p:spPr>
          <a:xfrm>
            <a:off x="16056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960560" y="308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6"/>
          <p:cNvSpPr/>
          <p:nvPr/>
        </p:nvSpPr>
        <p:spPr>
          <a:xfrm>
            <a:off x="19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1981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96056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16056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383400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378180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378180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3"/>
          <p:cNvSpPr/>
          <p:nvPr/>
        </p:nvSpPr>
        <p:spPr>
          <a:xfrm>
            <a:off x="3760920" y="51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4"/>
          <p:cNvSpPr/>
          <p:nvPr/>
        </p:nvSpPr>
        <p:spPr>
          <a:xfrm>
            <a:off x="6929640" y="308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6929640" y="3952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674200" cy="2784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349640" y="3305160"/>
            <a:ext cx="666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умножение в стари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читалось нелёгким дел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деление было ещё сложн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360360" y="401760"/>
            <a:ext cx="8508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Реши 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00400" cy="158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606240" y="378612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олько действие умнож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какое число надо умножить обе части уравнения, чтобы множ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 х  был равен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5" descr=""/>
          <p:cNvPicPr/>
          <p:nvPr/>
        </p:nvPicPr>
        <p:blipFill>
          <a:blip r:embed="rId1"/>
          <a:stretch/>
        </p:blipFill>
        <p:spPr>
          <a:xfrm>
            <a:off x="3260880" y="649440"/>
            <a:ext cx="11080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j0299125"/>
          <p:cNvPicPr/>
          <p:nvPr/>
        </p:nvPicPr>
        <p:blipFill>
          <a:blip r:embed="rId2"/>
          <a:stretch/>
        </p:blipFill>
        <p:spPr>
          <a:xfrm>
            <a:off x="6443640" y="1557360"/>
            <a:ext cx="172872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Object 6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68360" y="436572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? Подумай и ответь на вопро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законы умножения использованы при реш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м числом является множитель 4 для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ом уравнении что мы иска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bject 9" descr=""/>
          <p:cNvPicPr/>
          <p:nvPr/>
        </p:nvPicPr>
        <p:blipFill>
          <a:blip r:embed="rId4"/>
          <a:stretch/>
        </p:blipFill>
        <p:spPr>
          <a:xfrm>
            <a:off x="6588000" y="4941720"/>
            <a:ext cx="36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Object 5" descr=""/>
          <p:cNvPicPr/>
          <p:nvPr/>
        </p:nvPicPr>
        <p:blipFill>
          <a:blip r:embed="rId1"/>
          <a:stretch/>
        </p:blipFill>
        <p:spPr>
          <a:xfrm>
            <a:off x="4357800" y="1125360"/>
            <a:ext cx="1077840" cy="790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8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1224000" cy="8427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" descr=""/>
          <p:cNvPicPr/>
          <p:nvPr/>
        </p:nvPicPr>
        <p:blipFill>
          <a:blip r:embed="rId4"/>
          <a:stretch/>
        </p:blipFill>
        <p:spPr>
          <a:xfrm>
            <a:off x="4392720" y="1989000"/>
            <a:ext cx="129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20" descr=""/>
          <p:cNvPicPr/>
          <p:nvPr/>
        </p:nvPicPr>
        <p:blipFill>
          <a:blip r:embed="rId5"/>
          <a:stretch/>
        </p:blipFill>
        <p:spPr>
          <a:xfrm>
            <a:off x="1979640" y="4292640"/>
            <a:ext cx="3281400" cy="826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276720" y="26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4140360" y="3068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140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9259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140360" y="3860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74760" y="45068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84640" y="5370480"/>
            <a:ext cx="75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Чтобы разделить одну дробь на другую, на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елимое умножить на число , обратное делите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что делать, если делимое и делитель смешанные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натураль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2000" y="422100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робуй сформули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деления дро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280" y="475920"/>
            <a:ext cx="7402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br>
              <a:rPr sz="28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: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до представить смешанные числа в виде неправильных дробей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2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40872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2"/>
          <a:stretch/>
        </p:blipFill>
        <p:spPr>
          <a:xfrm>
            <a:off x="803160" y="4005360"/>
            <a:ext cx="6767640" cy="863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852480" y="4892760"/>
            <a:ext cx="7437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до представить натуральное число в виде неправильной дроби со знаменателем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оверь себя!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35120" y="1700280"/>
            <a:ext cx="740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ученик в каждом из данных примеров допустил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ги ему, найди ошиб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900360" y="2997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951120" y="4002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51120" y="5010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13:13Z</dcterms:created>
  <dc:creator>Ирина</dc:creator>
  <dc:description/>
  <dc:language>en-US</dc:language>
  <cp:lastModifiedBy>User</cp:lastModifiedBy>
  <dcterms:modified xsi:type="dcterms:W3CDTF">2012-02-05T07:06:18Z</dcterms:modified>
  <cp:revision>17</cp:revision>
  <dc:subject/>
  <dc:title>Деление обыкновенных дробей 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  <property fmtid="{D5CDD505-2E9C-101B-9397-08002B2CF9AE}" pid="3" name="Version">
    <vt:r8>9</vt:r8>
  </property>
</Properties>
</file>