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61F-A648-429A-BFA2-B02066A2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15C-7768-40B1-95EE-AE00929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84E-0E3B-4180-A375-6B3EB24D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A57-C5D7-4986-BC4F-E7E428FF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990-6ADC-4E32-ADFA-5C7E8E2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F9E-177B-4499-82AF-6C49794B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061D-79E2-418A-9FB4-CD9B050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3AB-22D4-41CF-BEFF-10E4ED9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F8EF-2D96-45CE-AA68-837BF397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D38C-94C5-4696-A2D5-1521192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6928-E801-4BFD-8770-5A1BFA4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DC3-DDC6-43B6-9CA6-271DD302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C28-E303-4A11-B90A-FC0BB66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5604-EA0F-40B4-A4C3-B5F3A03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660-A4A0-4246-9827-902CDC4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C37-373C-4F7F-AA70-7C964E30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C20-970D-4217-9348-E03FBB22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79C0-CC58-4187-A4A3-5A5FF27F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FAA4-5367-42B3-ACA6-E8CA42B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C860-D2C3-4C1B-A7A2-0DBAED9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770F-55C8-4182-81FE-564B41F2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C310-4F3C-4208-BD18-A681606D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49C-B92E-4362-A382-857C1ECC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483E-B05E-43C5-BE67-05D4670B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6CF4-E8CF-49AC-B59E-4F2A940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9EA5-E78F-407E-87D7-65356A0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911C-008C-4CDA-944F-C6BC0D2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C7B8-71B8-45A8-9150-3E618B20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D3ED-413D-43D9-ABD4-6EE8250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27A3-7A07-419C-B978-A26FFD10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F4F6-6817-4C0D-973A-54E38562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9F211-8ADA-4FF4-BF20-FBF575E7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C772-4354-487E-9807-04284559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5E-CCE2-42A6-9F32-0D1A3057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E8A3-F8BA-4E73-B8C9-03BFC12A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8878-A043-44DE-B97B-59D0C56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C36E-3C13-4B53-A3D0-42F9CBD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F209-E09F-43F5-B504-8074783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FD6F-FF2A-456A-824D-F78F28C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5E8D-D2D7-4D10-B785-E85F4B62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5305-C361-46BE-AA97-DC0A778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901B-C217-4F2E-ABD6-4C503E9D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02D4-61AB-4816-9199-693FC76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0DAA-4FB4-4AD7-AE01-8AABBF3C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823-5F69-46E5-9A2B-0B5C28EA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0FE71-965F-46A1-B580-6AFC1D64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2A0C-D1A3-4E53-A769-30AD5526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136F-6B69-451D-BDF1-FA4B3394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80ED-1178-46F9-8AFE-7B8A896C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610F-38C9-41D4-946C-B15D1BFB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7E13-3E47-41D7-86C2-9F2D69A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8060A-3E9C-47E6-845F-DE3517A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1442-8ABE-453D-8B97-CE262671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3694-5705-4A51-80C2-B97F334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CC29-E570-43A5-ADA4-82A10865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E23-F366-47E0-8951-D920D4ED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4E47-9F80-4D8F-82D4-9894C6C1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AB2-E3CC-41CC-82B4-EB041E1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ACE-E259-4C46-81A3-7830DEC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19D-F194-4C58-8CB3-569F2D2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82AD-F620-47F2-93FD-AAC2A12184E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7C54-587D-465B-B220-7A128BA9A88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9B3D-AE7C-4DCC-B969-EF45D5A8572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B10D-21A7-4878-BE38-EBDB384C18E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301-19DB-4921-BB71-C627E85853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7431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ectangle 6" descr=""/>
          <p:cNvPicPr/>
          <p:nvPr/>
        </p:nvPicPr>
        <p:blipFill>
          <a:blip r:embed="rId1"/>
          <a:stretch/>
        </p:blipFill>
        <p:spPr>
          <a:xfrm>
            <a:off x="128520" y="835200"/>
            <a:ext cx="8618760" cy="4492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1174320" y="52498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Бизбиз Елена Анатольевна, 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полянской О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упе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60520" y="16272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400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на дробь чтоб разделить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олго нечего мудри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обратную делителю бер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Так вы частное искомое найд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И на эту дробь тепер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Умножайте поскор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28200" y="4255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Чтобы запомнить правило деления обыкновенных д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332000" y="5013360"/>
            <a:ext cx="41036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9"/>
          <p:cNvSpPr/>
          <p:nvPr/>
        </p:nvSpPr>
        <p:spPr>
          <a:xfrm>
            <a:off x="1189080" y="5802480"/>
            <a:ext cx="72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сейчас тебе предстоит выполнить самостоятельную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Самостоятельная работа</a:t>
            </a:r>
            <a:br>
              <a:rPr sz="24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ое правильное решение – 1 бал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3 – 5 баллов оценка «3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6 – 8 баллов оценка «4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9 баллов оценка «5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Object 7" descr=""/>
          <p:cNvPicPr/>
          <p:nvPr/>
        </p:nvPicPr>
        <p:blipFill>
          <a:blip r:embed="rId1"/>
          <a:stretch/>
        </p:blipFill>
        <p:spPr>
          <a:xfrm>
            <a:off x="1298520" y="2349360"/>
            <a:ext cx="1112760" cy="388944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1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863640" cy="3744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4520" y="1844280"/>
            <a:ext cx="2519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4932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ец, ты хорошо потрудилс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огорчайся, есл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ил плохую оценку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втори ещё раз правило деления дроби на дроб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Чтобы разде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дну дробь на другую, надо делимое умножить на число, обратное делител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549360"/>
          <a:ext cx="8569080" cy="143964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6040"/>
                <a:gridCol w="712800"/>
                <a:gridCol w="714240"/>
                <a:gridCol w="714600"/>
                <a:gridCol w="714240"/>
                <a:gridCol w="712800"/>
                <a:gridCol w="7142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5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04920" cy="64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Object 55" descr=""/>
          <p:cNvPicPr/>
          <p:nvPr/>
        </p:nvPicPr>
        <p:blipFill>
          <a:blip r:embed="rId2"/>
          <a:stretch/>
        </p:blipFill>
        <p:spPr>
          <a:xfrm>
            <a:off x="179712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Object 57" descr=""/>
          <p:cNvPicPr/>
          <p:nvPr/>
        </p:nvPicPr>
        <p:blipFill>
          <a:blip r:embed="rId3"/>
          <a:stretch/>
        </p:blipFill>
        <p:spPr>
          <a:xfrm>
            <a:off x="3954600" y="1341360"/>
            <a:ext cx="330120" cy="5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59" descr=""/>
          <p:cNvPicPr/>
          <p:nvPr/>
        </p:nvPicPr>
        <p:blipFill>
          <a:blip r:embed="rId4"/>
          <a:stretch/>
        </p:blipFill>
        <p:spPr>
          <a:xfrm>
            <a:off x="538164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63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431640" cy="64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5"/>
          <p:cNvSpPr/>
          <p:nvPr/>
        </p:nvSpPr>
        <p:spPr>
          <a:xfrm>
            <a:off x="663480" y="234936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Здесь зашифровано словосочетание.  Ты сможешь его прочитат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выполнив задания 1 -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66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587160" cy="56988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7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55872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68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03280" cy="4953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9" descr=""/>
          <p:cNvPicPr/>
          <p:nvPr/>
        </p:nvPicPr>
        <p:blipFill>
          <a:blip r:embed="rId9"/>
          <a:stretch/>
        </p:blipFill>
        <p:spPr>
          <a:xfrm>
            <a:off x="2484360" y="4632480"/>
            <a:ext cx="935280" cy="5252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1224000" cy="57600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71" descr=""/>
          <p:cNvPicPr/>
          <p:nvPr/>
        </p:nvPicPr>
        <p:blipFill>
          <a:blip r:embed="rId11"/>
          <a:stretch/>
        </p:blipFill>
        <p:spPr>
          <a:xfrm>
            <a:off x="4500720" y="436572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72" descr=""/>
          <p:cNvPicPr/>
          <p:nvPr/>
        </p:nvPicPr>
        <p:blipFill>
          <a:blip r:embed="rId12"/>
          <a:stretch/>
        </p:blipFill>
        <p:spPr>
          <a:xfrm>
            <a:off x="7524720" y="2997360"/>
            <a:ext cx="1081080" cy="576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73" descr=""/>
          <p:cNvPicPr/>
          <p:nvPr/>
        </p:nvPicPr>
        <p:blipFill>
          <a:blip r:embed="rId13"/>
          <a:stretch/>
        </p:blipFill>
        <p:spPr>
          <a:xfrm>
            <a:off x="611280" y="3860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74" descr=""/>
          <p:cNvPicPr/>
          <p:nvPr/>
        </p:nvPicPr>
        <p:blipFill>
          <a:blip r:embed="rId14"/>
          <a:stretch/>
        </p:blipFill>
        <p:spPr>
          <a:xfrm>
            <a:off x="611280" y="5445000"/>
            <a:ext cx="79056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5" descr=""/>
          <p:cNvPicPr/>
          <p:nvPr/>
        </p:nvPicPr>
        <p:blipFill>
          <a:blip r:embed="rId15"/>
          <a:stretch/>
        </p:blipFill>
        <p:spPr>
          <a:xfrm>
            <a:off x="2556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6" descr=""/>
          <p:cNvPicPr/>
          <p:nvPr/>
        </p:nvPicPr>
        <p:blipFill>
          <a:blip r:embed="rId16"/>
          <a:stretch/>
        </p:blipFill>
        <p:spPr>
          <a:xfrm>
            <a:off x="2556000" y="544500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77" descr=""/>
          <p:cNvPicPr/>
          <p:nvPr/>
        </p:nvPicPr>
        <p:blipFill>
          <a:blip r:embed="rId17"/>
          <a:stretch/>
        </p:blipFill>
        <p:spPr>
          <a:xfrm>
            <a:off x="4356000" y="371628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78" descr=""/>
          <p:cNvPicPr/>
          <p:nvPr/>
        </p:nvPicPr>
        <p:blipFill>
          <a:blip r:embed="rId18"/>
          <a:stretch/>
        </p:blipFill>
        <p:spPr>
          <a:xfrm>
            <a:off x="4356000" y="5084640"/>
            <a:ext cx="237672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79" descr=""/>
          <p:cNvPicPr/>
          <p:nvPr/>
        </p:nvPicPr>
        <p:blipFill>
          <a:blip r:embed="rId19"/>
          <a:stretch/>
        </p:blipFill>
        <p:spPr>
          <a:xfrm>
            <a:off x="7451640" y="378936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0"/>
          <p:cNvSpPr/>
          <p:nvPr/>
        </p:nvSpPr>
        <p:spPr>
          <a:xfrm>
            <a:off x="390600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160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1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4"/>
          <p:cNvSpPr/>
          <p:nvPr/>
        </p:nvSpPr>
        <p:spPr>
          <a:xfrm>
            <a:off x="16056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960560" y="308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6"/>
          <p:cNvSpPr/>
          <p:nvPr/>
        </p:nvSpPr>
        <p:spPr>
          <a:xfrm>
            <a:off x="19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1981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96056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16056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383400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378180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378180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3"/>
          <p:cNvSpPr/>
          <p:nvPr/>
        </p:nvSpPr>
        <p:spPr>
          <a:xfrm>
            <a:off x="3760920" y="51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4"/>
          <p:cNvSpPr/>
          <p:nvPr/>
        </p:nvSpPr>
        <p:spPr>
          <a:xfrm>
            <a:off x="6929640" y="308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6929640" y="3952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674200" cy="2784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349640" y="3305160"/>
            <a:ext cx="666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умножение в стари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читалось нелёгким дел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деление было ещё сложн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360360" y="401760"/>
            <a:ext cx="8508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Реши 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00400" cy="158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606240" y="378612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олько действие умнож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какое число надо умножить обе части уравнения, чтобы множ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 х  был равен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5" descr=""/>
          <p:cNvPicPr/>
          <p:nvPr/>
        </p:nvPicPr>
        <p:blipFill>
          <a:blip r:embed="rId1"/>
          <a:stretch/>
        </p:blipFill>
        <p:spPr>
          <a:xfrm>
            <a:off x="3260880" y="649440"/>
            <a:ext cx="11080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j0299125"/>
          <p:cNvPicPr/>
          <p:nvPr/>
        </p:nvPicPr>
        <p:blipFill>
          <a:blip r:embed="rId2"/>
          <a:stretch/>
        </p:blipFill>
        <p:spPr>
          <a:xfrm>
            <a:off x="6443640" y="1557360"/>
            <a:ext cx="172872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Object 6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68360" y="436572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? Подумай и ответь на вопро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законы умножения использованы при реш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м числом является множитель 4 для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ом уравнении что мы иска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bject 9" descr=""/>
          <p:cNvPicPr/>
          <p:nvPr/>
        </p:nvPicPr>
        <p:blipFill>
          <a:blip r:embed="rId4"/>
          <a:stretch/>
        </p:blipFill>
        <p:spPr>
          <a:xfrm>
            <a:off x="6588000" y="4941720"/>
            <a:ext cx="36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Object 5" descr=""/>
          <p:cNvPicPr/>
          <p:nvPr/>
        </p:nvPicPr>
        <p:blipFill>
          <a:blip r:embed="rId1"/>
          <a:stretch/>
        </p:blipFill>
        <p:spPr>
          <a:xfrm>
            <a:off x="4357800" y="1125360"/>
            <a:ext cx="1077840" cy="790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8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1224000" cy="8427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" descr=""/>
          <p:cNvPicPr/>
          <p:nvPr/>
        </p:nvPicPr>
        <p:blipFill>
          <a:blip r:embed="rId4"/>
          <a:stretch/>
        </p:blipFill>
        <p:spPr>
          <a:xfrm>
            <a:off x="4392720" y="1989000"/>
            <a:ext cx="129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20" descr=""/>
          <p:cNvPicPr/>
          <p:nvPr/>
        </p:nvPicPr>
        <p:blipFill>
          <a:blip r:embed="rId5"/>
          <a:stretch/>
        </p:blipFill>
        <p:spPr>
          <a:xfrm>
            <a:off x="1979640" y="4292640"/>
            <a:ext cx="3281400" cy="826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276720" y="26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4140360" y="3068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140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9259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140360" y="3860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74760" y="45068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84640" y="5370480"/>
            <a:ext cx="75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Чтобы разделить одну дробь на другую, на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елимое умножить на число , обратное делите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что делать, если делимое и делитель смешанные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натураль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2000" y="422100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робуй сформули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деления дро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280" y="475920"/>
            <a:ext cx="7402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br>
              <a:rPr sz="28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: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до представить смешанные числа в виде неправильных дробей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2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40872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2"/>
          <a:stretch/>
        </p:blipFill>
        <p:spPr>
          <a:xfrm>
            <a:off x="803160" y="4005360"/>
            <a:ext cx="6767640" cy="863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852480" y="4892760"/>
            <a:ext cx="7437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до представить натуральное число в виде неправильной дроби со знаменателем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оверь себя!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35120" y="1700280"/>
            <a:ext cx="740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ученик в каждом из данных примеров допустил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ги ему, найди ошиб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900360" y="2997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951120" y="4002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51120" y="5010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13:13Z</dcterms:created>
  <dc:creator>Ирина</dc:creator>
  <dc:description/>
  <dc:language>en-US</dc:language>
  <cp:lastModifiedBy>User</cp:lastModifiedBy>
  <dcterms:modified xsi:type="dcterms:W3CDTF">2012-02-05T07:06:18Z</dcterms:modified>
  <cp:revision>17</cp:revision>
  <dc:subject/>
  <dc:title>Деление обыкновенных дробей 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  <property fmtid="{D5CDD505-2E9C-101B-9397-08002B2CF9AE}" pid="3" name="Version">
    <vt:r8>9</vt:r8>
  </property>
</Properties>
</file>