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5.wmf" ContentType="image/x-wmf"/>
  <Override PartName="/ppt/media/image36.wmf" ContentType="image/x-wmf"/>
  <Override PartName="/ppt/media/image41.wmf" ContentType="image/x-wmf"/>
  <Override PartName="/ppt/media/image38.png" ContentType="image/png"/>
  <Override PartName="/ppt/media/image40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F17-6F54-41D0-95D6-9F029744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F79-77F0-46D5-A429-572795CC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BDD-959A-44BE-9FB6-D9C5F9E1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4A2-C9C4-4694-AFB4-94086AE0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6D7D-C6F7-42EC-8942-F869F1D5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7ADC-0879-4174-A21C-D4675B38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8604-E9B1-482F-A221-CFC55DC9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99AA-7C0D-49DA-BB28-C40F4742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F09C-AEFE-47E3-93D8-133CD72D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A894-C512-4823-95C6-B7F59BB3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C2CF-D691-4BD5-9CC3-0ADC0383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DC4-D264-4207-8E6A-920B5AB1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FE1C-1FA7-479B-9C49-C22F2F3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E4AF-06F7-4C12-94CC-7B514816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B342-E874-4CD2-BBA2-1ADAA989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57FF-E867-444B-AE6C-26B8E6F9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56E9-A3DF-4A4F-A97F-427378D5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EB88-83DF-46E5-A393-A870C68F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5DFE-6A0E-442F-A2E6-780D3874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2502-B2DD-42C6-A6E0-D2C340A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BDA5-CD71-4E7E-ABCE-5A15B54C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2DA1-7F06-4F41-BA2A-4A9DDED9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EBA-AA1A-4632-81DB-91A13E6D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A296-6C74-4940-94E9-2C562E1B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0E6E1-F0DE-4BED-8F1C-453F326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F965-BAAD-4334-99B6-4FD3ACC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8F426-61C8-4EE3-9CB0-45BF1A42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B853-6DE3-458C-83D3-88BC50AE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5B77-C44B-4B2F-B009-2ED9C61F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0F6C-20A8-4FA3-A4FB-042ECF9F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3DE11-B695-466B-BC17-8FEEF465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9A87-7F0C-43D1-ACC3-72B3556B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AA8D-1FA5-47C4-88C4-A14A6B5B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3E7-1E7B-481C-9329-94509EAD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F3EB0-5AAB-4974-8F8F-C1B1DDC9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3900-443F-41DC-967B-5E83D726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BCCFE-82F2-4002-8255-81F73027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606F-E8BF-43DC-A854-28CC603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21A9D-CC97-4432-A801-91B0F96E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A242-7C7D-45DA-813A-3EBD80B2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A586-C5D7-4889-A592-B514B83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724C-9531-435B-894D-1BE17927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A80F-7691-4FAA-A1FF-0B32C57F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551D1-E07F-4DE2-9196-24B24880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D04-3B3F-437C-BCD3-6C5574FD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8DDC3-CA06-46D1-A125-558A094F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D713-F9A4-4ACF-9D70-C45142BA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6CFEB-51A3-4D1A-9F68-18841093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01D5-6A03-45C2-922C-A58E8741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9FC4-005B-4B94-A109-A96A31EF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FF138-2DCD-4F32-BF3F-E25B9E3F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171A5-A7F8-4DAA-B5CB-F2115B0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F97B-FD5B-4BD4-A520-828C994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A8AB-1B99-4B0A-A583-408E2C71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2A91D-C86D-4838-A15F-90705E1B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830-B50E-4FA6-850E-07F123A3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401C-DD58-46D8-81C6-0975DEE3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8B3-B6D8-4B71-BEA9-3EDC353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98E-B1F3-4B38-99B8-8D82547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2BC-8A41-4516-BA90-07202169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EB33-91C2-470A-80B6-B57FBE495AD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61CF-84EF-4D89-9592-AFA7994E85B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5F59-8F67-4C28-AC02-891FE851EF4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1914-9E59-4740-808E-2C2E742E4FC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CCB3-D09E-465D-A82B-9A9902B7D87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image" Target="../media/image22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5.wm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17431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Rectangle 6" descr=""/>
          <p:cNvPicPr/>
          <p:nvPr/>
        </p:nvPicPr>
        <p:blipFill>
          <a:blip r:embed="rId1"/>
          <a:stretch/>
        </p:blipFill>
        <p:spPr>
          <a:xfrm>
            <a:off x="128520" y="835200"/>
            <a:ext cx="8618760" cy="4492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1174320" y="52498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Бизбиз Елена Анатольевна, учитель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полянской ОШ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-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упе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60520" y="1627200"/>
            <a:ext cx="785160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332000" y="1341360"/>
            <a:ext cx="64008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на дробь чтоб разделить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олго нечего мудри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обратную делителю бер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Так вы частное искомое найд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И на эту дробь тепер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Умножайте поскор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628200" y="4255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Чтобы запомнить правило деления обыкновенных дроб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очитай стихотво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332000" y="5013360"/>
            <a:ext cx="4103640" cy="792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9"/>
          <p:cNvSpPr/>
          <p:nvPr/>
        </p:nvSpPr>
        <p:spPr>
          <a:xfrm>
            <a:off x="1189080" y="5802480"/>
            <a:ext cx="726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сейчас тебе предстоит выполнить самостоятельную рабо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Самостоятельная работа</a:t>
            </a:r>
            <a:br>
              <a:rPr sz="24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 каждое правильное решение – 1 бал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3 – 5 баллов оценка «3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6 – 8 баллов оценка «4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9 баллов оценка «5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Object 7" descr=""/>
          <p:cNvPicPr/>
          <p:nvPr/>
        </p:nvPicPr>
        <p:blipFill>
          <a:blip r:embed="rId1"/>
          <a:stretch/>
        </p:blipFill>
        <p:spPr>
          <a:xfrm>
            <a:off x="1298520" y="2349360"/>
            <a:ext cx="1112760" cy="3889440"/>
          </a:xfrm>
          <a:prstGeom prst="rect">
            <a:avLst/>
          </a:prstGeom>
          <a:ln w="0">
            <a:noFill/>
          </a:ln>
        </p:spPr>
      </p:pic>
      <p:pic>
        <p:nvPicPr>
          <p:cNvPr id="336" name="Object 11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863640" cy="37447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24520" y="1844280"/>
            <a:ext cx="2519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отве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493236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лодец, ты хорошо потрудился,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огорчайся, есл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лучил плохую оценку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втори ещё раз правило деления дроби на дробь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92428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Чтобы разделить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дну дробь на другую, надо делимое умножить на число, обратное делителю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50920" y="549360"/>
          <a:ext cx="8569080" cy="1439640"/>
        </p:xfrm>
        <a:graphic>
          <a:graphicData uri="http://schemas.openxmlformats.org/drawingml/2006/table">
            <a:tbl>
              <a:tblPr/>
              <a:tblGrid>
                <a:gridCol w="714240"/>
                <a:gridCol w="712800"/>
                <a:gridCol w="714240"/>
                <a:gridCol w="714600"/>
                <a:gridCol w="714240"/>
                <a:gridCol w="716040"/>
                <a:gridCol w="712800"/>
                <a:gridCol w="714240"/>
                <a:gridCol w="714600"/>
                <a:gridCol w="714240"/>
                <a:gridCol w="712800"/>
                <a:gridCol w="7142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5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04920" cy="647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Object 55" descr=""/>
          <p:cNvPicPr/>
          <p:nvPr/>
        </p:nvPicPr>
        <p:blipFill>
          <a:blip r:embed="rId2"/>
          <a:stretch/>
        </p:blipFill>
        <p:spPr>
          <a:xfrm>
            <a:off x="179712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Object 57" descr=""/>
          <p:cNvPicPr/>
          <p:nvPr/>
        </p:nvPicPr>
        <p:blipFill>
          <a:blip r:embed="rId3"/>
          <a:stretch/>
        </p:blipFill>
        <p:spPr>
          <a:xfrm>
            <a:off x="3954600" y="1341360"/>
            <a:ext cx="330120" cy="57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Object 59" descr=""/>
          <p:cNvPicPr/>
          <p:nvPr/>
        </p:nvPicPr>
        <p:blipFill>
          <a:blip r:embed="rId4"/>
          <a:stretch/>
        </p:blipFill>
        <p:spPr>
          <a:xfrm>
            <a:off x="538164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Object 63" descr=""/>
          <p:cNvPicPr/>
          <p:nvPr/>
        </p:nvPicPr>
        <p:blipFill>
          <a:blip r:embed="rId5"/>
          <a:stretch/>
        </p:blipFill>
        <p:spPr>
          <a:xfrm>
            <a:off x="6732720" y="1268280"/>
            <a:ext cx="431640" cy="64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5"/>
          <p:cNvSpPr/>
          <p:nvPr/>
        </p:nvSpPr>
        <p:spPr>
          <a:xfrm>
            <a:off x="663480" y="234936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Здесь зашифровано словосочетание.  Ты сможешь его прочитат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выполнив задания 1 -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Object 66" descr=""/>
          <p:cNvPicPr/>
          <p:nvPr/>
        </p:nvPicPr>
        <p:blipFill>
          <a:blip r:embed="rId6"/>
          <a:stretch/>
        </p:blipFill>
        <p:spPr>
          <a:xfrm>
            <a:off x="611280" y="3068640"/>
            <a:ext cx="587160" cy="56988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67" descr=""/>
          <p:cNvPicPr/>
          <p:nvPr/>
        </p:nvPicPr>
        <p:blipFill>
          <a:blip r:embed="rId7"/>
          <a:stretch/>
        </p:blipFill>
        <p:spPr>
          <a:xfrm>
            <a:off x="611280" y="4653000"/>
            <a:ext cx="558720" cy="57636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68" descr=""/>
          <p:cNvPicPr/>
          <p:nvPr/>
        </p:nvPicPr>
        <p:blipFill>
          <a:blip r:embed="rId8"/>
          <a:stretch/>
        </p:blipFill>
        <p:spPr>
          <a:xfrm>
            <a:off x="2556000" y="3068640"/>
            <a:ext cx="503280" cy="49536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69" descr=""/>
          <p:cNvPicPr/>
          <p:nvPr/>
        </p:nvPicPr>
        <p:blipFill>
          <a:blip r:embed="rId9"/>
          <a:stretch/>
        </p:blipFill>
        <p:spPr>
          <a:xfrm>
            <a:off x="2484360" y="4632480"/>
            <a:ext cx="935280" cy="52524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0" descr=""/>
          <p:cNvPicPr/>
          <p:nvPr/>
        </p:nvPicPr>
        <p:blipFill>
          <a:blip r:embed="rId10"/>
          <a:stretch/>
        </p:blipFill>
        <p:spPr>
          <a:xfrm>
            <a:off x="4356000" y="2997360"/>
            <a:ext cx="1224000" cy="57600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71" descr=""/>
          <p:cNvPicPr/>
          <p:nvPr/>
        </p:nvPicPr>
        <p:blipFill>
          <a:blip r:embed="rId11"/>
          <a:stretch/>
        </p:blipFill>
        <p:spPr>
          <a:xfrm>
            <a:off x="4500720" y="4365720"/>
            <a:ext cx="1008000" cy="57600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72" descr=""/>
          <p:cNvPicPr/>
          <p:nvPr/>
        </p:nvPicPr>
        <p:blipFill>
          <a:blip r:embed="rId12"/>
          <a:stretch/>
        </p:blipFill>
        <p:spPr>
          <a:xfrm>
            <a:off x="7524720" y="2997360"/>
            <a:ext cx="1081080" cy="57600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73" descr=""/>
          <p:cNvPicPr/>
          <p:nvPr/>
        </p:nvPicPr>
        <p:blipFill>
          <a:blip r:embed="rId13"/>
          <a:stretch/>
        </p:blipFill>
        <p:spPr>
          <a:xfrm>
            <a:off x="611280" y="3860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74" descr=""/>
          <p:cNvPicPr/>
          <p:nvPr/>
        </p:nvPicPr>
        <p:blipFill>
          <a:blip r:embed="rId14"/>
          <a:stretch/>
        </p:blipFill>
        <p:spPr>
          <a:xfrm>
            <a:off x="611280" y="5445000"/>
            <a:ext cx="790560" cy="50508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75" descr=""/>
          <p:cNvPicPr/>
          <p:nvPr/>
        </p:nvPicPr>
        <p:blipFill>
          <a:blip r:embed="rId15"/>
          <a:stretch/>
        </p:blipFill>
        <p:spPr>
          <a:xfrm>
            <a:off x="2556000" y="3860640"/>
            <a:ext cx="865080" cy="50508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76" descr=""/>
          <p:cNvPicPr/>
          <p:nvPr/>
        </p:nvPicPr>
        <p:blipFill>
          <a:blip r:embed="rId16"/>
          <a:stretch/>
        </p:blipFill>
        <p:spPr>
          <a:xfrm>
            <a:off x="2556000" y="5445000"/>
            <a:ext cx="647640" cy="62712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77" descr=""/>
          <p:cNvPicPr/>
          <p:nvPr/>
        </p:nvPicPr>
        <p:blipFill>
          <a:blip r:embed="rId17"/>
          <a:stretch/>
        </p:blipFill>
        <p:spPr>
          <a:xfrm>
            <a:off x="4356000" y="3716280"/>
            <a:ext cx="2017800" cy="36036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78" descr=""/>
          <p:cNvPicPr/>
          <p:nvPr/>
        </p:nvPicPr>
        <p:blipFill>
          <a:blip r:embed="rId18"/>
          <a:stretch/>
        </p:blipFill>
        <p:spPr>
          <a:xfrm>
            <a:off x="4356000" y="5084640"/>
            <a:ext cx="2376720" cy="6494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79" descr=""/>
          <p:cNvPicPr/>
          <p:nvPr/>
        </p:nvPicPr>
        <p:blipFill>
          <a:blip r:embed="rId19"/>
          <a:stretch/>
        </p:blipFill>
        <p:spPr>
          <a:xfrm>
            <a:off x="7451640" y="3789360"/>
            <a:ext cx="129708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0"/>
          <p:cNvSpPr/>
          <p:nvPr/>
        </p:nvSpPr>
        <p:spPr>
          <a:xfrm>
            <a:off x="3906000" y="5897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1"/>
          <p:cNvSpPr/>
          <p:nvPr/>
        </p:nvSpPr>
        <p:spPr>
          <a:xfrm>
            <a:off x="16056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2"/>
          <p:cNvSpPr/>
          <p:nvPr/>
        </p:nvSpPr>
        <p:spPr>
          <a:xfrm>
            <a:off x="1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84"/>
          <p:cNvSpPr/>
          <p:nvPr/>
        </p:nvSpPr>
        <p:spPr>
          <a:xfrm>
            <a:off x="16056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5"/>
          <p:cNvSpPr/>
          <p:nvPr/>
        </p:nvSpPr>
        <p:spPr>
          <a:xfrm>
            <a:off x="1960560" y="308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6"/>
          <p:cNvSpPr/>
          <p:nvPr/>
        </p:nvSpPr>
        <p:spPr>
          <a:xfrm>
            <a:off x="19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7"/>
          <p:cNvSpPr/>
          <p:nvPr/>
        </p:nvSpPr>
        <p:spPr>
          <a:xfrm>
            <a:off x="198144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8"/>
          <p:cNvSpPr/>
          <p:nvPr/>
        </p:nvSpPr>
        <p:spPr>
          <a:xfrm>
            <a:off x="1960560" y="5537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89"/>
          <p:cNvSpPr/>
          <p:nvPr/>
        </p:nvSpPr>
        <p:spPr>
          <a:xfrm>
            <a:off x="160560" y="474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90"/>
          <p:cNvSpPr/>
          <p:nvPr/>
        </p:nvSpPr>
        <p:spPr>
          <a:xfrm>
            <a:off x="3834000" y="3016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1"/>
          <p:cNvSpPr/>
          <p:nvPr/>
        </p:nvSpPr>
        <p:spPr>
          <a:xfrm>
            <a:off x="378180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2"/>
          <p:cNvSpPr/>
          <p:nvPr/>
        </p:nvSpPr>
        <p:spPr>
          <a:xfrm>
            <a:off x="378180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3"/>
          <p:cNvSpPr/>
          <p:nvPr/>
        </p:nvSpPr>
        <p:spPr>
          <a:xfrm>
            <a:off x="3760920" y="517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4"/>
          <p:cNvSpPr/>
          <p:nvPr/>
        </p:nvSpPr>
        <p:spPr>
          <a:xfrm>
            <a:off x="6929640" y="3089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5"/>
          <p:cNvSpPr/>
          <p:nvPr/>
        </p:nvSpPr>
        <p:spPr>
          <a:xfrm>
            <a:off x="6929640" y="3952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4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8674200" cy="27842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1349640" y="3305160"/>
            <a:ext cx="666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умножение в стари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читалось нелёгким дело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 деление было ещё сложн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360360" y="401760"/>
            <a:ext cx="850896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Реши уравн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Object 5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300400" cy="15843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606240" y="3786120"/>
            <a:ext cx="844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олько действие умнож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какое число надо умножить обе части уравнения, чтобы множи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д  х  был равен 1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Object 5" descr=""/>
          <p:cNvPicPr/>
          <p:nvPr/>
        </p:nvPicPr>
        <p:blipFill>
          <a:blip r:embed="rId1"/>
          <a:stretch/>
        </p:blipFill>
        <p:spPr>
          <a:xfrm>
            <a:off x="3260880" y="649440"/>
            <a:ext cx="1108080" cy="76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j0299125"/>
          <p:cNvPicPr/>
          <p:nvPr/>
        </p:nvPicPr>
        <p:blipFill>
          <a:blip r:embed="rId2"/>
          <a:stretch/>
        </p:blipFill>
        <p:spPr>
          <a:xfrm>
            <a:off x="6443640" y="1557360"/>
            <a:ext cx="1728720" cy="25923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Object 6" descr=""/>
          <p:cNvPicPr/>
          <p:nvPr/>
        </p:nvPicPr>
        <p:blipFill>
          <a:blip r:embed="rId3"/>
          <a:stretch/>
        </p:blipFill>
        <p:spPr>
          <a:xfrm>
            <a:off x="2556000" y="1557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468360" y="436572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? Подумай и ответь на вопро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 законы умножения использованы при решен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м числом является множитель 4 для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этом уравнении что мы иска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найти неизвестный множител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Object 9" descr=""/>
          <p:cNvPicPr/>
          <p:nvPr/>
        </p:nvPicPr>
        <p:blipFill>
          <a:blip r:embed="rId4"/>
          <a:stretch/>
        </p:blipFill>
        <p:spPr>
          <a:xfrm>
            <a:off x="6588000" y="4941720"/>
            <a:ext cx="360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Object 5" descr=""/>
          <p:cNvPicPr/>
          <p:nvPr/>
        </p:nvPicPr>
        <p:blipFill>
          <a:blip r:embed="rId1"/>
          <a:stretch/>
        </p:blipFill>
        <p:spPr>
          <a:xfrm>
            <a:off x="4357800" y="1125360"/>
            <a:ext cx="1077840" cy="79092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6" descr=""/>
          <p:cNvPicPr/>
          <p:nvPr/>
        </p:nvPicPr>
        <p:blipFill>
          <a:blip r:embed="rId2"/>
          <a:stretch/>
        </p:blipFill>
        <p:spPr>
          <a:xfrm>
            <a:off x="755640" y="2014560"/>
            <a:ext cx="1152360" cy="153180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8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1224000" cy="84276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10" descr=""/>
          <p:cNvPicPr/>
          <p:nvPr/>
        </p:nvPicPr>
        <p:blipFill>
          <a:blip r:embed="rId4"/>
          <a:stretch/>
        </p:blipFill>
        <p:spPr>
          <a:xfrm>
            <a:off x="4392720" y="1989000"/>
            <a:ext cx="1295280" cy="1778040"/>
          </a:xfrm>
          <a:prstGeom prst="rect">
            <a:avLst/>
          </a:prstGeom>
          <a:ln w="0">
            <a:noFill/>
          </a:ln>
        </p:spPr>
      </p:pic>
      <p:pic>
        <p:nvPicPr>
          <p:cNvPr id="306" name="Object 20" descr=""/>
          <p:cNvPicPr/>
          <p:nvPr/>
        </p:nvPicPr>
        <p:blipFill>
          <a:blip r:embed="rId5"/>
          <a:stretch/>
        </p:blipFill>
        <p:spPr>
          <a:xfrm>
            <a:off x="1979640" y="4292640"/>
            <a:ext cx="3281400" cy="8269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2"/>
          <p:cNvSpPr/>
          <p:nvPr/>
        </p:nvSpPr>
        <p:spPr>
          <a:xfrm>
            <a:off x="3276720" y="263700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4140360" y="3068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1403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59259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4140360" y="3860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374760" y="45068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84640" y="5370480"/>
            <a:ext cx="75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Чтобы разделить одну дробь на другую, над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елимое умножить на число , обратное делите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что делать, если делимое и делитель смешанные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натуральн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6012000" y="422100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робуй сформулиро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о деления дроб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5280" y="475920"/>
            <a:ext cx="74026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1</a:t>
            </a:r>
            <a:br>
              <a:rPr sz="28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: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Надо представить смешанные числа в виде неправильных дробей.</a:t>
            </a:r>
            <a:br>
              <a:rPr sz="2400"/>
            </a:br>
            <a:br>
              <a:rPr sz="20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2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bject 5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408720" cy="934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Object 9" descr=""/>
          <p:cNvPicPr/>
          <p:nvPr/>
        </p:nvPicPr>
        <p:blipFill>
          <a:blip r:embed="rId2"/>
          <a:stretch/>
        </p:blipFill>
        <p:spPr>
          <a:xfrm>
            <a:off x="803160" y="4005360"/>
            <a:ext cx="6767640" cy="8636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852480" y="4892760"/>
            <a:ext cx="74376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до представить натуральное число в виде неправильной дроби со знаменателем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оверь себя!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35120" y="1700280"/>
            <a:ext cx="740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ученик в каждом из данных примеров допустил ошиб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моги ему, найди ошиб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Object 6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400720" cy="30970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900360" y="2997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951120" y="4002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951120" y="5010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13:13Z</dcterms:created>
  <dc:creator>Ирина</dc:creator>
  <dc:description/>
  <dc:language>en-US</dc:language>
  <cp:lastModifiedBy>User</cp:lastModifiedBy>
  <dcterms:modified xsi:type="dcterms:W3CDTF">2012-02-05T07:06:18Z</dcterms:modified>
  <cp:revision>17</cp:revision>
  <dc:subject/>
  <dc:title>Деление обыкновенных дробей  8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0a000000000001024140</vt:lpwstr>
  </property>
  <property fmtid="{D5CDD505-2E9C-101B-9397-08002B2CF9AE}" pid="3" name="Version">
    <vt:r8>9</vt:r8>
  </property>
</Properties>
</file>