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7E8-AC4E-45F0-BBC4-A7F003B9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3EE-A500-43CA-9635-A108B1D0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285-8532-4F08-8B1C-0CAF291F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D6E-B13F-455D-A1CA-47E5E251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D1A-32BE-456B-BB65-FC3C45FF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A78-E74C-4EB8-B342-8D85AC6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CA4-7A29-4815-B56A-B4B19350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2E9-1DA0-460D-AAA8-621652D5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A9F-5DC9-412B-B6F1-D491A7F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2A1-2910-426D-B1B7-E78443D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F04-E97D-411F-AF3C-A076FDDB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FD4-2DBA-4121-8D95-6AC95A4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D4C6-6B1F-44B0-B976-A41472818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600" y="-36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под проектом подразумеваетс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пециально организованный учителем и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амостоятельно выполняемый детьми комплекс действий, завершающихся созданием продукта,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состоящего из объекта труда, изготовленного в процессе проектирования,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и его представлени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в рамках устной или письменной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033640" cy="3505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52280" y="457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Проект</a:t>
            </a:r>
            <a:r>
              <a:rPr b="1" i="1" lang="en-US" sz="4000" spc="-1" strike="noStrike">
                <a:solidFill>
                  <a:srgbClr val="c1a5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6. Защищаем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2280" y="228600"/>
            <a:ext cx="3810240" cy="28576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3048120" cy="3809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352680" cy="446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105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7. Подводятся результаты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боты групп,      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ыставляются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546720" cy="5181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4800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3800"/>
                </a:solidFill>
                <a:latin typeface="Arial"/>
              </a:rPr>
              <a:t>Современный проект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это дидактическое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редство активизации познавательной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деятельности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учащегос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, развития креативности и одновременно формирования определенных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40480"/>
            <a:ext cx="75438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лассификация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продолжительности подготовк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краткосроч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средней продолжительности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долгосрочный  </a:t>
            </a:r>
            <a:br>
              <a:rPr sz="2800"/>
            </a:b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дивидуаль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работа в парах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групповой (4-6 челове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метод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творче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сследователь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формационный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ознакомительно-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риентирован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5240" y="4191120"/>
            <a:ext cx="2577960" cy="2577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остановк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цели, выявление проблем, формулировка задач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обсужд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возможных вариантов в работе, способствующих их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одумыва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хода деятельности, распределение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реш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отдельных задач и затем их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компоновка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 в одно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едставление проект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для остальных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анализ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результатов,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657600" cy="403848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3800"/>
                </a:solidFill>
                <a:latin typeface="Arial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733920" cy="452592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05520" y="104760"/>
            <a:ext cx="3962160" cy="44672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038480" y="52578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a589"/>
                </a:solidFill>
                <a:latin typeface="Arial"/>
              </a:rPr>
              <a:t>Изучаем методом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Создаем рабочие груп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457360" cy="2330640"/>
          </a:xfrm>
          <a:prstGeom prst="rect">
            <a:avLst/>
          </a:prstGeom>
          <a:ln w="28440">
            <a:solidFill>
              <a:srgbClr val="74505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546280" cy="272880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4948200"/>
            <a:ext cx="2895480" cy="17096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048120" y="13716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95280"/>
            <a:ext cx="5546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данных о состоянии здоровья детей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Медик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862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9880"/>
            <a:ext cx="5715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І 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физических возможностей детей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портсме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48496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ІІІ)</a:t>
            </a: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социологических вопросов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оциол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. Формулиру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ц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следован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2. Опреде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вопросы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3. Состав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план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038840" cy="6095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4. Собираем информац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949800">
            <a:off x="2022120" y="3189240"/>
            <a:ext cx="3290760" cy="32907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3476880" cy="3610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800520" cy="37861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5. Обрабатываем информ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229600" cy="528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11-07T21:06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6000000000001024140</vt:lpwstr>
  </property>
  <property fmtid="{D5CDD505-2E9C-101B-9397-08002B2CF9AE}" pid="3" name="Version">
    <vt:r8>1</vt:r8>
  </property>
</Properties>
</file>