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BE33-B9D1-49B9-869F-1B976F917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F4B6-C695-4585-AB8B-03400921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2419-30EB-4DF4-B10F-B183B618D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042D-CFEC-408D-B69E-033F7559C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F709-B1FD-4EFF-8973-ABED2783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F359-0972-4846-88BA-5A348B55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5315-0043-4D63-A868-EE7E6AF0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C259-B792-4CE2-8C6A-8E9AFD3E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F3C7-42E3-4FC9-A864-356D8CDA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C832-A74C-41C6-A3D2-DBBFCF80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0B35-829B-4F24-8443-CACED858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4F44-8648-4904-8B7E-5C407383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50000">
              <a:srgbClr val="6666ff"/>
            </a:gs>
            <a:gs pos="100000">
              <a:srgbClr val="2f2f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F14F-7DA0-4DCD-8384-AD038F256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14600" y="-360"/>
            <a:ext cx="64008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a589"/>
                </a:solidFill>
                <a:latin typeface="Arial"/>
              </a:rPr>
              <a:t>под проектом подразумевается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специально организованный учителем и </a:t>
            </a:r>
            <a:r>
              <a:rPr b="1" lang="en-US" sz="3200" spc="-1" strike="noStrike">
                <a:solidFill>
                  <a:srgbClr val="c1a589"/>
                </a:solidFill>
                <a:latin typeface="Arial"/>
              </a:rPr>
              <a:t>самостоятельно выполняемый детьми комплекс действий, завершающихся созданием продукта,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 состоящего из объекта труда, изготовленного в процессе проектирования, </a:t>
            </a:r>
            <a:r>
              <a:rPr b="1" lang="en-US" sz="3200" spc="-1" strike="noStrike">
                <a:solidFill>
                  <a:srgbClr val="c1a589"/>
                </a:solidFill>
                <a:latin typeface="Arial"/>
              </a:rPr>
              <a:t>и его представления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 в рамках устной или письменной презент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3200400"/>
            <a:ext cx="2033640" cy="350532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152280" y="45720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3300"/>
                </a:solidFill>
                <a:latin typeface="Arial"/>
              </a:rPr>
              <a:t>Проект</a:t>
            </a:r>
            <a:r>
              <a:rPr b="1" i="1" lang="en-US" sz="4000" spc="-1" strike="noStrike">
                <a:solidFill>
                  <a:srgbClr val="c1a58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50000">
              <a:srgbClr val="6666ff"/>
            </a:gs>
            <a:gs pos="100000">
              <a:srgbClr val="2f2f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419360" y="2282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6. Защищаем 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152280" y="228600"/>
            <a:ext cx="3810240" cy="28576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286000" y="1219320"/>
            <a:ext cx="3048120" cy="38098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791320" y="2133720"/>
            <a:ext cx="3352680" cy="44672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0" y="510552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7. Подводятся результаты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работы групп,      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выставляются оц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410080" y="685800"/>
            <a:ext cx="3546720" cy="51814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304920" y="533520"/>
            <a:ext cx="480060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83800"/>
                </a:solidFill>
                <a:latin typeface="Arial"/>
              </a:rPr>
              <a:t>Современный проект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это дидактическое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a589"/>
                </a:solidFill>
                <a:latin typeface="Arial"/>
              </a:rPr>
              <a:t>средство активизации познавательной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a589"/>
                </a:solidFill>
                <a:latin typeface="Arial"/>
              </a:rPr>
              <a:t>деятельности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a589"/>
                </a:solidFill>
                <a:latin typeface="Arial"/>
              </a:rPr>
              <a:t>учащегося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, развития креативности и одновременно формирования определенных личностных каче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50000">
              <a:srgbClr val="6666ff"/>
            </a:gs>
            <a:gs pos="100000">
              <a:srgbClr val="2f2f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00200" y="240480"/>
            <a:ext cx="75438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Классификация проект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1a589"/>
                </a:solidFill>
                <a:latin typeface="Arial"/>
              </a:rPr>
              <a:t>По продолжительности подготовки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краткосрочный 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средней продолжительности 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долгосрочный  </a:t>
            </a:r>
            <a:br>
              <a:rPr sz="2800"/>
            </a:br>
            <a:r>
              <a:rPr b="1" lang="ru-RU" sz="2800" spc="-1" strike="noStrike">
                <a:solidFill>
                  <a:srgbClr val="c1a589"/>
                </a:solidFill>
                <a:latin typeface="Arial"/>
              </a:rPr>
              <a:t>По количеству участников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индивидуальный 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работа в парах 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групповой (4-6 человек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1a589"/>
                </a:solidFill>
                <a:latin typeface="Arial"/>
              </a:rPr>
              <a:t>По методу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творческий 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исследовательский 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информационный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(ознакомительно-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ориентированный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5240" y="4191120"/>
            <a:ext cx="2577960" cy="257796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Этапы работы над проект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563868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1a5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1a58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постановка </a:t>
            </a:r>
            <a:r>
              <a:rPr b="1" lang="en-US" sz="2400" spc="-1" strike="noStrike">
                <a:solidFill>
                  <a:srgbClr val="74505f"/>
                </a:solidFill>
                <a:latin typeface="Arial"/>
              </a:rPr>
              <a:t>цели, выявление проблем, формулировка задач для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1a5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обсуждение </a:t>
            </a:r>
            <a:r>
              <a:rPr b="1" lang="en-US" sz="2400" spc="-1" strike="noStrike">
                <a:solidFill>
                  <a:srgbClr val="74505f"/>
                </a:solidFill>
                <a:latin typeface="Arial"/>
              </a:rPr>
              <a:t>возможных вариантов в работе, способствующих их реа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1a5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продумывание </a:t>
            </a:r>
            <a:r>
              <a:rPr b="1" lang="en-US" sz="2400" spc="-1" strike="noStrike">
                <a:solidFill>
                  <a:srgbClr val="74505f"/>
                </a:solidFill>
                <a:latin typeface="Arial"/>
              </a:rPr>
              <a:t>хода деятельности, распределение обязан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1a5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решение </a:t>
            </a:r>
            <a:r>
              <a:rPr b="1" lang="en-US" sz="2400" spc="-1" strike="noStrike">
                <a:solidFill>
                  <a:srgbClr val="74505f"/>
                </a:solidFill>
                <a:latin typeface="Arial"/>
              </a:rPr>
              <a:t>отдельных задач и затем их </a:t>
            </a: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компоновка</a:t>
            </a:r>
            <a:r>
              <a:rPr b="1" lang="en-US" sz="2400" spc="-1" strike="noStrike">
                <a:solidFill>
                  <a:srgbClr val="74505f"/>
                </a:solidFill>
                <a:latin typeface="Arial"/>
              </a:rPr>
              <a:t> в одно ц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1a5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представление проекта </a:t>
            </a:r>
            <a:r>
              <a:rPr b="1" lang="en-US" sz="2400" spc="-1" strike="noStrike">
                <a:solidFill>
                  <a:srgbClr val="74505f"/>
                </a:solidFill>
                <a:latin typeface="Arial"/>
              </a:rPr>
              <a:t>для остальных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1a5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анализ </a:t>
            </a:r>
            <a:r>
              <a:rPr b="1" lang="en-US" sz="2400" spc="-1" strike="noStrike">
                <a:solidFill>
                  <a:srgbClr val="74505f"/>
                </a:solidFill>
                <a:latin typeface="Arial"/>
              </a:rPr>
              <a:t>результатов,</a:t>
            </a: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 оц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10080" y="2743200"/>
            <a:ext cx="3657600" cy="4038480"/>
          </a:xfrm>
          <a:prstGeom prst="rect">
            <a:avLst/>
          </a:prstGeom>
          <a:ln w="38160">
            <a:solidFill>
              <a:srgbClr val="74505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50000">
              <a:srgbClr val="6666ff"/>
            </a:gs>
            <a:gs pos="100000">
              <a:srgbClr val="2f2f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83800"/>
                </a:solidFill>
                <a:latin typeface="Arial"/>
              </a:rPr>
              <a:t>Статис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3733920" cy="4525920"/>
          </a:xfrm>
          <a:prstGeom prst="rect">
            <a:avLst/>
          </a:prstGeom>
          <a:ln w="38160">
            <a:solidFill>
              <a:srgbClr val="74505f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105520" y="104760"/>
            <a:ext cx="3962160" cy="4467240"/>
          </a:xfrm>
          <a:prstGeom prst="rect">
            <a:avLst/>
          </a:prstGeom>
          <a:ln w="38160">
            <a:solidFill>
              <a:srgbClr val="74505f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4038480" y="525780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1a589"/>
                </a:solidFill>
                <a:latin typeface="Arial"/>
              </a:rPr>
              <a:t>Изучаем методом про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Создаем рабочие групп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2457360" cy="2330640"/>
          </a:xfrm>
          <a:prstGeom prst="rect">
            <a:avLst/>
          </a:prstGeom>
          <a:ln w="28440">
            <a:solidFill>
              <a:srgbClr val="74505f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400800" y="2590920"/>
            <a:ext cx="2546280" cy="2728800"/>
          </a:xfrm>
          <a:prstGeom prst="rect">
            <a:avLst/>
          </a:prstGeom>
          <a:ln w="38160">
            <a:solidFill>
              <a:srgbClr val="74505f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28600" y="4948200"/>
            <a:ext cx="2895480" cy="1709640"/>
          </a:xfrm>
          <a:prstGeom prst="rect">
            <a:avLst/>
          </a:prstGeom>
          <a:ln w="38160">
            <a:solidFill>
              <a:srgbClr val="74505f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3048120" y="1371600"/>
            <a:ext cx="556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1295280"/>
            <a:ext cx="55465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3300"/>
                </a:solidFill>
                <a:latin typeface="Arial"/>
              </a:rPr>
              <a:t>І)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руппа изучения данных о состоянии здоровья детей</a:t>
            </a:r>
            <a:r>
              <a:rPr b="1" lang="ru-RU" sz="2800" spc="-1" strike="noStrike">
                <a:solidFill>
                  <a:srgbClr val="c1a589"/>
                </a:solidFill>
                <a:latin typeface="Arial"/>
              </a:rPr>
              <a:t>«Медики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88620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3809880"/>
            <a:ext cx="5715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І І)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руппа изучения физических возможностей детей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1a589"/>
                </a:solidFill>
                <a:latin typeface="Arial"/>
              </a:rPr>
              <a:t>«Спортсмен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5484960"/>
            <a:ext cx="5943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3300"/>
                </a:solidFill>
                <a:latin typeface="Arial"/>
              </a:rPr>
              <a:t>ІІІ)</a:t>
            </a: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руппа изучения социологических вопросов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1a589"/>
                </a:solidFill>
                <a:latin typeface="Arial"/>
              </a:rPr>
              <a:t>«Социолог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50000">
              <a:srgbClr val="6666ff"/>
            </a:gs>
            <a:gs pos="100000">
              <a:srgbClr val="2f2f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57600" y="274680"/>
            <a:ext cx="50292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1. Формулируе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1a589"/>
                </a:solidFill>
                <a:latin typeface="Arial"/>
              </a:rPr>
              <a:t>цел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исследования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2. Определяем </a:t>
            </a:r>
            <a:r>
              <a:rPr b="1" lang="en-US" sz="4000" spc="-1" strike="noStrike">
                <a:solidFill>
                  <a:srgbClr val="c1a589"/>
                </a:solidFill>
                <a:latin typeface="Arial"/>
              </a:rPr>
              <a:t>вопросы</a:t>
            </a: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3. Составляем </a:t>
            </a:r>
            <a:r>
              <a:rPr b="1" lang="en-US" sz="4000" spc="-1" strike="noStrike">
                <a:solidFill>
                  <a:srgbClr val="c1a589"/>
                </a:solidFill>
                <a:latin typeface="Arial"/>
              </a:rPr>
              <a:t>план</a:t>
            </a: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 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4038840" cy="60958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50000">
              <a:srgbClr val="6666ff"/>
            </a:gs>
            <a:gs pos="100000">
              <a:srgbClr val="2f2f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91120" y="274320"/>
            <a:ext cx="449568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4. Собираем информац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uk-UA" sz="32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949800">
            <a:off x="2022120" y="3189240"/>
            <a:ext cx="3290760" cy="329076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638680" y="3200400"/>
            <a:ext cx="3476880" cy="36100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6320" y="76320"/>
            <a:ext cx="3800520" cy="378612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5. Обрабатываем информац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229600" cy="528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0-11-07T21:06:0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6000000000001024140</vt:lpwstr>
  </property>
  <property fmtid="{D5CDD505-2E9C-101B-9397-08002B2CF9AE}" pid="3" name="Version">
    <vt:r8>1</vt:r8>
  </property>
</Properties>
</file>