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F3D9-7B04-485C-89F6-858C5A81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C7D-BC9C-474E-93D8-E2C07A01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FA98-39D5-4230-97D6-12DB2808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5ED1-6DD3-4F7C-B792-AD960803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E3A-1C2E-46FD-9C58-74F970F9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38F-9C75-41F4-9F3E-C3EEF1F5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2CEC-C03F-48B9-8020-3C121006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9F7-C79C-4108-9D75-0F8DF752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610A-032C-4057-9E56-DB16B6B2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F58-70FC-46E8-A720-B2BFE3BF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C220-B8AB-4399-8CBB-35BA8936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5085-D7DB-47BE-B544-83036146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0C0C-61B2-4E01-AEDF-6FA8E3CA0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14600" y="-360"/>
            <a:ext cx="6400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под проектом подразумевается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специально организованный учителем и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самостоятельно выполняемый детьми комплекс действий, завершающихся созданием продукта,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состоящего из объекта труда, изготовленного в процессе проектирования,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и его представления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в рамках устной или письменной презен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3200400"/>
            <a:ext cx="2033640" cy="35053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52280" y="4572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Arial"/>
              </a:rPr>
              <a:t>Проект</a:t>
            </a:r>
            <a:r>
              <a:rPr b="1" i="1" lang="en-US" sz="4000" spc="-1" strike="noStrike">
                <a:solidFill>
                  <a:srgbClr val="c1a58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19360" y="2282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6. Защищаем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152280" y="228600"/>
            <a:ext cx="3810240" cy="28576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86000" y="1219320"/>
            <a:ext cx="3048120" cy="38098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791320" y="2133720"/>
            <a:ext cx="3352680" cy="44672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0" y="510552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7. Подводятся результаты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работы групп,      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выставляются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10080" y="685800"/>
            <a:ext cx="3546720" cy="51814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04920" y="533520"/>
            <a:ext cx="48006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3800"/>
                </a:solidFill>
                <a:latin typeface="Arial"/>
              </a:rPr>
              <a:t>Современный проект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это дидактическое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средство активизации познавательной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деятельности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учащегося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, развития креативности и одновременно формирования определенных личностных кач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240480"/>
            <a:ext cx="75438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Классификация проек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По продолжительности подготовк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краткосрочный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средней продолжительности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долгосрочный  </a:t>
            </a:r>
            <a:br>
              <a:rPr sz="2800"/>
            </a:b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По количеству участников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индивидуальный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работа в парах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групповой (4-6 человек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По методу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творческий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исследовательский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информационный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(ознакомительно-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ориентированны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5240" y="4191120"/>
            <a:ext cx="2577960" cy="257796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Этапы работы над проек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563868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a58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постановка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цели, выявление проблем, формулировка задач для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обсуждение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возможных вариантов в работе, способствующих их ре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продумывание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хода деятельности, распределение обязан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решение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отдельных задач и затем их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компоновка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 в одно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представление проекта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для остальных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анализ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результатов,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оц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10080" y="2743200"/>
            <a:ext cx="3657600" cy="403848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83800"/>
                </a:solidFill>
                <a:latin typeface="Arial"/>
              </a:rPr>
              <a:t>Стати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3733920" cy="452592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05520" y="104760"/>
            <a:ext cx="3962160" cy="446724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4038480" y="525780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a589"/>
                </a:solidFill>
                <a:latin typeface="Arial"/>
              </a:rPr>
              <a:t>Изучаем методом 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Создаем рабочие групп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2457360" cy="2330640"/>
          </a:xfrm>
          <a:prstGeom prst="rect">
            <a:avLst/>
          </a:prstGeom>
          <a:ln w="28440">
            <a:solidFill>
              <a:srgbClr val="74505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00800" y="2590920"/>
            <a:ext cx="2546280" cy="272880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28600" y="4948200"/>
            <a:ext cx="2895480" cy="170964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3048120" y="1371600"/>
            <a:ext cx="556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295280"/>
            <a:ext cx="5546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3300"/>
                </a:solidFill>
                <a:latin typeface="Arial"/>
              </a:rPr>
              <a:t>І)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руппа изучения данных о состоянии здоровья детей</a:t>
            </a: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«Медики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8620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809880"/>
            <a:ext cx="5715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І І)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руппа изучения физических возможностей детей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«Спортсме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5484960"/>
            <a:ext cx="594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Arial"/>
              </a:rPr>
              <a:t>ІІІ)</a:t>
            </a: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руппа изучения социологических вопросов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«Социолог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57600" y="274680"/>
            <a:ext cx="50292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1. Формулируе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1a589"/>
                </a:solidFill>
                <a:latin typeface="Arial"/>
              </a:rPr>
              <a:t>цел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следования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2. Определяем </a:t>
            </a:r>
            <a:r>
              <a:rPr b="1" lang="en-US" sz="4000" spc="-1" strike="noStrike">
                <a:solidFill>
                  <a:srgbClr val="c1a589"/>
                </a:solidFill>
                <a:latin typeface="Arial"/>
              </a:rPr>
              <a:t>вопросы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3. Составляем </a:t>
            </a:r>
            <a:r>
              <a:rPr b="1" lang="en-US" sz="4000" spc="-1" strike="noStrike">
                <a:solidFill>
                  <a:srgbClr val="c1a589"/>
                </a:solidFill>
                <a:latin typeface="Arial"/>
              </a:rPr>
              <a:t>план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038840" cy="60958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1120" y="274320"/>
            <a:ext cx="44956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4. Собираем информац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949800">
            <a:off x="2022120" y="3189240"/>
            <a:ext cx="3290760" cy="32907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638680" y="3200400"/>
            <a:ext cx="3476880" cy="3610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6320" y="76320"/>
            <a:ext cx="3800520" cy="37861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5. Обрабатываем информац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229600" cy="528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0-11-07T21:06:0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6000000000001024140</vt:lpwstr>
  </property>
  <property fmtid="{D5CDD505-2E9C-101B-9397-08002B2CF9AE}" pid="3" name="Version">
    <vt:r8>1</vt:r8>
  </property>
</Properties>
</file>