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A91-A646-4F74-9184-CB49E261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416-EA1D-4EC5-86D0-3B97BAC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A11-8DF3-4B40-92B7-E8EE5790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751-A732-4091-ADBA-A6D3789E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F89-43A0-4B79-A05A-C395978E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A66-2204-4F11-992F-1C8359AA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826-DBEF-4163-8244-FB597B8E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BE3-2333-4F96-9853-5BD6F473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DC7-82F3-4F8E-BBB8-DA971A7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9E2-4E85-48C4-81FC-7BEA972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392-B6DE-4B22-B852-67B60B7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26B-2CC6-4DC5-9F14-E090BC7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34C-EE07-4D47-8E16-A3FA0A5A7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600" y="-36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под проектом подразумеваетс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пециально организованный учителем и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амостоятельно выполняемый детьми комплекс действий, завершающихся созданием продукта,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состоящего из объекта труда, изготовленного в процессе проектирования,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и его представлени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в рамках устной или письменной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033640" cy="3505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52280" y="457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Проект</a:t>
            </a:r>
            <a:r>
              <a:rPr b="1" i="1" lang="en-US" sz="4000" spc="-1" strike="noStrike">
                <a:solidFill>
                  <a:srgbClr val="c1a5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6. Защищаем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2280" y="228600"/>
            <a:ext cx="3810240" cy="28576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3048120" cy="3809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352680" cy="446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105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7. Подводятся результаты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боты групп,      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ыставляются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546720" cy="5181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4800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3800"/>
                </a:solidFill>
                <a:latin typeface="Arial"/>
              </a:rPr>
              <a:t>Современный проект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это дидактическое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редство активизации познавательной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деятельности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учащегос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, развития креативности и одновременно формирования определенных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40480"/>
            <a:ext cx="75438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лассификация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продолжительности подготовк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краткосроч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средней продолжительности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долгосрочный  </a:t>
            </a:r>
            <a:br>
              <a:rPr sz="2800"/>
            </a:b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дивидуаль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работа в парах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групповой (4-6 челове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метод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творче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сследователь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формационный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ознакомительно-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риентирован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5240" y="4191120"/>
            <a:ext cx="2577960" cy="2577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остановк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цели, выявление проблем, формулировка задач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обсужд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возможных вариантов в работе, способствующих их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одумыва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хода деятельности, распределение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реш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отдельных задач и затем их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компоновка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 в одно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едставление проект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для остальных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анализ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результатов,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657600" cy="403848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3800"/>
                </a:solidFill>
                <a:latin typeface="Arial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733920" cy="452592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05520" y="104760"/>
            <a:ext cx="3962160" cy="44672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038480" y="52578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a589"/>
                </a:solidFill>
                <a:latin typeface="Arial"/>
              </a:rPr>
              <a:t>Изучаем методом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Создаем рабочие груп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457360" cy="2330640"/>
          </a:xfrm>
          <a:prstGeom prst="rect">
            <a:avLst/>
          </a:prstGeom>
          <a:ln w="28440">
            <a:solidFill>
              <a:srgbClr val="74505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546280" cy="272880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4948200"/>
            <a:ext cx="2895480" cy="17096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048120" y="13716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95280"/>
            <a:ext cx="5546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данных о состоянии здоровья детей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Медик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862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9880"/>
            <a:ext cx="5715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І 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физических возможностей детей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портсме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48496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ІІІ)</a:t>
            </a: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социологических вопросов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оциол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. Формулиру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ц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следован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2. Опреде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вопросы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3. Состав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план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038840" cy="6095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4. Собираем информац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949800">
            <a:off x="2022120" y="3189240"/>
            <a:ext cx="3290760" cy="32907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3476880" cy="3610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800520" cy="37861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5. Обрабатываем информ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229600" cy="528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11-07T21:06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6000000000001024140</vt:lpwstr>
  </property>
  <property fmtid="{D5CDD505-2E9C-101B-9397-08002B2CF9AE}" pid="3" name="Version">
    <vt:r8>1</vt:r8>
  </property>
</Properties>
</file>