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F03-0346-4CA4-B557-F4EA0597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2BD-3BD6-479B-ACEE-FDF3E7A8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79F-6F63-4DA0-B43F-DEA642D4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A54B-22E6-44F9-BBB9-4435F56C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108-39FB-4A69-8D7A-E8BB67BC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ACF-C441-4F56-BD60-C3E09316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1BC-8DF1-481C-9712-515C6E9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F22E-4B00-4B32-A7D4-FDB105F6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856-623F-4062-8672-0F43EFDA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3EF-9209-4725-8D5F-23184D63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EE7-61DC-47CB-80DA-D7E8F5B0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11DD-EEED-48FE-A25B-AE1CAEB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A00F-BA92-43E4-8C11-2077629E6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14600" y="-360"/>
            <a:ext cx="64008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под проектом подразумевается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специально организованный учителем и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амостоятельно выполняемый детьми комплекс действий, завершающихся созданием продукта,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состоящего из объекта труда, изготовленного в процессе проектирования,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и его представлени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в рамках устной или письменной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2033640" cy="3505320"/>
          </a:xfrm>
          <a:prstGeom prst="rect">
            <a:avLst/>
          </a:prstGeom>
          <a:ln w="38160">
            <a:solidFill>
              <a:srgbClr val="cc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152280" y="45720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3300"/>
                </a:solidFill>
                <a:latin typeface="Arial"/>
              </a:rPr>
              <a:t>Проект</a:t>
            </a:r>
            <a:r>
              <a:rPr b="1" i="1" lang="en-US" sz="4000" spc="-1" strike="noStrike">
                <a:solidFill>
                  <a:srgbClr val="c1a58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419360" y="2282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6. Защищаем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52280" y="228600"/>
            <a:ext cx="3810240" cy="28576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3048120" cy="3809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2133720"/>
            <a:ext cx="3352680" cy="4467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0" y="510552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7. Подводятся результаты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работы групп,      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выставляются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10080" y="685800"/>
            <a:ext cx="3546720" cy="518148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04920" y="533520"/>
            <a:ext cx="48006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83800"/>
                </a:solidFill>
                <a:latin typeface="Arial"/>
              </a:rPr>
              <a:t>Современный проект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это дидактическое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средство активизации познавательной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деятельности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1a589"/>
                </a:solidFill>
                <a:latin typeface="Arial"/>
              </a:rPr>
              <a:t>учащегося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, развития креативности и одновременно формирования определенных личност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240480"/>
            <a:ext cx="75438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Классификация проек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продолжительности подготовк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краткосроч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средней продолжительности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долгосрочный  </a:t>
            </a:r>
            <a:br>
              <a:rPr sz="2800"/>
            </a:b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количеству участников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дивидуальны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работа в парах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групповой (4-6 человек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По методу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творче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сследовательский </a:t>
            </a:r>
            <a:br>
              <a:rPr sz="2800"/>
            </a:b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- информационный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(ознакомительно-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риентированн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5240" y="4191120"/>
            <a:ext cx="2577960" cy="257796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Этапы работы над проек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563868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остановк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цели, выявление проблем, формулировка задач дл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обсужд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возможных вариантов в работе, способствующих их ре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одумыва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хода деятельности, распределение обязан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решение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отдельных задач и затем их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компоновка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 в одно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представление проекта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для остальных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1a5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анализ </a:t>
            </a:r>
            <a:r>
              <a:rPr b="1" lang="en-US" sz="2400" spc="-1" strike="noStrike">
                <a:solidFill>
                  <a:srgbClr val="74505f"/>
                </a:solidFill>
                <a:latin typeface="Arial"/>
              </a:rPr>
              <a:t>результатов,</a:t>
            </a:r>
            <a:r>
              <a:rPr b="1" lang="en-US" sz="2400" spc="-1" strike="noStrike">
                <a:solidFill>
                  <a:srgbClr val="c1a589"/>
                </a:solidFill>
                <a:latin typeface="Arial"/>
              </a:rPr>
              <a:t> оц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10080" y="2743200"/>
            <a:ext cx="3657600" cy="403848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83800"/>
                </a:solidFill>
                <a:latin typeface="Arial"/>
              </a:rPr>
              <a:t>Стати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2209680"/>
            <a:ext cx="3733920" cy="452592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05520" y="104760"/>
            <a:ext cx="3962160" cy="44672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4038480" y="525780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a589"/>
                </a:solidFill>
                <a:latin typeface="Arial"/>
              </a:rPr>
              <a:t>Изучаем методом про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Создаем рабочие групп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457360" cy="2330640"/>
          </a:xfrm>
          <a:prstGeom prst="rect">
            <a:avLst/>
          </a:prstGeom>
          <a:ln w="28440">
            <a:solidFill>
              <a:srgbClr val="74505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00800" y="2590920"/>
            <a:ext cx="2546280" cy="272880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" y="4948200"/>
            <a:ext cx="2895480" cy="1709640"/>
          </a:xfrm>
          <a:prstGeom prst="rect">
            <a:avLst/>
          </a:prstGeom>
          <a:ln w="38160">
            <a:solidFill>
              <a:srgbClr val="74505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048120" y="13716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1295280"/>
            <a:ext cx="5546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663300"/>
                </a:solidFill>
                <a:latin typeface="Arial"/>
              </a:rPr>
              <a:t>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данных о состоянии здоровья детей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Медик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8620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3809880"/>
            <a:ext cx="5715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І І)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физических возможностей детей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портсме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548496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63300"/>
                </a:solidFill>
                <a:latin typeface="Arial"/>
              </a:rPr>
              <a:t>ІІІ)</a:t>
            </a:r>
            <a:r>
              <a:rPr b="0" lang="uk-UA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руппа изучения социологических вопросов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1a589"/>
                </a:solidFill>
                <a:latin typeface="Arial"/>
              </a:rPr>
              <a:t>«Социол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57600" y="274680"/>
            <a:ext cx="502920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1. Формулируе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цел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исследован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2. Опреде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вопросы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3. Составляем </a:t>
            </a:r>
            <a:r>
              <a:rPr b="1" lang="en-US" sz="4000" spc="-1" strike="noStrike">
                <a:solidFill>
                  <a:srgbClr val="c1a589"/>
                </a:solidFill>
                <a:latin typeface="Arial"/>
              </a:rPr>
              <a:t>план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 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4038840" cy="60958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50000">
              <a:srgbClr val="6666ff"/>
            </a:gs>
            <a:gs pos="100000">
              <a:srgbClr val="2f2f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274320"/>
            <a:ext cx="449568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4. Собираем информац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6633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949800">
            <a:off x="2022120" y="3189240"/>
            <a:ext cx="3290760" cy="329076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638680" y="3200400"/>
            <a:ext cx="3476880" cy="3610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6320" y="76320"/>
            <a:ext cx="3800520" cy="37861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75"/>
            </a:gs>
            <a:gs pos="100000">
              <a:srgbClr val="66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5. Обрабатываем информа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229600" cy="52880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0-11-07T21:06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6000000000001024140</vt:lpwstr>
  </property>
  <property fmtid="{D5CDD505-2E9C-101B-9397-08002B2CF9AE}" pid="3" name="Version">
    <vt:r8>1</vt:r8>
  </property>
</Properties>
</file>