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37.wmf" ContentType="image/x-wmf"/>
  <Override PartName="/ppt/media/image30.wmf" ContentType="image/x-wmf"/>
  <Override PartName="/ppt/media/image42.wmf" ContentType="image/x-wmf"/>
  <Override PartName="/ppt/media/image28.png" ContentType="image/png"/>
  <Override PartName="/ppt/media/image31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2.png" ContentType="image/png"/>
  <Override PartName="/ppt/media/image34.wmf" ContentType="image/x-wmf"/>
  <Override PartName="/ppt/media/image46.wmf" ContentType="image/x-wmf"/>
  <Override PartName="/ppt/media/image3.png" ContentType="image/png"/>
  <Override PartName="/ppt/media/image10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89A-C766-4A19-B115-613B7D07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34C-8B2A-4AB3-99E6-24E72731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B70-8BB4-49DA-A8F4-870144A3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AE9-FFB7-4F4A-AE42-4E7C206D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4D6-3230-4397-9FF8-E68009BD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A35-018C-4EAE-8EF4-BB6C0D18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510-DC8A-4187-B761-84B32C93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C46-3040-4F19-AC01-719361CA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303-BA4B-45DE-A739-BE3182A3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B16-509B-4ADC-A3EB-BBD27D11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162-9430-4B81-8632-5BAF881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75E-E4DD-486C-912A-EAE725F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D4F1-EC58-4109-8C8F-FE9B8BDD4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34.wmf"/><Relationship Id="rId18" Type="http://schemas.openxmlformats.org/officeDocument/2006/relationships/image" Target="../media/image35.wmf"/><Relationship Id="rId19" Type="http://schemas.openxmlformats.org/officeDocument/2006/relationships/image" Target="../media/image36.wmf"/><Relationship Id="rId20" Type="http://schemas.openxmlformats.org/officeDocument/2006/relationships/image" Target="../media/image37.wmf"/><Relationship Id="rId21" Type="http://schemas.openxmlformats.org/officeDocument/2006/relationships/image" Target="../media/image28.png"/><Relationship Id="rId22" Type="http://schemas.openxmlformats.org/officeDocument/2006/relationships/image" Target="../media/image38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24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28.png"/><Relationship Id="rId11" Type="http://schemas.openxmlformats.org/officeDocument/2006/relationships/image" Target="../media/image38.png"/><Relationship Id="rId12" Type="http://schemas.openxmlformats.org/officeDocument/2006/relationships/image" Target="../media/image29.png"/><Relationship Id="rId13" Type="http://schemas.openxmlformats.org/officeDocument/2006/relationships/image" Target="../media/image47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573120" y="249120"/>
            <a:ext cx="73278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328680" y="1865160"/>
            <a:ext cx="8437320" cy="15544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725400" y="3475080"/>
            <a:ext cx="7431120" cy="200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klub-drug.ru/wp-content/uploads/2011/04/School_University.jpg"/>
          <p:cNvPicPr/>
          <p:nvPr/>
        </p:nvPicPr>
        <p:blipFill>
          <a:blip r:embed="rId4"/>
          <a:stretch/>
        </p:blipFill>
        <p:spPr>
          <a:xfrm>
            <a:off x="157320" y="4797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Горизонтальный свиток 7"/>
          <p:cNvSpPr/>
          <p:nvPr/>
        </p:nvSpPr>
        <p:spPr>
          <a:xfrm>
            <a:off x="324000" y="692280"/>
            <a:ext cx="5040000" cy="4537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442120" y="1584360"/>
            <a:ext cx="3450960" cy="42926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" descr=""/>
          <p:cNvPicPr/>
          <p:nvPr/>
        </p:nvPicPr>
        <p:blipFill>
          <a:blip r:embed="rId3"/>
          <a:stretch/>
        </p:blipFill>
        <p:spPr>
          <a:xfrm>
            <a:off x="639720" y="1603440"/>
            <a:ext cx="5243400" cy="226692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4" descr=""/>
          <p:cNvPicPr/>
          <p:nvPr/>
        </p:nvPicPr>
        <p:blipFill>
          <a:blip r:embed="rId4"/>
          <a:stretch/>
        </p:blipFill>
        <p:spPr>
          <a:xfrm>
            <a:off x="3170160" y="5694480"/>
            <a:ext cx="7321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16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11280" y="260280"/>
            <a:ext cx="7200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Проверка домашнего зад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763560" y="620640"/>
            <a:ext cx="72010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Решить неравенст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2233440" cy="1301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1846080" cy="199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32000" y="2205000"/>
            <a:ext cx="2119320" cy="248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727360" cy="1574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51280" y="4508640"/>
            <a:ext cx="18478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5076720" y="573264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Ответ: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732720" y="5294160"/>
            <a:ext cx="1726920" cy="14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klub-drug.ru/wp-content/uploads/2011/04/School_University.jpg"/>
          <p:cNvPicPr/>
          <p:nvPr/>
        </p:nvPicPr>
        <p:blipFill>
          <a:blip r:embed="rId7"/>
          <a:stretch/>
        </p:blipFill>
        <p:spPr>
          <a:xfrm>
            <a:off x="1116000" y="479736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63560" y="-46080"/>
            <a:ext cx="7201080" cy="9471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Установить соответствие между уравнениями и их корн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47560" y="9810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7560" y="234936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47560" y="3068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39640" y="1628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252108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11280" y="1484280"/>
            <a:ext cx="1909800" cy="64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98440" y="2095560"/>
            <a:ext cx="284508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971640" y="2870280"/>
            <a:ext cx="3779640" cy="757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5651640" y="907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5651640" y="14652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Б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5651640" y="1969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В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5724360" y="2401920"/>
            <a:ext cx="6400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Г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5651640" y="2924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Д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6443640" y="907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6443640" y="1465200"/>
            <a:ext cx="100800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3; 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6300720" y="1897200"/>
            <a:ext cx="9352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- 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6532560" y="2401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6516720" y="2924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63640" y="4076640"/>
          <a:ext cx="5329440" cy="2089080"/>
        </p:xfrm>
        <a:graphic>
          <a:graphicData uri="http://schemas.openxmlformats.org/drawingml/2006/table">
            <a:tbl>
              <a:tblPr/>
              <a:tblGrid>
                <a:gridCol w="1065240"/>
                <a:gridCol w="1066680"/>
                <a:gridCol w="1065240"/>
                <a:gridCol w="1065240"/>
                <a:gridCol w="10670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Box 21"/>
          <p:cNvSpPr/>
          <p:nvPr/>
        </p:nvSpPr>
        <p:spPr>
          <a:xfrm>
            <a:off x="1123920" y="4076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1116000" y="4633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1116000" y="51577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1116000" y="56610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1979640" y="348156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306864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Б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414036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В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5229360" y="3500280"/>
            <a:ext cx="6379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Г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30072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Д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множение 30"/>
          <p:cNvSpPr/>
          <p:nvPr/>
        </p:nvSpPr>
        <p:spPr>
          <a:xfrm>
            <a:off x="1619280" y="4508640"/>
            <a:ext cx="1297080" cy="649080"/>
          </a:xfrm>
          <a:custGeom>
            <a:avLst/>
            <a:gdLst>
              <a:gd name="textAreaLeft" fmla="*/ 277200 w 1297080"/>
              <a:gd name="textAreaRight" fmla="*/ 1019880 w 1297080"/>
              <a:gd name="textAreaTop" fmla="*/ 87480 h 649080"/>
              <a:gd name="textAreaBottom" fmla="*/ 561600 h 64908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Умножение 31"/>
          <p:cNvSpPr/>
          <p:nvPr/>
        </p:nvSpPr>
        <p:spPr>
          <a:xfrm>
            <a:off x="5940360" y="5084640"/>
            <a:ext cx="1295640" cy="648000"/>
          </a:xfrm>
          <a:custGeom>
            <a:avLst/>
            <a:gdLst>
              <a:gd name="textAreaLeft" fmla="*/ 276840 w 1295640"/>
              <a:gd name="textAreaRight" fmla="*/ 1018800 w 1295640"/>
              <a:gd name="textAreaTop" fmla="*/ 87480 h 648000"/>
              <a:gd name="textAreaBottom" fmla="*/ 560520 h 64800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множение 32"/>
          <p:cNvSpPr/>
          <p:nvPr/>
        </p:nvSpPr>
        <p:spPr>
          <a:xfrm>
            <a:off x="3780000" y="5589720"/>
            <a:ext cx="1296720" cy="647640"/>
          </a:xfrm>
          <a:custGeom>
            <a:avLst/>
            <a:gdLst>
              <a:gd name="textAreaLeft" fmla="*/ 277200 w 1296720"/>
              <a:gd name="textAreaRight" fmla="*/ 1019520 w 1296720"/>
              <a:gd name="textAreaTop" fmla="*/ 87120 h 647640"/>
              <a:gd name="textAreaBottom" fmla="*/ 560520 h 64764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множение 33"/>
          <p:cNvSpPr/>
          <p:nvPr/>
        </p:nvSpPr>
        <p:spPr>
          <a:xfrm>
            <a:off x="4811760" y="3976560"/>
            <a:ext cx="1295280" cy="648000"/>
          </a:xfrm>
          <a:custGeom>
            <a:avLst/>
            <a:gdLst>
              <a:gd name="textAreaLeft" fmla="*/ 276840 w 1295280"/>
              <a:gd name="textAreaRight" fmla="*/ 1018440 w 1295280"/>
              <a:gd name="textAreaTop" fmla="*/ 87480 h 648000"/>
              <a:gd name="textAreaBottom" fmla="*/ 560520 h 64800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0040" y="866880"/>
            <a:ext cx="1785960" cy="61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90480" y="1584360"/>
            <a:ext cx="2060640" cy="47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89160" y="2108160"/>
            <a:ext cx="860400" cy="582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71920" y="866880"/>
            <a:ext cx="2060640" cy="617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844800" y="1511280"/>
            <a:ext cx="1511280" cy="480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919680" y="2133720"/>
            <a:ext cx="1307880" cy="582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595920" y="866880"/>
            <a:ext cx="1721160" cy="61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688080" y="1511280"/>
            <a:ext cx="137628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783480" y="2133720"/>
            <a:ext cx="12049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11"/>
          <p:cNvGrpSpPr/>
          <p:nvPr/>
        </p:nvGrpSpPr>
        <p:grpSpPr>
          <a:xfrm>
            <a:off x="171360" y="817560"/>
            <a:ext cx="682560" cy="944640"/>
            <a:chOff x="171360" y="817560"/>
            <a:chExt cx="682560" cy="944640"/>
          </a:xfrm>
        </p:grpSpPr>
        <p:pic>
          <p:nvPicPr>
            <p:cNvPr id="102" name="Овал 11" descr=""/>
            <p:cNvPicPr/>
            <p:nvPr/>
          </p:nvPicPr>
          <p:blipFill>
            <a:blip r:embed="rId10"/>
            <a:stretch/>
          </p:blipFill>
          <p:spPr>
            <a:xfrm>
              <a:off x="171360" y="817560"/>
              <a:ext cx="682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4160" y="1023840"/>
              <a:ext cx="355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вал 12"/>
          <p:cNvGrpSpPr/>
          <p:nvPr/>
        </p:nvGrpSpPr>
        <p:grpSpPr>
          <a:xfrm>
            <a:off x="3054240" y="743040"/>
            <a:ext cx="682560" cy="946080"/>
            <a:chOff x="3054240" y="743040"/>
            <a:chExt cx="682560" cy="946080"/>
          </a:xfrm>
        </p:grpSpPr>
        <p:pic>
          <p:nvPicPr>
            <p:cNvPr id="105" name="Овал 12" descr=""/>
            <p:cNvPicPr/>
            <p:nvPr/>
          </p:nvPicPr>
          <p:blipFill>
            <a:blip r:embed="rId11"/>
            <a:stretch/>
          </p:blipFill>
          <p:spPr>
            <a:xfrm>
              <a:off x="3054240" y="743040"/>
              <a:ext cx="68256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133800" y="952560"/>
              <a:ext cx="355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Овал 13"/>
          <p:cNvGrpSpPr/>
          <p:nvPr/>
        </p:nvGrpSpPr>
        <p:grpSpPr>
          <a:xfrm>
            <a:off x="5931000" y="743040"/>
            <a:ext cx="682560" cy="873000"/>
            <a:chOff x="5931000" y="743040"/>
            <a:chExt cx="682560" cy="873000"/>
          </a:xfrm>
        </p:grpSpPr>
        <p:pic>
          <p:nvPicPr>
            <p:cNvPr id="108" name="Овал 13" descr=""/>
            <p:cNvPicPr/>
            <p:nvPr/>
          </p:nvPicPr>
          <p:blipFill>
            <a:blip r:embed="rId12"/>
            <a:stretch/>
          </p:blipFill>
          <p:spPr>
            <a:xfrm>
              <a:off x="5931000" y="743040"/>
              <a:ext cx="6825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013440" y="941400"/>
              <a:ext cx="3571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Box 14"/>
          <p:cNvSpPr/>
          <p:nvPr/>
        </p:nvSpPr>
        <p:spPr>
          <a:xfrm>
            <a:off x="3995640" y="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841320" y="3675240"/>
            <a:ext cx="1859040" cy="61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603360" y="4505400"/>
            <a:ext cx="2306520" cy="47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1038240" y="5157720"/>
            <a:ext cx="1308240" cy="582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3843360" y="3641760"/>
            <a:ext cx="137628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4044960" y="4395960"/>
            <a:ext cx="1031760" cy="54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4044960" y="5157720"/>
            <a:ext cx="1031760" cy="582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6367320" y="3657600"/>
            <a:ext cx="2237040" cy="65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6783480" y="4378320"/>
            <a:ext cx="825480" cy="582480"/>
          </a:xfrm>
          <a:prstGeom prst="rect">
            <a:avLst/>
          </a:prstGeom>
          <a:ln w="0">
            <a:noFill/>
          </a:ln>
        </p:spPr>
      </p:pic>
      <p:grpSp>
        <p:nvGrpSpPr>
          <p:cNvPr id="119" name="Овал 22"/>
          <p:cNvGrpSpPr/>
          <p:nvPr/>
        </p:nvGrpSpPr>
        <p:grpSpPr>
          <a:xfrm>
            <a:off x="244440" y="3408480"/>
            <a:ext cx="682560" cy="944280"/>
            <a:chOff x="244440" y="3408480"/>
            <a:chExt cx="682560" cy="944280"/>
          </a:xfrm>
        </p:grpSpPr>
        <p:pic>
          <p:nvPicPr>
            <p:cNvPr id="120" name="Овал 22" descr=""/>
            <p:cNvPicPr/>
            <p:nvPr/>
          </p:nvPicPr>
          <p:blipFill>
            <a:blip r:embed="rId21"/>
            <a:stretch/>
          </p:blipFill>
          <p:spPr>
            <a:xfrm>
              <a:off x="244440" y="3408480"/>
              <a:ext cx="682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2544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вал 23"/>
          <p:cNvGrpSpPr/>
          <p:nvPr/>
        </p:nvGrpSpPr>
        <p:grpSpPr>
          <a:xfrm>
            <a:off x="3200400" y="3408480"/>
            <a:ext cx="676440" cy="944280"/>
            <a:chOff x="3200400" y="3408480"/>
            <a:chExt cx="676440" cy="944280"/>
          </a:xfrm>
        </p:grpSpPr>
        <p:pic>
          <p:nvPicPr>
            <p:cNvPr id="123" name="Овал 23" descr=""/>
            <p:cNvPicPr/>
            <p:nvPr/>
          </p:nvPicPr>
          <p:blipFill>
            <a:blip r:embed="rId22"/>
            <a:stretch/>
          </p:blipFill>
          <p:spPr>
            <a:xfrm>
              <a:off x="3200400" y="3408480"/>
              <a:ext cx="67644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27816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Овал 24"/>
          <p:cNvGrpSpPr/>
          <p:nvPr/>
        </p:nvGrpSpPr>
        <p:grpSpPr>
          <a:xfrm>
            <a:off x="5791320" y="3408480"/>
            <a:ext cx="676080" cy="944280"/>
            <a:chOff x="5791320" y="3408480"/>
            <a:chExt cx="676080" cy="944280"/>
          </a:xfrm>
        </p:grpSpPr>
        <p:pic>
          <p:nvPicPr>
            <p:cNvPr id="126" name="Овал 24" descr=""/>
            <p:cNvPicPr/>
            <p:nvPr/>
          </p:nvPicPr>
          <p:blipFill>
            <a:blip r:embed="rId23"/>
            <a:stretch/>
          </p:blipFill>
          <p:spPr>
            <a:xfrm>
              <a:off x="5791320" y="3408480"/>
              <a:ext cx="67608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87052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Box 25"/>
          <p:cNvSpPr/>
          <p:nvPr/>
        </p:nvSpPr>
        <p:spPr>
          <a:xfrm>
            <a:off x="539640" y="19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6"/>
          <p:cNvSpPr/>
          <p:nvPr/>
        </p:nvSpPr>
        <p:spPr>
          <a:xfrm>
            <a:off x="3203640" y="19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7"/>
          <p:cNvSpPr/>
          <p:nvPr/>
        </p:nvSpPr>
        <p:spPr>
          <a:xfrm>
            <a:off x="6012000" y="1916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8"/>
          <p:cNvSpPr/>
          <p:nvPr/>
        </p:nvSpPr>
        <p:spPr>
          <a:xfrm>
            <a:off x="324000" y="50356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3276720" y="50356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0"/>
          <p:cNvSpPr/>
          <p:nvPr/>
        </p:nvSpPr>
        <p:spPr>
          <a:xfrm>
            <a:off x="5867280" y="4292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76240" y="692280"/>
            <a:ext cx="24717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43080" y="1441440"/>
            <a:ext cx="1888920" cy="547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2892600" cy="582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967280" y="795240"/>
            <a:ext cx="2917800" cy="61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219640" y="1413000"/>
            <a:ext cx="25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867280" y="2781360"/>
            <a:ext cx="130824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779560" y="3645000"/>
            <a:ext cx="1995480" cy="687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332000" y="4282920"/>
            <a:ext cx="2168280" cy="1306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635280" y="5732640"/>
            <a:ext cx="1873440" cy="753840"/>
          </a:xfrm>
          <a:prstGeom prst="rect">
            <a:avLst/>
          </a:prstGeom>
          <a:ln w="0">
            <a:noFill/>
          </a:ln>
        </p:spPr>
      </p:pic>
      <p:grpSp>
        <p:nvGrpSpPr>
          <p:cNvPr id="143" name="Овал 11"/>
          <p:cNvGrpSpPr/>
          <p:nvPr/>
        </p:nvGrpSpPr>
        <p:grpSpPr>
          <a:xfrm>
            <a:off x="244440" y="603360"/>
            <a:ext cx="682560" cy="944280"/>
            <a:chOff x="244440" y="603360"/>
            <a:chExt cx="682560" cy="944280"/>
          </a:xfrm>
        </p:grpSpPr>
        <p:pic>
          <p:nvPicPr>
            <p:cNvPr id="144" name="Овал 11" descr=""/>
            <p:cNvPicPr/>
            <p:nvPr/>
          </p:nvPicPr>
          <p:blipFill>
            <a:blip r:embed="rId10"/>
            <a:stretch/>
          </p:blipFill>
          <p:spPr>
            <a:xfrm>
              <a:off x="244440" y="603360"/>
              <a:ext cx="682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25440" y="808200"/>
              <a:ext cx="355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Овал 12"/>
          <p:cNvGrpSpPr/>
          <p:nvPr/>
        </p:nvGrpSpPr>
        <p:grpSpPr>
          <a:xfrm>
            <a:off x="4352760" y="530280"/>
            <a:ext cx="676440" cy="944640"/>
            <a:chOff x="4352760" y="530280"/>
            <a:chExt cx="676440" cy="944640"/>
          </a:xfrm>
        </p:grpSpPr>
        <p:pic>
          <p:nvPicPr>
            <p:cNvPr id="147" name="Овал 12" descr=""/>
            <p:cNvPicPr/>
            <p:nvPr/>
          </p:nvPicPr>
          <p:blipFill>
            <a:blip r:embed="rId11"/>
            <a:stretch/>
          </p:blipFill>
          <p:spPr>
            <a:xfrm>
              <a:off x="4352760" y="530280"/>
              <a:ext cx="6764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9080" y="736560"/>
              <a:ext cx="3571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вал 13"/>
          <p:cNvGrpSpPr/>
          <p:nvPr/>
        </p:nvGrpSpPr>
        <p:grpSpPr>
          <a:xfrm>
            <a:off x="1828800" y="3554280"/>
            <a:ext cx="682560" cy="871560"/>
            <a:chOff x="1828800" y="3554280"/>
            <a:chExt cx="682560" cy="871560"/>
          </a:xfrm>
        </p:grpSpPr>
        <p:pic>
          <p:nvPicPr>
            <p:cNvPr id="150" name="Овал 13" descr=""/>
            <p:cNvPicPr/>
            <p:nvPr/>
          </p:nvPicPr>
          <p:blipFill>
            <a:blip r:embed="rId12"/>
            <a:stretch/>
          </p:blipFill>
          <p:spPr>
            <a:xfrm>
              <a:off x="1828800" y="3554280"/>
              <a:ext cx="682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909800" y="3751200"/>
              <a:ext cx="355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4427640" y="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Проверь себя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5"/>
          <p:cNvSpPr/>
          <p:nvPr/>
        </p:nvSpPr>
        <p:spPr>
          <a:xfrm>
            <a:off x="395280" y="270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6"/>
          <p:cNvSpPr/>
          <p:nvPr/>
        </p:nvSpPr>
        <p:spPr>
          <a:xfrm>
            <a:off x="5148360" y="270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7"/>
          <p:cNvSpPr/>
          <p:nvPr/>
        </p:nvSpPr>
        <p:spPr>
          <a:xfrm>
            <a:off x="2627280" y="5661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1"/>
          <p:cNvSpPr/>
          <p:nvPr/>
        </p:nvSpPr>
        <p:spPr>
          <a:xfrm>
            <a:off x="3492360" y="44496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890960" y="4292640"/>
            <a:ext cx="19623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539640" y="1989000"/>
          <a:ext cx="8136000" cy="2482920"/>
        </p:xfrm>
        <a:graphic>
          <a:graphicData uri="http://schemas.openxmlformats.org/drawingml/2006/table">
            <a:tbl>
              <a:tblPr/>
              <a:tblGrid>
                <a:gridCol w="903240"/>
                <a:gridCol w="905040"/>
                <a:gridCol w="903240"/>
                <a:gridCol w="905040"/>
                <a:gridCol w="903240"/>
                <a:gridCol w="904680"/>
                <a:gridCol w="903240"/>
                <a:gridCol w="905040"/>
                <a:gridCol w="903240"/>
              </a:tblGrid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2"/>
          <p:cNvSpPr/>
          <p:nvPr/>
        </p:nvSpPr>
        <p:spPr>
          <a:xfrm>
            <a:off x="611280" y="3357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Г  А  Б  Б В  Г  А  Б 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39640" y="213372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Bookman Old Style"/>
              </a:rPr>
              <a:t>1  2  3  4  5 6  7  8  9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http://klub-drug.ru/wp-content/uploads/2011/04/School_University.jpg"/>
          <p:cNvPicPr/>
          <p:nvPr/>
        </p:nvPicPr>
        <p:blipFill>
          <a:blip r:embed="rId1"/>
          <a:stretch/>
        </p:blipFill>
        <p:spPr>
          <a:xfrm>
            <a:off x="250920" y="549360"/>
            <a:ext cx="1728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5:38:56Z</dcterms:created>
  <dc:creator>я</dc:creator>
  <dc:description/>
  <dc:language>en-US</dc:language>
  <cp:lastModifiedBy>Admin</cp:lastModifiedBy>
  <dcterms:modified xsi:type="dcterms:W3CDTF">2012-01-30T10:03:16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c000000000001024140</vt:lpwstr>
  </property>
</Properties>
</file>