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1.png" ContentType="image/png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0.wmf" ContentType="image/x-wmf"/>
  <Override PartName="/ppt/media/image42.wmf" ContentType="image/x-wmf"/>
  <Override PartName="/ppt/media/image28.png" ContentType="image/png"/>
  <Override PartName="/ppt/media/image31.wmf" ContentType="image/x-wmf"/>
  <Override PartName="/ppt/media/image43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3.png" ContentType="image/png"/>
  <Override PartName="/ppt/media/image10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8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272-E466-494D-8BD7-9D468D56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7E7D-2CB2-42BE-B652-63838262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ABB-8870-4CEA-8186-3F66FA59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1C6-0CE3-44AF-8B47-AAD10417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85C-2D45-4FE8-B8F0-92515C8C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2399-999E-4219-A365-4246015B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6642-EAF4-4D4F-AA31-CA213D57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9C0-940C-4F8F-8FB5-42DADD97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C48-72B1-4F1C-983B-D01C0696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A32-437D-4793-A264-DEBB680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F60-881F-474E-88A7-7A6498B9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29A-5847-4D0C-BED0-AA2B789F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A2E-44D8-476F-8233-ABCA512897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5.wmf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28.png"/><Relationship Id="rId22" Type="http://schemas.openxmlformats.org/officeDocument/2006/relationships/image" Target="../media/image38.png"/><Relationship Id="rId23" Type="http://schemas.openxmlformats.org/officeDocument/2006/relationships/image" Target="../media/image38.png"/><Relationship Id="rId2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24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28.png"/><Relationship Id="rId11" Type="http://schemas.openxmlformats.org/officeDocument/2006/relationships/image" Target="../media/image38.png"/><Relationship Id="rId12" Type="http://schemas.openxmlformats.org/officeDocument/2006/relationships/image" Target="../media/image29.png"/><Relationship Id="rId13" Type="http://schemas.openxmlformats.org/officeDocument/2006/relationships/image" Target="../media/image47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3" descr=""/>
          <p:cNvPicPr/>
          <p:nvPr/>
        </p:nvPicPr>
        <p:blipFill>
          <a:blip r:embed="rId1"/>
          <a:stretch/>
        </p:blipFill>
        <p:spPr>
          <a:xfrm>
            <a:off x="573120" y="249120"/>
            <a:ext cx="73278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4" descr=""/>
          <p:cNvPicPr/>
          <p:nvPr/>
        </p:nvPicPr>
        <p:blipFill>
          <a:blip r:embed="rId2"/>
          <a:stretch/>
        </p:blipFill>
        <p:spPr>
          <a:xfrm>
            <a:off x="328680" y="1865160"/>
            <a:ext cx="8437320" cy="155448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725400" y="3475080"/>
            <a:ext cx="7431120" cy="2004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klub-drug.ru/wp-content/uploads/2011/04/School_University.jpg"/>
          <p:cNvPicPr/>
          <p:nvPr/>
        </p:nvPicPr>
        <p:blipFill>
          <a:blip r:embed="rId4"/>
          <a:stretch/>
        </p:blipFill>
        <p:spPr>
          <a:xfrm>
            <a:off x="157320" y="479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Горизонтальный свиток 7"/>
          <p:cNvSpPr/>
          <p:nvPr/>
        </p:nvSpPr>
        <p:spPr>
          <a:xfrm>
            <a:off x="324000" y="692280"/>
            <a:ext cx="5040000" cy="4537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442120" y="1584360"/>
            <a:ext cx="3450960" cy="42926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" descr=""/>
          <p:cNvPicPr/>
          <p:nvPr/>
        </p:nvPicPr>
        <p:blipFill>
          <a:blip r:embed="rId3"/>
          <a:stretch/>
        </p:blipFill>
        <p:spPr>
          <a:xfrm>
            <a:off x="639720" y="1603440"/>
            <a:ext cx="5243400" cy="22669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4" descr=""/>
          <p:cNvPicPr/>
          <p:nvPr/>
        </p:nvPicPr>
        <p:blipFill>
          <a:blip r:embed="rId4"/>
          <a:stretch/>
        </p:blipFill>
        <p:spPr>
          <a:xfrm>
            <a:off x="3170160" y="5694480"/>
            <a:ext cx="73216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16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611280" y="260280"/>
            <a:ext cx="7200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Проверка домашнего зад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763560" y="620640"/>
            <a:ext cx="7201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Решить неравенств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59280" y="981000"/>
            <a:ext cx="2233440" cy="1301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2492280"/>
            <a:ext cx="1846080" cy="1998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132000" y="2205000"/>
            <a:ext cx="2119320" cy="2482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727360" cy="157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1847880" cy="93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8"/>
          <p:cNvSpPr/>
          <p:nvPr/>
        </p:nvSpPr>
        <p:spPr>
          <a:xfrm>
            <a:off x="5076720" y="573264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Ответ:</a:t>
            </a:r>
            <a:r>
              <a:rPr b="1" i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732720" y="5294160"/>
            <a:ext cx="1726920" cy="1433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klub-drug.ru/wp-content/uploads/2011/04/School_University.jpg"/>
          <p:cNvPicPr/>
          <p:nvPr/>
        </p:nvPicPr>
        <p:blipFill>
          <a:blip r:embed="rId7"/>
          <a:stretch/>
        </p:blipFill>
        <p:spPr>
          <a:xfrm>
            <a:off x="1116000" y="479736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763560" y="-46080"/>
            <a:ext cx="7201080" cy="9471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Установить соответствие между уравнениями и их корня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47560" y="98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7560" y="23493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547560" y="306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39640" y="1628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2521080" cy="64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511280" y="1484280"/>
            <a:ext cx="1909800" cy="649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98440" y="2095560"/>
            <a:ext cx="2845080" cy="64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971640" y="2870280"/>
            <a:ext cx="3779640" cy="757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5651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1"/>
          <p:cNvSpPr/>
          <p:nvPr/>
        </p:nvSpPr>
        <p:spPr>
          <a:xfrm>
            <a:off x="5651640" y="14652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5651640" y="1969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5724360" y="2401920"/>
            <a:ext cx="6400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4"/>
          <p:cNvSpPr/>
          <p:nvPr/>
        </p:nvSpPr>
        <p:spPr>
          <a:xfrm>
            <a:off x="565164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6443640" y="907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443640" y="1465200"/>
            <a:ext cx="100800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3; 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7"/>
          <p:cNvSpPr/>
          <p:nvPr/>
        </p:nvSpPr>
        <p:spPr>
          <a:xfrm>
            <a:off x="6300720" y="1897200"/>
            <a:ext cx="93528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- 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8"/>
          <p:cNvSpPr/>
          <p:nvPr/>
        </p:nvSpPr>
        <p:spPr>
          <a:xfrm>
            <a:off x="6532560" y="2401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6516720" y="2924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cc"/>
                </a:solidFill>
                <a:latin typeface="Bookman Old Style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63640" y="4076640"/>
          <a:ext cx="5329440" cy="2089080"/>
        </p:xfrm>
        <a:graphic>
          <a:graphicData uri="http://schemas.openxmlformats.org/drawingml/2006/table">
            <a:tbl>
              <a:tblPr/>
              <a:tblGrid>
                <a:gridCol w="1065240"/>
                <a:gridCol w="1066680"/>
                <a:gridCol w="1065240"/>
                <a:gridCol w="1065240"/>
                <a:gridCol w="106704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6600cc"/>
                      </a:solidFill>
                    </a:lnL>
                    <a:lnR w="18720">
                      <a:solidFill>
                        <a:srgbClr val="6600cc"/>
                      </a:solidFill>
                    </a:lnR>
                    <a:lnT w="18720">
                      <a:solidFill>
                        <a:srgbClr val="6600cc"/>
                      </a:solidFill>
                    </a:lnT>
                    <a:lnB w="18720">
                      <a:solidFill>
                        <a:srgbClr val="660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Box 21"/>
          <p:cNvSpPr/>
          <p:nvPr/>
        </p:nvSpPr>
        <p:spPr>
          <a:xfrm>
            <a:off x="1123920" y="407664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1116000" y="46339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3"/>
          <p:cNvSpPr/>
          <p:nvPr/>
        </p:nvSpPr>
        <p:spPr>
          <a:xfrm>
            <a:off x="1116000" y="515772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1116000" y="566100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5"/>
          <p:cNvSpPr/>
          <p:nvPr/>
        </p:nvSpPr>
        <p:spPr>
          <a:xfrm>
            <a:off x="1979640" y="348156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А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6"/>
          <p:cNvSpPr/>
          <p:nvPr/>
        </p:nvSpPr>
        <p:spPr>
          <a:xfrm>
            <a:off x="306864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Б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7"/>
          <p:cNvSpPr/>
          <p:nvPr/>
        </p:nvSpPr>
        <p:spPr>
          <a:xfrm>
            <a:off x="414036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В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5229360" y="3500280"/>
            <a:ext cx="6379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Г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300720" y="3500280"/>
            <a:ext cx="639720" cy="5205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Bookman Old Style"/>
              </a:rPr>
              <a:t>Д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множение 30"/>
          <p:cNvSpPr/>
          <p:nvPr/>
        </p:nvSpPr>
        <p:spPr>
          <a:xfrm>
            <a:off x="1619280" y="4508640"/>
            <a:ext cx="1297080" cy="649080"/>
          </a:xfrm>
          <a:custGeom>
            <a:avLst/>
            <a:gdLst>
              <a:gd name="textAreaLeft" fmla="*/ 277200 w 1297080"/>
              <a:gd name="textAreaRight" fmla="*/ 1019880 w 1297080"/>
              <a:gd name="textAreaTop" fmla="*/ 87480 h 649080"/>
              <a:gd name="textAreaBottom" fmla="*/ 561600 h 64908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Умножение 31"/>
          <p:cNvSpPr/>
          <p:nvPr/>
        </p:nvSpPr>
        <p:spPr>
          <a:xfrm>
            <a:off x="5940360" y="5084640"/>
            <a:ext cx="1295640" cy="648000"/>
          </a:xfrm>
          <a:custGeom>
            <a:avLst/>
            <a:gdLst>
              <a:gd name="textAreaLeft" fmla="*/ 276840 w 1295640"/>
              <a:gd name="textAreaRight" fmla="*/ 1018800 w 129564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Умножение 32"/>
          <p:cNvSpPr/>
          <p:nvPr/>
        </p:nvSpPr>
        <p:spPr>
          <a:xfrm>
            <a:off x="3780000" y="5589720"/>
            <a:ext cx="1296720" cy="647640"/>
          </a:xfrm>
          <a:custGeom>
            <a:avLst/>
            <a:gdLst>
              <a:gd name="textAreaLeft" fmla="*/ 277200 w 1296720"/>
              <a:gd name="textAreaRight" fmla="*/ 1019520 w 1296720"/>
              <a:gd name="textAreaTop" fmla="*/ 87120 h 647640"/>
              <a:gd name="textAreaBottom" fmla="*/ 560520 h 64764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множение 33"/>
          <p:cNvSpPr/>
          <p:nvPr/>
        </p:nvSpPr>
        <p:spPr>
          <a:xfrm>
            <a:off x="4811760" y="3976560"/>
            <a:ext cx="1295280" cy="648000"/>
          </a:xfrm>
          <a:custGeom>
            <a:avLst/>
            <a:gdLst>
              <a:gd name="textAreaLeft" fmla="*/ 276840 w 1295280"/>
              <a:gd name="textAreaRight" fmla="*/ 1018440 w 1295280"/>
              <a:gd name="textAreaTop" fmla="*/ 87480 h 648000"/>
              <a:gd name="textAreaBottom" fmla="*/ 560520 h 648000"/>
            </a:gdLst>
            <a:ahLst/>
            <a:rect l="textAreaLeft" t="textAreaTop" r="textAreaRight" b="textAreaBottom"/>
            <a:pathLst>
              <a:path w="1296144" h="648072">
                <a:moveTo>
                  <a:pt x="277218" y="223818"/>
                </a:moveTo>
                <a:lnTo>
                  <a:pt x="345385" y="87483"/>
                </a:lnTo>
                <a:lnTo>
                  <a:pt x="648072" y="238827"/>
                </a:lnTo>
                <a:lnTo>
                  <a:pt x="950759" y="87483"/>
                </a:lnTo>
                <a:lnTo>
                  <a:pt x="1018926" y="223818"/>
                </a:lnTo>
                <a:lnTo>
                  <a:pt x="818490" y="324036"/>
                </a:lnTo>
                <a:lnTo>
                  <a:pt x="1018926" y="424254"/>
                </a:lnTo>
                <a:lnTo>
                  <a:pt x="950759" y="560589"/>
                </a:lnTo>
                <a:lnTo>
                  <a:pt x="648072" y="409245"/>
                </a:lnTo>
                <a:lnTo>
                  <a:pt x="345385" y="560589"/>
                </a:lnTo>
                <a:lnTo>
                  <a:pt x="277218" y="424254"/>
                </a:lnTo>
                <a:lnTo>
                  <a:pt x="477654" y="32403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0040" y="866880"/>
            <a:ext cx="1785960" cy="61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90480" y="1584360"/>
            <a:ext cx="2060640" cy="479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89160" y="2108160"/>
            <a:ext cx="860400" cy="582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571920" y="866880"/>
            <a:ext cx="2060640" cy="617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844800" y="1511280"/>
            <a:ext cx="1511280" cy="480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3919680" y="2133720"/>
            <a:ext cx="1307880" cy="582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6595920" y="866880"/>
            <a:ext cx="1721160" cy="61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6688080" y="1511280"/>
            <a:ext cx="1376280" cy="480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6783480" y="2133720"/>
            <a:ext cx="12049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11"/>
          <p:cNvGrpSpPr/>
          <p:nvPr/>
        </p:nvGrpSpPr>
        <p:grpSpPr>
          <a:xfrm>
            <a:off x="171360" y="817560"/>
            <a:ext cx="682560" cy="944640"/>
            <a:chOff x="171360" y="817560"/>
            <a:chExt cx="682560" cy="944640"/>
          </a:xfrm>
        </p:grpSpPr>
        <p:pic>
          <p:nvPicPr>
            <p:cNvPr id="102" name="Овал 11" descr=""/>
            <p:cNvPicPr/>
            <p:nvPr/>
          </p:nvPicPr>
          <p:blipFill>
            <a:blip r:embed="rId10"/>
            <a:stretch/>
          </p:blipFill>
          <p:spPr>
            <a:xfrm>
              <a:off x="171360" y="817560"/>
              <a:ext cx="68256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54160" y="1023840"/>
              <a:ext cx="3553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вал 12"/>
          <p:cNvGrpSpPr/>
          <p:nvPr/>
        </p:nvGrpSpPr>
        <p:grpSpPr>
          <a:xfrm>
            <a:off x="3054240" y="743040"/>
            <a:ext cx="682560" cy="946080"/>
            <a:chOff x="3054240" y="743040"/>
            <a:chExt cx="682560" cy="946080"/>
          </a:xfrm>
        </p:grpSpPr>
        <p:pic>
          <p:nvPicPr>
            <p:cNvPr id="105" name="Овал 12" descr=""/>
            <p:cNvPicPr/>
            <p:nvPr/>
          </p:nvPicPr>
          <p:blipFill>
            <a:blip r:embed="rId11"/>
            <a:stretch/>
          </p:blipFill>
          <p:spPr>
            <a:xfrm>
              <a:off x="3054240" y="743040"/>
              <a:ext cx="68256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133800" y="95256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Овал 13"/>
          <p:cNvGrpSpPr/>
          <p:nvPr/>
        </p:nvGrpSpPr>
        <p:grpSpPr>
          <a:xfrm>
            <a:off x="5931000" y="743040"/>
            <a:ext cx="682560" cy="873000"/>
            <a:chOff x="5931000" y="743040"/>
            <a:chExt cx="682560" cy="873000"/>
          </a:xfrm>
        </p:grpSpPr>
        <p:pic>
          <p:nvPicPr>
            <p:cNvPr id="108" name="Овал 13" descr=""/>
            <p:cNvPicPr/>
            <p:nvPr/>
          </p:nvPicPr>
          <p:blipFill>
            <a:blip r:embed="rId12"/>
            <a:stretch/>
          </p:blipFill>
          <p:spPr>
            <a:xfrm>
              <a:off x="5931000" y="743040"/>
              <a:ext cx="6825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013440" y="941400"/>
              <a:ext cx="3571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TextBox 14"/>
          <p:cNvSpPr/>
          <p:nvPr/>
        </p:nvSpPr>
        <p:spPr>
          <a:xfrm>
            <a:off x="3995640" y="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841320" y="3675240"/>
            <a:ext cx="185904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603360" y="4505400"/>
            <a:ext cx="2306520" cy="47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1038240" y="5157720"/>
            <a:ext cx="1308240" cy="582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3843360" y="3641760"/>
            <a:ext cx="137628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4044960" y="4395960"/>
            <a:ext cx="1031760" cy="5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4044960" y="5157720"/>
            <a:ext cx="1031760" cy="582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6367320" y="3657600"/>
            <a:ext cx="2237040" cy="652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6783480" y="4378320"/>
            <a:ext cx="825480" cy="582480"/>
          </a:xfrm>
          <a:prstGeom prst="rect">
            <a:avLst/>
          </a:prstGeom>
          <a:ln w="0">
            <a:noFill/>
          </a:ln>
        </p:spPr>
      </p:pic>
      <p:grpSp>
        <p:nvGrpSpPr>
          <p:cNvPr id="119" name="Овал 22"/>
          <p:cNvGrpSpPr/>
          <p:nvPr/>
        </p:nvGrpSpPr>
        <p:grpSpPr>
          <a:xfrm>
            <a:off x="244440" y="3408480"/>
            <a:ext cx="682560" cy="944280"/>
            <a:chOff x="244440" y="3408480"/>
            <a:chExt cx="682560" cy="944280"/>
          </a:xfrm>
        </p:grpSpPr>
        <p:pic>
          <p:nvPicPr>
            <p:cNvPr id="120" name="Овал 22" descr=""/>
            <p:cNvPicPr/>
            <p:nvPr/>
          </p:nvPicPr>
          <p:blipFill>
            <a:blip r:embed="rId21"/>
            <a:stretch/>
          </p:blipFill>
          <p:spPr>
            <a:xfrm>
              <a:off x="244440" y="340848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2544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вал 23"/>
          <p:cNvGrpSpPr/>
          <p:nvPr/>
        </p:nvGrpSpPr>
        <p:grpSpPr>
          <a:xfrm>
            <a:off x="3200400" y="3408480"/>
            <a:ext cx="676440" cy="944280"/>
            <a:chOff x="3200400" y="3408480"/>
            <a:chExt cx="676440" cy="944280"/>
          </a:xfrm>
        </p:grpSpPr>
        <p:pic>
          <p:nvPicPr>
            <p:cNvPr id="123" name="Овал 23" descr=""/>
            <p:cNvPicPr/>
            <p:nvPr/>
          </p:nvPicPr>
          <p:blipFill>
            <a:blip r:embed="rId22"/>
            <a:stretch/>
          </p:blipFill>
          <p:spPr>
            <a:xfrm>
              <a:off x="3200400" y="3408480"/>
              <a:ext cx="67644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27816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Овал 24"/>
          <p:cNvGrpSpPr/>
          <p:nvPr/>
        </p:nvGrpSpPr>
        <p:grpSpPr>
          <a:xfrm>
            <a:off x="5791320" y="3408480"/>
            <a:ext cx="676080" cy="944280"/>
            <a:chOff x="5791320" y="3408480"/>
            <a:chExt cx="676080" cy="944280"/>
          </a:xfrm>
        </p:grpSpPr>
        <p:pic>
          <p:nvPicPr>
            <p:cNvPr id="126" name="Овал 24" descr=""/>
            <p:cNvPicPr/>
            <p:nvPr/>
          </p:nvPicPr>
          <p:blipFill>
            <a:blip r:embed="rId23"/>
            <a:stretch/>
          </p:blipFill>
          <p:spPr>
            <a:xfrm>
              <a:off x="5791320" y="3408480"/>
              <a:ext cx="67608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870520" y="3616200"/>
              <a:ext cx="355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TextBox 25"/>
          <p:cNvSpPr/>
          <p:nvPr/>
        </p:nvSpPr>
        <p:spPr>
          <a:xfrm>
            <a:off x="539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3203640" y="1989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7"/>
          <p:cNvSpPr/>
          <p:nvPr/>
        </p:nvSpPr>
        <p:spPr>
          <a:xfrm>
            <a:off x="6012000" y="1916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32400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3276720" y="50356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0"/>
          <p:cNvSpPr/>
          <p:nvPr/>
        </p:nvSpPr>
        <p:spPr>
          <a:xfrm>
            <a:off x="5867280" y="429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76240" y="692280"/>
            <a:ext cx="247176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43080" y="1441440"/>
            <a:ext cx="1888920" cy="547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2892600" cy="582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967280" y="795240"/>
            <a:ext cx="2917800" cy="61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219640" y="1413000"/>
            <a:ext cx="2576520" cy="1236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5867280" y="2781360"/>
            <a:ext cx="1308240" cy="582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2779560" y="3645000"/>
            <a:ext cx="1995480" cy="687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1332000" y="4282920"/>
            <a:ext cx="2168280" cy="1306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3635280" y="5732640"/>
            <a:ext cx="1873440" cy="753840"/>
          </a:xfrm>
          <a:prstGeom prst="rect">
            <a:avLst/>
          </a:prstGeom>
          <a:ln w="0">
            <a:noFill/>
          </a:ln>
        </p:spPr>
      </p:pic>
      <p:grpSp>
        <p:nvGrpSpPr>
          <p:cNvPr id="143" name="Овал 11"/>
          <p:cNvGrpSpPr/>
          <p:nvPr/>
        </p:nvGrpSpPr>
        <p:grpSpPr>
          <a:xfrm>
            <a:off x="244440" y="603360"/>
            <a:ext cx="682560" cy="944280"/>
            <a:chOff x="244440" y="603360"/>
            <a:chExt cx="682560" cy="944280"/>
          </a:xfrm>
        </p:grpSpPr>
        <p:pic>
          <p:nvPicPr>
            <p:cNvPr id="144" name="Овал 11" descr=""/>
            <p:cNvPicPr/>
            <p:nvPr/>
          </p:nvPicPr>
          <p:blipFill>
            <a:blip r:embed="rId10"/>
            <a:stretch/>
          </p:blipFill>
          <p:spPr>
            <a:xfrm>
              <a:off x="244440" y="603360"/>
              <a:ext cx="68256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5440" y="808200"/>
              <a:ext cx="35568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Овал 12"/>
          <p:cNvGrpSpPr/>
          <p:nvPr/>
        </p:nvGrpSpPr>
        <p:grpSpPr>
          <a:xfrm>
            <a:off x="4352760" y="530280"/>
            <a:ext cx="676440" cy="944640"/>
            <a:chOff x="4352760" y="530280"/>
            <a:chExt cx="676440" cy="944640"/>
          </a:xfrm>
        </p:grpSpPr>
        <p:pic>
          <p:nvPicPr>
            <p:cNvPr id="147" name="Овал 12" descr=""/>
            <p:cNvPicPr/>
            <p:nvPr/>
          </p:nvPicPr>
          <p:blipFill>
            <a:blip r:embed="rId11"/>
            <a:stretch/>
          </p:blipFill>
          <p:spPr>
            <a:xfrm>
              <a:off x="4352760" y="530280"/>
              <a:ext cx="676440" cy="9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429080" y="736560"/>
              <a:ext cx="357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вал 13"/>
          <p:cNvGrpSpPr/>
          <p:nvPr/>
        </p:nvGrpSpPr>
        <p:grpSpPr>
          <a:xfrm>
            <a:off x="1828800" y="3554280"/>
            <a:ext cx="682560" cy="871560"/>
            <a:chOff x="1828800" y="3554280"/>
            <a:chExt cx="682560" cy="871560"/>
          </a:xfrm>
        </p:grpSpPr>
        <p:pic>
          <p:nvPicPr>
            <p:cNvPr id="150" name="Овал 13" descr=""/>
            <p:cNvPicPr/>
            <p:nvPr/>
          </p:nvPicPr>
          <p:blipFill>
            <a:blip r:embed="rId12"/>
            <a:stretch/>
          </p:blipFill>
          <p:spPr>
            <a:xfrm>
              <a:off x="1828800" y="3554280"/>
              <a:ext cx="682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909800" y="3751200"/>
              <a:ext cx="35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0000"/>
                  </a:solidFill>
                  <a:latin typeface="Bookman Old Style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4427640" y="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Проверь себя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39528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6"/>
          <p:cNvSpPr/>
          <p:nvPr/>
        </p:nvSpPr>
        <p:spPr>
          <a:xfrm>
            <a:off x="5148360" y="270828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2627280" y="566100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Bookman Old Style"/>
              </a:rPr>
              <a:t>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1"/>
          <p:cNvSpPr/>
          <p:nvPr/>
        </p:nvSpPr>
        <p:spPr>
          <a:xfrm>
            <a:off x="3492360" y="444960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Bookman Old Style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890960" y="4292640"/>
            <a:ext cx="19623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539640" y="1989000"/>
          <a:ext cx="8136000" cy="2482920"/>
        </p:xfrm>
        <a:graphic>
          <a:graphicData uri="http://schemas.openxmlformats.org/drawingml/2006/table">
            <a:tbl>
              <a:tblPr/>
              <a:tblGrid>
                <a:gridCol w="903240"/>
                <a:gridCol w="905040"/>
                <a:gridCol w="903240"/>
                <a:gridCol w="905040"/>
                <a:gridCol w="903240"/>
                <a:gridCol w="904680"/>
                <a:gridCol w="903240"/>
                <a:gridCol w="905040"/>
                <a:gridCol w="903240"/>
              </a:tblGrid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59" name="TextBox 2"/>
          <p:cNvSpPr/>
          <p:nvPr/>
        </p:nvSpPr>
        <p:spPr>
          <a:xfrm>
            <a:off x="611280" y="3357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Bookman Old Style"/>
              </a:rPr>
              <a:t>Г  А  Б  Б В  Г  А  Б 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39640" y="2133720"/>
            <a:ext cx="885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Bookman Old Style"/>
              </a:rPr>
              <a:t>1  2  3  4  5 6  7  8  9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http://klub-drug.ru/wp-content/uploads/2011/04/School_University.jpg"/>
          <p:cNvPicPr/>
          <p:nvPr/>
        </p:nvPicPr>
        <p:blipFill>
          <a:blip r:embed="rId1"/>
          <a:stretch/>
        </p:blipFill>
        <p:spPr>
          <a:xfrm>
            <a:off x="250920" y="549360"/>
            <a:ext cx="1728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5:38:56Z</dcterms:created>
  <dc:creator>я</dc:creator>
  <dc:description/>
  <dc:language>en-US</dc:language>
  <cp:lastModifiedBy>Admin</cp:lastModifiedBy>
  <dcterms:modified xsi:type="dcterms:W3CDTF">2012-01-30T10:03:16Z</dcterms:modified>
  <cp:revision>2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c000000000001024140</vt:lpwstr>
  </property>
</Properties>
</file>