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CEF-A3C2-4F42-BAC1-2584B52F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C1E-54C2-4CA0-8EDE-B9F620E8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701-AB05-40BF-B894-17C1579F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132-D183-48B9-83AC-26328714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958-1B17-44EC-B0D2-434B6D4E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DD3-1301-4F3C-A5F6-3D0A8E37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EFA-527A-49AD-B25D-E6BACD76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6E4-A580-4163-AFE8-E2AF518D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7F5-B584-4EE7-B6B7-300C4834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2C3-F419-4436-9E89-35C97452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349-75A4-479C-B1D4-B50DB7A5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EBA-936A-4DF5-968B-47A12694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E55C-B9C4-4003-9841-500701B26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1;&#1091;&#1076;&#1086;&#1078;&#1077;&#1089;&#1090;&#1074;&#1077;&#1085;&#1085;&#1072;&#1103;_&#1086;&#1073;&#1088;&#1072;&#1073;&#1086;&#1090;&#1082;&#1072;_&#1084;&#1077;&#1090;&#1072;&#1083;&#1083;&#1072;&amp;action=edit&amp;redlink=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в 9 классе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оративно-прикладное искус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Wolpapers\Новая папка\sudba_03.jpg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D:\Wolpapers\Новая папка\30_80_1.jpg"/>
          <p:cNvPicPr/>
          <p:nvPr/>
        </p:nvPicPr>
        <p:blipFill>
          <a:blip r:embed="rId1"/>
          <a:stretch/>
        </p:blipFill>
        <p:spPr>
          <a:xfrm>
            <a:off x="6804000" y="1484280"/>
            <a:ext cx="1933560" cy="251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D:\Wolpapers\Новая папка\palma_mercalova-16021.jpg"/>
          <p:cNvPicPr/>
          <p:nvPr/>
        </p:nvPicPr>
        <p:blipFill>
          <a:blip r:embed="rId2"/>
          <a:stretch/>
        </p:blipFill>
        <p:spPr>
          <a:xfrm>
            <a:off x="4140360" y="4221000"/>
            <a:ext cx="3317760" cy="235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:\Wolpapers\Новая папка\111039563.jpg"/>
          <p:cNvPicPr/>
          <p:nvPr/>
        </p:nvPicPr>
        <p:blipFill>
          <a:blip r:embed="rId3"/>
          <a:stretch/>
        </p:blipFill>
        <p:spPr>
          <a:xfrm>
            <a:off x="3492360" y="1989000"/>
            <a:ext cx="2741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 декоративно-прикладного искус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ик — ручная роспись по ткани с использованием резервирующих состав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Wolpapers\Новая папка\410px-Batik_painting.jpg"/>
          <p:cNvPicPr/>
          <p:nvPr/>
        </p:nvPicPr>
        <p:blipFill>
          <a:blip r:embed="rId1"/>
          <a:stretch/>
        </p:blipFill>
        <p:spPr>
          <a:xfrm>
            <a:off x="2843280" y="2924280"/>
            <a:ext cx="318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шива́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общеизвестное и распространенное рукодельное искусство украшать самыми разными узорами всевозможные ткани и материалы, от самых грубых и плотных, как, например: сукно, холст, кожа, древесная кора, до тончайших материй — батиста, кисеи, газа, тюл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D:\Wolpapers\Новая папка\Simm_Stickerin.jpg"/>
          <p:cNvPicPr/>
          <p:nvPr/>
        </p:nvPicPr>
        <p:blipFill>
          <a:blip r:embed="rId1"/>
          <a:stretch/>
        </p:blipFill>
        <p:spPr>
          <a:xfrm>
            <a:off x="1908000" y="3645000"/>
            <a:ext cx="51120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Художественная обработка метал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Wolpapers\Новая папка\raznoe.jpg"/>
          <p:cNvPicPr/>
          <p:nvPr/>
        </p:nvPicPr>
        <p:blipFill>
          <a:blip r:embed="rId2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обработка кож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1) Вид декоративно-прикладного искусства, изготовление из кожи различных предметов как бытового, так и декоративно-художественного назначения; 2) отрасль текстильной промышленности, декорирование одежды, обуви, кож-галантерейных изд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Wolpapers\Новая папка\420px-Leathertools.jpg"/>
          <p:cNvPicPr/>
          <p:nvPr/>
        </p:nvPicPr>
        <p:blipFill>
          <a:blip r:embed="rId1"/>
          <a:stretch/>
        </p:blipFill>
        <p:spPr>
          <a:xfrm>
            <a:off x="4427640" y="3500280"/>
            <a:ext cx="400032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ное 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бработка через обжигание глины для превращения её в предметы домашнего обихода, в строительные материалы и различные украшения, то есть керамика вооб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Wolpapers\Новая папка\Potter_at_wheel.jpg"/>
          <p:cNvPicPr/>
          <p:nvPr/>
        </p:nvPicPr>
        <p:blipFill>
          <a:blip r:embed="rId1"/>
          <a:stretch/>
        </p:blipFill>
        <p:spPr>
          <a:xfrm>
            <a:off x="3419640" y="3429000"/>
            <a:ext cx="26650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оративно прикладн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скусстве органическ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четаю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611280" y="2781360"/>
            <a:ext cx="1809720" cy="876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5867280" y="2349360"/>
            <a:ext cx="1981440" cy="108612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4724280"/>
            <a:ext cx="1590840" cy="847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364000" y="3789360"/>
            <a:ext cx="2133720" cy="13525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изненный укл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908000" y="3789360"/>
            <a:ext cx="2067120" cy="1133640"/>
          </a:xfrm>
          <a:prstGeom prst="horizontalScroll">
            <a:avLst>
              <a:gd name="adj" fmla="val 12500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9"/>
          <p:cNvSpPr/>
          <p:nvPr/>
        </p:nvSpPr>
        <p:spPr>
          <a:xfrm>
            <a:off x="826920" y="5445000"/>
            <a:ext cx="7417080" cy="1057320"/>
          </a:xfrm>
          <a:prstGeom prst="flowChartPunchedTap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кажите или опровергн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Виктории и Альберта. Лон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D:\Wolpapers\Новая папка\Vicandal-sm.jpg"/>
          <p:cNvPicPr/>
          <p:nvPr/>
        </p:nvPicPr>
        <p:blipFill>
          <a:blip r:embed="rId1"/>
          <a:stretch/>
        </p:blipFill>
        <p:spPr>
          <a:xfrm>
            <a:off x="2987640" y="2349360"/>
            <a:ext cx="374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этнографии и художественного промысла АН Украина. Льв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D:\Wolpapers\Новая папка\Ethnographic_Museum_in_Lviv.jpg"/>
          <p:cNvPicPr/>
          <p:nvPr/>
        </p:nvPicPr>
        <p:blipFill>
          <a:blip r:embed="rId1"/>
          <a:stretch/>
        </p:blipFill>
        <p:spPr>
          <a:xfrm>
            <a:off x="1619280" y="2708280"/>
            <a:ext cx="619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музей народного декоративного искусства. Ки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D:\Wolpapers\Новая папка\______________________________________________________________________________________________21______._2.jpg"/>
          <p:cNvPicPr/>
          <p:nvPr/>
        </p:nvPicPr>
        <p:blipFill>
          <a:blip r:embed="rId1"/>
          <a:stretch/>
        </p:blipFill>
        <p:spPr>
          <a:xfrm>
            <a:off x="1476360" y="198900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Wolpapers\Новая папка\vasnetsov-kover-samol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цкий областной художественный муз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D:\Wolpapers\Новая папка\dc0ae81dd5c40d57df4cc9d4a8d8f1c7.jpg"/>
          <p:cNvPicPr/>
          <p:nvPr/>
        </p:nvPicPr>
        <p:blipFill>
          <a:blip r:embed="rId1"/>
          <a:stretch/>
        </p:blipFill>
        <p:spPr>
          <a:xfrm>
            <a:off x="1403280" y="2133720"/>
            <a:ext cx="6481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D:\Wolpapers\Новая папка\mini_na-zapravkax-logotip-ukrtatnafta-smenili-smajliki.jpg"/>
          <p:cNvPicPr/>
          <p:nvPr/>
        </p:nvPicPr>
        <p:blipFill>
          <a:blip r:embed="rId1"/>
          <a:stretch/>
        </p:blipFill>
        <p:spPr>
          <a:xfrm>
            <a:off x="1116000" y="2060640"/>
            <a:ext cx="2857680" cy="262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:\Wolpapers\Новая папка\643577.jpg"/>
          <p:cNvPicPr/>
          <p:nvPr/>
        </p:nvPicPr>
        <p:blipFill>
          <a:blip r:embed="rId2"/>
          <a:stretch/>
        </p:blipFill>
        <p:spPr>
          <a:xfrm>
            <a:off x="5364000" y="2421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Декоративно прикладное искусство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36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Wolpapers\Новая папка\Yak-54_pic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Wolpapers\Новая папка\moy_ca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Wolpapers\Новая папка\887893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D:\Wolpapers\Новая папка\repphoto_5226_8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Wolpapers\Новая папка\94fdлололр85969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ы декоративно-прикладног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предме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б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д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у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D:\Wolpapers\Новая папка\Meb1.jpg"/>
          <p:cNvPicPr/>
          <p:nvPr/>
        </p:nvPicPr>
        <p:blipFill>
          <a:blip r:embed="rId1"/>
          <a:stretch/>
        </p:blipFill>
        <p:spPr>
          <a:xfrm>
            <a:off x="6012000" y="2060640"/>
            <a:ext cx="2795400" cy="242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:\Wolpapers\Новая папка\33247622_1.jpg"/>
          <p:cNvPicPr/>
          <p:nvPr/>
        </p:nvPicPr>
        <p:blipFill>
          <a:blip r:embed="rId2"/>
          <a:stretch/>
        </p:blipFill>
        <p:spPr>
          <a:xfrm>
            <a:off x="539640" y="443700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:\Wolpapers\Новая папка\shmotv.jpg"/>
          <p:cNvPicPr/>
          <p:nvPr/>
        </p:nvPicPr>
        <p:blipFill>
          <a:blip r:embed="rId3"/>
          <a:stretch/>
        </p:blipFill>
        <p:spPr>
          <a:xfrm>
            <a:off x="4500720" y="4292640"/>
            <a:ext cx="19047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исполн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ьб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ись и т.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D:\Wolpapers\Новая папка\488.jpeg"/>
          <p:cNvPicPr/>
          <p:nvPr/>
        </p:nvPicPr>
        <p:blipFill>
          <a:blip r:embed="rId1"/>
          <a:stretch/>
        </p:blipFill>
        <p:spPr>
          <a:xfrm>
            <a:off x="6804000" y="1413000"/>
            <a:ext cx="2014560" cy="25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Wolpapers\Новая папка\kerstin_weben.jpg"/>
          <p:cNvPicPr/>
          <p:nvPr/>
        </p:nvPicPr>
        <p:blipFill>
          <a:blip r:embed="rId2"/>
          <a:stretch/>
        </p:blipFill>
        <p:spPr>
          <a:xfrm>
            <a:off x="900000" y="3933720"/>
            <a:ext cx="2190960" cy="253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Wolpapers\Новая папка\307719_3.jpg"/>
          <p:cNvPicPr/>
          <p:nvPr/>
        </p:nvPicPr>
        <p:blipFill>
          <a:blip r:embed="rId3"/>
          <a:stretch/>
        </p:blipFill>
        <p:spPr>
          <a:xfrm>
            <a:off x="4067280" y="4149720"/>
            <a:ext cx="30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20:24:05Z</dcterms:created>
  <dc:creator>1</dc:creator>
  <dc:description/>
  <dc:language>en-US</dc:language>
  <cp:lastModifiedBy>Admin</cp:lastModifiedBy>
  <dcterms:modified xsi:type="dcterms:W3CDTF">2011-11-21T08:34:32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d000000000001024140</vt:lpwstr>
  </property>
</Properties>
</file>