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DAF-D79C-4E1D-907C-BCB7145D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B1F-E86D-4565-A485-1517AE4B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F6F-0D94-460E-A0EC-0D6A99BD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C33-F3F8-4B5D-8B89-7F8D454A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DC21-A19E-4633-91F1-5C25717A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625-AA89-4F6D-B46B-C7AEAD1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5AB-E017-4993-AA02-4C3A6CB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00C-1BAD-4FF6-B66D-96A840C8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980C-211A-4F63-8EEB-A5B50A54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E41-73E7-4D08-B8CE-EC1EA38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52D8-1728-4EAC-A9CC-0BA7641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773-629F-49A4-9B59-DA301F57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71AE-D52C-43D4-9E3A-E2EBAC6C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302C-7F87-424C-B67F-31B5242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8FC6-F240-4077-BCD4-35BAABA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195-1682-4381-A74E-C359D58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F8F-3560-4F6A-B04D-720B42B1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A0FA-6F45-4D48-BDB2-272D5D58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EEC2-1DF5-4101-9735-BC306EF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589D-2009-4C92-BFC2-58231F7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D95B-BAFC-43EB-87F4-FF722640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17F1-54D3-4803-A9F9-264B09C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7BF-C783-4E9A-A8B2-578CBA7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1987-731A-42C0-8945-5F15D4C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D0A2-06D1-4A62-A545-B6F8C05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DF43-DA64-4F00-B1A4-5ADE1EF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2677-F7ED-48B9-BCAF-4DBF41E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F964-FD33-4B57-A1D8-922C4F5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998B-6781-4522-843B-98DED270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B978-48DF-4DF9-8571-5E2BFD24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EA1C-FBDF-4C11-93F6-F9241B21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8774-64D7-48C3-BAC5-CD28350B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2577-3338-4BC6-B992-653E2AF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35A-36F0-4E27-95CC-04E8AE8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D3F6-60B6-4E52-A8C7-67361EB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AA67-0EBB-4012-A90F-A50E6B1D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205D-B9E1-44B5-9161-AB73045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A339-9D1F-4EE2-AB2F-A14869E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9AA6-BDA2-4D02-853A-9F5B0B4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E299-4E32-4091-A2D4-C6BCE48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2B409-F179-4C25-B8BD-983B4EB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B10A-F4E5-4B98-9EEC-F957DB76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CF9A-DC5C-4E25-B6EE-3E52259F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3AB1-A360-49ED-95A8-EB3BE04E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6B5-48E1-4A44-AA36-94E12E17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E3A4-44E2-41B9-802F-7297BC89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B9F7-D81C-49B8-88E8-0FAFDC18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A392-B887-40B2-A384-A360186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555B-B98C-4745-A894-9EC6EA2D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0131-AC9A-49ED-8BBD-EF5B78FF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4CC3-B57C-44A5-A8F9-9258C0F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1AE5-FC96-4B45-9885-16E109C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18B3-A635-46D6-97D4-DDD9F41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E957-373C-4942-95EE-FA8C8DB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7011-59F0-40A5-9391-87E87456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B20-52E4-469C-8724-780FC3D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3220-174C-4A26-BE7E-B664530C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1A023-02EC-4EDF-92E7-2E505019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2EA8-AE05-4D8D-B9E3-1F32DEF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4BA5-9FE8-4389-B450-675EAC56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54C6-4CF8-4885-B3ED-37C0AADE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CD1A-C21A-41E9-B6CE-EB696FE0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2BCF-4FE3-4286-8E75-C74B2B45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35BB-C8EA-488D-8013-C198DB3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F496-D740-4B83-8B2D-A06FD96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FCDF-B782-4180-9E38-C765041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0F1-C243-4AF5-8E92-842828B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9023-DFC6-4D37-97FF-8B86BA1F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BDFB-10FB-405F-9C25-15009CB3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2599-CF13-4B80-BD2D-A2AFC19D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CB177-5049-431E-B3AB-913A3D6C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8EDE-1913-49E1-9640-44DA8F4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36F93-D6EF-4CC0-ACF0-A8D936AB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927B3-803C-4714-9500-B135383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DDBE-09DB-4095-BE11-C32B77E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E4682-356B-40EE-A9DC-845A4E0A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A900-8D1B-4505-A80C-3714DE5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E82-F939-4D8A-8CB7-B249AEA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FA66-D9B2-40DC-907C-510590EA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6717-5761-4D93-BA7A-025E246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6E83A-2C8F-4244-BAA4-16953A4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2703-0D40-4FD7-ACBA-AF021A21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0350-0D18-4B44-8860-9A7AA046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AC15-B9BD-49F7-993C-9073D343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93604-3A5D-4558-9B6F-493A350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452E4-D8E4-4A80-AE95-4DD9859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C7A1C-0A33-4BF5-AC16-76ECEEF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878D3-A0B9-4AB8-8457-8B7D416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A95-4782-4F47-97C8-15FC4D9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1089B-90CF-4784-AA1C-0415473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E77B2-59DC-40FB-A155-F7DA010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D0371-6085-4C1A-B3BD-C007193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077A6-3971-4151-81E8-C8595B60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A084D-4BBE-4562-BA1C-F31931A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11FE3-A335-477B-AB9E-123354FC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9A05-CFDE-45A5-B2BF-8D4FB838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622-DBCD-4DD0-BBBD-92E8D556D4D4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5F2-BCCB-4FB2-89E5-81C3B3B170AA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59D-F9CB-4C77-8C44-E58109EF8FBB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6BC1-DC30-48F3-9A28-431553A5FDE3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EAC-3A80-42E9-806B-BE965EA7A19D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71F-D3BD-4C3F-A5F9-F621D614B6F2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434D-27E9-4A79-952B-C1F292234DFF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DEE-C8F7-4AFE-BCA4-E4E5ADE5AFBF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443320" y="1481040"/>
            <a:ext cx="425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H:\МАТЕМАТИКА\Открытый урок\Производная\1 группа.jpg"/>
          <p:cNvPicPr/>
          <p:nvPr/>
        </p:nvPicPr>
        <p:blipFill>
          <a:blip r:embed="rId2"/>
          <a:stretch/>
        </p:blipFill>
        <p:spPr>
          <a:xfrm>
            <a:off x="3995640" y="1844640"/>
            <a:ext cx="5040360" cy="4421160"/>
          </a:xfrm>
          <a:prstGeom prst="rect">
            <a:avLst/>
          </a:prstGeom>
          <a:ln w="0">
            <a:noFill/>
          </a:ln>
        </p:spPr>
      </p:pic>
      <p:pic>
        <p:nvPicPr>
          <p:cNvPr id="417" name="Таблица 4" descr=""/>
          <p:cNvPicPr/>
          <p:nvPr/>
        </p:nvPicPr>
        <p:blipFill>
          <a:blip r:embed="rId3"/>
          <a:stretch/>
        </p:blipFill>
        <p:spPr>
          <a:xfrm>
            <a:off x="30240" y="3151080"/>
            <a:ext cx="4687920" cy="14875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5"/>
          <p:cNvCxnSpPr/>
          <p:nvPr/>
        </p:nvCxnSpPr>
        <p:spPr>
          <a:xfrm flipV="1">
            <a:off x="6806880" y="916704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6"/>
          <p:cNvCxnSpPr/>
          <p:nvPr/>
        </p:nvCxnSpPr>
        <p:spPr>
          <a:xfrm flipV="1">
            <a:off x="9302760" y="916740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7"/>
          <p:cNvCxnSpPr/>
          <p:nvPr/>
        </p:nvCxnSpPr>
        <p:spPr>
          <a:xfrm>
            <a:off x="8102520" y="914868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9"/>
          <p:cNvCxnSpPr/>
          <p:nvPr/>
        </p:nvCxnSpPr>
        <p:spPr>
          <a:xfrm>
            <a:off x="2340000" y="400500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1"/>
          <p:cNvCxnSpPr/>
          <p:nvPr/>
        </p:nvCxnSpPr>
        <p:spPr>
          <a:xfrm flipV="1">
            <a:off x="3850920" y="4005000"/>
            <a:ext cx="577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3"/>
          <p:cNvCxnSpPr/>
          <p:nvPr/>
        </p:nvCxnSpPr>
        <p:spPr>
          <a:xfrm flipV="1">
            <a:off x="684000" y="4004640"/>
            <a:ext cx="648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H:\МАТЕМАТИКА\Открытый урок\Производная\2 группа.jpg"/>
          <p:cNvPicPr/>
          <p:nvPr/>
        </p:nvPicPr>
        <p:blipFill>
          <a:blip r:embed="rId2"/>
          <a:stretch/>
        </p:blipFill>
        <p:spPr>
          <a:xfrm>
            <a:off x="4067280" y="1844640"/>
            <a:ext cx="491472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216000" y="3273480"/>
          <a:ext cx="4248000" cy="1096920"/>
        </p:xfrm>
        <a:graphic>
          <a:graphicData uri="http://schemas.openxmlformats.org/drawingml/2006/table">
            <a:tbl>
              <a:tblPr/>
              <a:tblGrid>
                <a:gridCol w="471240"/>
                <a:gridCol w="833760"/>
                <a:gridCol w="618840"/>
                <a:gridCol w="881280"/>
                <a:gridCol w="641160"/>
                <a:gridCol w="80172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1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1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28" name="Прямая со стрелкой 5"/>
          <p:cNvCxnSpPr/>
          <p:nvPr/>
        </p:nvCxnSpPr>
        <p:spPr>
          <a:xfrm flipV="1">
            <a:off x="2374920" y="3857400"/>
            <a:ext cx="39600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"/>
          <p:cNvCxnSpPr/>
          <p:nvPr/>
        </p:nvCxnSpPr>
        <p:spPr>
          <a:xfrm>
            <a:off x="3809880" y="3868200"/>
            <a:ext cx="4327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>
            <a:off x="900000" y="3868560"/>
            <a:ext cx="43272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:\МАТЕМАТИКА\Открытый урок\Производная\3 группа.png"/>
          <p:cNvPicPr/>
          <p:nvPr/>
        </p:nvPicPr>
        <p:blipFill>
          <a:blip r:embed="rId2"/>
          <a:stretch/>
        </p:blipFill>
        <p:spPr>
          <a:xfrm>
            <a:off x="4371840" y="1901880"/>
            <a:ext cx="4772160" cy="4390920"/>
          </a:xfrm>
          <a:prstGeom prst="rect">
            <a:avLst/>
          </a:prstGeom>
          <a:ln w="0">
            <a:noFill/>
          </a:ln>
        </p:spPr>
      </p:pic>
      <p:pic>
        <p:nvPicPr>
          <p:cNvPr id="434" name="Таблица 3" descr=""/>
          <p:cNvPicPr/>
          <p:nvPr/>
        </p:nvPicPr>
        <p:blipFill>
          <a:blip r:embed="rId3"/>
          <a:stretch/>
        </p:blipFill>
        <p:spPr>
          <a:xfrm>
            <a:off x="-36360" y="3067200"/>
            <a:ext cx="4608360" cy="1285560"/>
          </a:xfrm>
          <a:prstGeom prst="rect">
            <a:avLst/>
          </a:prstGeom>
          <a:ln w="0">
            <a:noFill/>
          </a:ln>
        </p:spPr>
      </p:pic>
      <p:cxnSp>
        <p:nvCxnSpPr>
          <p:cNvPr id="435" name="Прямая со стрелкой 5"/>
          <p:cNvCxnSpPr/>
          <p:nvPr/>
        </p:nvCxnSpPr>
        <p:spPr>
          <a:xfrm flipV="1">
            <a:off x="6806880" y="8135640"/>
            <a:ext cx="3243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6"/>
          <p:cNvCxnSpPr/>
          <p:nvPr/>
        </p:nvCxnSpPr>
        <p:spPr>
          <a:xfrm flipV="1">
            <a:off x="9302760" y="813528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7"/>
          <p:cNvCxnSpPr/>
          <p:nvPr/>
        </p:nvCxnSpPr>
        <p:spPr>
          <a:xfrm>
            <a:off x="8102520" y="8116560"/>
            <a:ext cx="2955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9"/>
          <p:cNvCxnSpPr/>
          <p:nvPr/>
        </p:nvCxnSpPr>
        <p:spPr>
          <a:xfrm flipV="1">
            <a:off x="61128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11"/>
          <p:cNvCxnSpPr/>
          <p:nvPr/>
        </p:nvCxnSpPr>
        <p:spPr>
          <a:xfrm>
            <a:off x="219564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 flipV="1">
            <a:off x="3708000" y="3789000"/>
            <a:ext cx="577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H:\МАТЕМАТИКА\Открытый урок\Производная\4 группа.jpg"/>
          <p:cNvPicPr/>
          <p:nvPr/>
        </p:nvPicPr>
        <p:blipFill>
          <a:blip r:embed="rId2"/>
          <a:stretch/>
        </p:blipFill>
        <p:spPr>
          <a:xfrm>
            <a:off x="4299120" y="1844640"/>
            <a:ext cx="4681440" cy="4388040"/>
          </a:xfrm>
          <a:prstGeom prst="rect">
            <a:avLst/>
          </a:prstGeom>
          <a:ln w="0">
            <a:noFill/>
          </a:ln>
        </p:spPr>
      </p:pic>
      <p:pic>
        <p:nvPicPr>
          <p:cNvPr id="444" name="Таблица 4" descr=""/>
          <p:cNvPicPr/>
          <p:nvPr/>
        </p:nvPicPr>
        <p:blipFill>
          <a:blip r:embed="rId3"/>
          <a:stretch/>
        </p:blipFill>
        <p:spPr>
          <a:xfrm>
            <a:off x="36360" y="1627200"/>
            <a:ext cx="5450040" cy="1768320"/>
          </a:xfrm>
          <a:prstGeom prst="rect">
            <a:avLst/>
          </a:prstGeom>
          <a:ln w="0">
            <a:noFill/>
          </a:ln>
        </p:spPr>
      </p:pic>
      <p:cxnSp>
        <p:nvCxnSpPr>
          <p:cNvPr id="445" name="Прямая со стрелкой 5"/>
          <p:cNvCxnSpPr/>
          <p:nvPr/>
        </p:nvCxnSpPr>
        <p:spPr>
          <a:xfrm flipV="1">
            <a:off x="1042920" y="263664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6"/>
          <p:cNvCxnSpPr/>
          <p:nvPr/>
        </p:nvCxnSpPr>
        <p:spPr>
          <a:xfrm flipV="1">
            <a:off x="3563640" y="2679120"/>
            <a:ext cx="324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7"/>
          <p:cNvCxnSpPr/>
          <p:nvPr/>
        </p:nvCxnSpPr>
        <p:spPr>
          <a:xfrm>
            <a:off x="2410920" y="2651040"/>
            <a:ext cx="2962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8"/>
          <p:cNvCxnSpPr/>
          <p:nvPr/>
        </p:nvCxnSpPr>
        <p:spPr>
          <a:xfrm>
            <a:off x="4716360" y="2674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H:\МАТЕМАТИКА\Открытый урок\Производная\5 Группа.jpg"/>
          <p:cNvPicPr/>
          <p:nvPr/>
        </p:nvPicPr>
        <p:blipFill>
          <a:blip r:embed="rId2"/>
          <a:stretch/>
        </p:blipFill>
        <p:spPr>
          <a:xfrm>
            <a:off x="4667400" y="1916280"/>
            <a:ext cx="4479840" cy="4408200"/>
          </a:xfrm>
          <a:prstGeom prst="rect">
            <a:avLst/>
          </a:prstGeom>
          <a:ln w="0">
            <a:noFill/>
          </a:ln>
        </p:spPr>
      </p:pic>
      <p:pic>
        <p:nvPicPr>
          <p:cNvPr id="452" name="Таблица 4" descr=""/>
          <p:cNvPicPr/>
          <p:nvPr/>
        </p:nvPicPr>
        <p:blipFill>
          <a:blip r:embed="rId3"/>
          <a:stretch/>
        </p:blipFill>
        <p:spPr>
          <a:xfrm>
            <a:off x="-42840" y="4290840"/>
            <a:ext cx="51213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5"/>
          <p:cNvCxnSpPr/>
          <p:nvPr/>
        </p:nvCxnSpPr>
        <p:spPr>
          <a:xfrm flipV="1">
            <a:off x="4211640" y="497016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6"/>
          <p:cNvCxnSpPr/>
          <p:nvPr/>
        </p:nvCxnSpPr>
        <p:spPr>
          <a:xfrm flipV="1">
            <a:off x="1908000" y="495072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7"/>
          <p:cNvCxnSpPr/>
          <p:nvPr/>
        </p:nvCxnSpPr>
        <p:spPr>
          <a:xfrm>
            <a:off x="703440" y="4960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3059280" y="494172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467560" cy="2676600"/>
          </a:xfrm>
          <a:prstGeom prst="rect">
            <a:avLst/>
          </a:prstGeom>
          <a:ln w="0">
            <a:noFill/>
          </a:ln>
        </p:spPr>
      </p:pic>
      <p:pic>
        <p:nvPicPr>
          <p:cNvPr id="37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3535200"/>
            <a:ext cx="7948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69520" cy="134136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4" descr="H:\МАТЕМАТИКА\Открытый урок\Производная\0 группа.jpg"/>
          <p:cNvPicPr/>
          <p:nvPr/>
        </p:nvPicPr>
        <p:blipFill>
          <a:blip r:embed="rId2"/>
          <a:stretch/>
        </p:blipFill>
        <p:spPr>
          <a:xfrm>
            <a:off x="1332000" y="1341360"/>
            <a:ext cx="6278400" cy="4756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8349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038400" y="2421000"/>
            <a:ext cx="30672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376360" y="1758960"/>
            <a:ext cx="4391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область определ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чётность, нечётность и периодичность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нули функции (точки пересечения графика функции с осями координат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монотонность (найти промежутки возрастания и убывания функции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точки экстремума и экстремальные знач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дополнительные точки (если нужно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321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2" descr=""/>
          <p:cNvPicPr/>
          <p:nvPr/>
        </p:nvPicPr>
        <p:blipFill>
          <a:blip r:embed="rId2"/>
          <a:stretch/>
        </p:blipFill>
        <p:spPr>
          <a:xfrm>
            <a:off x="390600" y="73080"/>
            <a:ext cx="8315280" cy="609480"/>
          </a:xfrm>
          <a:prstGeom prst="rect">
            <a:avLst/>
          </a:prstGeom>
          <a:ln w="0">
            <a:noFill/>
          </a:ln>
        </p:spPr>
      </p:pic>
      <p:sp>
        <p:nvSpPr>
          <p:cNvPr id="384" name="Стрелка вправо 3"/>
          <p:cNvSpPr/>
          <p:nvPr/>
        </p:nvSpPr>
        <p:spPr>
          <a:xfrm>
            <a:off x="2843280" y="2205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Стрелка вправо 4"/>
          <p:cNvSpPr/>
          <p:nvPr/>
        </p:nvSpPr>
        <p:spPr>
          <a:xfrm>
            <a:off x="5292720" y="15858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Стрелка вправо 5"/>
          <p:cNvSpPr/>
          <p:nvPr/>
        </p:nvSpPr>
        <p:spPr>
          <a:xfrm>
            <a:off x="3780000" y="1366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Стрелка вправо 6"/>
          <p:cNvSpPr/>
          <p:nvPr/>
        </p:nvSpPr>
        <p:spPr>
          <a:xfrm>
            <a:off x="2556000" y="4221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Стрелка вправо 7"/>
          <p:cNvSpPr/>
          <p:nvPr/>
        </p:nvSpPr>
        <p:spPr>
          <a:xfrm>
            <a:off x="219564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Стрелка вправо 8"/>
          <p:cNvSpPr/>
          <p:nvPr/>
        </p:nvSpPr>
        <p:spPr>
          <a:xfrm>
            <a:off x="1042920" y="393372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Стрелка вправо 9"/>
          <p:cNvSpPr/>
          <p:nvPr/>
        </p:nvSpPr>
        <p:spPr>
          <a:xfrm>
            <a:off x="4788000" y="41641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-1)=3*(-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(-1)=3+6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1)=3*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1=3-6=-3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-3&l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3)=3*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3=27-18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Lucida Sans Unicode"/>
              </a:rPr>
              <a:t>5. Точки экстремума. Экстремальные значения    функци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2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0;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8-12+2=-2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2;-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3880" y="765000"/>
          <a:ext cx="5688000" cy="1727280"/>
        </p:xfrm>
        <a:graphic>
          <a:graphicData uri="http://schemas.openxmlformats.org/drawingml/2006/table">
            <a:tbl>
              <a:tblPr/>
              <a:tblGrid>
                <a:gridCol w="566640"/>
                <a:gridCol w="1112760"/>
                <a:gridCol w="855720"/>
                <a:gridCol w="1148040"/>
                <a:gridCol w="857160"/>
                <a:gridCol w="1147680"/>
              </a:tblGrid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393" name="Прямая со стрелкой 4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Прямая со стрелкой 5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6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Прямая со стрелкой 8"/>
          <p:cNvCxnSpPr/>
          <p:nvPr/>
        </p:nvCxnSpPr>
        <p:spPr>
          <a:xfrm flipV="1">
            <a:off x="2484360" y="1628280"/>
            <a:ext cx="93600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7" name="Прямая со стрелкой 10"/>
          <p:cNvCxnSpPr/>
          <p:nvPr/>
        </p:nvCxnSpPr>
        <p:spPr>
          <a:xfrm>
            <a:off x="4427280" y="1677960"/>
            <a:ext cx="93708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8" name="Прямая со стрелкой 12"/>
          <p:cNvCxnSpPr/>
          <p:nvPr/>
        </p:nvCxnSpPr>
        <p:spPr>
          <a:xfrm flipV="1">
            <a:off x="6386400" y="1690200"/>
            <a:ext cx="1008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9" name="Стрелка вправо 13"/>
          <p:cNvSpPr/>
          <p:nvPr/>
        </p:nvSpPr>
        <p:spPr>
          <a:xfrm>
            <a:off x="1835280" y="4518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>
            <a:off x="4427640" y="452448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>
            <a:off x="183528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Стрелка вправо 16"/>
          <p:cNvSpPr/>
          <p:nvPr/>
        </p:nvSpPr>
        <p:spPr>
          <a:xfrm>
            <a:off x="5580000" y="4795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3" descr="H:\МАТЕМАТИКА\Открытый урок\Производная\мой график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705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50920" y="1125360"/>
          <a:ext cx="4465440" cy="1097280"/>
        </p:xfrm>
        <a:graphic>
          <a:graphicData uri="http://schemas.openxmlformats.org/drawingml/2006/table">
            <a:tbl>
              <a:tblPr/>
              <a:tblGrid>
                <a:gridCol w="446040"/>
                <a:gridCol w="873000"/>
                <a:gridCol w="671760"/>
                <a:gridCol w="901440"/>
                <a:gridCol w="671760"/>
                <a:gridCol w="90144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05" name="Прямая со стрелкой 5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6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Прямая со стрелкой 7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2"/>
          <p:cNvCxnSpPr/>
          <p:nvPr/>
        </p:nvCxnSpPr>
        <p:spPr>
          <a:xfrm flipV="1">
            <a:off x="755280" y="1699920"/>
            <a:ext cx="648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2268000" y="1700280"/>
            <a:ext cx="791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V="1">
            <a:off x="3850920" y="1672560"/>
            <a:ext cx="8658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47:16Z</dcterms:created>
  <dc:creator>Lex</dc:creator>
  <dc:description/>
  <dc:language>en-US</dc:language>
  <cp:lastModifiedBy>Admin</cp:lastModifiedBy>
  <dcterms:modified xsi:type="dcterms:W3CDTF">2012-01-15T09:23:31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7000000000001024140</vt:lpwstr>
  </property>
</Properties>
</file>