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C9D-67C4-4972-B9AB-86B42044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98F-A77C-4E8C-94EC-EC012709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C4A-1C09-4B14-B405-B7BB88A4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A6E-5CD1-4571-AA15-C633AEA8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72CE-A4D2-4756-B056-C21403F3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E208-8DAD-444B-8002-520F0F38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1A12-B2FE-490B-9B34-51F7E153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4287-14D2-4D8E-89E0-D48864B7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7263-FA14-46AF-A921-49337CDB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D565-3234-4345-8CE3-28FCF299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F106-824D-4776-9A4D-4EF368D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B74-A6A7-448E-AA38-0DA9BA6F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3067-B801-4EFB-9857-E57F3AB5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B1D0-091E-4BDC-B4DA-2972356D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1692-571D-4337-8FCB-F9BC9A32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7EBB-282A-4767-9578-027AC105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F832-D056-4E63-AA6E-FA396F95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D4FD-D40D-4E6B-9D43-11F3CC3D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1FD5F-6256-4607-BA5E-8E6E8E48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5558-537A-49E4-884C-093577E4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0ABA3-1DE4-44D6-9B4D-4D2D59C3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86466-E7C5-4985-830F-C6B80862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939-DB8B-4398-B68B-E450F6C5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28FF-FFDF-4433-B733-DAD7FDC0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4DDD-4DDC-4A60-A5D4-CC003745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792E-7B64-43C7-8B57-D53BDA0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44F3-644D-4547-AC2D-252DFA87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AD3E-39E5-49A2-A46F-648B462F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4866-9120-4489-9C79-467474AF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DD733-444B-4C26-AFCC-971434BD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ED7F1-C9EA-4298-8DD0-8F71717B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07A6-BB91-40C3-A40E-162F0D4C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AAF4-47ED-45F0-9EAF-400DF26D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E70-EF7A-43C2-B7E2-F717AF6D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7EF89-4126-46DE-91BE-20CC6318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DE0A7-D2E9-4621-8E4E-5CC77C19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2B2E-53AC-4768-B44D-8029903F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7CC82-06E5-4F7E-A0F0-FC8F4B83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66FE4-BEB6-43F4-9725-68AB73E7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FDAAB-923D-4F24-987B-66825A91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BC64-D58C-4D8C-9D53-F107637F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17E3-7A5D-43E1-A1DB-AE27B23E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77F81-9CE9-47DD-A9AE-60163C5C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D827F-D130-4CB3-AD57-0201BBBE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5A4-88D1-4ECA-A217-E3185DD2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01BC-BF57-4F45-8803-E0294113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2177D-0CC8-4F52-9DF9-0E7777AA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D7341-A084-4A55-8730-45224498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996D8-E511-4E1F-92BE-492A5B6D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B60BF-A9AE-4614-B1CB-E37CD3B1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EF9C0-3DE2-4AA8-8649-84D38FCF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B7136-81C9-4AF9-B60D-F6A0141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4EF4D-0030-4212-BD0E-42AA8162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684DF-193F-4622-93F9-20A0A243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BD7E-264E-4193-BD19-9073035F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E28-3611-4E5A-BB7E-45DCB19B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DDA9-082F-4E04-8E10-B3A1CF7E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6DB1D-5D94-427F-907A-21035D9B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AFB19-B320-46F7-AC8C-56C100BC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12480-0109-4309-B4EE-5799E113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6AE4-A18D-40C9-AB25-4C4DCF18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767FE-E1FE-4798-822B-5C803C83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64D6A-6D2E-4821-81A6-C276900C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0ACF0-DE7F-4A51-941E-A508D9B5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55F13-8313-444B-8B0B-E46F84BF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5306-945E-4C1F-AA99-5C70F80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A9E-E064-406C-B07B-89DEFB1B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C725-27FC-4F3C-B079-FE889216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C9ADC-1332-47E5-8DAE-5C7B0832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E20E3-532C-498E-A449-D91DD5E7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6B6FB-CE23-4C6D-97F1-08E4784E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14A5B-3738-4391-A06B-5E2D6DDD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216C5-0D68-430F-9C00-CA3D8928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3B289-C6B6-41D1-9FCA-8B5AF81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4BAB1-DC35-4747-BD43-7D870B00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18D36-629C-410B-B9CA-B8257F49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6269B-2D89-4731-BB8B-05352BCA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A5E-771D-4A2E-BBE6-3615CCD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CA2DC-D94E-44D2-A277-F9FAC606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7583F-A493-49A4-915E-E7E7CA38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0D779-5E86-4390-9B3D-7507FAC5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82F4D-6B1C-4AF1-9C7B-CCBFBD8D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C6516-016D-467A-96A5-455D4457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71DE7-7E11-4380-979D-D7FB077C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0D19E-CE49-489B-83BB-519D907C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CA39B-379F-4011-99D8-C6B6418A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DBB14-09AE-456C-BFBA-BC74AB82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1A75E-E6BA-4BC3-8C68-E19BE0A1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F68-9493-4888-933E-16216378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79CE1-A983-458D-B6DC-FAF716C9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29A6-D331-4B14-BBD3-91602D4D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3CE6F-11DD-4B69-B7C4-7D7CC32E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41C06-73B0-4BD1-B821-051D957E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04AAD-1489-4ED9-98A0-DFE1C8DF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2C3AC-7A49-487B-AD64-F525BDCA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708C5-D316-4306-AC97-9FC49A95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EDD0-4289-490F-8377-9D8A132F6F3B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0113-CAFA-4DE7-8470-87F4FBC63190}" type="slidenum"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698E-A903-4B19-A8A2-063EBFA83603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9450-E9D5-4513-9015-39E8AB3F31B8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0726-FE1F-4FD3-9CCF-4824912BDD8B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628F-9D9E-4A97-A007-4E3BD62DEF1D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766B-6E17-40BB-9BA1-F293472F4079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7394-7ADD-4F0A-AC21-86887EE9634E}" type="slidenum"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443320" y="1481040"/>
            <a:ext cx="425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 группа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группа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038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11523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3" descr="H:\МАТЕМАТИКА\Открытый урок\Производная\1 группа.jpg"/>
          <p:cNvPicPr/>
          <p:nvPr/>
        </p:nvPicPr>
        <p:blipFill>
          <a:blip r:embed="rId2"/>
          <a:stretch/>
        </p:blipFill>
        <p:spPr>
          <a:xfrm>
            <a:off x="3995640" y="1844640"/>
            <a:ext cx="5040360" cy="4421160"/>
          </a:xfrm>
          <a:prstGeom prst="rect">
            <a:avLst/>
          </a:prstGeom>
          <a:ln w="0">
            <a:noFill/>
          </a:ln>
        </p:spPr>
      </p:pic>
      <p:pic>
        <p:nvPicPr>
          <p:cNvPr id="417" name="Таблица 4" descr=""/>
          <p:cNvPicPr/>
          <p:nvPr/>
        </p:nvPicPr>
        <p:blipFill>
          <a:blip r:embed="rId3"/>
          <a:stretch/>
        </p:blipFill>
        <p:spPr>
          <a:xfrm>
            <a:off x="30240" y="3151080"/>
            <a:ext cx="4687920" cy="1487520"/>
          </a:xfrm>
          <a:prstGeom prst="rect">
            <a:avLst/>
          </a:prstGeom>
          <a:ln w="0">
            <a:noFill/>
          </a:ln>
        </p:spPr>
      </p:pic>
      <p:cxnSp>
        <p:nvCxnSpPr>
          <p:cNvPr id="418" name="Прямая со стрелкой 5"/>
          <p:cNvCxnSpPr/>
          <p:nvPr/>
        </p:nvCxnSpPr>
        <p:spPr>
          <a:xfrm flipV="1">
            <a:off x="6806880" y="916704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Прямая со стрелкой 6"/>
          <p:cNvCxnSpPr/>
          <p:nvPr/>
        </p:nvCxnSpPr>
        <p:spPr>
          <a:xfrm flipV="1">
            <a:off x="9302760" y="916740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Прямая со стрелкой 7"/>
          <p:cNvCxnSpPr/>
          <p:nvPr/>
        </p:nvCxnSpPr>
        <p:spPr>
          <a:xfrm>
            <a:off x="8102520" y="914868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Прямая со стрелкой 9"/>
          <p:cNvCxnSpPr/>
          <p:nvPr/>
        </p:nvCxnSpPr>
        <p:spPr>
          <a:xfrm>
            <a:off x="2340000" y="4005000"/>
            <a:ext cx="5040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Прямая со стрелкой 11"/>
          <p:cNvCxnSpPr/>
          <p:nvPr/>
        </p:nvCxnSpPr>
        <p:spPr>
          <a:xfrm flipV="1">
            <a:off x="3850920" y="4005000"/>
            <a:ext cx="577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Прямая со стрелкой 13"/>
          <p:cNvCxnSpPr/>
          <p:nvPr/>
        </p:nvCxnSpPr>
        <p:spPr>
          <a:xfrm flipV="1">
            <a:off x="684000" y="4004640"/>
            <a:ext cx="648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3" descr="H:\МАТЕМАТИКА\Открытый урок\Производная\2 группа.jpg"/>
          <p:cNvPicPr/>
          <p:nvPr/>
        </p:nvPicPr>
        <p:blipFill>
          <a:blip r:embed="rId2"/>
          <a:stretch/>
        </p:blipFill>
        <p:spPr>
          <a:xfrm>
            <a:off x="4067280" y="1844640"/>
            <a:ext cx="4914720" cy="45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216000" y="3273480"/>
          <a:ext cx="4248000" cy="1096920"/>
        </p:xfrm>
        <a:graphic>
          <a:graphicData uri="http://schemas.openxmlformats.org/drawingml/2006/table">
            <a:tbl>
              <a:tblPr/>
              <a:tblGrid>
                <a:gridCol w="471240"/>
                <a:gridCol w="833760"/>
                <a:gridCol w="618840"/>
                <a:gridCol w="881280"/>
                <a:gridCol w="641160"/>
                <a:gridCol w="801720"/>
              </a:tblGrid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1;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1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428" name="Прямая со стрелкой 5"/>
          <p:cNvCxnSpPr/>
          <p:nvPr/>
        </p:nvCxnSpPr>
        <p:spPr>
          <a:xfrm flipV="1">
            <a:off x="2374920" y="3857400"/>
            <a:ext cx="39600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9" name="Прямая со стрелкой 6"/>
          <p:cNvCxnSpPr/>
          <p:nvPr/>
        </p:nvCxnSpPr>
        <p:spPr>
          <a:xfrm>
            <a:off x="3809880" y="3868200"/>
            <a:ext cx="43272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Прямая со стрелкой 7"/>
          <p:cNvCxnSpPr/>
          <p:nvPr/>
        </p:nvCxnSpPr>
        <p:spPr>
          <a:xfrm>
            <a:off x="900000" y="3868560"/>
            <a:ext cx="43272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H:\МАТЕМАТИКА\Открытый урок\Производная\3 группа.png"/>
          <p:cNvPicPr/>
          <p:nvPr/>
        </p:nvPicPr>
        <p:blipFill>
          <a:blip r:embed="rId2"/>
          <a:stretch/>
        </p:blipFill>
        <p:spPr>
          <a:xfrm>
            <a:off x="4371840" y="1901880"/>
            <a:ext cx="4772160" cy="4390920"/>
          </a:xfrm>
          <a:prstGeom prst="rect">
            <a:avLst/>
          </a:prstGeom>
          <a:ln w="0">
            <a:noFill/>
          </a:ln>
        </p:spPr>
      </p:pic>
      <p:pic>
        <p:nvPicPr>
          <p:cNvPr id="434" name="Таблица 3" descr=""/>
          <p:cNvPicPr/>
          <p:nvPr/>
        </p:nvPicPr>
        <p:blipFill>
          <a:blip r:embed="rId3"/>
          <a:stretch/>
        </p:blipFill>
        <p:spPr>
          <a:xfrm>
            <a:off x="-36360" y="3067200"/>
            <a:ext cx="4608360" cy="1285560"/>
          </a:xfrm>
          <a:prstGeom prst="rect">
            <a:avLst/>
          </a:prstGeom>
          <a:ln w="0">
            <a:noFill/>
          </a:ln>
        </p:spPr>
      </p:pic>
      <p:cxnSp>
        <p:nvCxnSpPr>
          <p:cNvPr id="435" name="Прямая со стрелкой 5"/>
          <p:cNvCxnSpPr/>
          <p:nvPr/>
        </p:nvCxnSpPr>
        <p:spPr>
          <a:xfrm flipV="1">
            <a:off x="6806880" y="8135640"/>
            <a:ext cx="32436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Прямая со стрелкой 6"/>
          <p:cNvCxnSpPr/>
          <p:nvPr/>
        </p:nvCxnSpPr>
        <p:spPr>
          <a:xfrm flipV="1">
            <a:off x="9302760" y="8135280"/>
            <a:ext cx="3247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Прямая со стрелкой 7"/>
          <p:cNvCxnSpPr/>
          <p:nvPr/>
        </p:nvCxnSpPr>
        <p:spPr>
          <a:xfrm>
            <a:off x="8102520" y="8116560"/>
            <a:ext cx="2955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8" name="Прямая со стрелкой 9"/>
          <p:cNvCxnSpPr/>
          <p:nvPr/>
        </p:nvCxnSpPr>
        <p:spPr>
          <a:xfrm flipV="1">
            <a:off x="611280" y="3789000"/>
            <a:ext cx="505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9" name="Прямая со стрелкой 11"/>
          <p:cNvCxnSpPr/>
          <p:nvPr/>
        </p:nvCxnSpPr>
        <p:spPr>
          <a:xfrm>
            <a:off x="2195640" y="3789000"/>
            <a:ext cx="505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0" name="Прямая со стрелкой 13"/>
          <p:cNvCxnSpPr/>
          <p:nvPr/>
        </p:nvCxnSpPr>
        <p:spPr>
          <a:xfrm flipV="1">
            <a:off x="3708000" y="3789000"/>
            <a:ext cx="577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3" descr="H:\МАТЕМАТИКА\Открытый урок\Производная\4 группа.jpg"/>
          <p:cNvPicPr/>
          <p:nvPr/>
        </p:nvPicPr>
        <p:blipFill>
          <a:blip r:embed="rId2"/>
          <a:stretch/>
        </p:blipFill>
        <p:spPr>
          <a:xfrm>
            <a:off x="4299120" y="1844640"/>
            <a:ext cx="4681440" cy="4388040"/>
          </a:xfrm>
          <a:prstGeom prst="rect">
            <a:avLst/>
          </a:prstGeom>
          <a:ln w="0">
            <a:noFill/>
          </a:ln>
        </p:spPr>
      </p:pic>
      <p:pic>
        <p:nvPicPr>
          <p:cNvPr id="444" name="Таблица 4" descr=""/>
          <p:cNvPicPr/>
          <p:nvPr/>
        </p:nvPicPr>
        <p:blipFill>
          <a:blip r:embed="rId3"/>
          <a:stretch/>
        </p:blipFill>
        <p:spPr>
          <a:xfrm>
            <a:off x="36360" y="1627200"/>
            <a:ext cx="5450040" cy="1768320"/>
          </a:xfrm>
          <a:prstGeom prst="rect">
            <a:avLst/>
          </a:prstGeom>
          <a:ln w="0">
            <a:noFill/>
          </a:ln>
        </p:spPr>
      </p:pic>
      <p:cxnSp>
        <p:nvCxnSpPr>
          <p:cNvPr id="445" name="Прямая со стрелкой 5"/>
          <p:cNvCxnSpPr/>
          <p:nvPr/>
        </p:nvCxnSpPr>
        <p:spPr>
          <a:xfrm flipV="1">
            <a:off x="1042920" y="2636640"/>
            <a:ext cx="32472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6"/>
          <p:cNvCxnSpPr/>
          <p:nvPr/>
        </p:nvCxnSpPr>
        <p:spPr>
          <a:xfrm flipV="1">
            <a:off x="3563640" y="2679120"/>
            <a:ext cx="3243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Прямая со стрелкой 7"/>
          <p:cNvCxnSpPr/>
          <p:nvPr/>
        </p:nvCxnSpPr>
        <p:spPr>
          <a:xfrm>
            <a:off x="2410920" y="2651040"/>
            <a:ext cx="2962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Прямая со стрелкой 8"/>
          <p:cNvCxnSpPr/>
          <p:nvPr/>
        </p:nvCxnSpPr>
        <p:spPr>
          <a:xfrm>
            <a:off x="4716360" y="267480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3" descr="H:\МАТЕМАТИКА\Открытый урок\Производная\5 Группа.jpg"/>
          <p:cNvPicPr/>
          <p:nvPr/>
        </p:nvPicPr>
        <p:blipFill>
          <a:blip r:embed="rId2"/>
          <a:stretch/>
        </p:blipFill>
        <p:spPr>
          <a:xfrm>
            <a:off x="4667400" y="1916280"/>
            <a:ext cx="4479840" cy="4408200"/>
          </a:xfrm>
          <a:prstGeom prst="rect">
            <a:avLst/>
          </a:prstGeom>
          <a:ln w="0">
            <a:noFill/>
          </a:ln>
        </p:spPr>
      </p:pic>
      <p:pic>
        <p:nvPicPr>
          <p:cNvPr id="452" name="Таблица 4" descr=""/>
          <p:cNvPicPr/>
          <p:nvPr/>
        </p:nvPicPr>
        <p:blipFill>
          <a:blip r:embed="rId3"/>
          <a:stretch/>
        </p:blipFill>
        <p:spPr>
          <a:xfrm>
            <a:off x="-42840" y="4290840"/>
            <a:ext cx="5121360" cy="1244880"/>
          </a:xfrm>
          <a:prstGeom prst="rect">
            <a:avLst/>
          </a:prstGeom>
          <a:ln w="0">
            <a:noFill/>
          </a:ln>
        </p:spPr>
      </p:pic>
      <p:cxnSp>
        <p:nvCxnSpPr>
          <p:cNvPr id="453" name="Прямая со стрелкой 5"/>
          <p:cNvCxnSpPr/>
          <p:nvPr/>
        </p:nvCxnSpPr>
        <p:spPr>
          <a:xfrm flipV="1">
            <a:off x="4211640" y="4970160"/>
            <a:ext cx="32472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Прямая со стрелкой 6"/>
          <p:cNvCxnSpPr/>
          <p:nvPr/>
        </p:nvCxnSpPr>
        <p:spPr>
          <a:xfrm flipV="1">
            <a:off x="1908000" y="4950720"/>
            <a:ext cx="3247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Прямая со стрелкой 7"/>
          <p:cNvCxnSpPr/>
          <p:nvPr/>
        </p:nvCxnSpPr>
        <p:spPr>
          <a:xfrm>
            <a:off x="703440" y="496080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Прямая со стрелкой 8"/>
          <p:cNvCxnSpPr/>
          <p:nvPr/>
        </p:nvCxnSpPr>
        <p:spPr>
          <a:xfrm>
            <a:off x="3059280" y="494172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2309760" y="1481040"/>
            <a:ext cx="452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8467560" cy="2676600"/>
          </a:xfrm>
          <a:prstGeom prst="rect">
            <a:avLst/>
          </a:prstGeom>
          <a:ln w="0">
            <a:noFill/>
          </a:ln>
        </p:spPr>
      </p:pic>
      <p:pic>
        <p:nvPicPr>
          <p:cNvPr id="372" name="Подзаголовок 2" descr=""/>
          <p:cNvPicPr/>
          <p:nvPr/>
        </p:nvPicPr>
        <p:blipFill>
          <a:blip r:embed="rId2"/>
          <a:stretch/>
        </p:blipFill>
        <p:spPr>
          <a:xfrm>
            <a:off x="682560" y="3535200"/>
            <a:ext cx="79488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669520" cy="1341360"/>
          </a:xfrm>
          <a:prstGeom prst="rect">
            <a:avLst/>
          </a:prstGeom>
          <a:ln w="0">
            <a:noFill/>
          </a:ln>
        </p:spPr>
      </p:pic>
      <p:pic>
        <p:nvPicPr>
          <p:cNvPr id="374" name="Объект 4" descr="H:\МАТЕМАТИКА\Открытый урок\Производная\0 группа.jpg"/>
          <p:cNvPicPr/>
          <p:nvPr/>
        </p:nvPicPr>
        <p:blipFill>
          <a:blip r:embed="rId2"/>
          <a:stretch/>
        </p:blipFill>
        <p:spPr>
          <a:xfrm>
            <a:off x="1332000" y="1341360"/>
            <a:ext cx="6278400" cy="4756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7020000" y="4292640"/>
            <a:ext cx="18349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2011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3038400" y="2421000"/>
            <a:ext cx="306720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2376360" y="1758960"/>
            <a:ext cx="43912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область определения функ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сследовать функцию на чётность, нечётность и периодичность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нули функции (точки пересечения графика функции с осями координат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сследовать функцию на монотонность (найти промежутки возрастания и убывания функции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точки экстремума и экстремальные значения функ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дополнительные точки (если нужно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строить график функции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9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Объект 1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242560" cy="532116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2" descr=""/>
          <p:cNvPicPr/>
          <p:nvPr/>
        </p:nvPicPr>
        <p:blipFill>
          <a:blip r:embed="rId2"/>
          <a:stretch/>
        </p:blipFill>
        <p:spPr>
          <a:xfrm>
            <a:off x="390600" y="73080"/>
            <a:ext cx="8315280" cy="609480"/>
          </a:xfrm>
          <a:prstGeom prst="rect">
            <a:avLst/>
          </a:prstGeom>
          <a:ln w="0">
            <a:noFill/>
          </a:ln>
        </p:spPr>
      </p:pic>
      <p:sp>
        <p:nvSpPr>
          <p:cNvPr id="384" name="Стрелка вправо 3"/>
          <p:cNvSpPr/>
          <p:nvPr/>
        </p:nvSpPr>
        <p:spPr>
          <a:xfrm>
            <a:off x="2843280" y="2205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Стрелка вправо 4"/>
          <p:cNvSpPr/>
          <p:nvPr/>
        </p:nvSpPr>
        <p:spPr>
          <a:xfrm>
            <a:off x="5292720" y="15858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Стрелка вправо 5"/>
          <p:cNvSpPr/>
          <p:nvPr/>
        </p:nvSpPr>
        <p:spPr>
          <a:xfrm>
            <a:off x="3780000" y="13669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Стрелка вправо 6"/>
          <p:cNvSpPr/>
          <p:nvPr/>
        </p:nvSpPr>
        <p:spPr>
          <a:xfrm>
            <a:off x="2556000" y="4221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Стрелка вправо 7"/>
          <p:cNvSpPr/>
          <p:nvPr/>
        </p:nvSpPr>
        <p:spPr>
          <a:xfrm>
            <a:off x="2195640" y="486900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Стрелка вправо 8"/>
          <p:cNvSpPr/>
          <p:nvPr/>
        </p:nvSpPr>
        <p:spPr>
          <a:xfrm>
            <a:off x="1042920" y="393372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Стрелка вправо 9"/>
          <p:cNvSpPr/>
          <p:nvPr/>
        </p:nvSpPr>
        <p:spPr>
          <a:xfrm>
            <a:off x="4788000" y="41641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-1)=3*(-1)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(-1)=3+6=9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9&g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1)=3*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1=3-6=-3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-3&l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3)=3*3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3=27-18=9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9&g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Lucida Sans Unicode"/>
              </a:rPr>
              <a:t>5. Точки экстремума. Экстремальные значения    функции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0            y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3*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+2=2           </a:t>
            </a:r>
            <a:r>
              <a:rPr b="1" lang="en-US" sz="1500" spc="-1" strike="noStrike">
                <a:solidFill>
                  <a:srgbClr val="a3171e"/>
                </a:solidFill>
                <a:latin typeface="Lucida Sans Unicode"/>
              </a:rPr>
              <a:t>E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(0;2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2            y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3*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+2=8-12+2=-2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1" lang="en-US" sz="1500" spc="-1" strike="noStrike">
                <a:solidFill>
                  <a:srgbClr val="a3171e"/>
                </a:solidFill>
                <a:latin typeface="Lucida Sans Unicode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(2;-2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793880" y="765000"/>
          <a:ext cx="5688000" cy="1727280"/>
        </p:xfrm>
        <a:graphic>
          <a:graphicData uri="http://schemas.openxmlformats.org/drawingml/2006/table">
            <a:tbl>
              <a:tblPr/>
              <a:tblGrid>
                <a:gridCol w="566640"/>
                <a:gridCol w="1112760"/>
                <a:gridCol w="855720"/>
                <a:gridCol w="1148040"/>
                <a:gridCol w="857160"/>
                <a:gridCol w="1147680"/>
              </a:tblGrid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0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393" name="Прямая со стрелкой 4"/>
          <p:cNvCxnSpPr/>
          <p:nvPr/>
        </p:nvCxnSpPr>
        <p:spPr>
          <a:xfrm flipV="1">
            <a:off x="6806880" y="1007352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Прямая со стрелкой 5"/>
          <p:cNvCxnSpPr/>
          <p:nvPr/>
        </p:nvCxnSpPr>
        <p:spPr>
          <a:xfrm flipV="1">
            <a:off x="9302760" y="1007388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6"/>
          <p:cNvCxnSpPr/>
          <p:nvPr/>
        </p:nvCxnSpPr>
        <p:spPr>
          <a:xfrm>
            <a:off x="8102520" y="1005516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6" name="Прямая со стрелкой 8"/>
          <p:cNvCxnSpPr/>
          <p:nvPr/>
        </p:nvCxnSpPr>
        <p:spPr>
          <a:xfrm flipV="1">
            <a:off x="2484360" y="1628280"/>
            <a:ext cx="936000" cy="43272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7" name="Прямая со стрелкой 10"/>
          <p:cNvCxnSpPr/>
          <p:nvPr/>
        </p:nvCxnSpPr>
        <p:spPr>
          <a:xfrm>
            <a:off x="4427280" y="1677960"/>
            <a:ext cx="937080" cy="43272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8" name="Прямая со стрелкой 12"/>
          <p:cNvCxnSpPr/>
          <p:nvPr/>
        </p:nvCxnSpPr>
        <p:spPr>
          <a:xfrm flipV="1">
            <a:off x="6386400" y="1690200"/>
            <a:ext cx="10087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9" name="Стрелка вправо 13"/>
          <p:cNvSpPr/>
          <p:nvPr/>
        </p:nvSpPr>
        <p:spPr>
          <a:xfrm>
            <a:off x="1835280" y="4518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Стрелка вправо 14"/>
          <p:cNvSpPr/>
          <p:nvPr/>
        </p:nvSpPr>
        <p:spPr>
          <a:xfrm>
            <a:off x="4427640" y="452448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Стрелка вправо 15"/>
          <p:cNvSpPr/>
          <p:nvPr/>
        </p:nvSpPr>
        <p:spPr>
          <a:xfrm>
            <a:off x="1835280" y="486900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Стрелка вправо 16"/>
          <p:cNvSpPr/>
          <p:nvPr/>
        </p:nvSpPr>
        <p:spPr>
          <a:xfrm>
            <a:off x="5580000" y="47959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Объект 3" descr="H:\МАТЕМАТИКА\Открытый урок\Производная\мой график.jpg"/>
          <p:cNvPicPr/>
          <p:nvPr/>
        </p:nvPicPr>
        <p:blipFill>
          <a:blip r:embed="rId1"/>
          <a:stretch/>
        </p:blipFill>
        <p:spPr>
          <a:xfrm>
            <a:off x="3564000" y="1557360"/>
            <a:ext cx="547056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250920" y="1125360"/>
          <a:ext cx="4465440" cy="1097280"/>
        </p:xfrm>
        <a:graphic>
          <a:graphicData uri="http://schemas.openxmlformats.org/drawingml/2006/table">
            <a:tbl>
              <a:tblPr/>
              <a:tblGrid>
                <a:gridCol w="446040"/>
                <a:gridCol w="873000"/>
                <a:gridCol w="671760"/>
                <a:gridCol w="901440"/>
                <a:gridCol w="671760"/>
                <a:gridCol w="901440"/>
              </a:tblGrid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0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405" name="Прямая со стрелкой 5"/>
          <p:cNvCxnSpPr/>
          <p:nvPr/>
        </p:nvCxnSpPr>
        <p:spPr>
          <a:xfrm flipV="1">
            <a:off x="6806880" y="1007352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6" name="Прямая со стрелкой 6"/>
          <p:cNvCxnSpPr/>
          <p:nvPr/>
        </p:nvCxnSpPr>
        <p:spPr>
          <a:xfrm flipV="1">
            <a:off x="9302760" y="1007388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7" name="Прямая со стрелкой 7"/>
          <p:cNvCxnSpPr/>
          <p:nvPr/>
        </p:nvCxnSpPr>
        <p:spPr>
          <a:xfrm>
            <a:off x="8102520" y="1005516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Прямая со стрелкой 2"/>
          <p:cNvCxnSpPr/>
          <p:nvPr/>
        </p:nvCxnSpPr>
        <p:spPr>
          <a:xfrm flipV="1">
            <a:off x="755280" y="1699920"/>
            <a:ext cx="648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9" name="Прямая со стрелкой 9"/>
          <p:cNvCxnSpPr/>
          <p:nvPr/>
        </p:nvCxnSpPr>
        <p:spPr>
          <a:xfrm>
            <a:off x="2268000" y="1700280"/>
            <a:ext cx="791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Прямая со стрелкой 11"/>
          <p:cNvCxnSpPr/>
          <p:nvPr/>
        </p:nvCxnSpPr>
        <p:spPr>
          <a:xfrm flipV="1">
            <a:off x="3850920" y="1672560"/>
            <a:ext cx="8658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7:47:16Z</dcterms:created>
  <dc:creator>Lex</dc:creator>
  <dc:description/>
  <dc:language>en-US</dc:language>
  <cp:lastModifiedBy>Admin</cp:lastModifiedBy>
  <dcterms:modified xsi:type="dcterms:W3CDTF">2012-01-15T09:23:31Z</dcterms:modified>
  <cp:revision>1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7000000000001024140</vt:lpwstr>
  </property>
</Properties>
</file>