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C06-CBD4-40FD-ADA1-8EA8E54D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707-46F4-4FD2-AE25-AB681D0A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E14-313F-4F11-BE23-40418276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615-DD4B-4CCC-B34C-9B9FE1F4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AE9F-144D-4E78-AE86-B3B5E024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A168-4253-46D1-8CAC-64DA4DB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68F-5A7A-430C-9A2C-C071621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7941-8C8A-49C6-BB7C-A19E1182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3C0-D524-45BC-B79A-44190AF7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D65-6B96-4E6B-858F-654F3F12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546-6216-41CD-9197-1F736972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D87-4024-4EDE-A0D7-6EED042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BF00-BEC3-4024-864C-069786B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B93F-B0B9-423D-8713-5BA5168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BE2-9DFB-4029-A38F-4E901631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54C-308A-4242-A46C-40EF66B3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48DF-0746-445A-A9C2-38CABC54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0D36-B504-4826-8B85-9B5A4D40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662B-F673-474C-8968-A949870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4BAC-C66F-4BD7-B775-E36E769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789A-689B-4F7D-9CD9-75BBCF0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FB4C-0372-4832-984F-4FB1AAAC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8E6-4205-4E2E-A1C5-39C5874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24C8-2E73-446C-85F2-391885C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E6F2-846D-4C9C-B23A-5AADCA3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F381-24AA-4CA0-BEEB-84C4847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117A-6173-424E-B563-43EEDD8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4794-9E07-4819-952C-0003528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0D37-8640-46E6-B3F6-A10CF63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D0C7-0B5D-4D57-ADFE-FF765A8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031D-CE52-4F0F-9DF9-2F62099C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F28E-90C0-4763-BD94-759ECBD8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12DB-CEDF-4292-B618-8834D7B3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C27-46D0-46B5-B43A-12780F95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66D6-1D83-425F-99D1-F569ADB3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BCCF-03E1-4B53-BBDA-3ABE0F64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DE1E-895D-4706-B1B9-D7B84C84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0683-5328-4884-8725-B4FA350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80E2-463C-4B96-AF79-AD34EA6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A8FA-5FA4-441D-8FB6-A7F9812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C37D-0A19-43D0-816D-CDE2BA98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E97B-F08E-46BE-B605-7156E7D6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4815-3F00-4489-9394-F8328F35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8BDD-A791-4313-B342-AE32745A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E43-58B0-4E9A-9435-0CB856F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26121-0717-47AE-975E-3E05610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F5A5-3FA1-4693-8654-2804CEE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1DE5-78EB-4A68-92A2-9C0A9FF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09FC-0792-45DD-9D88-4906C3F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C148-C0DF-4C28-B607-390D4AB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2506-6891-4A0D-9D4A-2D2BDC1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9DA1-30F3-463A-A128-536D622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D92F3-4971-48A9-B2C9-A01FA9E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2C8E-B29A-4647-9CB0-E103894C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3BF6-D418-457C-BBCD-0E79E68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4D4-9082-47ED-9E2D-D9389B1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EC0C-06B9-456F-9893-C180E123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466F-CD31-4BBE-8EDD-4A654703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E427-0728-4A61-ACBC-B3A28A5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7A70-FA88-45F6-B6DC-65D9EDC2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7E22-BBE5-43F7-A113-785AFA1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D017-214B-4F75-BAA7-C94C44E8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39A1-59AB-4AAC-A96D-6827A7B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93CE-1036-4827-B70A-1B55CE9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D384-B58C-4130-AD3D-AF6E266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5A52-62DB-4152-82B5-D5AEA583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25C-ECAF-49BD-9233-C9A05CA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F8412-9977-4C48-9D29-050F3CF6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0914-A873-4DD1-8072-32462544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4667-CD2D-4758-9309-37B643AE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2EC5-EA0D-49E8-A1D5-6171A33C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F4586-C04D-4A03-A4CB-2B7B9E0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8F100-EB88-47B5-B8EE-52E00D5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B9AA1-EF5B-45CA-8944-E73A692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6EFB-A8B3-45F0-8F31-D3EE2614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35E0-E679-4548-8E98-37F9005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3587D-7B93-4529-8ECA-EC61B2F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692-64DC-4168-885E-D31DCD5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B31B-C249-4486-AA5C-3445017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7221-30A1-4046-BE68-7A0513C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E7B4-5B34-49AF-B8CE-E47BB0E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E4EC-5B92-4672-95F5-DA0A36FC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D55E8-A603-4983-BCD9-488C9965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5792-BE31-418A-8038-78873420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FFA9-57D4-441F-BE8A-C426B96D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EA14-7C4F-480C-8E97-BCD27EA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3EBD5-CBB8-40E3-82B9-A27E98C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3EB53-0C11-4FC7-8022-E04C6F4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F3E-A6F7-4580-8E14-CEDABF4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8D1DF-FD6A-4851-B6A7-77D9504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D6CB-0C53-4BF7-AD91-2E35D02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49DA-3301-4719-A8F9-FE4F803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E3D9-9B6E-4C0E-BCED-9068E79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DF8A-F5F3-4D13-94AB-515C455E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7C193-32D2-4DA8-89A7-4B8DC3C7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3AE34-F540-4D0D-A226-D69FE9BA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D19E-E46A-4BF1-B19D-4EC58D0BD70C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80F2-43DD-43D3-81F6-174DDD7AFBB0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B4BA-EAB6-49E1-830E-F9AE32226A1E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EBD5-6A15-4F7C-9B89-E96CDB009EB4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D1F-18B3-4C85-A207-C2A7B97087A7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984E-9FBE-4C2E-9305-70C59BB91FF8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B969-D56E-4E3D-B80B-226E34F9F8D9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D37-F770-4CC6-8DB7-DF66BEFCE50A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443320" y="1481040"/>
            <a:ext cx="425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H:\МАТЕМАТИКА\Открытый урок\Производная\1 группа.jpg"/>
          <p:cNvPicPr/>
          <p:nvPr/>
        </p:nvPicPr>
        <p:blipFill>
          <a:blip r:embed="rId2"/>
          <a:stretch/>
        </p:blipFill>
        <p:spPr>
          <a:xfrm>
            <a:off x="3995640" y="1844640"/>
            <a:ext cx="5040360" cy="4421160"/>
          </a:xfrm>
          <a:prstGeom prst="rect">
            <a:avLst/>
          </a:prstGeom>
          <a:ln w="0">
            <a:noFill/>
          </a:ln>
        </p:spPr>
      </p:pic>
      <p:pic>
        <p:nvPicPr>
          <p:cNvPr id="417" name="Таблица 4" descr=""/>
          <p:cNvPicPr/>
          <p:nvPr/>
        </p:nvPicPr>
        <p:blipFill>
          <a:blip r:embed="rId3"/>
          <a:stretch/>
        </p:blipFill>
        <p:spPr>
          <a:xfrm>
            <a:off x="30240" y="3151080"/>
            <a:ext cx="4687920" cy="14875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5"/>
          <p:cNvCxnSpPr/>
          <p:nvPr/>
        </p:nvCxnSpPr>
        <p:spPr>
          <a:xfrm flipV="1">
            <a:off x="6806880" y="916704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6"/>
          <p:cNvCxnSpPr/>
          <p:nvPr/>
        </p:nvCxnSpPr>
        <p:spPr>
          <a:xfrm flipV="1">
            <a:off x="9302760" y="916740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7"/>
          <p:cNvCxnSpPr/>
          <p:nvPr/>
        </p:nvCxnSpPr>
        <p:spPr>
          <a:xfrm>
            <a:off x="8102520" y="914868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9"/>
          <p:cNvCxnSpPr/>
          <p:nvPr/>
        </p:nvCxnSpPr>
        <p:spPr>
          <a:xfrm>
            <a:off x="2340000" y="400500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1"/>
          <p:cNvCxnSpPr/>
          <p:nvPr/>
        </p:nvCxnSpPr>
        <p:spPr>
          <a:xfrm flipV="1">
            <a:off x="3850920" y="4005000"/>
            <a:ext cx="577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3"/>
          <p:cNvCxnSpPr/>
          <p:nvPr/>
        </p:nvCxnSpPr>
        <p:spPr>
          <a:xfrm flipV="1">
            <a:off x="684000" y="4004640"/>
            <a:ext cx="648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H:\МАТЕМАТИКА\Открытый урок\Производная\2 группа.jpg"/>
          <p:cNvPicPr/>
          <p:nvPr/>
        </p:nvPicPr>
        <p:blipFill>
          <a:blip r:embed="rId2"/>
          <a:stretch/>
        </p:blipFill>
        <p:spPr>
          <a:xfrm>
            <a:off x="4067280" y="1844640"/>
            <a:ext cx="491472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216000" y="3273480"/>
          <a:ext cx="4248000" cy="1096920"/>
        </p:xfrm>
        <a:graphic>
          <a:graphicData uri="http://schemas.openxmlformats.org/drawingml/2006/table">
            <a:tbl>
              <a:tblPr/>
              <a:tblGrid>
                <a:gridCol w="471240"/>
                <a:gridCol w="833760"/>
                <a:gridCol w="618840"/>
                <a:gridCol w="881280"/>
                <a:gridCol w="641160"/>
                <a:gridCol w="80172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1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1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28" name="Прямая со стрелкой 5"/>
          <p:cNvCxnSpPr/>
          <p:nvPr/>
        </p:nvCxnSpPr>
        <p:spPr>
          <a:xfrm flipV="1">
            <a:off x="2374920" y="3857400"/>
            <a:ext cx="39600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"/>
          <p:cNvCxnSpPr/>
          <p:nvPr/>
        </p:nvCxnSpPr>
        <p:spPr>
          <a:xfrm>
            <a:off x="3809880" y="3868200"/>
            <a:ext cx="4327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>
            <a:off x="900000" y="3868560"/>
            <a:ext cx="43272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:\МАТЕМАТИКА\Открытый урок\Производная\3 группа.png"/>
          <p:cNvPicPr/>
          <p:nvPr/>
        </p:nvPicPr>
        <p:blipFill>
          <a:blip r:embed="rId2"/>
          <a:stretch/>
        </p:blipFill>
        <p:spPr>
          <a:xfrm>
            <a:off x="4371840" y="1901880"/>
            <a:ext cx="4772160" cy="4390920"/>
          </a:xfrm>
          <a:prstGeom prst="rect">
            <a:avLst/>
          </a:prstGeom>
          <a:ln w="0">
            <a:noFill/>
          </a:ln>
        </p:spPr>
      </p:pic>
      <p:pic>
        <p:nvPicPr>
          <p:cNvPr id="434" name="Таблица 3" descr=""/>
          <p:cNvPicPr/>
          <p:nvPr/>
        </p:nvPicPr>
        <p:blipFill>
          <a:blip r:embed="rId3"/>
          <a:stretch/>
        </p:blipFill>
        <p:spPr>
          <a:xfrm>
            <a:off x="-36360" y="3067200"/>
            <a:ext cx="4608360" cy="1285560"/>
          </a:xfrm>
          <a:prstGeom prst="rect">
            <a:avLst/>
          </a:prstGeom>
          <a:ln w="0">
            <a:noFill/>
          </a:ln>
        </p:spPr>
      </p:pic>
      <p:cxnSp>
        <p:nvCxnSpPr>
          <p:cNvPr id="435" name="Прямая со стрелкой 5"/>
          <p:cNvCxnSpPr/>
          <p:nvPr/>
        </p:nvCxnSpPr>
        <p:spPr>
          <a:xfrm flipV="1">
            <a:off x="6806880" y="8135640"/>
            <a:ext cx="3243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6"/>
          <p:cNvCxnSpPr/>
          <p:nvPr/>
        </p:nvCxnSpPr>
        <p:spPr>
          <a:xfrm flipV="1">
            <a:off x="9302760" y="813528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7"/>
          <p:cNvCxnSpPr/>
          <p:nvPr/>
        </p:nvCxnSpPr>
        <p:spPr>
          <a:xfrm>
            <a:off x="8102520" y="8116560"/>
            <a:ext cx="2955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9"/>
          <p:cNvCxnSpPr/>
          <p:nvPr/>
        </p:nvCxnSpPr>
        <p:spPr>
          <a:xfrm flipV="1">
            <a:off x="61128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11"/>
          <p:cNvCxnSpPr/>
          <p:nvPr/>
        </p:nvCxnSpPr>
        <p:spPr>
          <a:xfrm>
            <a:off x="219564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 flipV="1">
            <a:off x="3708000" y="3789000"/>
            <a:ext cx="577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H:\МАТЕМАТИКА\Открытый урок\Производная\4 группа.jpg"/>
          <p:cNvPicPr/>
          <p:nvPr/>
        </p:nvPicPr>
        <p:blipFill>
          <a:blip r:embed="rId2"/>
          <a:stretch/>
        </p:blipFill>
        <p:spPr>
          <a:xfrm>
            <a:off x="4299120" y="1844640"/>
            <a:ext cx="4681440" cy="4388040"/>
          </a:xfrm>
          <a:prstGeom prst="rect">
            <a:avLst/>
          </a:prstGeom>
          <a:ln w="0">
            <a:noFill/>
          </a:ln>
        </p:spPr>
      </p:pic>
      <p:pic>
        <p:nvPicPr>
          <p:cNvPr id="444" name="Таблица 4" descr=""/>
          <p:cNvPicPr/>
          <p:nvPr/>
        </p:nvPicPr>
        <p:blipFill>
          <a:blip r:embed="rId3"/>
          <a:stretch/>
        </p:blipFill>
        <p:spPr>
          <a:xfrm>
            <a:off x="36360" y="1627200"/>
            <a:ext cx="5450040" cy="1768320"/>
          </a:xfrm>
          <a:prstGeom prst="rect">
            <a:avLst/>
          </a:prstGeom>
          <a:ln w="0">
            <a:noFill/>
          </a:ln>
        </p:spPr>
      </p:pic>
      <p:cxnSp>
        <p:nvCxnSpPr>
          <p:cNvPr id="445" name="Прямая со стрелкой 5"/>
          <p:cNvCxnSpPr/>
          <p:nvPr/>
        </p:nvCxnSpPr>
        <p:spPr>
          <a:xfrm flipV="1">
            <a:off x="1042920" y="263664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6"/>
          <p:cNvCxnSpPr/>
          <p:nvPr/>
        </p:nvCxnSpPr>
        <p:spPr>
          <a:xfrm flipV="1">
            <a:off x="3563640" y="2679120"/>
            <a:ext cx="324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7"/>
          <p:cNvCxnSpPr/>
          <p:nvPr/>
        </p:nvCxnSpPr>
        <p:spPr>
          <a:xfrm>
            <a:off x="2410920" y="2651040"/>
            <a:ext cx="2962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8"/>
          <p:cNvCxnSpPr/>
          <p:nvPr/>
        </p:nvCxnSpPr>
        <p:spPr>
          <a:xfrm>
            <a:off x="4716360" y="2674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H:\МАТЕМАТИКА\Открытый урок\Производная\5 Группа.jpg"/>
          <p:cNvPicPr/>
          <p:nvPr/>
        </p:nvPicPr>
        <p:blipFill>
          <a:blip r:embed="rId2"/>
          <a:stretch/>
        </p:blipFill>
        <p:spPr>
          <a:xfrm>
            <a:off x="4667400" y="1916280"/>
            <a:ext cx="4479840" cy="4408200"/>
          </a:xfrm>
          <a:prstGeom prst="rect">
            <a:avLst/>
          </a:prstGeom>
          <a:ln w="0">
            <a:noFill/>
          </a:ln>
        </p:spPr>
      </p:pic>
      <p:pic>
        <p:nvPicPr>
          <p:cNvPr id="452" name="Таблица 4" descr=""/>
          <p:cNvPicPr/>
          <p:nvPr/>
        </p:nvPicPr>
        <p:blipFill>
          <a:blip r:embed="rId3"/>
          <a:stretch/>
        </p:blipFill>
        <p:spPr>
          <a:xfrm>
            <a:off x="-42840" y="4290840"/>
            <a:ext cx="51213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5"/>
          <p:cNvCxnSpPr/>
          <p:nvPr/>
        </p:nvCxnSpPr>
        <p:spPr>
          <a:xfrm flipV="1">
            <a:off x="4211640" y="497016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6"/>
          <p:cNvCxnSpPr/>
          <p:nvPr/>
        </p:nvCxnSpPr>
        <p:spPr>
          <a:xfrm flipV="1">
            <a:off x="1908000" y="495072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7"/>
          <p:cNvCxnSpPr/>
          <p:nvPr/>
        </p:nvCxnSpPr>
        <p:spPr>
          <a:xfrm>
            <a:off x="703440" y="4960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3059280" y="494172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467560" cy="2676600"/>
          </a:xfrm>
          <a:prstGeom prst="rect">
            <a:avLst/>
          </a:prstGeom>
          <a:ln w="0">
            <a:noFill/>
          </a:ln>
        </p:spPr>
      </p:pic>
      <p:pic>
        <p:nvPicPr>
          <p:cNvPr id="37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3535200"/>
            <a:ext cx="7948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69520" cy="134136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4" descr="H:\МАТЕМАТИКА\Открытый урок\Производная\0 группа.jpg"/>
          <p:cNvPicPr/>
          <p:nvPr/>
        </p:nvPicPr>
        <p:blipFill>
          <a:blip r:embed="rId2"/>
          <a:stretch/>
        </p:blipFill>
        <p:spPr>
          <a:xfrm>
            <a:off x="1332000" y="1341360"/>
            <a:ext cx="6278400" cy="4756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8349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038400" y="2421000"/>
            <a:ext cx="30672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376360" y="1758960"/>
            <a:ext cx="4391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область определ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чётность, нечётность и периодичность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нули функции (точки пересечения графика функции с осями координат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монотонность (найти промежутки возрастания и убывания функции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точки экстремума и экстремальные знач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дополнительные точки (если нужно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321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2" descr=""/>
          <p:cNvPicPr/>
          <p:nvPr/>
        </p:nvPicPr>
        <p:blipFill>
          <a:blip r:embed="rId2"/>
          <a:stretch/>
        </p:blipFill>
        <p:spPr>
          <a:xfrm>
            <a:off x="390600" y="73080"/>
            <a:ext cx="8315280" cy="609480"/>
          </a:xfrm>
          <a:prstGeom prst="rect">
            <a:avLst/>
          </a:prstGeom>
          <a:ln w="0">
            <a:noFill/>
          </a:ln>
        </p:spPr>
      </p:pic>
      <p:sp>
        <p:nvSpPr>
          <p:cNvPr id="384" name="Стрелка вправо 3"/>
          <p:cNvSpPr/>
          <p:nvPr/>
        </p:nvSpPr>
        <p:spPr>
          <a:xfrm>
            <a:off x="2843280" y="2205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Стрелка вправо 4"/>
          <p:cNvSpPr/>
          <p:nvPr/>
        </p:nvSpPr>
        <p:spPr>
          <a:xfrm>
            <a:off x="5292720" y="15858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Стрелка вправо 5"/>
          <p:cNvSpPr/>
          <p:nvPr/>
        </p:nvSpPr>
        <p:spPr>
          <a:xfrm>
            <a:off x="3780000" y="1366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Стрелка вправо 6"/>
          <p:cNvSpPr/>
          <p:nvPr/>
        </p:nvSpPr>
        <p:spPr>
          <a:xfrm>
            <a:off x="2556000" y="4221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Стрелка вправо 7"/>
          <p:cNvSpPr/>
          <p:nvPr/>
        </p:nvSpPr>
        <p:spPr>
          <a:xfrm>
            <a:off x="219564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Стрелка вправо 8"/>
          <p:cNvSpPr/>
          <p:nvPr/>
        </p:nvSpPr>
        <p:spPr>
          <a:xfrm>
            <a:off x="1042920" y="393372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Стрелка вправо 9"/>
          <p:cNvSpPr/>
          <p:nvPr/>
        </p:nvSpPr>
        <p:spPr>
          <a:xfrm>
            <a:off x="4788000" y="41641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-1)=3*(-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(-1)=3+6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1)=3*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1=3-6=-3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-3&l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3)=3*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3=27-18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Lucida Sans Unicode"/>
              </a:rPr>
              <a:t>5. Точки экстремума. Экстремальные значения    функци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2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0;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8-12+2=-2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2;-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3880" y="765000"/>
          <a:ext cx="5688000" cy="1727280"/>
        </p:xfrm>
        <a:graphic>
          <a:graphicData uri="http://schemas.openxmlformats.org/drawingml/2006/table">
            <a:tbl>
              <a:tblPr/>
              <a:tblGrid>
                <a:gridCol w="566640"/>
                <a:gridCol w="1112760"/>
                <a:gridCol w="855720"/>
                <a:gridCol w="1148040"/>
                <a:gridCol w="857160"/>
                <a:gridCol w="1147680"/>
              </a:tblGrid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393" name="Прямая со стрелкой 4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Прямая со стрелкой 5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6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Прямая со стрелкой 8"/>
          <p:cNvCxnSpPr/>
          <p:nvPr/>
        </p:nvCxnSpPr>
        <p:spPr>
          <a:xfrm flipV="1">
            <a:off x="2484360" y="1628280"/>
            <a:ext cx="93600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7" name="Прямая со стрелкой 10"/>
          <p:cNvCxnSpPr/>
          <p:nvPr/>
        </p:nvCxnSpPr>
        <p:spPr>
          <a:xfrm>
            <a:off x="4427280" y="1677960"/>
            <a:ext cx="93708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8" name="Прямая со стрелкой 12"/>
          <p:cNvCxnSpPr/>
          <p:nvPr/>
        </p:nvCxnSpPr>
        <p:spPr>
          <a:xfrm flipV="1">
            <a:off x="6386400" y="1690200"/>
            <a:ext cx="1008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9" name="Стрелка вправо 13"/>
          <p:cNvSpPr/>
          <p:nvPr/>
        </p:nvSpPr>
        <p:spPr>
          <a:xfrm>
            <a:off x="1835280" y="4518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>
            <a:off x="4427640" y="452448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>
            <a:off x="183528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Стрелка вправо 16"/>
          <p:cNvSpPr/>
          <p:nvPr/>
        </p:nvSpPr>
        <p:spPr>
          <a:xfrm>
            <a:off x="5580000" y="4795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3" descr="H:\МАТЕМАТИКА\Открытый урок\Производная\мой график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705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50920" y="1125360"/>
          <a:ext cx="4465440" cy="1097280"/>
        </p:xfrm>
        <a:graphic>
          <a:graphicData uri="http://schemas.openxmlformats.org/drawingml/2006/table">
            <a:tbl>
              <a:tblPr/>
              <a:tblGrid>
                <a:gridCol w="446040"/>
                <a:gridCol w="873000"/>
                <a:gridCol w="671760"/>
                <a:gridCol w="901440"/>
                <a:gridCol w="671760"/>
                <a:gridCol w="90144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05" name="Прямая со стрелкой 5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6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Прямая со стрелкой 7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2"/>
          <p:cNvCxnSpPr/>
          <p:nvPr/>
        </p:nvCxnSpPr>
        <p:spPr>
          <a:xfrm flipV="1">
            <a:off x="755280" y="1699920"/>
            <a:ext cx="648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2268000" y="1700280"/>
            <a:ext cx="791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V="1">
            <a:off x="3850920" y="1672560"/>
            <a:ext cx="8658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47:16Z</dcterms:created>
  <dc:creator>Lex</dc:creator>
  <dc:description/>
  <dc:language>en-US</dc:language>
  <cp:lastModifiedBy>Admin</cp:lastModifiedBy>
  <dcterms:modified xsi:type="dcterms:W3CDTF">2012-01-15T09:23:31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7000000000001024140</vt:lpwstr>
  </property>
</Properties>
</file>