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4.jpeg" ContentType="image/jpeg"/>
  <Override PartName="/ppt/media/image11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5DB-43A3-41D7-B92A-8E365CC4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C24-8437-4477-81A9-B88C6865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86E-FB3D-4416-9E76-91DB5C6B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CAC-EAEE-4676-8FA5-71762F09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F8C7-B939-458F-BB0C-B93F1BC7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B1C4-77DC-4AE6-A738-DDE40C91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94A0-2E27-43CA-8EEF-FD31DB81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418B-38F0-464A-90F5-07849A68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50BB-C23F-4219-85AE-85A9EBF0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E23D-8EB5-4923-8BA8-62FA6DB2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3E2D-9402-4655-9F17-33D1E514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DB9-9EBC-435C-845F-41D96E3B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1FB1-048B-4279-882B-02B51B27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8171-7F43-486A-8B37-4F054537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EFE6-8B73-4E8E-B358-FBCD9748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2924-88F2-4409-8020-448C55C6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C550-C3C7-4CBB-83BB-63E95899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121D5-C80D-4E06-8D59-FAC34A3D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4EF17-F541-495A-B484-D3F57787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0F927-21A9-40C1-B259-F857A6C4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F8DF2-E65A-49BE-BFAD-67678A23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A002C-D82F-4D1A-9DF6-78F6C67D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3409-4BEF-487E-A3FF-F4944F20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6B057-9B3B-4E8A-8B49-C3F580E0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45F32-209E-402B-9A1B-EE13B399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D2FE2-05D2-4A3B-8FAD-2DA2FF6E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D7548-600C-4889-B641-80A0979F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D9C83-0078-4B18-8FC8-F1853AE2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06BDA-D4CF-44F2-83A9-F520F77D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E5662-F2C4-4F3C-8304-11ECB75B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2CCEA-B78D-4AC1-862B-5F5545BF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29FD4-A8FB-403A-AA8E-EBA1BAAF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E333B-02EB-4E33-B8C0-C91D1CDF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8408-7FE9-4A50-9CE7-9F7224DE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72C1D-90F4-4A68-B08C-0A545DC3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FF791-7AA4-4FB7-A60E-0C773F05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D858E-D2B0-45CA-83B8-48295348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DD977-99A4-4E0A-928F-F0D20F42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9D4AE-37D9-47D7-8772-E5BDFD95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E95A2-3738-4C57-9307-76DC752B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656C5-18FF-41A3-B19C-86DBE8ED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E94BC-1423-4E0A-ACDC-7B6C3DD7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3FCE0-4CC9-472C-AE02-C059C552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E889A-FA3C-4D4A-87F9-7D24B6B5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294-7555-45AC-9FA8-14F2E3E2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495BB-EECE-4860-9290-D9194D00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B3B44-FA3B-460F-90EF-3A23B4A6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6D2F0-A120-4266-A014-0C5DC572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AB0C4-C2E3-4329-84DF-0734FF1B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DE61E-63A5-4E1F-A0DD-1452E164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33F96-1CA5-4BF0-81E9-F040D455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7F7FB-7E24-43D8-AD6B-BDE4573D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0DFEC-A69E-47B1-ADD0-DB7FD0B4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52CEF-FCC9-4F87-81E6-F40C3544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10979-A97D-4737-BF24-942EF179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C8B-ED7D-46DA-917D-53E7A67B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F7D38-17A8-4D0E-A2CD-E24701A3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C9503-2A6C-46C3-BCEE-407D72FB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2E98A-73F4-4EC8-B02B-46E2A886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A0EE1-A984-4CEB-92F1-CFFF32A2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E53B4-6330-4BC6-9E8A-9B00F6C9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9FCF2-1EED-4423-AF87-970DA362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0F94C-DD5C-4610-870B-1DA38DB8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6C123-5F2D-4363-82D6-D8B452C1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7B412-5BC5-4303-888B-60EB997B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6D9A7-D26E-4981-BCB4-3B042BB6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D2E-8954-4637-A448-02714E4F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3EC69-8C06-40B5-9211-74A73BA4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0C8D0-64AA-4642-A103-3FF76761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CA163-AA0B-4E6A-9E91-F9D51467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17627-75A8-4CAD-BFC6-8695A60F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7EE14-E6B1-4D45-9B29-EFEA4D4C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0838F-DA99-4761-AE3A-04AFBB51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223F3-ED8C-49B8-B0B9-F00B24C9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46B03-CAD7-4DC7-850C-F7E95F14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D1AE9-F1C3-4926-A8EA-594BA2FF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DCE1D-5DB1-4D46-B809-81B00C75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A171-A559-4F9B-806F-5C284555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2DE78-3835-4AE6-A0A9-2D7A9885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E2EBC-03AC-4046-A9F4-958E7AEC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06F8D-3A73-4E68-A8E4-0ED2A739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5D984-BA3C-4B53-9526-7F517E75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339F1-8982-417B-AEE3-34DF3945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9DF7C-7BD4-4781-8B61-DC31DCE2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0F248-4576-48E4-A549-78B7A0F2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74A38-E40D-4C2F-896F-6919635A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92FC9-3ADE-4F86-86A6-81237E23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9E4D0-F41F-4F8B-A66E-F38F00B9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1E4-86D1-450C-977F-682B72FB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BB194-F84E-4D60-B7C7-D41FFDA7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F2D41-F3E7-4493-A3D7-54AEF154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1CBCF-5785-4346-B29A-02A99C86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2A459-3E0B-45C7-A22A-76F08B41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A5615-19A0-49CC-A45F-C3420CF2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28650-8C6E-40C5-BDAB-445FC3AA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8A57F-2051-48CD-85A9-6DDA1CF8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337B-833E-4B3F-BD1B-B487C8EF9BCF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15EB-2855-4956-8DDE-91F5F596CF46}" type="slidenum">
              <a:rPr b="0" lang="uk-U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C161-CD5C-4703-8954-E86937825C6B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7C4B-9041-4734-AF8C-9CEA06FB6EB4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3239-4D12-4EBA-8242-8CBE39807A70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3938-474F-404F-B966-B26ECE1F1F6E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C8A3-3695-4E5E-864B-4F872E9A0FD3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7065-05B0-4E3F-B505-9D23834AFE60}" type="slidenum">
              <a:rPr b="0" lang="uk-U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443320" y="1481040"/>
            <a:ext cx="4257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 группа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 группа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 группа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6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группа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-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+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 группа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3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6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5580000" y="1844640"/>
            <a:ext cx="30384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Заголовок 2" descr=""/>
          <p:cNvPicPr/>
          <p:nvPr/>
        </p:nvPicPr>
        <p:blipFill>
          <a:blip r:embed="rId1"/>
          <a:stretch/>
        </p:blipFill>
        <p:spPr>
          <a:xfrm>
            <a:off x="195120" y="255600"/>
            <a:ext cx="8498160" cy="115236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3" descr="H:\МАТЕМАТИКА\Открытый урок\Производная\1 группа.jpg"/>
          <p:cNvPicPr/>
          <p:nvPr/>
        </p:nvPicPr>
        <p:blipFill>
          <a:blip r:embed="rId2"/>
          <a:stretch/>
        </p:blipFill>
        <p:spPr>
          <a:xfrm>
            <a:off x="3995640" y="1844640"/>
            <a:ext cx="5040360" cy="4421160"/>
          </a:xfrm>
          <a:prstGeom prst="rect">
            <a:avLst/>
          </a:prstGeom>
          <a:ln w="0">
            <a:noFill/>
          </a:ln>
        </p:spPr>
      </p:pic>
      <p:pic>
        <p:nvPicPr>
          <p:cNvPr id="417" name="Таблица 4" descr=""/>
          <p:cNvPicPr/>
          <p:nvPr/>
        </p:nvPicPr>
        <p:blipFill>
          <a:blip r:embed="rId3"/>
          <a:stretch/>
        </p:blipFill>
        <p:spPr>
          <a:xfrm>
            <a:off x="30240" y="3151080"/>
            <a:ext cx="4687920" cy="1487520"/>
          </a:xfrm>
          <a:prstGeom prst="rect">
            <a:avLst/>
          </a:prstGeom>
          <a:ln w="0">
            <a:noFill/>
          </a:ln>
        </p:spPr>
      </p:pic>
      <p:cxnSp>
        <p:nvCxnSpPr>
          <p:cNvPr id="418" name="Прямая со стрелкой 5"/>
          <p:cNvCxnSpPr/>
          <p:nvPr/>
        </p:nvCxnSpPr>
        <p:spPr>
          <a:xfrm flipV="1">
            <a:off x="6806880" y="9167040"/>
            <a:ext cx="32436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9" name="Прямая со стрелкой 6"/>
          <p:cNvCxnSpPr/>
          <p:nvPr/>
        </p:nvCxnSpPr>
        <p:spPr>
          <a:xfrm flipV="1">
            <a:off x="9302760" y="9167400"/>
            <a:ext cx="3247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0" name="Прямая со стрелкой 7"/>
          <p:cNvCxnSpPr/>
          <p:nvPr/>
        </p:nvCxnSpPr>
        <p:spPr>
          <a:xfrm>
            <a:off x="8102520" y="914868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1" name="Прямая со стрелкой 9"/>
          <p:cNvCxnSpPr/>
          <p:nvPr/>
        </p:nvCxnSpPr>
        <p:spPr>
          <a:xfrm>
            <a:off x="2340000" y="4005000"/>
            <a:ext cx="5040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Прямая со стрелкой 11"/>
          <p:cNvCxnSpPr/>
          <p:nvPr/>
        </p:nvCxnSpPr>
        <p:spPr>
          <a:xfrm flipV="1">
            <a:off x="3850920" y="4005000"/>
            <a:ext cx="57708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3" name="Прямая со стрелкой 13"/>
          <p:cNvCxnSpPr/>
          <p:nvPr/>
        </p:nvCxnSpPr>
        <p:spPr>
          <a:xfrm flipV="1">
            <a:off x="684000" y="4004640"/>
            <a:ext cx="648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3" descr="H:\МАТЕМАТИКА\Открытый урок\Производная\2 группа.jpg"/>
          <p:cNvPicPr/>
          <p:nvPr/>
        </p:nvPicPr>
        <p:blipFill>
          <a:blip r:embed="rId2"/>
          <a:stretch/>
        </p:blipFill>
        <p:spPr>
          <a:xfrm>
            <a:off x="4067280" y="1844640"/>
            <a:ext cx="4914720" cy="454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7" name=""/>
          <p:cNvGraphicFramePr/>
          <p:nvPr/>
        </p:nvGraphicFramePr>
        <p:xfrm>
          <a:off x="216000" y="3273480"/>
          <a:ext cx="4248000" cy="1096920"/>
        </p:xfrm>
        <a:graphic>
          <a:graphicData uri="http://schemas.openxmlformats.org/drawingml/2006/table">
            <a:tbl>
              <a:tblPr/>
              <a:tblGrid>
                <a:gridCol w="471240"/>
                <a:gridCol w="833760"/>
                <a:gridCol w="618840"/>
                <a:gridCol w="881280"/>
                <a:gridCol w="641160"/>
                <a:gridCol w="801720"/>
              </a:tblGrid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-∞;-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-1;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1;+∞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᾽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27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cxnSp>
        <p:nvCxnSpPr>
          <p:cNvPr id="428" name="Прямая со стрелкой 5"/>
          <p:cNvCxnSpPr/>
          <p:nvPr/>
        </p:nvCxnSpPr>
        <p:spPr>
          <a:xfrm flipV="1">
            <a:off x="2374920" y="3857400"/>
            <a:ext cx="39600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9" name="Прямая со стрелкой 6"/>
          <p:cNvCxnSpPr/>
          <p:nvPr/>
        </p:nvCxnSpPr>
        <p:spPr>
          <a:xfrm>
            <a:off x="3809880" y="3868200"/>
            <a:ext cx="43272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0" name="Прямая со стрелкой 7"/>
          <p:cNvCxnSpPr/>
          <p:nvPr/>
        </p:nvCxnSpPr>
        <p:spPr>
          <a:xfrm>
            <a:off x="900000" y="3868560"/>
            <a:ext cx="432720" cy="2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6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4" descr="H:\МАТЕМАТИКА\Открытый урок\Производная\3 группа.png"/>
          <p:cNvPicPr/>
          <p:nvPr/>
        </p:nvPicPr>
        <p:blipFill>
          <a:blip r:embed="rId2"/>
          <a:stretch/>
        </p:blipFill>
        <p:spPr>
          <a:xfrm>
            <a:off x="4371840" y="1901880"/>
            <a:ext cx="4772160" cy="4390920"/>
          </a:xfrm>
          <a:prstGeom prst="rect">
            <a:avLst/>
          </a:prstGeom>
          <a:ln w="0">
            <a:noFill/>
          </a:ln>
        </p:spPr>
      </p:pic>
      <p:pic>
        <p:nvPicPr>
          <p:cNvPr id="434" name="Таблица 3" descr=""/>
          <p:cNvPicPr/>
          <p:nvPr/>
        </p:nvPicPr>
        <p:blipFill>
          <a:blip r:embed="rId3"/>
          <a:stretch/>
        </p:blipFill>
        <p:spPr>
          <a:xfrm>
            <a:off x="-36360" y="3067200"/>
            <a:ext cx="4608360" cy="1285560"/>
          </a:xfrm>
          <a:prstGeom prst="rect">
            <a:avLst/>
          </a:prstGeom>
          <a:ln w="0">
            <a:noFill/>
          </a:ln>
        </p:spPr>
      </p:pic>
      <p:cxnSp>
        <p:nvCxnSpPr>
          <p:cNvPr id="435" name="Прямая со стрелкой 5"/>
          <p:cNvCxnSpPr/>
          <p:nvPr/>
        </p:nvCxnSpPr>
        <p:spPr>
          <a:xfrm flipV="1">
            <a:off x="6806880" y="8135640"/>
            <a:ext cx="32436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6" name="Прямая со стрелкой 6"/>
          <p:cNvCxnSpPr/>
          <p:nvPr/>
        </p:nvCxnSpPr>
        <p:spPr>
          <a:xfrm flipV="1">
            <a:off x="9302760" y="8135280"/>
            <a:ext cx="32472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7" name="Прямая со стрелкой 7"/>
          <p:cNvCxnSpPr/>
          <p:nvPr/>
        </p:nvCxnSpPr>
        <p:spPr>
          <a:xfrm>
            <a:off x="8102520" y="8116560"/>
            <a:ext cx="29556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8" name="Прямая со стрелкой 9"/>
          <p:cNvCxnSpPr/>
          <p:nvPr/>
        </p:nvCxnSpPr>
        <p:spPr>
          <a:xfrm flipV="1">
            <a:off x="611280" y="3789000"/>
            <a:ext cx="5054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9" name="Прямая со стрелкой 11"/>
          <p:cNvCxnSpPr/>
          <p:nvPr/>
        </p:nvCxnSpPr>
        <p:spPr>
          <a:xfrm>
            <a:off x="2195640" y="3789000"/>
            <a:ext cx="5054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0" name="Прямая со стрелкой 13"/>
          <p:cNvCxnSpPr/>
          <p:nvPr/>
        </p:nvCxnSpPr>
        <p:spPr>
          <a:xfrm flipV="1">
            <a:off x="3708000" y="3789000"/>
            <a:ext cx="577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-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+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3" descr="H:\МАТЕМАТИКА\Открытый урок\Производная\4 группа.jpg"/>
          <p:cNvPicPr/>
          <p:nvPr/>
        </p:nvPicPr>
        <p:blipFill>
          <a:blip r:embed="rId2"/>
          <a:stretch/>
        </p:blipFill>
        <p:spPr>
          <a:xfrm>
            <a:off x="4299120" y="1844640"/>
            <a:ext cx="4681440" cy="4388040"/>
          </a:xfrm>
          <a:prstGeom prst="rect">
            <a:avLst/>
          </a:prstGeom>
          <a:ln w="0">
            <a:noFill/>
          </a:ln>
        </p:spPr>
      </p:pic>
      <p:pic>
        <p:nvPicPr>
          <p:cNvPr id="444" name="Таблица 4" descr=""/>
          <p:cNvPicPr/>
          <p:nvPr/>
        </p:nvPicPr>
        <p:blipFill>
          <a:blip r:embed="rId3"/>
          <a:stretch/>
        </p:blipFill>
        <p:spPr>
          <a:xfrm>
            <a:off x="36360" y="1627200"/>
            <a:ext cx="5450040" cy="1768320"/>
          </a:xfrm>
          <a:prstGeom prst="rect">
            <a:avLst/>
          </a:prstGeom>
          <a:ln w="0">
            <a:noFill/>
          </a:ln>
        </p:spPr>
      </p:pic>
      <p:cxnSp>
        <p:nvCxnSpPr>
          <p:cNvPr id="445" name="Прямая со стрелкой 5"/>
          <p:cNvCxnSpPr/>
          <p:nvPr/>
        </p:nvCxnSpPr>
        <p:spPr>
          <a:xfrm flipV="1">
            <a:off x="1042920" y="2636640"/>
            <a:ext cx="32472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6" name="Прямая со стрелкой 6"/>
          <p:cNvCxnSpPr/>
          <p:nvPr/>
        </p:nvCxnSpPr>
        <p:spPr>
          <a:xfrm flipV="1">
            <a:off x="3563640" y="2679120"/>
            <a:ext cx="32436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7" name="Прямая со стрелкой 7"/>
          <p:cNvCxnSpPr/>
          <p:nvPr/>
        </p:nvCxnSpPr>
        <p:spPr>
          <a:xfrm>
            <a:off x="2410920" y="2651040"/>
            <a:ext cx="29628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8" name="Прямая со стрелкой 8"/>
          <p:cNvCxnSpPr/>
          <p:nvPr/>
        </p:nvCxnSpPr>
        <p:spPr>
          <a:xfrm>
            <a:off x="4716360" y="267480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3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6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3" descr="H:\МАТЕМАТИКА\Открытый урок\Производная\5 Группа.jpg"/>
          <p:cNvPicPr/>
          <p:nvPr/>
        </p:nvPicPr>
        <p:blipFill>
          <a:blip r:embed="rId2"/>
          <a:stretch/>
        </p:blipFill>
        <p:spPr>
          <a:xfrm>
            <a:off x="4667400" y="1916280"/>
            <a:ext cx="4479840" cy="4408200"/>
          </a:xfrm>
          <a:prstGeom prst="rect">
            <a:avLst/>
          </a:prstGeom>
          <a:ln w="0">
            <a:noFill/>
          </a:ln>
        </p:spPr>
      </p:pic>
      <p:pic>
        <p:nvPicPr>
          <p:cNvPr id="452" name="Таблица 4" descr=""/>
          <p:cNvPicPr/>
          <p:nvPr/>
        </p:nvPicPr>
        <p:blipFill>
          <a:blip r:embed="rId3"/>
          <a:stretch/>
        </p:blipFill>
        <p:spPr>
          <a:xfrm>
            <a:off x="-42840" y="4290840"/>
            <a:ext cx="5121360" cy="1244880"/>
          </a:xfrm>
          <a:prstGeom prst="rect">
            <a:avLst/>
          </a:prstGeom>
          <a:ln w="0">
            <a:noFill/>
          </a:ln>
        </p:spPr>
      </p:pic>
      <p:cxnSp>
        <p:nvCxnSpPr>
          <p:cNvPr id="453" name="Прямая со стрелкой 5"/>
          <p:cNvCxnSpPr/>
          <p:nvPr/>
        </p:nvCxnSpPr>
        <p:spPr>
          <a:xfrm flipV="1">
            <a:off x="4211640" y="4970160"/>
            <a:ext cx="32472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4" name="Прямая со стрелкой 6"/>
          <p:cNvCxnSpPr/>
          <p:nvPr/>
        </p:nvCxnSpPr>
        <p:spPr>
          <a:xfrm flipV="1">
            <a:off x="1908000" y="4950720"/>
            <a:ext cx="32472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5" name="Прямая со стрелкой 7"/>
          <p:cNvCxnSpPr/>
          <p:nvPr/>
        </p:nvCxnSpPr>
        <p:spPr>
          <a:xfrm>
            <a:off x="703440" y="496080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6" name="Прямая со стрелкой 8"/>
          <p:cNvCxnSpPr/>
          <p:nvPr/>
        </p:nvCxnSpPr>
        <p:spPr>
          <a:xfrm>
            <a:off x="3059280" y="494172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2309760" y="1481040"/>
            <a:ext cx="452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420840" y="109440"/>
            <a:ext cx="8467560" cy="2676600"/>
          </a:xfrm>
          <a:prstGeom prst="rect">
            <a:avLst/>
          </a:prstGeom>
          <a:ln w="0">
            <a:noFill/>
          </a:ln>
        </p:spPr>
      </p:pic>
      <p:pic>
        <p:nvPicPr>
          <p:cNvPr id="372" name="Подзаголовок 2" descr=""/>
          <p:cNvPicPr/>
          <p:nvPr/>
        </p:nvPicPr>
        <p:blipFill>
          <a:blip r:embed="rId2"/>
          <a:stretch/>
        </p:blipFill>
        <p:spPr>
          <a:xfrm>
            <a:off x="682560" y="3535200"/>
            <a:ext cx="79488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298440" y="122400"/>
            <a:ext cx="8669520" cy="1341360"/>
          </a:xfrm>
          <a:prstGeom prst="rect">
            <a:avLst/>
          </a:prstGeom>
          <a:ln w="0">
            <a:noFill/>
          </a:ln>
        </p:spPr>
      </p:pic>
      <p:pic>
        <p:nvPicPr>
          <p:cNvPr id="374" name="Объект 4" descr="H:\МАТЕМАТИКА\Открытый урок\Производная\0 группа.jpg"/>
          <p:cNvPicPr/>
          <p:nvPr/>
        </p:nvPicPr>
        <p:blipFill>
          <a:blip r:embed="rId2"/>
          <a:stretch/>
        </p:blipFill>
        <p:spPr>
          <a:xfrm>
            <a:off x="1332000" y="1341360"/>
            <a:ext cx="6278400" cy="47563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7020000" y="4292640"/>
            <a:ext cx="183492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2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20113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3038400" y="2421000"/>
            <a:ext cx="306720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2376360" y="1758960"/>
            <a:ext cx="43912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йти область определения функци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Исследовать функцию на чётность, нечётность и периодичность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йти нули функции (точки пересечения графика функции с осями координат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Исследовать функцию на монотонность (найти промежутки возрастания и убывания функции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йти точки экстремума и экстремальные значения функци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йти дополнительные точки (если нужно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остроить график функции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95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Объект 1" descr=""/>
          <p:cNvPicPr/>
          <p:nvPr/>
        </p:nvPicPr>
        <p:blipFill>
          <a:blip r:embed="rId1"/>
          <a:stretch/>
        </p:blipFill>
        <p:spPr>
          <a:xfrm>
            <a:off x="450720" y="689040"/>
            <a:ext cx="8242560" cy="5321160"/>
          </a:xfrm>
          <a:prstGeom prst="rect">
            <a:avLst/>
          </a:prstGeom>
          <a:ln w="0">
            <a:noFill/>
          </a:ln>
        </p:spPr>
      </p:pic>
      <p:pic>
        <p:nvPicPr>
          <p:cNvPr id="383" name="Заголовок 2" descr=""/>
          <p:cNvPicPr/>
          <p:nvPr/>
        </p:nvPicPr>
        <p:blipFill>
          <a:blip r:embed="rId2"/>
          <a:stretch/>
        </p:blipFill>
        <p:spPr>
          <a:xfrm>
            <a:off x="390600" y="73080"/>
            <a:ext cx="8315280" cy="609480"/>
          </a:xfrm>
          <a:prstGeom prst="rect">
            <a:avLst/>
          </a:prstGeom>
          <a:ln w="0">
            <a:noFill/>
          </a:ln>
        </p:spPr>
      </p:pic>
      <p:sp>
        <p:nvSpPr>
          <p:cNvPr id="384" name="Стрелка вправо 3"/>
          <p:cNvSpPr/>
          <p:nvPr/>
        </p:nvSpPr>
        <p:spPr>
          <a:xfrm>
            <a:off x="2843280" y="220500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Стрелка вправо 4"/>
          <p:cNvSpPr/>
          <p:nvPr/>
        </p:nvSpPr>
        <p:spPr>
          <a:xfrm>
            <a:off x="5292720" y="158580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Стрелка вправо 5"/>
          <p:cNvSpPr/>
          <p:nvPr/>
        </p:nvSpPr>
        <p:spPr>
          <a:xfrm>
            <a:off x="3780000" y="136692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Стрелка вправо 6"/>
          <p:cNvSpPr/>
          <p:nvPr/>
        </p:nvSpPr>
        <p:spPr>
          <a:xfrm>
            <a:off x="2556000" y="422100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Стрелка вправо 7"/>
          <p:cNvSpPr/>
          <p:nvPr/>
        </p:nvSpPr>
        <p:spPr>
          <a:xfrm>
            <a:off x="2195640" y="486900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Стрелка вправо 8"/>
          <p:cNvSpPr/>
          <p:nvPr/>
        </p:nvSpPr>
        <p:spPr>
          <a:xfrm>
            <a:off x="1042920" y="393372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Стрелка вправо 9"/>
          <p:cNvSpPr/>
          <p:nvPr/>
        </p:nvSpPr>
        <p:spPr>
          <a:xfrm>
            <a:off x="4788000" y="416412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f᾽(-1)=3*(-1)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6*(-1)=3+6=9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, 9&gt;0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f᾽(1)=3*1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6*1=3-6=-3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, -3&lt;0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f᾽(3)=3*3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6*3=27-18=9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, 9&gt;0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Lucida Sans Unicode"/>
              </a:rPr>
              <a:t>5. Точки экстремума. Экстремальные значения    функции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 Unicode"/>
              </a:rPr>
              <a:t>max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=0            y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 Unicode"/>
              </a:rPr>
              <a:t>max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=0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3*0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+2=2           </a:t>
            </a:r>
            <a:r>
              <a:rPr b="1" lang="en-US" sz="1500" spc="-1" strike="noStrike">
                <a:solidFill>
                  <a:srgbClr val="a3171e"/>
                </a:solidFill>
                <a:latin typeface="Lucida Sans Unicode"/>
              </a:rPr>
              <a:t>E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(0;2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 Unicode"/>
              </a:rPr>
              <a:t>min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=2            y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 Unicode"/>
              </a:rPr>
              <a:t>min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=2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3*2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+2=8-12+2=-2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r>
              <a:rPr b="1" lang="en-US" sz="1500" spc="-1" strike="noStrike">
                <a:solidFill>
                  <a:srgbClr val="a3171e"/>
                </a:solidFill>
                <a:latin typeface="Lucida Sans Unicode"/>
              </a:rPr>
              <a:t>F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(2;-2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793880" y="765000"/>
          <a:ext cx="5688000" cy="1727280"/>
        </p:xfrm>
        <a:graphic>
          <a:graphicData uri="http://schemas.openxmlformats.org/drawingml/2006/table">
            <a:tbl>
              <a:tblPr/>
              <a:tblGrid>
                <a:gridCol w="566640"/>
                <a:gridCol w="1112760"/>
                <a:gridCol w="855720"/>
                <a:gridCol w="1148040"/>
                <a:gridCol w="857160"/>
                <a:gridCol w="1147680"/>
              </a:tblGrid>
              <a:tr h="295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-∞;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0;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2;+∞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68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᾽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295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cxnSp>
        <p:nvCxnSpPr>
          <p:cNvPr id="393" name="Прямая со стрелкой 4"/>
          <p:cNvCxnSpPr/>
          <p:nvPr/>
        </p:nvCxnSpPr>
        <p:spPr>
          <a:xfrm flipV="1">
            <a:off x="6806880" y="10073520"/>
            <a:ext cx="32436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4" name="Прямая со стрелкой 5"/>
          <p:cNvCxnSpPr/>
          <p:nvPr/>
        </p:nvCxnSpPr>
        <p:spPr>
          <a:xfrm flipV="1">
            <a:off x="9302760" y="10073880"/>
            <a:ext cx="3247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5" name="Прямая со стрелкой 6"/>
          <p:cNvCxnSpPr/>
          <p:nvPr/>
        </p:nvCxnSpPr>
        <p:spPr>
          <a:xfrm>
            <a:off x="8102520" y="1005516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6" name="Прямая со стрелкой 8"/>
          <p:cNvCxnSpPr/>
          <p:nvPr/>
        </p:nvCxnSpPr>
        <p:spPr>
          <a:xfrm flipV="1">
            <a:off x="2484360" y="1628280"/>
            <a:ext cx="936000" cy="43272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97" name="Прямая со стрелкой 10"/>
          <p:cNvCxnSpPr/>
          <p:nvPr/>
        </p:nvCxnSpPr>
        <p:spPr>
          <a:xfrm>
            <a:off x="4427280" y="1677960"/>
            <a:ext cx="937080" cy="43272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98" name="Прямая со стрелкой 12"/>
          <p:cNvCxnSpPr/>
          <p:nvPr/>
        </p:nvCxnSpPr>
        <p:spPr>
          <a:xfrm flipV="1">
            <a:off x="6386400" y="1690200"/>
            <a:ext cx="100872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9" name="Стрелка вправо 13"/>
          <p:cNvSpPr/>
          <p:nvPr/>
        </p:nvSpPr>
        <p:spPr>
          <a:xfrm>
            <a:off x="1835280" y="451800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Стрелка вправо 14"/>
          <p:cNvSpPr/>
          <p:nvPr/>
        </p:nvSpPr>
        <p:spPr>
          <a:xfrm>
            <a:off x="4427640" y="452448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Стрелка вправо 15"/>
          <p:cNvSpPr/>
          <p:nvPr/>
        </p:nvSpPr>
        <p:spPr>
          <a:xfrm>
            <a:off x="1835280" y="486900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Стрелка вправо 16"/>
          <p:cNvSpPr/>
          <p:nvPr/>
        </p:nvSpPr>
        <p:spPr>
          <a:xfrm>
            <a:off x="5580000" y="479592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Объект 3" descr="H:\МАТЕМАТИКА\Открытый урок\Производная\мой график.jpg"/>
          <p:cNvPicPr/>
          <p:nvPr/>
        </p:nvPicPr>
        <p:blipFill>
          <a:blip r:embed="rId1"/>
          <a:stretch/>
        </p:blipFill>
        <p:spPr>
          <a:xfrm>
            <a:off x="3564000" y="1557360"/>
            <a:ext cx="5470560" cy="439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4" name=""/>
          <p:cNvGraphicFramePr/>
          <p:nvPr/>
        </p:nvGraphicFramePr>
        <p:xfrm>
          <a:off x="250920" y="1125360"/>
          <a:ext cx="4465440" cy="1097280"/>
        </p:xfrm>
        <a:graphic>
          <a:graphicData uri="http://schemas.openxmlformats.org/drawingml/2006/table">
            <a:tbl>
              <a:tblPr/>
              <a:tblGrid>
                <a:gridCol w="446040"/>
                <a:gridCol w="873000"/>
                <a:gridCol w="671760"/>
                <a:gridCol w="901440"/>
                <a:gridCol w="671760"/>
                <a:gridCol w="901440"/>
              </a:tblGrid>
              <a:tr h="27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-∞;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0;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2;+∞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᾽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27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cxnSp>
        <p:nvCxnSpPr>
          <p:cNvPr id="405" name="Прямая со стрелкой 5"/>
          <p:cNvCxnSpPr/>
          <p:nvPr/>
        </p:nvCxnSpPr>
        <p:spPr>
          <a:xfrm flipV="1">
            <a:off x="6806880" y="10073520"/>
            <a:ext cx="32436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6" name="Прямая со стрелкой 6"/>
          <p:cNvCxnSpPr/>
          <p:nvPr/>
        </p:nvCxnSpPr>
        <p:spPr>
          <a:xfrm flipV="1">
            <a:off x="9302760" y="10073880"/>
            <a:ext cx="3247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7" name="Прямая со стрелкой 7"/>
          <p:cNvCxnSpPr/>
          <p:nvPr/>
        </p:nvCxnSpPr>
        <p:spPr>
          <a:xfrm>
            <a:off x="8102520" y="1005516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8" name="Прямая со стрелкой 2"/>
          <p:cNvCxnSpPr/>
          <p:nvPr/>
        </p:nvCxnSpPr>
        <p:spPr>
          <a:xfrm flipV="1">
            <a:off x="755280" y="1699920"/>
            <a:ext cx="6483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9" name="Прямая со стрелкой 9"/>
          <p:cNvCxnSpPr/>
          <p:nvPr/>
        </p:nvCxnSpPr>
        <p:spPr>
          <a:xfrm>
            <a:off x="2268000" y="1700280"/>
            <a:ext cx="7916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0" name="Прямая со стрелкой 11"/>
          <p:cNvCxnSpPr/>
          <p:nvPr/>
        </p:nvCxnSpPr>
        <p:spPr>
          <a:xfrm flipV="1">
            <a:off x="3850920" y="1672560"/>
            <a:ext cx="86580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7:47:16Z</dcterms:created>
  <dc:creator>Lex</dc:creator>
  <dc:description/>
  <dc:language>en-US</dc:language>
  <cp:lastModifiedBy>Admin</cp:lastModifiedBy>
  <dcterms:modified xsi:type="dcterms:W3CDTF">2012-01-15T09:23:31Z</dcterms:modified>
  <cp:revision>1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227000000000001024140</vt:lpwstr>
  </property>
</Properties>
</file>