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4.jpeg" ContentType="image/jpeg"/>
  <Override PartName="/ppt/media/image11.jpeg" ContentType="image/jpe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4C51-10C3-4F77-A539-766FC190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4F3F-FAC8-483B-924B-443FC7A3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07B-A56F-40D1-906F-E04A020D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ECC-5A9B-49B9-A00E-B3C63281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FB8-62D9-4495-B9C4-500A9A39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791B-ADB7-42ED-9BA7-6156FDB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BCA-41FE-42C5-8B7E-846761C1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4D7A-8FCA-4715-9AE0-5513D011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CCF7-5EC8-4EEA-832C-0ECED71B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AF6B-9018-4AA7-A644-713C60B5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CB57-FF83-4666-B18B-CE091236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AD61-4F3B-4C0E-B524-F06CFE0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F11C-9184-4C86-BEA6-EF4D19B8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CF8D-5CAE-4A7F-A1D5-EC3C4E8F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5A60-6BCD-476D-8990-B7F6BE56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E59-FEE7-4AC2-9B96-0B74439D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5B3D-8446-4BC9-A42A-E15B5D37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3A58-91FB-4FD5-A626-836578BF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95057-336D-458E-AA03-A572764B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2617-B9D8-4455-B9FC-5FCA91C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8949-D212-4A39-A4D5-E54F2F35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62439-07A7-49ED-AE1E-8A4D9278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502-CBC2-45CF-9F3A-FE88D6BB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9560-9F97-49EE-9E3D-B3B9BC7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8016-D474-4908-86E6-0E4173FA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D8494-163A-48F9-B9A5-21614871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41CB-5E8B-4993-A058-93A7385B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7013-4DE7-4B03-AB2B-37D3A7C9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D4ED5-857C-4EBA-B30A-9C2F9C99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A36F4-C4F9-42C5-9145-75A18A30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BD29-F6C9-4E20-B9FF-CF06C55D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A3C41-E4A2-4B5A-B5FC-AAE7C88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4ED1-A736-4E04-A5F3-A704353F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F64-BA4E-42D1-B7C2-C4DED63C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9761-7E9D-4C7B-B650-07B26594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45D0D-1A51-4480-87A1-EFAE0B3F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3869-C85F-442D-AF91-0954D22F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FFF07-C210-4D57-95EB-74B849FC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6C94-A056-44A7-ACB4-49E461F6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9FB31-2C9F-4DFC-82B4-AB5E5BF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9D2C-DCB4-4AF6-830B-1ACAE0D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7E8C1-C82C-4E85-8CB2-49408FA3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3E422-2C69-45B4-B5ED-ECD2F103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865F1-CBE4-43A0-A4E3-23624C73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F6F-892F-4024-B2A0-11DAAF8C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FDCE-D96A-4F31-B53B-B7B2D175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5E9F2-4D35-44D1-B897-54CCAF8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CBCA-63A4-4263-8B34-EC40FD2C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91F2-8563-4F20-ABC1-AD7B7160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CD108-DE64-4909-AC16-C75CAD9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2A90B-6D74-4320-8D2D-77E65EC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E3E19-86B5-4F2B-8659-9A3A35E0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E12C-DA15-4639-A53C-B6869C1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F64EE-AB77-43F1-A4E7-280B546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BFD2-2923-4D2E-8ECF-7565FB78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C7A-73F8-49C2-A537-601A9A2A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5501-9C91-4274-8033-96F1F8D5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9D26E-886F-4A19-A9BD-44078CE4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AD3F2-1BA6-4AE8-B244-05B0D79C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52314-BE00-4AEA-8E56-0A055B6A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2D15-1DA0-4D53-A933-14213569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D65C0-B7BB-4FB2-85A8-F6ABE18C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1D0EB-E4A8-4B75-ACE3-8AC995B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7E39-E483-4F33-ACAD-B7F479BD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71653-F0B6-4F62-A662-3F0CFDB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1CF58-24DA-480F-9B7F-DA58BDA2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729-71DA-4F09-8D15-86133877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1F207-E00D-4786-8798-6E9A2087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EE08-45D2-4C67-BE33-CB65E285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9AF3A-926C-463E-8081-C69CDC0C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9937D-AD80-44D6-8438-EDDE3489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0ADB3-6EB4-45C1-BDD8-EB70C7A6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558F8-2544-4B39-927B-F5F1FB49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42DBE-1B35-4868-A6B5-25D6B1BC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1C962-2CA6-4D6A-85E1-00627AE9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8FF7-43D3-4A8E-A14B-731DD50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CF835-921F-4EEA-8512-9F2A1C0C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00F1-60F0-4546-9DE7-96FCCDA7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9106B-640C-4270-A2C9-BBE774D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75DEA-AF40-4C3C-A48D-1B86046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0DEAC-F97A-4D58-AF24-E87BFD80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08F57-229A-4483-A949-4F4C06AF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F760A-2EF0-42F3-932B-F32CA434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A281F-FDA3-4A51-90B5-FE821958C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551BE-0ED2-4ECE-B37D-B73B3681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0F1B3-AC85-4F80-99CD-542DA9A0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428DE-FE6B-43B4-B8EA-D1735D7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573CA-9983-4F5F-8BF2-AE12DFC4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066-43AE-4A8C-A9E9-683EB422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1876-5A98-4A2C-96AE-5CD076D3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699E-3697-4854-A2BA-557D6953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65BEA-C654-440D-AD75-27E0D765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9F0DC-10EA-4902-A177-6A2784B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E5B9B-9017-45EC-8BCF-40252493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4B2B-C473-466A-8073-0BC9B93D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2AD6C-4B72-43CC-A6E9-856B63B4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734E-89A1-4FC0-83AE-2650EFE38C52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7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194-AF4F-4811-B3C7-74C9BCD52F0C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138D-598E-459F-B7A9-DF8A4FFBEE72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78B2-CE51-44D0-AD32-783A100DC5A5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D9C3-5DA4-435A-9DCB-597E3918374F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B0C-7E45-4EAF-A027-730DED0B20E9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9EA7-A701-46CF-AC1C-59812FBE379A}" type="slidenum">
              <a:rPr b="0" lang="uk-U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7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8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DAA-4E38-43E7-B586-7ED6B4A8985D}" type="slidenum">
              <a:rPr b="0" lang="uk-U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443320" y="1481040"/>
            <a:ext cx="4257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группа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 группа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5580000" y="1844640"/>
            <a:ext cx="303840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uk-UA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11523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3" descr="H:\МАТЕМАТИКА\Открытый урок\Производная\1 группа.jpg"/>
          <p:cNvPicPr/>
          <p:nvPr/>
        </p:nvPicPr>
        <p:blipFill>
          <a:blip r:embed="rId2"/>
          <a:stretch/>
        </p:blipFill>
        <p:spPr>
          <a:xfrm>
            <a:off x="3995640" y="1844640"/>
            <a:ext cx="5040360" cy="4421160"/>
          </a:xfrm>
          <a:prstGeom prst="rect">
            <a:avLst/>
          </a:prstGeom>
          <a:ln w="0">
            <a:noFill/>
          </a:ln>
        </p:spPr>
      </p:pic>
      <p:pic>
        <p:nvPicPr>
          <p:cNvPr id="417" name="Таблица 4" descr=""/>
          <p:cNvPicPr/>
          <p:nvPr/>
        </p:nvPicPr>
        <p:blipFill>
          <a:blip r:embed="rId3"/>
          <a:stretch/>
        </p:blipFill>
        <p:spPr>
          <a:xfrm>
            <a:off x="30240" y="3151080"/>
            <a:ext cx="4687920" cy="1487520"/>
          </a:xfrm>
          <a:prstGeom prst="rect">
            <a:avLst/>
          </a:prstGeom>
          <a:ln w="0">
            <a:noFill/>
          </a:ln>
        </p:spPr>
      </p:pic>
      <p:cxnSp>
        <p:nvCxnSpPr>
          <p:cNvPr id="418" name="Прямая со стрелкой 5"/>
          <p:cNvCxnSpPr/>
          <p:nvPr/>
        </p:nvCxnSpPr>
        <p:spPr>
          <a:xfrm flipV="1">
            <a:off x="6806880" y="916704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6"/>
          <p:cNvCxnSpPr/>
          <p:nvPr/>
        </p:nvCxnSpPr>
        <p:spPr>
          <a:xfrm flipV="1">
            <a:off x="9302760" y="916740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Прямая со стрелкой 7"/>
          <p:cNvCxnSpPr/>
          <p:nvPr/>
        </p:nvCxnSpPr>
        <p:spPr>
          <a:xfrm>
            <a:off x="8102520" y="914868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9"/>
          <p:cNvCxnSpPr/>
          <p:nvPr/>
        </p:nvCxnSpPr>
        <p:spPr>
          <a:xfrm>
            <a:off x="2340000" y="4005000"/>
            <a:ext cx="50400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Прямая со стрелкой 11"/>
          <p:cNvCxnSpPr/>
          <p:nvPr/>
        </p:nvCxnSpPr>
        <p:spPr>
          <a:xfrm flipV="1">
            <a:off x="3850920" y="4005000"/>
            <a:ext cx="577080" cy="16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3" name="Прямая со стрелкой 13"/>
          <p:cNvCxnSpPr/>
          <p:nvPr/>
        </p:nvCxnSpPr>
        <p:spPr>
          <a:xfrm flipV="1">
            <a:off x="684000" y="4004640"/>
            <a:ext cx="648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3" descr="H:\МАТЕМАТИКА\Открытый урок\Производная\2 группа.jpg"/>
          <p:cNvPicPr/>
          <p:nvPr/>
        </p:nvPicPr>
        <p:blipFill>
          <a:blip r:embed="rId2"/>
          <a:stretch/>
        </p:blipFill>
        <p:spPr>
          <a:xfrm>
            <a:off x="4067280" y="1844640"/>
            <a:ext cx="491472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7" name=""/>
          <p:cNvGraphicFramePr/>
          <p:nvPr/>
        </p:nvGraphicFramePr>
        <p:xfrm>
          <a:off x="216000" y="3273480"/>
          <a:ext cx="4248000" cy="1096920"/>
        </p:xfrm>
        <a:graphic>
          <a:graphicData uri="http://schemas.openxmlformats.org/drawingml/2006/table">
            <a:tbl>
              <a:tblPr/>
              <a:tblGrid>
                <a:gridCol w="471240"/>
                <a:gridCol w="833760"/>
                <a:gridCol w="618840"/>
                <a:gridCol w="881280"/>
                <a:gridCol w="641160"/>
                <a:gridCol w="801720"/>
              </a:tblGrid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-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1;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1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28" name="Прямая со стрелкой 5"/>
          <p:cNvCxnSpPr/>
          <p:nvPr/>
        </p:nvCxnSpPr>
        <p:spPr>
          <a:xfrm flipV="1">
            <a:off x="2374920" y="3857400"/>
            <a:ext cx="39600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9" name="Прямая со стрелкой 6"/>
          <p:cNvCxnSpPr/>
          <p:nvPr/>
        </p:nvCxnSpPr>
        <p:spPr>
          <a:xfrm>
            <a:off x="3809880" y="3868200"/>
            <a:ext cx="43272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0" name="Прямая со стрелкой 7"/>
          <p:cNvCxnSpPr/>
          <p:nvPr/>
        </p:nvCxnSpPr>
        <p:spPr>
          <a:xfrm>
            <a:off x="900000" y="3868560"/>
            <a:ext cx="432720" cy="24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:\МАТЕМАТИКА\Открытый урок\Производная\3 группа.png"/>
          <p:cNvPicPr/>
          <p:nvPr/>
        </p:nvPicPr>
        <p:blipFill>
          <a:blip r:embed="rId2"/>
          <a:stretch/>
        </p:blipFill>
        <p:spPr>
          <a:xfrm>
            <a:off x="4371840" y="1901880"/>
            <a:ext cx="4772160" cy="4390920"/>
          </a:xfrm>
          <a:prstGeom prst="rect">
            <a:avLst/>
          </a:prstGeom>
          <a:ln w="0">
            <a:noFill/>
          </a:ln>
        </p:spPr>
      </p:pic>
      <p:pic>
        <p:nvPicPr>
          <p:cNvPr id="434" name="Таблица 3" descr=""/>
          <p:cNvPicPr/>
          <p:nvPr/>
        </p:nvPicPr>
        <p:blipFill>
          <a:blip r:embed="rId3"/>
          <a:stretch/>
        </p:blipFill>
        <p:spPr>
          <a:xfrm>
            <a:off x="-36360" y="3067200"/>
            <a:ext cx="4608360" cy="1285560"/>
          </a:xfrm>
          <a:prstGeom prst="rect">
            <a:avLst/>
          </a:prstGeom>
          <a:ln w="0">
            <a:noFill/>
          </a:ln>
        </p:spPr>
      </p:pic>
      <p:cxnSp>
        <p:nvCxnSpPr>
          <p:cNvPr id="435" name="Прямая со стрелкой 5"/>
          <p:cNvCxnSpPr/>
          <p:nvPr/>
        </p:nvCxnSpPr>
        <p:spPr>
          <a:xfrm flipV="1">
            <a:off x="6806880" y="8135640"/>
            <a:ext cx="32436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Прямая со стрелкой 6"/>
          <p:cNvCxnSpPr/>
          <p:nvPr/>
        </p:nvCxnSpPr>
        <p:spPr>
          <a:xfrm flipV="1">
            <a:off x="9302760" y="813528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Прямая со стрелкой 7"/>
          <p:cNvCxnSpPr/>
          <p:nvPr/>
        </p:nvCxnSpPr>
        <p:spPr>
          <a:xfrm>
            <a:off x="8102520" y="8116560"/>
            <a:ext cx="2955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Прямая со стрелкой 9"/>
          <p:cNvCxnSpPr/>
          <p:nvPr/>
        </p:nvCxnSpPr>
        <p:spPr>
          <a:xfrm flipV="1">
            <a:off x="61128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Прямая со стрелкой 11"/>
          <p:cNvCxnSpPr/>
          <p:nvPr/>
        </p:nvCxnSpPr>
        <p:spPr>
          <a:xfrm>
            <a:off x="2195640" y="3789000"/>
            <a:ext cx="505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Прямая со стрелкой 13"/>
          <p:cNvCxnSpPr/>
          <p:nvPr/>
        </p:nvCxnSpPr>
        <p:spPr>
          <a:xfrm flipV="1">
            <a:off x="3708000" y="3789000"/>
            <a:ext cx="57708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-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+2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3" descr="H:\МАТЕМАТИКА\Открытый урок\Производная\4 группа.jpg"/>
          <p:cNvPicPr/>
          <p:nvPr/>
        </p:nvPicPr>
        <p:blipFill>
          <a:blip r:embed="rId2"/>
          <a:stretch/>
        </p:blipFill>
        <p:spPr>
          <a:xfrm>
            <a:off x="4299120" y="1844640"/>
            <a:ext cx="4681440" cy="4388040"/>
          </a:xfrm>
          <a:prstGeom prst="rect">
            <a:avLst/>
          </a:prstGeom>
          <a:ln w="0">
            <a:noFill/>
          </a:ln>
        </p:spPr>
      </p:pic>
      <p:pic>
        <p:nvPicPr>
          <p:cNvPr id="444" name="Таблица 4" descr=""/>
          <p:cNvPicPr/>
          <p:nvPr/>
        </p:nvPicPr>
        <p:blipFill>
          <a:blip r:embed="rId3"/>
          <a:stretch/>
        </p:blipFill>
        <p:spPr>
          <a:xfrm>
            <a:off x="36360" y="1627200"/>
            <a:ext cx="5450040" cy="1768320"/>
          </a:xfrm>
          <a:prstGeom prst="rect">
            <a:avLst/>
          </a:prstGeom>
          <a:ln w="0">
            <a:noFill/>
          </a:ln>
        </p:spPr>
      </p:pic>
      <p:cxnSp>
        <p:nvCxnSpPr>
          <p:cNvPr id="445" name="Прямая со стрелкой 5"/>
          <p:cNvCxnSpPr/>
          <p:nvPr/>
        </p:nvCxnSpPr>
        <p:spPr>
          <a:xfrm flipV="1">
            <a:off x="1042920" y="263664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6" name="Прямая со стрелкой 6"/>
          <p:cNvCxnSpPr/>
          <p:nvPr/>
        </p:nvCxnSpPr>
        <p:spPr>
          <a:xfrm flipV="1">
            <a:off x="3563640" y="2679120"/>
            <a:ext cx="32436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7" name="Прямая со стрелкой 7"/>
          <p:cNvCxnSpPr/>
          <p:nvPr/>
        </p:nvCxnSpPr>
        <p:spPr>
          <a:xfrm>
            <a:off x="2410920" y="2651040"/>
            <a:ext cx="2962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8" name="Прямая со стрелкой 8"/>
          <p:cNvCxnSpPr/>
          <p:nvPr/>
        </p:nvCxnSpPr>
        <p:spPr>
          <a:xfrm>
            <a:off x="4716360" y="2674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к функции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=3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6х</a:t>
            </a:r>
            <a:r>
              <a:rPr b="0" lang="ru-RU" sz="27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3" descr="H:\МАТЕМАТИКА\Открытый урок\Производная\5 Группа.jpg"/>
          <p:cNvPicPr/>
          <p:nvPr/>
        </p:nvPicPr>
        <p:blipFill>
          <a:blip r:embed="rId2"/>
          <a:stretch/>
        </p:blipFill>
        <p:spPr>
          <a:xfrm>
            <a:off x="4667400" y="1916280"/>
            <a:ext cx="4479840" cy="4408200"/>
          </a:xfrm>
          <a:prstGeom prst="rect">
            <a:avLst/>
          </a:prstGeom>
          <a:ln w="0">
            <a:noFill/>
          </a:ln>
        </p:spPr>
      </p:pic>
      <p:pic>
        <p:nvPicPr>
          <p:cNvPr id="452" name="Таблица 4" descr=""/>
          <p:cNvPicPr/>
          <p:nvPr/>
        </p:nvPicPr>
        <p:blipFill>
          <a:blip r:embed="rId3"/>
          <a:stretch/>
        </p:blipFill>
        <p:spPr>
          <a:xfrm>
            <a:off x="-42840" y="4290840"/>
            <a:ext cx="51213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5"/>
          <p:cNvCxnSpPr/>
          <p:nvPr/>
        </p:nvCxnSpPr>
        <p:spPr>
          <a:xfrm flipV="1">
            <a:off x="4211640" y="4970160"/>
            <a:ext cx="32472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4" name="Прямая со стрелкой 6"/>
          <p:cNvCxnSpPr/>
          <p:nvPr/>
        </p:nvCxnSpPr>
        <p:spPr>
          <a:xfrm flipV="1">
            <a:off x="1908000" y="4950720"/>
            <a:ext cx="3247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5" name="Прямая со стрелкой 7"/>
          <p:cNvCxnSpPr/>
          <p:nvPr/>
        </p:nvCxnSpPr>
        <p:spPr>
          <a:xfrm>
            <a:off x="703440" y="496080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Прямая со стрелкой 8"/>
          <p:cNvCxnSpPr/>
          <p:nvPr/>
        </p:nvCxnSpPr>
        <p:spPr>
          <a:xfrm>
            <a:off x="3059280" y="494172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2309760" y="1481040"/>
            <a:ext cx="452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467560" cy="2676600"/>
          </a:xfrm>
          <a:prstGeom prst="rect">
            <a:avLst/>
          </a:prstGeom>
          <a:ln w="0">
            <a:noFill/>
          </a:ln>
        </p:spPr>
      </p:pic>
      <p:pic>
        <p:nvPicPr>
          <p:cNvPr id="372" name="Подзаголовок 2" descr=""/>
          <p:cNvPicPr/>
          <p:nvPr/>
        </p:nvPicPr>
        <p:blipFill>
          <a:blip r:embed="rId2"/>
          <a:stretch/>
        </p:blipFill>
        <p:spPr>
          <a:xfrm>
            <a:off x="682560" y="3535200"/>
            <a:ext cx="79488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Заголовок 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669520" cy="1341360"/>
          </a:xfrm>
          <a:prstGeom prst="rect">
            <a:avLst/>
          </a:prstGeom>
          <a:ln w="0">
            <a:noFill/>
          </a:ln>
        </p:spPr>
      </p:pic>
      <p:pic>
        <p:nvPicPr>
          <p:cNvPr id="374" name="Объект 4" descr="H:\МАТЕМАТИКА\Открытый урок\Производная\0 группа.jpg"/>
          <p:cNvPicPr/>
          <p:nvPr/>
        </p:nvPicPr>
        <p:blipFill>
          <a:blip r:embed="rId2"/>
          <a:stretch/>
        </p:blipFill>
        <p:spPr>
          <a:xfrm>
            <a:off x="1332000" y="1341360"/>
            <a:ext cx="6278400" cy="4756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7020000" y="4292640"/>
            <a:ext cx="183492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2011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"/>
          <p:cNvPicPr/>
          <p:nvPr/>
        </p:nvPicPr>
        <p:blipFill>
          <a:blip r:embed="rId2"/>
          <a:stretch/>
        </p:blipFill>
        <p:spPr>
          <a:xfrm>
            <a:off x="3038400" y="2421000"/>
            <a:ext cx="30672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2376360" y="1758960"/>
            <a:ext cx="43912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область определ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чётность, нечётность и периодичность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нули функции (точки пересечения графика функции с осями координат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Исследовать функцию на монотонность (найти промежутки возрастания и убывания функции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точки экстремума и экстремальные значения функци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Найти дополнительные точки (если нужно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Построить график функции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9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Объект 1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321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2" descr=""/>
          <p:cNvPicPr/>
          <p:nvPr/>
        </p:nvPicPr>
        <p:blipFill>
          <a:blip r:embed="rId2"/>
          <a:stretch/>
        </p:blipFill>
        <p:spPr>
          <a:xfrm>
            <a:off x="390600" y="73080"/>
            <a:ext cx="8315280" cy="609480"/>
          </a:xfrm>
          <a:prstGeom prst="rect">
            <a:avLst/>
          </a:prstGeom>
          <a:ln w="0">
            <a:noFill/>
          </a:ln>
        </p:spPr>
      </p:pic>
      <p:sp>
        <p:nvSpPr>
          <p:cNvPr id="384" name="Стрелка вправо 3"/>
          <p:cNvSpPr/>
          <p:nvPr/>
        </p:nvSpPr>
        <p:spPr>
          <a:xfrm>
            <a:off x="2843280" y="2205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Стрелка вправо 4"/>
          <p:cNvSpPr/>
          <p:nvPr/>
        </p:nvSpPr>
        <p:spPr>
          <a:xfrm>
            <a:off x="5292720" y="15858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Стрелка вправо 5"/>
          <p:cNvSpPr/>
          <p:nvPr/>
        </p:nvSpPr>
        <p:spPr>
          <a:xfrm>
            <a:off x="3780000" y="1366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Стрелка вправо 6"/>
          <p:cNvSpPr/>
          <p:nvPr/>
        </p:nvSpPr>
        <p:spPr>
          <a:xfrm>
            <a:off x="2556000" y="4221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Стрелка вправо 7"/>
          <p:cNvSpPr/>
          <p:nvPr/>
        </p:nvSpPr>
        <p:spPr>
          <a:xfrm>
            <a:off x="219564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Стрелка вправо 8"/>
          <p:cNvSpPr/>
          <p:nvPr/>
        </p:nvSpPr>
        <p:spPr>
          <a:xfrm>
            <a:off x="1042920" y="393372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Стрелка вправо 9"/>
          <p:cNvSpPr/>
          <p:nvPr/>
        </p:nvSpPr>
        <p:spPr>
          <a:xfrm>
            <a:off x="4788000" y="41641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-1)=3*(-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(-1)=3+6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1)=3*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1=3-6=-3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-3&l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f᾽(3)=3*3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6*3=27-18=9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, 9&gt;0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70c0"/>
                </a:solidFill>
                <a:latin typeface="Lucida Sans Unicode"/>
              </a:rPr>
              <a:t>5. Точки экстремума. Экстремальные значения    функци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ax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0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2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E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0;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X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            y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Lucida Sans Unicode"/>
              </a:rPr>
              <a:t>min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=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-3*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+2=8-12+2=-2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r>
              <a:rPr b="1" lang="en-US" sz="1500" spc="-1" strike="noStrike">
                <a:solidFill>
                  <a:srgbClr val="a3171e"/>
                </a:solidFill>
                <a:latin typeface="Lucida Sans Unicode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Lucida Sans Unicode"/>
              </a:rPr>
              <a:t>(2;-2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793880" y="765000"/>
          <a:ext cx="5688000" cy="1727280"/>
        </p:xfrm>
        <a:graphic>
          <a:graphicData uri="http://schemas.openxmlformats.org/drawingml/2006/table">
            <a:tbl>
              <a:tblPr/>
              <a:tblGrid>
                <a:gridCol w="566640"/>
                <a:gridCol w="1112760"/>
                <a:gridCol w="855720"/>
                <a:gridCol w="1148040"/>
                <a:gridCol w="857160"/>
                <a:gridCol w="1147680"/>
              </a:tblGrid>
              <a:tr h="295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68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68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95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393" name="Прямая со стрелкой 4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Прямая со стрелкой 5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6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6" name="Прямая со стрелкой 8"/>
          <p:cNvCxnSpPr/>
          <p:nvPr/>
        </p:nvCxnSpPr>
        <p:spPr>
          <a:xfrm flipV="1">
            <a:off x="2484360" y="1628280"/>
            <a:ext cx="93600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7" name="Прямая со стрелкой 10"/>
          <p:cNvCxnSpPr/>
          <p:nvPr/>
        </p:nvCxnSpPr>
        <p:spPr>
          <a:xfrm>
            <a:off x="4427280" y="1677960"/>
            <a:ext cx="937080" cy="43272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398" name="Прямая со стрелкой 12"/>
          <p:cNvCxnSpPr/>
          <p:nvPr/>
        </p:nvCxnSpPr>
        <p:spPr>
          <a:xfrm flipV="1">
            <a:off x="6386400" y="1690200"/>
            <a:ext cx="100872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9" name="Стрелка вправо 13"/>
          <p:cNvSpPr/>
          <p:nvPr/>
        </p:nvSpPr>
        <p:spPr>
          <a:xfrm>
            <a:off x="1835280" y="4518000"/>
            <a:ext cx="209520" cy="114480"/>
          </a:xfrm>
          <a:prstGeom prst="rightArrow">
            <a:avLst>
              <a:gd name="adj1" fmla="val 50000"/>
              <a:gd name="adj2" fmla="val 49915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Стрелка вправо 14"/>
          <p:cNvSpPr/>
          <p:nvPr/>
        </p:nvSpPr>
        <p:spPr>
          <a:xfrm>
            <a:off x="4427640" y="452448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Стрелка вправо 15"/>
          <p:cNvSpPr/>
          <p:nvPr/>
        </p:nvSpPr>
        <p:spPr>
          <a:xfrm>
            <a:off x="1835280" y="486900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Стрелка вправо 16"/>
          <p:cNvSpPr/>
          <p:nvPr/>
        </p:nvSpPr>
        <p:spPr>
          <a:xfrm>
            <a:off x="5580000" y="4795920"/>
            <a:ext cx="209520" cy="114120"/>
          </a:xfrm>
          <a:prstGeom prst="rightArrow">
            <a:avLst>
              <a:gd name="adj1" fmla="val 50000"/>
              <a:gd name="adj2" fmla="val 50072"/>
            </a:avLst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3" descr="H:\МАТЕМАТИКА\Открытый урок\Производная\мой график.jpg"/>
          <p:cNvPicPr/>
          <p:nvPr/>
        </p:nvPicPr>
        <p:blipFill>
          <a:blip r:embed="rId1"/>
          <a:stretch/>
        </p:blipFill>
        <p:spPr>
          <a:xfrm>
            <a:off x="3564000" y="1557360"/>
            <a:ext cx="5470560" cy="43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4" name=""/>
          <p:cNvGraphicFramePr/>
          <p:nvPr/>
        </p:nvGraphicFramePr>
        <p:xfrm>
          <a:off x="250920" y="1125360"/>
          <a:ext cx="4465440" cy="1097280"/>
        </p:xfrm>
        <a:graphic>
          <a:graphicData uri="http://schemas.openxmlformats.org/drawingml/2006/table">
            <a:tbl>
              <a:tblPr/>
              <a:tblGrid>
                <a:gridCol w="446040"/>
                <a:gridCol w="873000"/>
                <a:gridCol w="671760"/>
                <a:gridCol w="901440"/>
                <a:gridCol w="671760"/>
                <a:gridCol w="901440"/>
              </a:tblGrid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-∞;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0;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2;+∞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᾽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(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27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  <p:cxnSp>
        <p:nvCxnSpPr>
          <p:cNvPr id="405" name="Прямая со стрелкой 5"/>
          <p:cNvCxnSpPr/>
          <p:nvPr/>
        </p:nvCxnSpPr>
        <p:spPr>
          <a:xfrm flipV="1">
            <a:off x="6806880" y="10073520"/>
            <a:ext cx="324360" cy="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Прямая со стрелкой 6"/>
          <p:cNvCxnSpPr/>
          <p:nvPr/>
        </p:nvCxnSpPr>
        <p:spPr>
          <a:xfrm flipV="1">
            <a:off x="9302760" y="10073880"/>
            <a:ext cx="3247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7" name="Прямая со стрелкой 7"/>
          <p:cNvCxnSpPr/>
          <p:nvPr/>
        </p:nvCxnSpPr>
        <p:spPr>
          <a:xfrm>
            <a:off x="8102520" y="10055160"/>
            <a:ext cx="29556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8" name="Прямая со стрелкой 2"/>
          <p:cNvCxnSpPr/>
          <p:nvPr/>
        </p:nvCxnSpPr>
        <p:spPr>
          <a:xfrm flipV="1">
            <a:off x="755280" y="1699920"/>
            <a:ext cx="6483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Прямая со стрелкой 9"/>
          <p:cNvCxnSpPr/>
          <p:nvPr/>
        </p:nvCxnSpPr>
        <p:spPr>
          <a:xfrm>
            <a:off x="2268000" y="1700280"/>
            <a:ext cx="7916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V="1">
            <a:off x="3850920" y="1672560"/>
            <a:ext cx="865800" cy="2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17:47:16Z</dcterms:created>
  <dc:creator>Lex</dc:creator>
  <dc:description/>
  <dc:language>en-US</dc:language>
  <cp:lastModifiedBy>Admin</cp:lastModifiedBy>
  <dcterms:modified xsi:type="dcterms:W3CDTF">2012-01-15T09:23:31Z</dcterms:modified>
  <cp:revision>1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227000000000001024140</vt:lpwstr>
  </property>
</Properties>
</file>