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DC6-CFDF-439A-A543-AE978953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7B0-4EB1-4544-AEAF-F49E9E69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B98-B152-4DA5-909E-F889063F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7DE-B389-40A1-AEA8-3DD3D57E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E23D-EA1C-424E-933F-EB32170C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7517-2C00-4FAF-897D-3393E55C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8C2-BAE8-4890-806B-750205B1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512B-32A0-4EC7-BB4C-553DA420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4AFE-9C78-4512-94F6-F49D94CB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1135-DF66-4670-817D-3C1CB257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64F0-6C6C-42EE-ADCB-F9565F6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215-EB76-400D-B0FE-C3B4A9A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4F9F-0A6F-49EE-A7D8-45603DF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55A4-A577-4C90-9BEA-A9128BC6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7797-BA35-47B0-964C-7365C1B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48F-4D1C-4DF4-BE7E-75A7032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0828-D9A0-4B76-AB33-D1F176A5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4AF-4966-407E-B59F-ED6BCF38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0D7-44F5-4AF4-A91B-3C3F2AD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2CB-3CD8-4650-9A94-520D1EBA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576-2E18-4046-A757-6901DD9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2B3-2C8B-4447-9444-97A5077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ED7-13FE-4508-8096-771BE9E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C3B-28A2-40FE-846B-C847F94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7A4E-516D-47D8-BCB2-436359B58BB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DA3A-0073-489E-9378-1E8511E81C9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1447920"/>
            <a:ext cx="6933960" cy="65530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Математическая ярмарка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" Десятичные дроби "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Давайте поиграем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1.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ти числ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2,7; 11,4; 5,64; 1,579; 203,6; 326,7034; 0,8; 2,80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0,09; 145,008; 0,04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2. Придумай десятичные дроби и предлож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итать своим друзь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3. По заготовкам придумай числа и прочти их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    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.    …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35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705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18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25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36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4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Как ты думаешь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8760"/>
            <a:ext cx="79250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очему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цел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еред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ервой цифрой в записи числа можно дописывать нулей сколько угодн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А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дробн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осле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оследней цифр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ерны ли равенства?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,200 = 3,2                          7,80 = 7,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6,0002 = 6,2                        500,000 = 5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500,00 = 5                           3000,3000 = 3000,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7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225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195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185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395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де ловушк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,80; 700,02040; 184,500200; 6080,00400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прочтите полученные чис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пишите в виде десятичной дроби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038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8098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2670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56386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5181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56386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267080"/>
            <a:ext cx="5331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56386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4267080"/>
            <a:ext cx="685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638680"/>
            <a:ext cx="381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26708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4267080"/>
            <a:ext cx="761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15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805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235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94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590920" y="5335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ение чис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140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533520" y="23623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равни целые части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3962520"/>
            <a:ext cx="8305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Сравни дробные 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и по разрядам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62120" y="60948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 числа: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1276    и    8,1                                 162,3    и  16, 23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, 207      и   11, 9879                        35, 78  и    4, 578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480" y="2286000"/>
            <a:ext cx="7696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19,003    и 419, 103                          50, 29  и  52, 09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6082   и       0, 6080                       0,9       и     0, 900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38098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, не подставляя цифр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, .   и    . . , .  ;    . , 000 .   и   . , 000 . ;   0, . . .    и   0, . ;  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. . , . .   и   . . , . . ;    . , . .    и    . , . . . ;   . . , .   и  . . . , 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2209680" y="457200"/>
            <a:ext cx="40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2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гление чисел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840" y="1981080"/>
            <a:ext cx="886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Если последняя цифра больше 5, то отбрось её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предыдущую увеличь на 1:      27,6  ≈ 28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3200400"/>
            <a:ext cx="8658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00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Если меньше 5, то просто её отбрасываем: 27,4≈ 27</a:t>
            </a:r>
            <a:endParaRPr b="0" lang="en-US" sz="1800" spc="1" strike="noStrike">
              <a:ln w="24120">
                <a:solidFill>
                  <a:srgbClr val="ff00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4038480"/>
            <a:ext cx="878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Если указано, до которой по счёту округлять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смотри на предыдущий разряд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362320" cy="14000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50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571d"/>
                </a:solidFill>
                <a:latin typeface="Arial"/>
              </a:rPr>
              <a:t>Вместо точек вставь пропущенные циф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3,28. = 3,28                          5,.4 = 5,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0,012. = 0,013                      8,6.8 = 8,6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2,37..= 12,38                     ., 346 = 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232,9. = 233,0                  23,61.5 = 23,620</a:t>
            </a:r>
            <a:r>
              <a:rPr b="1" lang="en-US" sz="2400" spc="-1" strike="noStrike">
                <a:solidFill>
                  <a:srgbClr val="12301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42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Стоимость одного яблока – 66 коп. Продавец продаёт яблоко по четвертинке. Какая должна быть цена четвертинки ябло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9960" y="480060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3 кг 200 гр подсолнечного масла необходимо разлить в бутылки, вместимость которых 500 гр. Сколько понадобится бутылок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62000" y="228600"/>
            <a:ext cx="898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3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ение и вычитание десятичных дробей.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90440" y="2133720"/>
            <a:ext cx="895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Напиши дробь, под ней напиши вторую дробь.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 разряд под разрядом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28600" y="441972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Поставь запятую после целой части, если она есть;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нет – то после нуля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28600" y="3581280"/>
            <a:ext cx="76485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Представь, что это простые числа и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яй действия, как обычно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8600" y="3048120"/>
            <a:ext cx="5257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c1605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Поставь нужный знак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c1605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5800" y="5079960"/>
            <a:ext cx="1816200" cy="1778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81680" y="5410080"/>
            <a:ext cx="762120" cy="5335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5943600"/>
            <a:ext cx="838080" cy="45720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715000"/>
            <a:ext cx="457200" cy="3049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6400800"/>
            <a:ext cx="762120" cy="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50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47000" y="522360"/>
            <a:ext cx="68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полн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числа: 0,7 ; 0,03 ; 0,052 ; 0,00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2,3 ; 7,84 ; 6,05 ; 9,9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53,4 ; 47,34 ; 53,09 ; 29,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" y="2438280"/>
            <a:ext cx="74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1c3f"/>
                </a:solidFill>
                <a:latin typeface="Arial"/>
              </a:rPr>
              <a:t>От проволоки длиной 13,3 метра отрезали кусок длиной 6,9 метра. Какая часть проволоки короче: отрезанная или оставшаяся? На скольк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98560" y="4343400"/>
            <a:ext cx="71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Скорость течения реки равна 4,6 км/час. На сколько км/ч скорость катера по течению больше его скорости против течени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70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510552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идумай свои задачи - загадки, 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едложи их решить друзьям.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Уже в 1 классе мы много раз измеряли разные величи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71296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Проверь, умеешь ли ты это дел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Что для этого нужно име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Достаточно ли тебе одной мер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Бывают ли ситуации, когда при измерении величины получается остаток меньший, чем исходная мер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 бы ты поступил в таком случа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285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3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8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405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Измерь величину и запиши результаты измер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У всех ли одинаковые отве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вязано ли это с разным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истемами счис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0066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ая система счисления является общепринят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45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97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9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815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 Какая запись использовалась при возникновении уменьшенных дол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7889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Попробуй свои силы. Выраз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А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мет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 д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4 с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7 дм 15 с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Б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центне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56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9 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900" spc="-1" strike="noStrike">
                <a:solidFill>
                  <a:srgbClr val="000099"/>
                </a:solidFill>
                <a:latin typeface="Georgia"/>
              </a:rPr>
              <a:t> А можно ли записывать в другом вид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95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5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95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? Придумай знак, который показывал бы, когда начинается измерение уменьшенными мерка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математике уже есть такой знак - запят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2,21            </a:t>
            </a: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3,5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Итак, новые числа называютс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Georgia"/>
              </a:rPr>
              <a:t>позиционными дробя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743200"/>
            <a:ext cx="30456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2209680"/>
            <a:ext cx="0" cy="83844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85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5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5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1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95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35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65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eorgia"/>
              </a:rPr>
              <a:t>Историческая спра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тделить целую часть десятичной дроби от дробной предлагали по-разно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л-Каши – арабский учёный </a:t>
            </a: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XV </a:t>
            </a:r>
            <a:r>
              <a:rPr b="0" lang="uk-UA" sz="2400" spc="-1" strike="noStrike">
                <a:solidFill>
                  <a:srgbClr val="000099"/>
                </a:solidFill>
                <a:latin typeface="Georgia"/>
              </a:rPr>
              <a:t>в. целую и дробную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части писал в одну строку, но записывал их чернилами разного цвета или ставил между ними вертикальную чер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идерландский инженер-гидравлик С. Стевин (1548-1630 гг.) ставил ноль в кружоч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нятую в наше время запятую предложил И.Кеплер (1571-1630 гг.) – известный немецкий математ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о в США, Англии и некоторых других странах принято вместо запятой ставить точк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3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675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5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467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Так как десятичная система счисления является общепринятой, то дроби называются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Georgia"/>
              </a:rPr>
              <a:t>десятичным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3868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Как называется позиция в натуральных числ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ужны ли названия для разрядов, стоящих справа от запят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1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00200" y="1600200"/>
            <a:ext cx="220968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600200"/>
            <a:ext cx="160020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152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ни тысяч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52680" y="2437920"/>
            <a:ext cx="61128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дин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438280"/>
            <a:ext cx="152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07120" y="2015280"/>
            <a:ext cx="5763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десятитысячные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5280" y="2020320"/>
            <a:ext cx="6069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н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3120" y="2019600"/>
            <a:ext cx="606960" cy="31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сятки тыся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14000" y="2362320"/>
            <a:ext cx="6069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68280" y="2362320"/>
            <a:ext cx="1033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н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400" y="2018880"/>
            <a:ext cx="60696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3520" y="2019240"/>
            <a:ext cx="606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600200"/>
            <a:ext cx="1295640" cy="609480"/>
          </a:xfrm>
          <a:prstGeom prst="wedgeEllipseCallout">
            <a:avLst>
              <a:gd name="adj1" fmla="val -16546"/>
              <a:gd name="adj2" fmla="val 8255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запят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7386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две целых, семьдесят три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шестьдесят восемь целых, две деся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осемьдесят одна целая, три миллионн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оль целых, восемь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9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Давайте в заготовку запишем дроби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5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95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6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35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2T19:05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9000000000001024140</vt:lpwstr>
  </property>
  <property fmtid="{D5CDD505-2E9C-101B-9397-08002B2CF9AE}" pid="3" name="Version">
    <vt:r8>1</vt:r8>
  </property>
</Properties>
</file>