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24B-0538-47AC-AB92-235BB4F7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87D-6915-482A-8451-D0F1EC38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304-CD1B-46D5-AFB2-8298E5BD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DDA-DD0D-4A46-88BC-9A6025C8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56B3-A1FC-487D-9203-7E75E16E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B12F-053C-4EFF-9315-E6EBAB0B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8C0C-4ABA-4395-A77B-283ADD9C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03D8-8BF1-4A82-BC12-6A8FB2C7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0956-69BA-45FD-9401-A6C075DD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8F68-17DB-44DE-8E68-FF85EB2A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D33B-5BC3-4E55-AF88-8B9EFB47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30F-3E51-466D-8B2B-EE8589B2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6E6B-9E47-4CCA-9FE2-FCE0CD02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AF67-01BC-43C7-93ED-7EC2600E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19CD-F652-419E-8597-3EA4E9B9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4E4-96D9-42A5-A2D8-221C1B59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44BD-A015-4813-BF94-ACCE902F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054-1FE3-4C7F-86A9-B18D9DE6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0C4-84E2-470C-977A-922CE62D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CE8-CD64-41D5-BFFB-C2B410AF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226-86FD-42A1-B8A8-D9FCDA33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2FF-0B10-4B9E-AF53-D6EC0ED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EAA-74ED-4609-93D1-C9F83F4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CEF-CB1C-4C50-95B6-04664D0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B96C-CB9D-4938-8F59-168AE8EF234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97A7-7C37-4066-8921-DF06A459576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33520" y="1447920"/>
            <a:ext cx="6933960" cy="65530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Математическая ярмарка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" Десятичные дроби "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Давайте поиграем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1.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рочти числ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2,7; 11,4; 5,64; 1,579; 203,6; 326,7034; 0,8; 2,80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0,09; 145,008; 0,049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2. Придумай десятичные дроби и предлож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рочитать своим друзья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3. По заготовкам придумай числа и прочти их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…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    …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.    .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….    ….    .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35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705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18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225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15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36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4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Как ты думаешь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8760"/>
            <a:ext cx="79250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очему в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целой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части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перед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первой цифрой в записи числа можно дописывать нулей сколько угодно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А в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дробной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части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после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последней цифр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Верны ли равенства?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,200 = 3,2                          7,80 = 7,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6,0002 = 6,2                        500,000 = 5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500,00 = 5                           3000,3000 = 3000,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7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225"/>
                            </p:stCondLst>
                            <p:childTnLst>
                              <p:par>
                                <p:cTn id="4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15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3195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185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395"/>
                            </p:stCondLst>
                            <p:childTnLst>
                              <p:par>
                                <p:cTn id="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де ловушк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,80; 700,02040; 184,500200; 6080,00400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прочтите полученные числ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Запишите в виде десятичной дроби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0384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8098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2670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56386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51814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88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2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56386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267080"/>
            <a:ext cx="5331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2670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56386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4267080"/>
            <a:ext cx="6858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42670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5638680"/>
            <a:ext cx="381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426708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4267080"/>
            <a:ext cx="761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15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805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235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94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590920" y="53352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1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ение чис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362320" cy="1400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533520" y="236232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Сравни целые части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3962520"/>
            <a:ext cx="8305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Сравни дробные 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и по разрядам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762120" y="60948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и числа: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1276    и    8,1                                 162,3    и  16, 23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, 207      и   11, 9879                        35, 78  и    4, 578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480" y="2286000"/>
            <a:ext cx="7696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19,003    и 419, 103                          50, 29  и  52, 09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,6082   и       0, 6080                       0,9       и     0, 900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38098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и, не подставляя цифр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 , .   и    . . , .  ;    . , 000 .   и   . , 000 . ;   0, . . .    и   0, . ;  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 . . , . .   и   . . , . . ;    . , . .    и    . , . . . ;   . . , .   и  . . . , .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2209680" y="457200"/>
            <a:ext cx="40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33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2</a:t>
            </a:r>
            <a:endParaRPr b="0" lang="en-US" sz="1800" spc="1" strike="noStrike">
              <a:ln w="24120">
                <a:solidFill>
                  <a:srgbClr val="ff33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33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гление чисел</a:t>
            </a:r>
            <a:endParaRPr b="0" lang="en-US" sz="1800" spc="1" strike="noStrike">
              <a:ln w="24120">
                <a:solidFill>
                  <a:srgbClr val="ff33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3840" y="1981080"/>
            <a:ext cx="886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Если последняя цифра больше 5, то отбрось её,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предыдущую увеличь на 1:      27,6  ≈ 28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" y="3200400"/>
            <a:ext cx="8658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00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Если меньше 5, то просто её отбрасываем: 27,4≈ 27</a:t>
            </a:r>
            <a:endParaRPr b="0" lang="en-US" sz="1800" spc="1" strike="noStrike">
              <a:ln w="24120">
                <a:solidFill>
                  <a:srgbClr val="ff00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4038480"/>
            <a:ext cx="878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Если указано, до которой по счёту округлять,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 смотри на предыдущий разряд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362320" cy="14000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500"/>
                            </p:stCondLst>
                            <p:childTnLst>
                              <p:par>
                                <p:cTn id="618" nodeType="afterEffect" fill="hold" presetClass="entr" presetID="3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500"/>
                            </p:stCondLst>
                            <p:childTnLst>
                              <p:par>
                                <p:cTn id="625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3520" y="9907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571d"/>
                </a:solidFill>
                <a:latin typeface="Arial"/>
              </a:rPr>
              <a:t>Вместо точек вставь пропущенные цифр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3,28. = 3,28                          5,.4 = 5,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0,012. = 0,013                      8,6.8 = 8,6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2,37..= 12,38                     ., 346 = 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232,9. = 233,0                  23,61.5 = 23,620</a:t>
            </a:r>
            <a:r>
              <a:rPr b="1" lang="en-US" sz="2400" spc="-1" strike="noStrike">
                <a:solidFill>
                  <a:srgbClr val="12301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342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Стоимость одного яблока – 66 коп. Продавец продаёт яблоко по четвертинке. Какая должна быть цена четвертинки яблок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9960" y="4800600"/>
            <a:ext cx="794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3 кг 200 гр подсолнечного масла необходимо разлить в бутылки, вместимость которых 500 гр. Сколько понадобится бутылок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9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162000" y="228600"/>
            <a:ext cx="898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1605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3</a:t>
            </a:r>
            <a:endParaRPr b="0" lang="en-US" sz="1800" spc="1" strike="noStrike">
              <a:ln w="316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1605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1605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жение и вычитание десятичных дробей.</a:t>
            </a:r>
            <a:endParaRPr b="0" lang="en-US" sz="1800" spc="1" strike="noStrike">
              <a:ln w="316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1605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90440" y="2133720"/>
            <a:ext cx="895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1605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Напиши дробь, под ней напиши вторую дробь.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1605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1605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ши разряд под разрядом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1605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28600" y="441972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Поставь запятую после целой части, если она есть;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нет – то после нуля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28600" y="3581280"/>
            <a:ext cx="76485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Представь, что это простые числа и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яй действия, как обычно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28600" y="3048120"/>
            <a:ext cx="5257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c1605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Поставь нужный знак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c1605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85800" y="5079960"/>
            <a:ext cx="1816200" cy="17780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781680" y="5410080"/>
            <a:ext cx="762120" cy="53352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*,**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5943600"/>
            <a:ext cx="838080" cy="45720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*,**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715000"/>
            <a:ext cx="457200" cy="30492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6400800"/>
            <a:ext cx="762120" cy="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500"/>
                            </p:stCondLst>
                            <p:childTnLst>
                              <p:par>
                                <p:cTn id="67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00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47000" y="522360"/>
            <a:ext cx="68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полн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числа: 0,7 ; 0,03 ; 0,052 ; 0,00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 числа: 2,3 ; 7,84 ; 6,05 ; 9,9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 числа: 53,4 ; 47,34 ; 53,09 ; 29,1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6280" y="2438280"/>
            <a:ext cx="740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1c3f"/>
                </a:solidFill>
                <a:latin typeface="Arial"/>
              </a:rPr>
              <a:t>От проволоки длиной 13,3 метра отрезали кусок длиной 6,9 метра. Какая часть проволоки короче: отрезанная или оставшаяся? На сколько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98560" y="4343400"/>
            <a:ext cx="71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Скорость течения реки равна 4,6 км/час. На сколько км/ч скорость катера по течению больше его скорости против течения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700"/>
                            </p:stCondLst>
                            <p:childTnLst>
                              <p:par>
                                <p:cTn id="6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70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510552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идумай свои задачи - загадки, </a:t>
            </a:r>
            <a:endParaRPr b="0" lang="en-US" sz="1800" spc="1" strike="noStrike">
              <a:ln w="64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едложи их решить друзьям.</a:t>
            </a:r>
            <a:endParaRPr b="0" lang="en-US" sz="1800" spc="1" strike="noStrike">
              <a:ln w="64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eorgia"/>
              </a:rPr>
              <a:t>Уже в 1 классе мы много раз измеряли разные величин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271296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Проверь, умеешь ли ты это дел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Что для этого нужно име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Достаточно ли тебе одной мер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Бывают ли ситуации, когда при измерении величины получается остаток меньший, чем исходная мер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Как бы ты поступил в таком случа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285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32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58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405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eorgia"/>
              </a:rPr>
              <a:t>Измерь величину и запиши результаты измер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У всех ли одинаковые ответ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Связано ли это с разным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системами счис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0066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Какая система счисления является общепринят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45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97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96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815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 Какая запись использовалась при возникновении уменьшенных долей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27889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Попробуй свои силы. Выраз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А)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 в метрах: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6 дм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64 см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7 дм 15 с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Б)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 в центнерах: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56 кг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12 кг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129 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900" spc="-1" strike="noStrike">
                <a:solidFill>
                  <a:srgbClr val="000099"/>
                </a:solidFill>
                <a:latin typeface="Georgia"/>
              </a:rPr>
              <a:t> А можно ли записывать в другом вид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95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2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5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95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eorgia"/>
              </a:rPr>
              <a:t>? Придумай знак, который показывал бы, когда начинается измерение уменьшенными меркам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математике уже есть такой знак - запята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2,21            </a:t>
            </a: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3,5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Итак, новые числа называютс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Georgia"/>
              </a:rPr>
              <a:t>позиционными дробя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2743200"/>
            <a:ext cx="30456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2209680"/>
            <a:ext cx="0" cy="838440"/>
          </a:xfrm>
          <a:prstGeom prst="line">
            <a:avLst/>
          </a:prstGeom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85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85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5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5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1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95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35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65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eorgia"/>
              </a:rPr>
              <a:t>Историческая спра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тделить целую часть десятичной дроби от дробной предлагали по-разном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Ал-Каши – арабский учёный </a:t>
            </a:r>
            <a:r>
              <a:rPr b="0" lang="en-US" sz="2400" spc="-1" strike="noStrike">
                <a:solidFill>
                  <a:srgbClr val="000099"/>
                </a:solidFill>
                <a:latin typeface="Georgia"/>
              </a:rPr>
              <a:t>XV </a:t>
            </a:r>
            <a:r>
              <a:rPr b="0" lang="uk-UA" sz="2400" spc="-1" strike="noStrike">
                <a:solidFill>
                  <a:srgbClr val="000099"/>
                </a:solidFill>
                <a:latin typeface="Georgia"/>
              </a:rPr>
              <a:t>в. целую и дробную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части писал в одну строку, но записывал их чернилами разного цвета или ставил между ними вертикальную чер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идерландский инженер-гидравлик С. Стевин (1548-1630 гг.) ставил ноль в кружоч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инятую в наше время запятую предложил И.Кеплер (1571-1630 гг.) – известный немецкий математи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о в США, Англии и некоторых других странах принято вместо запятой ставить точк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3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2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1675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05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4674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Так как десятичная система счисления является общепринятой, то дроби называются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Georgia"/>
              </a:rPr>
              <a:t>десятичным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38684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Как называется позиция в натуральных числ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Нужны ли названия для разрядов, стоящих справа от запят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1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00200" y="1600200"/>
            <a:ext cx="220968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Целая ча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600200"/>
            <a:ext cx="160020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робная ча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2362320"/>
            <a:ext cx="152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тни тысяч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52680" y="2437920"/>
            <a:ext cx="611280" cy="15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диниц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438280"/>
            <a:ext cx="152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сят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07120" y="2015280"/>
            <a:ext cx="5763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десятитысячные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5280" y="2020320"/>
            <a:ext cx="6069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ысячн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3120" y="2019600"/>
            <a:ext cx="606960" cy="31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есятки тысяч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14000" y="2362320"/>
            <a:ext cx="6069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ысяч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68280" y="2362320"/>
            <a:ext cx="10335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отн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4400" y="2018880"/>
            <a:ext cx="606960" cy="17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от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33520" y="2019240"/>
            <a:ext cx="6069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сят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1600200"/>
            <a:ext cx="1295640" cy="609480"/>
          </a:xfrm>
          <a:prstGeom prst="wedgeEllipseCallout">
            <a:avLst>
              <a:gd name="adj1" fmla="val -16546"/>
              <a:gd name="adj2" fmla="val 8255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запят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90720" y="2057040"/>
            <a:ext cx="7386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две целых, семьдесят три со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шестьдесят восемь целых, две деся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восемьдесят одна целая, три миллионн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ноль целых, восемь со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9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Давайте в заготовку запишем дроби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5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1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95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6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35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2T19:05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9000000000001024140</vt:lpwstr>
  </property>
  <property fmtid="{D5CDD505-2E9C-101B-9397-08002B2CF9AE}" pid="3" name="Version">
    <vt:r8>1</vt:r8>
  </property>
</Properties>
</file>