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wmf" ContentType="image/x-wmf"/>
  <Override PartName="/ppt/media/image4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9681-AC96-4E87-B7B3-CB94F4E4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1F5F-C3F0-4435-A080-88E4FB8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E589-D3F7-48AB-919E-07D9904F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B4AB-4251-4996-A936-6E25AFEC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0FFE-7C6B-49E6-B3A9-A827C7DB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B67-AC74-47D8-B062-E29F727E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5A2D-7FC0-4F36-B138-69217C1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3C6A-B9BC-40BA-8891-C9EE88B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22DE-EF65-4956-840F-0CA4FD0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D10-1CAC-4C2B-BD81-F75D823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17B3-FB3A-49DA-9117-7C00C12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202C-0D2E-4ECB-8926-8D01DC5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E606-ED5B-4500-A001-7CA369EB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5BA3-2680-4A66-A324-7BFE30F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3076-CF37-4E36-824F-FB313CD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C63F-323E-46FE-B9F5-4E4DA387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897B-D5EA-4D18-A252-77579F8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9273-F21A-4970-85CC-DB72A5A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8FE3-7139-453C-9CFD-58B0D51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DF9C-CB63-427C-97B0-A5020E34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F6C4-9169-48B8-B318-0B9006F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2565-3452-4533-97ED-B767DB6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9D74-7384-4868-9429-90A89B9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F32D-5C37-48C7-A2EB-71B0D56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BE2-B028-4E15-8080-EA7946B38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DDD-C36C-4EB9-AD80-EB6D4F0210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«Применение</a:t>
            </a:r>
            <a:br>
              <a:rPr sz="8000"/>
            </a:b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 интеграла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ь функция f (x)непрерывна на отрезке [a; b] и принимает на этом отрезке как положительные, так и отрицательные значения. Тогда нужно разбить отрезок [a; b] на такие части, в каждой из которых функция не изменяет свой знак, затем вычислить по приведенным выше формулам соответствующие этим частям площади и эти площади сложить. Например, площадь фигуры, изображенной на рисунк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5157720"/>
            <a:ext cx="3668760" cy="11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6116760" y="473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292720" y="1722600"/>
            <a:ext cx="33829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щадь фигуры, ограниченной графиками двух непрерывных функций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двумя прямыми х = а и х = b, где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, на отрезке [a; b]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803680" y="55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5108400"/>
            <a:ext cx="3187800" cy="984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40080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ти абсциссы точек пересечения графиков заданных лини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1 – 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куда 1 – х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т.е. х = - 2, х = 1. Искомая площадь равна разности площадей криволинейной трапеции ВАВ1С и треугольника ВА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ормуле находим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                          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 искомая площад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-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4,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332000" y="2349360"/>
            <a:ext cx="127080" cy="457200"/>
          </a:xfrm>
          <a:custGeom>
            <a:avLst/>
            <a:gdLst>
              <a:gd name="textAreaLeft" fmla="*/ 81360 w 127080"/>
              <a:gd name="textAreaRight" fmla="*/ 127440 w 1270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217476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92360" y="4370400"/>
            <a:ext cx="352728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56000" y="5229360"/>
            <a:ext cx="1590480" cy="39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84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v (t) – скорость прямолинейно движущейся точки в момент времени t, то перемещение точки, т. е. приращение ее координаты, за промежуток времени [a; b]  равно              Если v (t)  0 на промежутке [a; b], то интеграл  равен пути, пройденному точ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материальная точка движется вдоль оси Ох под действием переменной силы, проекция F (x) которой на ось Ох есть функция от координаты х, то работа силы по перемещению точки из положения х = а в положение х = b рав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3080" y="52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1727280" cy="48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10320" y="57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800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 жидкость плотность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ертикально погружена пластин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то сила давления жидкости на не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– функция, выражающая зависимость длины поперечного сечения пластины от уровня погружени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ускорение свободного па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1940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3086280" cy="674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598176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0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Механического и физического приложения </a:t>
            </a:r>
            <a:r>
              <a:rPr b="1" i="1" lang="ru-RU" sz="2400" spc="-1" strike="noStrike" u="sng">
                <a:solidFill>
                  <a:srgbClr val="e5e5ff"/>
                </a:solidFill>
                <a:uFillTx/>
                <a:latin typeface="Times New Roman"/>
              </a:rPr>
              <a:t>определенного</a:t>
            </a: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интегр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уть, пройденный т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рость движения тела задана уравнен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= (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-1) (в м /с). Найти путь, пройденный телом за 10 с от начала дви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еш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 условии задачи дано: t1 = 0, t2 =10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t) = 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–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формуле получим:                                      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84200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00720" y="5084640"/>
            <a:ext cx="36748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74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75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767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Работа сил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ужина растягивается на 0,02 м под действием силы в 60 Н. Какую работу она производит, растягивая ее на 0,12 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 F = 60 Н х = 0,02 м. По формуле F = kx (закон Гука для пружины) найде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60 =      , откуда                              Н/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ставив найденное значени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формуле  F = kx, получим F = 3000х, т. е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= 3000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формуле, взяв пределы интегрирования от 0 до 0.12, вычислим работу:                                         Д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41784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08720" y="314172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5291280" y="45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2376360" cy="390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4646520" y="52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33847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Сила давления жидк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44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числить силу давления воды на вертикально погруженную треугольную пластину АВС с основанием АС = 9 м и высото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2 м, если вершина В лежит на свободной поверхности жидкости, а АС – параллельно 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шение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поперечное сечение пластины на уровне ВЕ = х. найдем зависимость длины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. Из подобия треугольн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B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АВС имеем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9 =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2, откуд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= 4.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На основании формулы получи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плотность воды 1000 кг/м3 и  м/с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2133720"/>
            <a:ext cx="403884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1859040" y="494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5320" y="5084640"/>
            <a:ext cx="3422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омашнее задание: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р. 155 № 64 Б (7;8)</a:t>
            </a:r>
            <a:br>
              <a:rPr sz="36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ое спасибо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 ваше вним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из урок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ила и всеобщность метода дифференциального и интегрального исчисления такие, что не ознакомившись с ними, нельзя как следует понять все значения математики для естествознания и техники и даже полностью оценить всю красоту и привлекательность самой математической нау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.Н. Колмогор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Логический диктант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ерация интегрирования есть обратной операции дифференцирован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ые две первообразные функции для одной и той же функции отличаются одна от другой постоянным слагаемы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ула Ньютона – Лейбница имеет вид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о из свойств определения интеграла имеет вид 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f(х) непрерывная и неотрицательная на отрезке [a; b], то равна площади криволинейной трапеции, ограниченная графиком данной функци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функция v = f(t) определяет мгновенную скорость движения тала в каждый момент времени  t на [a; b], то определенный интеграл   равен пути, пройденному за отрезок t = b – a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Garamond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280" y="1700280"/>
            <a:ext cx="136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Н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4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льное исчисление и само понятие интеграла возникли из необходимости вычисления площадей плоских фигур и объемов произвольных тел. Идеи интегрального исчисления берут свое начало в работах древних математиков. Об этом свидетельствует «метод вычерпывания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вдокс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также использова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  ІІІ в. до н. э. Суть этого метода состояла в том, что для вычисления площади плоской фигуры (объема тела) вокруг них описывали и в них вписывали ступенчатые фигуры и, увеличивая количество сторон многоугольника (граней многогранников), находили предел, к которому стремились площади (объемы) ступенчатых фигур. Тем не менее для каждой фигуры вычисление предела зависело от выбора специального приема. А проблема общего  метода вычисления площадей и объемов фигур оставалось нерешенной. Архимед еще явным образом не применял общее понятие предела и интеграла, хотя в неявном виде эти понятия использовали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VІІ в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Йоганн Кеплер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71 – 1630), который открыл законы движения планет, успешно осуществил первую попытку развить идеи Архимеда. Кеплер вычислял площади плоских фигур и объемы тел, опираясь на идею разложения фигуры и тела на бесконечное количество бесконечно малых частей. Из этих частей в результате добавления складывалась фигура, площадь (объем) которой известна и что давало возможность вычислить площадь (объем) искомой. В отличие от Кеплера итальянский математик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навентуро Кавальер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98 – 1647), пересекая фигуру (тело) параллельными прямыми (плоскостями), считал их лишенными любой толщины, но прибавлял эти линии. В историю математики вошел так называемый принцип Кавальери, с помощью которого вычисляли площади и объемы. Этот принцип получил теоретическое обоснование позднее с помощью интегрального исчисления. Для площадей плоских фигур принцип Кавальери формулировали так: если прямые некоторого пучка параллельных прямых пересекают фигуры Ф1 и Ф2 по отрезкам одинаковой длины, то площади фигур Ф1 и Ф2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23480"/>
            <a:ext cx="438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еи Кеплера, Кавальери и других ученых стали той основой, на которой Ньютон и Лейбниц открыли интегральное исчисление. Развитие интегрального исчисления продолжи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. Ейл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. Л. Чебыше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21 – 1894), который разработал способы интегрирования некоторых классов иррациональных функ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ое определение интеграла как предела интегральных сумм принадлежи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.Кош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Символ   был введен Лейбницем. Знак напоминает растянутую букву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ервую букву латинского слов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«сумма»). Термин «интеграл» происходит от латинског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e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«целый» и был предложен в 1960 г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Й. Бернулл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В области интегрального исчисления плодотворно работал украинский математик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. В. Остроградск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01 – 1861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658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032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2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00"/>
                            </p:stCondLst>
                            <p:childTnLst>
                              <p:par>
                                <p:cTn id="235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усть функция f (x) непрерывна и неотрицательна на отрезке [a; b]. Тогда, как известно, площадь соответствующей криволинейной трапеции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772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130800" y="41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4815000" y="1604880"/>
            <a:ext cx="4078080" cy="33368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0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471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ом случае, когда непрерывная функция f (x)  0 на отрезке [a; b], для вычисления площади соответствующей криволинейной трапеции следует использовать формул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982960" y="563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4915080"/>
            <a:ext cx="2016000" cy="1180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6461280" y="38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83040" y="1557360"/>
            <a:ext cx="401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7:49:24Z</dcterms:created>
  <dc:creator>Юля</dc:creator>
  <dc:description/>
  <dc:language>en-US</dc:language>
  <cp:lastModifiedBy>Admin</cp:lastModifiedBy>
  <dcterms:modified xsi:type="dcterms:W3CDTF">2011-06-06T10:19:04Z</dcterms:modified>
  <cp:revision>43</cp:revision>
  <dc:subject/>
  <dc:title>«Применения интегра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9000000000001024140</vt:lpwstr>
  </property>
  <property fmtid="{D5CDD505-2E9C-101B-9397-08002B2CF9AE}" pid="3" name="Version">
    <vt:r8>4</vt:r8>
  </property>
</Properties>
</file>