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22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wmf" ContentType="image/x-wmf"/>
  <Override PartName="/ppt/media/image4.wmf" ContentType="image/x-wmf"/>
  <Override PartName="/ppt/media/image6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ECCC8-FEFE-48AC-A6D9-834E5631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4CA27-97E8-4A51-9970-686FE40F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5CF6E-45DA-4741-8A85-6885B629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90AEF-14BA-4DBA-8CB8-13ECD4E6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97EA-6C1D-4DD2-9BA6-B3BC8D0A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3750-1EDC-4069-AF90-5CF81651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12D3-13B4-4643-AF20-F019FAB5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5573-CFD2-4779-9DFC-6229A138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0D84-2C67-4290-A7E0-45023451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1F55-7443-4D4F-A240-A53E3644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1BF7-2339-40DE-BDB7-AC6D4BA7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437D7-14A8-4494-AF28-B7E4ECDD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FDF6-1FD1-4A2F-90B0-CF4A1595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9165-2EC8-4270-89C0-DD9CCA7E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C366-415E-43A0-A361-3C51FDDD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D930-78FC-48A3-8F33-E6631B4C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7F63-4CA3-48A5-9539-DBA6CB18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6AC48-F5EB-455E-A698-70BEC75B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9AC06-8276-4190-A94A-735A06EF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803B-634A-47F8-A863-995E7250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5DE5-0446-45B0-80D3-ADE87354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83578-68DD-4578-8AA7-992677E8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50887-7E65-4411-8FB7-15273B32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BA446-CFF7-432B-BB8D-5F60A654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7FED-8170-4002-8533-EAE68DB7C2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1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1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8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19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20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21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22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23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24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25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26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9D6F-46EC-4426-9AC5-9049ADEB20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5e5ff"/>
                </a:solidFill>
                <a:latin typeface="Garamond"/>
              </a:rPr>
              <a:t>«Применение</a:t>
            </a:r>
            <a:br>
              <a:rPr sz="8000"/>
            </a:br>
            <a:r>
              <a:rPr b="1" lang="ru-RU" sz="8000" spc="-1" strike="noStrike">
                <a:solidFill>
                  <a:srgbClr val="e5e5ff"/>
                </a:solidFill>
                <a:latin typeface="Garamond"/>
              </a:rPr>
              <a:t> интеграла»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1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1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Теория вычисление площадей с помощью интеграл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усть функция f (x)непрерывна на отрезке [a; b] и принимает на этом отрезке как положительные, так и отрицательные значения. Тогда нужно разбить отрезок [a; b] на такие части, в каждой из которых функция не изменяет свой знак, затем вычислить по приведенным выше формулам соответствующие этим частям площади и эти площади сложить. Например, площадь фигуры, изображенной на рисунке равн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292720" y="5157720"/>
            <a:ext cx="3668760" cy="1133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6116760" y="473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5292720" y="1722600"/>
            <a:ext cx="338292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Теория вычисление площадей </a:t>
            </a:r>
            <a:br>
              <a:rPr sz="4000"/>
            </a:b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с помощью интеграл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лощадь фигуры, ограниченной графиками двух непрерывных функций 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х) и 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х) и двумя прямыми х = а и х = b, где 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х)  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х), на отрезке [a; b] находиться по формул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803680" y="55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58920" y="5108400"/>
            <a:ext cx="3187800" cy="9846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6400800" y="428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41036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Вычисление площадей </a:t>
            </a:r>
            <a:br>
              <a:rPr sz="4000"/>
            </a:b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с помощью интеграл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йти абсциссы точек пересечения графиков заданных линий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 = 1 – х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 = 3 – 2х – х</a:t>
            </a:r>
            <a:r>
              <a:rPr b="0" lang="ru-RU" sz="2000" spc="-1" strike="noStrike" baseline="14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куда 1 – х = 3 – 2х – х</a:t>
            </a:r>
            <a:r>
              <a:rPr b="0" lang="ru-RU" sz="2000" spc="-1" strike="noStrike" baseline="14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 т.е. х = - 2, х = 1. Искомая площадь равна разности площадей криволинейной трапеции ВАВ1С и треугольника ВАС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 формуле находим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B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к как 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B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=                           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 искомая площадь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B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- 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C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= 4,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1332000" y="2349360"/>
            <a:ext cx="127080" cy="457200"/>
          </a:xfrm>
          <a:custGeom>
            <a:avLst/>
            <a:gdLst>
              <a:gd name="textAreaLeft" fmla="*/ 81360 w 127080"/>
              <a:gd name="textAreaRight" fmla="*/ 127440 w 1270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81200" cy="714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81200" cy="7142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81200" cy="7142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5"/>
          <p:cNvSpPr/>
          <p:nvPr/>
        </p:nvSpPr>
        <p:spPr>
          <a:xfrm>
            <a:off x="2174760" y="479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1692360" y="4370400"/>
            <a:ext cx="3527280" cy="714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2556000" y="5229360"/>
            <a:ext cx="1590480" cy="39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6"/>
          <a:stretch/>
        </p:blipFill>
        <p:spPr>
          <a:xfrm>
            <a:off x="5796000" y="1628640"/>
            <a:ext cx="2844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549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6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70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5e5ff"/>
                </a:solidFill>
                <a:uFillTx/>
                <a:latin typeface="Garamond"/>
              </a:rPr>
              <a:t>Теория механического и физического приложения определенного интеграл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v (t) – скорость прямолинейно движущейся точки в момент времени t, то перемещение точки, т. е. приращение ее координаты, за промежуток времени [a; b]  равно              Если v (t)  0 на промежутке [a; b], то интеграл  равен пути, пройденному точко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материальная точка движется вдоль оси Ох под действием переменной силы, проекция F (x) которой на ось Ох есть функция от координаты х, то работа силы по перемещению точки из положения х = а в положение х = b равн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043080" y="524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2781360"/>
            <a:ext cx="1727280" cy="4856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/>
          <p:cNvSpPr/>
          <p:nvPr/>
        </p:nvSpPr>
        <p:spPr>
          <a:xfrm>
            <a:off x="7510320" y="572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236000" y="5516640"/>
            <a:ext cx="18000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e5e5ff"/>
                </a:solidFill>
                <a:uFillTx/>
                <a:latin typeface="Garamond"/>
              </a:rPr>
              <a:t>Теория механического и физического приложения определенного интеграл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Если в жидкость плотность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вертикально погружена пластинка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BCD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то сила давления жидкости на нее равн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де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 – функция, выражающая зависимость длины поперечного сечения пластины от уровня погружения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ускорение свободного пад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21940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76360" y="2997360"/>
            <a:ext cx="3086280" cy="6746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0"/>
          <p:cNvSpPr/>
          <p:nvPr/>
        </p:nvSpPr>
        <p:spPr>
          <a:xfrm>
            <a:off x="5981760" y="36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9" descr=""/>
          <p:cNvPicPr/>
          <p:nvPr/>
        </p:nvPicPr>
        <p:blipFill>
          <a:blip r:embed="rId2"/>
          <a:stretch/>
        </p:blipFill>
        <p:spPr>
          <a:xfrm>
            <a:off x="4932360" y="2492280"/>
            <a:ext cx="3527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64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67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70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Механического и физического приложения </a:t>
            </a:r>
            <a:r>
              <a:rPr b="1" i="1" lang="ru-RU" sz="2400" spc="-1" strike="noStrike" u="sng">
                <a:solidFill>
                  <a:srgbClr val="e5e5ff"/>
                </a:solidFill>
                <a:uFillTx/>
                <a:latin typeface="Times New Roman"/>
              </a:rPr>
              <a:t>определенного</a:t>
            </a: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 интеграл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Путь, пройденный тел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орость движения тела задана уравнение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v = (3t</a:t>
            </a:r>
            <a:r>
              <a:rPr b="0" lang="ru-RU" sz="3200" spc="-1" strike="noStrike" baseline="14000">
                <a:solidFill>
                  <a:srgbClr val="ffffff"/>
                </a:solidFill>
                <a:latin typeface="Garamond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+ 2t -1) (в м /с). Найти путь, пройденный телом за 10 с от начала движ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Решение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 условии задачи дано: t1 = 0, t2 =10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t) = 3t</a:t>
            </a:r>
            <a:r>
              <a:rPr b="0" lang="ru-RU" sz="3200" spc="-1" strike="noStrike" baseline="14000">
                <a:solidFill>
                  <a:srgbClr val="ffffff"/>
                </a:solidFill>
                <a:latin typeface="Garamond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+ 2t –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формуле получим:                                      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842000" y="518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00720" y="5084640"/>
            <a:ext cx="367488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0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749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755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1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767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32,-122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773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Работа сил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ужина растягивается на 0,02 м под действием силы в 60 Н. Какую работу она производит, растягивая ее на 0,12 м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ешени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При F = 60 Н х = 0,02 м. По формуле F = kx (закон Гука для пружины) найдем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 60 =      , откуда                              Н/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ставив найденное значение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 формуле  F = kx, получим F = 3000х, т. е.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 = 3000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формуле, взяв пределы интегрирования от 0 до 0.12, вычислим работу:                                         Дж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417840" y="45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308720" y="3141720"/>
            <a:ext cx="466920" cy="1810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5291280" y="451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835280" y="3429000"/>
            <a:ext cx="2376360" cy="3906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9"/>
          <p:cNvSpPr/>
          <p:nvPr/>
        </p:nvSpPr>
        <p:spPr>
          <a:xfrm>
            <a:off x="4646520" y="520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356000" y="4941720"/>
            <a:ext cx="338472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7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7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7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8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0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1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1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2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Сила давления жидко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2447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числить силу давления воды на вертикально погруженную треугольную пластину АВС с основанием АС = 9 м и высотой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D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= 2 м, если вершина В лежит на свободной поверхности жидкости, а АС – параллельно е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Решение.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усть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поперечное сечение пластины на уровне ВЕ = х. найдем зависимость длины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G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 х. Из подобия треугольников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BG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и АВС имеем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C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D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 или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: 9 = =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: 2, откуда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= 4.5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 На основании формулы получим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к как плотность воды 1000 кг/м3 и  м/с2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2920" y="2133720"/>
            <a:ext cx="403884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9" descr=""/>
          <p:cNvPicPr/>
          <p:nvPr/>
        </p:nvPicPr>
        <p:blipFill>
          <a:blip r:embed="rId1"/>
          <a:stretch/>
        </p:blipFill>
        <p:spPr>
          <a:xfrm>
            <a:off x="4788000" y="2565360"/>
            <a:ext cx="3744720" cy="3240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2"/>
          <p:cNvSpPr/>
          <p:nvPr/>
        </p:nvSpPr>
        <p:spPr>
          <a:xfrm>
            <a:off x="1859040" y="494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25320" y="5084640"/>
            <a:ext cx="34228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3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7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1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5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8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8" nodeType="after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8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Домашнее задание: 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стр. 155 № 64 Б (7;8)</a:t>
            </a:r>
            <a:br>
              <a:rPr sz="36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0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Большое спасибо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 ваше вниман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nodeType="clickEffect" fill="hold">
                      <p:stCondLst>
                        <p:cond delay="0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9" dur="2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виз урока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Сила и всеобщность метода дифференциального и интегрального исчисления такие, что не ознакомившись с ними, нельзя как следует понять все значения математики для естествознания и техники и даже полностью оценить всю красоту и привлекательность самой математической нау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92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А.Н. Колмогор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7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7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4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Логический диктант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перация интегрирования есть обратной операции дифференцирования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Любые две первообразные функции для одной и той же функции отличаются одна от другой постоянным слагаемым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Формула Ньютона – Лейбница имеет вид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дно из свойств определения интеграла имеет вид 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Если f(х) непрерывная и неотрицательная на отрезке [a; b], то равна площади криволинейной трапеции, ограниченная графиком данной функции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Если функция v = f(t) определяет мгновенную скорость движения тала в каждый момент времени  t на [a; b], то определенный интеграл   равен пути, пройденному за отрезок t = b – a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Garamond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тве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5280" y="1700280"/>
            <a:ext cx="136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 Н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.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. Д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1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1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23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2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30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3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3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44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4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5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5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15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Историческая справка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нтегральное исчисление и само понятие интеграла возникли из необходимости вычисления площадей плоских фигур и объемов произвольных тел. Идеи интегрального исчисления берут свое начало в работах древних математиков. Об этом свидетельствует «метод вычерпывания»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вдокс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который также использовал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рхимед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в   ІІІ в. до н. э. Суть этого метода состояла в том, что для вычисления площади плоской фигуры (объема тела) вокруг них описывали и в них вписывали ступенчатые фигуры и, увеличивая количество сторон многоугольника (граней многогранников), находили предел, к которому стремились площади (объемы) ступенчатых фигур. Тем не менее для каждой фигуры вычисление предела зависело от выбора специального приема. А проблема общего  метода вычисления площадей и объемов фигур оставалось нерешенной. Архимед еще явным образом не применял общее понятие предела и интеграла, хотя в неявном виде эти понятия использовалис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7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Историческая справка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ХVІІ в.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Йоганн Кеплер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(1571 – 1630), который открыл законы движения планет, успешно осуществил первую попытку развить идеи Архимеда. Кеплер вычислял площади плоских фигур и объемы тел, опираясь на идею разложения фигуры и тела на бесконечное количество бесконечно малых частей. Из этих частей в результате добавления складывалась фигура, площадь (объем) которой известна и что давало возможность вычислить площадь (объем) искомой. В отличие от Кеплера итальянский математик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Бонавентуро Кавальер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(1598 – 1647), пересекая фигуру (тело) параллельными прямыми (плоскостями), считал их лишенными любой толщины, но прибавлял эти линии. В историю математики вошел так называемый принцип Кавальери, с помощью которого вычисляли площади и объемы. Этот принцип получил теоретическое обоснование позднее с помощью интегрального исчисления. Для площадей плоских фигур принцип Кавальери формулировали так: если прямые некоторого пучка параллельных прямых пересекают фигуры Ф1 и Ф2 по отрезкам одинаковой длины, то площади фигур Ф1 и Ф2 рав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15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1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Историческая справка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023480"/>
            <a:ext cx="438768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деи Кеплера, Кавальери и других ученых стали той основой, на которой Ньютон и Лейбниц открыли интегральное исчисление. Развитие интегрального исчисления продолжили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. Ейле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и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П. Л. Чебышев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1821 – 1894), который разработал способы интегрирования некоторых классов иррациональных функци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временное определение интеграла как предела интегральных сумм принадлежит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.Кош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Символ   был введен Лейбницем. Знак напоминает растянутую букву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первую букву латинского слов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ma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«сумма»). Термин «интеграл» происходит от латинского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ger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«целый» и был предложен в 1960 г.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Й. Бернулл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 В области интегрального исчисления плодотворно работал украинский математик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. В. Остроградски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1801 – 1861)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26580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032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228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600"/>
                            </p:stCondLst>
                            <p:childTnLst>
                              <p:par>
                                <p:cTn id="235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2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51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56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6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Теория вычисление площадей с помощью интеграл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764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Пусть функция f (x) непрерывна и неотрицательна на отрезке [a; b]. Тогда, как известно, площадь соответствующей криволинейной трапеции находиться по формул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700280"/>
            <a:ext cx="40384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357720" y="539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6130800" y="419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10" descr=""/>
          <p:cNvPicPr/>
          <p:nvPr/>
        </p:nvPicPr>
        <p:blipFill>
          <a:blip r:embed="rId1"/>
          <a:stretch/>
        </p:blipFill>
        <p:spPr>
          <a:xfrm>
            <a:off x="4815000" y="1604880"/>
            <a:ext cx="4078080" cy="3336840"/>
          </a:xfrm>
          <a:prstGeom prst="rect">
            <a:avLst/>
          </a:prstGeom>
          <a:ln w="0">
            <a:noFill/>
          </a:ln>
        </p:spPr>
      </p:pic>
      <p:pic>
        <p:nvPicPr>
          <p:cNvPr id="122" name="Rectangle 20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471960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0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Теория вычисление площадей с помощью интеграл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7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том случае, когда непрерывная функция f (x)  0 на отрезке [a; b], для вычисления площади соответствующей криволинейной трапеции следует использовать формул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2982960" y="563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32000" y="4915080"/>
            <a:ext cx="2016000" cy="11808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6461280" y="380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4883040" y="1557360"/>
            <a:ext cx="4010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4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xit" presetID="23" presetSubtype="2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7:49:24Z</dcterms:created>
  <dc:creator>Юля</dc:creator>
  <dc:description/>
  <dc:language>en-US</dc:language>
  <cp:lastModifiedBy>Admin</cp:lastModifiedBy>
  <dcterms:modified xsi:type="dcterms:W3CDTF">2011-06-06T10:19:04Z</dcterms:modified>
  <cp:revision>43</cp:revision>
  <dc:subject/>
  <dc:title>«Применения интеграл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9000000000001024140</vt:lpwstr>
  </property>
  <property fmtid="{D5CDD505-2E9C-101B-9397-08002B2CF9AE}" pid="3" name="Version">
    <vt:r8>4</vt:r8>
  </property>
</Properties>
</file>