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BDE-3603-4082-9D87-EC6BB03FC3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BE92-4C16-40E9-A268-36DCE3AFC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DDE9-F215-4D25-8C76-80846C416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B4F-5DDF-4C63-B9DA-3752DFEBC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54C-8C72-4274-B85C-56934D3D2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4027-9662-4E55-85C6-2619B654D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08B-DF0F-4664-B748-744D46D96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503C-D3F6-4975-9910-2E09DFC59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00E-B314-4CEA-BECF-AB177D517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93B-919E-4F11-B34E-32136B2CA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85B-CB8A-4E4C-AE6D-A08F51AEA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010-ED42-478B-A749-E37070D15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695A-AFE7-44B1-91D6-4C51C2B49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8BC-D7F0-4765-BB3C-8478ABE41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DA3-3FC2-4029-85E5-0D6AB5839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7F2-36CC-487B-A71D-6C9FBD1EA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C68-EB0E-4739-A277-4D2A00A1F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57C-D334-471F-B1C5-1E98EE116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22F-68F9-4F7C-AD78-42BBFB2DC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077-502D-4346-B08C-6119B58D4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48D2-FA6C-4AE9-846A-4F1601648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7F3-B0C9-4799-8213-7F16E7125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8EF-69D3-4C4E-AA76-AA41683E5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6CCE-1114-4D46-8048-0E953DB54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E7E-2601-4DF4-A2F1-A109C332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72B-6BAC-4845-83C3-DE77820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DDF-E47C-4E65-BC47-C6D6E66A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821-0CE7-487C-AA4B-3CA45C32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5B8-A9BA-4FC4-839D-E5D7078B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7D3C-8FB5-4D90-AEBC-621E8AB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BA4D-5CEA-4266-8258-90C3883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89A7-0DBB-4EDC-8429-D1727D2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2411-9B13-4121-AE32-7D915289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EA22-F5AA-478F-A17F-BCF3335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BED2-131F-43DC-AA9F-A46CC54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B5F-1C53-403C-8AF5-DD3E5B2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FB1-148E-43A5-8A1C-6F687022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C104-C9D0-4A7E-88CD-8779B19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415E-5999-4BA3-AC78-A69324C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3F6-03C4-458E-94AF-EB2259F0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0C91-CE0C-4201-92C0-8E957B68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1CA4-E93A-4DE9-984A-C695F82F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41BD-17A2-4127-9BD8-845D963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C27B-1395-4012-9FDC-15307C5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B24B-C1B3-4918-A65C-2D95023C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075C-4279-4684-9C10-2F184C1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FCF-2105-4903-A93A-17CA846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1CE7-7364-4A62-B710-6A205A9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8207-98F0-4371-B9E9-9320081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1692-0831-4E62-89D4-A9F06A1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38CE-5E66-4AFB-B6AE-01513B3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DB95-32C7-48F9-B1BA-58837F6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B925-C517-42CB-9F8F-7CA656CB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5129-0AF5-46F3-AF33-9B571A5F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7315-F582-4AF8-9C9A-50B2B287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DFE4-6645-4F14-997A-D24DD05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BD96-BA6C-4B0A-BB2C-B714ECD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8B0-AB60-4D03-87E7-74B751B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C551-5F14-4129-A07F-8171B561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03B6-27EF-458E-AE92-53F3899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34B9-1634-4496-9EB2-9BB4ABF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A937-BA40-4D20-B300-19255CC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DEA9-15F3-498B-9709-905546D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44A4-B2F9-4054-ABC7-6EEA4BE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0B7F-E24D-42C1-857D-4FB5F42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6F6B-AA5E-4C6E-82A6-28564473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2CD4-8D0E-4E48-BA16-7106E35A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5166-405A-4DDF-854B-9887A402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0DD-9E2A-494C-BDF7-7CFFA5C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A543-2930-4DA0-8718-5D1390E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F6F79-2CCC-434E-8E8C-76D7475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CA30-CDE2-4035-BB49-7A8AEF5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74E05-4C0C-4E0C-9AA6-A26E16F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83C6-27D3-49A6-8A4A-33BE5FC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6E17-AEC3-4782-8937-49675F3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D2CB-AA74-4758-AC9A-16A17F6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79116-26EB-4640-A654-50A022B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D7427-D4FC-4986-AB65-2F589AE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8D76-8DF4-4A60-A9B1-3B7C94BE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48F-197D-4A70-A0A9-B090FE2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717D-8594-426B-A9CA-54D2837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F43-0F0B-41D5-889F-5544A15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F01-3318-4807-8D83-10C0F97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EBE-EEE2-4222-8469-C9B7EF0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9EE-9D86-4C67-A18B-D96B110CD7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093-E1A4-4CE8-A44D-AA6A51AE53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8C4E-96FC-4689-851F-80E9015776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F2C-446C-4393-BB35-C7C4926656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C5AD-99AC-42C0-8453-AD5789786F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image" Target="../media/image34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55640" y="2923920"/>
            <a:ext cx="431964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WordArt 12" descr=""/>
          <p:cNvPicPr/>
          <p:nvPr/>
        </p:nvPicPr>
        <p:blipFill>
          <a:blip r:embed="rId1"/>
          <a:stretch/>
        </p:blipFill>
        <p:spPr>
          <a:xfrm>
            <a:off x="353880" y="5589720"/>
            <a:ext cx="4151520" cy="12747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4" descr=""/>
          <p:cNvPicPr/>
          <p:nvPr/>
        </p:nvPicPr>
        <p:blipFill>
          <a:blip r:embed="rId2"/>
          <a:stretch/>
        </p:blipFill>
        <p:spPr>
          <a:xfrm>
            <a:off x="5278320" y="493560"/>
            <a:ext cx="3084480" cy="15843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6"/>
          <p:cNvSpPr txBox="1"/>
          <p:nvPr/>
        </p:nvSpPr>
        <p:spPr>
          <a:xfrm rot="422400">
            <a:off x="356760" y="1571400"/>
            <a:ext cx="8358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4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4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7"/>
          <p:cNvSpPr txBox="1"/>
          <p:nvPr/>
        </p:nvSpPr>
        <p:spPr>
          <a:xfrm rot="554400">
            <a:off x="262080" y="3293640"/>
            <a:ext cx="829944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3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3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78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28112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525960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60512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74608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368280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414144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5365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69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0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9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9"/>
          <p:cNvSpPr/>
          <p:nvPr/>
        </p:nvSpPr>
        <p:spPr>
          <a:xfrm>
            <a:off x="2665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0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3239640" y="1268280"/>
            <a:ext cx="2808720" cy="3600720"/>
            <a:chOff x="3239640" y="1268280"/>
            <a:chExt cx="2808720" cy="3600720"/>
          </a:xfrm>
        </p:grpSpPr>
        <p:sp>
          <p:nvSpPr>
            <p:cNvPr id="545" name="AutoShape 5"/>
            <p:cNvSpPr/>
            <p:nvPr/>
          </p:nvSpPr>
          <p:spPr>
            <a:xfrm>
              <a:off x="324000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395928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>
              <a:off x="403236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"/>
            <p:cNvSpPr/>
            <p:nvPr/>
          </p:nvSpPr>
          <p:spPr>
            <a:xfrm flipH="1">
              <a:off x="323964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11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68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5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"/>
          <p:cNvSpPr/>
          <p:nvPr/>
        </p:nvSpPr>
        <p:spPr>
          <a:xfrm>
            <a:off x="5697000" y="5486400"/>
            <a:ext cx="223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4"/>
          <p:cNvSpPr/>
          <p:nvPr/>
        </p:nvSpPr>
        <p:spPr>
          <a:xfrm>
            <a:off x="676080" y="2971800"/>
            <a:ext cx="234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6"/>
          <p:cNvSpPr/>
          <p:nvPr/>
        </p:nvSpPr>
        <p:spPr>
          <a:xfrm>
            <a:off x="1428840" y="357120"/>
            <a:ext cx="6429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роведем исследование с параллелепип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2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27698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0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1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529452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13012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515484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658944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449856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>
            <a:off x="4308480" y="20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550656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6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7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1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2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3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7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8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9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62280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3"/>
          <p:cNvSpPr/>
          <p:nvPr/>
        </p:nvSpPr>
        <p:spPr>
          <a:xfrm>
            <a:off x="1278000" y="58672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4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1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2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694980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0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614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2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3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0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4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7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8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5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9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448320" y="5950080"/>
            <a:ext cx="188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9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0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1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9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363672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45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46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656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5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1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662" name="Freeform 648"/>
            <p:cNvSpPr/>
            <p:nvPr/>
          </p:nvSpPr>
          <p:spPr>
            <a:xfrm>
              <a:off x="1833480" y="5229360"/>
              <a:ext cx="936720" cy="15127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665"/>
          <p:cNvGrpSpPr/>
          <p:nvPr/>
        </p:nvGrpSpPr>
        <p:grpSpPr>
          <a:xfrm>
            <a:off x="1387440" y="3273840"/>
            <a:ext cx="2335680" cy="1899000"/>
            <a:chOff x="1387440" y="3273840"/>
            <a:chExt cx="2335680" cy="1899000"/>
          </a:xfrm>
        </p:grpSpPr>
        <p:sp>
          <p:nvSpPr>
            <p:cNvPr id="665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67"/>
            <p:cNvSpPr/>
            <p:nvPr/>
          </p:nvSpPr>
          <p:spPr>
            <a:xfrm flipH="1" flipV="1" rot="14520000">
              <a:off x="1843200" y="4759200"/>
              <a:ext cx="25560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70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71"/>
          <p:cNvSpPr/>
          <p:nvPr/>
        </p:nvSpPr>
        <p:spPr>
          <a:xfrm>
            <a:off x="4543920" y="228600"/>
            <a:ext cx="3142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араллельных плоскостей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72"/>
          <p:cNvSpPr/>
          <p:nvPr/>
        </p:nvSpPr>
        <p:spPr>
          <a:xfrm>
            <a:off x="4656960" y="5373720"/>
            <a:ext cx="291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при построении сечений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64"/>
          <p:cNvGrpSpPr/>
          <p:nvPr/>
        </p:nvGrpSpPr>
        <p:grpSpPr>
          <a:xfrm>
            <a:off x="1387080" y="683280"/>
            <a:ext cx="2358720" cy="1896480"/>
            <a:chOff x="1387080" y="683280"/>
            <a:chExt cx="2358720" cy="1896480"/>
          </a:xfrm>
        </p:grpSpPr>
        <p:sp>
          <p:nvSpPr>
            <p:cNvPr id="673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57"/>
            <p:cNvSpPr/>
            <p:nvPr/>
          </p:nvSpPr>
          <p:spPr>
            <a:xfrm flipH="1" flipV="1" rot="14547000">
              <a:off x="1839240" y="2163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89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0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7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9"/>
          <p:cNvGrpSpPr/>
          <p:nvPr/>
        </p:nvGrpSpPr>
        <p:grpSpPr>
          <a:xfrm>
            <a:off x="2604960" y="1482840"/>
            <a:ext cx="3610800" cy="4111200"/>
            <a:chOff x="2604960" y="1482840"/>
            <a:chExt cx="3610800" cy="4111200"/>
          </a:xfrm>
        </p:grpSpPr>
        <p:sp>
          <p:nvSpPr>
            <p:cNvPr id="681" name="AutoShape 10"/>
            <p:cNvSpPr/>
            <p:nvPr/>
          </p:nvSpPr>
          <p:spPr>
            <a:xfrm>
              <a:off x="2604960" y="148284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"/>
            <p:cNvSpPr/>
            <p:nvPr/>
          </p:nvSpPr>
          <p:spPr>
            <a:xfrm>
              <a:off x="3529800" y="148284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 flipH="1">
              <a:off x="3623400" y="477108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H="1">
              <a:off x="2604960" y="477108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6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21792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0"/>
          <p:cNvSpPr/>
          <p:nvPr/>
        </p:nvSpPr>
        <p:spPr>
          <a:xfrm>
            <a:off x="196452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13152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297612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6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7"/>
          <p:cNvSpPr/>
          <p:nvPr/>
        </p:nvSpPr>
        <p:spPr>
          <a:xfrm>
            <a:off x="4084560" y="230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34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6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4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8"/>
          <p:cNvSpPr/>
          <p:nvPr/>
        </p:nvSpPr>
        <p:spPr>
          <a:xfrm>
            <a:off x="565740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5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9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3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reeform 50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9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8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6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22908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385308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2773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6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1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2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5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9"/>
          <p:cNvSpPr/>
          <p:nvPr/>
        </p:nvSpPr>
        <p:spPr>
          <a:xfrm flipH="1">
            <a:off x="4642920" y="4292640"/>
            <a:ext cx="172908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1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190944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4447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3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26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1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2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5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4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7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7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14144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57"/>
          <p:cNvGrpSpPr/>
          <p:nvPr/>
        </p:nvGrpSpPr>
        <p:grpSpPr>
          <a:xfrm>
            <a:off x="396720" y="1052640"/>
            <a:ext cx="6289560" cy="5478840"/>
            <a:chOff x="396720" y="1052640"/>
            <a:chExt cx="6289560" cy="5478840"/>
          </a:xfrm>
        </p:grpSpPr>
        <p:sp>
          <p:nvSpPr>
            <p:cNvPr id="761" name="Text Box 38"/>
            <p:cNvSpPr/>
            <p:nvPr/>
          </p:nvSpPr>
          <p:spPr>
            <a:xfrm>
              <a:off x="39672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9"/>
            <p:cNvSpPr/>
            <p:nvPr/>
          </p:nvSpPr>
          <p:spPr>
            <a:xfrm>
              <a:off x="327816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0"/>
            <p:cNvSpPr/>
            <p:nvPr/>
          </p:nvSpPr>
          <p:spPr>
            <a:xfrm>
              <a:off x="486072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34136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292572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3"/>
            <p:cNvSpPr/>
            <p:nvPr/>
          </p:nvSpPr>
          <p:spPr>
            <a:xfrm>
              <a:off x="609408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44"/>
            <p:cNvSpPr/>
            <p:nvPr/>
          </p:nvSpPr>
          <p:spPr>
            <a:xfrm>
              <a:off x="451044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219708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7"/>
            <p:cNvSpPr/>
            <p:nvPr/>
          </p:nvSpPr>
          <p:spPr>
            <a:xfrm>
              <a:off x="183672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54"/>
          <p:cNvSpPr/>
          <p:nvPr/>
        </p:nvSpPr>
        <p:spPr>
          <a:xfrm flipV="1">
            <a:off x="1979640" y="4005360"/>
            <a:ext cx="79200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55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684000" y="2707920"/>
            <a:ext cx="3889080" cy="3314880"/>
            <a:chOff x="684000" y="2707920"/>
            <a:chExt cx="3889080" cy="3314880"/>
          </a:xfrm>
        </p:grpSpPr>
        <p:sp>
          <p:nvSpPr>
            <p:cNvPr id="774" name="Freeform 7"/>
            <p:cNvSpPr/>
            <p:nvPr/>
          </p:nvSpPr>
          <p:spPr>
            <a:xfrm>
              <a:off x="1909440" y="270972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 flipH="1" flipV="1">
              <a:off x="683280" y="270756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6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28"/>
          <p:cNvGrpSpPr/>
          <p:nvPr/>
        </p:nvGrpSpPr>
        <p:grpSpPr>
          <a:xfrm>
            <a:off x="2446560" y="379800"/>
            <a:ext cx="2410920" cy="2460600"/>
            <a:chOff x="2446560" y="379800"/>
            <a:chExt cx="2410920" cy="2460600"/>
          </a:xfrm>
        </p:grpSpPr>
        <p:sp>
          <p:nvSpPr>
            <p:cNvPr id="781" name="Freeform 29"/>
            <p:cNvSpPr/>
            <p:nvPr/>
          </p:nvSpPr>
          <p:spPr>
            <a:xfrm flipH="1" rot="1052400">
              <a:off x="2700000" y="620280"/>
              <a:ext cx="190296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 flipH="1" rot="1052400">
              <a:off x="3888360" y="234936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flipH="1" rot="1052400">
              <a:off x="4096080" y="261900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flipH="1" rot="1052400">
              <a:off x="2873160" y="640800"/>
              <a:ext cx="147312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 flipH="1" rot="1052400">
              <a:off x="2805120" y="676080"/>
              <a:ext cx="1473120" cy="153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6528 -0.16805 E">
                                      <p:cBhvr>
                                        <p:cTn id="58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-0.18282 0.18125 E">
                                      <p:cBhvr>
                                        <p:cTn id="67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reeform 3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2195280" y="1557000"/>
            <a:ext cx="3889080" cy="3314880"/>
            <a:chOff x="2195280" y="1557000"/>
            <a:chExt cx="3889080" cy="3314880"/>
          </a:xfrm>
        </p:grpSpPr>
        <p:sp>
          <p:nvSpPr>
            <p:cNvPr id="788" name="Freeform 7"/>
            <p:cNvSpPr/>
            <p:nvPr/>
          </p:nvSpPr>
          <p:spPr>
            <a:xfrm>
              <a:off x="3420720" y="155880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 flipH="1" flipV="1">
              <a:off x="2194560" y="155664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9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2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7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486072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609408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451044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43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44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45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6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9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7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8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49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50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2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3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20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8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6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7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9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7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45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2082960" y="5143680"/>
              <a:ext cx="2565360" cy="12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4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5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reeform 36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73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3619080" y="899280"/>
            <a:ext cx="2358720" cy="1896480"/>
            <a:chOff x="3619080" y="899280"/>
            <a:chExt cx="2358720" cy="1896480"/>
          </a:xfrm>
        </p:grpSpPr>
        <p:sp>
          <p:nvSpPr>
            <p:cNvPr id="902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"/>
            <p:cNvSpPr/>
            <p:nvPr/>
          </p:nvSpPr>
          <p:spPr>
            <a:xfrm flipH="1" flipV="1" rot="14547000">
              <a:off x="4071240" y="2379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42"/>
          <p:cNvGrpSpPr/>
          <p:nvPr/>
        </p:nvGrpSpPr>
        <p:grpSpPr>
          <a:xfrm>
            <a:off x="393480" y="1527840"/>
            <a:ext cx="1596600" cy="2311200"/>
            <a:chOff x="393480" y="1527840"/>
            <a:chExt cx="1596600" cy="2311200"/>
          </a:xfrm>
        </p:grpSpPr>
        <p:sp>
          <p:nvSpPr>
            <p:cNvPr id="907" name="Freeform 43"/>
            <p:cNvSpPr/>
            <p:nvPr/>
          </p:nvSpPr>
          <p:spPr>
            <a:xfrm flipH="1" flipV="1" rot="9778800">
              <a:off x="679680" y="1629000"/>
              <a:ext cx="100944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4"/>
            <p:cNvSpPr/>
            <p:nvPr/>
          </p:nvSpPr>
          <p:spPr>
            <a:xfrm flipH="1" flipV="1" rot="9778800">
              <a:off x="1679760" y="3194640"/>
              <a:ext cx="25524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 flipH="1" flipV="1" rot="9778800">
              <a:off x="1865520" y="3408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6"/>
            <p:cNvSpPr/>
            <p:nvPr/>
          </p:nvSpPr>
          <p:spPr>
            <a:xfrm flipH="1" flipV="1" rot="9778800">
              <a:off x="698760" y="1657800"/>
              <a:ext cx="882720" cy="176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47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13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Freeform 56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829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831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56" dur="1230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57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59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888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reeform 52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3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44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43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51" name="Freeform 19"/>
            <p:cNvSpPr/>
            <p:nvPr/>
          </p:nvSpPr>
          <p:spPr>
            <a:xfrm>
              <a:off x="3851280" y="2852640"/>
              <a:ext cx="4457520" cy="2583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>
              <a:off x="4284720" y="2492280"/>
              <a:ext cx="4470480" cy="5335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3337920" y="3427920"/>
            <a:ext cx="2341080" cy="2022120"/>
            <a:chOff x="3337920" y="3427920"/>
            <a:chExt cx="2341080" cy="2022120"/>
          </a:xfrm>
        </p:grpSpPr>
        <p:sp>
          <p:nvSpPr>
            <p:cNvPr id="958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 flipH="1" flipV="1" rot="14223600">
              <a:off x="3854880" y="5022720"/>
              <a:ext cx="25560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64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940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942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67" dur="615" fill="hold"/>
                                        <p:tgtEl>
                                          <p:spTgt spid="9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8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0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7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100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reeform 2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7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54908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3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4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0"/>
          <p:cNvSpPr/>
          <p:nvPr/>
        </p:nvSpPr>
        <p:spPr>
          <a:xfrm>
            <a:off x="629748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3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6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8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51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53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54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5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5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56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57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8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9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60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2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63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1013" name="Freeform 8"/>
            <p:cNvSpPr/>
            <p:nvPr/>
          </p:nvSpPr>
          <p:spPr>
            <a:xfrm>
              <a:off x="270036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3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6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6" dur="123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57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59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4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5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 flipV="1">
            <a:off x="1619280" y="5568480"/>
            <a:ext cx="532908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20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21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0" name="Text Box 22"/>
          <p:cNvSpPr/>
          <p:nvPr/>
        </p:nvSpPr>
        <p:spPr>
          <a:xfrm>
            <a:off x="608616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810000" y="2200680"/>
            <a:ext cx="3199320" cy="3389760"/>
            <a:chOff x="810000" y="2200680"/>
            <a:chExt cx="3199320" cy="3389760"/>
          </a:xfrm>
        </p:grpSpPr>
        <p:sp>
          <p:nvSpPr>
            <p:cNvPr id="1043" name="Freeform 9"/>
            <p:cNvSpPr/>
            <p:nvPr/>
          </p:nvSpPr>
          <p:spPr>
            <a:xfrm rot="20547600">
              <a:off x="1169640" y="2509920"/>
              <a:ext cx="2479320" cy="27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 rot="20547600">
              <a:off x="1549080" y="4904640"/>
              <a:ext cx="573480" cy="58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 rot="20547600">
              <a:off x="1606680" y="5282640"/>
              <a:ext cx="249840" cy="24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 rot="20547600">
              <a:off x="1499040" y="2541240"/>
              <a:ext cx="1919160" cy="21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 rot="20547600">
              <a:off x="1589760" y="2592000"/>
              <a:ext cx="1919160" cy="215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61441 0.00254 E">
                                      <p:cBhvr>
                                        <p:cTn id="1184" dur="3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18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3"/>
          <p:cNvSpPr/>
          <p:nvPr/>
        </p:nvSpPr>
        <p:spPr>
          <a:xfrm>
            <a:off x="619200" y="587628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4"/>
          <p:cNvSpPr/>
          <p:nvPr/>
        </p:nvSpPr>
        <p:spPr>
          <a:xfrm>
            <a:off x="760320" y="494100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5"/>
          <p:cNvSpPr/>
          <p:nvPr/>
        </p:nvSpPr>
        <p:spPr>
          <a:xfrm>
            <a:off x="690120" y="537300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6"/>
          <p:cNvSpPr/>
          <p:nvPr/>
        </p:nvSpPr>
        <p:spPr>
          <a:xfrm>
            <a:off x="250668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5" descr="_15"/>
          <p:cNvPicPr/>
          <p:nvPr/>
        </p:nvPicPr>
        <p:blipFill>
          <a:blip r:embed="rId1"/>
          <a:stretch/>
        </p:blipFill>
        <p:spPr>
          <a:xfrm>
            <a:off x="500040" y="1000080"/>
            <a:ext cx="6929640" cy="563580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7"/>
          <p:cNvSpPr/>
          <p:nvPr/>
        </p:nvSpPr>
        <p:spPr>
          <a:xfrm>
            <a:off x="7437600" y="78624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539640" y="4680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елает дизайн, не зная перспективы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23"/>
          <p:cNvGrpSpPr/>
          <p:nvPr/>
        </p:nvGrpSpPr>
        <p:grpSpPr>
          <a:xfrm>
            <a:off x="2143080" y="3929040"/>
            <a:ext cx="3615840" cy="1942920"/>
            <a:chOff x="2143080" y="3929040"/>
            <a:chExt cx="3615840" cy="1942920"/>
          </a:xfrm>
        </p:grpSpPr>
        <p:sp>
          <p:nvSpPr>
            <p:cNvPr id="1057" name="Freeform 19"/>
            <p:cNvSpPr/>
            <p:nvPr/>
          </p:nvSpPr>
          <p:spPr>
            <a:xfrm>
              <a:off x="5302080" y="3929040"/>
              <a:ext cx="456840" cy="19429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3727080" y="3929040"/>
              <a:ext cx="456840" cy="19429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2143080" y="3929040"/>
              <a:ext cx="456840" cy="1942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0"/>
          <p:cNvGrpSpPr/>
          <p:nvPr/>
        </p:nvGrpSpPr>
        <p:grpSpPr>
          <a:xfrm>
            <a:off x="1857240" y="5857920"/>
            <a:ext cx="4753080" cy="569880"/>
            <a:chOff x="1857240" y="5857920"/>
            <a:chExt cx="4753080" cy="569880"/>
          </a:xfrm>
        </p:grpSpPr>
        <p:pic>
          <p:nvPicPr>
            <p:cNvPr id="1062" name="Picture 24" descr=""/>
            <p:cNvPicPr/>
            <p:nvPr/>
          </p:nvPicPr>
          <p:blipFill>
            <a:blip r:embed="rId6"/>
            <a:stretch/>
          </p:blipFill>
          <p:spPr>
            <a:xfrm>
              <a:off x="185724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25" descr=""/>
            <p:cNvPicPr/>
            <p:nvPr/>
          </p:nvPicPr>
          <p:blipFill>
            <a:blip r:embed="rId7"/>
            <a:stretch/>
          </p:blipFill>
          <p:spPr>
            <a:xfrm>
              <a:off x="502596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6" descr=""/>
            <p:cNvPicPr/>
            <p:nvPr/>
          </p:nvPicPr>
          <p:blipFill>
            <a:blip r:embed="rId8"/>
            <a:stretch/>
          </p:blipFill>
          <p:spPr>
            <a:xfrm>
              <a:off x="3429000" y="600084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27" descr=""/>
            <p:cNvPicPr/>
            <p:nvPr/>
          </p:nvPicPr>
          <p:blipFill>
            <a:blip r:embed="rId9"/>
            <a:stretch/>
          </p:blipFill>
          <p:spPr>
            <a:xfrm>
              <a:off x="4521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28" descr=""/>
            <p:cNvPicPr/>
            <p:nvPr/>
          </p:nvPicPr>
          <p:blipFill>
            <a:blip r:embed="rId10"/>
            <a:stretch/>
          </p:blipFill>
          <p:spPr>
            <a:xfrm>
              <a:off x="3081240" y="585792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29" descr=""/>
            <p:cNvPicPr/>
            <p:nvPr/>
          </p:nvPicPr>
          <p:blipFill>
            <a:blip r:embed="rId11"/>
            <a:stretch/>
          </p:blipFill>
          <p:spPr>
            <a:xfrm>
              <a:off x="1857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Line 11"/>
          <p:cNvSpPr/>
          <p:nvPr/>
        </p:nvSpPr>
        <p:spPr>
          <a:xfrm>
            <a:off x="500040" y="6429240"/>
            <a:ext cx="69501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Freeform 44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3568680" y="2009880"/>
            <a:ext cx="3610800" cy="4111200"/>
            <a:chOff x="3568680" y="2009880"/>
            <a:chExt cx="3610800" cy="4111200"/>
          </a:xfrm>
        </p:grpSpPr>
        <p:sp>
          <p:nvSpPr>
            <p:cNvPr id="1084" name="AutoShape 4"/>
            <p:cNvSpPr/>
            <p:nvPr/>
          </p:nvSpPr>
          <p:spPr>
            <a:xfrm>
              <a:off x="3568680" y="200988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"/>
            <p:cNvSpPr/>
            <p:nvPr/>
          </p:nvSpPr>
          <p:spPr>
            <a:xfrm>
              <a:off x="4493520" y="200988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6"/>
            <p:cNvSpPr/>
            <p:nvPr/>
          </p:nvSpPr>
          <p:spPr>
            <a:xfrm flipH="1">
              <a:off x="4587120" y="529812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"/>
            <p:cNvSpPr/>
            <p:nvPr/>
          </p:nvSpPr>
          <p:spPr>
            <a:xfrm flipH="1">
              <a:off x="3568680" y="529812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13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292788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413352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724464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99672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1"/>
          <p:cNvSpPr/>
          <p:nvPr/>
        </p:nvSpPr>
        <p:spPr>
          <a:xfrm flipH="1">
            <a:off x="4401720" y="2833560"/>
            <a:ext cx="110988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2"/>
          <p:cNvSpPr/>
          <p:nvPr/>
        </p:nvSpPr>
        <p:spPr>
          <a:xfrm>
            <a:off x="5048280" y="2833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3"/>
          <p:cNvSpPr/>
          <p:nvPr/>
        </p:nvSpPr>
        <p:spPr>
          <a:xfrm flipV="1">
            <a:off x="5511960" y="150840"/>
            <a:ext cx="1019160" cy="268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4"/>
          <p:cNvSpPr/>
          <p:nvPr/>
        </p:nvSpPr>
        <p:spPr>
          <a:xfrm flipV="1">
            <a:off x="6253200" y="150840"/>
            <a:ext cx="0" cy="613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38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4401720" y="5545080"/>
            <a:ext cx="250020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2"/>
          <p:cNvSpPr/>
          <p:nvPr/>
        </p:nvSpPr>
        <p:spPr>
          <a:xfrm flipH="1">
            <a:off x="5440320" y="2692440"/>
            <a:ext cx="1008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6589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7"/>
          <p:cNvSpPr/>
          <p:nvPr/>
        </p:nvSpPr>
        <p:spPr>
          <a:xfrm>
            <a:off x="0" y="333360"/>
            <a:ext cx="3357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11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51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2" descr="feet1"/>
          <p:cNvPicPr/>
          <p:nvPr/>
        </p:nvPicPr>
        <p:blipFill>
          <a:blip r:embed="rId4"/>
          <a:stretch/>
        </p:blipFill>
        <p:spPr>
          <a:xfrm flipH="1" rot="6610800">
            <a:off x="3677760" y="1958760"/>
            <a:ext cx="4286160" cy="38124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0"/>
          <p:cNvSpPr/>
          <p:nvPr/>
        </p:nvSpPr>
        <p:spPr>
          <a:xfrm>
            <a:off x="566136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3"/>
          <p:cNvSpPr/>
          <p:nvPr/>
        </p:nvSpPr>
        <p:spPr>
          <a:xfrm>
            <a:off x="720360" y="4724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54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reeform 33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24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йдите    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9"/>
          <p:cNvGrpSpPr/>
          <p:nvPr/>
        </p:nvGrpSpPr>
        <p:grpSpPr>
          <a:xfrm>
            <a:off x="3747960" y="1268280"/>
            <a:ext cx="3889080" cy="4752720"/>
            <a:chOff x="3747960" y="1268280"/>
            <a:chExt cx="3889080" cy="4752720"/>
          </a:xfrm>
        </p:grpSpPr>
        <p:sp>
          <p:nvSpPr>
            <p:cNvPr id="1121" name="Freeform 5"/>
            <p:cNvSpPr/>
            <p:nvPr/>
          </p:nvSpPr>
          <p:spPr>
            <a:xfrm>
              <a:off x="3747960" y="1268280"/>
              <a:ext cx="2520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5908320" y="1268280"/>
              <a:ext cx="1728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V="1">
              <a:off x="3747960" y="4152240"/>
              <a:ext cx="3889080" cy="70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Freeform 10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67848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594180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5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6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27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9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1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2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6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4" descr="feet1"/>
          <p:cNvPicPr/>
          <p:nvPr/>
        </p:nvPicPr>
        <p:blipFill>
          <a:blip r:embed="rId3"/>
          <a:stretch/>
        </p:blipFill>
        <p:spPr>
          <a:xfrm flipH="1" rot="19839000">
            <a:off x="34560" y="4878000"/>
            <a:ext cx="4753080" cy="42264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35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21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0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6" dur="5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50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972720" y="1268280"/>
            <a:ext cx="2808720" cy="3600720"/>
            <a:chOff x="972720" y="1268280"/>
            <a:chExt cx="2808720" cy="3600720"/>
          </a:xfrm>
        </p:grpSpPr>
        <p:sp>
          <p:nvSpPr>
            <p:cNvPr id="238" name="AutoShape 5"/>
            <p:cNvSpPr/>
            <p:nvPr/>
          </p:nvSpPr>
          <p:spPr>
            <a:xfrm>
              <a:off x="97308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176544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>
              <a:off x="97272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reeform 9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1620720" y="4363920"/>
            <a:ext cx="194472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3348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772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278316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26000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133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2410560" y="260280"/>
            <a:ext cx="453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8"/>
          <p:cNvGrpSpPr/>
          <p:nvPr/>
        </p:nvGrpSpPr>
        <p:grpSpPr>
          <a:xfrm>
            <a:off x="5079960" y="1052640"/>
            <a:ext cx="2095560" cy="2795400"/>
            <a:chOff x="5079960" y="1052640"/>
            <a:chExt cx="2095560" cy="2795400"/>
          </a:xfrm>
        </p:grpSpPr>
        <p:sp>
          <p:nvSpPr>
            <p:cNvPr id="266" name="Text Box 36"/>
            <p:cNvSpPr/>
            <p:nvPr/>
          </p:nvSpPr>
          <p:spPr>
            <a:xfrm>
              <a:off x="602604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5940360" y="1343160"/>
              <a:ext cx="1235160" cy="1755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5940360" y="1341360"/>
              <a:ext cx="181080" cy="2506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5079960" y="1341360"/>
              <a:ext cx="862200" cy="2036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9"/>
          <p:cNvGrpSpPr/>
          <p:nvPr/>
        </p:nvGrpSpPr>
        <p:grpSpPr>
          <a:xfrm>
            <a:off x="3781440" y="2741760"/>
            <a:ext cx="4884840" cy="3776760"/>
            <a:chOff x="3781440" y="2741760"/>
            <a:chExt cx="4884840" cy="3776760"/>
          </a:xfrm>
        </p:grpSpPr>
        <p:sp>
          <p:nvSpPr>
            <p:cNvPr id="271" name="Text Box 25"/>
            <p:cNvSpPr/>
            <p:nvPr/>
          </p:nvSpPr>
          <p:spPr>
            <a:xfrm>
              <a:off x="615744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4280040" y="3314880"/>
              <a:ext cx="838080" cy="1866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4260960" y="4435560"/>
              <a:ext cx="3848040" cy="750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731052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378144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819144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6121440" y="3848040"/>
              <a:ext cx="165240" cy="208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7164360" y="3068640"/>
              <a:ext cx="938160" cy="13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 flipH="1">
              <a:off x="7092360" y="2997360"/>
              <a:ext cx="142920" cy="142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6084720" y="3789360"/>
              <a:ext cx="1447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5003640" y="3284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76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3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248400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6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7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8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"/>
          <p:cNvSpPr/>
          <p:nvPr/>
        </p:nvSpPr>
        <p:spPr>
          <a:xfrm>
            <a:off x="1773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594972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421272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9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4022640" y="1655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522072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2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3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4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6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7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8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9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30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31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2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7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38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9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40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41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42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3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551160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1202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9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6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7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1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4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5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6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7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8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49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4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5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6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7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32"/>
          <p:cNvSpPr/>
          <p:nvPr/>
        </p:nvSpPr>
        <p:spPr>
          <a:xfrm>
            <a:off x="219672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"/>
          <p:cNvSpPr/>
          <p:nvPr/>
        </p:nvSpPr>
        <p:spPr>
          <a:xfrm>
            <a:off x="349344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190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33080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5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6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7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8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9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0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21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22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23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4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25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 flipH="1">
            <a:off x="561096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4"/>
          <p:cNvGrpSpPr/>
          <p:nvPr/>
        </p:nvGrpSpPr>
        <p:grpSpPr>
          <a:xfrm>
            <a:off x="5893920" y="2654280"/>
            <a:ext cx="476640" cy="846000"/>
            <a:chOff x="5893920" y="2654280"/>
            <a:chExt cx="476640" cy="846000"/>
          </a:xfrm>
        </p:grpSpPr>
        <p:sp>
          <p:nvSpPr>
            <p:cNvPr id="1264" name="Oval 28"/>
            <p:cNvSpPr/>
            <p:nvPr/>
          </p:nvSpPr>
          <p:spPr>
            <a:xfrm flipH="1">
              <a:off x="5893560" y="3375000"/>
              <a:ext cx="141480" cy="125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1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33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5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36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Text Box 37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40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41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7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43"/>
          <p:cNvGrpSpPr/>
          <p:nvPr/>
        </p:nvGrpSpPr>
        <p:grpSpPr>
          <a:xfrm>
            <a:off x="1145880" y="5877000"/>
            <a:ext cx="692280" cy="725760"/>
            <a:chOff x="1145880" y="5877000"/>
            <a:chExt cx="692280" cy="725760"/>
          </a:xfrm>
        </p:grpSpPr>
        <p:sp>
          <p:nvSpPr>
            <p:cNvPr id="1276" name="Oval 38"/>
            <p:cNvSpPr/>
            <p:nvPr/>
          </p:nvSpPr>
          <p:spPr>
            <a:xfrm flipH="1">
              <a:off x="1145520" y="5877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42"/>
            <p:cNvSpPr/>
            <p:nvPr/>
          </p:nvSpPr>
          <p:spPr>
            <a:xfrm>
              <a:off x="136332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Freeform 57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9"/>
          <p:cNvSpPr/>
          <p:nvPr/>
        </p:nvSpPr>
        <p:spPr>
          <a:xfrm rot="190800">
            <a:off x="34920" y="4436640"/>
            <a:ext cx="8048520" cy="19432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6086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2"/>
          <p:cNvSpPr/>
          <p:nvPr/>
        </p:nvSpPr>
        <p:spPr>
          <a:xfrm>
            <a:off x="2133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3"/>
          <p:cNvSpPr/>
          <p:nvPr/>
        </p:nvSpPr>
        <p:spPr>
          <a:xfrm>
            <a:off x="328644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4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6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6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2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3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47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8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9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53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5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8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9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0"/>
          <p:cNvSpPr/>
          <p:nvPr/>
        </p:nvSpPr>
        <p:spPr>
          <a:xfrm>
            <a:off x="601308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63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6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7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69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75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77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8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9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80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81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1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52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73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2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87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9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0"/>
          <p:cNvSpPr/>
          <p:nvPr/>
        </p:nvSpPr>
        <p:spPr>
          <a:xfrm>
            <a:off x="471780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1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2"/>
          <p:cNvSpPr/>
          <p:nvPr/>
        </p:nvSpPr>
        <p:spPr>
          <a:xfrm>
            <a:off x="342072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84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83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Object 93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1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3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684000" y="765000"/>
            <a:ext cx="3456360" cy="5256360"/>
            <a:chOff x="684000" y="765000"/>
            <a:chExt cx="3456360" cy="5256360"/>
          </a:xfrm>
        </p:grpSpPr>
        <p:sp>
          <p:nvSpPr>
            <p:cNvPr id="287" name="Freeform 16"/>
            <p:cNvSpPr/>
            <p:nvPr/>
          </p:nvSpPr>
          <p:spPr>
            <a:xfrm>
              <a:off x="684360" y="76500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 flipH="1">
              <a:off x="684000" y="76500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 flipV="1">
              <a:off x="684360" y="429372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9"/>
          <p:cNvSpPr/>
          <p:nvPr/>
        </p:nvSpPr>
        <p:spPr>
          <a:xfrm>
            <a:off x="90108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25380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421452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26980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4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1332000" y="4293720"/>
            <a:ext cx="2808360" cy="11509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1331640" y="836640"/>
            <a:ext cx="86508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9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0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1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2"/>
          <p:cNvGrpSpPr/>
          <p:nvPr/>
        </p:nvGrpSpPr>
        <p:grpSpPr>
          <a:xfrm>
            <a:off x="4787640" y="620640"/>
            <a:ext cx="3456360" cy="5256360"/>
            <a:chOff x="4787640" y="620640"/>
            <a:chExt cx="3456360" cy="5256360"/>
          </a:xfrm>
        </p:grpSpPr>
        <p:sp>
          <p:nvSpPr>
            <p:cNvPr id="303" name="Freeform 53"/>
            <p:cNvSpPr/>
            <p:nvPr/>
          </p:nvSpPr>
          <p:spPr>
            <a:xfrm>
              <a:off x="478800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478764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 flipV="1">
              <a:off x="478800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6"/>
          <p:cNvSpPr/>
          <p:nvPr/>
        </p:nvSpPr>
        <p:spPr>
          <a:xfrm>
            <a:off x="507780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7"/>
          <p:cNvSpPr/>
          <p:nvPr/>
        </p:nvSpPr>
        <p:spPr>
          <a:xfrm>
            <a:off x="4357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4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65"/>
          <p:cNvGrpSpPr/>
          <p:nvPr/>
        </p:nvGrpSpPr>
        <p:grpSpPr>
          <a:xfrm>
            <a:off x="6516720" y="4076640"/>
            <a:ext cx="1798560" cy="1873440"/>
            <a:chOff x="6516720" y="4076640"/>
            <a:chExt cx="1798560" cy="1873440"/>
          </a:xfrm>
        </p:grpSpPr>
        <p:sp>
          <p:nvSpPr>
            <p:cNvPr id="316" name="Oval 66"/>
            <p:cNvSpPr/>
            <p:nvPr/>
          </p:nvSpPr>
          <p:spPr>
            <a:xfrm>
              <a:off x="6516720" y="580536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7"/>
            <p:cNvSpPr/>
            <p:nvPr/>
          </p:nvSpPr>
          <p:spPr>
            <a:xfrm>
              <a:off x="8172360" y="4076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47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0152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403200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09600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6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4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0"/>
          <p:cNvGrpSpPr/>
          <p:nvPr/>
        </p:nvGrpSpPr>
        <p:grpSpPr>
          <a:xfrm>
            <a:off x="1523880" y="2060640"/>
            <a:ext cx="1841760" cy="3327480"/>
            <a:chOff x="1523880" y="2060640"/>
            <a:chExt cx="1841760" cy="3327480"/>
          </a:xfrm>
        </p:grpSpPr>
        <p:sp>
          <p:nvSpPr>
            <p:cNvPr id="335" name="Freeform 58"/>
            <p:cNvSpPr/>
            <p:nvPr/>
          </p:nvSpPr>
          <p:spPr>
            <a:xfrm>
              <a:off x="2411280" y="2465640"/>
              <a:ext cx="954360" cy="2922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>
              <a:off x="1523880" y="2060640"/>
              <a:ext cx="887400" cy="558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45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7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2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4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61"/>
          <p:cNvGrpSpPr/>
          <p:nvPr/>
        </p:nvGrpSpPr>
        <p:grpSpPr>
          <a:xfrm>
            <a:off x="573480" y="2513880"/>
            <a:ext cx="2411280" cy="2460960"/>
            <a:chOff x="573480" y="2513880"/>
            <a:chExt cx="2411280" cy="2460960"/>
          </a:xfrm>
        </p:grpSpPr>
        <p:sp>
          <p:nvSpPr>
            <p:cNvPr id="345" name="Freeform 62"/>
            <p:cNvSpPr/>
            <p:nvPr/>
          </p:nvSpPr>
          <p:spPr>
            <a:xfrm flipH="1" rot="1052400">
              <a:off x="827280" y="2754360"/>
              <a:ext cx="190332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 flipH="1" rot="1052400">
              <a:off x="2015640" y="448344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 flipH="1" rot="1052400">
              <a:off x="2223360" y="475272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5"/>
            <p:cNvSpPr/>
            <p:nvPr/>
          </p:nvSpPr>
          <p:spPr>
            <a:xfrm flipH="1" rot="1052400">
              <a:off x="999360" y="2774160"/>
              <a:ext cx="147348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"/>
            <p:cNvSpPr/>
            <p:nvPr/>
          </p:nvSpPr>
          <p:spPr>
            <a:xfrm flipH="1" rot="1052400">
              <a:off x="931320" y="2809800"/>
              <a:ext cx="1473480" cy="153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68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9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0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93"/>
          <p:cNvGrpSpPr/>
          <p:nvPr/>
        </p:nvGrpSpPr>
        <p:grpSpPr>
          <a:xfrm>
            <a:off x="4746600" y="1530360"/>
            <a:ext cx="3849840" cy="4613760"/>
            <a:chOff x="4746600" y="1530360"/>
            <a:chExt cx="3849840" cy="4613760"/>
          </a:xfrm>
        </p:grpSpPr>
        <p:grpSp>
          <p:nvGrpSpPr>
            <p:cNvPr id="356" name="Group 71"/>
            <p:cNvGrpSpPr/>
            <p:nvPr/>
          </p:nvGrpSpPr>
          <p:grpSpPr>
            <a:xfrm>
              <a:off x="5241600" y="2033640"/>
              <a:ext cx="2808720" cy="3600360"/>
              <a:chOff x="5241600" y="2033640"/>
              <a:chExt cx="2808720" cy="3600360"/>
            </a:xfrm>
          </p:grpSpPr>
          <p:sp>
            <p:nvSpPr>
              <p:cNvPr id="357" name="AutoShape 72"/>
              <p:cNvSpPr/>
              <p:nvPr/>
            </p:nvSpPr>
            <p:spPr>
              <a:xfrm>
                <a:off x="5241960" y="2033640"/>
                <a:ext cx="2806920" cy="360036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3"/>
              <p:cNvSpPr/>
              <p:nvPr/>
            </p:nvSpPr>
            <p:spPr>
              <a:xfrm>
                <a:off x="5961240" y="2033640"/>
                <a:ext cx="71640" cy="28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74"/>
              <p:cNvSpPr/>
              <p:nvPr/>
            </p:nvSpPr>
            <p:spPr>
              <a:xfrm flipH="1">
                <a:off x="6034320" y="4913280"/>
                <a:ext cx="20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5"/>
              <p:cNvSpPr/>
              <p:nvPr/>
            </p:nvSpPr>
            <p:spPr>
              <a:xfrm flipH="1">
                <a:off x="5241600" y="4913280"/>
                <a:ext cx="79236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78"/>
            <p:cNvSpPr/>
            <p:nvPr/>
          </p:nvSpPr>
          <p:spPr>
            <a:xfrm>
              <a:off x="488772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9"/>
            <p:cNvSpPr/>
            <p:nvPr/>
          </p:nvSpPr>
          <p:spPr>
            <a:xfrm>
              <a:off x="725976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0"/>
            <p:cNvSpPr/>
            <p:nvPr/>
          </p:nvSpPr>
          <p:spPr>
            <a:xfrm>
              <a:off x="812160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1"/>
            <p:cNvSpPr/>
            <p:nvPr/>
          </p:nvSpPr>
          <p:spPr>
            <a:xfrm>
              <a:off x="560376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2"/>
            <p:cNvSpPr/>
            <p:nvPr/>
          </p:nvSpPr>
          <p:spPr>
            <a:xfrm>
              <a:off x="474660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3"/>
            <p:cNvSpPr/>
            <p:nvPr/>
          </p:nvSpPr>
          <p:spPr>
            <a:xfrm>
              <a:off x="568296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4"/>
            <p:cNvSpPr/>
            <p:nvPr/>
          </p:nvSpPr>
          <p:spPr>
            <a:xfrm>
              <a:off x="798660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5"/>
            <p:cNvSpPr/>
            <p:nvPr/>
          </p:nvSpPr>
          <p:spPr>
            <a:xfrm>
              <a:off x="731844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87"/>
            <p:cNvSpPr/>
            <p:nvPr/>
          </p:nvSpPr>
          <p:spPr>
            <a:xfrm flipH="1">
              <a:off x="7327800" y="4915080"/>
              <a:ext cx="720720" cy="718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8"/>
            <p:cNvSpPr/>
            <p:nvPr/>
          </p:nvSpPr>
          <p:spPr>
            <a:xfrm>
              <a:off x="5273640" y="2028960"/>
              <a:ext cx="679320" cy="67932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89"/>
            <p:cNvSpPr/>
            <p:nvPr/>
          </p:nvSpPr>
          <p:spPr>
            <a:xfrm>
              <a:off x="5168880" y="268128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0"/>
            <p:cNvSpPr/>
            <p:nvPr/>
          </p:nvSpPr>
          <p:spPr>
            <a:xfrm>
              <a:off x="5888160" y="196200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1"/>
            <p:cNvSpPr/>
            <p:nvPr/>
          </p:nvSpPr>
          <p:spPr>
            <a:xfrm>
              <a:off x="7256520" y="556272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2"/>
            <p:cNvSpPr/>
            <p:nvPr/>
          </p:nvSpPr>
          <p:spPr>
            <a:xfrm>
              <a:off x="7977240" y="484200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0.00937 -0.36481 E">
                                      <p:cBhvr>
                                        <p:cTn id="1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8"/>
          <p:cNvGrpSpPr/>
          <p:nvPr/>
        </p:nvGrpSpPr>
        <p:grpSpPr>
          <a:xfrm>
            <a:off x="4181400" y="3919680"/>
            <a:ext cx="1551240" cy="1461960"/>
            <a:chOff x="4181400" y="3919680"/>
            <a:chExt cx="1551240" cy="1461960"/>
          </a:xfrm>
        </p:grpSpPr>
        <p:sp>
          <p:nvSpPr>
            <p:cNvPr id="376" name="Freeform 18"/>
            <p:cNvSpPr/>
            <p:nvPr/>
          </p:nvSpPr>
          <p:spPr>
            <a:xfrm>
              <a:off x="5703840" y="3919680"/>
              <a:ext cx="28800" cy="1450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181400" y="5362560"/>
              <a:ext cx="15242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4775040" y="4397400"/>
              <a:ext cx="943200" cy="94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51"/>
          <p:cNvGrpSpPr/>
          <p:nvPr/>
        </p:nvGrpSpPr>
        <p:grpSpPr>
          <a:xfrm>
            <a:off x="1752480" y="1473120"/>
            <a:ext cx="3487680" cy="3389400"/>
            <a:chOff x="1752480" y="1473120"/>
            <a:chExt cx="3487680" cy="3389400"/>
          </a:xfrm>
        </p:grpSpPr>
        <p:sp>
          <p:nvSpPr>
            <p:cNvPr id="380" name="Line 41"/>
            <p:cNvSpPr/>
            <p:nvPr/>
          </p:nvSpPr>
          <p:spPr>
            <a:xfrm>
              <a:off x="1763640" y="436572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"/>
            <p:cNvSpPr/>
            <p:nvPr/>
          </p:nvSpPr>
          <p:spPr>
            <a:xfrm>
              <a:off x="1770120" y="1476360"/>
              <a:ext cx="17636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1771560" y="1517760"/>
              <a:ext cx="514440" cy="482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1752480" y="1484280"/>
              <a:ext cx="11160" cy="1554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4716360" y="1484280"/>
              <a:ext cx="58680" cy="2870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1755720" y="2989440"/>
              <a:ext cx="1800" cy="1365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3511440" y="1473120"/>
              <a:ext cx="1204920" cy="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4716360" y="1484280"/>
              <a:ext cx="523800" cy="46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1752480" y="4371840"/>
              <a:ext cx="454320" cy="49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3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5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0"/>
          <p:cNvGrpSpPr/>
          <p:nvPr/>
        </p:nvGrpSpPr>
        <p:grpSpPr>
          <a:xfrm>
            <a:off x="2176560" y="3857760"/>
            <a:ext cx="2023920" cy="1552320"/>
            <a:chOff x="2176560" y="3857760"/>
            <a:chExt cx="2023920" cy="1552320"/>
          </a:xfrm>
        </p:grpSpPr>
        <p:sp>
          <p:nvSpPr>
            <p:cNvPr id="398" name="Freeform 22"/>
            <p:cNvSpPr/>
            <p:nvPr/>
          </p:nvSpPr>
          <p:spPr>
            <a:xfrm>
              <a:off x="2733840" y="3857760"/>
              <a:ext cx="9360" cy="155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2714760" y="5381640"/>
              <a:ext cx="148572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"/>
            <p:cNvSpPr/>
            <p:nvPr/>
          </p:nvSpPr>
          <p:spPr>
            <a:xfrm>
              <a:off x="2176560" y="4834080"/>
              <a:ext cx="55224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7"/>
          <p:cNvGrpSpPr/>
          <p:nvPr/>
        </p:nvGrpSpPr>
        <p:grpSpPr>
          <a:xfrm>
            <a:off x="4211640" y="1944720"/>
            <a:ext cx="1520640" cy="1974960"/>
            <a:chOff x="4211640" y="1944720"/>
            <a:chExt cx="1520640" cy="1974960"/>
          </a:xfrm>
        </p:grpSpPr>
        <p:sp>
          <p:nvSpPr>
            <p:cNvPr id="402" name="Freeform 26"/>
            <p:cNvSpPr/>
            <p:nvPr/>
          </p:nvSpPr>
          <p:spPr>
            <a:xfrm>
              <a:off x="4211640" y="2438280"/>
              <a:ext cx="1520640" cy="2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"/>
            <p:cNvSpPr/>
            <p:nvPr/>
          </p:nvSpPr>
          <p:spPr>
            <a:xfrm>
              <a:off x="5724000" y="2457360"/>
              <a:ext cx="8280" cy="146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"/>
            <p:cNvSpPr/>
            <p:nvPr/>
          </p:nvSpPr>
          <p:spPr>
            <a:xfrm>
              <a:off x="5231160" y="1944720"/>
              <a:ext cx="501120" cy="5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2286000" y="1994040"/>
            <a:ext cx="1968480" cy="1881000"/>
            <a:chOff x="2286000" y="1994040"/>
            <a:chExt cx="1968480" cy="1881000"/>
          </a:xfrm>
        </p:grpSpPr>
        <p:sp>
          <p:nvSpPr>
            <p:cNvPr id="406" name="Freeform 30"/>
            <p:cNvSpPr/>
            <p:nvPr/>
          </p:nvSpPr>
          <p:spPr>
            <a:xfrm>
              <a:off x="2743200" y="2452680"/>
              <a:ext cx="1511280" cy="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>
              <a:off x="2286000" y="1994040"/>
              <a:ext cx="471600" cy="473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"/>
            <p:cNvSpPr/>
            <p:nvPr/>
          </p:nvSpPr>
          <p:spPr>
            <a:xfrm>
              <a:off x="2743200" y="2467080"/>
              <a:ext cx="14400" cy="14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52"/>
          <p:cNvSpPr/>
          <p:nvPr/>
        </p:nvSpPr>
        <p:spPr>
          <a:xfrm>
            <a:off x="5856840" y="54291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убо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6"/>
          <p:cNvGrpSpPr/>
          <p:nvPr/>
        </p:nvGrpSpPr>
        <p:grpSpPr>
          <a:xfrm>
            <a:off x="397080" y="836640"/>
            <a:ext cx="4533120" cy="4669920"/>
            <a:chOff x="397080" y="836640"/>
            <a:chExt cx="4533120" cy="4669920"/>
          </a:xfrm>
        </p:grpSpPr>
        <p:grpSp>
          <p:nvGrpSpPr>
            <p:cNvPr id="413" name="Group 27"/>
            <p:cNvGrpSpPr/>
            <p:nvPr/>
          </p:nvGrpSpPr>
          <p:grpSpPr>
            <a:xfrm>
              <a:off x="837720" y="1098720"/>
              <a:ext cx="3540960" cy="3826080"/>
              <a:chOff x="837720" y="1098720"/>
              <a:chExt cx="3540960" cy="3826080"/>
            </a:xfrm>
          </p:grpSpPr>
          <p:sp>
            <p:nvSpPr>
              <p:cNvPr id="414" name="Freeform 28"/>
              <p:cNvSpPr/>
              <p:nvPr/>
            </p:nvSpPr>
            <p:spPr>
              <a:xfrm>
                <a:off x="837720" y="1098720"/>
                <a:ext cx="3540960" cy="3826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"/>
              <p:cNvSpPr/>
              <p:nvPr/>
            </p:nvSpPr>
            <p:spPr>
              <a:xfrm flipH="1">
                <a:off x="837720" y="1098720"/>
                <a:ext cx="1550160" cy="319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0"/>
              <p:cNvSpPr/>
              <p:nvPr/>
            </p:nvSpPr>
            <p:spPr>
              <a:xfrm flipV="1">
                <a:off x="837720" y="3667320"/>
                <a:ext cx="3540960" cy="62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1"/>
            <p:cNvSpPr/>
            <p:nvPr/>
          </p:nvSpPr>
          <p:spPr>
            <a:xfrm>
              <a:off x="113292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3643560" y="2252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3"/>
            <p:cNvSpPr/>
            <p:nvPr/>
          </p:nvSpPr>
          <p:spPr>
            <a:xfrm>
              <a:off x="397080" y="4245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2464200" y="4925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5"/>
            <p:cNvSpPr/>
            <p:nvPr/>
          </p:nvSpPr>
          <p:spPr>
            <a:xfrm>
              <a:off x="4455360" y="3613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6"/>
            <p:cNvSpPr/>
            <p:nvPr/>
          </p:nvSpPr>
          <p:spPr>
            <a:xfrm>
              <a:off x="246348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Line 37"/>
          <p:cNvSpPr/>
          <p:nvPr/>
        </p:nvSpPr>
        <p:spPr>
          <a:xfrm flipH="1">
            <a:off x="2535120" y="2479680"/>
            <a:ext cx="95904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 flipV="1">
            <a:off x="1649520" y="2583000"/>
            <a:ext cx="885600" cy="769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1649520" y="2479320"/>
            <a:ext cx="1917720" cy="1033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1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2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4"/>
          <p:cNvSpPr/>
          <p:nvPr/>
        </p:nvSpPr>
        <p:spPr>
          <a:xfrm>
            <a:off x="1560600" y="380880"/>
            <a:ext cx="5702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7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4929120" y="1081080"/>
            <a:ext cx="3435480" cy="4602240"/>
            <a:chOff x="4929120" y="1081080"/>
            <a:chExt cx="3435480" cy="4602240"/>
          </a:xfrm>
        </p:grpSpPr>
        <p:sp>
          <p:nvSpPr>
            <p:cNvPr id="433" name="Freeform 71"/>
            <p:cNvSpPr/>
            <p:nvPr/>
          </p:nvSpPr>
          <p:spPr>
            <a:xfrm>
              <a:off x="4929120" y="1081080"/>
              <a:ext cx="3435480" cy="4602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 flipH="1">
              <a:off x="4929120" y="1081080"/>
              <a:ext cx="1504080" cy="38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V="1">
              <a:off x="4929120" y="4170960"/>
              <a:ext cx="3435480" cy="75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74"/>
          <p:cNvSpPr/>
          <p:nvPr/>
        </p:nvSpPr>
        <p:spPr>
          <a:xfrm>
            <a:off x="500472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716616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6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7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9"/>
          <p:cNvSpPr/>
          <p:nvPr/>
        </p:nvSpPr>
        <p:spPr>
          <a:xfrm>
            <a:off x="65048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0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6"/>
          <p:cNvSpPr/>
          <p:nvPr/>
        </p:nvSpPr>
        <p:spPr>
          <a:xfrm flipV="1">
            <a:off x="5508720" y="5013000"/>
            <a:ext cx="1942920" cy="1443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9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1"/>
          <p:cNvSpPr/>
          <p:nvPr/>
        </p:nvSpPr>
        <p:spPr>
          <a:xfrm>
            <a:off x="543672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4"/>
          <p:cNvSpPr/>
          <p:nvPr/>
        </p:nvSpPr>
        <p:spPr>
          <a:xfrm>
            <a:off x="1270080" y="616572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5"/>
          <p:cNvSpPr/>
          <p:nvPr/>
        </p:nvSpPr>
        <p:spPr>
          <a:xfrm>
            <a:off x="5805720" y="616572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3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4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5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02"/>
          <p:cNvSpPr/>
          <p:nvPr/>
        </p:nvSpPr>
        <p:spPr>
          <a:xfrm flipH="1">
            <a:off x="162000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0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0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8"/>
          <p:cNvSpPr/>
          <p:nvPr/>
        </p:nvSpPr>
        <p:spPr>
          <a:xfrm>
            <a:off x="349380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 flipH="1">
            <a:off x="349164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2509560" y="380880"/>
            <a:ext cx="34419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5084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80288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3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0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3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5175360" y="227664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302080" y="472428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77272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78892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77308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4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6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8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1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5"/>
          <p:cNvSpPr/>
          <p:nvPr/>
        </p:nvSpPr>
        <p:spPr>
          <a:xfrm flipH="1">
            <a:off x="507600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 flipH="1">
            <a:off x="536328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2505240" y="304920"/>
            <a:ext cx="33886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9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62036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9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2"/>
          <p:cNvSpPr/>
          <p:nvPr/>
        </p:nvSpPr>
        <p:spPr>
          <a:xfrm>
            <a:off x="4707000" y="571500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6:26:31Z</dcterms:created>
  <dc:creator>ADMINISTRATION</dc:creator>
  <dc:description/>
  <dc:language>en-US</dc:language>
  <cp:lastModifiedBy>Dima</cp:lastModifiedBy>
  <dcterms:modified xsi:type="dcterms:W3CDTF">2011-02-13T13:20:20Z</dcterms:modified>
  <cp:revision>107</cp:revision>
  <dc:subject/>
  <dc:title>Слайд 1</dc:title>
</cp:coreProperties>
</file>