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DFD-A126-4431-B1F4-418D5FCC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E30-6576-4F44-8284-6757C545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690-1814-4900-AAAD-9C3D158A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791-678D-4965-8597-B9CF43F0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600-5C10-45BA-927E-917CEFAC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863-85BA-44C2-BAC1-4696DE00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6DC-3023-43A0-809C-D6EEE879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641-7225-4880-9089-8238B2DD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FDD-AEDB-480D-A9B4-792520BC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FD4-7809-46C1-BA16-4C80EE5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AC1-694E-4225-A120-B72294EC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376-640C-44C8-8772-A0CB5FE7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FB10-2353-40B6-B0CE-2F8BF3263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 Black"/>
              </a:rPr>
              <a:t>Культура Киевской Рус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Лариса\Рабочий стол\Священник Ермил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28592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Лариса\Рабочий стол\Ангел ОК.bmp"/>
          <p:cNvPicPr/>
          <p:nvPr/>
        </p:nvPicPr>
        <p:blipFill>
          <a:blip r:embed="rId1"/>
          <a:srcRect l="0" t="0" r="0" b="113"/>
          <a:stretch/>
        </p:blipFill>
        <p:spPr>
          <a:xfrm>
            <a:off x="785880" y="0"/>
            <a:ext cx="72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Лариса\Рабочий стол\Христос и ангел.bmp"/>
          <p:cNvPicPr/>
          <p:nvPr/>
        </p:nvPicPr>
        <p:blipFill>
          <a:blip r:embed="rId1"/>
          <a:stretch/>
        </p:blipFill>
        <p:spPr>
          <a:xfrm>
            <a:off x="185724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17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716904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Лариса\Рабочий стол\Нестор -летописец.bmp"/>
          <p:cNvPicPr/>
          <p:nvPr/>
        </p:nvPicPr>
        <p:blipFill>
          <a:blip r:embed="rId1"/>
          <a:stretch/>
        </p:blipFill>
        <p:spPr>
          <a:xfrm>
            <a:off x="1663560" y="-66600"/>
            <a:ext cx="589608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19400" y="-55440"/>
            <a:ext cx="4492440" cy="139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Лариса\Рабочий стол\Интерьер собора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000080" y="0"/>
            <a:ext cx="70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52800" y="-347760"/>
            <a:ext cx="50655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49320" y="274680"/>
            <a:ext cx="3310200" cy="55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090960" y="811080"/>
            <a:ext cx="2985840" cy="571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5956200" y="268200"/>
            <a:ext cx="33768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Лариса\Рабочий стол\София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-205" b="-10"/>
          <a:stretch/>
        </p:blipFill>
        <p:spPr>
          <a:xfrm>
            <a:off x="0" y="1428840"/>
            <a:ext cx="2643120" cy="46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6143760" y="1500120"/>
            <a:ext cx="3000240" cy="435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67160" y="-6480"/>
            <a:ext cx="3657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Documents and Settings\Лариса\Рабочий стол\Интерьер собора.bmp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857160" y="0"/>
            <a:ext cx="771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Лариса\Рабочий стол\Христос-Пантократор.bmp"/>
          <p:cNvPicPr/>
          <p:nvPr/>
        </p:nvPicPr>
        <p:blipFill>
          <a:blip r:embed="rId1"/>
          <a:stretch/>
        </p:blipFill>
        <p:spPr>
          <a:xfrm>
            <a:off x="357120" y="0"/>
            <a:ext cx="82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0" t="0" r="-8" b="-71"/>
          <a:stretch/>
        </p:blipFill>
        <p:spPr>
          <a:xfrm>
            <a:off x="1428840" y="0"/>
            <a:ext cx="61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106" b="-124"/>
          <a:stretch/>
        </p:blipFill>
        <p:spPr>
          <a:xfrm>
            <a:off x="1000080" y="357120"/>
            <a:ext cx="6858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-28" b="-10"/>
          <a:stretch/>
        </p:blipFill>
        <p:spPr>
          <a:xfrm>
            <a:off x="2643120" y="0"/>
            <a:ext cx="36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44:48Z</dcterms:created>
  <dc:creator>Лариса</dc:creator>
  <dc:description/>
  <dc:language>en-US</dc:language>
  <cp:lastModifiedBy>Admin</cp:lastModifiedBy>
  <dcterms:modified xsi:type="dcterms:W3CDTF">2011-10-20T07:42:29Z</dcterms:modified>
  <cp:revision>24</cp:revision>
  <dc:subject/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45000000000001024140</vt:lpwstr>
  </property>
</Properties>
</file>