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6AFF-A5F6-4243-AE53-AA5C696A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C98-688C-4BBA-B52F-D5232E00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1F0-4F8C-495E-BB26-4ECD035A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ABD-A944-428E-9E44-62284B94A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2D6-59CD-4B85-B978-6734F36B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8657-5668-4561-97CC-09984509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6B2-7D0F-47F7-B32F-C3339A57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4C0A-C438-4F04-B1DC-CDDC38F8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7D3-C109-47EF-AFAC-4166E628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DFEC-E5C2-4EB5-8581-811697FB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9A0-2ED7-4E01-944E-6D6D0E57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BE0-1AE8-427F-B515-472E904B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05E1-F2F9-4A8E-AC90-E25D4C15F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 Black"/>
              </a:rPr>
              <a:t>Культура Киевской Рус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Лариса\Рабочий стол\Священник Ермил.bmp"/>
          <p:cNvPicPr/>
          <p:nvPr/>
        </p:nvPicPr>
        <p:blipFill>
          <a:blip r:embed="rId1"/>
          <a:srcRect l="0" t="0" r="0" b="351"/>
          <a:stretch/>
        </p:blipFill>
        <p:spPr>
          <a:xfrm>
            <a:off x="128592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Лариса\Рабочий стол\Ангел ОК.bmp"/>
          <p:cNvPicPr/>
          <p:nvPr/>
        </p:nvPicPr>
        <p:blipFill>
          <a:blip r:embed="rId1"/>
          <a:srcRect l="0" t="0" r="0" b="113"/>
          <a:stretch/>
        </p:blipFill>
        <p:spPr>
          <a:xfrm>
            <a:off x="785880" y="0"/>
            <a:ext cx="72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Лариса\Рабочий стол\Христос и ангел.bmp"/>
          <p:cNvPicPr/>
          <p:nvPr/>
        </p:nvPicPr>
        <p:blipFill>
          <a:blip r:embed="rId1"/>
          <a:stretch/>
        </p:blipFill>
        <p:spPr>
          <a:xfrm>
            <a:off x="185724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17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7169040"/>
            <a:ext cx="5486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Лариса\Рабочий стол\Нестор -летописец.bmp"/>
          <p:cNvPicPr/>
          <p:nvPr/>
        </p:nvPicPr>
        <p:blipFill>
          <a:blip r:embed="rId1"/>
          <a:stretch/>
        </p:blipFill>
        <p:spPr>
          <a:xfrm>
            <a:off x="1663560" y="-66600"/>
            <a:ext cx="589608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19400" y="-55440"/>
            <a:ext cx="4492440" cy="139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Лариса\Рабочий стол\Интерьер собора.bmp"/>
          <p:cNvPicPr/>
          <p:nvPr/>
        </p:nvPicPr>
        <p:blipFill>
          <a:blip r:embed="rId1"/>
          <a:srcRect l="0" t="0" r="0" b="351"/>
          <a:stretch/>
        </p:blipFill>
        <p:spPr>
          <a:xfrm>
            <a:off x="1000080" y="0"/>
            <a:ext cx="70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52800" y="-347760"/>
            <a:ext cx="50655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49320" y="274680"/>
            <a:ext cx="3310200" cy="559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090960" y="811080"/>
            <a:ext cx="2985840" cy="571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5956200" y="268200"/>
            <a:ext cx="33768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Лариса\Рабочий стол\София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-205" b="-10"/>
          <a:stretch/>
        </p:blipFill>
        <p:spPr>
          <a:xfrm>
            <a:off x="0" y="1428840"/>
            <a:ext cx="2643120" cy="46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6143760" y="1500120"/>
            <a:ext cx="3000240" cy="4357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67160" y="-6480"/>
            <a:ext cx="3657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Documents and Settings\Лариса\Рабочий стол\Интерьер собора.bmp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857160" y="0"/>
            <a:ext cx="771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Лариса\Рабочий стол\Христос-Пантократор.bmp"/>
          <p:cNvPicPr/>
          <p:nvPr/>
        </p:nvPicPr>
        <p:blipFill>
          <a:blip r:embed="rId1"/>
          <a:stretch/>
        </p:blipFill>
        <p:spPr>
          <a:xfrm>
            <a:off x="357120" y="0"/>
            <a:ext cx="82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0" t="0" r="-8" b="-71"/>
          <a:stretch/>
        </p:blipFill>
        <p:spPr>
          <a:xfrm>
            <a:off x="1428840" y="0"/>
            <a:ext cx="61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0" r="106" b="-124"/>
          <a:stretch/>
        </p:blipFill>
        <p:spPr>
          <a:xfrm>
            <a:off x="1000080" y="357120"/>
            <a:ext cx="6858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0" r="-28" b="-10"/>
          <a:stretch/>
        </p:blipFill>
        <p:spPr>
          <a:xfrm>
            <a:off x="2643120" y="0"/>
            <a:ext cx="36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44:48Z</dcterms:created>
  <dc:creator>Лариса</dc:creator>
  <dc:description/>
  <dc:language>en-US</dc:language>
  <cp:lastModifiedBy>Admin</cp:lastModifiedBy>
  <dcterms:modified xsi:type="dcterms:W3CDTF">2011-10-20T07:42:29Z</dcterms:modified>
  <cp:revision>24</cp:revision>
  <dc:subject/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45000000000001024140</vt:lpwstr>
  </property>
</Properties>
</file>