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1765-92D3-4588-82AE-02F053D3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2D91-93FF-47AA-BD11-F885235B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AF02-6FCC-4147-B71F-C5AAEA5B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B19-AFBA-4621-B5B0-440FEFB2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D66E-3502-4196-B5DC-A8C0BA8C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13CC-9754-425F-A764-5395286D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FD95-E88D-4AE5-9152-385BE295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0F47-6BC0-4C38-899F-FEF2510F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77A5-2B46-4BF8-95AE-948C5B0B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38F2-E802-4C4B-84DF-3E4A46EF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7A66-F805-40C2-9E02-C453D5E1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2DAD-1EBB-4530-837B-D295FE66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8566-AB48-4A0B-B2A7-F4184593E5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 Black"/>
              </a:rPr>
              <a:t>Культура Киевской Рус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Лариса\Рабочий стол\Священник Ермил.bmp"/>
          <p:cNvPicPr/>
          <p:nvPr/>
        </p:nvPicPr>
        <p:blipFill>
          <a:blip r:embed="rId1"/>
          <a:srcRect l="0" t="0" r="0" b="351"/>
          <a:stretch/>
        </p:blipFill>
        <p:spPr>
          <a:xfrm>
            <a:off x="1285920" y="0"/>
            <a:ext cx="66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Лариса\Рабочий стол\Ангел ОК.bmp"/>
          <p:cNvPicPr/>
          <p:nvPr/>
        </p:nvPicPr>
        <p:blipFill>
          <a:blip r:embed="rId1"/>
          <a:srcRect l="0" t="0" r="0" b="113"/>
          <a:stretch/>
        </p:blipFill>
        <p:spPr>
          <a:xfrm>
            <a:off x="785880" y="0"/>
            <a:ext cx="721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Лариса\Рабочий стол\Христос и ангел.bmp"/>
          <p:cNvPicPr/>
          <p:nvPr/>
        </p:nvPicPr>
        <p:blipFill>
          <a:blip r:embed="rId1"/>
          <a:stretch/>
        </p:blipFill>
        <p:spPr>
          <a:xfrm>
            <a:off x="185724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71760" y="0"/>
            <a:ext cx="542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440" y="7169040"/>
            <a:ext cx="548640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Лариса\Рабочий стол\Нестор -летописец.bmp"/>
          <p:cNvPicPr/>
          <p:nvPr/>
        </p:nvPicPr>
        <p:blipFill>
          <a:blip r:embed="rId1"/>
          <a:stretch/>
        </p:blipFill>
        <p:spPr>
          <a:xfrm>
            <a:off x="1663560" y="-66600"/>
            <a:ext cx="589608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219400" y="-55440"/>
            <a:ext cx="4492440" cy="139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Лариса\Рабочий стол\Интерьер собора.bmp"/>
          <p:cNvPicPr/>
          <p:nvPr/>
        </p:nvPicPr>
        <p:blipFill>
          <a:blip r:embed="rId1"/>
          <a:srcRect l="0" t="0" r="0" b="351"/>
          <a:stretch/>
        </p:blipFill>
        <p:spPr>
          <a:xfrm>
            <a:off x="1000080" y="0"/>
            <a:ext cx="70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152800" y="-347760"/>
            <a:ext cx="506556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-49320" y="274680"/>
            <a:ext cx="3310200" cy="5595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3090960" y="811080"/>
            <a:ext cx="2985840" cy="5718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5956200" y="268200"/>
            <a:ext cx="337680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6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Лариса\Рабочий стол\София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0" t="0" r="-205" b="-10"/>
          <a:stretch/>
        </p:blipFill>
        <p:spPr>
          <a:xfrm>
            <a:off x="0" y="1428840"/>
            <a:ext cx="2643120" cy="4643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rcRect l="0" t="0" r="0" b="-20"/>
          <a:stretch/>
        </p:blipFill>
        <p:spPr>
          <a:xfrm>
            <a:off x="6143760" y="1500120"/>
            <a:ext cx="3000240" cy="4357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567160" y="-6480"/>
            <a:ext cx="36576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C:\Documents and Settings\Лариса\Рабочий стол\Интерьер собора.bmp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857160" y="0"/>
            <a:ext cx="771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Лариса\Рабочий стол\Христос-Пантократор.bmp"/>
          <p:cNvPicPr/>
          <p:nvPr/>
        </p:nvPicPr>
        <p:blipFill>
          <a:blip r:embed="rId1"/>
          <a:stretch/>
        </p:blipFill>
        <p:spPr>
          <a:xfrm>
            <a:off x="357120" y="0"/>
            <a:ext cx="821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rcRect l="0" t="0" r="-8" b="-71"/>
          <a:stretch/>
        </p:blipFill>
        <p:spPr>
          <a:xfrm>
            <a:off x="1428840" y="0"/>
            <a:ext cx="614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0" t="0" r="106" b="-124"/>
          <a:stretch/>
        </p:blipFill>
        <p:spPr>
          <a:xfrm>
            <a:off x="1000080" y="357120"/>
            <a:ext cx="685800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0" t="0" r="-28" b="-10"/>
          <a:stretch/>
        </p:blipFill>
        <p:spPr>
          <a:xfrm>
            <a:off x="2643120" y="0"/>
            <a:ext cx="3643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44:48Z</dcterms:created>
  <dc:creator>Лариса</dc:creator>
  <dc:description/>
  <dc:language>en-US</dc:language>
  <cp:lastModifiedBy>Admin</cp:lastModifiedBy>
  <dcterms:modified xsi:type="dcterms:W3CDTF">2011-10-20T07:42:29Z</dcterms:modified>
  <cp:revision>24</cp:revision>
  <dc:subject/>
  <dc:title>Культура Киевской Рус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445000000000001024140</vt:lpwstr>
  </property>
</Properties>
</file>