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3BA7-FC72-49F1-90CB-FED9AB6F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1DF4-5FEC-4416-BF73-9CC68C5B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7C6E-7697-4EF8-90B6-729A396F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EED0-C981-4C4E-877C-BD0E4064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D77D-E6DD-4B5E-BDE6-3F3652F2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1894-DFFB-4A67-A80F-4E0D88A7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171-E7E1-4187-983B-343A6194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5324-9E38-45E2-93A6-745E2878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638-1A5E-43F9-94B6-9F10E2D6A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50C3-A2D0-4BB6-91F7-5A3DB01C0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B41-7C45-4C64-B0EF-A5DE238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210F-C426-429B-B562-A0C01EFA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95ECC-50AF-4D08-BC27-A7F0E0442D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Arial Black"/>
              </a:rPr>
              <a:t>Культура Киевской Рус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Documents and Settings\Лариса\Рабочий стол\Священник Ермил.bmp"/>
          <p:cNvPicPr/>
          <p:nvPr/>
        </p:nvPicPr>
        <p:blipFill>
          <a:blip r:embed="rId1"/>
          <a:srcRect l="0" t="0" r="0" b="351"/>
          <a:stretch/>
        </p:blipFill>
        <p:spPr>
          <a:xfrm>
            <a:off x="1285920" y="0"/>
            <a:ext cx="6643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Лариса\Рабочий стол\Ангел ОК.bmp"/>
          <p:cNvPicPr/>
          <p:nvPr/>
        </p:nvPicPr>
        <p:blipFill>
          <a:blip r:embed="rId1"/>
          <a:srcRect l="0" t="0" r="0" b="113"/>
          <a:stretch/>
        </p:blipFill>
        <p:spPr>
          <a:xfrm>
            <a:off x="785880" y="0"/>
            <a:ext cx="7215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Documents and Settings\Лариса\Рабочий стол\Христос и ангел.bmp"/>
          <p:cNvPicPr/>
          <p:nvPr/>
        </p:nvPicPr>
        <p:blipFill>
          <a:blip r:embed="rId1"/>
          <a:stretch/>
        </p:blipFill>
        <p:spPr>
          <a:xfrm>
            <a:off x="185724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571760" y="0"/>
            <a:ext cx="542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7169040"/>
            <a:ext cx="5486400" cy="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720" bIns="-7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Лариса\Рабочий стол\Нестор -летописец.bmp"/>
          <p:cNvPicPr/>
          <p:nvPr/>
        </p:nvPicPr>
        <p:blipFill>
          <a:blip r:embed="rId1"/>
          <a:stretch/>
        </p:blipFill>
        <p:spPr>
          <a:xfrm>
            <a:off x="1663560" y="-66600"/>
            <a:ext cx="5896080" cy="704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219400" y="-55440"/>
            <a:ext cx="4492440" cy="139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Лариса\Рабочий стол\Интерьер собора.bmp"/>
          <p:cNvPicPr/>
          <p:nvPr/>
        </p:nvPicPr>
        <p:blipFill>
          <a:blip r:embed="rId1"/>
          <a:srcRect l="0" t="0" r="0" b="351"/>
          <a:stretch/>
        </p:blipFill>
        <p:spPr>
          <a:xfrm>
            <a:off x="1000080" y="0"/>
            <a:ext cx="70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52800" y="-347760"/>
            <a:ext cx="5065560" cy="75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-49320" y="274680"/>
            <a:ext cx="3310200" cy="5595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2"/>
          <a:stretch/>
        </p:blipFill>
        <p:spPr>
          <a:xfrm>
            <a:off x="3090960" y="811080"/>
            <a:ext cx="2985840" cy="5718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5956200" y="268200"/>
            <a:ext cx="3376800" cy="532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6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Лариса\Рабочий стол\София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0" t="0" r="-205" b="-10"/>
          <a:stretch/>
        </p:blipFill>
        <p:spPr>
          <a:xfrm>
            <a:off x="0" y="1428840"/>
            <a:ext cx="2643120" cy="46432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0" t="0" r="0" b="-20"/>
          <a:stretch/>
        </p:blipFill>
        <p:spPr>
          <a:xfrm>
            <a:off x="6143760" y="1500120"/>
            <a:ext cx="3000240" cy="4357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3"/>
          <a:stretch/>
        </p:blipFill>
        <p:spPr>
          <a:xfrm>
            <a:off x="2567160" y="-6480"/>
            <a:ext cx="36576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C:\Documents and Settings\Лариса\Рабочий стол\Интерьер собора.bmp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857160" y="0"/>
            <a:ext cx="771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Documents and Settings\Лариса\Рабочий стол\Христос-Пантократор.bmp"/>
          <p:cNvPicPr/>
          <p:nvPr/>
        </p:nvPicPr>
        <p:blipFill>
          <a:blip r:embed="rId1"/>
          <a:stretch/>
        </p:blipFill>
        <p:spPr>
          <a:xfrm>
            <a:off x="357120" y="0"/>
            <a:ext cx="8215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rcRect l="0" t="0" r="-8" b="-71"/>
          <a:stretch/>
        </p:blipFill>
        <p:spPr>
          <a:xfrm>
            <a:off x="1428840" y="0"/>
            <a:ext cx="614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0" t="0" r="106" b="-124"/>
          <a:stretch/>
        </p:blipFill>
        <p:spPr>
          <a:xfrm>
            <a:off x="1000080" y="357120"/>
            <a:ext cx="6858000" cy="592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0" t="0" r="-28" b="-10"/>
          <a:stretch/>
        </p:blipFill>
        <p:spPr>
          <a:xfrm>
            <a:off x="2643120" y="0"/>
            <a:ext cx="36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8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3T16:44:48Z</dcterms:created>
  <dc:creator>Лариса</dc:creator>
  <dc:description/>
  <dc:language>en-US</dc:language>
  <cp:lastModifiedBy>Admin</cp:lastModifiedBy>
  <dcterms:modified xsi:type="dcterms:W3CDTF">2011-10-20T07:42:29Z</dcterms:modified>
  <cp:revision>24</cp:revision>
  <dc:subject/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445000000000001024140</vt:lpwstr>
  </property>
</Properties>
</file>