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EDF-E236-4321-BF1A-0BDD3FF1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1D4-EBCC-4EBF-8084-B92C25AD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690-0B92-4E13-9497-57B62588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CF2-4AF3-41CF-8300-B0C41797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706-1032-431A-B905-A0E69A32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4AE-90FA-4DD5-B074-E425630C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FCD-1B3F-4831-BD42-B816C54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CDE-84AD-433A-945B-14FEF0F1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B23-7A4E-4EE8-889B-C2908453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6F8-5A01-42C8-B1F6-59FE133D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A99-6AFF-4D66-A609-44E6331B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52B-D85E-400B-825F-2182052A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6885-889E-407D-BB9D-094AA5D81C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 Black"/>
              </a:rPr>
              <a:t>Культура Киевской Рус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Лариса\Рабочий стол\Священник Ермил.bmp"/>
          <p:cNvPicPr/>
          <p:nvPr/>
        </p:nvPicPr>
        <p:blipFill>
          <a:blip r:embed="rId1"/>
          <a:srcRect l="0" t="0" r="0" b="351"/>
          <a:stretch/>
        </p:blipFill>
        <p:spPr>
          <a:xfrm>
            <a:off x="128592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Лариса\Рабочий стол\Ангел ОК.bmp"/>
          <p:cNvPicPr/>
          <p:nvPr/>
        </p:nvPicPr>
        <p:blipFill>
          <a:blip r:embed="rId1"/>
          <a:srcRect l="0" t="0" r="0" b="113"/>
          <a:stretch/>
        </p:blipFill>
        <p:spPr>
          <a:xfrm>
            <a:off x="785880" y="0"/>
            <a:ext cx="72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Лариса\Рабочий стол\Христос и ангел.bmp"/>
          <p:cNvPicPr/>
          <p:nvPr/>
        </p:nvPicPr>
        <p:blipFill>
          <a:blip r:embed="rId1"/>
          <a:stretch/>
        </p:blipFill>
        <p:spPr>
          <a:xfrm>
            <a:off x="185724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717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7169040"/>
            <a:ext cx="5486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Лариса\Рабочий стол\Нестор -летописец.bmp"/>
          <p:cNvPicPr/>
          <p:nvPr/>
        </p:nvPicPr>
        <p:blipFill>
          <a:blip r:embed="rId1"/>
          <a:stretch/>
        </p:blipFill>
        <p:spPr>
          <a:xfrm>
            <a:off x="1663560" y="-66600"/>
            <a:ext cx="589608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19400" y="-55440"/>
            <a:ext cx="4492440" cy="139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Лариса\Рабочий стол\Интерьер собора.bmp"/>
          <p:cNvPicPr/>
          <p:nvPr/>
        </p:nvPicPr>
        <p:blipFill>
          <a:blip r:embed="rId1"/>
          <a:srcRect l="0" t="0" r="0" b="351"/>
          <a:stretch/>
        </p:blipFill>
        <p:spPr>
          <a:xfrm>
            <a:off x="1000080" y="0"/>
            <a:ext cx="70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52800" y="-347760"/>
            <a:ext cx="50655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49320" y="274680"/>
            <a:ext cx="3310200" cy="559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090960" y="811080"/>
            <a:ext cx="2985840" cy="571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5956200" y="268200"/>
            <a:ext cx="33768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Лариса\Рабочий стол\София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-205" b="-10"/>
          <a:stretch/>
        </p:blipFill>
        <p:spPr>
          <a:xfrm>
            <a:off x="0" y="1428840"/>
            <a:ext cx="2643120" cy="464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0" t="0" r="0" b="-20"/>
          <a:stretch/>
        </p:blipFill>
        <p:spPr>
          <a:xfrm>
            <a:off x="6143760" y="1500120"/>
            <a:ext cx="3000240" cy="4357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567160" y="-6480"/>
            <a:ext cx="36576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Documents and Settings\Лариса\Рабочий стол\Интерьер собора.bmp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857160" y="0"/>
            <a:ext cx="771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Лариса\Рабочий стол\Христос-Пантократор.bmp"/>
          <p:cNvPicPr/>
          <p:nvPr/>
        </p:nvPicPr>
        <p:blipFill>
          <a:blip r:embed="rId1"/>
          <a:stretch/>
        </p:blipFill>
        <p:spPr>
          <a:xfrm>
            <a:off x="357120" y="0"/>
            <a:ext cx="821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rcRect l="0" t="0" r="-8" b="-71"/>
          <a:stretch/>
        </p:blipFill>
        <p:spPr>
          <a:xfrm>
            <a:off x="1428840" y="0"/>
            <a:ext cx="614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0" r="106" b="-124"/>
          <a:stretch/>
        </p:blipFill>
        <p:spPr>
          <a:xfrm>
            <a:off x="1000080" y="357120"/>
            <a:ext cx="68580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0" r="-28" b="-10"/>
          <a:stretch/>
        </p:blipFill>
        <p:spPr>
          <a:xfrm>
            <a:off x="2643120" y="0"/>
            <a:ext cx="36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44:48Z</dcterms:created>
  <dc:creator>Лариса</dc:creator>
  <dc:description/>
  <dc:language>en-US</dc:language>
  <cp:lastModifiedBy>Admin</cp:lastModifiedBy>
  <dcterms:modified xsi:type="dcterms:W3CDTF">2011-10-20T07:42:29Z</dcterms:modified>
  <cp:revision>24</cp:revision>
  <dc:subject/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45000000000001024140</vt:lpwstr>
  </property>
</Properties>
</file>