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1334-6408-45CB-8C51-E9131F17E1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FB92-01A9-402F-A443-9ACE03E727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209-2C92-470E-8494-E132AE0E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E4C-FFB1-45A4-A15E-ECA26ED0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193-464B-47A2-8746-B09129F9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136-8B74-44AD-89E2-60596871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F1EA-B8A4-45BA-A154-05823585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DBF5-204B-447C-81FB-808B71B9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961D-EDBB-4C43-99C7-1BFD241B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FCD4-F7B3-47E8-8DF5-47D29DF8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DE8B-BC2B-4C5A-9536-AF619E80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5A2F-3656-47D4-B483-FE8F287A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384F-7854-415C-9D76-223B6C07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E57-076B-4E52-AC35-FFACDD79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66C7-1023-45FD-A7C3-D24FC190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A226-E8D3-4866-8CAC-27348C96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2361-DF29-4D48-B1DC-E59A9076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1EF2-B268-45C0-B98E-3F258DF1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82A8-9C1F-4E9F-84CF-944104D0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5978-62F8-4413-A4B9-64C1A29C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3004-3CB6-4F6C-B622-59119787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7D70-BD1F-4F48-BFCF-D4816309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9751B-F3D8-4D85-8FEE-AEADC1FB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4BEE-607A-473C-90FA-B01666DB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7A8-CA0E-451D-B3CD-5F8B0154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5B58-389F-494C-AC24-6F90E855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538C-17AB-4434-BE3A-2FD47DC1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0526-3BED-4894-A4AE-88804886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CC0A-2C09-472A-8C5F-DF1688FE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5AF2-A6C5-4AF2-A6D8-5E69B08C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70A3-9D5B-497B-A160-D0FA675A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C9B54-B226-41C9-A379-1ACF96A5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7A7-DF7B-4A49-A764-11856C1C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478-802D-4EA7-B747-C7DFF19B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AC2-F10E-4F69-A778-E725F8BE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D83-11F8-489B-A6F0-16431801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2C7-88CB-4600-9DD1-8D7CEDC7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4F7-2719-4DC0-9E5B-12823D1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A45F-3DC3-4EC4-B02A-097DEF8482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0824-34E8-4EF6-8A2E-BEA5F469A93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2C0F-037A-43C7-B94D-845A4D671F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6.wmf"/><Relationship Id="rId5" Type="http://schemas.openxmlformats.org/officeDocument/2006/relationships/image" Target="../media/image1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0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40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341360"/>
            <a:ext cx="8497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99"/>
                </a:solidFill>
                <a:latin typeface="Times New Roman"/>
              </a:rPr>
              <a:t>Способы решения тригонометрических уравнений</a:t>
            </a:r>
            <a:endParaRPr b="0" lang="en-US" sz="6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27280" y="4723920"/>
            <a:ext cx="669456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работала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ркевич Тамара Анатол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математики, высшей кв.категор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редней общеобразовательной школы № 10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углубленным изучением отдельных предметов г.Марганец Днепропетровской об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1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3708360" y="364500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780000" y="3573360"/>
                <a:ext cx="3022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67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77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3708360" y="371628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94200" y="3645000"/>
                <a:ext cx="3386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3708360" y="491004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860640" y="4797360"/>
                <a:ext cx="30895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91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3708360" y="371628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994200" y="3645000"/>
                <a:ext cx="3386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3708360" y="491004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976560" y="4869000"/>
                <a:ext cx="31165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1"/>
          <p:cNvSpPr/>
          <p:nvPr/>
        </p:nvSpPr>
        <p:spPr>
          <a:xfrm>
            <a:off x="0" y="19890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Способы решени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тригонометрических уравне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39640" y="549360"/>
            <a:ext cx="7543800" cy="5195880"/>
            <a:chOff x="539640" y="549360"/>
            <a:chExt cx="7543800" cy="5195880"/>
          </a:xfrm>
        </p:grpSpPr>
        <p:sp>
          <p:nvSpPr>
            <p:cNvPr id="302" name="Text Box 4"/>
            <p:cNvSpPr/>
            <p:nvPr/>
          </p:nvSpPr>
          <p:spPr>
            <a:xfrm>
              <a:off x="539640" y="3932280"/>
              <a:ext cx="2160720" cy="18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ложение на множители (вынесение за скобку, формулы сокращённого умножения и пр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971640" y="549360"/>
              <a:ext cx="189684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Уравнения, приводимые к квадратным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5940360" y="620640"/>
              <a:ext cx="172728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Однородные уравне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6588000" y="3860640"/>
              <a:ext cx="1495440" cy="18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я, решаемые с помощью введения вспомогательного угла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3492360" y="3860640"/>
              <a:ext cx="2276640" cy="188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я, решаемые с помощью тригонометрических формул (суммы и разности, сложения, двойного угла и пр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07" name="AutoShape 9"/>
            <p:cNvCxnSpPr/>
            <p:nvPr/>
          </p:nvCxnSpPr>
          <p:spPr>
            <a:xfrm flipH="1">
              <a:off x="1564560" y="3141360"/>
              <a:ext cx="142308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8" name="AutoShape 10"/>
            <p:cNvCxnSpPr/>
            <p:nvPr/>
          </p:nvCxnSpPr>
          <p:spPr>
            <a:xfrm flipH="1" flipV="1">
              <a:off x="2916000" y="1483920"/>
              <a:ext cx="1296000" cy="575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9" name="AutoShape 11"/>
            <p:cNvCxnSpPr/>
            <p:nvPr/>
          </p:nvCxnSpPr>
          <p:spPr>
            <a:xfrm>
              <a:off x="4642920" y="3141360"/>
              <a:ext cx="108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0" name="AutoShape 12"/>
            <p:cNvCxnSpPr/>
            <p:nvPr/>
          </p:nvCxnSpPr>
          <p:spPr>
            <a:xfrm flipV="1">
              <a:off x="4643280" y="1557000"/>
              <a:ext cx="1223280" cy="505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1" name="AutoShape 13"/>
            <p:cNvCxnSpPr/>
            <p:nvPr/>
          </p:nvCxnSpPr>
          <p:spPr>
            <a:xfrm>
              <a:off x="6372360" y="3141360"/>
              <a:ext cx="90720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9640" y="26028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Уравнения, приводимые к квадрат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1844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i="1" lang="ru-RU" sz="3600" spc="-1" strike="noStrike">
                <a:solidFill>
                  <a:srgbClr val="0033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3284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105264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c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708360" y="1052640"/>
            <a:ext cx="4032360" cy="774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1835280" y="105264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68360" y="2565360"/>
            <a:ext cx="60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b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</a:t>
            </a:r>
            <a:r>
              <a:rPr b="1" i="1" lang="ru-RU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c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826920" y="256536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1476360" y="256536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2916360" y="256536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68360" y="353052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</a:t>
            </a:r>
            <a:r>
              <a:rPr b="1" i="1" lang="ru-RU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c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2771640" y="351792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8"/>
          <a:stretch/>
        </p:blipFill>
        <p:spPr>
          <a:xfrm>
            <a:off x="755640" y="3579840"/>
            <a:ext cx="22446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93840" y="546120"/>
            <a:ext cx="527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b         + c 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564000" y="54936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255600" cy="576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1692360" y="54936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214280" y="170820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22766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b        +c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348000" y="2276640"/>
            <a:ext cx="4260960" cy="774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1535040" y="229392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2268360" y="2293920"/>
            <a:ext cx="255600" cy="5763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258920" y="393372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1221120" y="3314880"/>
            <a:ext cx="527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        + c 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7"/>
          <a:stretch/>
        </p:blipFill>
        <p:spPr>
          <a:xfrm>
            <a:off x="3492360" y="328464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8"/>
          <a:stretch/>
        </p:blipFill>
        <p:spPr>
          <a:xfrm>
            <a:off x="1547640" y="3357720"/>
            <a:ext cx="22449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87280" y="1557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406680" y="2133720"/>
            <a:ext cx="1381320" cy="774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1676520" y="3124080"/>
            <a:ext cx="1234800" cy="776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133720" y="3139920"/>
            <a:ext cx="255600" cy="576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187280" y="620640"/>
            <a:ext cx="66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 b       +c 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600200" y="609480"/>
            <a:ext cx="1235160" cy="776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2057400" y="62064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3429000" y="609480"/>
            <a:ext cx="1235160" cy="7765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1619280" y="2133720"/>
            <a:ext cx="1235160" cy="776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300720" y="1341360"/>
            <a:ext cx="20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|·tg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≠</a:t>
            </a:r>
            <a:r>
              <a:rPr b="0" i="1" lang="ru-RU" sz="4400" spc="-1" strike="noStrike">
                <a:solidFill>
                  <a:srgbClr val="000000"/>
                </a:solidFill>
                <a:latin typeface="Bodoni MT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1330200" y="213372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+ b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c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3419640" y="3084480"/>
            <a:ext cx="1234800" cy="776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332000" y="3141720"/>
            <a:ext cx="56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Bodoni MT"/>
              </a:rPr>
              <a:t>a        +b      +c 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58920" y="3333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2205000"/>
            <a:ext cx="2952720" cy="2433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sin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|t|≤ 1, 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sinx)=[-1;1]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19700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   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Bodoni MT"/>
              </a:rPr>
              <a:t>t²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 +b</a:t>
            </a:r>
            <a:r>
              <a:rPr b="1" i="1" lang="en-US" sz="4800" spc="-1" strike="noStrike">
                <a:solidFill>
                  <a:srgbClr val="000000"/>
                </a:solidFill>
                <a:latin typeface="Bodoni MT"/>
              </a:rPr>
              <a:t>t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 + c =0</a:t>
            </a:r>
            <a:r>
              <a:rPr b="0" i="1" lang="en-US" sz="4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2205000"/>
            <a:ext cx="3024000" cy="3104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cos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|t|≤1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, 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cosx)=[-1;1]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2205000"/>
            <a:ext cx="2195640" cy="2433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tg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</a:t>
            </a:r>
            <a:r>
              <a:rPr b="0" i="1" lang="ru-RU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t   R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,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tgx)=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236000" y="3284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502160" y="3282840"/>
                <a:ext cx="13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826920" y="1268280"/>
                <a:ext cx="33116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581360" y="1268280"/>
                <a:ext cx="23623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909720" y="1989000"/>
                <a:ext cx="298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041720" y="2060640"/>
                <a:ext cx="27338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993600" y="2708280"/>
                <a:ext cx="1951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44640" y="3141720"/>
                <a:ext cx="47019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30240" y="4567320"/>
                <a:ext cx="5419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189000"/>
            <a:ext cx="831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етод введения новой переменной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971640" y="691920"/>
            <a:ext cx="6781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ме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905040" y="5432400"/>
                <a:ext cx="5618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71640" y="115560"/>
            <a:ext cx="678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мер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26920" y="620640"/>
                <a:ext cx="22100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92000" y="2276640"/>
                <a:ext cx="1901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66800" y="2781360"/>
                <a:ext cx="19288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792000" y="3201840"/>
                <a:ext cx="1044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89040" y="4786200"/>
                <a:ext cx="52801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762120" y="3922560"/>
                <a:ext cx="491148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770280" y="669960"/>
                <a:ext cx="12765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852480" y="1473120"/>
                <a:ext cx="2552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695760" y="1362240"/>
                <a:ext cx="26478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024360" y="3201840"/>
                <a:ext cx="1066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81120" y="5578560"/>
                <a:ext cx="5619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урок - презентац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ите самостоятель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39640" y="2587680"/>
                <a:ext cx="777744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95280" y="868320"/>
                <a:ext cx="2841480" cy="31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778200" y="836640"/>
                <a:ext cx="2449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3708360" y="1746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n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867280" y="1746360"/>
                <a:ext cx="865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3348000" y="250056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-3 не удовлетворяет услов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7442280" y="2631960"/>
                <a:ext cx="946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3350160" y="230760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18960" y="3706920"/>
                <a:ext cx="28893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;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224080" y="5311800"/>
                <a:ext cx="3932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;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я вида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sinx+bcosx=0 </a:t>
            </a:r>
            <a:r>
              <a:rPr b="0" i="1" lang="en-US" sz="3200" spc="-1" strike="noStrike">
                <a:solidFill>
                  <a:srgbClr val="703d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703d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родным</a:t>
            </a:r>
            <a:r>
              <a:rPr b="1" lang="ru-RU" sz="3200" spc="-1" strike="noStrike">
                <a:solidFill>
                  <a:srgbClr val="00b2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игонометрическим уравнение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рв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я ви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sin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+bsinxcosx+ccos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=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род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ригонометрическим уравнение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тор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3049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Однородные урав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252520" y="2114640"/>
                <a:ext cx="6780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</m:t>
                    </m:r>
                    <m:r>
                      <m:rPr>
                        <m:lit/>
                        <m:nor/>
                      </m:rPr>
                      <m:t xml:space="preserve">                      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5796000" y="10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1116000" y="0"/>
            <a:ext cx="71280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так, дано уравнение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sinx+bcosx=0,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≠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0, b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≠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ив обе части уравнения почленно 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тоге приходим к простейшем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игонометрическому уравнени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564000" y="4941720"/>
                <a:ext cx="19954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268360" y="3284640"/>
                <a:ext cx="2508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g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68709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ить уравн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inx-3cosx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азделив обе части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ленно 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учи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x-3=0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x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=arctg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ctg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796000" y="2637000"/>
                <a:ext cx="600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шите самостоятельно уравнение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2x+cos2x=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50920" y="404640"/>
            <a:ext cx="79992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членно разделив обе    части    уравнения н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2x≠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олучи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09760" y="1628640"/>
                <a:ext cx="3632400" cy="384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11280" y="5300640"/>
                <a:ext cx="4608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620640"/>
            <a:ext cx="7272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684360" y="836640"/>
            <a:ext cx="76327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Рассмотрим  однородное тригонометрическое уравн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торой степен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asin</a:t>
            </a:r>
            <a:r>
              <a:rPr b="1" i="1" lang="en-US" sz="4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x+bsinxcosx+ccos</a:t>
            </a:r>
            <a:r>
              <a:rPr b="1" i="1" lang="en-US" sz="4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x=0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181080" y="33336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лгоритм решения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днородных тригонометрических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равнений втор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отреть, есть ли в уравнении чле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i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этот член содержится, то есть 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 то уравнение решается делением обеих его частей н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оследующим введением новой переменн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z=tg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этот член не содержится, то есть а=0, то уравнение решается методом разложения на множители: за скобки вынося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имеры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№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ь уравнение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-3sinxcosx+2cos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=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846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Решени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uk-UA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-3sinxcosx+2cos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/÷cos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≠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-3tgx+2=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ведем новую переменну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tgx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3z+2=0;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1, 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2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x=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x=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arctg2 +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 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rctg2 + </a:t>
            </a: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k, k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043080" y="5300640"/>
                <a:ext cx="4176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накомить учащихся с общей схемой решения тригонометрических уравнений различных типо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ировать умения решать тригонометрические уравнения,  приводимые к квадратным и однородные уравн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852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ить уравнени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√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3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inxcosx+cos</a:t>
            </a:r>
            <a:r>
              <a:rPr b="1" i="1" lang="ru-RU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=0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68360" y="1278000"/>
                <a:ext cx="360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55640" y="2060640"/>
                <a:ext cx="1298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379600" y="2133720"/>
                <a:ext cx="7524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л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449520" y="2025720"/>
                <a:ext cx="24386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486480" y="2006640"/>
                <a:ext cx="1790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79520" y="2335320"/>
                <a:ext cx="2706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360600" y="2494080"/>
                <a:ext cx="21574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3448080" y="2982960"/>
                <a:ext cx="18842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3520" y="3774960"/>
                <a:ext cx="42260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60760" y="4567320"/>
                <a:ext cx="2981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887480" y="5359320"/>
                <a:ext cx="5780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324000" y="1341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3059280" y="765000"/>
            <a:ext cx="1425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шите самостоятель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8520" y="2789280"/>
                <a:ext cx="81342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123640" y="189000"/>
            <a:ext cx="40388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Реш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08040" y="907920"/>
                <a:ext cx="5626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6399360" y="907920"/>
                <a:ext cx="1890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: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1280" y="1557360"/>
                <a:ext cx="3216240" cy="24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1,5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641840" y="2544840"/>
                <a:ext cx="3824280" cy="26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851280" y="1628640"/>
                <a:ext cx="280836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1091520" y="58618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965920" y="5589720"/>
                <a:ext cx="25668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0" y="36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2486160" y="5925960"/>
                <a:ext cx="3309840" cy="5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1,5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062000" y="1413000"/>
                <a:ext cx="53658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944640" y="2852640"/>
                <a:ext cx="7183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074600" y="4348080"/>
                <a:ext cx="461988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Среди предложенных уравнений выберите уравнения, приводимые к квадратным и однородные уравнения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124000" y="1773360"/>
                <a:ext cx="5832720" cy="43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50920" y="2852640"/>
                <a:ext cx="331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ип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урав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">
            <a:hlinkClick r:id="rId2" action="ppaction://hlinksldjump"/>
          </p:cNvPr>
          <p:cNvSpPr/>
          <p:nvPr/>
        </p:nvSpPr>
        <p:spPr>
          <a:xfrm>
            <a:off x="3708360" y="2781360"/>
            <a:ext cx="5113440" cy="792000"/>
          </a:xfrm>
          <a:custGeom>
            <a:avLst/>
            <a:gdLst>
              <a:gd name="textAreaLeft" fmla="*/ 51120 w 5113440"/>
              <a:gd name="textAreaRight" fmla="*/ 5062320 w 51134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404" h="21600">
                <a:moveTo>
                  <a:pt x="0" y="0"/>
                </a:moveTo>
                <a:lnTo>
                  <a:pt x="139404" y="0"/>
                </a:lnTo>
                <a:lnTo>
                  <a:pt x="139404" y="21600"/>
                </a:lnTo>
                <a:lnTo>
                  <a:pt x="0" y="21600"/>
                </a:lnTo>
                <a:close/>
              </a:path>
              <a:path fill="lightenLess" w="139404" h="21600">
                <a:moveTo>
                  <a:pt x="0" y="0"/>
                </a:moveTo>
                <a:lnTo>
                  <a:pt x="139404" y="0"/>
                </a:lnTo>
                <a:lnTo>
                  <a:pt x="138004" y="1400"/>
                </a:lnTo>
                <a:lnTo>
                  <a:pt x="1400" y="1400"/>
                </a:lnTo>
                <a:close/>
              </a:path>
              <a:path fill="darken" w="139404" h="21600">
                <a:moveTo>
                  <a:pt x="139404" y="0"/>
                </a:moveTo>
                <a:lnTo>
                  <a:pt x="139404" y="21600"/>
                </a:lnTo>
                <a:lnTo>
                  <a:pt x="138004" y="20200"/>
                </a:lnTo>
                <a:lnTo>
                  <a:pt x="138004" y="1400"/>
                </a:lnTo>
                <a:close/>
              </a:path>
              <a:path fill="darkenLess" w="139404" h="21600">
                <a:moveTo>
                  <a:pt x="139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04" y="20200"/>
                </a:lnTo>
                <a:close/>
              </a:path>
              <a:path fill="lighten" w="139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">
            <a:hlinkClick r:id="rId4" action="ppaction://hlinksldjump"/>
          </p:cNvPr>
          <p:cNvSpPr/>
          <p:nvPr/>
        </p:nvSpPr>
        <p:spPr>
          <a:xfrm>
            <a:off x="3635280" y="5373720"/>
            <a:ext cx="5257800" cy="792000"/>
          </a:xfrm>
          <a:custGeom>
            <a:avLst/>
            <a:gdLst>
              <a:gd name="textAreaLeft" fmla="*/ 51120 w 5257800"/>
              <a:gd name="textAreaRight" fmla="*/ 5206680 w 52578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39" h="21600">
                <a:moveTo>
                  <a:pt x="0" y="0"/>
                </a:moveTo>
                <a:lnTo>
                  <a:pt x="143339" y="0"/>
                </a:lnTo>
                <a:lnTo>
                  <a:pt x="143339" y="21600"/>
                </a:lnTo>
                <a:lnTo>
                  <a:pt x="0" y="21600"/>
                </a:lnTo>
                <a:close/>
              </a:path>
              <a:path fill="lightenLess" w="143339" h="21600">
                <a:moveTo>
                  <a:pt x="0" y="0"/>
                </a:moveTo>
                <a:lnTo>
                  <a:pt x="143339" y="0"/>
                </a:lnTo>
                <a:lnTo>
                  <a:pt x="141939" y="1400"/>
                </a:lnTo>
                <a:lnTo>
                  <a:pt x="1400" y="1400"/>
                </a:lnTo>
                <a:close/>
              </a:path>
              <a:path fill="darken" w="143339" h="21600">
                <a:moveTo>
                  <a:pt x="143339" y="0"/>
                </a:moveTo>
                <a:lnTo>
                  <a:pt x="143339" y="21600"/>
                </a:lnTo>
                <a:lnTo>
                  <a:pt x="141939" y="20200"/>
                </a:lnTo>
                <a:lnTo>
                  <a:pt x="141939" y="1400"/>
                </a:lnTo>
                <a:close/>
              </a:path>
              <a:path fill="darkenLess" w="143339" h="21600">
                <a:moveTo>
                  <a:pt x="143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39" y="20200"/>
                </a:lnTo>
                <a:close/>
              </a:path>
              <a:path fill="lighten" w="143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0" y="2870280"/>
                <a:ext cx="37083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-360" y="1989000"/>
            <a:ext cx="889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рвый шаг к успеху при решении тригонометрических уравнений – это умение решать простейшие тригонометрические уравнения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">
            <a:hlinkClick r:id="rId2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">
            <a:hlinkClick r:id="rId3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2854440"/>
                <a:ext cx="3780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0" y="2205000"/>
                <a:ext cx="514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4221000"/>
            <a:ext cx="4032360" cy="1224000"/>
          </a:xfrm>
          <a:custGeom>
            <a:avLst/>
            <a:gdLst>
              <a:gd name="textAreaLeft" fmla="*/ 79200 w 4032360"/>
              <a:gd name="textAreaRight" fmla="*/ 3953160 w 4032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45" h="21600">
                <a:moveTo>
                  <a:pt x="0" y="0"/>
                </a:moveTo>
                <a:lnTo>
                  <a:pt x="71145" y="0"/>
                </a:lnTo>
                <a:lnTo>
                  <a:pt x="71145" y="21600"/>
                </a:lnTo>
                <a:lnTo>
                  <a:pt x="0" y="21600"/>
                </a:lnTo>
                <a:close/>
              </a:path>
              <a:path fill="lightenLess" w="71145" h="21600">
                <a:moveTo>
                  <a:pt x="0" y="0"/>
                </a:moveTo>
                <a:lnTo>
                  <a:pt x="71145" y="0"/>
                </a:lnTo>
                <a:lnTo>
                  <a:pt x="69745" y="1400"/>
                </a:lnTo>
                <a:lnTo>
                  <a:pt x="1400" y="1400"/>
                </a:lnTo>
                <a:close/>
              </a:path>
              <a:path fill="darken" w="71145" h="21600">
                <a:moveTo>
                  <a:pt x="71145" y="0"/>
                </a:moveTo>
                <a:lnTo>
                  <a:pt x="71145" y="21600"/>
                </a:lnTo>
                <a:lnTo>
                  <a:pt x="69745" y="20200"/>
                </a:lnTo>
                <a:lnTo>
                  <a:pt x="69745" y="1400"/>
                </a:lnTo>
                <a:close/>
              </a:path>
              <a:path fill="darkenLess" w="71145" h="21600">
                <a:moveTo>
                  <a:pt x="71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45" y="20200"/>
                </a:lnTo>
                <a:close/>
              </a:path>
              <a:path fill="lighten" w="71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>
            <a:hlinkClick r:id="rId1" action="ppaction://hlinksldjump"/>
          </p:cNvPr>
          <p:cNvSpPr/>
          <p:nvPr/>
        </p:nvSpPr>
        <p:spPr>
          <a:xfrm>
            <a:off x="2268360" y="443700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0" y="2924280"/>
                <a:ext cx="37083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713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Тригонометрическими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 уравнени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уравнения, в которых переменная содержится под знаками тригонометрических функци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их числу прежде всего относятся простейшие тригонометрические уравнения, т.е. уравнения вид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x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, cosx=a, tgx=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тельное чис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0" y="2781360"/>
                <a:ext cx="38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">
            <a:hlinkClick r:id="rId1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0" y="2781360"/>
                <a:ext cx="3708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4149720"/>
            <a:ext cx="4032360" cy="1008000"/>
          </a:xfrm>
          <a:custGeom>
            <a:avLst/>
            <a:gdLst>
              <a:gd name="textAreaLeft" fmla="*/ 65160 w 4032360"/>
              <a:gd name="textAreaRight" fmla="*/ 3967200 w 403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п.39 – выучить; №466(а,б,в,г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                             №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467(г,д,е,ж*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-171360"/>
            <a:ext cx="687096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К настоящему моменту мы знаем, чт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696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sx=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±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rccosa+2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inx=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(-1)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rcsina+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, что то же самое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arcsina+2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arcsina+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&gt;1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уравне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x=a, sinx=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имеют решени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gx=a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любого знач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arctga+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-92520"/>
            <a:ext cx="727056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Особо важны частные случа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79640" y="1125360"/>
                <a:ext cx="1512720" cy="4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022480" y="1878120"/>
                <a:ext cx="14144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08080" y="2781360"/>
                <a:ext cx="1596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022480" y="3789360"/>
                <a:ext cx="1500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006640" y="4653000"/>
                <a:ext cx="1457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022480" y="5516640"/>
                <a:ext cx="1717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654440" y="1197000"/>
                <a:ext cx="2141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54440" y="1541520"/>
                <a:ext cx="30052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40400" y="2478240"/>
                <a:ext cx="3176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54440" y="3484440"/>
                <a:ext cx="27892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51200" y="4610160"/>
                <a:ext cx="2509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5600" y="5516640"/>
                <a:ext cx="3084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3708360" y="2490840"/>
            <a:ext cx="4176720" cy="873000"/>
            <a:chOff x="3708360" y="2490840"/>
            <a:chExt cx="4176720" cy="873000"/>
          </a:xfrm>
        </p:grpSpPr>
        <p:sp>
          <p:nvSpPr>
            <p:cNvPr id="227" name="">
              <a:hlinkClick r:id="" action="ppaction://hlinkshowjump?jump=nextslide"/>
            </p:cNvPr>
            <p:cNvSpPr/>
            <p:nvPr/>
          </p:nvSpPr>
          <p:spPr>
            <a:xfrm>
              <a:off x="3708360" y="256536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4046400" y="2490840"/>
                  <a:ext cx="27576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995640" y="1484280"/>
                  <a:ext cx="36007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πn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3708360" y="3573360"/>
            <a:ext cx="4176720" cy="893880"/>
            <a:chOff x="3708360" y="3573360"/>
            <a:chExt cx="4176720" cy="893880"/>
          </a:xfrm>
        </p:grpSpPr>
        <p:sp>
          <p:nvSpPr>
            <p:cNvPr id="233" name="">
              <a:hlinkClick r:id="" action="ppaction://hlinkshowjump?jump=nextslide"/>
            </p:cNvPr>
            <p:cNvSpPr/>
            <p:nvPr/>
          </p:nvSpPr>
          <p:spPr>
            <a:xfrm>
              <a:off x="3708360" y="3645000"/>
              <a:ext cx="4176720" cy="79200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000"/>
                <a:gd name="textAreaBottom" fmla="*/ 740880 h 792000"/>
              </a:gdLst>
              <a:ahLst/>
              <a:rect l="textAreaLeft" t="textAreaTop" r="textAreaRight" b="textAreaBottom"/>
              <a:pathLst>
                <a:path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3869" y="21600"/>
                  </a:lnTo>
                  <a:lnTo>
                    <a:pt x="0" y="21600"/>
                  </a:lnTo>
                  <a:close/>
                </a:path>
                <a:path fill="lightenLess"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2469" y="1400"/>
                  </a:lnTo>
                  <a:lnTo>
                    <a:pt x="1400" y="1400"/>
                  </a:lnTo>
                  <a:close/>
                </a:path>
                <a:path fill="darken" w="113869" h="21600">
                  <a:moveTo>
                    <a:pt x="113869" y="0"/>
                  </a:moveTo>
                  <a:lnTo>
                    <a:pt x="113869" y="21600"/>
                  </a:lnTo>
                  <a:lnTo>
                    <a:pt x="112469" y="20200"/>
                  </a:lnTo>
                  <a:lnTo>
                    <a:pt x="112469" y="1400"/>
                  </a:lnTo>
                  <a:close/>
                </a:path>
                <a:path fill="darkenLess" w="113869" h="21600">
                  <a:moveTo>
                    <a:pt x="11386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69" y="20200"/>
                  </a:lnTo>
                  <a:close/>
                </a:path>
                <a:path fill="lighten" w="11386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780000" y="3573360"/>
                  <a:ext cx="302256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36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046400" y="2492280"/>
                <a:ext cx="27576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46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8" name=""/>
          <p:cNvGrpSpPr/>
          <p:nvPr/>
        </p:nvGrpSpPr>
        <p:grpSpPr>
          <a:xfrm>
            <a:off x="3708360" y="3573360"/>
            <a:ext cx="4176720" cy="893880"/>
            <a:chOff x="3708360" y="3573360"/>
            <a:chExt cx="4176720" cy="893880"/>
          </a:xfrm>
        </p:grpSpPr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3708360" y="3645000"/>
              <a:ext cx="4176720" cy="79200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000"/>
                <a:gd name="textAreaBottom" fmla="*/ 740880 h 792000"/>
              </a:gdLst>
              <a:ahLst/>
              <a:rect l="textAreaLeft" t="textAreaTop" r="textAreaRight" b="textAreaBottom"/>
              <a:pathLst>
                <a:path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3869" y="21600"/>
                  </a:lnTo>
                  <a:lnTo>
                    <a:pt x="0" y="21600"/>
                  </a:lnTo>
                  <a:close/>
                </a:path>
                <a:path fill="lightenLess"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2469" y="1400"/>
                  </a:lnTo>
                  <a:lnTo>
                    <a:pt x="1400" y="1400"/>
                  </a:lnTo>
                  <a:close/>
                </a:path>
                <a:path fill="darken" w="113869" h="21600">
                  <a:moveTo>
                    <a:pt x="113869" y="0"/>
                  </a:moveTo>
                  <a:lnTo>
                    <a:pt x="113869" y="21600"/>
                  </a:lnTo>
                  <a:lnTo>
                    <a:pt x="112469" y="20200"/>
                  </a:lnTo>
                  <a:lnTo>
                    <a:pt x="112469" y="1400"/>
                  </a:lnTo>
                  <a:close/>
                </a:path>
                <a:path fill="darkenLess" w="113869" h="21600">
                  <a:moveTo>
                    <a:pt x="11386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69" y="20200"/>
                  </a:lnTo>
                  <a:close/>
                </a:path>
                <a:path fill="lighten" w="11386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780000" y="3573360"/>
                  <a:ext cx="302256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9:14Z</dcterms:created>
  <dc:creator>User</dc:creator>
  <dc:description/>
  <dc:language>en-US</dc:language>
  <cp:lastModifiedBy>Admin</cp:lastModifiedBy>
  <dcterms:modified xsi:type="dcterms:W3CDTF">2010-02-22T09:25:52Z</dcterms:modified>
  <cp:revision>253</cp:revision>
  <dc:subject/>
  <dc:title>Геометрия 7 класс.</dc:title>
</cp:coreProperties>
</file>