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FBEF-0F24-4932-820C-4D3C9679B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A90E-6AFF-4859-BBFE-867A95A01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5C9-D749-47EA-A45B-5FD63A8A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384-E169-4F76-A8BB-7CA984CE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EEB-D3AA-4569-ADE1-80F66BD7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E29-1D3C-46C5-9122-A884E1C2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D0DA-9040-428E-B6C5-B5BDAF48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C891-665C-4C97-BB18-5CAF9C69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BE08-B7D3-4C17-BD9C-E2D28F1E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49F7-A152-433E-A9C7-BA0BD5D7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EC54-E644-4643-8B98-AA2E120A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76D6-AFCD-469F-8BB2-CA67E91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720B-A539-4EAA-81F7-9B2106B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876-0C53-4665-BD24-09F99F8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DCD8-DC3A-4E36-8F1D-732B24AE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2D77-8727-4D6C-8D8F-F28D184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0FD8-0926-4AB8-A399-3E15DBD0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35F3-BEA2-46C6-BDC8-B59BCD0D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637D-E453-4864-87B0-D09F674E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AF49-1CC0-4448-BC56-654732E6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8598-B905-45AB-B069-C8E677F9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E9D3-3EF8-45BE-A697-B5073A01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05EF-F811-48CA-9794-1D7B009F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845D-45A2-4EEF-8DA7-D05F152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2F8-069E-4F0B-B822-BC4F1746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127C-A1AA-4776-98B4-8189F1D1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C1D3-5DB5-42A6-901F-0D72464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10E6-498E-4BB4-9F92-A35C173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2038-7FC5-4DD8-9529-5EE16C4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8C77-CC55-48D0-B319-BEABDF82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0263-DBF6-4BB2-B4F3-55597BD2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B131-A348-40D4-8F61-386BD55B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797-F1ED-4B30-90FD-7935F176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7A1-6B87-479F-98E3-52009EC6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F26-8972-4804-B583-841702C9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740-AB56-423B-A855-C7E58D90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6A4-534A-4B5C-BAF0-C255B10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057-0D5F-410D-8696-FA696D53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24D-3549-4299-A06B-61C19C804A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69C-B022-4DAA-B852-9E5584BE89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31A-52BC-4C6F-9B63-79AE0A5D65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8497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99"/>
                </a:solidFill>
                <a:latin typeface="Times New Roman"/>
              </a:rPr>
              <a:t>Способы решения тригонометрических уравнений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4723920"/>
            <a:ext cx="669456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работала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кевич Тамара Анатол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математики, высшей кв.катег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редней общеобразовательной школы № 1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углубленным изучением отдельных предметов г.Марганец Днепропетровской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3708360" y="364500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80000" y="3573360"/>
                <a:ext cx="3022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67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77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860640" y="4797360"/>
                <a:ext cx="3089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91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76560" y="4869000"/>
                <a:ext cx="31165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0" y="19890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Способы реше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тригонометрических уравн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9640" y="549360"/>
            <a:ext cx="7543800" cy="5195880"/>
            <a:chOff x="539640" y="549360"/>
            <a:chExt cx="7543800" cy="5195880"/>
          </a:xfrm>
        </p:grpSpPr>
        <p:sp>
          <p:nvSpPr>
            <p:cNvPr id="302" name="Text Box 4"/>
            <p:cNvSpPr/>
            <p:nvPr/>
          </p:nvSpPr>
          <p:spPr>
            <a:xfrm>
              <a:off x="539640" y="3932280"/>
              <a:ext cx="216072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ложение на множители (вынесение за скобку, формулы сокращённого умножения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971640" y="549360"/>
              <a:ext cx="189684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Уравнения, приводимые к квадратным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5940360" y="620640"/>
              <a:ext cx="172728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Однородные уравн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6588000" y="3860640"/>
              <a:ext cx="1495440" cy="18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введения вспомогательного угла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3492360" y="3860640"/>
              <a:ext cx="2276640" cy="188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тригонометрических формул (суммы и разности, сложения, двойного угла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07" name="AutoShape 9"/>
            <p:cNvCxnSpPr/>
            <p:nvPr/>
          </p:nvCxnSpPr>
          <p:spPr>
            <a:xfrm flipH="1">
              <a:off x="1564560" y="3141360"/>
              <a:ext cx="1423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8" name="AutoShape 10"/>
            <p:cNvCxnSpPr/>
            <p:nvPr/>
          </p:nvCxnSpPr>
          <p:spPr>
            <a:xfrm flipH="1" flipV="1">
              <a:off x="2916000" y="1483920"/>
              <a:ext cx="1296000" cy="57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9" name="AutoShape 11"/>
            <p:cNvCxnSpPr/>
            <p:nvPr/>
          </p:nvCxnSpPr>
          <p:spPr>
            <a:xfrm>
              <a:off x="4642920" y="3141360"/>
              <a:ext cx="1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0" name="AutoShape 12"/>
            <p:cNvCxnSpPr/>
            <p:nvPr/>
          </p:nvCxnSpPr>
          <p:spPr>
            <a:xfrm flipV="1">
              <a:off x="4643280" y="1557000"/>
              <a:ext cx="1223280" cy="505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1" name="AutoShape 13"/>
            <p:cNvCxnSpPr/>
            <p:nvPr/>
          </p:nvCxnSpPr>
          <p:spPr>
            <a:xfrm>
              <a:off x="6372360" y="3141360"/>
              <a:ext cx="90720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9640" y="2602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Уравнения, приводимые к квадрат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1844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i="1" lang="ru-RU" sz="3600" spc="-1" strike="noStrike">
                <a:solidFill>
                  <a:srgbClr val="0033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3284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1052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4032360" cy="774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2565360"/>
            <a:ext cx="60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476360" y="256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2916360" y="2565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68360" y="35305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2771640" y="3517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755640" y="3579840"/>
            <a:ext cx="22446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93840" y="546120"/>
            <a:ext cx="527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255600" cy="57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14280" y="170820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2766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348000" y="2276640"/>
            <a:ext cx="4260960" cy="774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535040" y="2293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2268360" y="2293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58920" y="393372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1221120" y="3314880"/>
            <a:ext cx="52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3492360" y="328464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1547640" y="3357720"/>
            <a:ext cx="22449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87280" y="1557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406680" y="2133720"/>
            <a:ext cx="1381320" cy="774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676520" y="3124080"/>
            <a:ext cx="1234800" cy="776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133720" y="3139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87280" y="62064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 b       +c 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2057400" y="62064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4290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1619280" y="2133720"/>
            <a:ext cx="1235160" cy="7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300720" y="134136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|·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≠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1330200" y="213372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+ b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3419640" y="3084480"/>
            <a:ext cx="1234800" cy="776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332000" y="314172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odoni MT"/>
              </a:rPr>
              <a:t>a        +b      +c 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205000"/>
            <a:ext cx="295272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sin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 1, 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sin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19700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   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²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b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 c =0</a:t>
            </a:r>
            <a:r>
              <a:rPr b="0" i="1" lang="en-US" sz="4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2205000"/>
            <a:ext cx="3024000" cy="3104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cos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1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 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cos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2205000"/>
            <a:ext cx="219564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t   R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tgx)=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236000" y="3284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826920" y="1268280"/>
                <a:ext cx="3311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81360" y="1268280"/>
                <a:ext cx="23623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09720" y="1989000"/>
                <a:ext cx="298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41720" y="2060640"/>
                <a:ext cx="27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993600" y="2708280"/>
                <a:ext cx="1951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44640" y="3141720"/>
                <a:ext cx="47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30240" y="4567320"/>
                <a:ext cx="5419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31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 введения новой переменн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71640" y="691920"/>
            <a:ext cx="6781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05040" y="5432400"/>
                <a:ext cx="5618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71640" y="115560"/>
            <a:ext cx="678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26920" y="620640"/>
                <a:ext cx="2210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92000" y="2276640"/>
                <a:ext cx="1901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6800" y="2781360"/>
                <a:ext cx="1928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92000" y="3201840"/>
                <a:ext cx="1044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89040" y="4786200"/>
                <a:ext cx="52801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62120" y="3922560"/>
                <a:ext cx="4911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70280" y="669960"/>
                <a:ext cx="127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852480" y="1473120"/>
                <a:ext cx="2552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695760" y="1362240"/>
                <a:ext cx="26478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024360" y="3201840"/>
                <a:ext cx="1066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81120" y="5578560"/>
                <a:ext cx="5619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урок - презента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39640" y="2587680"/>
                <a:ext cx="77774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5280" y="868320"/>
                <a:ext cx="28414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8200" y="836640"/>
                <a:ext cx="2449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3708360" y="1746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n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867280" y="1746360"/>
                <a:ext cx="865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3348000" y="2500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3 не удовлетворяет услов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442280" y="2631960"/>
                <a:ext cx="946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3350160" y="230760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18960" y="3706920"/>
                <a:ext cx="2889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;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224080" y="5311800"/>
                <a:ext cx="3932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x+bcosx=0 </a:t>
            </a: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1" lang="ru-RU" sz="32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304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Однородные урав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52520" y="2114640"/>
                <a:ext cx="6780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rPr>
                        <m:lit/>
                        <m:nor/>
                      </m:rPr>
                      <m:t xml:space="preserve">                     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79600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0"/>
            <a:ext cx="7128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к, дано уравнени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sinx+bcosx=0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, b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в обе части уравнения почленно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тоге приходим к простейшем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гонометрическому уравнени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564000" y="4941720"/>
                <a:ext cx="19954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268360" y="3284640"/>
                <a:ext cx="2508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g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68709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inx-3cosx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азделив обе части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ленно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-3=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arct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ctg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796000" y="263700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 уравнение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2x+cos2x=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920" y="404640"/>
            <a:ext cx="7999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членно разделив обе    части    уравнени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2x≠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лучи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09760" y="1628640"/>
                <a:ext cx="3632400" cy="384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11280" y="5300640"/>
                <a:ext cx="4608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20640"/>
            <a:ext cx="727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836640"/>
            <a:ext cx="7632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ассмотрим  однородное тригонометрическое урав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=0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81080" y="33336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лгоритм решения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днородных тригонометрических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равнений 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, есть ли в уравнении чле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i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содержится, то есть 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 то уравнение решается делением обеих его частей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следующим введением новой переме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z=tg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не содержится, то есть а=0, то уравнение решается методом разложения на множители: за скобки вынося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меры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№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-3sinxcosx+2co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846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uk-UA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sinxcosx+2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÷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≠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tgx+2=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ведем новую переменн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tgx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3z+2=0;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1, 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arctg2 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 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ctg2 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, k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043080" y="5300640"/>
                <a:ext cx="417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накомить учащихся с общей схемой решения тригонометрических уравнений различных тип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овать умения решать тригонометрические уравнения,  приводимые к квадратным и однородные урав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852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inxcosx+cos</a:t>
            </a:r>
            <a:r>
              <a:rPr b="1" i="1" lang="ru-RU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68360" y="1278000"/>
                <a:ext cx="360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55640" y="2060640"/>
                <a:ext cx="1298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79600" y="2133720"/>
                <a:ext cx="752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449520" y="2025720"/>
                <a:ext cx="2438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486480" y="2006640"/>
                <a:ext cx="1790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79520" y="2335320"/>
                <a:ext cx="270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360600" y="2494080"/>
                <a:ext cx="2157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448080" y="2982960"/>
                <a:ext cx="18842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3520" y="3774960"/>
                <a:ext cx="42260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60760" y="4567320"/>
                <a:ext cx="2981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887480" y="5359320"/>
                <a:ext cx="5780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324000" y="134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765000"/>
            <a:ext cx="1425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8520" y="2789280"/>
                <a:ext cx="8134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123640" y="189000"/>
            <a:ext cx="40388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8040" y="907920"/>
                <a:ext cx="5626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399360" y="907920"/>
                <a:ext cx="1890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: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1280" y="1557360"/>
                <a:ext cx="3216240" cy="24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641840" y="2544840"/>
                <a:ext cx="382428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51280" y="1628640"/>
                <a:ext cx="28083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1091520" y="58618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965920" y="5589720"/>
                <a:ext cx="2566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486160" y="5925960"/>
                <a:ext cx="330984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2000" y="1413000"/>
                <a:ext cx="536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944640" y="2852640"/>
                <a:ext cx="7183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74600" y="4348080"/>
                <a:ext cx="46198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Среди предложенных уравнений выберите уравнения, приводимые к квадратным и однородные уравнения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124000" y="1773360"/>
                <a:ext cx="5832720" cy="43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50920" y="285264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урав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>
            <a:hlinkClick r:id="rId2" action="ppaction://hlinksldjump"/>
          </p:cNvPr>
          <p:cNvSpPr/>
          <p:nvPr/>
        </p:nvSpPr>
        <p:spPr>
          <a:xfrm>
            <a:off x="3708360" y="2781360"/>
            <a:ext cx="5113440" cy="792000"/>
          </a:xfrm>
          <a:custGeom>
            <a:avLst/>
            <a:gdLst>
              <a:gd name="textAreaLeft" fmla="*/ 51120 w 5113440"/>
              <a:gd name="textAreaRight" fmla="*/ 5062320 w 51134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404" h="21600">
                <a:moveTo>
                  <a:pt x="0" y="0"/>
                </a:moveTo>
                <a:lnTo>
                  <a:pt x="139404" y="0"/>
                </a:lnTo>
                <a:lnTo>
                  <a:pt x="139404" y="21600"/>
                </a:lnTo>
                <a:lnTo>
                  <a:pt x="0" y="21600"/>
                </a:lnTo>
                <a:close/>
              </a:path>
              <a:path fill="lightenLess" w="139404" h="21600">
                <a:moveTo>
                  <a:pt x="0" y="0"/>
                </a:moveTo>
                <a:lnTo>
                  <a:pt x="139404" y="0"/>
                </a:lnTo>
                <a:lnTo>
                  <a:pt x="138004" y="1400"/>
                </a:lnTo>
                <a:lnTo>
                  <a:pt x="1400" y="1400"/>
                </a:lnTo>
                <a:close/>
              </a:path>
              <a:path fill="darken" w="139404" h="21600">
                <a:moveTo>
                  <a:pt x="139404" y="0"/>
                </a:moveTo>
                <a:lnTo>
                  <a:pt x="139404" y="21600"/>
                </a:lnTo>
                <a:lnTo>
                  <a:pt x="138004" y="20200"/>
                </a:lnTo>
                <a:lnTo>
                  <a:pt x="138004" y="1400"/>
                </a:lnTo>
                <a:close/>
              </a:path>
              <a:path fill="darkenLess" w="139404" h="21600">
                <a:moveTo>
                  <a:pt x="139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04" y="20200"/>
                </a:lnTo>
                <a:close/>
              </a:path>
              <a:path fill="lighten" w="139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>
            <a:hlinkClick r:id="rId4" action="ppaction://hlinksldjump"/>
          </p:cNvPr>
          <p:cNvSpPr/>
          <p:nvPr/>
        </p:nvSpPr>
        <p:spPr>
          <a:xfrm>
            <a:off x="3635280" y="5373720"/>
            <a:ext cx="5257800" cy="792000"/>
          </a:xfrm>
          <a:custGeom>
            <a:avLst/>
            <a:gdLst>
              <a:gd name="textAreaLeft" fmla="*/ 51120 w 5257800"/>
              <a:gd name="textAreaRight" fmla="*/ 5206680 w 5257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39" h="21600">
                <a:moveTo>
                  <a:pt x="0" y="0"/>
                </a:moveTo>
                <a:lnTo>
                  <a:pt x="143339" y="0"/>
                </a:lnTo>
                <a:lnTo>
                  <a:pt x="143339" y="21600"/>
                </a:lnTo>
                <a:lnTo>
                  <a:pt x="0" y="21600"/>
                </a:lnTo>
                <a:close/>
              </a:path>
              <a:path fill="lightenLess" w="143339" h="21600">
                <a:moveTo>
                  <a:pt x="0" y="0"/>
                </a:moveTo>
                <a:lnTo>
                  <a:pt x="143339" y="0"/>
                </a:lnTo>
                <a:lnTo>
                  <a:pt x="141939" y="1400"/>
                </a:lnTo>
                <a:lnTo>
                  <a:pt x="1400" y="1400"/>
                </a:lnTo>
                <a:close/>
              </a:path>
              <a:path fill="darken" w="143339" h="21600">
                <a:moveTo>
                  <a:pt x="143339" y="0"/>
                </a:moveTo>
                <a:lnTo>
                  <a:pt x="143339" y="21600"/>
                </a:lnTo>
                <a:lnTo>
                  <a:pt x="141939" y="20200"/>
                </a:lnTo>
                <a:lnTo>
                  <a:pt x="141939" y="1400"/>
                </a:lnTo>
                <a:close/>
              </a:path>
              <a:path fill="darkenLess" w="143339" h="21600">
                <a:moveTo>
                  <a:pt x="143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39" y="20200"/>
                </a:lnTo>
                <a:close/>
              </a:path>
              <a:path fill="lighten" w="143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0" y="2870280"/>
                <a:ext cx="3708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889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вый шаг к успеху при решении тригонометрических уравнений – это умение решать простейшие тригонометрические уравнения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2854440"/>
                <a:ext cx="378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0" y="2205000"/>
                <a:ext cx="514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4221000"/>
            <a:ext cx="4032360" cy="1224000"/>
          </a:xfrm>
          <a:custGeom>
            <a:avLst/>
            <a:gdLst>
              <a:gd name="textAreaLeft" fmla="*/ 79200 w 4032360"/>
              <a:gd name="textAreaRight" fmla="*/ 3953160 w 4032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45" h="21600">
                <a:moveTo>
                  <a:pt x="0" y="0"/>
                </a:moveTo>
                <a:lnTo>
                  <a:pt x="71145" y="0"/>
                </a:lnTo>
                <a:lnTo>
                  <a:pt x="71145" y="21600"/>
                </a:lnTo>
                <a:lnTo>
                  <a:pt x="0" y="21600"/>
                </a:lnTo>
                <a:close/>
              </a:path>
              <a:path fill="lightenLess" w="71145" h="21600">
                <a:moveTo>
                  <a:pt x="0" y="0"/>
                </a:moveTo>
                <a:lnTo>
                  <a:pt x="71145" y="0"/>
                </a:lnTo>
                <a:lnTo>
                  <a:pt x="69745" y="1400"/>
                </a:lnTo>
                <a:lnTo>
                  <a:pt x="1400" y="1400"/>
                </a:lnTo>
                <a:close/>
              </a:path>
              <a:path fill="darken" w="71145" h="21600">
                <a:moveTo>
                  <a:pt x="71145" y="0"/>
                </a:moveTo>
                <a:lnTo>
                  <a:pt x="71145" y="21600"/>
                </a:lnTo>
                <a:lnTo>
                  <a:pt x="69745" y="20200"/>
                </a:lnTo>
                <a:lnTo>
                  <a:pt x="69745" y="1400"/>
                </a:lnTo>
                <a:close/>
              </a:path>
              <a:path fill="darkenLess" w="71145" h="21600">
                <a:moveTo>
                  <a:pt x="71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45" y="20200"/>
                </a:lnTo>
                <a:close/>
              </a:path>
              <a:path fill="lighten" w="71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2268360" y="443700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0" y="2924280"/>
                <a:ext cx="37083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713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Тригонометрическими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 уравне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уравнения, в которых переменная содержится под знаками тригонометрических функци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их числу прежде всего относятся простейшие тригонометрические уравнения, т.е. уравнения вид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, cosx=a, tgx=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0" y="2781360"/>
                <a:ext cx="38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0" y="2781360"/>
                <a:ext cx="37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4149720"/>
            <a:ext cx="4032360" cy="1008000"/>
          </a:xfrm>
          <a:custGeom>
            <a:avLst/>
            <a:gdLst>
              <a:gd name="textAreaLeft" fmla="*/ 65160 w 4032360"/>
              <a:gd name="textAreaRight" fmla="*/ 3967200 w 403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.39 – выучить; №466(а,б,в,г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                          №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467(г,д,е,ж*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68709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К настоящему моменту мы знаем, чт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sx=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±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cosa+2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nx=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(-1)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sin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, что то же самое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arcsina+2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arcsina+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&gt;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x=a, sinx=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имеют решени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gx=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юбого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arctg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92520"/>
            <a:ext cx="727056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собо важны частные случа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1125360"/>
                <a:ext cx="1512720" cy="4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022480" y="1878120"/>
                <a:ext cx="1414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08080" y="2781360"/>
                <a:ext cx="1596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022480" y="378936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006640" y="46530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22480" y="5516640"/>
                <a:ext cx="171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54440" y="1197000"/>
                <a:ext cx="214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54440" y="1541520"/>
                <a:ext cx="3005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40400" y="2478240"/>
                <a:ext cx="3176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54440" y="3484440"/>
                <a:ext cx="27892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51200" y="4610160"/>
                <a:ext cx="2509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5600" y="5516640"/>
                <a:ext cx="3084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708360" y="2490840"/>
            <a:ext cx="4176720" cy="873000"/>
            <a:chOff x="3708360" y="2490840"/>
            <a:chExt cx="4176720" cy="873000"/>
          </a:xfrm>
        </p:grpSpPr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3708360" y="256536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046400" y="2490840"/>
                  <a:ext cx="27576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995640" y="1484280"/>
                  <a:ext cx="36007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33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36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046400" y="2492280"/>
                <a:ext cx="27576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46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9:14Z</dcterms:created>
  <dc:creator>User</dc:creator>
  <dc:description/>
  <dc:language>en-US</dc:language>
  <cp:lastModifiedBy>Admin</cp:lastModifiedBy>
  <dcterms:modified xsi:type="dcterms:W3CDTF">2010-02-22T09:25:52Z</dcterms:modified>
  <cp:revision>253</cp:revision>
  <dc:subject/>
  <dc:title>Геометрия 7 класс.</dc:title>
</cp:coreProperties>
</file>