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326-4C33-44F2-8B25-E39A06C815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ADE5-4472-47C3-A8C2-84756618F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E6C-4B87-45E0-8AF6-3CF74710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3F1A-CE8F-4F44-BEF5-999EFEBE9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96ED-DA64-4A44-8214-5D89ECAE1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04CE-CBEC-4FE9-83C0-7A72EC81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97D9-308F-4259-9FFF-063C7051D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610E-5ADE-4096-A92D-A8B027C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F0DB-B4AD-4E7A-AE90-B051551B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1A89-FD7F-4B61-A080-9CFE5C32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6725-4D0B-4139-8B25-37C3B1B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36C67-F932-4157-9698-ADBDDFF4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4A876-8717-4BE8-B3CF-829348BE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CE0C-1E7B-479E-9F9F-D69A9706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E7028-CD00-4C5C-8C93-1E627DD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BC25-0923-45BF-9B6C-63366391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0CE2-D065-465A-8AC9-624E688E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735F-8AA3-414D-A038-CA64D58C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AD6-07B4-4E98-AF23-28C3EAAB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EDD03-AF8A-4E55-A69A-2DE4F5A1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E6DE5-B38D-4A15-B7A0-F05437AF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FAAA-2B84-421F-AABE-A56D79FD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D7DF3-0D1C-4C29-8F5D-E2EC5F65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2B670-72FA-4FAE-BDA9-0756E669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498B-C5B0-483B-97C9-7E73103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28C3A-4D0F-4458-891B-1C4D831BB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7CDF-08B1-46C8-8021-0C595DDB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227F1-53C6-4831-BC59-5A775E83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07A0A-F919-4C81-A172-69F1562E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31E7F-DA81-47E9-AD5F-465897E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A8079-3B1D-4FB5-9EEE-05AB7698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9C81C-73D6-45B8-8C67-CDAF708D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944-D33D-445D-AC2E-2E21A6D7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C2D-775A-45C0-9119-A487FDAF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D1C5-EF62-4B72-BD17-D7A5F08C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29A-E093-4A9E-8F36-9A7C97D8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BE0-3F6F-4173-9CE9-AE81FC939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B36E-F0D1-43F2-BE98-092AFAD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B380-A63D-425C-B750-DE3CE635851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96AF-8665-4AB0-9011-A609AC005E6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B8B6-8137-4ECA-8CB3-D787A6704773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3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6.wmf"/><Relationship Id="rId5" Type="http://schemas.openxmlformats.org/officeDocument/2006/relationships/image" Target="../media/image1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7.xml"/><Relationship Id="rId2" Type="http://schemas.openxmlformats.org/officeDocument/2006/relationships/slide" Target="slide37.xml"/><Relationship Id="rId3" Type="http://schemas.openxmlformats.org/officeDocument/2006/relationships/slide" Target="slide36.xml"/><Relationship Id="rId4" Type="http://schemas.openxmlformats.org/officeDocument/2006/relationships/slide" Target="slide37.xml"/><Relationship Id="rId5" Type="http://schemas.openxmlformats.org/officeDocument/2006/relationships/slide" Target="slide37.xml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40.xml"/><Relationship Id="rId3" Type="http://schemas.openxmlformats.org/officeDocument/2006/relationships/slide" Target="slide40.xml"/><Relationship Id="rId4" Type="http://schemas.openxmlformats.org/officeDocument/2006/relationships/slide" Target="slide40.xml"/><Relationship Id="rId5" Type="http://schemas.openxmlformats.org/officeDocument/2006/relationships/slide" Target="slide40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46.xml"/><Relationship Id="rId3" Type="http://schemas.openxmlformats.org/officeDocument/2006/relationships/slide" Target="slide46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49.xml"/><Relationship Id="rId3" Type="http://schemas.openxmlformats.org/officeDocument/2006/relationships/slide" Target="slide49.xml"/><Relationship Id="rId4" Type="http://schemas.openxmlformats.org/officeDocument/2006/relationships/slide" Target="slide49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52.xml"/><Relationship Id="rId3" Type="http://schemas.openxmlformats.org/officeDocument/2006/relationships/slide" Target="slide52.xml"/><Relationship Id="rId4" Type="http://schemas.openxmlformats.org/officeDocument/2006/relationships/slide" Target="slide52.xml"/><Relationship Id="rId5" Type="http://schemas.openxmlformats.org/officeDocument/2006/relationships/slide" Target="slide52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341360"/>
            <a:ext cx="84978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000099"/>
                </a:solidFill>
                <a:latin typeface="Times New Roman"/>
              </a:rPr>
              <a:t>Способы решения тригонометрических уравнений</a:t>
            </a:r>
            <a:endParaRPr b="0" lang="en-US" sz="6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27280" y="4723920"/>
            <a:ext cx="669456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Разработала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аркевич Тамара Анатольевн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учитель математики, высшей кв.категори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редней общеобразовательной школы № 10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 углубленным изучением отдельных предметов г.Марганец Днепропетровской об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1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3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3708360" y="364500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3780000" y="3573360"/>
                <a:ext cx="3022560" cy="89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6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67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6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77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8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3860640" y="4797360"/>
                <a:ext cx="30895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4046400" y="2516040"/>
                <a:ext cx="311796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90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91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2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3708360" y="371628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994200" y="3645000"/>
                <a:ext cx="33861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3708360" y="4910040"/>
            <a:ext cx="4176720" cy="79236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13817" h="21600">
                <a:moveTo>
                  <a:pt x="0" y="0"/>
                </a:moveTo>
                <a:lnTo>
                  <a:pt x="113817" y="0"/>
                </a:lnTo>
                <a:lnTo>
                  <a:pt x="113817" y="21600"/>
                </a:lnTo>
                <a:lnTo>
                  <a:pt x="0" y="21600"/>
                </a:lnTo>
                <a:close/>
              </a:path>
              <a:path fill="lightenLess" w="113817" h="21600">
                <a:moveTo>
                  <a:pt x="0" y="0"/>
                </a:moveTo>
                <a:lnTo>
                  <a:pt x="113817" y="0"/>
                </a:lnTo>
                <a:lnTo>
                  <a:pt x="112417" y="1400"/>
                </a:lnTo>
                <a:lnTo>
                  <a:pt x="1400" y="1400"/>
                </a:lnTo>
                <a:close/>
              </a:path>
              <a:path fill="darken" w="113817" h="21600">
                <a:moveTo>
                  <a:pt x="113817" y="0"/>
                </a:moveTo>
                <a:lnTo>
                  <a:pt x="113817" y="21600"/>
                </a:lnTo>
                <a:lnTo>
                  <a:pt x="112417" y="20200"/>
                </a:lnTo>
                <a:lnTo>
                  <a:pt x="112417" y="1400"/>
                </a:lnTo>
                <a:close/>
              </a:path>
              <a:path fill="darkenLess" w="113817" h="21600">
                <a:moveTo>
                  <a:pt x="113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17" y="20200"/>
                </a:lnTo>
                <a:close/>
              </a:path>
              <a:path fill="lighten" w="113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1dff1d"/>
              </a:gs>
              <a:gs pos="100000">
                <a:srgbClr val="0d75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976560" y="4869000"/>
                <a:ext cx="31165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1"/>
          <p:cNvSpPr/>
          <p:nvPr/>
        </p:nvSpPr>
        <p:spPr>
          <a:xfrm>
            <a:off x="0" y="198900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Способы реше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тригонометрических уравне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549360"/>
            <a:ext cx="7543800" cy="5195880"/>
            <a:chOff x="539640" y="549360"/>
            <a:chExt cx="7543800" cy="5195880"/>
          </a:xfrm>
        </p:grpSpPr>
        <p:sp>
          <p:nvSpPr>
            <p:cNvPr id="302" name="Text Box 4"/>
            <p:cNvSpPr/>
            <p:nvPr/>
          </p:nvSpPr>
          <p:spPr>
            <a:xfrm>
              <a:off x="539640" y="3932280"/>
              <a:ext cx="2160720" cy="18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Разложение на множители (вынесение за скобку, формулы сокращённого умножения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5"/>
            <p:cNvSpPr/>
            <p:nvPr/>
          </p:nvSpPr>
          <p:spPr>
            <a:xfrm>
              <a:off x="971640" y="549360"/>
              <a:ext cx="1896840" cy="1003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Уравнения, приводимые к квадратным</a:t>
              </a:r>
              <a:r>
                <a:rPr b="1" lang="en-US" sz="1400" spc="-1" strike="noStrike">
                  <a:solidFill>
                    <a:srgbClr val="ff0000"/>
                  </a:solidFill>
                  <a:latin typeface="Times New Roman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6"/>
            <p:cNvSpPr/>
            <p:nvPr/>
          </p:nvSpPr>
          <p:spPr>
            <a:xfrm>
              <a:off x="5940360" y="620640"/>
              <a:ext cx="1727280" cy="7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Однородные уравне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7"/>
            <p:cNvSpPr/>
            <p:nvPr/>
          </p:nvSpPr>
          <p:spPr>
            <a:xfrm>
              <a:off x="6588000" y="3860640"/>
              <a:ext cx="1495440" cy="181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введения вспомогательного угла.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8"/>
            <p:cNvSpPr/>
            <p:nvPr/>
          </p:nvSpPr>
          <p:spPr>
            <a:xfrm>
              <a:off x="3492360" y="3860640"/>
              <a:ext cx="2276640" cy="1884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Уравнения, решаемые с помощью тригонометрических формул (суммы и разности, сложения, двойного угла и пр.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307" name="AutoShape 9"/>
            <p:cNvCxnSpPr/>
            <p:nvPr/>
          </p:nvCxnSpPr>
          <p:spPr>
            <a:xfrm flipH="1">
              <a:off x="1564560" y="3141360"/>
              <a:ext cx="1423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8" name="AutoShape 10"/>
            <p:cNvCxnSpPr/>
            <p:nvPr/>
          </p:nvCxnSpPr>
          <p:spPr>
            <a:xfrm flipH="1" flipV="1">
              <a:off x="2916000" y="1483920"/>
              <a:ext cx="1296000" cy="575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09" name="AutoShape 11"/>
            <p:cNvCxnSpPr/>
            <p:nvPr/>
          </p:nvCxnSpPr>
          <p:spPr>
            <a:xfrm>
              <a:off x="4642920" y="3141360"/>
              <a:ext cx="108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0" name="AutoShape 12"/>
            <p:cNvCxnSpPr/>
            <p:nvPr/>
          </p:nvCxnSpPr>
          <p:spPr>
            <a:xfrm flipV="1">
              <a:off x="4643280" y="1557000"/>
              <a:ext cx="1223280" cy="505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311" name="AutoShape 13"/>
            <p:cNvCxnSpPr/>
            <p:nvPr/>
          </p:nvCxnSpPr>
          <p:spPr>
            <a:xfrm>
              <a:off x="6372360" y="3141360"/>
              <a:ext cx="907200" cy="6166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</p:cxn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539640" y="260280"/>
            <a:ext cx="882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99"/>
                </a:solidFill>
                <a:uFillTx/>
                <a:latin typeface="Times New Roman"/>
              </a:rPr>
              <a:t>Уравнения, приводимые к квадрат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539640" y="1844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i="1" lang="ru-RU" sz="3600" spc="-1" strike="noStrike">
                <a:solidFill>
                  <a:srgbClr val="0033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3284640"/>
            <a:ext cx="27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>
            <a:off x="1547640" y="105264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80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556000" y="112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708360" y="1052640"/>
            <a:ext cx="4032360" cy="7747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1835280" y="105264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468360" y="2565360"/>
            <a:ext cx="604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 c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4"/>
          <a:stretch/>
        </p:blipFill>
        <p:spPr>
          <a:xfrm>
            <a:off x="826920" y="2565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5"/>
          <a:stretch/>
        </p:blipFill>
        <p:spPr>
          <a:xfrm>
            <a:off x="1476360" y="256536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6"/>
          <a:stretch/>
        </p:blipFill>
        <p:spPr>
          <a:xfrm>
            <a:off x="2916360" y="2565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468360" y="353052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</a:t>
            </a:r>
            <a:r>
              <a:rPr b="1" i="1" lang="ru-RU" sz="4400" spc="-1" strike="noStrike">
                <a:solidFill>
                  <a:srgbClr val="006600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</a:t>
            </a: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7"/>
          <a:stretch/>
        </p:blipFill>
        <p:spPr>
          <a:xfrm>
            <a:off x="2771640" y="3517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8"/>
          <a:stretch/>
        </p:blipFill>
        <p:spPr>
          <a:xfrm>
            <a:off x="755640" y="3579840"/>
            <a:ext cx="224460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293840" y="546120"/>
            <a:ext cx="527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564000" y="54936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255600" cy="57600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4260600" cy="7747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14280" y="170820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"/>
          <p:cNvSpPr/>
          <p:nvPr/>
        </p:nvSpPr>
        <p:spPr>
          <a:xfrm>
            <a:off x="1258920" y="227664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b        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3348000" y="2276640"/>
            <a:ext cx="4260960" cy="77436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1535040" y="229392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2268360" y="2293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58920" y="3933720"/>
            <a:ext cx="5257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1221120" y="3314880"/>
            <a:ext cx="527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b        + c = 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7"/>
          <a:stretch/>
        </p:blipFill>
        <p:spPr>
          <a:xfrm>
            <a:off x="3492360" y="3284640"/>
            <a:ext cx="4260960" cy="7747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8"/>
          <a:stretch/>
        </p:blipFill>
        <p:spPr>
          <a:xfrm>
            <a:off x="1547640" y="3357720"/>
            <a:ext cx="22449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1187280" y="15573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Bodoni MT"/>
              </a:rPr>
              <a:t>Например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3406680" y="2133720"/>
            <a:ext cx="1381320" cy="7747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1676520" y="3124080"/>
            <a:ext cx="1234800" cy="776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3"/>
          <a:stretch/>
        </p:blipFill>
        <p:spPr>
          <a:xfrm>
            <a:off x="2133720" y="3139920"/>
            <a:ext cx="255600" cy="576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187280" y="620640"/>
            <a:ext cx="669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 + b       +c 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4"/>
          <a:stretch/>
        </p:blipFill>
        <p:spPr>
          <a:xfrm>
            <a:off x="16002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5"/>
          <a:stretch/>
        </p:blipFill>
        <p:spPr>
          <a:xfrm>
            <a:off x="2057400" y="620640"/>
            <a:ext cx="255600" cy="57636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6"/>
          <a:stretch/>
        </p:blipFill>
        <p:spPr>
          <a:xfrm>
            <a:off x="3429000" y="609480"/>
            <a:ext cx="1235160" cy="7765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7"/>
          <a:stretch/>
        </p:blipFill>
        <p:spPr>
          <a:xfrm>
            <a:off x="1619280" y="2133720"/>
            <a:ext cx="1235160" cy="776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300720" y="1341360"/>
            <a:ext cx="207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|·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≠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"/>
          <p:cNvSpPr/>
          <p:nvPr/>
        </p:nvSpPr>
        <p:spPr>
          <a:xfrm>
            <a:off x="1330200" y="2133720"/>
            <a:ext cx="66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a       + b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 </a:t>
            </a:r>
            <a:r>
              <a:rPr b="1" i="1" lang="ru-RU" sz="4400" spc="-1" strike="noStrike">
                <a:solidFill>
                  <a:srgbClr val="3333cc"/>
                </a:solidFill>
                <a:latin typeface="Bodoni MT"/>
              </a:rPr>
              <a:t>      </a:t>
            </a:r>
            <a:r>
              <a:rPr b="1" i="1" lang="en-US" sz="4400" spc="-1" strike="noStrike">
                <a:solidFill>
                  <a:srgbClr val="3333cc"/>
                </a:solidFill>
                <a:latin typeface="Bodoni MT"/>
              </a:rPr>
              <a:t>+c=0</a:t>
            </a:r>
            <a:r>
              <a:rPr b="1" i="1" lang="en-US" sz="4400" spc="-1" strike="noStrike">
                <a:solidFill>
                  <a:srgbClr val="000000"/>
                </a:solidFill>
                <a:latin typeface="Bodoni MT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8"/>
          <a:stretch/>
        </p:blipFill>
        <p:spPr>
          <a:xfrm>
            <a:off x="3419640" y="3084480"/>
            <a:ext cx="1234800" cy="776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1332000" y="3141720"/>
            <a:ext cx="568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Bodoni MT"/>
              </a:rPr>
              <a:t>a        +b      +c =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1258920" y="33336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2205000"/>
            <a:ext cx="295272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sin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 1, 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sin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1197000"/>
            <a:ext cx="75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6600"/>
                </a:solidFill>
                <a:latin typeface="Bodoni MT"/>
              </a:rPr>
              <a:t>            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a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²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b</a:t>
            </a:r>
            <a:r>
              <a:rPr b="1" i="1" lang="en-US" sz="4800" spc="-1" strike="noStrike">
                <a:solidFill>
                  <a:srgbClr val="000000"/>
                </a:solidFill>
                <a:latin typeface="Bodoni MT"/>
              </a:rPr>
              <a:t>t</a:t>
            </a:r>
            <a:r>
              <a:rPr b="1" i="1" lang="en-US" sz="4800" spc="-1" strike="noStrike">
                <a:solidFill>
                  <a:srgbClr val="3333cc"/>
                </a:solidFill>
                <a:latin typeface="Bodoni MT"/>
              </a:rPr>
              <a:t> + c =0</a:t>
            </a:r>
            <a:r>
              <a:rPr b="0" i="1" lang="en-US" sz="4800" spc="-1" strike="noStrike">
                <a:solidFill>
                  <a:srgbClr val="000000"/>
                </a:solidFill>
                <a:latin typeface="Bodoni MT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3564000" y="2205000"/>
            <a:ext cx="3024000" cy="31046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cos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|t|≤1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 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cosx)=[-1;1]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2205000"/>
            <a:ext cx="2195640" cy="243324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tg</a:t>
            </a:r>
            <a:r>
              <a:rPr b="0" i="1" lang="en-US" sz="4400" spc="-1" strike="noStrike">
                <a:solidFill>
                  <a:srgbClr val="000000"/>
                </a:solidFill>
                <a:latin typeface="Bodoni MT"/>
              </a:rPr>
              <a:t>x</a:t>
            </a:r>
            <a:r>
              <a:rPr b="0" i="1" lang="ru-RU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=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t   R</a:t>
            </a:r>
            <a:r>
              <a:rPr b="0" lang="ru-RU" sz="3600" spc="-1" strike="noStrike">
                <a:solidFill>
                  <a:srgbClr val="000000"/>
                </a:solidFill>
                <a:latin typeface="Bodoni MT"/>
              </a:rPr>
              <a:t>,т.к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doni MT"/>
              </a:rPr>
              <a:t>E(tgx)=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7236000" y="328464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4502160" y="3282840"/>
                <a:ext cx="139680" cy="29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826920" y="1268280"/>
                <a:ext cx="331164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581360" y="1268280"/>
                <a:ext cx="236232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909720" y="1989000"/>
                <a:ext cx="29829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4041720" y="2060640"/>
                <a:ext cx="27338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993600" y="2708280"/>
                <a:ext cx="195120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44640" y="3141720"/>
                <a:ext cx="470196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30240" y="4567320"/>
                <a:ext cx="5419800" cy="90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189000"/>
            <a:ext cx="831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етод введения новой переменной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971640" y="691920"/>
            <a:ext cx="6781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905040" y="5432400"/>
                <a:ext cx="56181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71640" y="115560"/>
            <a:ext cx="67816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Пример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826920" y="620640"/>
                <a:ext cx="22100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792000" y="2276640"/>
                <a:ext cx="190188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y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766800" y="2781360"/>
                <a:ext cx="192888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"/>
              <p:cNvSpPr txBox="1"/>
              <p:nvPr/>
            </p:nvSpPr>
            <p:spPr>
              <a:xfrm>
                <a:off x="792000" y="3201840"/>
                <a:ext cx="104472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689040" y="4786200"/>
                <a:ext cx="52801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762120" y="3922560"/>
                <a:ext cx="4911480" cy="73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770280" y="669960"/>
                <a:ext cx="12765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852480" y="1473120"/>
                <a:ext cx="255276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95760" y="1362240"/>
                <a:ext cx="26478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024360" y="3201840"/>
                <a:ext cx="106668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81120" y="5578560"/>
                <a:ext cx="56196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ФОРМ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урок - презентация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539640" y="2587680"/>
                <a:ext cx="777744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95280" y="868320"/>
                <a:ext cx="2841480" cy="312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3778200" y="836640"/>
                <a:ext cx="244944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3708360" y="17467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Пусть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inx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0" name=""/>
              <p:cNvSpPr txBox="1"/>
              <p:nvPr/>
            </p:nvSpPr>
            <p:spPr>
              <a:xfrm>
                <a:off x="5867280" y="1746360"/>
                <a:ext cx="865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1" name=""/>
          <p:cNvSpPr/>
          <p:nvPr/>
        </p:nvSpPr>
        <p:spPr>
          <a:xfrm>
            <a:off x="3348000" y="2500560"/>
            <a:ext cx="42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-3 не удовлетворяет услов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7442280" y="2631960"/>
                <a:ext cx="94608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≤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3" name=""/>
          <p:cNvSpPr/>
          <p:nvPr/>
        </p:nvSpPr>
        <p:spPr>
          <a:xfrm>
            <a:off x="3350160" y="2307600"/>
            <a:ext cx="200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0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18960" y="3706920"/>
                <a:ext cx="2889360" cy="14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;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224080" y="5311800"/>
                <a:ext cx="393228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k</m:t>
                    </m:r>
                    <m:r>
                      <m:t xml:space="preserve">;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x+bcosx=0 </a:t>
            </a:r>
            <a:r>
              <a:rPr b="0" i="1" lang="en-US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i="1" lang="ru-RU" sz="3200" spc="-1" strike="noStrike">
                <a:solidFill>
                  <a:srgbClr val="703dff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1" lang="ru-RU" sz="3200" spc="-1" strike="noStrike">
                <a:solidFill>
                  <a:srgbClr val="00b2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перв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ения вид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днород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ригонометрическим уравнением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30492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99"/>
                </a:solidFill>
                <a:uFillTx/>
                <a:latin typeface="Times New Roman"/>
              </a:rPr>
              <a:t>Однородные уравне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252520" y="2114640"/>
                <a:ext cx="678024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x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; </m:t>
                    </m:r>
                    <m:r>
                      <m:rPr>
                        <m:lit/>
                        <m:nor/>
                      </m:rPr>
                      <m:t xml:space="preserve">                       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796000" y="1052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"/>
          <p:cNvSpPr/>
          <p:nvPr/>
        </p:nvSpPr>
        <p:spPr>
          <a:xfrm>
            <a:off x="1116000" y="0"/>
            <a:ext cx="7128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так, дано уравнени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sinx+bcosx=0, 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</a:rPr>
              <a:t>где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, b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Arial"/>
              </a:rPr>
              <a:t>≠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делив обе части уравнения почленно н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итоге приходим к простейшем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игонометрическому уравнению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3564000" y="4941720"/>
                <a:ext cx="199548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"/>
              <p:cNvSpPr txBox="1"/>
              <p:nvPr/>
            </p:nvSpPr>
            <p:spPr>
              <a:xfrm>
                <a:off x="2268360" y="3284640"/>
                <a:ext cx="250848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tgx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>
    <p:split dir="in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-171720"/>
            <a:ext cx="687096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Приме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8893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3399"/>
                </a:solidFill>
                <a:latin typeface="Times New Roman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sinx-3cosx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Разделив обе части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членно н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,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учим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-3=0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gx=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=arctg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ctg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</a:rPr>
              <a:t>1,5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Z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796000" y="2637000"/>
                <a:ext cx="6001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шите самостоятельно уравнение: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in2x+cos2x=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16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250920" y="404640"/>
            <a:ext cx="7999200" cy="17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членно разделив обе    части    уравнения на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os2x≠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олучим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309760" y="1628640"/>
                <a:ext cx="3632400" cy="384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π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2411280" y="5300640"/>
                <a:ext cx="460872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"/>
          <p:cNvSpPr/>
          <p:nvPr/>
        </p:nvSpPr>
        <p:spPr>
          <a:xfrm>
            <a:off x="324000" y="620640"/>
            <a:ext cx="72723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"/>
          <p:cNvSpPr/>
          <p:nvPr/>
        </p:nvSpPr>
        <p:spPr>
          <a:xfrm>
            <a:off x="684360" y="836640"/>
            <a:ext cx="7632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Times New Roman"/>
              </a:rPr>
              <a:t>Рассмотрим  однородное тригонометрическое уравнение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второй степен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asin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+bsinxcosx+ccos</a:t>
            </a:r>
            <a:r>
              <a:rPr b="1" i="1" lang="en-US" sz="40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4000" spc="-1" strike="noStrike">
                <a:solidFill>
                  <a:srgbClr val="000066"/>
                </a:solidFill>
                <a:latin typeface="Times New Roman"/>
              </a:rPr>
              <a:t>x=0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181080" y="333360"/>
            <a:ext cx="8748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лгоритм решения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днородных тригонометрических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равнений второй степен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351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мотреть, есть ли в уравнении член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i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содержится, то есть а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0, то уравнение решается делением обеих его частей н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 последующим введением новой переменно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z=tg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этот член не содержится, то есть а=0, то уравнение решается методом разложения на множители: за скобки выносят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s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-243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римеры</a:t>
            </a:r>
            <a:br>
              <a:rPr sz="2400"/>
            </a:b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 №1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-3sinxcosx+2co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x=0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55280" y="1412640"/>
            <a:ext cx="7846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Решение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1" i="1" lang="uk-UA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sinxcosx+2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0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/÷cos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≠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-3tgx+2=0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ведем новую переменную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=tgx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-3z+2=0;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1, z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2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1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/4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, n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tgx=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=arctg2 +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, k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є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i="1" lang="uk-UA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arctg2 + </a:t>
            </a:r>
            <a:r>
              <a:rPr b="1" i="1" lang="el-GR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π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k, k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 є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043080" y="5300640"/>
                <a:ext cx="4176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знакомить учащихся с общей схемой решения тригонометрических уравнений различных типов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ормировать умения решать тригонометрические уравнения,  приводимые к квадратным и однородные уравнени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08524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№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ешить уравнение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√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  <a:ea typeface="Arial"/>
              </a:rPr>
              <a:t>3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sinxcosx+cos</a:t>
            </a:r>
            <a:r>
              <a:rPr b="1" i="1" lang="ru-RU" sz="3200" spc="-1" strike="noStrike" baseline="30000">
                <a:solidFill>
                  <a:srgbClr val="000066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66"/>
                </a:solidFill>
                <a:latin typeface="Times New Roman"/>
              </a:rPr>
              <a:t>x=0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2268360" y="1278000"/>
                <a:ext cx="3600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4" name=""/>
              <p:cNvSpPr txBox="1"/>
              <p:nvPr/>
            </p:nvSpPr>
            <p:spPr>
              <a:xfrm>
                <a:off x="755640" y="2060640"/>
                <a:ext cx="129852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379600" y="2133720"/>
                <a:ext cx="75240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ил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449520" y="2025720"/>
                <a:ext cx="24386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6486480" y="2006640"/>
                <a:ext cx="1790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÷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479520" y="2335320"/>
                <a:ext cx="27064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3360600" y="2494080"/>
                <a:ext cx="21574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3448080" y="2982960"/>
                <a:ext cx="188424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3503520" y="3774960"/>
                <a:ext cx="4226040" cy="10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3560760" y="4567320"/>
                <a:ext cx="2981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87480" y="5359320"/>
                <a:ext cx="578016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Ответ</m:t>
                    </m:r>
                    <m:r>
                      <m:t xml:space="preserve">: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4" name=""/>
          <p:cNvSpPr/>
          <p:nvPr/>
        </p:nvSpPr>
        <p:spPr>
          <a:xfrm>
            <a:off x="324000" y="1341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>
            <a:off x="3059280" y="765000"/>
            <a:ext cx="142560" cy="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шите самостоятельн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98520" y="2789280"/>
                <a:ext cx="81342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2123640" y="189000"/>
            <a:ext cx="40388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Garamond"/>
              </a:rPr>
              <a:t>Решени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608040" y="907920"/>
                <a:ext cx="5626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6399360" y="907920"/>
                <a:ext cx="189072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: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611280" y="1557360"/>
                <a:ext cx="3216240" cy="248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g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y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1,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π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4641840" y="2544840"/>
                <a:ext cx="3824280" cy="26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3851280" y="1628640"/>
                <a:ext cx="2808360" cy="4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замена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=</m:t>
                    </m:r>
                    <m:r>
                      <m:t xml:space="preserve">y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1091520" y="586188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Ответ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5965920" y="5589720"/>
                <a:ext cx="2566800" cy="10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k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1" name=""/>
          <p:cNvSpPr/>
          <p:nvPr/>
        </p:nvSpPr>
        <p:spPr>
          <a:xfrm>
            <a:off x="0" y="36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2486160" y="5925960"/>
                <a:ext cx="3309840" cy="5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ctg</m:t>
                    </m:r>
                    <m:r>
                      <m:t xml:space="preserve">1,5</m:t>
                    </m:r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ите урав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62000" y="1413000"/>
                <a:ext cx="5365800" cy="67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944640" y="2852640"/>
                <a:ext cx="71834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74600" y="4348080"/>
                <a:ext cx="461988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Среди предложенных уравнений выберите уравнения, приводимые к квадратным и однородные уравнения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24000" y="1773360"/>
                <a:ext cx="5832720" cy="43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;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tg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50920" y="2852640"/>
                <a:ext cx="33130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р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урав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">
            <a:hlinkClick r:id="rId2" action="ppaction://hlinksldjump"/>
          </p:cNvPr>
          <p:cNvSpPr/>
          <p:nvPr/>
        </p:nvSpPr>
        <p:spPr>
          <a:xfrm>
            <a:off x="3708360" y="2781360"/>
            <a:ext cx="5113440" cy="792000"/>
          </a:xfrm>
          <a:custGeom>
            <a:avLst/>
            <a:gdLst>
              <a:gd name="textAreaLeft" fmla="*/ 51120 w 5113440"/>
              <a:gd name="textAreaRight" fmla="*/ 5062320 w 51134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404" h="21600">
                <a:moveTo>
                  <a:pt x="0" y="0"/>
                </a:moveTo>
                <a:lnTo>
                  <a:pt x="139404" y="0"/>
                </a:lnTo>
                <a:lnTo>
                  <a:pt x="139404" y="21600"/>
                </a:lnTo>
                <a:lnTo>
                  <a:pt x="0" y="21600"/>
                </a:lnTo>
                <a:close/>
              </a:path>
              <a:path fill="lightenLess" w="139404" h="21600">
                <a:moveTo>
                  <a:pt x="0" y="0"/>
                </a:moveTo>
                <a:lnTo>
                  <a:pt x="139404" y="0"/>
                </a:lnTo>
                <a:lnTo>
                  <a:pt x="138004" y="1400"/>
                </a:lnTo>
                <a:lnTo>
                  <a:pt x="1400" y="1400"/>
                </a:lnTo>
                <a:close/>
              </a:path>
              <a:path fill="darken" w="139404" h="21600">
                <a:moveTo>
                  <a:pt x="139404" y="0"/>
                </a:moveTo>
                <a:lnTo>
                  <a:pt x="139404" y="21600"/>
                </a:lnTo>
                <a:lnTo>
                  <a:pt x="138004" y="20200"/>
                </a:lnTo>
                <a:lnTo>
                  <a:pt x="138004" y="1400"/>
                </a:lnTo>
                <a:close/>
              </a:path>
              <a:path fill="darkenLess" w="139404" h="21600">
                <a:moveTo>
                  <a:pt x="139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8004" y="20200"/>
                </a:lnTo>
                <a:close/>
              </a:path>
              <a:path fill="lighten" w="139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">
            <a:hlinkClick r:id="rId4" action="ppaction://hlinksldjump"/>
          </p:cNvPr>
          <p:cNvSpPr/>
          <p:nvPr/>
        </p:nvSpPr>
        <p:spPr>
          <a:xfrm>
            <a:off x="3635280" y="5373720"/>
            <a:ext cx="5257800" cy="792000"/>
          </a:xfrm>
          <a:custGeom>
            <a:avLst/>
            <a:gdLst>
              <a:gd name="textAreaLeft" fmla="*/ 51120 w 5257800"/>
              <a:gd name="textAreaRight" fmla="*/ 5206680 w 52578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39" h="21600">
                <a:moveTo>
                  <a:pt x="0" y="0"/>
                </a:moveTo>
                <a:lnTo>
                  <a:pt x="143339" y="0"/>
                </a:lnTo>
                <a:lnTo>
                  <a:pt x="143339" y="21600"/>
                </a:lnTo>
                <a:lnTo>
                  <a:pt x="0" y="21600"/>
                </a:lnTo>
                <a:close/>
              </a:path>
              <a:path fill="lightenLess" w="143339" h="21600">
                <a:moveTo>
                  <a:pt x="0" y="0"/>
                </a:moveTo>
                <a:lnTo>
                  <a:pt x="143339" y="0"/>
                </a:lnTo>
                <a:lnTo>
                  <a:pt x="141939" y="1400"/>
                </a:lnTo>
                <a:lnTo>
                  <a:pt x="1400" y="1400"/>
                </a:lnTo>
                <a:close/>
              </a:path>
              <a:path fill="darken" w="143339" h="21600">
                <a:moveTo>
                  <a:pt x="143339" y="0"/>
                </a:moveTo>
                <a:lnTo>
                  <a:pt x="143339" y="21600"/>
                </a:lnTo>
                <a:lnTo>
                  <a:pt x="141939" y="20200"/>
                </a:lnTo>
                <a:lnTo>
                  <a:pt x="141939" y="1400"/>
                </a:lnTo>
                <a:close/>
              </a:path>
              <a:path fill="darkenLess" w="143339" h="21600">
                <a:moveTo>
                  <a:pt x="143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39" y="20200"/>
                </a:lnTo>
                <a:close/>
              </a:path>
              <a:path fill="lighten" w="143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0" y="2870280"/>
                <a:ext cx="37083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-360" y="1989000"/>
            <a:ext cx="889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рвый шаг к успеху при решении тригонометрических уравнений – это умение решать простейшие тригонометрические уравнения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">
            <a:hlinkClick r:id="rId1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">
            <a:hlinkClick r:id="rId2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0" y="2854440"/>
                <a:ext cx="378000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0" y="2205000"/>
                <a:ext cx="5148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"/>
          <p:cNvSpPr/>
          <p:nvPr/>
        </p:nvSpPr>
        <p:spPr>
          <a:xfrm>
            <a:off x="2484360" y="4221000"/>
            <a:ext cx="4032360" cy="1224000"/>
          </a:xfrm>
          <a:custGeom>
            <a:avLst/>
            <a:gdLst>
              <a:gd name="textAreaLeft" fmla="*/ 79200 w 4032360"/>
              <a:gd name="textAreaRight" fmla="*/ 3953160 w 403236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45" h="21600">
                <a:moveTo>
                  <a:pt x="0" y="0"/>
                </a:moveTo>
                <a:lnTo>
                  <a:pt x="71145" y="0"/>
                </a:lnTo>
                <a:lnTo>
                  <a:pt x="71145" y="21600"/>
                </a:lnTo>
                <a:lnTo>
                  <a:pt x="0" y="21600"/>
                </a:lnTo>
                <a:close/>
              </a:path>
              <a:path fill="lightenLess" w="71145" h="21600">
                <a:moveTo>
                  <a:pt x="0" y="0"/>
                </a:moveTo>
                <a:lnTo>
                  <a:pt x="71145" y="0"/>
                </a:lnTo>
                <a:lnTo>
                  <a:pt x="69745" y="1400"/>
                </a:lnTo>
                <a:lnTo>
                  <a:pt x="1400" y="1400"/>
                </a:lnTo>
                <a:close/>
              </a:path>
              <a:path fill="darken" w="71145" h="21600">
                <a:moveTo>
                  <a:pt x="71145" y="0"/>
                </a:moveTo>
                <a:lnTo>
                  <a:pt x="71145" y="21600"/>
                </a:lnTo>
                <a:lnTo>
                  <a:pt x="69745" y="20200"/>
                </a:lnTo>
                <a:lnTo>
                  <a:pt x="69745" y="1400"/>
                </a:lnTo>
                <a:close/>
              </a:path>
              <a:path fill="darkenLess" w="71145" h="21600">
                <a:moveTo>
                  <a:pt x="71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45" y="20200"/>
                </a:lnTo>
                <a:close/>
              </a:path>
              <a:path fill="lighten" w="71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">
            <a:hlinkClick r:id="rId1" action="ppaction://hlinksldjump"/>
          </p:cNvPr>
          <p:cNvSpPr/>
          <p:nvPr/>
        </p:nvSpPr>
        <p:spPr>
          <a:xfrm>
            <a:off x="2268360" y="443700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0" y="2924280"/>
                <a:ext cx="37083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87138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Тригонометрическими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3333cc"/>
                </a:solidFill>
                <a:uFillTx/>
                <a:latin typeface="Times New Roman"/>
              </a:rPr>
              <a:t> уравнения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ывают уравнения, в которых переменная содержится под знаками тригонометрических функций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их числу прежде всего относятся простейшие тригонометрические уравнения, т.е. уравнения вид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x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, cosx=a, tgx=a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тельн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>
            <a:hlinkClick r:id="rId1" action="ppaction://hlinksldjump"/>
          </p:cNvPr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">
            <a:hlinkClick r:id="rId2" action="ppaction://hlinksldjump"/>
          </p:cNvPr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">
            <a:hlinkClick r:id="rId3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">
            <a:hlinkClick r:id="rId4" action="ppaction://hlinksldjump"/>
          </p:cNvPr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">
            <a:hlinkClick r:id="rId5" action="ppaction://hlinksldjump"/>
          </p:cNvPr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"/>
              <p:cNvSpPr txBox="1"/>
              <p:nvPr/>
            </p:nvSpPr>
            <p:spPr>
              <a:xfrm>
                <a:off x="0" y="2781360"/>
                <a:ext cx="3851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"/>
          <p:cNvSpPr/>
          <p:nvPr/>
        </p:nvSpPr>
        <p:spPr>
          <a:xfrm>
            <a:off x="2556000" y="4365720"/>
            <a:ext cx="4032000" cy="1224000"/>
          </a:xfrm>
          <a:custGeom>
            <a:avLst/>
            <a:gdLst>
              <a:gd name="textAreaLeft" fmla="*/ 79200 w 4032000"/>
              <a:gd name="textAreaRight" fmla="*/ 3952800 w 403200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71138" h="21600">
                <a:moveTo>
                  <a:pt x="0" y="0"/>
                </a:moveTo>
                <a:lnTo>
                  <a:pt x="71138" y="0"/>
                </a:lnTo>
                <a:lnTo>
                  <a:pt x="71138" y="21600"/>
                </a:lnTo>
                <a:lnTo>
                  <a:pt x="0" y="21600"/>
                </a:lnTo>
                <a:close/>
              </a:path>
              <a:path fill="lightenLess" w="71138" h="21600">
                <a:moveTo>
                  <a:pt x="0" y="0"/>
                </a:moveTo>
                <a:lnTo>
                  <a:pt x="71138" y="0"/>
                </a:lnTo>
                <a:lnTo>
                  <a:pt x="69738" y="1400"/>
                </a:lnTo>
                <a:lnTo>
                  <a:pt x="1400" y="1400"/>
                </a:lnTo>
                <a:close/>
              </a:path>
              <a:path fill="darken" w="71138" h="21600">
                <a:moveTo>
                  <a:pt x="71138" y="0"/>
                </a:moveTo>
                <a:lnTo>
                  <a:pt x="71138" y="21600"/>
                </a:lnTo>
                <a:lnTo>
                  <a:pt x="69738" y="20200"/>
                </a:lnTo>
                <a:lnTo>
                  <a:pt x="69738" y="1400"/>
                </a:lnTo>
                <a:close/>
              </a:path>
              <a:path fill="darkenLess" w="71138" h="21600">
                <a:moveTo>
                  <a:pt x="711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38" y="20200"/>
                </a:lnTo>
                <a:close/>
              </a:path>
              <a:path fill="lighten" w="711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ле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">
            <a:hlinkClick r:id="rId1" action="ppaction://hlinksldjump"/>
          </p:cNvPr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780000" y="1484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однород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780000" y="278136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квадратное тр. уравн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">
            <a:hlinkClick r:id="rId1" action="ppaction://hlinksldjump"/>
          </p:cNvPr>
          <p:cNvSpPr/>
          <p:nvPr/>
        </p:nvSpPr>
        <p:spPr>
          <a:xfrm>
            <a:off x="3708360" y="4149720"/>
            <a:ext cx="5256360" cy="792000"/>
          </a:xfrm>
          <a:custGeom>
            <a:avLst/>
            <a:gdLst>
              <a:gd name="textAreaLeft" fmla="*/ 51120 w 5256360"/>
              <a:gd name="textAreaRight" fmla="*/ 5205240 w 525636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43300" h="21600">
                <a:moveTo>
                  <a:pt x="0" y="0"/>
                </a:moveTo>
                <a:lnTo>
                  <a:pt x="143300" y="0"/>
                </a:lnTo>
                <a:lnTo>
                  <a:pt x="143300" y="21600"/>
                </a:lnTo>
                <a:lnTo>
                  <a:pt x="0" y="21600"/>
                </a:lnTo>
                <a:close/>
              </a:path>
              <a:path fill="lightenLess" w="143300" h="21600">
                <a:moveTo>
                  <a:pt x="0" y="0"/>
                </a:moveTo>
                <a:lnTo>
                  <a:pt x="143300" y="0"/>
                </a:lnTo>
                <a:lnTo>
                  <a:pt x="141900" y="1400"/>
                </a:lnTo>
                <a:lnTo>
                  <a:pt x="1400" y="1400"/>
                </a:lnTo>
                <a:close/>
              </a:path>
              <a:path fill="darken" w="143300" h="21600">
                <a:moveTo>
                  <a:pt x="143300" y="0"/>
                </a:moveTo>
                <a:lnTo>
                  <a:pt x="143300" y="21600"/>
                </a:lnTo>
                <a:lnTo>
                  <a:pt x="141900" y="20200"/>
                </a:lnTo>
                <a:lnTo>
                  <a:pt x="141900" y="1400"/>
                </a:lnTo>
                <a:close/>
              </a:path>
              <a:path fill="darkenLess" w="143300" h="21600">
                <a:moveTo>
                  <a:pt x="1433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1900" y="20200"/>
                </a:lnTo>
                <a:close/>
              </a:path>
              <a:path fill="lighten" w="1433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риводящиеся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к кв.тр.урав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"/>
          <p:cNvSpPr/>
          <p:nvPr/>
        </p:nvSpPr>
        <p:spPr>
          <a:xfrm>
            <a:off x="3780000" y="5373720"/>
            <a:ext cx="5113080" cy="792000"/>
          </a:xfrm>
          <a:custGeom>
            <a:avLst/>
            <a:gdLst>
              <a:gd name="textAreaLeft" fmla="*/ 51120 w 5113080"/>
              <a:gd name="textAreaRight" fmla="*/ 5061960 w 51130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39394" h="21600">
                <a:moveTo>
                  <a:pt x="0" y="0"/>
                </a:moveTo>
                <a:lnTo>
                  <a:pt x="139394" y="0"/>
                </a:lnTo>
                <a:lnTo>
                  <a:pt x="139394" y="21600"/>
                </a:lnTo>
                <a:lnTo>
                  <a:pt x="0" y="21600"/>
                </a:lnTo>
                <a:close/>
              </a:path>
              <a:path fill="lightenLess" w="139394" h="21600">
                <a:moveTo>
                  <a:pt x="0" y="0"/>
                </a:moveTo>
                <a:lnTo>
                  <a:pt x="139394" y="0"/>
                </a:lnTo>
                <a:lnTo>
                  <a:pt x="137994" y="1400"/>
                </a:lnTo>
                <a:lnTo>
                  <a:pt x="1400" y="1400"/>
                </a:lnTo>
                <a:close/>
              </a:path>
              <a:path fill="darken" w="139394" h="21600">
                <a:moveTo>
                  <a:pt x="139394" y="0"/>
                </a:moveTo>
                <a:lnTo>
                  <a:pt x="139394" y="21600"/>
                </a:lnTo>
                <a:lnTo>
                  <a:pt x="137994" y="20200"/>
                </a:lnTo>
                <a:lnTo>
                  <a:pt x="137994" y="1400"/>
                </a:lnTo>
                <a:close/>
              </a:path>
              <a:path fill="darkenLess" w="139394" h="21600">
                <a:moveTo>
                  <a:pt x="13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994" y="20200"/>
                </a:lnTo>
                <a:close/>
              </a:path>
              <a:path fill="lighten" w="13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иводимое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к однородному тр. у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"/>
          <p:cNvSpPr/>
          <p:nvPr/>
        </p:nvSpPr>
        <p:spPr>
          <a:xfrm>
            <a:off x="3780000" y="260280"/>
            <a:ext cx="5111640" cy="792360"/>
          </a:xfrm>
          <a:custGeom>
            <a:avLst/>
            <a:gdLst>
              <a:gd name="textAreaLeft" fmla="*/ 51120 w 5111640"/>
              <a:gd name="textAreaRight" fmla="*/ 5060520 w 511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139292" h="21600">
                <a:moveTo>
                  <a:pt x="0" y="0"/>
                </a:moveTo>
                <a:lnTo>
                  <a:pt x="139292" y="0"/>
                </a:lnTo>
                <a:lnTo>
                  <a:pt x="139292" y="21600"/>
                </a:lnTo>
                <a:lnTo>
                  <a:pt x="0" y="21600"/>
                </a:lnTo>
                <a:close/>
              </a:path>
              <a:path fill="lightenLess" w="139292" h="21600">
                <a:moveTo>
                  <a:pt x="0" y="0"/>
                </a:moveTo>
                <a:lnTo>
                  <a:pt x="139292" y="0"/>
                </a:lnTo>
                <a:lnTo>
                  <a:pt x="137892" y="1400"/>
                </a:lnTo>
                <a:lnTo>
                  <a:pt x="1400" y="1400"/>
                </a:lnTo>
                <a:close/>
              </a:path>
              <a:path fill="darken" w="139292" h="21600">
                <a:moveTo>
                  <a:pt x="139292" y="0"/>
                </a:moveTo>
                <a:lnTo>
                  <a:pt x="139292" y="21600"/>
                </a:lnTo>
                <a:lnTo>
                  <a:pt x="137892" y="20200"/>
                </a:lnTo>
                <a:lnTo>
                  <a:pt x="137892" y="1400"/>
                </a:lnTo>
                <a:close/>
              </a:path>
              <a:path fill="darkenLess" w="139292" h="21600">
                <a:moveTo>
                  <a:pt x="139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7892" y="20200"/>
                </a:lnTo>
                <a:close/>
              </a:path>
              <a:path fill="lighten" w="139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33cc33"/>
              </a:gs>
              <a:gs pos="100000">
                <a:srgbClr val="008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еизвестный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тип тр. урав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0" y="2781360"/>
                <a:ext cx="37083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tg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tg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611280" y="981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ВЕРНО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4149720"/>
            <a:ext cx="4032360" cy="1008000"/>
          </a:xfrm>
          <a:custGeom>
            <a:avLst/>
            <a:gdLst>
              <a:gd name="textAreaLeft" fmla="*/ 65160 w 4032360"/>
              <a:gd name="textAreaRight" fmla="*/ 3967200 w 403236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86385" h="21600">
                <a:moveTo>
                  <a:pt x="0" y="0"/>
                </a:moveTo>
                <a:lnTo>
                  <a:pt x="86385" y="0"/>
                </a:lnTo>
                <a:lnTo>
                  <a:pt x="86385" y="21600"/>
                </a:lnTo>
                <a:lnTo>
                  <a:pt x="0" y="21600"/>
                </a:lnTo>
                <a:close/>
              </a:path>
              <a:path fill="lightenLess" w="86385" h="21600">
                <a:moveTo>
                  <a:pt x="0" y="0"/>
                </a:moveTo>
                <a:lnTo>
                  <a:pt x="86385" y="0"/>
                </a:lnTo>
                <a:lnTo>
                  <a:pt x="84985" y="1400"/>
                </a:lnTo>
                <a:lnTo>
                  <a:pt x="1400" y="1400"/>
                </a:lnTo>
                <a:close/>
              </a:path>
              <a:path fill="darken" w="86385" h="21600">
                <a:moveTo>
                  <a:pt x="86385" y="0"/>
                </a:moveTo>
                <a:lnTo>
                  <a:pt x="86385" y="21600"/>
                </a:lnTo>
                <a:lnTo>
                  <a:pt x="84985" y="20200"/>
                </a:lnTo>
                <a:lnTo>
                  <a:pt x="84985" y="1400"/>
                </a:lnTo>
                <a:close/>
              </a:path>
              <a:path fill="darkenLess" w="86385" h="21600">
                <a:moveTo>
                  <a:pt x="863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5" y="20200"/>
                </a:lnTo>
                <a:close/>
              </a:path>
              <a:path fill="lighten" w="863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Подумайт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"/>
          <p:cNvSpPr/>
          <p:nvPr/>
        </p:nvSpPr>
        <p:spPr>
          <a:xfrm>
            <a:off x="2268360" y="4724280"/>
            <a:ext cx="4824720" cy="936720"/>
          </a:xfrm>
          <a:custGeom>
            <a:avLst/>
            <a:gdLst>
              <a:gd name="textAreaLeft" fmla="*/ 60480 w 4824720"/>
              <a:gd name="textAreaRight" fmla="*/ 4764240 w 482472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111220" h="21600">
                <a:moveTo>
                  <a:pt x="0" y="0"/>
                </a:moveTo>
                <a:lnTo>
                  <a:pt x="111220" y="0"/>
                </a:lnTo>
                <a:lnTo>
                  <a:pt x="111220" y="21600"/>
                </a:lnTo>
                <a:lnTo>
                  <a:pt x="0" y="21600"/>
                </a:lnTo>
                <a:close/>
              </a:path>
              <a:path fill="lightenLess" w="111220" h="21600">
                <a:moveTo>
                  <a:pt x="0" y="0"/>
                </a:moveTo>
                <a:lnTo>
                  <a:pt x="111220" y="0"/>
                </a:lnTo>
                <a:lnTo>
                  <a:pt x="109820" y="1400"/>
                </a:lnTo>
                <a:lnTo>
                  <a:pt x="1400" y="1400"/>
                </a:lnTo>
                <a:close/>
              </a:path>
              <a:path fill="darken" w="111220" h="21600">
                <a:moveTo>
                  <a:pt x="111220" y="0"/>
                </a:moveTo>
                <a:lnTo>
                  <a:pt x="111220" y="21600"/>
                </a:lnTo>
                <a:lnTo>
                  <a:pt x="109820" y="20200"/>
                </a:lnTo>
                <a:lnTo>
                  <a:pt x="109820" y="1400"/>
                </a:lnTo>
                <a:close/>
              </a:path>
              <a:path fill="darkenLess" w="111220" h="21600">
                <a:moveTo>
                  <a:pt x="111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820" y="20200"/>
                </a:lnTo>
                <a:close/>
              </a:path>
              <a:path fill="lighten" w="111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ернуться к задан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696080" cy="42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п.39 – выучить; №466(а,б,в,г)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                              №</a:t>
            </a: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467(г,д,е,ж*).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920" y="-171360"/>
            <a:ext cx="687096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К настоящему моменту мы знаем, что: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6960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cosx=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±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cosa+2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 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inx=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(-1)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Times New Roman"/>
              </a:rPr>
              <a:t>n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rcsin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, 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, что то же самое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arcsina+2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,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arcsina+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k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&gt;1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уравнения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sx=a, sinx=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е имеют решений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ения уравнения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tgx=a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любого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меют вид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x=arctga+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π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i="1" lang="uk-UA" sz="2400" spc="-1" strike="noStrike">
                <a:solidFill>
                  <a:srgbClr val="ff0000"/>
                </a:solidFill>
                <a:latin typeface="Times New Roman"/>
              </a:rPr>
              <a:t>є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Z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360" y="-92520"/>
            <a:ext cx="7270560" cy="7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собо важны частные случаи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79640" y="1125360"/>
                <a:ext cx="1512720" cy="49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22480" y="1878120"/>
                <a:ext cx="141444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08080" y="2781360"/>
                <a:ext cx="1596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2022480" y="378936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006640" y="4653000"/>
                <a:ext cx="14572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2022480" y="5516640"/>
                <a:ext cx="17175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654440" y="1197000"/>
                <a:ext cx="214164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654440" y="1541520"/>
                <a:ext cx="300528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640400" y="2478240"/>
                <a:ext cx="317628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54440" y="3484440"/>
                <a:ext cx="27892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51200" y="4610160"/>
                <a:ext cx="25099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4665600" y="5516640"/>
                <a:ext cx="3084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26" name=""/>
          <p:cNvGrpSpPr/>
          <p:nvPr/>
        </p:nvGrpSpPr>
        <p:grpSpPr>
          <a:xfrm>
            <a:off x="3708360" y="2490840"/>
            <a:ext cx="4176720" cy="873000"/>
            <a:chOff x="3708360" y="2490840"/>
            <a:chExt cx="4176720" cy="873000"/>
          </a:xfrm>
        </p:grpSpPr>
        <p:sp>
          <p:nvSpPr>
            <p:cNvPr id="227" name="">
              <a:hlinkClick r:id="" action="ppaction://hlinkshowjump?jump=nextslide"/>
            </p:cNvPr>
            <p:cNvSpPr/>
            <p:nvPr/>
          </p:nvSpPr>
          <p:spPr>
            <a:xfrm>
              <a:off x="3708360" y="256536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8" name=""/>
                <p:cNvSpPr txBox="1"/>
                <p:nvPr/>
              </p:nvSpPr>
              <p:spPr>
                <a:xfrm>
                  <a:off x="4046400" y="2490840"/>
                  <a:ext cx="27576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29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30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1" name=""/>
                <p:cNvSpPr txBox="1"/>
                <p:nvPr/>
              </p:nvSpPr>
              <p:spPr>
                <a:xfrm>
                  <a:off x="3995640" y="1484280"/>
                  <a:ext cx="3600720" cy="7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πn</m:t>
                      </m:r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2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33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36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7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e600"/>
            </a:gs>
            <a:gs pos="100000">
              <a:srgbClr val="66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604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Найдите ошибку </a:t>
            </a:r>
            <a:br>
              <a:rPr sz="3200"/>
            </a:b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и назовите правильный ответ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1547640" y="1492200"/>
                <a:ext cx="151164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3708360" y="2567160"/>
            <a:ext cx="4176720" cy="792000"/>
          </a:xfrm>
          <a:custGeom>
            <a:avLst/>
            <a:gdLst>
              <a:gd name="textAreaLeft" fmla="*/ 51120 w 4176720"/>
              <a:gd name="textAreaRight" fmla="*/ 4125600 w 417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113869" h="21600">
                <a:moveTo>
                  <a:pt x="0" y="0"/>
                </a:moveTo>
                <a:lnTo>
                  <a:pt x="113869" y="0"/>
                </a:lnTo>
                <a:lnTo>
                  <a:pt x="113869" y="21600"/>
                </a:lnTo>
                <a:lnTo>
                  <a:pt x="0" y="21600"/>
                </a:lnTo>
                <a:close/>
              </a:path>
              <a:path fill="lightenLess" w="113869" h="21600">
                <a:moveTo>
                  <a:pt x="0" y="0"/>
                </a:moveTo>
                <a:lnTo>
                  <a:pt x="113869" y="0"/>
                </a:lnTo>
                <a:lnTo>
                  <a:pt x="112469" y="1400"/>
                </a:lnTo>
                <a:lnTo>
                  <a:pt x="1400" y="1400"/>
                </a:lnTo>
                <a:close/>
              </a:path>
              <a:path fill="darken" w="113869" h="21600">
                <a:moveTo>
                  <a:pt x="113869" y="0"/>
                </a:moveTo>
                <a:lnTo>
                  <a:pt x="113869" y="21600"/>
                </a:lnTo>
                <a:lnTo>
                  <a:pt x="112469" y="20200"/>
                </a:lnTo>
                <a:lnTo>
                  <a:pt x="112469" y="1400"/>
                </a:lnTo>
                <a:close/>
              </a:path>
              <a:path fill="darkenLess" w="113869" h="21600">
                <a:moveTo>
                  <a:pt x="1138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2469" y="20200"/>
                </a:lnTo>
                <a:close/>
              </a:path>
              <a:path fill="lighten" w="1138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046400" y="2492280"/>
                <a:ext cx="275760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±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r>
                      <m:t xml:space="preserve">πn</m:t>
                    </m:r>
                    <m:r>
                      <m:t xml:space="preserve">,</m:t>
                    </m:r>
                    <m:r>
                      <m:t xml:space="preserve">n</m:t>
                    </m:r>
                    <m:r>
                      <m:t xml:space="preserve">∈</m:t>
                    </m:r>
                    <m:r>
                      <m:t xml:space="preserve">Z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5" name=""/>
          <p:cNvGrpSpPr/>
          <p:nvPr/>
        </p:nvGrpSpPr>
        <p:grpSpPr>
          <a:xfrm>
            <a:off x="3708360" y="1484280"/>
            <a:ext cx="4176720" cy="792360"/>
            <a:chOff x="3708360" y="1484280"/>
            <a:chExt cx="4176720" cy="792360"/>
          </a:xfrm>
        </p:grpSpPr>
        <p:sp>
          <p:nvSpPr>
            <p:cNvPr id="246" name="">
              <a:hlinkClick r:id="" action="ppaction://hlinkshowjump?jump=nextslide"/>
            </p:cNvPr>
            <p:cNvSpPr/>
            <p:nvPr/>
          </p:nvSpPr>
          <p:spPr>
            <a:xfrm>
              <a:off x="3708360" y="148428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gradFill rotWithShape="0">
              <a:gsLst>
                <a:gs pos="0">
                  <a:srgbClr val="1dff1d"/>
                </a:gs>
                <a:gs pos="100000">
                  <a:srgbClr val="0d75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7" name=""/>
                <p:cNvSpPr txBox="1"/>
                <p:nvPr/>
              </p:nvSpPr>
              <p:spPr>
                <a:xfrm>
                  <a:off x="3995640" y="1514520"/>
                  <a:ext cx="3600720" cy="71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n</m:t>
                          </m:r>
                        </m:sup>
                      </m:sSup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rPr>
                          <m:lit/>
                          <m:nor/>
                        </m:rPr>
                        <m:t xml:space="preserve">arcsin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t xml:space="preserve">πn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r>
                        <m:t xml:space="preserve">;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48" name=""/>
          <p:cNvGrpSpPr/>
          <p:nvPr/>
        </p:nvGrpSpPr>
        <p:grpSpPr>
          <a:xfrm>
            <a:off x="3708360" y="3573360"/>
            <a:ext cx="4176720" cy="893880"/>
            <a:chOff x="3708360" y="3573360"/>
            <a:chExt cx="4176720" cy="893880"/>
          </a:xfrm>
        </p:grpSpPr>
        <p:sp>
          <p:nvSpPr>
            <p:cNvPr id="249" name="">
              <a:hlinkClick r:id="" action="ppaction://hlinkshowjump?jump=nextslide"/>
            </p:cNvPr>
            <p:cNvSpPr/>
            <p:nvPr/>
          </p:nvSpPr>
          <p:spPr>
            <a:xfrm>
              <a:off x="3708360" y="3645000"/>
              <a:ext cx="4176720" cy="79200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000"/>
                <a:gd name="textAreaBottom" fmla="*/ 740880 h 792000"/>
              </a:gdLst>
              <a:ahLst/>
              <a:rect l="textAreaLeft" t="textAreaTop" r="textAreaRight" b="textAreaBottom"/>
              <a:pathLst>
                <a:path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3869" y="21600"/>
                  </a:lnTo>
                  <a:lnTo>
                    <a:pt x="0" y="21600"/>
                  </a:lnTo>
                  <a:close/>
                </a:path>
                <a:path fill="lightenLess" w="113869" h="21600">
                  <a:moveTo>
                    <a:pt x="0" y="0"/>
                  </a:moveTo>
                  <a:lnTo>
                    <a:pt x="113869" y="0"/>
                  </a:lnTo>
                  <a:lnTo>
                    <a:pt x="112469" y="1400"/>
                  </a:lnTo>
                  <a:lnTo>
                    <a:pt x="1400" y="1400"/>
                  </a:lnTo>
                  <a:close/>
                </a:path>
                <a:path fill="darken" w="113869" h="21600">
                  <a:moveTo>
                    <a:pt x="113869" y="0"/>
                  </a:moveTo>
                  <a:lnTo>
                    <a:pt x="113869" y="21600"/>
                  </a:lnTo>
                  <a:lnTo>
                    <a:pt x="112469" y="20200"/>
                  </a:lnTo>
                  <a:lnTo>
                    <a:pt x="112469" y="1400"/>
                  </a:lnTo>
                  <a:close/>
                </a:path>
                <a:path fill="darkenLess" w="113869" h="21600">
                  <a:moveTo>
                    <a:pt x="11386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69" y="20200"/>
                  </a:lnTo>
                  <a:close/>
                </a:path>
                <a:path fill="lighten" w="11386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0" name=""/>
                <p:cNvSpPr txBox="1"/>
                <p:nvPr/>
              </p:nvSpPr>
              <p:spPr>
                <a:xfrm>
                  <a:off x="3780000" y="3573360"/>
                  <a:ext cx="3022560" cy="893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k</m:t>
                      </m:r>
                      <m:r>
                        <m:t xml:space="preserve">,</m:t>
                      </m:r>
                      <m:r>
                        <m:t xml:space="preserve">k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t xml:space="preserve">;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51" name=""/>
          <p:cNvGrpSpPr/>
          <p:nvPr/>
        </p:nvGrpSpPr>
        <p:grpSpPr>
          <a:xfrm>
            <a:off x="3708360" y="4829040"/>
            <a:ext cx="4176720" cy="905040"/>
            <a:chOff x="3708360" y="4829040"/>
            <a:chExt cx="4176720" cy="905040"/>
          </a:xfrm>
        </p:grpSpPr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3708360" y="4941720"/>
              <a:ext cx="4176720" cy="792360"/>
            </a:xfrm>
            <a:custGeom>
              <a:avLst/>
              <a:gdLst>
                <a:gd name="textAreaLeft" fmla="*/ 51120 w 4176720"/>
                <a:gd name="textAreaRight" fmla="*/ 4125600 w 417672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3817" y="21600"/>
                  </a:lnTo>
                  <a:lnTo>
                    <a:pt x="0" y="21600"/>
                  </a:lnTo>
                  <a:close/>
                </a:path>
                <a:path fill="lightenLess" w="113817" h="21600">
                  <a:moveTo>
                    <a:pt x="0" y="0"/>
                  </a:moveTo>
                  <a:lnTo>
                    <a:pt x="113817" y="0"/>
                  </a:lnTo>
                  <a:lnTo>
                    <a:pt x="112417" y="1400"/>
                  </a:lnTo>
                  <a:lnTo>
                    <a:pt x="1400" y="1400"/>
                  </a:lnTo>
                  <a:close/>
                </a:path>
                <a:path fill="darken" w="113817" h="21600">
                  <a:moveTo>
                    <a:pt x="113817" y="0"/>
                  </a:moveTo>
                  <a:lnTo>
                    <a:pt x="113817" y="21600"/>
                  </a:lnTo>
                  <a:lnTo>
                    <a:pt x="112417" y="20200"/>
                  </a:lnTo>
                  <a:lnTo>
                    <a:pt x="112417" y="1400"/>
                  </a:lnTo>
                  <a:close/>
                </a:path>
                <a:path fill="darkenLess" w="113817" h="21600">
                  <a:moveTo>
                    <a:pt x="11381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112417" y="20200"/>
                  </a:lnTo>
                  <a:close/>
                </a:path>
                <a:path fill="lighten" w="11381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53" name=""/>
                <p:cNvSpPr txBox="1"/>
                <p:nvPr/>
              </p:nvSpPr>
              <p:spPr>
                <a:xfrm>
                  <a:off x="3860640" y="4829040"/>
                  <a:ext cx="3089520" cy="83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r>
                        <m:t xml:space="preserve">±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π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πn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∈</m:t>
                      </m:r>
                      <m:r>
                        <m:t xml:space="preserve">z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76440" y="2421000"/>
                <a:ext cx="15555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1596960" y="4857840"/>
                <a:ext cx="160668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622520" y="3632040"/>
                <a:ext cx="12938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5:19:14Z</dcterms:created>
  <dc:creator>User</dc:creator>
  <dc:description/>
  <dc:language>en-US</dc:language>
  <cp:lastModifiedBy>Admin</cp:lastModifiedBy>
  <dcterms:modified xsi:type="dcterms:W3CDTF">2010-02-22T09:25:52Z</dcterms:modified>
  <cp:revision>253</cp:revision>
  <dc:subject/>
  <dc:title>Геометрия 7 класс.</dc:title>
</cp:coreProperties>
</file>