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3920-A414-469C-984B-6E155CEE3B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0883-A576-4137-BB4C-E3AD622AF6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C46-92A7-4EBE-9548-94F03236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41E-ADED-4A7F-A607-C64A6F5B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199-413A-487E-9067-DE78BB04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B91-40A1-49CE-95AC-49ECA8BD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9BF0-2D30-4D5A-991C-0285CF47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C954-2E96-4645-8288-477C649A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5855-F5DF-4225-81BD-49227818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5868-ABA7-41DD-95AF-1C8D6FA3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751A-8298-48E3-B9B1-B7E6D362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D049-358D-48F4-A8AE-713CED93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2095-C5E5-4021-9262-AAFA6EF9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092-9492-4874-B5EC-F0ADFF76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DB63-A13E-4A5C-8F0A-A8C5D3CC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80F7-FAD6-4566-9B5D-75EE1945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3DCE-5D8E-49B3-BCEB-A8AAC19E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C661-9A6F-4969-B2B3-CE9C3307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B04E-8F59-4E4C-BA66-BF58C016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02E20-C50F-41E7-85E0-206650CD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69ED4-A2F0-49A1-987D-51BA03E8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7F9AB-2F83-467D-9CD5-E2CA51B9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11C86-7C3C-4D5B-BA21-5B07F718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211EF-AED1-4261-AB96-38B69441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425-FCFB-4BFF-AE56-6F8CD7BE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FD08A-4C78-4CF2-A5B6-5062F1B6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10395-DAFA-4FD2-A854-741DDEE8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1D8CB-9FF2-4470-96F4-8FA1EAB5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74AA2-54A7-4E53-818A-B4D87B78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D227E-D051-43EC-861F-F5F73105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343FF-A210-40D3-994D-4AC107EB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10F91-D860-4AD7-81DE-AE84852D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6B83-0BB0-4FE5-93C4-474A7488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6DA-3913-47F4-8F83-64AF414A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BB0-FB55-45D4-BF1B-B06A8D0C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DF9-7DB0-45F3-955C-814C9611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92C-AABA-4E80-AC9C-DB48CFC2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1AF-636C-4205-AD3C-A7018009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533F-0075-4F67-B04F-E8BC1B4E09C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207D-9698-4DD5-B834-C52126A7310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2E94-EB15-4ED4-A09F-63C78E5B7B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6.wmf"/><Relationship Id="rId5" Type="http://schemas.openxmlformats.org/officeDocument/2006/relationships/image" Target="../media/image1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7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7.xml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0.xml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slide" Target="slide40.xml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49.xml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48.xml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341360"/>
            <a:ext cx="8497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99"/>
                </a:solidFill>
                <a:latin typeface="Times New Roman"/>
              </a:rPr>
              <a:t>Способы решения тригонометрических уравнений</a:t>
            </a:r>
            <a:endParaRPr b="0" lang="en-US" sz="6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27280" y="4723920"/>
            <a:ext cx="669456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работала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ркевич Тамара Анатоль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ель математики, высшей кв.категор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редней общеобразовательной школы № 10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 углубленным изучением отдельных предметов г.Марганец Днепропетровской об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046400" y="2516040"/>
                <a:ext cx="3117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1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62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3708360" y="364500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780000" y="3573360"/>
                <a:ext cx="3022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3708360" y="4829040"/>
            <a:ext cx="4176720" cy="905040"/>
            <a:chOff x="3708360" y="4829040"/>
            <a:chExt cx="4176720" cy="905040"/>
          </a:xfrm>
        </p:grpSpPr>
        <p:sp>
          <p:nvSpPr>
            <p:cNvPr id="267" name="">
              <a:hlinkClick r:id="" action="ppaction://hlinkshowjump?jump=nextslide"/>
            </p:cNvPr>
            <p:cNvSpPr/>
            <p:nvPr/>
          </p:nvSpPr>
          <p:spPr>
            <a:xfrm>
              <a:off x="3708360" y="494172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3860640" y="4829040"/>
                  <a:ext cx="308952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046400" y="2516040"/>
                <a:ext cx="3117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77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3708360" y="371628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94200" y="3645000"/>
                <a:ext cx="3386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3708360" y="491004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3860640" y="4797360"/>
                <a:ext cx="30895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046400" y="2516040"/>
                <a:ext cx="3117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0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91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3708360" y="371628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994200" y="3645000"/>
                <a:ext cx="3386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3708360" y="491004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976560" y="4869000"/>
                <a:ext cx="31165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1"/>
          <p:cNvSpPr/>
          <p:nvPr/>
        </p:nvSpPr>
        <p:spPr>
          <a:xfrm>
            <a:off x="0" y="198900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Способы решени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тригонометрических уравне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39640" y="549360"/>
            <a:ext cx="7543800" cy="5195880"/>
            <a:chOff x="539640" y="549360"/>
            <a:chExt cx="7543800" cy="5195880"/>
          </a:xfrm>
        </p:grpSpPr>
        <p:sp>
          <p:nvSpPr>
            <p:cNvPr id="302" name="Text Box 4"/>
            <p:cNvSpPr/>
            <p:nvPr/>
          </p:nvSpPr>
          <p:spPr>
            <a:xfrm>
              <a:off x="539640" y="3932280"/>
              <a:ext cx="2160720" cy="18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азложение на множители (вынесение за скобку, формулы сокращённого умножения и пр.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5"/>
            <p:cNvSpPr/>
            <p:nvPr/>
          </p:nvSpPr>
          <p:spPr>
            <a:xfrm>
              <a:off x="971640" y="549360"/>
              <a:ext cx="189684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Уравнения, приводимые к квадратным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5940360" y="620640"/>
              <a:ext cx="172728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Однородные уравнен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6588000" y="3860640"/>
              <a:ext cx="1495440" cy="181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авнения, решаемые с помощью введения вспомогательного угла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3492360" y="3860640"/>
              <a:ext cx="2276640" cy="188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авнения, решаемые с помощью тригонометрических формул (суммы и разности, сложения, двойного угла и пр.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07" name="AutoShape 9"/>
            <p:cNvCxnSpPr/>
            <p:nvPr/>
          </p:nvCxnSpPr>
          <p:spPr>
            <a:xfrm flipH="1">
              <a:off x="1564560" y="3141360"/>
              <a:ext cx="1423080" cy="616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08" name="AutoShape 10"/>
            <p:cNvCxnSpPr/>
            <p:nvPr/>
          </p:nvCxnSpPr>
          <p:spPr>
            <a:xfrm flipH="1" flipV="1">
              <a:off x="2916000" y="1483920"/>
              <a:ext cx="1296000" cy="5752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09" name="AutoShape 11"/>
            <p:cNvCxnSpPr/>
            <p:nvPr/>
          </p:nvCxnSpPr>
          <p:spPr>
            <a:xfrm>
              <a:off x="4642920" y="3141360"/>
              <a:ext cx="1080" cy="616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10" name="AutoShape 12"/>
            <p:cNvCxnSpPr/>
            <p:nvPr/>
          </p:nvCxnSpPr>
          <p:spPr>
            <a:xfrm flipV="1">
              <a:off x="4643280" y="1557000"/>
              <a:ext cx="1223280" cy="5054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11" name="AutoShape 13"/>
            <p:cNvCxnSpPr/>
            <p:nvPr/>
          </p:nvCxnSpPr>
          <p:spPr>
            <a:xfrm>
              <a:off x="6372360" y="3141360"/>
              <a:ext cx="907200" cy="616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39640" y="260280"/>
            <a:ext cx="88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Уравнения, приводимые к квадрат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539640" y="1844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i="1" lang="ru-RU" sz="3600" spc="-1" strike="noStrike">
                <a:solidFill>
                  <a:srgbClr val="003399"/>
                </a:solidFill>
                <a:latin typeface="Bodoni MT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328464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1547640" y="105264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400" spc="-1" strike="noStrike">
                <a:solidFill>
                  <a:srgbClr val="008000"/>
                </a:solidFill>
                <a:latin typeface="Bodoni MT"/>
              </a:rPr>
              <a:t>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b</a:t>
            </a:r>
            <a:r>
              <a:rPr b="1" i="1" lang="en-US" sz="4400" spc="-1" strike="noStrike">
                <a:solidFill>
                  <a:srgbClr val="008000"/>
                </a:solidFill>
                <a:latin typeface="Bodoni MT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 c</a:t>
            </a:r>
            <a:r>
              <a:rPr b="1" i="1" lang="en-US" sz="4400" spc="-1" strike="noStrike">
                <a:solidFill>
                  <a:srgbClr val="0080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= 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255600" cy="576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708360" y="1052640"/>
            <a:ext cx="4032360" cy="7747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1835280" y="1052640"/>
            <a:ext cx="4260600" cy="774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68360" y="2565360"/>
            <a:ext cx="60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 b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</a:t>
            </a:r>
            <a:r>
              <a:rPr b="1" i="1" lang="ru-RU" sz="4400" spc="-1" strike="noStrike">
                <a:solidFill>
                  <a:srgbClr val="0066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 c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=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826920" y="256536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1476360" y="2565360"/>
            <a:ext cx="255600" cy="5763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6"/>
          <a:stretch/>
        </p:blipFill>
        <p:spPr>
          <a:xfrm>
            <a:off x="2916360" y="2565360"/>
            <a:ext cx="4260600" cy="774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468360" y="353052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</a:t>
            </a:r>
            <a:r>
              <a:rPr b="1" i="1" lang="ru-RU" sz="4400" spc="-1" strike="noStrike">
                <a:solidFill>
                  <a:srgbClr val="0066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b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c=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2771640" y="351792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8"/>
          <a:stretch/>
        </p:blipFill>
        <p:spPr>
          <a:xfrm>
            <a:off x="755640" y="3579840"/>
            <a:ext cx="22446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293840" y="546120"/>
            <a:ext cx="527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+b         + c = 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564000" y="54936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268360" y="549360"/>
            <a:ext cx="255600" cy="576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1692360" y="549360"/>
            <a:ext cx="4260600" cy="774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214280" y="170820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Bodoni MT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1258920" y="22766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+b        +c=0</a:t>
            </a:r>
            <a:r>
              <a:rPr b="1" i="1" lang="en-US" sz="4400" spc="-1" strike="noStrike">
                <a:solidFill>
                  <a:srgbClr val="000000"/>
                </a:solidFill>
                <a:latin typeface="Bodoni MT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3348000" y="2276640"/>
            <a:ext cx="4260960" cy="774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1535040" y="229392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2268360" y="2293920"/>
            <a:ext cx="255600" cy="5763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258920" y="393372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1221120" y="3314880"/>
            <a:ext cx="527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</a:t>
            </a:r>
            <a:r>
              <a:rPr b="1" i="1" lang="ru-RU" sz="4400" spc="-1" strike="noStrike">
                <a:solidFill>
                  <a:srgbClr val="3333cc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b        + c = 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7"/>
          <a:stretch/>
        </p:blipFill>
        <p:spPr>
          <a:xfrm>
            <a:off x="3492360" y="328464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8"/>
          <a:stretch/>
        </p:blipFill>
        <p:spPr>
          <a:xfrm>
            <a:off x="1547640" y="3357720"/>
            <a:ext cx="22449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187280" y="1557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Bodoni MT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406680" y="2133720"/>
            <a:ext cx="1381320" cy="7747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1676520" y="3124080"/>
            <a:ext cx="1234800" cy="7765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133720" y="3139920"/>
            <a:ext cx="255600" cy="576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187280" y="620640"/>
            <a:ext cx="66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+ b       +c =0</a:t>
            </a:r>
            <a:r>
              <a:rPr b="1" i="1" lang="en-US" sz="4400" spc="-1" strike="noStrike">
                <a:solidFill>
                  <a:srgbClr val="000000"/>
                </a:solidFill>
                <a:latin typeface="Bodoni MT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1600200" y="609480"/>
            <a:ext cx="1235160" cy="776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2057400" y="620640"/>
            <a:ext cx="255600" cy="5763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3429000" y="609480"/>
            <a:ext cx="1235160" cy="7765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7"/>
          <a:stretch/>
        </p:blipFill>
        <p:spPr>
          <a:xfrm>
            <a:off x="1619280" y="2133720"/>
            <a:ext cx="1235160" cy="776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300720" y="1341360"/>
            <a:ext cx="20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|·tg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≠</a:t>
            </a:r>
            <a:r>
              <a:rPr b="0" i="1" lang="ru-RU" sz="4400" spc="-1" strike="noStrike">
                <a:solidFill>
                  <a:srgbClr val="000000"/>
                </a:solidFill>
                <a:latin typeface="Bodoni MT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>
            <a:off x="1330200" y="213372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+ b</a:t>
            </a:r>
            <a:r>
              <a:rPr b="1" i="1" lang="ru-RU" sz="4400" spc="-1" strike="noStrike">
                <a:solidFill>
                  <a:srgbClr val="3333cc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 </a:t>
            </a:r>
            <a:r>
              <a:rPr b="1" i="1" lang="ru-RU" sz="4400" spc="-1" strike="noStrike">
                <a:solidFill>
                  <a:srgbClr val="3333cc"/>
                </a:solidFill>
                <a:latin typeface="Bodoni MT"/>
              </a:rPr>
              <a:t>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c=0</a:t>
            </a:r>
            <a:r>
              <a:rPr b="1" i="1" lang="en-US" sz="4400" spc="-1" strike="noStrike">
                <a:solidFill>
                  <a:srgbClr val="000000"/>
                </a:solidFill>
                <a:latin typeface="Bodoni MT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8"/>
          <a:stretch/>
        </p:blipFill>
        <p:spPr>
          <a:xfrm>
            <a:off x="3419640" y="3084480"/>
            <a:ext cx="1234800" cy="776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332000" y="3141720"/>
            <a:ext cx="56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Bodoni MT"/>
              </a:rPr>
              <a:t>a        +b      +c =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258920" y="3333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250920" y="2205000"/>
            <a:ext cx="2952720" cy="2433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sin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=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|t|≤ 1, </a:t>
            </a:r>
            <a:r>
              <a:rPr b="0" lang="ru-RU" sz="3600" spc="-1" strike="noStrike">
                <a:solidFill>
                  <a:srgbClr val="000000"/>
                </a:solidFill>
                <a:latin typeface="Bodoni MT"/>
              </a:rPr>
              <a:t>т.к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E(sinx)=[-1;1]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119700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    </a:t>
            </a:r>
            <a:r>
              <a:rPr b="1" i="1" lang="en-US" sz="48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800" spc="-1" strike="noStrike">
                <a:solidFill>
                  <a:srgbClr val="000000"/>
                </a:solidFill>
                <a:latin typeface="Bodoni MT"/>
              </a:rPr>
              <a:t>t²</a:t>
            </a:r>
            <a:r>
              <a:rPr b="1" i="1" lang="en-US" sz="4800" spc="-1" strike="noStrike">
                <a:solidFill>
                  <a:srgbClr val="3333cc"/>
                </a:solidFill>
                <a:latin typeface="Bodoni MT"/>
              </a:rPr>
              <a:t> +b</a:t>
            </a:r>
            <a:r>
              <a:rPr b="1" i="1" lang="en-US" sz="4800" spc="-1" strike="noStrike">
                <a:solidFill>
                  <a:srgbClr val="000000"/>
                </a:solidFill>
                <a:latin typeface="Bodoni MT"/>
              </a:rPr>
              <a:t>t</a:t>
            </a:r>
            <a:r>
              <a:rPr b="1" i="1" lang="en-US" sz="4800" spc="-1" strike="noStrike">
                <a:solidFill>
                  <a:srgbClr val="3333cc"/>
                </a:solidFill>
                <a:latin typeface="Bodoni MT"/>
              </a:rPr>
              <a:t> + c =0</a:t>
            </a:r>
            <a:r>
              <a:rPr b="0" i="1" lang="en-US" sz="48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3564000" y="2205000"/>
            <a:ext cx="3024000" cy="31046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cos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=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|t|≤1</a:t>
            </a:r>
            <a:r>
              <a:rPr b="0" lang="ru-RU" sz="3600" spc="-1" strike="noStrike">
                <a:solidFill>
                  <a:srgbClr val="000000"/>
                </a:solidFill>
                <a:latin typeface="Bodoni MT"/>
              </a:rPr>
              <a:t>, т.к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E(cosx)=[-1;1]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2205000"/>
            <a:ext cx="2195640" cy="2433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tg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</a:t>
            </a:r>
            <a:r>
              <a:rPr b="0" i="1" lang="ru-RU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=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t   R</a:t>
            </a:r>
            <a:r>
              <a:rPr b="0" lang="ru-RU" sz="3600" spc="-1" strike="noStrike">
                <a:solidFill>
                  <a:srgbClr val="000000"/>
                </a:solidFill>
                <a:latin typeface="Bodoni MT"/>
              </a:rPr>
              <a:t>,т.к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E(tgx)=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236000" y="3284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502160" y="3282840"/>
                <a:ext cx="139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826920" y="1268280"/>
                <a:ext cx="33116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581360" y="1268280"/>
                <a:ext cx="23623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909720" y="1989000"/>
                <a:ext cx="2982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041720" y="2060640"/>
                <a:ext cx="27338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мена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993600" y="2708280"/>
                <a:ext cx="19512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944640" y="3141720"/>
                <a:ext cx="470196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930240" y="4567320"/>
                <a:ext cx="5419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189000"/>
            <a:ext cx="831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етод введения новой переменной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971640" y="691920"/>
            <a:ext cx="6781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ме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905040" y="5432400"/>
                <a:ext cx="56181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71640" y="115560"/>
            <a:ext cx="678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мер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826920" y="620640"/>
                <a:ext cx="22100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92000" y="2276640"/>
                <a:ext cx="1901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66800" y="2781360"/>
                <a:ext cx="19288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792000" y="3201840"/>
                <a:ext cx="10447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89040" y="4786200"/>
                <a:ext cx="52801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762120" y="3922560"/>
                <a:ext cx="491148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770280" y="669960"/>
                <a:ext cx="12765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852480" y="1473120"/>
                <a:ext cx="25527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695760" y="1362240"/>
                <a:ext cx="26478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мена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024360" y="3201840"/>
                <a:ext cx="10666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81120" y="5578560"/>
                <a:ext cx="56196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ФОРМ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урок - презентаци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шите самостоятель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39640" y="2587680"/>
                <a:ext cx="777744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95280" y="868320"/>
                <a:ext cx="2841480" cy="31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778200" y="836640"/>
                <a:ext cx="24494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3708360" y="1746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уст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n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867280" y="1746360"/>
                <a:ext cx="865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3348000" y="250056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-3 не удовлетворяет услов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7442280" y="2631960"/>
                <a:ext cx="946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3350160" y="230760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18960" y="3706920"/>
                <a:ext cx="288936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;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2224080" y="5311800"/>
                <a:ext cx="39322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;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ения вида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sinx+bcosx=0 </a:t>
            </a:r>
            <a:r>
              <a:rPr b="0" i="1" lang="en-US" sz="3200" spc="-1" strike="noStrike">
                <a:solidFill>
                  <a:srgbClr val="703dff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703d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ют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днородным</a:t>
            </a:r>
            <a:r>
              <a:rPr b="1" lang="ru-RU" sz="3200" spc="-1" strike="noStrike">
                <a:solidFill>
                  <a:srgbClr val="00b2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игонометрическим уравнением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ервой степе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ения вид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sin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+bsinxcosx+ccos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=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ют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днород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ригонометрическим уравнением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торой степе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324000" y="3049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Однородные уравн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252520" y="2114640"/>
                <a:ext cx="6780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</m:t>
                    </m:r>
                    <m:r>
                      <m:rPr>
                        <m:lit/>
                        <m:nor/>
                      </m:rPr>
                      <m:t xml:space="preserve">                        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5796000" y="10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"/>
          <p:cNvSpPr/>
          <p:nvPr/>
        </p:nvSpPr>
        <p:spPr>
          <a:xfrm>
            <a:off x="1116000" y="0"/>
            <a:ext cx="71280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так, дано уравнение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asinx+bcosx=0,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≠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0, b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≠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0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делив обе части уравнения почленно н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учи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тоге приходим к простейшем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игонометрическому уравнени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3564000" y="4941720"/>
                <a:ext cx="199548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268360" y="3284640"/>
                <a:ext cx="2508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g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68709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ить уравне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sinx-3cosx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Разделив обе части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членно 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учи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x-3=0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x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=arctg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, 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ctg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1,5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, n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є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796000" y="2637000"/>
                <a:ext cx="6001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шите самостоятельно уравнение: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2x+cos2x=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50920" y="404640"/>
            <a:ext cx="79992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членно разделив обе    части    уравнения н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s2x≠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олучи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309760" y="1628640"/>
                <a:ext cx="3632400" cy="384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411280" y="5300640"/>
                <a:ext cx="46087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620640"/>
            <a:ext cx="7272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"/>
          <p:cNvSpPr/>
          <p:nvPr/>
        </p:nvSpPr>
        <p:spPr>
          <a:xfrm>
            <a:off x="684360" y="836640"/>
            <a:ext cx="76327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Рассмотрим  однородное тригонометрическое уравнени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торой степен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asin</a:t>
            </a:r>
            <a:r>
              <a:rPr b="1" i="1" lang="en-US" sz="4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x+bsinxcosx+ccos</a:t>
            </a:r>
            <a:r>
              <a:rPr b="1" i="1" lang="en-US" sz="4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x=0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181080" y="33336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Алгоритм решения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днородных тригонометрических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равнений второй степе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мотреть, есть ли в уравнении чле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i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этот член содержится, то есть 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 то уравнение решается делением обеих его частей н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оследующим введением новой переменн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z=tg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этот член не содержится, то есть а=0, то уравнение решается методом разложения на множители: за скобки вынося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имеры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№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ь уравнение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-3sinxcosx+2cos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=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846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Решение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uk-UA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-3sinxcosx+2cos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/÷cos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≠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-3tgx+2=0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ведем новую переменную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tgx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3z+2=0;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1, 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2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x=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=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, 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є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x=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=arctg2 +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, 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є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, n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є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rctg2 + </a:t>
            </a:r>
            <a:r>
              <a:rPr b="1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k, k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є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043080" y="5300640"/>
                <a:ext cx="4176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знакомить учащихся с общей схемой решения тригонометрических уравнений различных типов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ировать умения решать тригонометрические уравнения,  приводимые к квадратным и однородные уравн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8524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шить уравнение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√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3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inxcosx+cos</a:t>
            </a:r>
            <a:r>
              <a:rPr b="1" i="1" lang="ru-RU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=0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268360" y="1278000"/>
                <a:ext cx="3600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755640" y="2060640"/>
                <a:ext cx="12985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379600" y="2133720"/>
                <a:ext cx="7524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л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449520" y="2025720"/>
                <a:ext cx="24386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486480" y="2006640"/>
                <a:ext cx="1790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79520" y="2335320"/>
                <a:ext cx="27064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360600" y="2494080"/>
                <a:ext cx="21574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3448080" y="2982960"/>
                <a:ext cx="188424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3520" y="3774960"/>
                <a:ext cx="42260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60760" y="4567320"/>
                <a:ext cx="2981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887480" y="5359320"/>
                <a:ext cx="5780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324000" y="1341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3059280" y="765000"/>
            <a:ext cx="1425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Решите самостоятельн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8520" y="2789280"/>
                <a:ext cx="81342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2123640" y="189000"/>
            <a:ext cx="40388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Реше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608040" y="907920"/>
                <a:ext cx="56260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6399360" y="907920"/>
                <a:ext cx="18907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: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1280" y="1557360"/>
                <a:ext cx="3216240" cy="24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,5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=</m:t>
                        </m:r>
                        <m:r>
                          <m:t xml:space="preserve">1,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1,5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641840" y="2544840"/>
                <a:ext cx="3824280" cy="26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3851280" y="1628640"/>
                <a:ext cx="280836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мена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1091520" y="586188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вет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965920" y="5589720"/>
                <a:ext cx="25668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0" y="36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2486160" y="5925960"/>
                <a:ext cx="3309840" cy="5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1,5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шите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062000" y="1413000"/>
                <a:ext cx="53658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944640" y="2852640"/>
                <a:ext cx="7183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074600" y="4348080"/>
                <a:ext cx="461988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Среди предложенных уравнений выберите уравнения, приводимые к квадратным и однородные уравнения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124000" y="1773360"/>
                <a:ext cx="5832720" cy="43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50920" y="2852640"/>
                <a:ext cx="3313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">
            <a:hlinkClick r:id="rId4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ип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урав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">
            <a:hlinkClick r:id="rId2" action="ppaction://hlinksldjump"/>
          </p:cNvPr>
          <p:cNvSpPr/>
          <p:nvPr/>
        </p:nvSpPr>
        <p:spPr>
          <a:xfrm>
            <a:off x="3708360" y="2781360"/>
            <a:ext cx="5113440" cy="792000"/>
          </a:xfrm>
          <a:custGeom>
            <a:avLst/>
            <a:gdLst>
              <a:gd name="textAreaLeft" fmla="*/ 51120 w 5113440"/>
              <a:gd name="textAreaRight" fmla="*/ 5062320 w 51134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404" h="21600">
                <a:moveTo>
                  <a:pt x="0" y="0"/>
                </a:moveTo>
                <a:lnTo>
                  <a:pt x="139404" y="0"/>
                </a:lnTo>
                <a:lnTo>
                  <a:pt x="139404" y="21600"/>
                </a:lnTo>
                <a:lnTo>
                  <a:pt x="0" y="21600"/>
                </a:lnTo>
                <a:close/>
              </a:path>
              <a:path fill="lightenLess" w="139404" h="21600">
                <a:moveTo>
                  <a:pt x="0" y="0"/>
                </a:moveTo>
                <a:lnTo>
                  <a:pt x="139404" y="0"/>
                </a:lnTo>
                <a:lnTo>
                  <a:pt x="138004" y="1400"/>
                </a:lnTo>
                <a:lnTo>
                  <a:pt x="1400" y="1400"/>
                </a:lnTo>
                <a:close/>
              </a:path>
              <a:path fill="darken" w="139404" h="21600">
                <a:moveTo>
                  <a:pt x="139404" y="0"/>
                </a:moveTo>
                <a:lnTo>
                  <a:pt x="139404" y="21600"/>
                </a:lnTo>
                <a:lnTo>
                  <a:pt x="138004" y="20200"/>
                </a:lnTo>
                <a:lnTo>
                  <a:pt x="138004" y="1400"/>
                </a:lnTo>
                <a:close/>
              </a:path>
              <a:path fill="darkenLess" w="139404" h="21600">
                <a:moveTo>
                  <a:pt x="139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004" y="20200"/>
                </a:lnTo>
                <a:close/>
              </a:path>
              <a:path fill="lighten" w="139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">
            <a:hlinkClick r:id="rId4" action="ppaction://hlinksldjump"/>
          </p:cNvPr>
          <p:cNvSpPr/>
          <p:nvPr/>
        </p:nvSpPr>
        <p:spPr>
          <a:xfrm>
            <a:off x="3635280" y="5373720"/>
            <a:ext cx="5257800" cy="792000"/>
          </a:xfrm>
          <a:custGeom>
            <a:avLst/>
            <a:gdLst>
              <a:gd name="textAreaLeft" fmla="*/ 51120 w 5257800"/>
              <a:gd name="textAreaRight" fmla="*/ 5206680 w 52578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39" h="21600">
                <a:moveTo>
                  <a:pt x="0" y="0"/>
                </a:moveTo>
                <a:lnTo>
                  <a:pt x="143339" y="0"/>
                </a:lnTo>
                <a:lnTo>
                  <a:pt x="143339" y="21600"/>
                </a:lnTo>
                <a:lnTo>
                  <a:pt x="0" y="21600"/>
                </a:lnTo>
                <a:close/>
              </a:path>
              <a:path fill="lightenLess" w="143339" h="21600">
                <a:moveTo>
                  <a:pt x="0" y="0"/>
                </a:moveTo>
                <a:lnTo>
                  <a:pt x="143339" y="0"/>
                </a:lnTo>
                <a:lnTo>
                  <a:pt x="141939" y="1400"/>
                </a:lnTo>
                <a:lnTo>
                  <a:pt x="1400" y="1400"/>
                </a:lnTo>
                <a:close/>
              </a:path>
              <a:path fill="darken" w="143339" h="21600">
                <a:moveTo>
                  <a:pt x="143339" y="0"/>
                </a:moveTo>
                <a:lnTo>
                  <a:pt x="143339" y="21600"/>
                </a:lnTo>
                <a:lnTo>
                  <a:pt x="141939" y="20200"/>
                </a:lnTo>
                <a:lnTo>
                  <a:pt x="141939" y="1400"/>
                </a:lnTo>
                <a:close/>
              </a:path>
              <a:path fill="darkenLess" w="143339" h="21600">
                <a:moveTo>
                  <a:pt x="143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39" y="20200"/>
                </a:lnTo>
                <a:close/>
              </a:path>
              <a:path fill="lighten" w="143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0" y="2870280"/>
                <a:ext cx="37083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-360" y="1989000"/>
            <a:ext cx="8891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ервый шаг к успеху при решении тригонометрических уравнений – это умение решать простейшие тригонометрические уравнения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">
            <a:hlinkClick r:id="rId1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">
            <a:hlinkClick r:id="rId2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">
            <a:hlinkClick r:id="rId3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0" y="2854440"/>
                <a:ext cx="3780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0" y="2205000"/>
                <a:ext cx="514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2484360" y="4221000"/>
            <a:ext cx="4032360" cy="1224000"/>
          </a:xfrm>
          <a:custGeom>
            <a:avLst/>
            <a:gdLst>
              <a:gd name="textAreaLeft" fmla="*/ 79200 w 4032360"/>
              <a:gd name="textAreaRight" fmla="*/ 3953160 w 403236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45" h="21600">
                <a:moveTo>
                  <a:pt x="0" y="0"/>
                </a:moveTo>
                <a:lnTo>
                  <a:pt x="71145" y="0"/>
                </a:lnTo>
                <a:lnTo>
                  <a:pt x="71145" y="21600"/>
                </a:lnTo>
                <a:lnTo>
                  <a:pt x="0" y="21600"/>
                </a:lnTo>
                <a:close/>
              </a:path>
              <a:path fill="lightenLess" w="71145" h="21600">
                <a:moveTo>
                  <a:pt x="0" y="0"/>
                </a:moveTo>
                <a:lnTo>
                  <a:pt x="71145" y="0"/>
                </a:lnTo>
                <a:lnTo>
                  <a:pt x="69745" y="1400"/>
                </a:lnTo>
                <a:lnTo>
                  <a:pt x="1400" y="1400"/>
                </a:lnTo>
                <a:close/>
              </a:path>
              <a:path fill="darken" w="71145" h="21600">
                <a:moveTo>
                  <a:pt x="71145" y="0"/>
                </a:moveTo>
                <a:lnTo>
                  <a:pt x="71145" y="21600"/>
                </a:lnTo>
                <a:lnTo>
                  <a:pt x="69745" y="20200"/>
                </a:lnTo>
                <a:lnTo>
                  <a:pt x="69745" y="1400"/>
                </a:lnTo>
                <a:close/>
              </a:path>
              <a:path fill="darkenLess" w="71145" h="21600">
                <a:moveTo>
                  <a:pt x="71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45" y="20200"/>
                </a:lnTo>
                <a:close/>
              </a:path>
              <a:path fill="lighten" w="71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>
            <a:hlinkClick r:id="rId1" action="ppaction://hlinksldjump"/>
          </p:cNvPr>
          <p:cNvSpPr/>
          <p:nvPr/>
        </p:nvSpPr>
        <p:spPr>
          <a:xfrm>
            <a:off x="2268360" y="443700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">
            <a:hlinkClick r:id="rId4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0" y="2924280"/>
                <a:ext cx="37083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8713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Тригонометрическими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 уравнения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ют уравнения, в которых переменная содержится под знаками тригонометрических функци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их числу прежде всего относятся простейшие тригонометрические уравнения, т.е. уравнения вид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x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, cosx=a, tgx=a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тельное числ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">
            <a:hlinkClick r:id="rId4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0" y="2781360"/>
                <a:ext cx="38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">
            <a:hlinkClick r:id="rId1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"/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"/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0" y="2781360"/>
                <a:ext cx="37083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2411280" y="4149720"/>
            <a:ext cx="4032360" cy="1008000"/>
          </a:xfrm>
          <a:custGeom>
            <a:avLst/>
            <a:gdLst>
              <a:gd name="textAreaLeft" fmla="*/ 65160 w 4032360"/>
              <a:gd name="textAreaRight" fmla="*/ 3967200 w 4032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86385" h="21600">
                <a:moveTo>
                  <a:pt x="0" y="0"/>
                </a:moveTo>
                <a:lnTo>
                  <a:pt x="86385" y="0"/>
                </a:lnTo>
                <a:lnTo>
                  <a:pt x="86385" y="21600"/>
                </a:lnTo>
                <a:lnTo>
                  <a:pt x="0" y="21600"/>
                </a:lnTo>
                <a:close/>
              </a:path>
              <a:path fill="lightenLess" w="86385" h="21600">
                <a:moveTo>
                  <a:pt x="0" y="0"/>
                </a:moveTo>
                <a:lnTo>
                  <a:pt x="86385" y="0"/>
                </a:lnTo>
                <a:lnTo>
                  <a:pt x="84985" y="1400"/>
                </a:lnTo>
                <a:lnTo>
                  <a:pt x="1400" y="1400"/>
                </a:lnTo>
                <a:close/>
              </a:path>
              <a:path fill="darken" w="86385" h="21600">
                <a:moveTo>
                  <a:pt x="86385" y="0"/>
                </a:moveTo>
                <a:lnTo>
                  <a:pt x="86385" y="21600"/>
                </a:lnTo>
                <a:lnTo>
                  <a:pt x="84985" y="20200"/>
                </a:lnTo>
                <a:lnTo>
                  <a:pt x="84985" y="1400"/>
                </a:lnTo>
                <a:close/>
              </a:path>
              <a:path fill="darkenLess" w="86385" h="21600">
                <a:moveTo>
                  <a:pt x="8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5" y="20200"/>
                </a:lnTo>
                <a:close/>
              </a:path>
              <a:path fill="lighten" w="8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п.39 – выучить; №466(а,б,в,г)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                             №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467(г,д,е,ж*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-171360"/>
            <a:ext cx="687096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К настоящему моменту мы знаем, чт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6960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 решения уравнения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osx=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ют вид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±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rccosa+2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,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 решения уравнения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inx=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ют вид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=(-1)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rcsina+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, 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, что то же самое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arcsina+2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arcsina+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&gt;1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уравне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sx=a, sinx=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 имеют решений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я уравнения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gx=a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любого значе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меют вид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=arctga+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-92520"/>
            <a:ext cx="727056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Особо важны частные случаи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79640" y="1125360"/>
                <a:ext cx="1512720" cy="4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022480" y="1878120"/>
                <a:ext cx="14144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008080" y="2781360"/>
                <a:ext cx="1596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022480" y="3789360"/>
                <a:ext cx="1500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006640" y="4653000"/>
                <a:ext cx="1457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022480" y="5516640"/>
                <a:ext cx="1717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654440" y="1197000"/>
                <a:ext cx="2141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54440" y="1541520"/>
                <a:ext cx="30052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640400" y="2478240"/>
                <a:ext cx="3176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654440" y="3484440"/>
                <a:ext cx="27892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651200" y="4610160"/>
                <a:ext cx="2509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665600" y="5516640"/>
                <a:ext cx="3084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6" name=""/>
          <p:cNvGrpSpPr/>
          <p:nvPr/>
        </p:nvGrpSpPr>
        <p:grpSpPr>
          <a:xfrm>
            <a:off x="3708360" y="2490840"/>
            <a:ext cx="4176720" cy="873000"/>
            <a:chOff x="3708360" y="2490840"/>
            <a:chExt cx="4176720" cy="873000"/>
          </a:xfrm>
        </p:grpSpPr>
        <p:sp>
          <p:nvSpPr>
            <p:cNvPr id="227" name="">
              <a:hlinkClick r:id="" action="ppaction://hlinkshowjump?jump=nextslide"/>
            </p:cNvPr>
            <p:cNvSpPr/>
            <p:nvPr/>
          </p:nvSpPr>
          <p:spPr>
            <a:xfrm>
              <a:off x="3708360" y="256536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4046400" y="2490840"/>
                  <a:ext cx="27576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3995640" y="1484280"/>
                  <a:ext cx="36007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πn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3708360" y="3573360"/>
            <a:ext cx="4176720" cy="893880"/>
            <a:chOff x="3708360" y="3573360"/>
            <a:chExt cx="4176720" cy="893880"/>
          </a:xfrm>
        </p:grpSpPr>
        <p:sp>
          <p:nvSpPr>
            <p:cNvPr id="233" name="">
              <a:hlinkClick r:id="" action="ppaction://hlinkshowjump?jump=nextslide"/>
            </p:cNvPr>
            <p:cNvSpPr/>
            <p:nvPr/>
          </p:nvSpPr>
          <p:spPr>
            <a:xfrm>
              <a:off x="3708360" y="3645000"/>
              <a:ext cx="4176720" cy="79200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000"/>
                <a:gd name="textAreaBottom" fmla="*/ 740880 h 792000"/>
              </a:gdLst>
              <a:ahLst/>
              <a:rect l="textAreaLeft" t="textAreaTop" r="textAreaRight" b="textAreaBottom"/>
              <a:pathLst>
                <a:path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3869" y="21600"/>
                  </a:lnTo>
                  <a:lnTo>
                    <a:pt x="0" y="21600"/>
                  </a:lnTo>
                  <a:close/>
                </a:path>
                <a:path fill="lightenLess"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2469" y="1400"/>
                  </a:lnTo>
                  <a:lnTo>
                    <a:pt x="1400" y="1400"/>
                  </a:lnTo>
                  <a:close/>
                </a:path>
                <a:path fill="darken" w="113869" h="21600">
                  <a:moveTo>
                    <a:pt x="113869" y="0"/>
                  </a:moveTo>
                  <a:lnTo>
                    <a:pt x="113869" y="21600"/>
                  </a:lnTo>
                  <a:lnTo>
                    <a:pt x="112469" y="20200"/>
                  </a:lnTo>
                  <a:lnTo>
                    <a:pt x="112469" y="1400"/>
                  </a:lnTo>
                  <a:close/>
                </a:path>
                <a:path fill="darkenLess" w="113869" h="21600">
                  <a:moveTo>
                    <a:pt x="11386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69" y="20200"/>
                  </a:lnTo>
                  <a:close/>
                </a:path>
                <a:path fill="lighten" w="11386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3780000" y="3573360"/>
                  <a:ext cx="302256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k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3708360" y="4829040"/>
            <a:ext cx="4176720" cy="905040"/>
            <a:chOff x="3708360" y="4829040"/>
            <a:chExt cx="4176720" cy="905040"/>
          </a:xfrm>
        </p:grpSpPr>
        <p:sp>
          <p:nvSpPr>
            <p:cNvPr id="236" name="">
              <a:hlinkClick r:id="" action="ppaction://hlinkshowjump?jump=nextslide"/>
            </p:cNvPr>
            <p:cNvSpPr/>
            <p:nvPr/>
          </p:nvSpPr>
          <p:spPr>
            <a:xfrm>
              <a:off x="3708360" y="494172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860640" y="4829040"/>
                  <a:ext cx="308952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046400" y="2492280"/>
                <a:ext cx="275760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46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8" name=""/>
          <p:cNvGrpSpPr/>
          <p:nvPr/>
        </p:nvGrpSpPr>
        <p:grpSpPr>
          <a:xfrm>
            <a:off x="3708360" y="3573360"/>
            <a:ext cx="4176720" cy="893880"/>
            <a:chOff x="3708360" y="3573360"/>
            <a:chExt cx="4176720" cy="893880"/>
          </a:xfrm>
        </p:grpSpPr>
        <p:sp>
          <p:nvSpPr>
            <p:cNvPr id="249" name="">
              <a:hlinkClick r:id="" action="ppaction://hlinkshowjump?jump=nextslide"/>
            </p:cNvPr>
            <p:cNvSpPr/>
            <p:nvPr/>
          </p:nvSpPr>
          <p:spPr>
            <a:xfrm>
              <a:off x="3708360" y="3645000"/>
              <a:ext cx="4176720" cy="79200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000"/>
                <a:gd name="textAreaBottom" fmla="*/ 740880 h 792000"/>
              </a:gdLst>
              <a:ahLst/>
              <a:rect l="textAreaLeft" t="textAreaTop" r="textAreaRight" b="textAreaBottom"/>
              <a:pathLst>
                <a:path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3869" y="21600"/>
                  </a:lnTo>
                  <a:lnTo>
                    <a:pt x="0" y="21600"/>
                  </a:lnTo>
                  <a:close/>
                </a:path>
                <a:path fill="lightenLess"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2469" y="1400"/>
                  </a:lnTo>
                  <a:lnTo>
                    <a:pt x="1400" y="1400"/>
                  </a:lnTo>
                  <a:close/>
                </a:path>
                <a:path fill="darken" w="113869" h="21600">
                  <a:moveTo>
                    <a:pt x="113869" y="0"/>
                  </a:moveTo>
                  <a:lnTo>
                    <a:pt x="113869" y="21600"/>
                  </a:lnTo>
                  <a:lnTo>
                    <a:pt x="112469" y="20200"/>
                  </a:lnTo>
                  <a:lnTo>
                    <a:pt x="112469" y="1400"/>
                  </a:lnTo>
                  <a:close/>
                </a:path>
                <a:path fill="darkenLess" w="113869" h="21600">
                  <a:moveTo>
                    <a:pt x="11386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69" y="20200"/>
                  </a:lnTo>
                  <a:close/>
                </a:path>
                <a:path fill="lighten" w="11386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780000" y="3573360"/>
                  <a:ext cx="302256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k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1" name=""/>
          <p:cNvGrpSpPr/>
          <p:nvPr/>
        </p:nvGrpSpPr>
        <p:grpSpPr>
          <a:xfrm>
            <a:off x="3708360" y="4829040"/>
            <a:ext cx="4176720" cy="905040"/>
            <a:chOff x="3708360" y="4829040"/>
            <a:chExt cx="4176720" cy="905040"/>
          </a:xfrm>
        </p:grpSpPr>
        <p:sp>
          <p:nvSpPr>
            <p:cNvPr id="252" name="">
              <a:hlinkClick r:id="" action="ppaction://hlinkshowjump?jump=nextslide"/>
            </p:cNvPr>
            <p:cNvSpPr/>
            <p:nvPr/>
          </p:nvSpPr>
          <p:spPr>
            <a:xfrm>
              <a:off x="3708360" y="494172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3860640" y="4829040"/>
                  <a:ext cx="308952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9:14Z</dcterms:created>
  <dc:creator>User</dc:creator>
  <dc:description/>
  <dc:language>en-US</dc:language>
  <cp:lastModifiedBy>Admin</cp:lastModifiedBy>
  <dcterms:modified xsi:type="dcterms:W3CDTF">2010-02-22T09:25:52Z</dcterms:modified>
  <cp:revision>253</cp:revision>
  <dc:subject/>
  <dc:title>Геометрия 7 класс.</dc:title>
</cp:coreProperties>
</file>