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2.wmf" ContentType="image/x-wmf"/>
  <Override PartName="/ppt/media/image1.gif" ContentType="image/gif"/>
  <Override PartName="/ppt/media/image2.wmf" ContentType="image/x-wmf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10E-2B30-4C3E-B417-365F3422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F3F-869A-47B9-868B-E7C775C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D04-742D-44E3-BC38-5A943EDC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795-9512-4B84-B76E-42DD0C56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17A-C4F7-46EA-AB7F-9D4AE60D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3DB-AFAA-490B-A7F5-2C06C15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8204-06B3-43DB-B3D3-64AD7D4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1CB0-D75B-497E-B912-2F3D3F52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758B-3331-477D-A17E-99824B88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696-C743-40DF-829D-F5E38C53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8ADC-E9A1-4D68-9898-7E118B2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415-6A20-48B6-ACFE-C6730F8C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B234-82E0-4391-9E58-52C4767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61D-6D80-4E27-9F2E-0EE89DA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C055-5918-491E-A2BC-C4DDC99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3747-03B3-4AB7-A1E5-EFF034E4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6A68-7793-4832-835D-59EAA879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80E-B433-4AB4-BC71-F5DF26D3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9F7-929F-4500-86F8-04724A3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EE5-CCAE-4A11-B1D8-047AB893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9E4-1E7B-4E31-8989-458E852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A9C-9A28-4351-9080-0A3F25D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296-8354-445C-87C3-FEADE49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460-E716-4905-AE59-056A4E6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F408-D10D-46A6-B51A-727C9552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42B-80FA-4D03-A255-3DB7405C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83664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ы для итогового урока (повторение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560" y="4005360"/>
            <a:ext cx="186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184464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х+2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х-4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/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389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6920" y="1844640"/>
            <a:ext cx="352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2х+5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х-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–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5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1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(х-1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3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х-3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2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1738080" cy="258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206064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14172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716280"/>
            <a:ext cx="360360" cy="28908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86900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ификация видо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8000" y="1700280"/>
            <a:ext cx="10083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70028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637000"/>
            <a:ext cx="2592720" cy="792000"/>
            <a:chOff x="826920" y="2637000"/>
            <a:chExt cx="2592720" cy="792000"/>
          </a:xfrm>
        </p:grpSpPr>
        <p:sp>
          <p:nvSpPr>
            <p:cNvPr id="104" name=""/>
            <p:cNvSpPr/>
            <p:nvPr/>
          </p:nvSpPr>
          <p:spPr>
            <a:xfrm>
              <a:off x="826920" y="2637000"/>
              <a:ext cx="2592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270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5" action="ppaction://hlinksldjump"/>
                </a:rPr>
                <a:t>не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35280" y="2637000"/>
            <a:ext cx="2232000" cy="862560"/>
            <a:chOff x="3635280" y="2637000"/>
            <a:chExt cx="2232000" cy="862560"/>
          </a:xfrm>
        </p:grpSpPr>
        <p:sp>
          <p:nvSpPr>
            <p:cNvPr id="107" name=""/>
            <p:cNvSpPr/>
            <p:nvPr/>
          </p:nvSpPr>
          <p:spPr>
            <a:xfrm>
              <a:off x="3635280" y="2637000"/>
              <a:ext cx="223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637000"/>
              <a:ext cx="180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27640" y="2637000"/>
            <a:ext cx="2376720" cy="862560"/>
            <a:chOff x="6227640" y="2637000"/>
            <a:chExt cx="2376720" cy="862560"/>
          </a:xfrm>
        </p:grpSpPr>
        <p:sp>
          <p:nvSpPr>
            <p:cNvPr id="110" name=""/>
            <p:cNvSpPr/>
            <p:nvPr/>
          </p:nvSpPr>
          <p:spPr>
            <a:xfrm>
              <a:off x="6227640" y="2637000"/>
              <a:ext cx="2376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2637000"/>
              <a:ext cx="208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684000" y="3429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0920" y="4149720"/>
            <a:ext cx="2665440" cy="2025720"/>
            <a:chOff x="250920" y="4149720"/>
            <a:chExt cx="2665440" cy="2025720"/>
          </a:xfrm>
        </p:grpSpPr>
        <p:sp>
          <p:nvSpPr>
            <p:cNvPr id="114" name=""/>
            <p:cNvSpPr/>
            <p:nvPr/>
          </p:nvSpPr>
          <p:spPr>
            <a:xfrm>
              <a:off x="250920" y="4149720"/>
              <a:ext cx="1584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4149720"/>
              <a:ext cx="2376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вх=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7280" y="3429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4149720"/>
            <a:ext cx="2447640" cy="504720"/>
            <a:chOff x="2411280" y="4149720"/>
            <a:chExt cx="2447640" cy="504720"/>
          </a:xfrm>
        </p:grpSpPr>
        <p:sp>
          <p:nvSpPr>
            <p:cNvPr id="118" name=""/>
            <p:cNvSpPr/>
            <p:nvPr/>
          </p:nvSpPr>
          <p:spPr>
            <a:xfrm>
              <a:off x="2496960" y="414972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414972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95640" y="342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5229360"/>
            <a:ext cx="1871640" cy="431640"/>
            <a:chOff x="1476360" y="5229360"/>
            <a:chExt cx="1871640" cy="431640"/>
          </a:xfrm>
        </p:grpSpPr>
        <p:sp>
          <p:nvSpPr>
            <p:cNvPr id="122" name=""/>
            <p:cNvSpPr/>
            <p:nvPr/>
          </p:nvSpPr>
          <p:spPr>
            <a:xfrm>
              <a:off x="1476360" y="5229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640" y="5229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с=0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1258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419640" y="2060640"/>
            <a:ext cx="2232000" cy="525240"/>
            <a:chOff x="3419640" y="2060640"/>
            <a:chExt cx="2232000" cy="525240"/>
          </a:xfrm>
        </p:grpSpPr>
        <p:sp>
          <p:nvSpPr>
            <p:cNvPr id="126" name=""/>
            <p:cNvSpPr/>
            <p:nvPr/>
          </p:nvSpPr>
          <p:spPr>
            <a:xfrm>
              <a:off x="3419640" y="2060640"/>
              <a:ext cx="2232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640" y="2060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вх+с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763280" y="256536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3357720"/>
            <a:ext cx="1440000" cy="718920"/>
            <a:chOff x="900000" y="3357720"/>
            <a:chExt cx="1440000" cy="718920"/>
          </a:xfrm>
        </p:grpSpPr>
        <p:sp>
          <p:nvSpPr>
            <p:cNvPr id="130" name=""/>
            <p:cNvSpPr/>
            <p:nvPr/>
          </p:nvSpPr>
          <p:spPr>
            <a:xfrm>
              <a:off x="900000" y="3357720"/>
              <a:ext cx="1440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35772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1" action="ppaction://hlinksldjump"/>
                </a:rPr>
                <a:t>Общ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59640" y="3213000"/>
            <a:ext cx="1584000" cy="720720"/>
            <a:chOff x="6659640" y="3213000"/>
            <a:chExt cx="1584000" cy="720720"/>
          </a:xfrm>
        </p:grpSpPr>
        <p:sp>
          <p:nvSpPr>
            <p:cNvPr id="133" name=""/>
            <p:cNvSpPr/>
            <p:nvPr/>
          </p:nvSpPr>
          <p:spPr>
            <a:xfrm>
              <a:off x="6659640" y="3213000"/>
              <a:ext cx="1368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9640" y="32130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орема Ви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141720"/>
            <a:ext cx="2448000" cy="1008720"/>
            <a:chOff x="3348000" y="3141720"/>
            <a:chExt cx="2448000" cy="1008720"/>
          </a:xfrm>
        </p:grpSpPr>
        <p:sp>
          <p:nvSpPr>
            <p:cNvPr id="136" name=""/>
            <p:cNvSpPr/>
            <p:nvPr/>
          </p:nvSpPr>
          <p:spPr>
            <a:xfrm>
              <a:off x="3348000" y="3141720"/>
              <a:ext cx="237636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48000" y="3141720"/>
              <a:ext cx="244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ая формула с четным коэффициент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27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565360"/>
            <a:ext cx="19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4920" y="4076640"/>
            <a:ext cx="2305080" cy="2016360"/>
            <a:chOff x="3274920" y="4076640"/>
            <a:chExt cx="2305080" cy="2016360"/>
          </a:xfrm>
        </p:grpSpPr>
        <p:sp>
          <p:nvSpPr>
            <p:cNvPr id="141" name=""/>
            <p:cNvSpPr/>
            <p:nvPr/>
          </p:nvSpPr>
          <p:spPr>
            <a:xfrm>
              <a:off x="442764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4863960"/>
              <a:ext cx="2305080" cy="12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276720" y="4869000"/>
              <a:ext cx="21589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520720" cy="192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3933720"/>
            <a:ext cx="3095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98000"/>
                  </a:srgbClr>
                </a:solidFill>
                <a:latin typeface="Times New Roman"/>
              </a:rPr>
              <a:t>Следств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4653000"/>
            <a:ext cx="1799640" cy="1223640"/>
            <a:chOff x="468360" y="4653000"/>
            <a:chExt cx="1799640" cy="1223640"/>
          </a:xfrm>
        </p:grpSpPr>
        <p:sp>
          <p:nvSpPr>
            <p:cNvPr id="147" name=""/>
            <p:cNvSpPr/>
            <p:nvPr/>
          </p:nvSpPr>
          <p:spPr>
            <a:xfrm>
              <a:off x="468360" y="4653000"/>
              <a:ext cx="179964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24960" y="4753800"/>
              <a:ext cx="154116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564000" y="4653000"/>
            <a:ext cx="3024000" cy="936720"/>
            <a:chOff x="3564000" y="4653000"/>
            <a:chExt cx="3024000" cy="936720"/>
          </a:xfrm>
        </p:grpSpPr>
        <p:sp>
          <p:nvSpPr>
            <p:cNvPr id="150" name=""/>
            <p:cNvSpPr/>
            <p:nvPr/>
          </p:nvSpPr>
          <p:spPr>
            <a:xfrm>
              <a:off x="3564000" y="4653000"/>
              <a:ext cx="3024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08360" y="4724280"/>
              <a:ext cx="2664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164360" y="4653000"/>
            <a:ext cx="1728720" cy="936720"/>
            <a:chOff x="7164360" y="4653000"/>
            <a:chExt cx="1728720" cy="936720"/>
          </a:xfrm>
        </p:grpSpPr>
        <p:sp>
          <p:nvSpPr>
            <p:cNvPr id="153" name=""/>
            <p:cNvSpPr/>
            <p:nvPr/>
          </p:nvSpPr>
          <p:spPr>
            <a:xfrm>
              <a:off x="7164360" y="4653000"/>
              <a:ext cx="172872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236000" y="4724280"/>
              <a:ext cx="158400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 flipH="1">
            <a:off x="1835280" y="4292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292640"/>
            <a:ext cx="20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732720" y="1989000"/>
            <a:ext cx="18223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2492280"/>
            <a:ext cx="8280360" cy="2160720"/>
            <a:chOff x="324000" y="2492280"/>
            <a:chExt cx="8280360" cy="2160720"/>
          </a:xfrm>
        </p:grpSpPr>
        <p:sp>
          <p:nvSpPr>
            <p:cNvPr id="161" name=""/>
            <p:cNvSpPr/>
            <p:nvPr/>
          </p:nvSpPr>
          <p:spPr>
            <a:xfrm flipH="1">
              <a:off x="1620720" y="2492280"/>
              <a:ext cx="215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4000" y="3139920"/>
              <a:ext cx="2520720" cy="1138320"/>
              <a:chOff x="324000" y="3139920"/>
              <a:chExt cx="2520720" cy="1138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4000" y="3139920"/>
                <a:ext cx="2520720" cy="11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4000" y="3139920"/>
                <a:ext cx="2520720" cy="10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D&lt;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равнение корней не име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29080" y="249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249228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068640"/>
              <a:ext cx="2519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ни квадратного уравнения и дискриминан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44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32000" y="3141720"/>
            <a:ext cx="2522520" cy="1640880"/>
            <a:chOff x="3132000" y="3141720"/>
            <a:chExt cx="2522520" cy="1640880"/>
          </a:xfrm>
        </p:grpSpPr>
        <p:sp>
          <p:nvSpPr>
            <p:cNvPr id="172" name=""/>
            <p:cNvSpPr/>
            <p:nvPr/>
          </p:nvSpPr>
          <p:spPr>
            <a:xfrm>
              <a:off x="3133440" y="3141720"/>
              <a:ext cx="252108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32860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2000" y="3143520"/>
              <a:ext cx="251928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равнение имеет два равных действительных ко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56360" y="2997360"/>
            <a:ext cx="2448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имеет два разных действительных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84720" y="5084640"/>
            <a:ext cx="2664000" cy="1297080"/>
            <a:chOff x="6084720" y="5084640"/>
            <a:chExt cx="2664000" cy="1297080"/>
          </a:xfrm>
        </p:grpSpPr>
        <p:sp>
          <p:nvSpPr>
            <p:cNvPr id="178" name=""/>
            <p:cNvSpPr/>
            <p:nvPr/>
          </p:nvSpPr>
          <p:spPr>
            <a:xfrm>
              <a:off x="6084720" y="5084640"/>
              <a:ext cx="2664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6084720" y="5157720"/>
              <a:ext cx="2664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684360" y="5516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969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ол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1773360"/>
            <a:ext cx="2160360" cy="934920"/>
            <a:chOff x="826920" y="1773360"/>
            <a:chExt cx="2160360" cy="934920"/>
          </a:xfrm>
        </p:grpSpPr>
        <p:sp>
          <p:nvSpPr>
            <p:cNvPr id="184" name=""/>
            <p:cNvSpPr/>
            <p:nvPr/>
          </p:nvSpPr>
          <p:spPr>
            <a:xfrm flipH="1">
              <a:off x="1331640" y="1773360"/>
              <a:ext cx="165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6920" y="2637000"/>
              <a:ext cx="73080" cy="7128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04000" y="2565360"/>
            <a:ext cx="1871640" cy="431640"/>
            <a:chOff x="6804000" y="2565360"/>
            <a:chExt cx="1871640" cy="431640"/>
          </a:xfrm>
        </p:grpSpPr>
        <p:sp>
          <p:nvSpPr>
            <p:cNvPr id="187" name=""/>
            <p:cNvSpPr/>
            <p:nvPr/>
          </p:nvSpPr>
          <p:spPr>
            <a:xfrm>
              <a:off x="6804000" y="2565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5280" y="2565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с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2565360"/>
            <a:ext cx="3096360" cy="2025720"/>
            <a:chOff x="395280" y="2565360"/>
            <a:chExt cx="3096360" cy="2025720"/>
          </a:xfrm>
        </p:grpSpPr>
        <p:sp>
          <p:nvSpPr>
            <p:cNvPr id="190" name=""/>
            <p:cNvSpPr/>
            <p:nvPr/>
          </p:nvSpPr>
          <p:spPr>
            <a:xfrm>
              <a:off x="395280" y="2565360"/>
              <a:ext cx="184068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440" y="2565360"/>
              <a:ext cx="27612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вх=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000" y="3357720"/>
            <a:ext cx="2305080" cy="2520720"/>
            <a:chOff x="324000" y="3357720"/>
            <a:chExt cx="2305080" cy="2520720"/>
          </a:xfrm>
        </p:grpSpPr>
        <p:grpSp>
          <p:nvGrpSpPr>
            <p:cNvPr id="193" name=""/>
            <p:cNvGrpSpPr/>
            <p:nvPr/>
          </p:nvGrpSpPr>
          <p:grpSpPr>
            <a:xfrm>
              <a:off x="324000" y="3933720"/>
              <a:ext cx="2305080" cy="1944720"/>
              <a:chOff x="324000" y="3933720"/>
              <a:chExt cx="2305080" cy="1944720"/>
            </a:xfrm>
          </p:grpSpPr>
          <p:sp>
            <p:nvSpPr>
              <p:cNvPr id="194" name=""/>
              <p:cNvSpPr/>
              <p:nvPr/>
            </p:nvSpPr>
            <p:spPr>
              <a:xfrm>
                <a:off x="324000" y="3933720"/>
                <a:ext cx="2305080" cy="19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000" y="3933720"/>
                <a:ext cx="230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Разложение левой части уравнения на множители и приравниванием каждого множителя к нул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87280" y="3357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2360" y="1700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2997360"/>
            <a:ext cx="2555280" cy="2879640"/>
            <a:chOff x="6227640" y="2997360"/>
            <a:chExt cx="2555280" cy="2879640"/>
          </a:xfrm>
        </p:grpSpPr>
        <p:grpSp>
          <p:nvGrpSpPr>
            <p:cNvPr id="199" name=""/>
            <p:cNvGrpSpPr/>
            <p:nvPr/>
          </p:nvGrpSpPr>
          <p:grpSpPr>
            <a:xfrm>
              <a:off x="6227640" y="3860640"/>
              <a:ext cx="2555280" cy="2016360"/>
              <a:chOff x="6227640" y="3860640"/>
              <a:chExt cx="2555280" cy="201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227640" y="3860640"/>
                <a:ext cx="2555280" cy="201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27640" y="3860640"/>
                <a:ext cx="255528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ведение уравнения к виду   х</a:t>
                </a:r>
                <a:r>
                  <a:rPr b="0" i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71264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8000" y="2565360"/>
            <a:ext cx="2447640" cy="504720"/>
            <a:chOff x="3348000" y="2565360"/>
            <a:chExt cx="2447640" cy="504720"/>
          </a:xfrm>
        </p:grpSpPr>
        <p:sp>
          <p:nvSpPr>
            <p:cNvPr id="204" name=""/>
            <p:cNvSpPr/>
            <p:nvPr/>
          </p:nvSpPr>
          <p:spPr>
            <a:xfrm>
              <a:off x="3433680" y="256536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2565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0072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068640"/>
            <a:ext cx="2520720" cy="2736720"/>
            <a:chOff x="3419640" y="3068640"/>
            <a:chExt cx="2520720" cy="2736720"/>
          </a:xfrm>
        </p:grpSpPr>
        <p:sp>
          <p:nvSpPr>
            <p:cNvPr id="208" name=""/>
            <p:cNvSpPr/>
            <p:nvPr/>
          </p:nvSpPr>
          <p:spPr>
            <a:xfrm>
              <a:off x="4500720" y="306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19640" y="3789360"/>
              <a:ext cx="2520720" cy="2016000"/>
              <a:chOff x="3419640" y="3789360"/>
              <a:chExt cx="2520720" cy="201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3789360"/>
                <a:ext cx="2232000" cy="20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9640" y="3789360"/>
                <a:ext cx="2520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Деление обеих частей на коэффициент при неизвестном 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82692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54936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веден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2360" y="2276640"/>
            <a:ext cx="2376720" cy="533160"/>
            <a:chOff x="3492360" y="2276640"/>
            <a:chExt cx="2376720" cy="533160"/>
          </a:xfrm>
        </p:grpSpPr>
        <p:sp>
          <p:nvSpPr>
            <p:cNvPr id="215" name=""/>
            <p:cNvSpPr/>
            <p:nvPr/>
          </p:nvSpPr>
          <p:spPr>
            <a:xfrm>
              <a:off x="3492360" y="2276640"/>
              <a:ext cx="23767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2276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+рх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2920" y="3500280"/>
            <a:ext cx="2590920" cy="1511280"/>
            <a:chOff x="1042920" y="3500280"/>
            <a:chExt cx="2590920" cy="1511280"/>
          </a:xfrm>
        </p:grpSpPr>
        <p:sp>
          <p:nvSpPr>
            <p:cNvPr id="218" name=""/>
            <p:cNvSpPr/>
            <p:nvPr/>
          </p:nvSpPr>
          <p:spPr>
            <a:xfrm>
              <a:off x="1042920" y="3500280"/>
              <a:ext cx="25909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114200" y="3571560"/>
              <a:ext cx="237672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5796000" y="3573360"/>
            <a:ext cx="2087640" cy="1440000"/>
            <a:chOff x="5796000" y="3573360"/>
            <a:chExt cx="2087640" cy="1440000"/>
          </a:xfrm>
        </p:grpSpPr>
        <p:sp>
          <p:nvSpPr>
            <p:cNvPr id="221" name=""/>
            <p:cNvSpPr/>
            <p:nvPr/>
          </p:nvSpPr>
          <p:spPr>
            <a:xfrm>
              <a:off x="5796000" y="3573360"/>
              <a:ext cx="20876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6012000" y="3646440"/>
              <a:ext cx="172728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flipH="1">
            <a:off x="2627280" y="28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852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773360"/>
          <a:ext cx="8642160" cy="4176360"/>
        </p:xfrm>
        <a:graphic>
          <a:graphicData uri="http://schemas.openxmlformats.org/drawingml/2006/table">
            <a:tbl>
              <a:tblPr/>
              <a:tblGrid>
                <a:gridCol w="2162520"/>
                <a:gridCol w="2158200"/>
                <a:gridCol w="2158560"/>
                <a:gridCol w="216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ед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х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9х+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3у–4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1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5 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х – 2х - 4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6х-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0,75=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3141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63700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73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07664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4581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5013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5516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263700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020000" y="4149720"/>
            <a:ext cx="1542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22:06Z</dcterms:created>
  <dc:creator>Пользователь</dc:creator>
  <dc:description/>
  <dc:language>en-US</dc:language>
  <cp:lastModifiedBy>root</cp:lastModifiedBy>
  <dcterms:modified xsi:type="dcterms:W3CDTF">2009-10-21T09:25:01Z</dcterms:modified>
  <cp:revision>15</cp:revision>
  <dc:subject/>
  <dc:title>Слайд 1</dc:title>
</cp:coreProperties>
</file>