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2.wmf" ContentType="image/x-wmf"/>
  <Override PartName="/ppt/media/image1.gif" ContentType="image/gif"/>
  <Override PartName="/ppt/media/image2.wmf" ContentType="image/x-wmf"/>
  <Override PartName="/ppt/media/image3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1990-8C7E-446A-BB61-C70C3280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9979-5020-4EAA-8E9C-931DC910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C09E-FE4F-494D-AC82-33AEBA3E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695-7D6D-48ED-A536-70BB6318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AA56-50CF-45FF-8CE7-6072183D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11AD-F487-4BA2-8564-86650786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94FE-EE46-4D0D-842F-12CE3EE1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EB6F-22A4-402E-A6BD-38BE6309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697B-98F8-4DB8-B183-7C1626EB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3475-F6B4-4C95-AB2E-F90726F6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686D-CBF0-415E-85E3-7D5AE294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1E9F-A7CD-4E10-B8A0-CF41EE27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81B8-3F21-4985-B098-FF122437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FEBE-BE31-4E96-97E2-F8AA8243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602D-7DA2-4E9E-8772-FF3C2200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78A7-25CE-44AA-979D-CE3223C5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4EDE-7524-4EFC-9EBA-1D898A4C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863C-C612-4865-BD01-258D2904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55D-188D-427B-90D1-9ABA574C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13AD-DC84-43B9-A692-88E247AC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2767-6695-421E-B56B-8CE81ACB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8EEA-D2A9-497E-B358-87EBBCF4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A34A-ED2E-4355-ABD7-98889472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2606-8F90-4D52-9409-1ED963B8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76FD-3176-40F4-9092-7E6DC15D5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9858-6222-491D-A4DA-961D02ACA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" Target="slide7.xml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971640" y="836640"/>
            <a:ext cx="6769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вадратные уравн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Материалы для итогового урока (повторение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90560" y="4005360"/>
            <a:ext cx="18684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9640" y="260280"/>
            <a:ext cx="820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оверь себ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332000" y="1844640"/>
          <a:ext cx="6095880" cy="40636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х</a:t>
                      </a:r>
                      <a:r>
                        <a:rPr b="0" lang="en-US" sz="27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5х+2=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х</a:t>
                      </a:r>
                      <a:r>
                        <a:rPr b="0" lang="en-US" sz="27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4х-4=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=9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=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2;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2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/2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-2/3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179280" y="4005360"/>
            <a:ext cx="138924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066920" y="1844640"/>
            <a:ext cx="3529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3х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-2х+5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5х-3х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–х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2х-5х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-1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х(х-1)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2х-3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х-3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+2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1738080" cy="2586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635280" y="2060640"/>
            <a:ext cx="360360" cy="288720"/>
          </a:xfrm>
          <a:prstGeom prst="sun">
            <a:avLst>
              <a:gd name="adj" fmla="val 25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141720"/>
            <a:ext cx="360360" cy="288720"/>
          </a:xfrm>
          <a:prstGeom prst="sun">
            <a:avLst>
              <a:gd name="adj" fmla="val 25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3716280"/>
            <a:ext cx="360360" cy="289080"/>
          </a:xfrm>
          <a:prstGeom prst="sun">
            <a:avLst>
              <a:gd name="adj" fmla="val 25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4869000"/>
            <a:ext cx="360360" cy="288720"/>
          </a:xfrm>
          <a:prstGeom prst="sun">
            <a:avLst>
              <a:gd name="adj" fmla="val 25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9640" y="333360"/>
            <a:ext cx="79200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лассификация видов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вадратных уравнени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268000" y="1700280"/>
            <a:ext cx="1008360" cy="9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1700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0360" y="1700280"/>
            <a:ext cx="144000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26920" y="2637000"/>
            <a:ext cx="2592720" cy="792000"/>
            <a:chOff x="826920" y="2637000"/>
            <a:chExt cx="2592720" cy="792000"/>
          </a:xfrm>
        </p:grpSpPr>
        <p:sp>
          <p:nvSpPr>
            <p:cNvPr id="104" name=""/>
            <p:cNvSpPr/>
            <p:nvPr/>
          </p:nvSpPr>
          <p:spPr>
            <a:xfrm>
              <a:off x="826920" y="2637000"/>
              <a:ext cx="259272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03280" y="2708280"/>
              <a:ext cx="19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99cc00"/>
                  </a:solidFill>
                  <a:uFillTx/>
                  <a:latin typeface="Arial"/>
                  <a:hlinkClick r:id="rId5" action="ppaction://hlinksldjump"/>
                </a:rPr>
                <a:t>непол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635280" y="2637000"/>
            <a:ext cx="2232000" cy="862560"/>
            <a:chOff x="3635280" y="2637000"/>
            <a:chExt cx="2232000" cy="862560"/>
          </a:xfrm>
        </p:grpSpPr>
        <p:sp>
          <p:nvSpPr>
            <p:cNvPr id="107" name=""/>
            <p:cNvSpPr/>
            <p:nvPr/>
          </p:nvSpPr>
          <p:spPr>
            <a:xfrm>
              <a:off x="3635280" y="2637000"/>
              <a:ext cx="223200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51280" y="2637000"/>
              <a:ext cx="1800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ол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227640" y="2637000"/>
            <a:ext cx="2376720" cy="862560"/>
            <a:chOff x="6227640" y="2637000"/>
            <a:chExt cx="2376720" cy="862560"/>
          </a:xfrm>
        </p:grpSpPr>
        <p:sp>
          <p:nvSpPr>
            <p:cNvPr id="110" name=""/>
            <p:cNvSpPr/>
            <p:nvPr/>
          </p:nvSpPr>
          <p:spPr>
            <a:xfrm>
              <a:off x="6227640" y="2637000"/>
              <a:ext cx="237672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72360" y="2637000"/>
              <a:ext cx="20890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иведен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H="1">
            <a:off x="684000" y="3429000"/>
            <a:ext cx="934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50920" y="4149720"/>
            <a:ext cx="2665440" cy="2025720"/>
            <a:chOff x="250920" y="4149720"/>
            <a:chExt cx="2665440" cy="2025720"/>
          </a:xfrm>
        </p:grpSpPr>
        <p:sp>
          <p:nvSpPr>
            <p:cNvPr id="114" name=""/>
            <p:cNvSpPr/>
            <p:nvPr/>
          </p:nvSpPr>
          <p:spPr>
            <a:xfrm>
              <a:off x="250920" y="4149720"/>
              <a:ext cx="158436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9640" y="4149720"/>
              <a:ext cx="237672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х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вх=0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с=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627280" y="3429000"/>
            <a:ext cx="936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411280" y="4149720"/>
            <a:ext cx="2447640" cy="504720"/>
            <a:chOff x="2411280" y="4149720"/>
            <a:chExt cx="2447640" cy="504720"/>
          </a:xfrm>
        </p:grpSpPr>
        <p:sp>
          <p:nvSpPr>
            <p:cNvPr id="118" name=""/>
            <p:cNvSpPr/>
            <p:nvPr/>
          </p:nvSpPr>
          <p:spPr>
            <a:xfrm>
              <a:off x="2496960" y="4149720"/>
              <a:ext cx="202536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11280" y="4149720"/>
              <a:ext cx="24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х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0 (в=0, с=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195640" y="3429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476360" y="5229360"/>
            <a:ext cx="1871640" cy="431640"/>
            <a:chOff x="1476360" y="5229360"/>
            <a:chExt cx="1871640" cy="431640"/>
          </a:xfrm>
        </p:grpSpPr>
        <p:sp>
          <p:nvSpPr>
            <p:cNvPr id="122" name=""/>
            <p:cNvSpPr/>
            <p:nvPr/>
          </p:nvSpPr>
          <p:spPr>
            <a:xfrm>
              <a:off x="1476360" y="5229360"/>
              <a:ext cx="17287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640" y="522936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х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с=0 (в=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7020000" y="3933720"/>
            <a:ext cx="12589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3419640" y="2060640"/>
            <a:ext cx="2232000" cy="525240"/>
            <a:chOff x="3419640" y="2060640"/>
            <a:chExt cx="2232000" cy="525240"/>
          </a:xfrm>
        </p:grpSpPr>
        <p:sp>
          <p:nvSpPr>
            <p:cNvPr id="126" name=""/>
            <p:cNvSpPr/>
            <p:nvPr/>
          </p:nvSpPr>
          <p:spPr>
            <a:xfrm>
              <a:off x="3419640" y="2060640"/>
              <a:ext cx="2232000" cy="52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35640" y="2060640"/>
              <a:ext cx="18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ах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+вх+с=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H="1">
            <a:off x="1763280" y="2565360"/>
            <a:ext cx="2087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00000" y="3357720"/>
            <a:ext cx="1440000" cy="718920"/>
            <a:chOff x="900000" y="3357720"/>
            <a:chExt cx="1440000" cy="718920"/>
          </a:xfrm>
        </p:grpSpPr>
        <p:sp>
          <p:nvSpPr>
            <p:cNvPr id="130" name=""/>
            <p:cNvSpPr/>
            <p:nvPr/>
          </p:nvSpPr>
          <p:spPr>
            <a:xfrm>
              <a:off x="900000" y="3357720"/>
              <a:ext cx="1440000" cy="71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00000" y="3357720"/>
              <a:ext cx="144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 u="sng">
                  <a:solidFill>
                    <a:srgbClr val="99cc00"/>
                  </a:solidFill>
                  <a:uFillTx/>
                  <a:latin typeface="Arial"/>
                  <a:hlinkClick r:id="rId1" action="ppaction://hlinksldjump"/>
                </a:rPr>
                <a:t>Общая форму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659640" y="3213000"/>
            <a:ext cx="1584000" cy="720720"/>
            <a:chOff x="6659640" y="3213000"/>
            <a:chExt cx="1584000" cy="720720"/>
          </a:xfrm>
        </p:grpSpPr>
        <p:sp>
          <p:nvSpPr>
            <p:cNvPr id="133" name=""/>
            <p:cNvSpPr/>
            <p:nvPr/>
          </p:nvSpPr>
          <p:spPr>
            <a:xfrm>
              <a:off x="6659640" y="3213000"/>
              <a:ext cx="1368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59640" y="3213000"/>
              <a:ext cx="158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Теорема Ви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348000" y="3141720"/>
            <a:ext cx="2448000" cy="1008720"/>
            <a:chOff x="3348000" y="3141720"/>
            <a:chExt cx="2448000" cy="1008720"/>
          </a:xfrm>
        </p:grpSpPr>
        <p:sp>
          <p:nvSpPr>
            <p:cNvPr id="136" name=""/>
            <p:cNvSpPr/>
            <p:nvPr/>
          </p:nvSpPr>
          <p:spPr>
            <a:xfrm>
              <a:off x="3348000" y="3141720"/>
              <a:ext cx="2376360" cy="9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48000" y="3141720"/>
              <a:ext cx="2448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бщая формула с четным коэффициенто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427640" y="2565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35640" y="2565360"/>
            <a:ext cx="1942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4920" y="4076640"/>
            <a:ext cx="2305080" cy="2016360"/>
            <a:chOff x="3274920" y="4076640"/>
            <a:chExt cx="2305080" cy="2016360"/>
          </a:xfrm>
        </p:grpSpPr>
        <p:sp>
          <p:nvSpPr>
            <p:cNvPr id="141" name=""/>
            <p:cNvSpPr/>
            <p:nvPr/>
          </p:nvSpPr>
          <p:spPr>
            <a:xfrm>
              <a:off x="4427640" y="407664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4920" y="4863960"/>
              <a:ext cx="2305080" cy="122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3276720" y="4869000"/>
              <a:ext cx="2158920" cy="1152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59280" y="1916280"/>
            <a:ext cx="2520720" cy="1920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2771640" y="3933720"/>
            <a:ext cx="309564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99">
                    <a:alpha val="98000"/>
                  </a:srgbClr>
                </a:solidFill>
                <a:latin typeface="Times New Roman"/>
              </a:rPr>
              <a:t>Следстви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99ff99">
                  <a:alpha val="98000"/>
                </a:srgbClr>
              </a:solidFill>
              <a:latin typeface="Times New Roman"/>
              <a:ea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68360" y="4653000"/>
            <a:ext cx="1799640" cy="1223640"/>
            <a:chOff x="468360" y="4653000"/>
            <a:chExt cx="1799640" cy="1223640"/>
          </a:xfrm>
        </p:grpSpPr>
        <p:sp>
          <p:nvSpPr>
            <p:cNvPr id="147" name=""/>
            <p:cNvSpPr/>
            <p:nvPr/>
          </p:nvSpPr>
          <p:spPr>
            <a:xfrm>
              <a:off x="468360" y="4653000"/>
              <a:ext cx="1799640" cy="122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624960" y="4753800"/>
              <a:ext cx="1541160" cy="112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"/>
          <p:cNvGrpSpPr/>
          <p:nvPr/>
        </p:nvGrpSpPr>
        <p:grpSpPr>
          <a:xfrm>
            <a:off x="3564000" y="4653000"/>
            <a:ext cx="3024000" cy="936720"/>
            <a:chOff x="3564000" y="4653000"/>
            <a:chExt cx="3024000" cy="936720"/>
          </a:xfrm>
        </p:grpSpPr>
        <p:sp>
          <p:nvSpPr>
            <p:cNvPr id="150" name=""/>
            <p:cNvSpPr/>
            <p:nvPr/>
          </p:nvSpPr>
          <p:spPr>
            <a:xfrm>
              <a:off x="3564000" y="4653000"/>
              <a:ext cx="3024000" cy="9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3708360" y="4724280"/>
              <a:ext cx="2664000" cy="79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7164360" y="4653000"/>
            <a:ext cx="1728720" cy="936720"/>
            <a:chOff x="7164360" y="4653000"/>
            <a:chExt cx="1728720" cy="936720"/>
          </a:xfrm>
        </p:grpSpPr>
        <p:sp>
          <p:nvSpPr>
            <p:cNvPr id="153" name=""/>
            <p:cNvSpPr/>
            <p:nvPr/>
          </p:nvSpPr>
          <p:spPr>
            <a:xfrm>
              <a:off x="7164360" y="4653000"/>
              <a:ext cx="1728720" cy="9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7236000" y="4724280"/>
              <a:ext cx="1584000" cy="79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"/>
          <p:cNvSpPr/>
          <p:nvPr/>
        </p:nvSpPr>
        <p:spPr>
          <a:xfrm flipH="1">
            <a:off x="1835280" y="4292640"/>
            <a:ext cx="144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4328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51640" y="4292640"/>
            <a:ext cx="20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7493"/>
                </a:moveTo>
                <a:lnTo>
                  <a:pt x="10357" y="7493"/>
                </a:lnTo>
                <a:lnTo>
                  <a:pt x="10357" y="12828"/>
                </a:lnTo>
                <a:cubicBezTo>
                  <a:pt x="10357" y="13751"/>
                  <a:pt x="11158" y="14482"/>
                  <a:pt x="12194" y="14482"/>
                </a:cubicBezTo>
                <a:lnTo>
                  <a:pt x="13856" y="14482"/>
                </a:lnTo>
                <a:cubicBezTo>
                  <a:pt x="14892" y="14482"/>
                  <a:pt x="15693" y="13751"/>
                  <a:pt x="15693" y="12828"/>
                </a:cubicBezTo>
                <a:lnTo>
                  <a:pt x="15693" y="7493"/>
                </a:lnTo>
                <a:lnTo>
                  <a:pt x="13856" y="7493"/>
                </a:lnTo>
                <a:lnTo>
                  <a:pt x="17364" y="3985"/>
                </a:lnTo>
                <a:lnTo>
                  <a:pt x="21037" y="7493"/>
                </a:lnTo>
                <a:lnTo>
                  <a:pt x="19200" y="7493"/>
                </a:lnTo>
                <a:lnTo>
                  <a:pt x="19200" y="12828"/>
                </a:lnTo>
                <a:cubicBezTo>
                  <a:pt x="19200" y="15596"/>
                  <a:pt x="16624" y="18155"/>
                  <a:pt x="13856" y="18155"/>
                </a:cubicBezTo>
                <a:lnTo>
                  <a:pt x="12194" y="18155"/>
                </a:lnTo>
                <a:cubicBezTo>
                  <a:pt x="9426" y="18155"/>
                  <a:pt x="6850" y="15596"/>
                  <a:pt x="6850" y="12828"/>
                </a:cubicBez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6732720" y="1989000"/>
            <a:ext cx="18223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324000" y="2492280"/>
            <a:ext cx="8280360" cy="2160720"/>
            <a:chOff x="324000" y="2492280"/>
            <a:chExt cx="8280360" cy="2160720"/>
          </a:xfrm>
        </p:grpSpPr>
        <p:sp>
          <p:nvSpPr>
            <p:cNvPr id="161" name=""/>
            <p:cNvSpPr/>
            <p:nvPr/>
          </p:nvSpPr>
          <p:spPr>
            <a:xfrm flipH="1">
              <a:off x="1620720" y="2492280"/>
              <a:ext cx="215928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324000" y="3139920"/>
              <a:ext cx="2520720" cy="1138320"/>
              <a:chOff x="324000" y="3139920"/>
              <a:chExt cx="2520720" cy="1138320"/>
            </a:xfrm>
          </p:grpSpPr>
          <p:sp>
            <p:nvSpPr>
              <p:cNvPr id="163" name=""/>
              <p:cNvSpPr/>
              <p:nvPr/>
            </p:nvSpPr>
            <p:spPr>
              <a:xfrm>
                <a:off x="324000" y="3139920"/>
                <a:ext cx="2520720" cy="1138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4000" y="3139920"/>
                <a:ext cx="2520720" cy="109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      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D&lt;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Уравнение корней не имее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4429080" y="24922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32360" y="2492280"/>
              <a:ext cx="2736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84720" y="3068640"/>
              <a:ext cx="2519640" cy="15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 txBox="1"/>
          <p:nvPr/>
        </p:nvSpPr>
        <p:spPr>
          <a:xfrm>
            <a:off x="539640" y="476280"/>
            <a:ext cx="8209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рни квадратного уравнения и дискриминан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19640" y="1844640"/>
            <a:ext cx="1728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35280" y="1916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4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132000" y="3141720"/>
            <a:ext cx="2522520" cy="1640880"/>
            <a:chOff x="3132000" y="3141720"/>
            <a:chExt cx="2522520" cy="1640880"/>
          </a:xfrm>
        </p:grpSpPr>
        <p:sp>
          <p:nvSpPr>
            <p:cNvPr id="172" name=""/>
            <p:cNvSpPr/>
            <p:nvPr/>
          </p:nvSpPr>
          <p:spPr>
            <a:xfrm>
              <a:off x="3133440" y="3141720"/>
              <a:ext cx="2521080" cy="15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20720" y="32860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32000" y="3143520"/>
              <a:ext cx="2519280" cy="163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=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равнение имеет два равных действительных кор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156360" y="2997360"/>
            <a:ext cx="244800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&g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авнение имеет два разных действительных кор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51640" y="4653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084720" y="5084640"/>
            <a:ext cx="2664000" cy="1297080"/>
            <a:chOff x="6084720" y="5084640"/>
            <a:chExt cx="2664000" cy="1297080"/>
          </a:xfrm>
        </p:grpSpPr>
        <p:sp>
          <p:nvSpPr>
            <p:cNvPr id="178" name=""/>
            <p:cNvSpPr/>
            <p:nvPr/>
          </p:nvSpPr>
          <p:spPr>
            <a:xfrm>
              <a:off x="6084720" y="5084640"/>
              <a:ext cx="266400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3"/>
            <a:stretch/>
          </p:blipFill>
          <p:spPr>
            <a:xfrm>
              <a:off x="6084720" y="5157720"/>
              <a:ext cx="266400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"/>
          <p:cNvSpPr/>
          <p:nvPr/>
        </p:nvSpPr>
        <p:spPr>
          <a:xfrm>
            <a:off x="684360" y="551664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7499"/>
                </a:moveTo>
                <a:lnTo>
                  <a:pt x="7301" y="7499"/>
                </a:lnTo>
                <a:lnTo>
                  <a:pt x="7301" y="12835"/>
                </a:lnTo>
                <a:cubicBezTo>
                  <a:pt x="7301" y="13757"/>
                  <a:pt x="8102" y="14488"/>
                  <a:pt x="9138" y="14488"/>
                </a:cubicBezTo>
                <a:lnTo>
                  <a:pt x="10800" y="14488"/>
                </a:lnTo>
                <a:cubicBezTo>
                  <a:pt x="11836" y="14488"/>
                  <a:pt x="12636" y="13757"/>
                  <a:pt x="12636" y="12835"/>
                </a:cubicBezTo>
                <a:lnTo>
                  <a:pt x="12636" y="7499"/>
                </a:lnTo>
                <a:lnTo>
                  <a:pt x="10800" y="7499"/>
                </a:lnTo>
                <a:lnTo>
                  <a:pt x="14308" y="3992"/>
                </a:lnTo>
                <a:lnTo>
                  <a:pt x="17981" y="7499"/>
                </a:lnTo>
                <a:lnTo>
                  <a:pt x="16144" y="7499"/>
                </a:lnTo>
                <a:lnTo>
                  <a:pt x="16144" y="12835"/>
                </a:lnTo>
                <a:cubicBezTo>
                  <a:pt x="16144" y="15602"/>
                  <a:pt x="13568" y="18161"/>
                  <a:pt x="10800" y="18161"/>
                </a:cubicBezTo>
                <a:lnTo>
                  <a:pt x="9138" y="18161"/>
                </a:lnTo>
                <a:cubicBezTo>
                  <a:pt x="6370" y="18161"/>
                  <a:pt x="3794" y="15602"/>
                  <a:pt x="3794" y="12835"/>
                </a:cubicBez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9698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539640" y="476280"/>
            <a:ext cx="8209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ешен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полных квадратных уравнени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826920" y="1773360"/>
            <a:ext cx="2160360" cy="934920"/>
            <a:chOff x="826920" y="1773360"/>
            <a:chExt cx="2160360" cy="934920"/>
          </a:xfrm>
        </p:grpSpPr>
        <p:sp>
          <p:nvSpPr>
            <p:cNvPr id="184" name=""/>
            <p:cNvSpPr/>
            <p:nvPr/>
          </p:nvSpPr>
          <p:spPr>
            <a:xfrm flipH="1">
              <a:off x="1331640" y="1773360"/>
              <a:ext cx="1655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6920" y="2637000"/>
              <a:ext cx="73080" cy="71280"/>
            </a:xfrm>
            <a:prstGeom prst="rect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804000" y="2565360"/>
            <a:ext cx="1871640" cy="431640"/>
            <a:chOff x="6804000" y="2565360"/>
            <a:chExt cx="1871640" cy="431640"/>
          </a:xfrm>
        </p:grpSpPr>
        <p:sp>
          <p:nvSpPr>
            <p:cNvPr id="187" name=""/>
            <p:cNvSpPr/>
            <p:nvPr/>
          </p:nvSpPr>
          <p:spPr>
            <a:xfrm>
              <a:off x="6804000" y="2565360"/>
              <a:ext cx="17287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75280" y="256536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ах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+с=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(в=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95280" y="2565360"/>
            <a:ext cx="3096360" cy="2025720"/>
            <a:chOff x="395280" y="2565360"/>
            <a:chExt cx="3096360" cy="2025720"/>
          </a:xfrm>
        </p:grpSpPr>
        <p:sp>
          <p:nvSpPr>
            <p:cNvPr id="190" name=""/>
            <p:cNvSpPr/>
            <p:nvPr/>
          </p:nvSpPr>
          <p:spPr>
            <a:xfrm>
              <a:off x="395280" y="2565360"/>
              <a:ext cx="184068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0440" y="2565360"/>
              <a:ext cx="276120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ах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+вх=0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с=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24000" y="3357720"/>
            <a:ext cx="2305080" cy="2520720"/>
            <a:chOff x="324000" y="3357720"/>
            <a:chExt cx="2305080" cy="2520720"/>
          </a:xfrm>
        </p:grpSpPr>
        <p:grpSp>
          <p:nvGrpSpPr>
            <p:cNvPr id="193" name=""/>
            <p:cNvGrpSpPr/>
            <p:nvPr/>
          </p:nvGrpSpPr>
          <p:grpSpPr>
            <a:xfrm>
              <a:off x="324000" y="3933720"/>
              <a:ext cx="2305080" cy="1944720"/>
              <a:chOff x="324000" y="3933720"/>
              <a:chExt cx="2305080" cy="1944720"/>
            </a:xfrm>
          </p:grpSpPr>
          <p:sp>
            <p:nvSpPr>
              <p:cNvPr id="194" name=""/>
              <p:cNvSpPr/>
              <p:nvPr/>
            </p:nvSpPr>
            <p:spPr>
              <a:xfrm>
                <a:off x="324000" y="3933720"/>
                <a:ext cx="2305080" cy="1944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000" y="3933720"/>
                <a:ext cx="23050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Разложение левой части уравнения на множители и приравниванием каждого множителя к нулю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1187280" y="335772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372360" y="1700280"/>
            <a:ext cx="15127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227640" y="2997360"/>
            <a:ext cx="2555280" cy="2879640"/>
            <a:chOff x="6227640" y="2997360"/>
            <a:chExt cx="2555280" cy="2879640"/>
          </a:xfrm>
        </p:grpSpPr>
        <p:grpSp>
          <p:nvGrpSpPr>
            <p:cNvPr id="199" name=""/>
            <p:cNvGrpSpPr/>
            <p:nvPr/>
          </p:nvGrpSpPr>
          <p:grpSpPr>
            <a:xfrm>
              <a:off x="6227640" y="3860640"/>
              <a:ext cx="2555280" cy="2016360"/>
              <a:chOff x="6227640" y="3860640"/>
              <a:chExt cx="2555280" cy="2016360"/>
            </a:xfrm>
          </p:grpSpPr>
          <p:sp>
            <p:nvSpPr>
              <p:cNvPr id="200" name=""/>
              <p:cNvSpPr/>
              <p:nvPr/>
            </p:nvSpPr>
            <p:spPr>
              <a:xfrm>
                <a:off x="6227640" y="3860640"/>
                <a:ext cx="2555280" cy="201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27640" y="3860640"/>
                <a:ext cx="255528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Сведение уравнения к виду   х</a:t>
                </a:r>
                <a:r>
                  <a:rPr b="0" i="1" lang="ru-RU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d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с последующим извлечением квадратного корн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712640" y="299736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348000" y="2565360"/>
            <a:ext cx="2447640" cy="504720"/>
            <a:chOff x="3348000" y="2565360"/>
            <a:chExt cx="2447640" cy="504720"/>
          </a:xfrm>
        </p:grpSpPr>
        <p:sp>
          <p:nvSpPr>
            <p:cNvPr id="204" name=""/>
            <p:cNvSpPr/>
            <p:nvPr/>
          </p:nvSpPr>
          <p:spPr>
            <a:xfrm>
              <a:off x="3433680" y="2565360"/>
              <a:ext cx="202536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48000" y="2565360"/>
              <a:ext cx="24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ах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=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(в=0, с=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500720" y="1700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419640" y="3068640"/>
            <a:ext cx="2520720" cy="2736720"/>
            <a:chOff x="3419640" y="3068640"/>
            <a:chExt cx="2520720" cy="2736720"/>
          </a:xfrm>
        </p:grpSpPr>
        <p:sp>
          <p:nvSpPr>
            <p:cNvPr id="208" name=""/>
            <p:cNvSpPr/>
            <p:nvPr/>
          </p:nvSpPr>
          <p:spPr>
            <a:xfrm>
              <a:off x="4500720" y="306864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419640" y="3789360"/>
              <a:ext cx="2520720" cy="2016000"/>
              <a:chOff x="3419640" y="3789360"/>
              <a:chExt cx="2520720" cy="2016000"/>
            </a:xfrm>
          </p:grpSpPr>
          <p:sp>
            <p:nvSpPr>
              <p:cNvPr id="210" name=""/>
              <p:cNvSpPr/>
              <p:nvPr/>
            </p:nvSpPr>
            <p:spPr>
              <a:xfrm>
                <a:off x="3419640" y="3789360"/>
                <a:ext cx="2232000" cy="201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19640" y="3789360"/>
                <a:ext cx="252072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Деление обеих частей на коэффициент при неизвестном с последующим извлечением квадратного корн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826920" y="609300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7493"/>
                </a:moveTo>
                <a:lnTo>
                  <a:pt x="11920" y="7493"/>
                </a:lnTo>
                <a:lnTo>
                  <a:pt x="11920" y="12828"/>
                </a:lnTo>
                <a:cubicBezTo>
                  <a:pt x="11920" y="13751"/>
                  <a:pt x="12721" y="14482"/>
                  <a:pt x="13756" y="14482"/>
                </a:cubicBezTo>
                <a:lnTo>
                  <a:pt x="15419" y="14482"/>
                </a:lnTo>
                <a:cubicBezTo>
                  <a:pt x="16454" y="14482"/>
                  <a:pt x="17255" y="13751"/>
                  <a:pt x="17255" y="12828"/>
                </a:cubicBezTo>
                <a:lnTo>
                  <a:pt x="17255" y="7493"/>
                </a:lnTo>
                <a:lnTo>
                  <a:pt x="15419" y="7493"/>
                </a:lnTo>
                <a:lnTo>
                  <a:pt x="18926" y="3985"/>
                </a:lnTo>
                <a:lnTo>
                  <a:pt x="22599" y="7493"/>
                </a:lnTo>
                <a:lnTo>
                  <a:pt x="20763" y="7493"/>
                </a:lnTo>
                <a:lnTo>
                  <a:pt x="20763" y="12828"/>
                </a:lnTo>
                <a:cubicBezTo>
                  <a:pt x="20763" y="15596"/>
                  <a:pt x="18186" y="18155"/>
                  <a:pt x="15419" y="18155"/>
                </a:cubicBezTo>
                <a:lnTo>
                  <a:pt x="13756" y="18155"/>
                </a:lnTo>
                <a:cubicBezTo>
                  <a:pt x="10988" y="18155"/>
                  <a:pt x="8412" y="15596"/>
                  <a:pt x="8412" y="12828"/>
                </a:cubicBez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95280" y="549360"/>
            <a:ext cx="820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ешен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иведенных квадратных уравнени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492360" y="2276640"/>
            <a:ext cx="2376720" cy="533160"/>
            <a:chOff x="3492360" y="2276640"/>
            <a:chExt cx="2376720" cy="533160"/>
          </a:xfrm>
        </p:grpSpPr>
        <p:sp>
          <p:nvSpPr>
            <p:cNvPr id="215" name=""/>
            <p:cNvSpPr/>
            <p:nvPr/>
          </p:nvSpPr>
          <p:spPr>
            <a:xfrm>
              <a:off x="3492360" y="2276640"/>
              <a:ext cx="23767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637080" y="2276640"/>
              <a:ext cx="20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х</a:t>
              </a:r>
              <a:r>
                <a:rPr b="1" lang="ru-RU" sz="20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+рх+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q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042920" y="3500280"/>
            <a:ext cx="2590920" cy="1511280"/>
            <a:chOff x="1042920" y="3500280"/>
            <a:chExt cx="2590920" cy="1511280"/>
          </a:xfrm>
        </p:grpSpPr>
        <p:sp>
          <p:nvSpPr>
            <p:cNvPr id="218" name=""/>
            <p:cNvSpPr/>
            <p:nvPr/>
          </p:nvSpPr>
          <p:spPr>
            <a:xfrm>
              <a:off x="1042920" y="3500280"/>
              <a:ext cx="2590920" cy="151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7"/>
            <a:stretch/>
          </p:blipFill>
          <p:spPr>
            <a:xfrm>
              <a:off x="1114200" y="3571560"/>
              <a:ext cx="237672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"/>
          <p:cNvGrpSpPr/>
          <p:nvPr/>
        </p:nvGrpSpPr>
        <p:grpSpPr>
          <a:xfrm>
            <a:off x="5796000" y="3573360"/>
            <a:ext cx="2087640" cy="1440000"/>
            <a:chOff x="5796000" y="3573360"/>
            <a:chExt cx="2087640" cy="1440000"/>
          </a:xfrm>
        </p:grpSpPr>
        <p:sp>
          <p:nvSpPr>
            <p:cNvPr id="221" name=""/>
            <p:cNvSpPr/>
            <p:nvPr/>
          </p:nvSpPr>
          <p:spPr>
            <a:xfrm>
              <a:off x="5796000" y="3573360"/>
              <a:ext cx="208764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8"/>
            <a:stretch/>
          </p:blipFill>
          <p:spPr>
            <a:xfrm>
              <a:off x="6012000" y="3646440"/>
              <a:ext cx="172728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"/>
          <p:cNvSpPr/>
          <p:nvPr/>
        </p:nvSpPr>
        <p:spPr>
          <a:xfrm flipH="1">
            <a:off x="2627280" y="2852640"/>
            <a:ext cx="1224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48360" y="2852640"/>
            <a:ext cx="1655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250920" y="1773360"/>
          <a:ext cx="8642160" cy="4176360"/>
        </p:xfrm>
        <a:graphic>
          <a:graphicData uri="http://schemas.openxmlformats.org/drawingml/2006/table">
            <a:tbl>
              <a:tblPr/>
              <a:tblGrid>
                <a:gridCol w="2162520"/>
                <a:gridCol w="2158200"/>
                <a:gridCol w="2158560"/>
                <a:gridCol w="21628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ав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ол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веден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х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9х+2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3у–4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x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1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5 x 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х – 2х - 4х 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x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x 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х 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6х-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x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0,75=0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 txBox="1"/>
          <p:nvPr/>
        </p:nvSpPr>
        <p:spPr>
          <a:xfrm>
            <a:off x="539640" y="260280"/>
            <a:ext cx="820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оверь себ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48000" y="213372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64000" y="314172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740720" y="2637000"/>
            <a:ext cx="43164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64000" y="357336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35640" y="4076640"/>
            <a:ext cx="43164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458136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19640" y="5013360"/>
            <a:ext cx="43164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64000" y="551664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348000" y="263700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020000" y="4149720"/>
            <a:ext cx="15429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1:22:06Z</dcterms:created>
  <dc:creator>Пользователь</dc:creator>
  <dc:description/>
  <dc:language>en-US</dc:language>
  <cp:lastModifiedBy>root</cp:lastModifiedBy>
  <dcterms:modified xsi:type="dcterms:W3CDTF">2009-10-21T09:25:01Z</dcterms:modified>
  <cp:revision>15</cp:revision>
  <dc:subject/>
  <dc:title>Слайд 1</dc:title>
</cp:coreProperties>
</file>