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4.png" ContentType="image/png"/>
  <Override PartName="/ppt/media/image4.wmf" ContentType="image/x-wmf"/>
  <Override PartName="/ppt/media/image5.png" ContentType="image/png"/>
  <Override PartName="/ppt/media/image12.wmf" ContentType="image/x-wmf"/>
  <Override PartName="/ppt/media/image1.gif" ContentType="image/gif"/>
  <Override PartName="/ppt/media/image2.wmf" ContentType="image/x-wmf"/>
  <Override PartName="/ppt/media/image3.jpeg" ContentType="image/jpeg"/>
  <Override PartName="/ppt/media/image6.png" ContentType="image/png"/>
  <Override PartName="/ppt/media/image10.wmf" ContentType="image/x-wmf"/>
  <Override PartName="/ppt/media/image11.png" ContentType="image/pn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28E1-5689-4BA9-8493-BAB6A8A8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603E-C984-4643-9D26-2DF62CC4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3EA2-C011-482A-964A-186BD22C7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F85A-3A5B-4EA1-819D-718E4795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5DD1-5F87-41C5-B8F3-E3EE4017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8F03-6468-4E65-B02E-C2997A51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8D72-243C-456E-8D07-E95B57CD4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75341-DF8F-4BC1-A609-E7094A0F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A542-64B0-485C-B9F9-17B28BE5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5FB0-9EEF-4AA3-A20D-0DF67FDA5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5F980-E460-4C7C-9103-172396C3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8148-2D42-4331-B1EF-F34416D23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A580A-D828-480A-B0BD-67E6737E4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6112-9786-4311-AFC0-2B70E369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2539E-9514-4D28-A05C-698385D5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A1A13-876E-4305-8EA8-DD74A46D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D9CE-C89A-489E-AF64-CD5059388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0453-F42A-4DF4-B67E-0610ADA6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944B-3201-4C29-8977-74A8CF50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FA33F-E40D-452B-AD79-0B43B8898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869A-3051-48A6-A865-BB372E12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0828-A48A-4E85-8662-CB594ADB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D5F6-E381-4A04-B285-050E988D2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37A6-A33A-4EED-855A-5177BD64A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C8B77-9D4F-4073-BC44-C0139807C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1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DD6B-0D06-4C70-B510-D2F91D928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" Target="slide7.xml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1.png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971640" y="836640"/>
            <a:ext cx="6769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вадратные уравнения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Материалы для итогового урока (повторение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1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90560" y="4005360"/>
            <a:ext cx="186840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9640" y="260280"/>
            <a:ext cx="820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оверь себ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332000" y="1844640"/>
          <a:ext cx="6095880" cy="406368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х</a:t>
                      </a:r>
                      <a:r>
                        <a:rPr b="0" lang="en-US" sz="27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5х+2=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х</a:t>
                      </a:r>
                      <a:r>
                        <a:rPr b="0" lang="en-US" sz="2700" spc="-1" strike="noStrike" baseline="30000">
                          <a:solidFill>
                            <a:srgbClr val="ff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7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-4х-4=0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=9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=</a:t>
                      </a:r>
                      <a:r>
                        <a:rPr b="0" lang="ru-RU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2; 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2;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1/2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</a:t>
                      </a:r>
                      <a:r>
                        <a:rPr b="0" lang="en-US" sz="27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-2/3</a:t>
                      </a:r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179280" y="4005360"/>
            <a:ext cx="138924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066920" y="1844640"/>
            <a:ext cx="3529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3х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-2х+5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5х-3х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–х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2х-5х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-1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х(х-1)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2х-3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х-3)</a:t>
            </a:r>
            <a:r>
              <a:rPr b="0" lang="en-US" sz="31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+2=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1738080" cy="2586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635280" y="2060640"/>
            <a:ext cx="360360" cy="288720"/>
          </a:xfrm>
          <a:prstGeom prst="sun">
            <a:avLst>
              <a:gd name="adj" fmla="val 25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141720"/>
            <a:ext cx="360360" cy="288720"/>
          </a:xfrm>
          <a:prstGeom prst="sun">
            <a:avLst>
              <a:gd name="adj" fmla="val 25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3716280"/>
            <a:ext cx="360360" cy="289080"/>
          </a:xfrm>
          <a:prstGeom prst="sun">
            <a:avLst>
              <a:gd name="adj" fmla="val 25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4869000"/>
            <a:ext cx="360360" cy="288720"/>
          </a:xfrm>
          <a:prstGeom prst="sun">
            <a:avLst>
              <a:gd name="adj" fmla="val 25000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39640" y="333360"/>
            <a:ext cx="79200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лассификация видов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вадратных уравнени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268000" y="1700280"/>
            <a:ext cx="1008360" cy="9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1700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0360" y="1700280"/>
            <a:ext cx="144000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826920" y="2637000"/>
            <a:ext cx="2592720" cy="792000"/>
            <a:chOff x="826920" y="2637000"/>
            <a:chExt cx="2592720" cy="792000"/>
          </a:xfrm>
        </p:grpSpPr>
        <p:sp>
          <p:nvSpPr>
            <p:cNvPr id="104" name=""/>
            <p:cNvSpPr/>
            <p:nvPr/>
          </p:nvSpPr>
          <p:spPr>
            <a:xfrm>
              <a:off x="826920" y="2637000"/>
              <a:ext cx="259272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403280" y="2708280"/>
              <a:ext cx="194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99cc00"/>
                  </a:solidFill>
                  <a:uFillTx/>
                  <a:latin typeface="Arial"/>
                  <a:hlinkClick r:id="rId5" action="ppaction://hlinksldjump"/>
                </a:rPr>
                <a:t>непол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635280" y="2637000"/>
            <a:ext cx="2232000" cy="862560"/>
            <a:chOff x="3635280" y="2637000"/>
            <a:chExt cx="2232000" cy="862560"/>
          </a:xfrm>
        </p:grpSpPr>
        <p:sp>
          <p:nvSpPr>
            <p:cNvPr id="107" name=""/>
            <p:cNvSpPr/>
            <p:nvPr/>
          </p:nvSpPr>
          <p:spPr>
            <a:xfrm>
              <a:off x="3635280" y="2637000"/>
              <a:ext cx="223200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51280" y="2637000"/>
              <a:ext cx="180036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ол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6227640" y="2637000"/>
            <a:ext cx="2376720" cy="862560"/>
            <a:chOff x="6227640" y="2637000"/>
            <a:chExt cx="2376720" cy="862560"/>
          </a:xfrm>
        </p:grpSpPr>
        <p:sp>
          <p:nvSpPr>
            <p:cNvPr id="110" name=""/>
            <p:cNvSpPr/>
            <p:nvPr/>
          </p:nvSpPr>
          <p:spPr>
            <a:xfrm>
              <a:off x="6227640" y="2637000"/>
              <a:ext cx="237672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72360" y="2637000"/>
              <a:ext cx="20890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иведенны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 flipH="1">
            <a:off x="684000" y="3429000"/>
            <a:ext cx="9349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50920" y="4149720"/>
            <a:ext cx="2665440" cy="2025720"/>
            <a:chOff x="250920" y="4149720"/>
            <a:chExt cx="2665440" cy="2025720"/>
          </a:xfrm>
        </p:grpSpPr>
        <p:sp>
          <p:nvSpPr>
            <p:cNvPr id="114" name=""/>
            <p:cNvSpPr/>
            <p:nvPr/>
          </p:nvSpPr>
          <p:spPr>
            <a:xfrm>
              <a:off x="250920" y="4149720"/>
              <a:ext cx="158436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39640" y="4149720"/>
              <a:ext cx="237672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х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вх=0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с=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627280" y="3429000"/>
            <a:ext cx="93672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411280" y="4149720"/>
            <a:ext cx="2447640" cy="504720"/>
            <a:chOff x="2411280" y="4149720"/>
            <a:chExt cx="2447640" cy="504720"/>
          </a:xfrm>
        </p:grpSpPr>
        <p:sp>
          <p:nvSpPr>
            <p:cNvPr id="118" name=""/>
            <p:cNvSpPr/>
            <p:nvPr/>
          </p:nvSpPr>
          <p:spPr>
            <a:xfrm>
              <a:off x="2496960" y="4149720"/>
              <a:ext cx="202536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11280" y="4149720"/>
              <a:ext cx="24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х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=0 (в=0, с=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195640" y="3429000"/>
            <a:ext cx="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1476360" y="5229360"/>
            <a:ext cx="1871640" cy="431640"/>
            <a:chOff x="1476360" y="5229360"/>
            <a:chExt cx="1871640" cy="431640"/>
          </a:xfrm>
        </p:grpSpPr>
        <p:sp>
          <p:nvSpPr>
            <p:cNvPr id="122" name=""/>
            <p:cNvSpPr/>
            <p:nvPr/>
          </p:nvSpPr>
          <p:spPr>
            <a:xfrm>
              <a:off x="1476360" y="5229360"/>
              <a:ext cx="17287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547640" y="522936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ах</a:t>
              </a:r>
              <a:r>
                <a:rPr b="1" lang="en-US" sz="18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+с=0 (в=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7020000" y="3933720"/>
            <a:ext cx="12589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3419640" y="2060640"/>
            <a:ext cx="2232000" cy="525240"/>
            <a:chOff x="3419640" y="2060640"/>
            <a:chExt cx="2232000" cy="525240"/>
          </a:xfrm>
        </p:grpSpPr>
        <p:sp>
          <p:nvSpPr>
            <p:cNvPr id="126" name=""/>
            <p:cNvSpPr/>
            <p:nvPr/>
          </p:nvSpPr>
          <p:spPr>
            <a:xfrm>
              <a:off x="3419640" y="2060640"/>
              <a:ext cx="2232000" cy="525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35640" y="2060640"/>
              <a:ext cx="18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ах</a:t>
              </a:r>
              <a:r>
                <a:rPr b="1" lang="en-US" sz="20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+вх+с=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 flipH="1">
            <a:off x="1763280" y="2565360"/>
            <a:ext cx="2087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900000" y="3357720"/>
            <a:ext cx="1440000" cy="718920"/>
            <a:chOff x="900000" y="3357720"/>
            <a:chExt cx="1440000" cy="718920"/>
          </a:xfrm>
        </p:grpSpPr>
        <p:sp>
          <p:nvSpPr>
            <p:cNvPr id="130" name=""/>
            <p:cNvSpPr/>
            <p:nvPr/>
          </p:nvSpPr>
          <p:spPr>
            <a:xfrm>
              <a:off x="900000" y="3357720"/>
              <a:ext cx="1440000" cy="71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00000" y="3357720"/>
              <a:ext cx="144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 u="sng">
                  <a:solidFill>
                    <a:srgbClr val="99cc00"/>
                  </a:solidFill>
                  <a:uFillTx/>
                  <a:latin typeface="Arial"/>
                  <a:hlinkClick r:id="rId1" action="ppaction://hlinksldjump"/>
                </a:rPr>
                <a:t>Общая формул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659640" y="3213000"/>
            <a:ext cx="1584000" cy="720720"/>
            <a:chOff x="6659640" y="3213000"/>
            <a:chExt cx="1584000" cy="720720"/>
          </a:xfrm>
        </p:grpSpPr>
        <p:sp>
          <p:nvSpPr>
            <p:cNvPr id="133" name=""/>
            <p:cNvSpPr/>
            <p:nvPr/>
          </p:nvSpPr>
          <p:spPr>
            <a:xfrm>
              <a:off x="6659640" y="3213000"/>
              <a:ext cx="1368360" cy="72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659640" y="3213000"/>
              <a:ext cx="158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Теорема Ви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348000" y="3141720"/>
            <a:ext cx="2448000" cy="1008720"/>
            <a:chOff x="3348000" y="3141720"/>
            <a:chExt cx="2448000" cy="1008720"/>
          </a:xfrm>
        </p:grpSpPr>
        <p:sp>
          <p:nvSpPr>
            <p:cNvPr id="136" name=""/>
            <p:cNvSpPr/>
            <p:nvPr/>
          </p:nvSpPr>
          <p:spPr>
            <a:xfrm>
              <a:off x="3348000" y="3141720"/>
              <a:ext cx="2376360" cy="9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348000" y="3141720"/>
              <a:ext cx="2448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Общая формула с четным коэффициенто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4427640" y="2565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35640" y="2565360"/>
            <a:ext cx="19429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274920" y="4076640"/>
            <a:ext cx="2305080" cy="2016360"/>
            <a:chOff x="3274920" y="4076640"/>
            <a:chExt cx="2305080" cy="2016360"/>
          </a:xfrm>
        </p:grpSpPr>
        <p:sp>
          <p:nvSpPr>
            <p:cNvPr id="141" name=""/>
            <p:cNvSpPr/>
            <p:nvPr/>
          </p:nvSpPr>
          <p:spPr>
            <a:xfrm>
              <a:off x="4427640" y="4076640"/>
              <a:ext cx="0" cy="7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274920" y="4863960"/>
              <a:ext cx="2305080" cy="122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3276720" y="4869000"/>
              <a:ext cx="2158920" cy="1152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3059280" y="1916280"/>
            <a:ext cx="2520720" cy="19206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2771640" y="3933720"/>
            <a:ext cx="309564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ff99">
                    <a:alpha val="98000"/>
                  </a:srgbClr>
                </a:solidFill>
                <a:latin typeface="Times New Roman"/>
              </a:rPr>
              <a:t>Следствия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99ff99">
                  <a:alpha val="98000"/>
                </a:srgbClr>
              </a:solidFill>
              <a:latin typeface="Times New Roman"/>
              <a:ea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68360" y="4653000"/>
            <a:ext cx="1799640" cy="1223640"/>
            <a:chOff x="468360" y="4653000"/>
            <a:chExt cx="1799640" cy="1223640"/>
          </a:xfrm>
        </p:grpSpPr>
        <p:sp>
          <p:nvSpPr>
            <p:cNvPr id="147" name=""/>
            <p:cNvSpPr/>
            <p:nvPr/>
          </p:nvSpPr>
          <p:spPr>
            <a:xfrm>
              <a:off x="468360" y="4653000"/>
              <a:ext cx="1799640" cy="122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624960" y="4753800"/>
              <a:ext cx="1541160" cy="112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9" name=""/>
          <p:cNvGrpSpPr/>
          <p:nvPr/>
        </p:nvGrpSpPr>
        <p:grpSpPr>
          <a:xfrm>
            <a:off x="3564000" y="4653000"/>
            <a:ext cx="3024000" cy="936720"/>
            <a:chOff x="3564000" y="4653000"/>
            <a:chExt cx="3024000" cy="936720"/>
          </a:xfrm>
        </p:grpSpPr>
        <p:sp>
          <p:nvSpPr>
            <p:cNvPr id="150" name=""/>
            <p:cNvSpPr/>
            <p:nvPr/>
          </p:nvSpPr>
          <p:spPr>
            <a:xfrm>
              <a:off x="3564000" y="4653000"/>
              <a:ext cx="3024000" cy="9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3708360" y="4724280"/>
              <a:ext cx="2664000" cy="792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7164360" y="4653000"/>
            <a:ext cx="1728720" cy="936720"/>
            <a:chOff x="7164360" y="4653000"/>
            <a:chExt cx="1728720" cy="936720"/>
          </a:xfrm>
        </p:grpSpPr>
        <p:sp>
          <p:nvSpPr>
            <p:cNvPr id="153" name=""/>
            <p:cNvSpPr/>
            <p:nvPr/>
          </p:nvSpPr>
          <p:spPr>
            <a:xfrm>
              <a:off x="7164360" y="4653000"/>
              <a:ext cx="1728720" cy="93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" descr=""/>
            <p:cNvPicPr/>
            <p:nvPr/>
          </p:nvPicPr>
          <p:blipFill>
            <a:blip r:embed="rId4"/>
            <a:stretch/>
          </p:blipFill>
          <p:spPr>
            <a:xfrm>
              <a:off x="7236000" y="4724280"/>
              <a:ext cx="1584000" cy="79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5" name=""/>
          <p:cNvSpPr/>
          <p:nvPr/>
        </p:nvSpPr>
        <p:spPr>
          <a:xfrm flipH="1">
            <a:off x="1835280" y="4292640"/>
            <a:ext cx="144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43280" y="4292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51640" y="4292640"/>
            <a:ext cx="208908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7493"/>
                </a:moveTo>
                <a:lnTo>
                  <a:pt x="10357" y="7493"/>
                </a:lnTo>
                <a:lnTo>
                  <a:pt x="10357" y="12828"/>
                </a:lnTo>
                <a:cubicBezTo>
                  <a:pt x="10357" y="13751"/>
                  <a:pt x="11158" y="14482"/>
                  <a:pt x="12194" y="14482"/>
                </a:cubicBezTo>
                <a:lnTo>
                  <a:pt x="13856" y="14482"/>
                </a:lnTo>
                <a:cubicBezTo>
                  <a:pt x="14892" y="14482"/>
                  <a:pt x="15693" y="13751"/>
                  <a:pt x="15693" y="12828"/>
                </a:cubicBezTo>
                <a:lnTo>
                  <a:pt x="15693" y="7493"/>
                </a:lnTo>
                <a:lnTo>
                  <a:pt x="13856" y="7493"/>
                </a:lnTo>
                <a:lnTo>
                  <a:pt x="17364" y="3985"/>
                </a:lnTo>
                <a:lnTo>
                  <a:pt x="21037" y="7493"/>
                </a:lnTo>
                <a:lnTo>
                  <a:pt x="19200" y="7493"/>
                </a:lnTo>
                <a:lnTo>
                  <a:pt x="19200" y="12828"/>
                </a:lnTo>
                <a:cubicBezTo>
                  <a:pt x="19200" y="15596"/>
                  <a:pt x="16624" y="18155"/>
                  <a:pt x="13856" y="18155"/>
                </a:cubicBezTo>
                <a:lnTo>
                  <a:pt x="12194" y="18155"/>
                </a:lnTo>
                <a:cubicBezTo>
                  <a:pt x="9426" y="18155"/>
                  <a:pt x="6850" y="15596"/>
                  <a:pt x="6850" y="12828"/>
                </a:cubicBez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5"/>
          <a:stretch/>
        </p:blipFill>
        <p:spPr>
          <a:xfrm>
            <a:off x="6732720" y="1989000"/>
            <a:ext cx="18223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324000" y="2492280"/>
            <a:ext cx="8280360" cy="2160720"/>
            <a:chOff x="324000" y="2492280"/>
            <a:chExt cx="8280360" cy="2160720"/>
          </a:xfrm>
        </p:grpSpPr>
        <p:sp>
          <p:nvSpPr>
            <p:cNvPr id="161" name=""/>
            <p:cNvSpPr/>
            <p:nvPr/>
          </p:nvSpPr>
          <p:spPr>
            <a:xfrm flipH="1">
              <a:off x="1620720" y="2492280"/>
              <a:ext cx="215928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324000" y="3139920"/>
              <a:ext cx="2520720" cy="1138320"/>
              <a:chOff x="324000" y="3139920"/>
              <a:chExt cx="2520720" cy="1138320"/>
            </a:xfrm>
          </p:grpSpPr>
          <p:sp>
            <p:nvSpPr>
              <p:cNvPr id="163" name=""/>
              <p:cNvSpPr/>
              <p:nvPr/>
            </p:nvSpPr>
            <p:spPr>
              <a:xfrm>
                <a:off x="324000" y="3139920"/>
                <a:ext cx="2520720" cy="11383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4000" y="3139920"/>
                <a:ext cx="2520720" cy="109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         </a:t>
                </a:r>
                <a:r>
                  <a:rPr b="1" lang="en-US" sz="2000" spc="-1" strike="noStrike">
                    <a:solidFill>
                      <a:srgbClr val="ff0000"/>
                    </a:solidFill>
                    <a:latin typeface="Arial"/>
                  </a:rPr>
                  <a:t>D&lt;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ru-RU" sz="1800" spc="-1" strike="noStrike">
                    <a:solidFill>
                      <a:srgbClr val="000000"/>
                    </a:solidFill>
                    <a:latin typeface="Arial"/>
                  </a:rPr>
                  <a:t>Уравнение корней не имеет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4429080" y="24922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32360" y="2492280"/>
              <a:ext cx="2736720" cy="50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084720" y="3068640"/>
              <a:ext cx="2519640" cy="15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 txBox="1"/>
          <p:nvPr/>
        </p:nvSpPr>
        <p:spPr>
          <a:xfrm>
            <a:off x="539640" y="476280"/>
            <a:ext cx="8209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орни квадратного уравнения и дискриминант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419640" y="1844640"/>
            <a:ext cx="1728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635280" y="1916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=b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4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3132000" y="3141720"/>
            <a:ext cx="2522520" cy="1640880"/>
            <a:chOff x="3132000" y="3141720"/>
            <a:chExt cx="2522520" cy="1640880"/>
          </a:xfrm>
        </p:grpSpPr>
        <p:sp>
          <p:nvSpPr>
            <p:cNvPr id="172" name=""/>
            <p:cNvSpPr/>
            <p:nvPr/>
          </p:nvSpPr>
          <p:spPr>
            <a:xfrm>
              <a:off x="3133440" y="3141720"/>
              <a:ext cx="2521080" cy="158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20720" y="3286080"/>
              <a:ext cx="1657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32000" y="3143520"/>
              <a:ext cx="2519280" cy="163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D=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Уравнение имеет два равных действительных корн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6156360" y="2997360"/>
            <a:ext cx="244800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&gt;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авнение имеет два разных действительных кор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451640" y="4653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6084720" y="5084640"/>
            <a:ext cx="2664000" cy="1297080"/>
            <a:chOff x="6084720" y="5084640"/>
            <a:chExt cx="2664000" cy="1297080"/>
          </a:xfrm>
        </p:grpSpPr>
        <p:sp>
          <p:nvSpPr>
            <p:cNvPr id="178" name=""/>
            <p:cNvSpPr/>
            <p:nvPr/>
          </p:nvSpPr>
          <p:spPr>
            <a:xfrm>
              <a:off x="6084720" y="5084640"/>
              <a:ext cx="2664000" cy="1295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9" name="" descr=""/>
            <p:cNvPicPr/>
            <p:nvPr/>
          </p:nvPicPr>
          <p:blipFill>
            <a:blip r:embed="rId3"/>
            <a:stretch/>
          </p:blipFill>
          <p:spPr>
            <a:xfrm>
              <a:off x="6084720" y="5157720"/>
              <a:ext cx="266400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0" name=""/>
          <p:cNvSpPr/>
          <p:nvPr/>
        </p:nvSpPr>
        <p:spPr>
          <a:xfrm>
            <a:off x="684360" y="551664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7499"/>
                </a:moveTo>
                <a:lnTo>
                  <a:pt x="7301" y="7499"/>
                </a:lnTo>
                <a:lnTo>
                  <a:pt x="7301" y="12835"/>
                </a:lnTo>
                <a:cubicBezTo>
                  <a:pt x="7301" y="13757"/>
                  <a:pt x="8102" y="14488"/>
                  <a:pt x="9138" y="14488"/>
                </a:cubicBezTo>
                <a:lnTo>
                  <a:pt x="10800" y="14488"/>
                </a:lnTo>
                <a:cubicBezTo>
                  <a:pt x="11836" y="14488"/>
                  <a:pt x="12636" y="13757"/>
                  <a:pt x="12636" y="12835"/>
                </a:cubicBezTo>
                <a:lnTo>
                  <a:pt x="12636" y="7499"/>
                </a:lnTo>
                <a:lnTo>
                  <a:pt x="10800" y="7499"/>
                </a:lnTo>
                <a:lnTo>
                  <a:pt x="14308" y="3992"/>
                </a:lnTo>
                <a:lnTo>
                  <a:pt x="17981" y="7499"/>
                </a:lnTo>
                <a:lnTo>
                  <a:pt x="16144" y="7499"/>
                </a:lnTo>
                <a:lnTo>
                  <a:pt x="16144" y="12835"/>
                </a:lnTo>
                <a:cubicBezTo>
                  <a:pt x="16144" y="15602"/>
                  <a:pt x="13568" y="18161"/>
                  <a:pt x="10800" y="18161"/>
                </a:cubicBezTo>
                <a:lnTo>
                  <a:pt x="9138" y="18161"/>
                </a:lnTo>
                <a:cubicBezTo>
                  <a:pt x="6370" y="18161"/>
                  <a:pt x="3794" y="15602"/>
                  <a:pt x="3794" y="12835"/>
                </a:cubicBez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4"/>
          <a:stretch/>
        </p:blipFill>
        <p:spPr>
          <a:xfrm>
            <a:off x="611280" y="1268280"/>
            <a:ext cx="9698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539640" y="476280"/>
            <a:ext cx="820908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ешен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неполных квадратных уравнени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826920" y="1773360"/>
            <a:ext cx="2160360" cy="934920"/>
            <a:chOff x="826920" y="1773360"/>
            <a:chExt cx="2160360" cy="934920"/>
          </a:xfrm>
        </p:grpSpPr>
        <p:sp>
          <p:nvSpPr>
            <p:cNvPr id="184" name=""/>
            <p:cNvSpPr/>
            <p:nvPr/>
          </p:nvSpPr>
          <p:spPr>
            <a:xfrm flipH="1">
              <a:off x="1331640" y="1773360"/>
              <a:ext cx="1655640" cy="79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6920" y="2637000"/>
              <a:ext cx="73080" cy="71280"/>
            </a:xfrm>
            <a:prstGeom prst="rect">
              <a:avLst/>
            </a:prstGeom>
            <a:solidFill>
              <a:srgbClr val="97cd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6804000" y="2565360"/>
            <a:ext cx="1871640" cy="431640"/>
            <a:chOff x="6804000" y="2565360"/>
            <a:chExt cx="1871640" cy="431640"/>
          </a:xfrm>
        </p:grpSpPr>
        <p:sp>
          <p:nvSpPr>
            <p:cNvPr id="187" name=""/>
            <p:cNvSpPr/>
            <p:nvPr/>
          </p:nvSpPr>
          <p:spPr>
            <a:xfrm>
              <a:off x="6804000" y="2565360"/>
              <a:ext cx="172872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875280" y="2565360"/>
              <a:ext cx="18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ах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+с=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(в=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395280" y="2565360"/>
            <a:ext cx="3096360" cy="2025720"/>
            <a:chOff x="395280" y="2565360"/>
            <a:chExt cx="3096360" cy="2025720"/>
          </a:xfrm>
        </p:grpSpPr>
        <p:sp>
          <p:nvSpPr>
            <p:cNvPr id="190" name=""/>
            <p:cNvSpPr/>
            <p:nvPr/>
          </p:nvSpPr>
          <p:spPr>
            <a:xfrm>
              <a:off x="395280" y="2565360"/>
              <a:ext cx="1840680" cy="79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0440" y="2565360"/>
              <a:ext cx="2761200" cy="20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ах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+вх=0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(с=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24000" y="3357720"/>
            <a:ext cx="2305080" cy="2520720"/>
            <a:chOff x="324000" y="3357720"/>
            <a:chExt cx="2305080" cy="2520720"/>
          </a:xfrm>
        </p:grpSpPr>
        <p:grpSp>
          <p:nvGrpSpPr>
            <p:cNvPr id="193" name=""/>
            <p:cNvGrpSpPr/>
            <p:nvPr/>
          </p:nvGrpSpPr>
          <p:grpSpPr>
            <a:xfrm>
              <a:off x="324000" y="3933720"/>
              <a:ext cx="2305080" cy="1944720"/>
              <a:chOff x="324000" y="3933720"/>
              <a:chExt cx="2305080" cy="1944720"/>
            </a:xfrm>
          </p:grpSpPr>
          <p:sp>
            <p:nvSpPr>
              <p:cNvPr id="194" name=""/>
              <p:cNvSpPr/>
              <p:nvPr/>
            </p:nvSpPr>
            <p:spPr>
              <a:xfrm>
                <a:off x="324000" y="3933720"/>
                <a:ext cx="2305080" cy="1944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324000" y="3933720"/>
                <a:ext cx="230508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Разложение левой части уравнения на множители и приравниванием каждого множителя к нулю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1187280" y="3357720"/>
              <a:ext cx="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372360" y="1700280"/>
            <a:ext cx="151272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227640" y="2997360"/>
            <a:ext cx="2555280" cy="2879640"/>
            <a:chOff x="6227640" y="2997360"/>
            <a:chExt cx="2555280" cy="2879640"/>
          </a:xfrm>
        </p:grpSpPr>
        <p:grpSp>
          <p:nvGrpSpPr>
            <p:cNvPr id="199" name=""/>
            <p:cNvGrpSpPr/>
            <p:nvPr/>
          </p:nvGrpSpPr>
          <p:grpSpPr>
            <a:xfrm>
              <a:off x="6227640" y="3860640"/>
              <a:ext cx="2555280" cy="2016360"/>
              <a:chOff x="6227640" y="3860640"/>
              <a:chExt cx="2555280" cy="2016360"/>
            </a:xfrm>
          </p:grpSpPr>
          <p:sp>
            <p:nvSpPr>
              <p:cNvPr id="200" name=""/>
              <p:cNvSpPr/>
              <p:nvPr/>
            </p:nvSpPr>
            <p:spPr>
              <a:xfrm>
                <a:off x="6227640" y="3860640"/>
                <a:ext cx="2555280" cy="201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227640" y="3860640"/>
                <a:ext cx="2555280" cy="1608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Сведение уравнения к виду   х</a:t>
                </a:r>
                <a:r>
                  <a:rPr b="0" i="1" lang="ru-RU" sz="18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d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i="1" lang="ru-RU" sz="1800" spc="-1" strike="noStrike">
                    <a:solidFill>
                      <a:srgbClr val="000000"/>
                    </a:solidFill>
                    <a:latin typeface="Arial"/>
                  </a:rPr>
                  <a:t>с последующим извлечением квадратного корн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712640" y="2997360"/>
              <a:ext cx="0" cy="86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348000" y="2565360"/>
            <a:ext cx="2447640" cy="504720"/>
            <a:chOff x="3348000" y="2565360"/>
            <a:chExt cx="2447640" cy="504720"/>
          </a:xfrm>
        </p:grpSpPr>
        <p:sp>
          <p:nvSpPr>
            <p:cNvPr id="204" name=""/>
            <p:cNvSpPr/>
            <p:nvPr/>
          </p:nvSpPr>
          <p:spPr>
            <a:xfrm>
              <a:off x="3433680" y="2565360"/>
              <a:ext cx="2025360" cy="50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48000" y="2565360"/>
              <a:ext cx="24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ах</a:t>
              </a:r>
              <a:r>
                <a:rPr b="1" lang="en-US" sz="18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=0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(в=0, с=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500720" y="1700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419640" y="3068640"/>
            <a:ext cx="2520720" cy="2736720"/>
            <a:chOff x="3419640" y="3068640"/>
            <a:chExt cx="2520720" cy="2736720"/>
          </a:xfrm>
        </p:grpSpPr>
        <p:sp>
          <p:nvSpPr>
            <p:cNvPr id="208" name=""/>
            <p:cNvSpPr/>
            <p:nvPr/>
          </p:nvSpPr>
          <p:spPr>
            <a:xfrm>
              <a:off x="4500720" y="3068640"/>
              <a:ext cx="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3419640" y="3789360"/>
              <a:ext cx="2520720" cy="2016000"/>
              <a:chOff x="3419640" y="3789360"/>
              <a:chExt cx="2520720" cy="2016000"/>
            </a:xfrm>
          </p:grpSpPr>
          <p:sp>
            <p:nvSpPr>
              <p:cNvPr id="210" name=""/>
              <p:cNvSpPr/>
              <p:nvPr/>
            </p:nvSpPr>
            <p:spPr>
              <a:xfrm>
                <a:off x="3419640" y="3789360"/>
                <a:ext cx="2232000" cy="201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419640" y="3789360"/>
                <a:ext cx="2520720" cy="20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Arial"/>
                  </a:rPr>
                  <a:t>Деление обеих частей на коэффициент при неизвестном с последующим извлечением квадратного корн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826920" y="6093000"/>
            <a:ext cx="720720" cy="504720"/>
          </a:xfrm>
          <a:custGeom>
            <a:avLst/>
            <a:gdLst>
              <a:gd name="textAreaLeft" fmla="*/ 32400 w 720720"/>
              <a:gd name="textAreaRight" fmla="*/ 688320 w 7207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30837" h="21600">
                <a:moveTo>
                  <a:pt x="0" y="0"/>
                </a:moveTo>
                <a:lnTo>
                  <a:pt x="30837" y="0"/>
                </a:lnTo>
                <a:lnTo>
                  <a:pt x="30837" y="21600"/>
                </a:lnTo>
                <a:lnTo>
                  <a:pt x="0" y="21600"/>
                </a:lnTo>
                <a:close/>
              </a:path>
              <a:path fill="lightenLess" w="30837" h="21600">
                <a:moveTo>
                  <a:pt x="0" y="0"/>
                </a:moveTo>
                <a:lnTo>
                  <a:pt x="30837" y="0"/>
                </a:lnTo>
                <a:lnTo>
                  <a:pt x="29437" y="1400"/>
                </a:lnTo>
                <a:lnTo>
                  <a:pt x="1400" y="1400"/>
                </a:lnTo>
                <a:close/>
              </a:path>
              <a:path fill="darken" w="30837" h="21600">
                <a:moveTo>
                  <a:pt x="30837" y="0"/>
                </a:moveTo>
                <a:lnTo>
                  <a:pt x="30837" y="21600"/>
                </a:lnTo>
                <a:lnTo>
                  <a:pt x="29437" y="20200"/>
                </a:lnTo>
                <a:lnTo>
                  <a:pt x="29437" y="1400"/>
                </a:lnTo>
                <a:close/>
              </a:path>
              <a:path fill="darkenLess" w="30837" h="21600">
                <a:moveTo>
                  <a:pt x="308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37" y="20200"/>
                </a:lnTo>
                <a:close/>
              </a:path>
              <a:path fill="lighten" w="308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37" h="21600">
                <a:moveTo>
                  <a:pt x="8412" y="7493"/>
                </a:moveTo>
                <a:lnTo>
                  <a:pt x="11920" y="7493"/>
                </a:lnTo>
                <a:lnTo>
                  <a:pt x="11920" y="12828"/>
                </a:lnTo>
                <a:cubicBezTo>
                  <a:pt x="11920" y="13751"/>
                  <a:pt x="12721" y="14482"/>
                  <a:pt x="13756" y="14482"/>
                </a:cubicBezTo>
                <a:lnTo>
                  <a:pt x="15419" y="14482"/>
                </a:lnTo>
                <a:cubicBezTo>
                  <a:pt x="16454" y="14482"/>
                  <a:pt x="17255" y="13751"/>
                  <a:pt x="17255" y="12828"/>
                </a:cubicBezTo>
                <a:lnTo>
                  <a:pt x="17255" y="7493"/>
                </a:lnTo>
                <a:lnTo>
                  <a:pt x="15419" y="7493"/>
                </a:lnTo>
                <a:lnTo>
                  <a:pt x="18926" y="3985"/>
                </a:lnTo>
                <a:lnTo>
                  <a:pt x="22599" y="7493"/>
                </a:lnTo>
                <a:lnTo>
                  <a:pt x="20763" y="7493"/>
                </a:lnTo>
                <a:lnTo>
                  <a:pt x="20763" y="12828"/>
                </a:lnTo>
                <a:cubicBezTo>
                  <a:pt x="20763" y="15596"/>
                  <a:pt x="18186" y="18155"/>
                  <a:pt x="15419" y="18155"/>
                </a:cubicBezTo>
                <a:lnTo>
                  <a:pt x="13756" y="18155"/>
                </a:lnTo>
                <a:cubicBezTo>
                  <a:pt x="10988" y="18155"/>
                  <a:pt x="8412" y="15596"/>
                  <a:pt x="8412" y="12828"/>
                </a:cubicBezTo>
                <a:close/>
              </a:path>
            </a:pathLst>
          </a:custGeom>
          <a:solidFill>
            <a:srgbClr val="97cd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395280" y="549360"/>
            <a:ext cx="8209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Решен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иведенных квадратных уравнений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492360" y="2276640"/>
            <a:ext cx="2376720" cy="533160"/>
            <a:chOff x="3492360" y="2276640"/>
            <a:chExt cx="2376720" cy="533160"/>
          </a:xfrm>
        </p:grpSpPr>
        <p:sp>
          <p:nvSpPr>
            <p:cNvPr id="215" name=""/>
            <p:cNvSpPr/>
            <p:nvPr/>
          </p:nvSpPr>
          <p:spPr>
            <a:xfrm>
              <a:off x="3492360" y="2276640"/>
              <a:ext cx="23767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637080" y="2276640"/>
              <a:ext cx="208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х</a:t>
              </a:r>
              <a:r>
                <a:rPr b="1" lang="ru-RU" sz="2000" spc="-1" strike="noStrike" baseline="30000">
                  <a:solidFill>
                    <a:srgbClr val="ff0000"/>
                  </a:solidFill>
                  <a:latin typeface="Arial"/>
                </a:rPr>
                <a:t>2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+рх+</a:t>
              </a: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q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=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042920" y="3500280"/>
            <a:ext cx="2590920" cy="1511280"/>
            <a:chOff x="1042920" y="3500280"/>
            <a:chExt cx="2590920" cy="1511280"/>
          </a:xfrm>
        </p:grpSpPr>
        <p:sp>
          <p:nvSpPr>
            <p:cNvPr id="218" name=""/>
            <p:cNvSpPr/>
            <p:nvPr/>
          </p:nvSpPr>
          <p:spPr>
            <a:xfrm>
              <a:off x="1042920" y="3500280"/>
              <a:ext cx="2590920" cy="151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" name="" descr=""/>
            <p:cNvPicPr/>
            <p:nvPr/>
          </p:nvPicPr>
          <p:blipFill>
            <a:blip r:embed="rId7"/>
            <a:stretch/>
          </p:blipFill>
          <p:spPr>
            <a:xfrm>
              <a:off x="1114200" y="3571560"/>
              <a:ext cx="2376720" cy="12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0" name=""/>
          <p:cNvGrpSpPr/>
          <p:nvPr/>
        </p:nvGrpSpPr>
        <p:grpSpPr>
          <a:xfrm>
            <a:off x="5796000" y="3573360"/>
            <a:ext cx="2087640" cy="1440000"/>
            <a:chOff x="5796000" y="3573360"/>
            <a:chExt cx="2087640" cy="1440000"/>
          </a:xfrm>
        </p:grpSpPr>
        <p:sp>
          <p:nvSpPr>
            <p:cNvPr id="221" name=""/>
            <p:cNvSpPr/>
            <p:nvPr/>
          </p:nvSpPr>
          <p:spPr>
            <a:xfrm>
              <a:off x="5796000" y="3573360"/>
              <a:ext cx="2087640" cy="144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" descr=""/>
            <p:cNvPicPr/>
            <p:nvPr/>
          </p:nvPicPr>
          <p:blipFill>
            <a:blip r:embed="rId8"/>
            <a:stretch/>
          </p:blipFill>
          <p:spPr>
            <a:xfrm>
              <a:off x="6012000" y="3646440"/>
              <a:ext cx="1727280" cy="12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3" name=""/>
          <p:cNvSpPr/>
          <p:nvPr/>
        </p:nvSpPr>
        <p:spPr>
          <a:xfrm flipH="1">
            <a:off x="2627280" y="2852640"/>
            <a:ext cx="122400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48360" y="2852640"/>
            <a:ext cx="16556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5" name=""/>
          <p:cNvGraphicFramePr/>
          <p:nvPr/>
        </p:nvGraphicFramePr>
        <p:xfrm>
          <a:off x="250920" y="1773360"/>
          <a:ext cx="8642160" cy="4176360"/>
        </p:xfrm>
        <a:graphic>
          <a:graphicData uri="http://schemas.openxmlformats.org/drawingml/2006/table">
            <a:tbl>
              <a:tblPr/>
              <a:tblGrid>
                <a:gridCol w="2162520"/>
                <a:gridCol w="2158200"/>
                <a:gridCol w="2158560"/>
                <a:gridCol w="21628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равн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епол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иведенно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х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9х+2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3у–4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x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1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 5 x 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–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х – 2х - 4х 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x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x 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0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х 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 6х-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x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–0,75=0,5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6" name=""/>
          <p:cNvSpPr txBox="1"/>
          <p:nvPr/>
        </p:nvSpPr>
        <p:spPr>
          <a:xfrm>
            <a:off x="539640" y="260280"/>
            <a:ext cx="82090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Проверь себ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48000" y="213372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64000" y="314172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740720" y="2637000"/>
            <a:ext cx="43164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64000" y="357336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35640" y="4076640"/>
            <a:ext cx="43164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64000" y="458136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419640" y="5013360"/>
            <a:ext cx="43164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364000" y="551664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348000" y="2637000"/>
            <a:ext cx="432000" cy="360360"/>
          </a:xfrm>
          <a:prstGeom prst="smileyFace">
            <a:avLst>
              <a:gd name="adj" fmla="val 9282"/>
            </a:avLst>
          </a:prstGeom>
          <a:solidFill>
            <a:srgbClr val="97cd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7020000" y="4149720"/>
            <a:ext cx="154296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1:22:06Z</dcterms:created>
  <dc:creator>Пользователь</dc:creator>
  <dc:description/>
  <dc:language>en-US</dc:language>
  <cp:lastModifiedBy>root</cp:lastModifiedBy>
  <dcterms:modified xsi:type="dcterms:W3CDTF">2009-10-21T09:25:01Z</dcterms:modified>
  <cp:revision>15</cp:revision>
  <dc:subject/>
  <dc:title>Слайд 1</dc:title>
</cp:coreProperties>
</file>