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2.wmf" ContentType="image/x-wmf"/>
  <Override PartName="/ppt/media/image1.gif" ContentType="image/gif"/>
  <Override PartName="/ppt/media/image2.wmf" ContentType="image/x-wmf"/>
  <Override PartName="/ppt/media/image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385-98C4-4C8D-8B37-29776B3F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73D7-0A35-41DE-A543-F80FFDF6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10CB-D426-423D-95F0-1DF8C851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05B-DB52-4097-9C44-29EC1A84B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7C79-2BF5-4614-B513-9D1083DC9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50EC-EB73-464D-B8B1-F40C5FD7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A4EF-AE19-41D4-BA68-88DEF74E4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F621-CE5C-4EB9-8166-5C26DAF7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D56B-CCC0-4450-8DE3-C4270F4E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39A5-C752-4D48-99F8-068D3D39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FE1C9-3BC1-4112-AB7B-43CA764D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983-0D28-42F8-8FF0-404592DD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ECE4-0658-4C3F-8E37-0D238D44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15B0-3915-40AF-9780-7AAC7D2A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470E-F691-4463-B39B-D6E4C68F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4588-B323-4AD0-A8C4-0CFBF6E9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8CC6-1916-4E90-9B2F-B0F350F2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D495-9AD7-4E60-A91E-87D01B9B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7568-7698-4681-8E1E-17DF95614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40E-A1F6-459B-964B-901AAF462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F193-1A8C-4FA4-9FC7-4809D967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2FE-B14C-4C74-B209-AC3967CF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BD8-CFB0-4480-8539-1F4C2C7C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2FF-4725-42F8-AD2E-270D338E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CE80-3B56-46A6-8E88-B7D64B991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89F8-D39B-4283-ACA6-47018FBC1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71640" y="836640"/>
            <a:ext cx="676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е урав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Материалы для итогового урока (повторение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0560" y="4005360"/>
            <a:ext cx="1868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9640" y="26028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32000" y="184464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27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х+2=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х</a:t>
                      </a:r>
                      <a:r>
                        <a:rPr b="0" lang="en-US" sz="27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4х-4=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;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/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2/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13892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066920" y="1844640"/>
            <a:ext cx="352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2х+5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5х-3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–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х-5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1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х(х-1)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х-3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х-3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2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1738080" cy="258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35280" y="206064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14172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3716280"/>
            <a:ext cx="360360" cy="28908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486900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ассификация видов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68000" y="1700280"/>
            <a:ext cx="100836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1700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700280"/>
            <a:ext cx="1440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26920" y="2637000"/>
            <a:ext cx="2592720" cy="792000"/>
            <a:chOff x="826920" y="2637000"/>
            <a:chExt cx="2592720" cy="792000"/>
          </a:xfrm>
        </p:grpSpPr>
        <p:sp>
          <p:nvSpPr>
            <p:cNvPr id="104" name=""/>
            <p:cNvSpPr/>
            <p:nvPr/>
          </p:nvSpPr>
          <p:spPr>
            <a:xfrm>
              <a:off x="826920" y="2637000"/>
              <a:ext cx="25927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3280" y="270828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9cc00"/>
                  </a:solidFill>
                  <a:uFillTx/>
                  <a:latin typeface="Arial"/>
                  <a:hlinkClick r:id="rId5" action="ppaction://hlinksldjump"/>
                </a:rPr>
                <a:t>непол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635280" y="2637000"/>
            <a:ext cx="2232000" cy="862560"/>
            <a:chOff x="3635280" y="2637000"/>
            <a:chExt cx="2232000" cy="862560"/>
          </a:xfrm>
        </p:grpSpPr>
        <p:sp>
          <p:nvSpPr>
            <p:cNvPr id="107" name=""/>
            <p:cNvSpPr/>
            <p:nvPr/>
          </p:nvSpPr>
          <p:spPr>
            <a:xfrm>
              <a:off x="3635280" y="2637000"/>
              <a:ext cx="223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1280" y="2637000"/>
              <a:ext cx="1800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л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227640" y="2637000"/>
            <a:ext cx="2376720" cy="862560"/>
            <a:chOff x="6227640" y="2637000"/>
            <a:chExt cx="2376720" cy="862560"/>
          </a:xfrm>
        </p:grpSpPr>
        <p:sp>
          <p:nvSpPr>
            <p:cNvPr id="110" name=""/>
            <p:cNvSpPr/>
            <p:nvPr/>
          </p:nvSpPr>
          <p:spPr>
            <a:xfrm>
              <a:off x="6227640" y="2637000"/>
              <a:ext cx="23767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72360" y="2637000"/>
              <a:ext cx="2089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веде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684000" y="342900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50920" y="4149720"/>
            <a:ext cx="2665440" cy="2025720"/>
            <a:chOff x="250920" y="4149720"/>
            <a:chExt cx="2665440" cy="2025720"/>
          </a:xfrm>
        </p:grpSpPr>
        <p:sp>
          <p:nvSpPr>
            <p:cNvPr id="114" name=""/>
            <p:cNvSpPr/>
            <p:nvPr/>
          </p:nvSpPr>
          <p:spPr>
            <a:xfrm>
              <a:off x="250920" y="4149720"/>
              <a:ext cx="158436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640" y="4149720"/>
              <a:ext cx="237672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вх=0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27280" y="342900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11280" y="4149720"/>
            <a:ext cx="2447640" cy="504720"/>
            <a:chOff x="2411280" y="4149720"/>
            <a:chExt cx="2447640" cy="504720"/>
          </a:xfrm>
        </p:grpSpPr>
        <p:sp>
          <p:nvSpPr>
            <p:cNvPr id="118" name=""/>
            <p:cNvSpPr/>
            <p:nvPr/>
          </p:nvSpPr>
          <p:spPr>
            <a:xfrm>
              <a:off x="2496960" y="4149720"/>
              <a:ext cx="2025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11280" y="414972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0 (в=0, 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195640" y="3429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76360" y="5229360"/>
            <a:ext cx="1871640" cy="431640"/>
            <a:chOff x="1476360" y="5229360"/>
            <a:chExt cx="1871640" cy="431640"/>
          </a:xfrm>
        </p:grpSpPr>
        <p:sp>
          <p:nvSpPr>
            <p:cNvPr id="122" name=""/>
            <p:cNvSpPr/>
            <p:nvPr/>
          </p:nvSpPr>
          <p:spPr>
            <a:xfrm>
              <a:off x="1476360" y="5229360"/>
              <a:ext cx="1728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640" y="5229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с=0 (в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020000" y="3933720"/>
            <a:ext cx="12589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419640" y="2060640"/>
            <a:ext cx="2232000" cy="525240"/>
            <a:chOff x="3419640" y="2060640"/>
            <a:chExt cx="2232000" cy="525240"/>
          </a:xfrm>
        </p:grpSpPr>
        <p:sp>
          <p:nvSpPr>
            <p:cNvPr id="126" name=""/>
            <p:cNvSpPr/>
            <p:nvPr/>
          </p:nvSpPr>
          <p:spPr>
            <a:xfrm>
              <a:off x="3419640" y="2060640"/>
              <a:ext cx="2232000" cy="52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5640" y="206064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+вх+с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1763280" y="2565360"/>
            <a:ext cx="208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00000" y="3357720"/>
            <a:ext cx="1440000" cy="718920"/>
            <a:chOff x="900000" y="3357720"/>
            <a:chExt cx="1440000" cy="718920"/>
          </a:xfrm>
        </p:grpSpPr>
        <p:sp>
          <p:nvSpPr>
            <p:cNvPr id="130" name=""/>
            <p:cNvSpPr/>
            <p:nvPr/>
          </p:nvSpPr>
          <p:spPr>
            <a:xfrm>
              <a:off x="900000" y="3357720"/>
              <a:ext cx="144000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0000" y="3357720"/>
              <a:ext cx="14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 u="sng">
                  <a:solidFill>
                    <a:srgbClr val="99cc00"/>
                  </a:solidFill>
                  <a:uFillTx/>
                  <a:latin typeface="Arial"/>
                  <a:hlinkClick r:id="rId1" action="ppaction://hlinksldjump"/>
                </a:rPr>
                <a:t>Общая форм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659640" y="3213000"/>
            <a:ext cx="1584000" cy="720720"/>
            <a:chOff x="6659640" y="3213000"/>
            <a:chExt cx="1584000" cy="720720"/>
          </a:xfrm>
        </p:grpSpPr>
        <p:sp>
          <p:nvSpPr>
            <p:cNvPr id="133" name=""/>
            <p:cNvSpPr/>
            <p:nvPr/>
          </p:nvSpPr>
          <p:spPr>
            <a:xfrm>
              <a:off x="6659640" y="3213000"/>
              <a:ext cx="1368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9640" y="3213000"/>
              <a:ext cx="158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орема Ви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48000" y="3141720"/>
            <a:ext cx="2448000" cy="1008720"/>
            <a:chOff x="3348000" y="3141720"/>
            <a:chExt cx="2448000" cy="1008720"/>
          </a:xfrm>
        </p:grpSpPr>
        <p:sp>
          <p:nvSpPr>
            <p:cNvPr id="136" name=""/>
            <p:cNvSpPr/>
            <p:nvPr/>
          </p:nvSpPr>
          <p:spPr>
            <a:xfrm>
              <a:off x="3348000" y="3141720"/>
              <a:ext cx="237636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48000" y="3141720"/>
              <a:ext cx="244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щая формула с четным коэффициент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427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2565360"/>
            <a:ext cx="1942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4920" y="4076640"/>
            <a:ext cx="2305080" cy="2016360"/>
            <a:chOff x="3274920" y="4076640"/>
            <a:chExt cx="2305080" cy="2016360"/>
          </a:xfrm>
        </p:grpSpPr>
        <p:sp>
          <p:nvSpPr>
            <p:cNvPr id="141" name=""/>
            <p:cNvSpPr/>
            <p:nvPr/>
          </p:nvSpPr>
          <p:spPr>
            <a:xfrm>
              <a:off x="4427640" y="4076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4920" y="4863960"/>
              <a:ext cx="2305080" cy="122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276720" y="4869000"/>
              <a:ext cx="2158920" cy="115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2520720" cy="192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771640" y="3933720"/>
            <a:ext cx="30956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99">
                    <a:alpha val="98000"/>
                  </a:srgbClr>
                </a:solidFill>
                <a:latin typeface="Times New Roman"/>
              </a:rPr>
              <a:t>Следств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99">
                  <a:alpha val="98000"/>
                </a:srgbClr>
              </a:solidFill>
              <a:latin typeface="Times New Roman"/>
              <a:ea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8360" y="4653000"/>
            <a:ext cx="1799640" cy="1223640"/>
            <a:chOff x="468360" y="4653000"/>
            <a:chExt cx="1799640" cy="1223640"/>
          </a:xfrm>
        </p:grpSpPr>
        <p:sp>
          <p:nvSpPr>
            <p:cNvPr id="147" name=""/>
            <p:cNvSpPr/>
            <p:nvPr/>
          </p:nvSpPr>
          <p:spPr>
            <a:xfrm>
              <a:off x="468360" y="4653000"/>
              <a:ext cx="1799640" cy="12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624960" y="4753800"/>
              <a:ext cx="1541160" cy="11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3564000" y="4653000"/>
            <a:ext cx="3024000" cy="936720"/>
            <a:chOff x="3564000" y="4653000"/>
            <a:chExt cx="3024000" cy="936720"/>
          </a:xfrm>
        </p:grpSpPr>
        <p:sp>
          <p:nvSpPr>
            <p:cNvPr id="150" name=""/>
            <p:cNvSpPr/>
            <p:nvPr/>
          </p:nvSpPr>
          <p:spPr>
            <a:xfrm>
              <a:off x="3564000" y="4653000"/>
              <a:ext cx="3024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3708360" y="4724280"/>
              <a:ext cx="2664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7164360" y="4653000"/>
            <a:ext cx="1728720" cy="936720"/>
            <a:chOff x="7164360" y="4653000"/>
            <a:chExt cx="1728720" cy="936720"/>
          </a:xfrm>
        </p:grpSpPr>
        <p:sp>
          <p:nvSpPr>
            <p:cNvPr id="153" name=""/>
            <p:cNvSpPr/>
            <p:nvPr/>
          </p:nvSpPr>
          <p:spPr>
            <a:xfrm>
              <a:off x="7164360" y="4653000"/>
              <a:ext cx="172872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236000" y="4724280"/>
              <a:ext cx="158400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 flipH="1">
            <a:off x="1835280" y="4292640"/>
            <a:ext cx="14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4292640"/>
            <a:ext cx="20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732720" y="1989000"/>
            <a:ext cx="18223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324000" y="2492280"/>
            <a:ext cx="8280360" cy="2160720"/>
            <a:chOff x="324000" y="2492280"/>
            <a:chExt cx="8280360" cy="2160720"/>
          </a:xfrm>
        </p:grpSpPr>
        <p:sp>
          <p:nvSpPr>
            <p:cNvPr id="161" name=""/>
            <p:cNvSpPr/>
            <p:nvPr/>
          </p:nvSpPr>
          <p:spPr>
            <a:xfrm flipH="1">
              <a:off x="1620720" y="2492280"/>
              <a:ext cx="2159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24000" y="3139920"/>
              <a:ext cx="2520720" cy="1138320"/>
              <a:chOff x="324000" y="3139920"/>
              <a:chExt cx="2520720" cy="1138320"/>
            </a:xfrm>
          </p:grpSpPr>
          <p:sp>
            <p:nvSpPr>
              <p:cNvPr id="163" name=""/>
              <p:cNvSpPr/>
              <p:nvPr/>
            </p:nvSpPr>
            <p:spPr>
              <a:xfrm>
                <a:off x="324000" y="3139920"/>
                <a:ext cx="2520720" cy="113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4000" y="3139920"/>
                <a:ext cx="2520720" cy="10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D&lt;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равнение корней не имее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429080" y="2492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2360" y="2492280"/>
              <a:ext cx="27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4720" y="3068640"/>
              <a:ext cx="251964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539640" y="47628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рни квадратного уравнения и дискриминан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184464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5280" y="191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132000" y="3141720"/>
            <a:ext cx="2522520" cy="1640880"/>
            <a:chOff x="3132000" y="3141720"/>
            <a:chExt cx="2522520" cy="1640880"/>
          </a:xfrm>
        </p:grpSpPr>
        <p:sp>
          <p:nvSpPr>
            <p:cNvPr id="172" name=""/>
            <p:cNvSpPr/>
            <p:nvPr/>
          </p:nvSpPr>
          <p:spPr>
            <a:xfrm>
              <a:off x="3133440" y="3141720"/>
              <a:ext cx="252108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0720" y="32860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2000" y="3143520"/>
              <a:ext cx="2519280" cy="16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равнение имеет два равных действительных кор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156360" y="2997360"/>
            <a:ext cx="24480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авнение имеет два разных действительных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51640" y="465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084720" y="5084640"/>
            <a:ext cx="2664000" cy="1297080"/>
            <a:chOff x="6084720" y="5084640"/>
            <a:chExt cx="2664000" cy="1297080"/>
          </a:xfrm>
        </p:grpSpPr>
        <p:sp>
          <p:nvSpPr>
            <p:cNvPr id="178" name=""/>
            <p:cNvSpPr/>
            <p:nvPr/>
          </p:nvSpPr>
          <p:spPr>
            <a:xfrm>
              <a:off x="6084720" y="5084640"/>
              <a:ext cx="266400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6084720" y="5157720"/>
              <a:ext cx="2664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684360" y="551664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969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39640" y="47628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олных 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26920" y="1773360"/>
            <a:ext cx="2160360" cy="934920"/>
            <a:chOff x="826920" y="1773360"/>
            <a:chExt cx="2160360" cy="934920"/>
          </a:xfrm>
        </p:grpSpPr>
        <p:sp>
          <p:nvSpPr>
            <p:cNvPr id="184" name=""/>
            <p:cNvSpPr/>
            <p:nvPr/>
          </p:nvSpPr>
          <p:spPr>
            <a:xfrm flipH="1">
              <a:off x="1331640" y="1773360"/>
              <a:ext cx="165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6920" y="2637000"/>
              <a:ext cx="73080" cy="7128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804000" y="2565360"/>
            <a:ext cx="1871640" cy="431640"/>
            <a:chOff x="6804000" y="2565360"/>
            <a:chExt cx="1871640" cy="431640"/>
          </a:xfrm>
        </p:grpSpPr>
        <p:sp>
          <p:nvSpPr>
            <p:cNvPr id="187" name=""/>
            <p:cNvSpPr/>
            <p:nvPr/>
          </p:nvSpPr>
          <p:spPr>
            <a:xfrm>
              <a:off x="6804000" y="2565360"/>
              <a:ext cx="1728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75280" y="2565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с=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в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5280" y="2565360"/>
            <a:ext cx="3096360" cy="2025720"/>
            <a:chOff x="395280" y="2565360"/>
            <a:chExt cx="3096360" cy="2025720"/>
          </a:xfrm>
        </p:grpSpPr>
        <p:sp>
          <p:nvSpPr>
            <p:cNvPr id="190" name=""/>
            <p:cNvSpPr/>
            <p:nvPr/>
          </p:nvSpPr>
          <p:spPr>
            <a:xfrm>
              <a:off x="395280" y="2565360"/>
              <a:ext cx="184068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0440" y="2565360"/>
              <a:ext cx="27612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вх=0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24000" y="3357720"/>
            <a:ext cx="2305080" cy="2520720"/>
            <a:chOff x="324000" y="3357720"/>
            <a:chExt cx="2305080" cy="2520720"/>
          </a:xfrm>
        </p:grpSpPr>
        <p:grpSp>
          <p:nvGrpSpPr>
            <p:cNvPr id="193" name=""/>
            <p:cNvGrpSpPr/>
            <p:nvPr/>
          </p:nvGrpSpPr>
          <p:grpSpPr>
            <a:xfrm>
              <a:off x="324000" y="3933720"/>
              <a:ext cx="2305080" cy="1944720"/>
              <a:chOff x="324000" y="3933720"/>
              <a:chExt cx="2305080" cy="1944720"/>
            </a:xfrm>
          </p:grpSpPr>
          <p:sp>
            <p:nvSpPr>
              <p:cNvPr id="194" name=""/>
              <p:cNvSpPr/>
              <p:nvPr/>
            </p:nvSpPr>
            <p:spPr>
              <a:xfrm>
                <a:off x="324000" y="3933720"/>
                <a:ext cx="2305080" cy="194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000" y="3933720"/>
                <a:ext cx="2305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Разложение левой части уравнения на множители и приравниванием каждого множителя к нулю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187280" y="3357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72360" y="1700280"/>
            <a:ext cx="1512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227640" y="2997360"/>
            <a:ext cx="2555280" cy="2879640"/>
            <a:chOff x="6227640" y="2997360"/>
            <a:chExt cx="2555280" cy="2879640"/>
          </a:xfrm>
        </p:grpSpPr>
        <p:grpSp>
          <p:nvGrpSpPr>
            <p:cNvPr id="199" name=""/>
            <p:cNvGrpSpPr/>
            <p:nvPr/>
          </p:nvGrpSpPr>
          <p:grpSpPr>
            <a:xfrm>
              <a:off x="6227640" y="3860640"/>
              <a:ext cx="2555280" cy="2016360"/>
              <a:chOff x="6227640" y="3860640"/>
              <a:chExt cx="2555280" cy="2016360"/>
            </a:xfrm>
          </p:grpSpPr>
          <p:sp>
            <p:nvSpPr>
              <p:cNvPr id="200" name=""/>
              <p:cNvSpPr/>
              <p:nvPr/>
            </p:nvSpPr>
            <p:spPr>
              <a:xfrm>
                <a:off x="6227640" y="3860640"/>
                <a:ext cx="2555280" cy="201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27640" y="3860640"/>
                <a:ext cx="255528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ведение уравнения к виду   х</a:t>
                </a:r>
                <a:r>
                  <a:rPr b="0" i="1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d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 последующим извлечением квадратного корн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71264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8000" y="2565360"/>
            <a:ext cx="2447640" cy="504720"/>
            <a:chOff x="3348000" y="2565360"/>
            <a:chExt cx="2447640" cy="504720"/>
          </a:xfrm>
        </p:grpSpPr>
        <p:sp>
          <p:nvSpPr>
            <p:cNvPr id="204" name=""/>
            <p:cNvSpPr/>
            <p:nvPr/>
          </p:nvSpPr>
          <p:spPr>
            <a:xfrm>
              <a:off x="3433680" y="2565360"/>
              <a:ext cx="2025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8000" y="256536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в=0, 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00720" y="1700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19640" y="3068640"/>
            <a:ext cx="2520720" cy="2736720"/>
            <a:chOff x="3419640" y="3068640"/>
            <a:chExt cx="2520720" cy="2736720"/>
          </a:xfrm>
        </p:grpSpPr>
        <p:sp>
          <p:nvSpPr>
            <p:cNvPr id="208" name=""/>
            <p:cNvSpPr/>
            <p:nvPr/>
          </p:nvSpPr>
          <p:spPr>
            <a:xfrm>
              <a:off x="4500720" y="306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419640" y="3789360"/>
              <a:ext cx="2520720" cy="2016000"/>
              <a:chOff x="3419640" y="3789360"/>
              <a:chExt cx="2520720" cy="2016000"/>
            </a:xfrm>
          </p:grpSpPr>
          <p:sp>
            <p:nvSpPr>
              <p:cNvPr id="210" name=""/>
              <p:cNvSpPr/>
              <p:nvPr/>
            </p:nvSpPr>
            <p:spPr>
              <a:xfrm>
                <a:off x="3419640" y="3789360"/>
                <a:ext cx="2232000" cy="20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19640" y="3789360"/>
                <a:ext cx="25207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Деление обеих частей на коэффициент при неизвестном с последующим извлечением квадратного корн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826920" y="609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7493"/>
                </a:moveTo>
                <a:lnTo>
                  <a:pt x="11920" y="7493"/>
                </a:lnTo>
                <a:lnTo>
                  <a:pt x="11920" y="12828"/>
                </a:lnTo>
                <a:cubicBezTo>
                  <a:pt x="11920" y="13751"/>
                  <a:pt x="12721" y="14482"/>
                  <a:pt x="13756" y="14482"/>
                </a:cubicBezTo>
                <a:lnTo>
                  <a:pt x="15419" y="14482"/>
                </a:lnTo>
                <a:cubicBezTo>
                  <a:pt x="16454" y="14482"/>
                  <a:pt x="17255" y="13751"/>
                  <a:pt x="17255" y="12828"/>
                </a:cubicBezTo>
                <a:lnTo>
                  <a:pt x="17255" y="7493"/>
                </a:lnTo>
                <a:lnTo>
                  <a:pt x="15419" y="7493"/>
                </a:lnTo>
                <a:lnTo>
                  <a:pt x="18926" y="3985"/>
                </a:lnTo>
                <a:lnTo>
                  <a:pt x="22599" y="7493"/>
                </a:lnTo>
                <a:lnTo>
                  <a:pt x="20763" y="7493"/>
                </a:lnTo>
                <a:lnTo>
                  <a:pt x="20763" y="12828"/>
                </a:lnTo>
                <a:cubicBezTo>
                  <a:pt x="20763" y="15596"/>
                  <a:pt x="18186" y="18155"/>
                  <a:pt x="15419" y="18155"/>
                </a:cubicBezTo>
                <a:lnTo>
                  <a:pt x="13756" y="18155"/>
                </a:lnTo>
                <a:cubicBezTo>
                  <a:pt x="10988" y="18155"/>
                  <a:pt x="8412" y="15596"/>
                  <a:pt x="8412" y="12828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54936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веденных 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92360" y="2276640"/>
            <a:ext cx="2376720" cy="533160"/>
            <a:chOff x="3492360" y="2276640"/>
            <a:chExt cx="2376720" cy="533160"/>
          </a:xfrm>
        </p:grpSpPr>
        <p:sp>
          <p:nvSpPr>
            <p:cNvPr id="215" name=""/>
            <p:cNvSpPr/>
            <p:nvPr/>
          </p:nvSpPr>
          <p:spPr>
            <a:xfrm>
              <a:off x="3492360" y="2276640"/>
              <a:ext cx="23767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37080" y="227664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х</a:t>
              </a:r>
              <a:r>
                <a:rPr b="1" lang="ru-RU" sz="2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+рх+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042920" y="3500280"/>
            <a:ext cx="2590920" cy="1511280"/>
            <a:chOff x="1042920" y="3500280"/>
            <a:chExt cx="2590920" cy="1511280"/>
          </a:xfrm>
        </p:grpSpPr>
        <p:sp>
          <p:nvSpPr>
            <p:cNvPr id="218" name=""/>
            <p:cNvSpPr/>
            <p:nvPr/>
          </p:nvSpPr>
          <p:spPr>
            <a:xfrm>
              <a:off x="1042920" y="3500280"/>
              <a:ext cx="259092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7"/>
            <a:stretch/>
          </p:blipFill>
          <p:spPr>
            <a:xfrm>
              <a:off x="1114200" y="3571560"/>
              <a:ext cx="237672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5796000" y="3573360"/>
            <a:ext cx="2087640" cy="1440000"/>
            <a:chOff x="5796000" y="3573360"/>
            <a:chExt cx="2087640" cy="1440000"/>
          </a:xfrm>
        </p:grpSpPr>
        <p:sp>
          <p:nvSpPr>
            <p:cNvPr id="221" name=""/>
            <p:cNvSpPr/>
            <p:nvPr/>
          </p:nvSpPr>
          <p:spPr>
            <a:xfrm>
              <a:off x="5796000" y="3573360"/>
              <a:ext cx="20876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8"/>
            <a:stretch/>
          </p:blipFill>
          <p:spPr>
            <a:xfrm>
              <a:off x="6012000" y="3646440"/>
              <a:ext cx="172728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 flipH="1">
            <a:off x="2627280" y="28526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2852640"/>
            <a:ext cx="1655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0920" y="1773360"/>
          <a:ext cx="8642160" cy="4176360"/>
        </p:xfrm>
        <a:graphic>
          <a:graphicData uri="http://schemas.openxmlformats.org/drawingml/2006/table">
            <a:tbl>
              <a:tblPr/>
              <a:tblGrid>
                <a:gridCol w="2162520"/>
                <a:gridCol w="2158200"/>
                <a:gridCol w="2158560"/>
                <a:gridCol w="2162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л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вед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х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9х+2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3у–4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1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5 x 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х – 2х - 4х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x 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х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6х-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0,75=0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 txBox="1"/>
          <p:nvPr/>
        </p:nvSpPr>
        <p:spPr>
          <a:xfrm>
            <a:off x="539640" y="26028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2133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3141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740720" y="263700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357336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407664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458136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19640" y="501336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64000" y="551664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48000" y="263700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020000" y="4149720"/>
            <a:ext cx="1542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22:06Z</dcterms:created>
  <dc:creator>Пользователь</dc:creator>
  <dc:description/>
  <dc:language>en-US</dc:language>
  <cp:lastModifiedBy>root</cp:lastModifiedBy>
  <dcterms:modified xsi:type="dcterms:W3CDTF">2009-10-21T09:25:01Z</dcterms:modified>
  <cp:revision>15</cp:revision>
  <dc:subject/>
  <dc:title>Слайд 1</dc:title>
</cp:coreProperties>
</file>