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9B8-E908-4B4F-A35B-DF11CEC0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42C-9233-4AD6-96B1-18797C58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6E284-27BE-45E0-906C-35437491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6570E-AC17-41D4-BCD2-5AFF9336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753F3-AECB-43F4-AFBE-1D842221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09898-BD2C-4219-A36C-7723DB6D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71473-9762-4B08-8CB1-8E09F3D7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C3015-58C4-47EB-B768-A07600DE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69A8A-D477-40C1-8164-4D24C9A2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2EFEE-5D86-4E11-922F-ADE680C2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325CA-67AD-4797-9623-B5037EF6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E746B-E8CD-4569-A9F3-2D98DA07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8B5-AB98-4060-A801-4D5330D7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9FC13-D4A7-44E9-ADAE-DFCE1278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6133D-5922-411B-B0E7-D91D941F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4B7AD-2EC4-4E3C-91A7-1C899CA2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7DC11-D420-4EC5-A599-2DDD97C6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590C7-7620-46F8-B77C-F26AD8E0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D6D9A-AB0C-4DA9-A796-B9B0EF3A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7DDDC-AC88-430E-96E0-FDE517C8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DBC45-E38E-4360-866A-1FA65143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9C99C-4AB8-4B5E-9C80-499C2315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BC099-11E4-49B7-A5EC-08D32C58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186-9143-4981-9666-F4502706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2258C-A6C3-47E6-BE02-5644268E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0564D-D1B8-40F6-B1E1-F114A82B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77997-B527-40F4-A08C-AF374C1C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EEE30-7346-4F19-80D3-37E14A0D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28EF9-F14C-4490-832F-B0FBA071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F5EEF-5D75-4620-BC17-32B999E9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C0E50-5C38-4D3C-90BE-4892A872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6AF8B-69A0-463C-B81C-7D810866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EC58C-DA97-4F4A-9237-46FBEEAA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A3332-77BF-410F-9018-66D0C2BA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2EC7-1F4C-4455-8FB7-A8EA9EB7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1C798-21C2-495A-9BCE-F6709E4B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AEC53-5F36-4B90-867B-8629D892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AF5B6-01F2-453E-8DF4-4C648F07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9DE6E-EF92-4450-B2DC-CFF2CB5E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4D312-61A2-49D2-94DD-BBA19C87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26D05-C74A-48C8-8466-53155050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75AAE-4149-486D-9E35-4DEC95CE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0BE2D-5F0E-44C1-90B8-BB3C1B49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5241A-E39D-4028-A1E8-A4560C50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86F0F-B811-4283-80B0-12C6A5B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6CC9-4597-43ED-AFC2-673FCB77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EC3DE-A285-4D0B-93B9-535377EF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DA177-967E-4914-814E-89EE1A6B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9C3CC-EAB9-4647-A294-ACE0093D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3BE36-D3AC-42D8-BC6C-F4BCA9E9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80260-6896-49AD-AD66-5DF8490B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55EFA8-784B-4F09-A49B-02280FCE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551EA9-834C-414F-814D-D24D9F66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47F0C3-80E2-4216-B339-62AB0E48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E4E3ED-4CAC-4602-976B-023EC08B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75C240-FAA0-4652-B2CE-F9E1BDF9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755F-B754-4C4D-BE79-78A36E65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E73702-4D22-46A9-B5DF-97C4EA0D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9C2D0F-77A5-4AA3-89B3-4F357E11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2346C2-2DAE-4EB9-BEAE-8B0AAB0E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310B69-A811-49DF-9B26-F4D23B55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C39D79-59AC-4774-9E8F-6B72C18C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42C202-BCD9-44A9-8EAC-E9383896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5C5855-6BF8-4E7C-BADD-DC5C63D9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325AF-2894-40DF-AADE-68D07623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3F43A-FFBE-484E-A973-DB604984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F726E-FF7A-4112-B41D-02927713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8F75-14B6-4EC7-9E4D-BEFE96A1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92FF7-7F8B-4255-94C6-BDA7DC61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BF1BC-CF1B-4493-8992-9207771F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43A4A-B1A4-4337-AE28-D25A9899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BBBE8-008A-4C02-B486-C73E56C4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332A4-8C38-41DC-860E-0A2603A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8263D-D42C-415E-9A6A-BEFF6891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D828E-2B3A-4CEE-A945-0C8C3317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1A2FB-D41F-474F-A29B-A43BA2FE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B0A66-1BB1-4262-82EA-2C6DD70E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0E56E6-CBEA-4454-8F8A-3ACC70A7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3C09-DCFB-4651-A279-D19749B9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52A8E2-B644-4147-B946-2CCDD6EB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F2CF0C-BE77-40BF-B7F4-8C56E68C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AC5260-F176-447F-8D67-CDD05CE2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208775-3A0D-480C-92BE-4EE9E0AB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744754-B651-45F7-BDCF-8A87D91F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597F7C-4C85-448B-A926-917FB9FC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0BFF3D-4C56-4318-8194-A4790D2E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C88313-80F8-404E-A158-A74FE8DE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DD9C18-DB00-48B6-982D-E7127E6F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0EF84D-BAE9-45E7-94E1-AEC6EFDB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3AAC-E26D-46FB-A742-E7703391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4E84DC-99A5-4B10-9AD2-656D9783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77903-66EC-4332-9F51-156D6B74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2FCB6-FF91-4A4E-8448-551E06FB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94F47B-5A18-49ED-B1ED-FB732890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613F9-273A-4B07-A5DF-B783D88B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4F8C8E-7D2D-4E07-B4D9-EAD19297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53761-DC44-492C-8451-D43D9E40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44BC15-9C4F-4345-8BDA-A90A206C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22451-C3E2-44D9-AFF5-0A17BA62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20771-F993-4FDF-9AB4-9468C498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08B9-3E69-46CF-9E69-23C732DF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0DE7FF-EE52-4A4F-8CD0-FAB80ECC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60D27C-1837-47B9-BE62-3A59080B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AC1780-849A-44D1-B723-65B6DB25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96535D-B2BC-4504-81F0-E63BD296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E54D0A-E24C-4C55-A9DC-B8BA71CE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91C205-7078-429B-9162-D4EFDD27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B191E-7954-4ECC-B0F1-A2F0A0D8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10FA9-DF3E-4BFE-8ED3-5113DFF1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E718A-B7BC-4AE2-BD6D-E7B87E8B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F264E4-DD12-40FD-80D2-0DDE4DCF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652-A6E3-495D-B5FC-436199D5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8CA2-C035-407B-87EE-8213983B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81B11-9916-4553-A6BF-F761BC13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871D4-66F6-4EE3-B972-4123EA77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46D582-E911-4634-BFB8-AE009AB6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8AC16-5FA5-4E6E-AFF5-F66C0286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6F1A0-18F7-42CB-99D7-217EC751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943D6E-57F2-46BA-A395-81B7F90C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9056C9-2387-42AF-9B15-1C6862E9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FACA10-65CF-41EE-8831-EA39630D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DBC970-16FE-4B55-BD62-FC585A64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E8387-789F-4DC8-AA0C-5486902C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6214-E059-472D-ADE5-39D0436B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22E196-8E33-438E-BCC4-7AC39153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22CCA4-F95A-4877-9653-5C67C245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C28407-1DDD-445B-8552-CBB5D5E1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41C6D-007F-412C-94AF-4A6FFD68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ABE5CD-A3C9-43AB-9469-3E5696C0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116868-74AF-4A0A-A8E4-BE522A95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4651B-27B2-4F63-A148-B8B94096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158B3BA-2E72-4E9C-89B3-F6D144F7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FEB2781-3499-4595-8E6B-A2C65235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F2D86A-630A-4F53-BBA8-05E14E9B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4AB0-1900-4543-B6FA-CF5386EB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04789FE-B183-44A0-B16B-A89C7082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476C0C-A304-4E25-89AD-D3C5365D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D9A408-A3C3-428D-B9AD-35C08133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B378BC-031E-4473-A7C0-8C482E4F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256CD48-80CD-4B85-A77F-279E216B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B17332-43EA-477E-B0FD-AA28E9D4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480794-E41A-4D67-A49E-B19B0781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780CA6-9E0A-4BD6-9FE7-EECFF9CF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279409F-BBAA-4D33-90A7-ED66C9E1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B5373D-0710-45A6-8A3F-3A2F7F0B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F629-8412-4E8C-AD26-62098F96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18744C-A6FE-4212-9341-14001385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0049AB-9D5A-4CA6-B24D-017A12F1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137070-7886-4145-AB61-52EFB892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A75440-CD78-41E5-BF11-CCE61F8B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7DCCBF-3249-4A6D-B091-215EBE0F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969128-8DF1-46D4-801D-D20DEAEA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66A527-1424-4C4F-B605-8765405D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2BB8B2-D644-446E-AB04-DE2FF499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F4EEA4-1DEF-43B9-B4F2-C006D76D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FC5B96-7C34-4CF7-BA5D-42D7CEFF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F6AE-1A51-48D4-97DB-FEBC053D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929D34-912D-4C1D-816A-2E9D4B84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6926590-C20D-448B-81C7-B6533F70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954E591-E603-4807-87B2-8298146E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98F214F-0ECB-4444-AA57-9F882A0D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6C2CC0A-6A02-4AFD-AC08-1FEAEFED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09E8BD3-8793-421C-8A89-C9119652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C42430A-D007-4690-A26D-D709D0F3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BC157D0-2085-461E-82DB-E4B6A53C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38EEF10-14BB-40C8-A2F1-36A6954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35FAFC0-A347-4FF4-9D09-16177B7F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334E0-90C8-4DFA-9195-96870FE0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5D291F2-3ADE-4C42-9107-23AA4C41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D0D0A9A-1340-4C4A-9A3D-FEC5A504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5541E2D-772E-4AA3-A302-8343688A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ED058C-A5FD-4342-B461-1C0FEEAC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1C1231-2702-450B-94AE-1E039528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E0FEFB-E43F-4C9C-9DE5-A7D8B4DB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BE5EFC-A259-466B-ACF8-B7CAF2C2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32CE7C-7A2A-4F20-919E-E1B9E210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545F9B-F497-44D9-B4FC-C708B092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25860F-03D5-4852-839B-453FAF4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7F8BA-E938-456B-910C-A67B3B28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F1BFDA-9D3C-433A-A884-B71F7518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3293A2-C987-48B9-AA92-960E372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4A8319-7ADC-4774-8678-3FA84733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9E5D45-7554-470C-A49E-544FA3B1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A48865-C309-4F9A-8D26-280C6602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4CA8ED-CA11-4893-9B9B-492D62A5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69C09E-4C7A-4ED9-AC5B-6B0151C3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3C0F34-38F4-47C7-9361-65F85579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A89C82-7E48-4383-B421-20765478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B5B311-06F3-4961-BF0B-EFB04E22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2E4F-6799-4FA2-A50E-F023AE7D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627655-5D43-41C8-933E-2E52BC62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3D93A0-084B-420C-9E76-10C42C0F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C774FE-E133-489D-9356-4132F9DF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31A17E-9F26-491B-BDC9-F98A5708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944E8F-AA32-4712-A2C9-2E86052A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A8CB95-F072-419A-B73E-6522D3FC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4FAE08-8E00-49C8-A468-1F68C429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78FBFB-715B-43BB-8343-516945A6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1161FD-5EB4-425C-8CF3-3957973A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44AF9F-0110-413A-B253-FD8C528A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CE3FD-4B75-4706-8E1F-7BCBBAE7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8BEA25-50A6-4969-864B-4D2EC4AF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CA18AA-A851-486D-81E6-37AAE754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AC848D-AFBB-4935-B169-69046406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77D9B2-832A-4885-9C06-7DF06302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13F323-7F07-4ABB-94B1-8EC95F46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A96F6E-059D-4866-8AD5-272553D0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AECB1E-262D-47D1-94D3-CFE57179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6DFEBB-2415-4379-9A17-8783E8A8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D7F179-6AFE-478C-8079-592A6DDB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A33A90-5B59-462C-BA73-12A13E5E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DB7F0-89C0-4404-AF0E-8025DA52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A237E3-3268-4982-9FF3-864325EB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B4949C-ACF1-455E-BDF1-5CB0FFFA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2BDAD5-C44A-4058-A4FA-C22A7C4F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4B55C1-94F3-4534-82F9-D8A04953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B147A3-E5EB-44CD-BA79-944F1862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782828-E550-48DF-8105-E13CF21F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8FBDD4-AAF7-405D-A2D9-E4CCC48A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C3070C-4466-4E6F-A4FF-F3DF3DFE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229E3B-9915-4102-A3C1-F978AA25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95DD61-3485-432C-9F4C-7C802D92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126-D27D-4544-8D33-FA855BBD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3507-2B41-42C9-BA19-CDD7CEE2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40C6A6-A4DD-485A-839E-4A14F2AA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4AAA1B-0627-46E0-9C94-738CCC3A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001C7C-69D2-4087-A3D5-52BD9474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DC7537-0C7C-4526-B71E-449564D5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C2240E-4521-47E1-9BA0-EC08F0F2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53E394-4706-4BE7-8BF9-45A717C0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853EED-0DD2-43BA-8372-6C25087B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203B90-05D7-43F6-AFC9-1B6691A5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86B1FE-AC4C-4790-A7A4-E81AED10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62E467-B4E5-4153-896E-1B689D45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CAE3-E7AC-421F-B26C-053C27AF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C56D4D-C2A6-4133-86CE-93B31872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D8C7DD-F913-47A6-B205-424EDE4D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0DBCEF-1C07-46A9-9078-874A3D5A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3E9039-7BF8-4A2F-B15B-6F15F07B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AE36D4-F1E7-42A8-AB3D-7CC15FB2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E7C341-89B0-41FD-8EB9-2D8F9DE6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AA37EA-B72F-49E4-8B31-4E839F72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E34926-210D-408F-94FF-DD65614C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7FCA92-77F1-4856-B186-5A7D9310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DD277C-EBB1-4AB5-8512-05E48A13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4B4AA-925F-4FF1-BA0C-364E9C1B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C6861F-1F85-4231-8BEF-5E87E368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AB7FF7-7DEB-4CA9-B5DA-49480602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110D7C-4F6E-4336-8DFA-7C45B1E1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B8FC46-14EA-4F71-A786-0C93FD58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D7B9E7-AB6C-47F8-84C7-CC3301BF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E0CC36-C080-4ECE-9F0E-03314F2C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8EF627-044F-46B6-B9C9-96623202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BC0430-3DE9-40FF-9983-6FA2CDE1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5BB926-494A-4421-81C0-C821784C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417AA3-618E-4387-A940-370F8D0E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1F8F0-4682-496C-9E7F-E8826853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21FA74-7223-4C4C-97F6-CCD17CD1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860150-D777-4F51-91A3-3DF27117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F93D6C-D383-41FC-9EA6-B64C120A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18CE0A-E0C7-4D26-A081-6865DF8D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7BC6EA-AB45-4FA0-9488-D92D766C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715A40-0184-4442-AEC6-A1279DD7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7B803C-592C-48FB-89EE-1000F1D7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C10EF3-89C2-408D-B7C4-AFD71421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B8D46E-3DA8-49C5-82CD-41B793FB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40B380-FF0A-40F6-8927-7F6F3CC1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4BF7-550E-4308-AD80-7FD41E92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75C97F-5DC7-4802-9560-777164AC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CBD46C-513D-4AB8-B986-D6499906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5A28C6-6E38-4B2D-949A-6723709A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0AEC41-9A52-478C-966C-67064EF7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5B6DD7-117E-44FF-ADAB-1F3805EB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747581-3DEB-4267-B6E2-D4A20452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114F0C-5ADA-4828-A8A9-6D1C693A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A755C4-D889-46CE-AA3F-9ADCC6B5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46C96C-748A-4E70-A83E-E13EF2CA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827364-5BCC-412F-9187-6190F407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7018A-FFD9-4B34-97E4-D4E4E6B8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11DE2D-A9FE-4FA3-9CBD-1D39B5E3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2410C7-3024-4434-9537-6A8B7EFB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D89CE6-4CC6-49D7-937D-17ADEA25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00F3BD-722A-4D95-8171-2401A7B1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B392B2-7FA9-4F96-9995-D1677B91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68F8D0-7982-4CBC-978E-E8BF89A1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E8D834-D947-419C-AEF9-FE8ADD40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A9503F-05DF-43A6-AE07-666B36AA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244455-05BC-4766-8F9B-910B0A31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AE6709-B4DF-4275-9C67-3455BAA7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10D47-504F-46F1-A0A3-F4D24CBF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E92E08-AFF3-4F42-9939-CE1EC687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18243C-2BDE-446D-8BDD-458FE98B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BCD34D-4069-4A40-AD84-C35ED974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22E701-0950-4924-9418-7114A5FB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4D848D-2163-4B5E-8E71-11F354A8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BB43D5-D648-45E6-A0E1-26479B2E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BD6164-388A-4652-9410-6CE49C1E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C54073-DA0C-4C78-8618-94374D05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54DB44-70BC-4516-98CC-ABAB203E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E3ABC0-78D2-4713-9F48-1A0FEB42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FF637-763E-4269-895C-F2085333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C463CF-8237-4DDF-A294-08E14EF5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0F7D2B-038D-42F9-8B12-3620BD58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EE323E-9082-473A-8462-B2CAD44A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C52876-8F39-4DD3-BAB3-0C8FE132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3407D2-BB24-4BFF-B2B3-5830CFD1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FF8BF3-16F4-4B55-819A-58FB4A96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AE5321-C721-4743-A661-45A81B9B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8D7691-EB67-4795-92FC-4B0618F8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E9F5E1-6167-46CE-A0F4-685C56E7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D0BDCE-FDD6-4734-96F0-61E94A49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710E6-7B6D-4A2E-BBF0-818E9505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77EF37-5BCB-45A7-A538-01533CD2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AB37E9-2A0F-4115-8565-685E276D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9B61C6-50AD-4372-8928-206D1E8A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7D5AB0-C7BB-4E86-A235-5305BD16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7A3C7A-4908-4A38-88D6-B96C64B3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267E-B460-4EDD-B558-27F7ACBE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BE0-5811-47E3-8C07-EDE9B1BD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A345-F7D5-403C-A905-C6FEDEED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37554-635C-41DF-8F37-6283B079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1BE8-4F8E-46F6-A104-6D3F8796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0C470-456F-4258-9E82-A0EC7F25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614CB-A2CD-4035-ADD8-B0FC503B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AE5DC-54FA-477C-9769-36FB141A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22018-C8F2-4F0F-B3CE-53481B76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D1CF1-0630-47A9-9828-8F726F53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A7764-AFAD-4270-A665-BC1E80F6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C678C-592F-4A7B-A199-A3428DAF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F66-7CF2-4F4D-90E9-EA85FD19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79566-E6F5-4292-AE37-89DBF9A7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14FA3-7E45-45BB-A517-BA8A2175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413F2-B30E-4045-9E37-B1349606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A7884-ABD9-43B5-BC5B-C65A8FA0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51081-7568-441C-A3A9-B6E88B0D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FDCE9-8FB8-421C-8DBD-862E1093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210AE-AACA-4869-8AC7-9147C9EF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23594-9CC6-4A8C-9E58-12E56DC8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04939-D2D1-4E8A-9717-8856CBE1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C4326-61F9-4EB4-AF6F-8AF0AD7B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556-8CEB-447E-B5C6-9BE41843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CC8CC-2EEB-4514-BB54-8F3D3AE2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8B08C-C5CD-4341-89DA-FC07721D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BDFAB-F9FE-4285-A494-17C89C82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F576F-B2E4-4BD4-9302-F3902184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00ABFD-2E7D-4D90-9C03-840FDC5C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48D8A9-340F-4253-A53E-0FF6941F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0A097-CF3F-4AEC-8161-A1F44F60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7C38E-C709-404C-B957-F7206852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ECC6F-D7D0-4CCB-BB13-3275BEC2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9D8F3-4D45-4D3F-B143-FE70ABB8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3DC-6C53-4716-A5AD-4B04D541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BBD7B-2795-4A6D-9B3A-55B2900C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544986-61F2-457C-970A-A77D8996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8B6CD-DCC8-465E-B43A-42EAB765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DB701-C8A8-4E31-9DCA-5FA6A0E3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9D014-1704-4A39-809C-48BAC1C1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4C509-48B9-459C-A36C-7CDEEC7E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9E6FF-3BDA-4994-9F36-AE89AB80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987A1-A7D1-4C70-BB04-FEB363E0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33E24-5ADA-48F7-B433-8D0F8C50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2568D-D5D1-4D84-8BEB-C8723831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B25-C1EB-4E5C-B29F-D3B1D30B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FB085-4320-47ED-BC25-A3334653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CC5F8-A66E-437D-8201-78CBFE89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F3A17-79F1-43D1-9792-BEE97F0E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36596-9265-4826-AEE6-73B5D847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FB878-2D3B-4B1E-8D7E-B1713673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9E9F4-D5A7-431B-8FA9-2D6E3E86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0AC0C-8D69-4F3B-B919-468D1623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B4CBC-D66C-4A2C-935D-1C983FCE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E9229-82AE-4B95-A9E9-17817D78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F412D-58B9-46D3-8C2B-A57891C9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248-DD3D-42E8-85FF-93BDEA31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F6114-9137-4514-A506-BC4ACD6F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8EA60-BC03-43ED-989B-2739F1C1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40B25-4274-4801-93D5-B494345B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D625C-0D12-469C-AAC4-C2655F12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AE875-F055-46B1-A35F-EABFF178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1524E-D774-49A5-96CF-222F1EE8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4890D-BC24-4A68-8CC1-5078E477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D7508-5E62-4F0F-BC0E-93E179C7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D3E69-070A-4B90-98E4-B1070130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CEE03-22B8-4461-BDF4-D7CD0095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61.xml"/><Relationship Id="rId8" Type="http://schemas.openxmlformats.org/officeDocument/2006/relationships/slideLayout" Target="../slideLayouts/slideLayout362.xml"/><Relationship Id="rId9" Type="http://schemas.openxmlformats.org/officeDocument/2006/relationships/slideLayout" Target="../slideLayouts/slideLayout363.xml"/><Relationship Id="rId10" Type="http://schemas.openxmlformats.org/officeDocument/2006/relationships/slideLayout" Target="../slideLayouts/slideLayout364.xml"/><Relationship Id="rId11" Type="http://schemas.openxmlformats.org/officeDocument/2006/relationships/slideLayout" Target="../slideLayouts/slideLayout365.xml"/><Relationship Id="rId12" Type="http://schemas.openxmlformats.org/officeDocument/2006/relationships/slideLayout" Target="../slideLayouts/slideLayout366.xml"/><Relationship Id="rId13" Type="http://schemas.openxmlformats.org/officeDocument/2006/relationships/slideLayout" Target="../slideLayouts/slideLayout367.xml"/><Relationship Id="rId14" Type="http://schemas.openxmlformats.org/officeDocument/2006/relationships/slideLayout" Target="../slideLayouts/slideLayout368.xml"/><Relationship Id="rId15" Type="http://schemas.openxmlformats.org/officeDocument/2006/relationships/slideLayout" Target="../slideLayouts/slideLayout369.xml"/><Relationship Id="rId16" Type="http://schemas.openxmlformats.org/officeDocument/2006/relationships/slideLayout" Target="../slideLayouts/slideLayout370.xml"/><Relationship Id="rId17" Type="http://schemas.openxmlformats.org/officeDocument/2006/relationships/slideLayout" Target="../slideLayouts/slideLayout371.xml"/><Relationship Id="rId18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A0C3-62AA-401B-810C-52130FF22D9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5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9949-013B-460F-9519-77B0D240FC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1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1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D644-2C80-4602-AA07-56F218640C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1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2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A326-FC17-46DD-9B73-6634531C55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92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5F90-3572-448F-878B-078728725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dt" idx="3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ftr" idx="3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18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8288-83FF-4DA7-9AFA-FBAA7916A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0559-7956-4BDF-B913-76BABA5978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443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6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35EA-587D-4DBA-ACC3-8EB5059B24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499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5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8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AFA7-5BF5-4796-BCBF-25A09412A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0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8032-48F4-4A26-A71F-D71867CE3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dt" idx="5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3BF9-47A4-4796-A5C8-554803581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4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5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 type="ftr" idx="5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E27A-7B31-4D86-8882-802ADE4187E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9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dt" idx="5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 type="ftr" idx="5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 type="sldNum" idx="6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5B79-3450-47B5-984E-34646AF4C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B21F-3B8E-49F1-88C8-1E2FAAB586D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dt" idx="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04B1-B35D-4D89-8673-23837966B2D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87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87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87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7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8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88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8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88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91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92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3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6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6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7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8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98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98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94" name="PlaceHolder 1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5FD0-1247-48C5-8962-FBA65D62A7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03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03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3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04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4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04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4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04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4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04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8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08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9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13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13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13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4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15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2C02-C2DF-41D5-B8EB-86C252F6F5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 type="dt" idx="7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8CEF-FEFC-4C10-8CC0-601B36ADA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 type="dt" idx="7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 type="sldNum" idx="7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FF74-BB9B-4F07-B776-2441D6D91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8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5BA4-B5C4-4397-A5D7-21E48FD4BF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32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7" name="PlaceHolder 1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7B2E-0B6D-4F6A-9DEC-53D71720B1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36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36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37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37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37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37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38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38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8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8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9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39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0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0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0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1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1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1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1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2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2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2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3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3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3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4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4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4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4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4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45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45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45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46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46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46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47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47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47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8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D6C2-18E7-45B5-8B12-A20754CF4F62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507D-E13E-4E4E-9A7E-F5082C255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4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54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54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54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55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55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55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55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56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56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56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56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57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57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7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8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58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59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59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59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59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60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60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60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61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61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1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1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61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62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62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2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3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3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63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64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64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64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64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5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65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65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66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28BF-87C4-445C-AAD6-A342E155903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1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73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9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DA7B-9C7E-4AEF-A9FD-9AAEAF8704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7"/>
    <p:sldLayoutId id="2147484040" r:id="rId8"/>
    <p:sldLayoutId id="2147484041" r:id="rId9"/>
    <p:sldLayoutId id="2147484042" r:id="rId10"/>
    <p:sldLayoutId id="2147484043" r:id="rId11"/>
    <p:sldLayoutId id="2147484044" r:id="rId12"/>
    <p:sldLayoutId id="2147484045" r:id="rId13"/>
    <p:sldLayoutId id="2147484046" r:id="rId14"/>
    <p:sldLayoutId id="2147484047" r:id="rId15"/>
    <p:sldLayoutId id="2147484048" r:id="rId16"/>
    <p:sldLayoutId id="2147484049" r:id="rId17"/>
    <p:sldLayoutId id="2147484050" r:id="rId18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9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81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B567-97DE-43C3-ACF2-F4B142325D6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6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6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7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9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1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A363-5F7D-404F-989F-BD41A20EC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7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7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7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9CB8-5C05-4C16-A70F-99193273F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2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3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3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4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F02D-23B6-4027-A9A9-F0FE7898F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8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79E1-7E55-4C0C-96A4-E12B06F0B8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4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CEF9-EB48-47A9-AE9A-9A945B76C69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0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4246-331B-4F18-86F2-5FFC4E9A28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"/>
          <p:cNvSpPr txBox="1"/>
          <p:nvPr/>
        </p:nvSpPr>
        <p:spPr>
          <a:xfrm>
            <a:off x="933480" y="2144880"/>
            <a:ext cx="72770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образование графиков функц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"/>
          <p:cNvSpPr/>
          <p:nvPr/>
        </p:nvSpPr>
        <p:spPr>
          <a:xfrm>
            <a:off x="1600200" y="1143000"/>
            <a:ext cx="6858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одной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 у =(х-4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   у =(х+5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8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2889" name=""/>
          <p:cNvSpPr/>
          <p:nvPr/>
        </p:nvSpPr>
        <p:spPr>
          <a:xfrm>
            <a:off x="968400" y="5670720"/>
            <a:ext cx="60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зелёный,  у =(х-4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красный, у =(х+5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борд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"/>
          <p:cNvSpPr/>
          <p:nvPr/>
        </p:nvSpPr>
        <p:spPr>
          <a:xfrm>
            <a:off x="1523880" y="990720"/>
            <a:ext cx="65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у=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5,   у=0,5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1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304040" cy="4876920"/>
          </a:xfrm>
          <a:prstGeom prst="rect">
            <a:avLst/>
          </a:prstGeom>
          <a:ln w="0">
            <a:noFill/>
          </a:ln>
        </p:spPr>
      </p:pic>
      <p:sp>
        <p:nvSpPr>
          <p:cNvPr id="2892" name=""/>
          <p:cNvSpPr/>
          <p:nvPr/>
        </p:nvSpPr>
        <p:spPr>
          <a:xfrm>
            <a:off x="517680" y="57466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зелёный,  у =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5-красный,  у=0,5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1-си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"/>
          <p:cNvSpPr/>
          <p:nvPr/>
        </p:nvSpPr>
        <p:spPr>
          <a:xfrm>
            <a:off x="1523880" y="1371600"/>
            <a:ext cx="6858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строить графики функций, используя шаблон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ариант 1.              Вариант 2          Вариант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+3     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1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1   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2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(х+4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у =(х-3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 = (х+3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-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  у=-0,5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/>
          <p:nvPr/>
        </p:nvSpPr>
        <p:spPr>
          <a:xfrm>
            <a:off x="1676520" y="1522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5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5943600" cy="4343400"/>
          </a:xfrm>
          <a:prstGeom prst="rect">
            <a:avLst/>
          </a:prstGeom>
          <a:ln w="0">
            <a:noFill/>
          </a:ln>
        </p:spPr>
      </p:pic>
      <p:sp>
        <p:nvSpPr>
          <p:cNvPr id="2896" name=""/>
          <p:cNvSpPr/>
          <p:nvPr/>
        </p:nvSpPr>
        <p:spPr>
          <a:xfrm>
            <a:off x="1506240" y="5670720"/>
            <a:ext cx="57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у 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3-зелёны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1-красный,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 =(х+4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"/>
          <p:cNvSpPr/>
          <p:nvPr/>
        </p:nvSpPr>
        <p:spPr>
          <a:xfrm>
            <a:off x="2346480" y="87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600200" y="380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248520" cy="4442040"/>
          </a:xfrm>
          <a:prstGeom prst="rect">
            <a:avLst/>
          </a:prstGeom>
          <a:ln w="0">
            <a:noFill/>
          </a:ln>
        </p:spPr>
      </p:pic>
      <p:sp>
        <p:nvSpPr>
          <p:cNvPr id="2900" name=""/>
          <p:cNvSpPr/>
          <p:nvPr/>
        </p:nvSpPr>
        <p:spPr>
          <a:xfrm>
            <a:off x="1297080" y="5823000"/>
            <a:ext cx="54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1-зеленый, 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2-красны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(х-3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"/>
          <p:cNvSpPr/>
          <p:nvPr/>
        </p:nvSpPr>
        <p:spPr>
          <a:xfrm>
            <a:off x="2514600" y="457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2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4343400"/>
          </a:xfrm>
          <a:prstGeom prst="rect">
            <a:avLst/>
          </a:prstGeom>
          <a:ln w="0">
            <a:noFill/>
          </a:ln>
        </p:spPr>
      </p:pic>
      <p:sp>
        <p:nvSpPr>
          <p:cNvPr id="2903" name=""/>
          <p:cNvSpPr/>
          <p:nvPr/>
        </p:nvSpPr>
        <p:spPr>
          <a:xfrm>
            <a:off x="1146600" y="5410080"/>
            <a:ext cx="55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0,5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4-зелёны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2-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(х-3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/>
          <p:nvPr/>
        </p:nvSpPr>
        <p:spPr>
          <a:xfrm>
            <a:off x="685800" y="838080"/>
            <a:ext cx="6400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омашнее зад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идумать четыре квадратичных функции и построить их в тетра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преобразование   1 б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преобразования    2 б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 преобразования    3 б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1468080" y="403848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аждый график построить в одной системе координ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"/>
          <p:cNvSpPr/>
          <p:nvPr/>
        </p:nvSpPr>
        <p:spPr>
          <a:xfrm>
            <a:off x="1295280" y="213372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Задачи урока: научиться строить графики функций с помощью простейших преобразов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"/>
          <p:cNvSpPr/>
          <p:nvPr/>
        </p:nvSpPr>
        <p:spPr>
          <a:xfrm>
            <a:off x="1676520" y="25146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евиз урока: «Предмет математики настолько серьёзный, что не стоит упускать случая сделать его немного интереснее»             Б.Паска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"/>
          <p:cNvSpPr/>
          <p:nvPr/>
        </p:nvSpPr>
        <p:spPr>
          <a:xfrm>
            <a:off x="228600" y="114300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аспределить функции по вид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2х+3,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у=6/х, у=-х+5, у=-3х, у = 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5, у=-8/х,  у = -(х+4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"/>
          <p:cNvSpPr/>
          <p:nvPr/>
        </p:nvSpPr>
        <p:spPr>
          <a:xfrm>
            <a:off x="1981080" y="198108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Линейные:у=2х+3, у=-х+5, у=-3х, у = 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ратная пропорциональность:у=6/х, у=-8/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вадратичная:у=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у=2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+5, у =-(х+4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"/>
          <p:cNvSpPr/>
          <p:nvPr/>
        </p:nvSpPr>
        <p:spPr>
          <a:xfrm>
            <a:off x="1905120" y="2057400"/>
            <a:ext cx="655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-3х,  у=-3х+1, у=-3х+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1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882" name=""/>
          <p:cNvSpPr/>
          <p:nvPr/>
        </p:nvSpPr>
        <p:spPr>
          <a:xfrm>
            <a:off x="1295280" y="60958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3х-красный, у=-3х+1-зелёный                     у=-3х-2- синий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"/>
          <p:cNvSpPr/>
          <p:nvPr/>
        </p:nvSpPr>
        <p:spPr>
          <a:xfrm>
            <a:off x="1905120" y="1600200"/>
            <a:ext cx="5486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,    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5,  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4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885" name=""/>
          <p:cNvSpPr/>
          <p:nvPr/>
        </p:nvSpPr>
        <p:spPr>
          <a:xfrm>
            <a:off x="1012680" y="6392880"/>
            <a:ext cx="18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=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1267200" y="6095880"/>
            <a:ext cx="59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зелёный, 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5-красный, 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1-08T16:53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