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3B0-1252-4EC3-962C-2BE44BB5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6E4-28B4-4D4A-80DE-B7EC67C4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90FB5-0BC9-47F1-972F-19B57F07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EEC27-7A7F-496B-A812-20D3BF86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231D4-B7B7-435D-AF7D-783FB223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149C8-5BF3-4FBC-B49C-F423264F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86D94-1734-4BB3-A18A-415CD194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69BFD-6F50-4B7A-86D6-A0A418F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EEF12-C03F-4B85-9A3D-DF2B45E8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E951B-9909-4B3F-A867-13CB40C8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F147C-7A8B-43DB-9C63-ABBD48F5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E5C64-EC9D-43A2-9DD4-2DCE8297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AE6-9290-4514-93CB-715A90B7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7A011-41AE-45E4-81E3-63D7F9B2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7D325-663B-4D0D-B517-A7473CB6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EBC98-B87C-497C-9361-E548BD75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BD056-4523-41D1-8929-B7CF09A7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5057F-46BF-4C7A-A6B4-D5AEE7AC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6D369-B435-4366-82B7-624BDA1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A19F9-1E86-4245-A35C-CCAA3159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754FB-ECDA-428B-A0A2-F42261D4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58561-89D4-42FA-B1BA-EB7F9664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95041-8D65-415A-99C8-4B45E3D6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F85-A387-4AB8-B643-1F48CEB6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7CFB4-8030-464E-A8D6-7227B5B5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1D639-BF9D-41FA-A0AC-56D98CFC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DFA13-6CA0-44AF-88C7-F0E8CE9D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9FCA4-1696-4C2A-BE14-2C9E1AAC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08CA8-9FA0-47F2-AC30-906B259F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38FB3-0744-4B3B-B996-AA0BE040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45171-73BC-46F8-B601-09194415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B49DB-23C4-4E02-8239-ED730F78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25DC3-F284-485A-A6A4-DC588AA3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9CD1B-B1D4-4EF9-AD1F-D6699252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A3CB-20FA-41D7-AF99-47434DC7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199BF-C87E-41D9-B202-4ED3E2E6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74A5C-86FA-4743-A622-95CE3083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524F7-6E6E-48E6-B243-760B19FC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2D212-D1D0-4D28-A008-9E5EA3F2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1073E-14CA-4864-9267-957F1FB2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758EE-E4B8-490A-BC95-0D6F2022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C38C2-1164-4A77-A311-242B755B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3902F-31A4-4C95-BBA7-5543853D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23345-FEE7-4E44-98F2-42D279DC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7D387-D5A9-4AF2-97B8-E96B2EF4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B9BF-83C1-4D34-B005-9BBFB130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F17BF-D2F4-4F1C-BD42-505E7154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678A3-A40C-40FE-B839-B0159088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9AD7E-364E-4CD7-8E97-9BF1EC3B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910BC-22FD-4BE5-B975-94D3E921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102A2-7771-45FB-BAE8-E0D2A4AF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A3944D-4FF2-4A76-805C-5FA9710A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FD5167-6FF2-4C3A-9153-2D53D524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75DD34-3D41-407A-81CD-664ED51D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55F957-D6A5-4151-B7A4-6606E8FB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E2D0BE-1CC4-42BA-9F2C-34011E68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412C-82B5-4113-8F62-A81EF7F4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EBD931-6A09-424F-A9D2-EB720666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3D7F25-E41B-43B4-B823-FF12EA00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7FF8A2-1009-45A1-9381-CC57AB6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F7964A-6277-4B03-A3E8-A2DAA062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077C10-59C0-4261-8C1B-ADC7FE6F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EEE6F2-9CAD-4BC0-9EBD-D741C484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F84F35-5112-481F-9C4F-D99E3FE4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0BAE1-1805-4DDC-9F8A-58921BC0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AB73D-1621-4621-9E83-EB79FE0B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53C7B-AE09-49DD-A668-AF531160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5C37-4A27-4E4E-824C-5B2DE3A5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01EDF-CABE-422D-A569-77D1953B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E1F4A-A5B1-461E-9A9F-96BCCD73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31C89-0A29-4BBF-9974-DF8D8C3F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B1042-38E1-49BD-A6B3-47A4D506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BD516-189F-4D47-9B91-1D146A21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F2298-B153-4BFB-B1DF-A50C4D82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BBC30-4F79-4D51-90A6-BAF0AE7D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6DF64-F60C-429E-BFE3-498292FA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3B6D6-9FBB-4430-8CCB-2D8D8F4D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94E29B-D71A-410E-A818-B44A9C29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B249-022C-40B8-A4C2-D9781883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78C40F-7F1B-4119-91CE-521A07C7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79A998-EDFC-4A2D-96A6-AAF7D1B5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EFF81A-2BF6-4583-9DCA-42DC3904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2D33E5-BC9C-4145-B3AB-9D9DA2A1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71204D-8055-41E5-9EC5-702BA6F3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B0D4FB-6C74-4B20-8D4D-9331C6DC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023BF3-F45F-4A03-9AF4-6386A579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BF27C9-CE0F-4754-B279-92D277BE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423D9C-5FD7-4EE0-ACC5-0F9B83AC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4BFE89-68D4-4C4F-A624-EAFCFF6D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B487-E545-46D4-B73F-B83DE52E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5D0799-0043-46E7-B6DF-C984A1B4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541B5-3567-47C9-A617-156F9E8C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11560F-4BC0-4E1E-A94F-B7C924B5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90E4F-F333-4D12-8ADC-A4D91990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2BB9BA-C5E7-4E88-81C9-5FBF4150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85475-B87E-4BA3-8A61-844CCEFE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F88C3-934A-4BD9-81C8-B01D541E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E2365-B2E6-4E46-80C3-9FA8CF64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8ECB5-8063-4DBF-BEFB-52D9288E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2B7911-1AF2-482E-BB37-32688062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CDC7-471C-44D3-8E36-43175380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DACF7-70F5-4F51-A619-6668209C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13DA5-B992-4193-8580-D498CCF0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0097F-85EC-4A70-93FB-D7256AA0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85AB5-09C2-4F24-8016-C1F76CFB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CE40B-FEED-444D-9D50-2166CDEA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C3D3D-1934-4D0B-A1FF-7336558F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996B0B-A640-4CA3-9C58-8D80D57F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07F7E6-83B8-4D78-8E44-0F8CF3A3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2CE7D-B0BF-4D7C-B20E-967DCB40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928AF-CA79-4A5A-890C-4F1B7A30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548-DF35-421E-8382-56186C3D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CDA7-76DB-4033-A1A1-FC98F3EA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ADA18-4670-46CF-8474-6925897D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41329-B5CD-40B9-B9D3-47448025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88F82-CE0B-48B8-9C66-1109FF49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7F14C-A72D-46EB-8AC6-645E1B2D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F84C64-F1DB-4739-BD94-8995A80C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381C04-D96C-480A-B6F0-072A10A0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477E6F-CEC0-4372-A05C-8137E3E2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28CB52-D040-4236-9DD2-8CB541E5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0FC4F-5AD0-40D4-97CF-7D9F8763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BBC91-4270-49A4-BB78-4FFCC3DD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E354-4F2B-4F62-8869-DAA7ADFB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81DD0-FBA0-4725-B75E-DDC1D5B4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D0811-0F3E-43DB-B22C-781E68CF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D7A81-F903-4013-8A92-3BA5E361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6A51F-7B3D-4952-9055-0B40BD5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16D9E-8E02-4FA4-9F20-30EA5D9D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B9C799-E80C-485D-BF47-946E4379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C29950-A2D8-4C8B-BA83-1A654CB5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C41FC7-5A1D-48F6-92DD-B33B1D85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4FA95B-749F-4103-B591-E867E74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8996E22-20F7-409E-AEE2-2C475C8B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7DA4-4A6E-4F07-9E81-B364139C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1726C4-9AEF-4539-A361-F69F8DE5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2BBB4A-C231-4B10-B573-F90C740A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E5ECEA-1F76-4EAA-A7FB-20AAFD34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B858A8-4F28-44A9-B594-DFB28F37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E91774-0BCC-457C-A26B-B606171E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C19E3BA-C568-4E30-B0F5-79EDB722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5F620F-0094-4F69-9450-694325D3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BE4610-64FA-40A1-A257-782E7215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E4076A-138E-4380-BFA4-80F80093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9F4E02-37A0-4F90-B23E-22E7C72F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34AB-F175-4C36-8641-19462804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BC091C-5967-4C67-9F76-6C84851D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1F5130-6150-4577-8694-9FE0FDFF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374CD7-9C58-45DA-B179-650367E1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94CAC2-BAF7-4D07-B41F-9CAF85F8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F6D4C5-44D9-479E-914F-F1C89480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41CE8-6EA2-48FC-BAFC-79DEEB10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4CCAC-9DCB-4CB9-AC3C-151CFC76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6E2AD-1C08-4FF7-8932-A1CA5D4B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5D04B4-32E5-4DCA-BBB9-CFD45550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49E0F-024C-46CB-B393-86E2E337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BB88-8E96-40FE-B4AD-EF3AC90F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73724-034B-4759-A8C2-75240987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369094-8C46-43A3-9F8A-5BAB930B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488438-02C9-4331-B562-35E28CAE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4E621C-2F9B-44A9-BCF7-926ABB01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FE57EF-7ADB-48F3-9223-CAFB4488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907FD8E-FE7E-4648-BD75-5FB9C05A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B0F48F-918E-4DE0-B1EC-6A0F6CDB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E5073B9-7AA4-4976-965D-8A53EB8A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AD8B29-A929-4CBA-BCC8-23E17AEC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6673C6C-0658-45AB-94F1-27DC4FF7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366C-FFA8-44C6-8204-0163FF7B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EDD6ED5-066F-42BA-8AA0-F5BB5F8C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C5ADBE2-09FE-489B-8578-F8B0C2A1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1A24E6A-4AE3-4F06-B707-8AB7FBA8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3EEE62-687E-421B-B19E-A364027D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5645A1-2EA7-4906-B2EC-CA60BCF1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32ECA6-DE23-478E-B99C-98E6BF38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294870-FAC6-4762-816F-F32479D1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BEABC9-9B6E-43D6-B377-7E0CC3B9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A184A1-3543-47A8-8EB4-4DF7D54D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761BE2-DE0C-4533-913D-31BC6AF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0A090-A14A-414A-AF75-99537295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CA43C3-A91D-423E-922E-CA717EEB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318FE6-2606-45A3-BAD4-C01C2BA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E92CED-45DC-40D1-8346-0BA2CFCC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EF68ED-479F-477F-A640-AC7B2E03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9A60F-5571-4132-A41B-6C61290D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706966-DFF5-4E05-B680-F0E916BF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887474-CF00-4AD7-A12D-EECD7437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592D78-1059-4DF3-91A2-2B59D643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A5048A-41F3-4558-AB1F-5B3FA58C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A63727-3E07-4B6B-8F96-95B91FC0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8510-E924-4CEC-B866-392AEA5F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73607B-D0D1-4FF2-9E60-023905A7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FB3E6E-3FAB-4093-B1B0-F8994E34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A6A1BA-AC32-4D65-A42B-6675504B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EDB991-0058-42A9-BC92-5A316467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03C4F3-40CD-414D-A842-8B381ECE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665451-6D01-4435-925E-6A80E948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2668E2-A1DC-4E04-B0DE-0835A03F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25ECE8-97E6-464A-9AFB-81C74757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EF44D8-FA0D-44DE-A305-3E493CE0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EFEE59-1917-4701-A5E1-9301B5F0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ACA0-9DF1-477C-B462-956A03F3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568236-44BC-4A29-9FCB-9D083C74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1B08E7-02BA-4FE7-843E-13FE7C4A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1053B2-6950-42DC-87BB-8EA11E4F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064AE3-A10E-4FA3-94DA-9DC9FB5A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008364-910B-459B-ADEC-89B26057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8F21B8-1A57-45AE-ADAC-5CC52E21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1A0F6C-9DD6-4C7F-9A3B-B078E5C7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2B499E-9DAE-4864-8EB2-59CA1701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81D30D-0991-4AB5-8E26-DCF24D3B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501B71-DF3E-47C1-AE6F-1CAD4E46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46B52-2963-4E6B-BF7D-6A44AE29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19DAC8-8425-4F44-AED7-B960ADB3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1FA074-0634-43F8-A597-F417FFB9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2E8A3A-79E6-44E4-9DC5-990C9E52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D2BE0B-DAAB-4974-ACAF-6FD6B1A2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D6EF3A-4508-4412-958E-8B672749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B2F4F4-32DF-4F4B-ACD7-0444175F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7D7553-CE05-451E-A995-36A22AFA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EAC4EB-A42B-4594-B2F5-36C4EB1A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81DB2D-789F-455D-98DB-A440A69A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309F5D-A5F9-4584-8BB4-A9B6632F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150-87E1-4C1E-AF3E-CFCC03EE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4F76C-6810-4D23-958D-C87C1FB6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E3CD6C-9B84-4DF6-9C36-BFE6E0A5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F93175-92FF-4B58-8BF5-97E3DC46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253A72-168B-4503-9E3D-1D325BB3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536F13-E624-4B77-BA2B-A86CEA7F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B9CAC0-9415-401B-857E-1617B86B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17C23E-6B2B-49C1-9CCC-E198657C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275A40-A90A-49FE-809D-74E7C091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A6F90A-102E-423A-B692-7B4DAA63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A5A692-E74F-4EC7-A9F5-147E1E6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5C6F4D-F0C8-4C10-B23F-C5E12CED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2113-0452-43DF-8DFC-6A1854BB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4D775B-68A8-4FF9-93EE-37D1CB32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C9F66D-6CAC-4821-8D7E-A0544264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5A2AD6-04F5-4F1B-96A0-08C78510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BF2CFA-CFB5-4AD5-A2F7-373F5121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990FE0-17D1-4CEB-84E2-2A2E9490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77C8FE-A2F4-4710-BA60-BBD2BAC7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DAE963-03FD-4662-9181-1CBB34C2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1B205F-3135-4434-BEAA-CB57C6E7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D5DCAA-89F9-426E-BCF9-BFE8D3D6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287373-2D23-4ACF-A04C-58351A77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EDF8-411D-47F1-9095-E5663998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2B3326-4805-4C66-A7F4-1D13F9DA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ADA35C-ABFC-481A-A97F-39815A45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5D8087-2760-4993-98AB-EF1794F4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CBDDC9-69E9-410C-8AB4-B21254E2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FBE551-809D-45B7-9D84-1C138AD0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0A5D4B-2B42-46CB-9AD7-566E399D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E5A1A3-0C46-448A-B4EB-33450D4D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593ABA-2B89-4CFA-B084-93652473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414C6C-FACE-4112-9CC2-F0EBFF71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476018-FD6E-4E3A-A64F-9B309848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4B2D-0B6E-4B45-BCF4-18E046CA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786089-A3F1-4998-A47A-1D803D00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A8D5E3-6A48-430D-8A8B-8BD94CC0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BEB4C2-C340-42B5-AD5C-7CE54D68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032725-09E8-477F-8166-CFAC381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947DF9-0431-4071-9B40-6EDF5543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B1E33E-04E0-47EF-B86A-739004DE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76AEEB-34F1-419A-BB86-ECE53AEF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8FEEF3-873B-462A-B08D-EC2D4CEE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A3936D-4CA2-4DFA-86EB-23DA8E08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7BAACC-4B24-4CC5-99BA-83AC97E2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C6C71-BC3D-4E72-B60B-7A0C7625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3BDD30-83C0-46FA-B47C-4052C20D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19B0B4-B262-4240-AB84-6594E284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793E3C-D098-4EDB-91F4-DD49FAB3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EFE8A6-87F3-451D-8CE9-89AB2B7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E601E1-4FAB-4447-A2B0-D642355A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19E987-3AAD-4252-B981-2AFF9360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FA4AAB-1163-4342-B01F-7BEB15AB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21D22B-A95F-41C8-92E4-DEB1CC81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C41F5A-C2A3-440D-8118-51477E6E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8B8742-B7BA-4667-8B61-D671D2D9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CE12-EB60-44D6-A856-735B7329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6BF644-A356-478E-92B1-1620C15C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2C4A24-7A65-4C02-AA70-B9F76F6F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1EA4BB-5B63-46A3-B694-14988EBE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66C10B-395E-48FB-9825-58A5261A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C565A0-801C-4B15-B4AC-45281A95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B6CB75-B584-4230-898D-C084A078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3FBEA6-4D14-4BF3-85A7-630A8638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FD2D99-DFD4-419F-8874-ECA1DBF5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6ED6F1-4CBD-475F-AD7C-FE58CD71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379F71-34F1-4279-AE59-576DA1B9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006A-91A9-4C9C-ACB1-8361876F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237DE7-6432-49E8-85B5-8F6C7D6C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568094-C6FB-4441-9843-C0CCEDAD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ABD02D-CD7F-4EA2-BB3B-4E1476AC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C636D0-4FEE-4D61-AE97-FD099A1C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9870D5-012C-448F-95EC-1FBC82A0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EB5863-52D0-4ECC-8A6A-D65CAA29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0247AF-DAC4-44AB-86D8-166FDB0F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6E4804-090F-4C2B-AC5F-8AFF447B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B76CA5-1E42-4A4D-8EDB-BA698559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E93FA8-FEDE-4D67-9FF9-D45785A9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F46A9-D79C-4EB7-A870-4A09F1F1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BE0247-BE96-4300-9ACD-80F4A887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953783-97C0-4D65-AB61-D1A149AD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63CF87-DFF0-4F74-8196-CDAC71DA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F2BCCC-90B9-4649-81A0-0638BC6F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B42425-B819-44B6-A1B3-2720DCA0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DCEB82-4A11-4656-B01D-7E4BE6DF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7438B3-B5C0-458C-9EE1-30A6C18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DF604C-04DA-4440-B694-5C1728B1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CD17AB-0286-49D5-ABD2-60FA0CDD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5535AE-1646-44D3-9C18-1D0FFC6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A9F9-0B16-4915-8C3E-CAC0D8D4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A4E250-8DBE-46E9-92A2-80F7D156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150967-D5DB-4F57-ACCE-D905C706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2B3F15-EC1F-413B-AB7C-6565C610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1C8E1C-6F0A-413B-9F21-5C59A3A9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46F3EF-B070-426F-ACDE-B2C9C970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1248C-98D5-4F06-829D-3B583DE2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A3D-05D5-4A80-83D0-A58F87BA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30E19-44BC-4868-AE32-44B8D5B9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06F97-9205-4F87-A327-CE2EDA20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E5CEE-F66B-4D98-A518-B60A6CC1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76F18-D411-4C08-8F5C-A2F45B30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89D7-BE9C-45AE-9E5D-2E6D26EA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ABA3-3A1D-41EE-AF9D-FC40D501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FB71E-C183-409D-A12A-E8D1C3DF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298FE-DF85-43CE-BCCC-A823B6A6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E04E-19CB-49C5-8E13-6FEDD978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1EF04-7EB8-4F24-9CD8-F5AA2189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F8F-B865-4926-AACD-3D27E878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9037B-4C48-4123-AED5-5A97B993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A2A32-BBF8-4ECE-A9B1-23D0F9EB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5C7C4-B3C0-477A-81EF-ADCA16A5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644DD-A875-439D-B8C5-5C4C702C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72461-E737-4616-83D1-C9420A8E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830B4-F3AF-442D-8621-2135BABA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6C3F8-9B44-459D-AD00-962EC0AF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2C64F-FCD9-470E-85AF-5616D51A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8932-C435-453B-9A3F-2AE126B0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EFAFE-7D96-4962-B2FF-366B76D7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958-2AB0-4FE0-A97D-12D8BE11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64509-D347-43D9-BECC-E26E758F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E433B-1B46-4F6D-92BF-224777C2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2056C-7310-4A29-B545-4A787AB0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565D8-2A58-460A-AE8F-E9450BC8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8979B5-5156-4FCA-8579-4E02C4AC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7C0F1-2F8D-48C9-8D01-EA42120B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96F1B-7B0C-4F2C-865D-C421EE81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5D742-C924-499F-A057-DA249C43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A87FA1-79D4-4CA1-AB73-2CAAC5C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6BD47-0965-4C7F-9F37-3580A574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99D-DBDF-4BC2-BD3E-3F6F27A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C79F0-F2E0-4204-90E7-2218FAD3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184D3-1890-453C-975F-1F2DFD0B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4CCAB-706F-466E-A997-81478B19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F9E7A-807B-4234-AC9C-44790EDF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10D69-ECCC-4F9C-9994-9058CCF1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BA01F-AC07-4264-80FD-BE303CD1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13411-B73F-402D-A602-B2DBE7AC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EFB6A-E40E-44C7-84B9-BC6A1633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02F2-40FD-4A60-9E69-0C56D8CE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70BA1-8E7A-4F34-ACD9-6315E037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968-8BE0-4EAD-BABA-714FD83D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3527D-BC3B-4DF5-B84A-2FF8B6C8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4C9B-16FB-4B4E-86E6-2F110B11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C97C5-A505-4BA2-97A2-6AB2B39F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077D6-EC12-4A1C-80B4-E5F304A0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3BC97-4D4D-4747-84AF-1F9E6236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EC867-A6D3-4374-BB3F-AFA9339A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B9F6C-F299-45B5-9151-44F48640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BFA11-22B9-4854-B0D6-174F0961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6D3F8-C917-4BF3-82B6-5360E744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B17D9-82AF-4394-9468-17070637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420-BA4A-4BEA-B97E-B2F46761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BE6C7-3C8A-491D-BC9F-92F6340E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F7B93-0BE9-4CF3-A28D-A16DCDB7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B098D-DDEB-44A6-A5B6-0A017685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20773-9D6D-4DCE-B5A4-28376620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752B-D364-4BB7-B4F8-FDC3E136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EB455-AAF4-472A-9E58-4BECF693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26513-AE82-431D-B3FD-5B8F409E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B1FAE-330D-4E55-97EA-DD9AA64D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C3224-7605-49EA-A148-A618DA96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57340-2947-400C-8729-6BDC7797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61.xml"/><Relationship Id="rId8" Type="http://schemas.openxmlformats.org/officeDocument/2006/relationships/slideLayout" Target="../slideLayouts/slideLayout362.xml"/><Relationship Id="rId9" Type="http://schemas.openxmlformats.org/officeDocument/2006/relationships/slideLayout" Target="../slideLayouts/slideLayout363.xml"/><Relationship Id="rId10" Type="http://schemas.openxmlformats.org/officeDocument/2006/relationships/slideLayout" Target="../slideLayouts/slideLayout364.xml"/><Relationship Id="rId11" Type="http://schemas.openxmlformats.org/officeDocument/2006/relationships/slideLayout" Target="../slideLayouts/slideLayout365.xml"/><Relationship Id="rId12" Type="http://schemas.openxmlformats.org/officeDocument/2006/relationships/slideLayout" Target="../slideLayouts/slideLayout366.xml"/><Relationship Id="rId13" Type="http://schemas.openxmlformats.org/officeDocument/2006/relationships/slideLayout" Target="../slideLayouts/slideLayout367.xml"/><Relationship Id="rId14" Type="http://schemas.openxmlformats.org/officeDocument/2006/relationships/slideLayout" Target="../slideLayouts/slideLayout368.xml"/><Relationship Id="rId15" Type="http://schemas.openxmlformats.org/officeDocument/2006/relationships/slideLayout" Target="../slideLayouts/slideLayout369.xml"/><Relationship Id="rId16" Type="http://schemas.openxmlformats.org/officeDocument/2006/relationships/slideLayout" Target="../slideLayouts/slideLayout370.xml"/><Relationship Id="rId17" Type="http://schemas.openxmlformats.org/officeDocument/2006/relationships/slideLayout" Target="../slideLayouts/slideLayout371.xml"/><Relationship Id="rId18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C26E-95AF-4F1B-B53D-F9591838A2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5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07C0-664C-4C43-BE2F-D34292B750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1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1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4CD7-C17C-4366-915A-7625C9C10F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1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2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AD50-AF81-49EE-90E0-B8F56148FC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92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FB36-1C6B-4D1D-BA9C-556C98904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8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13CE-6C56-4C61-892C-68146CADC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59EF-5462-4F47-8A5A-5788BA4BF2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443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6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F296-7951-4D94-84B4-D1CDD13A65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99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8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1336-1471-4A4E-B7E8-2E68806DF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7113-C19C-4E23-B6A0-01D920029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B0D9-2FF2-4F2E-B306-015A0B49E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4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5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A106-D7F3-4F21-A825-979B20D880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9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dt" idx="5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ftr" idx="5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 type="sldNum" idx="6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2E41-97AB-411E-AF63-1B417D3E3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5E14-0FB2-457F-B903-C015F395C71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4E23-4795-4105-B9F4-DD59B647750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87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87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87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7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8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88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8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88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91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92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3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6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8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98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98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4" name="PlaceHolder 1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5FA6-719A-4623-913F-BD550ABD38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03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03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3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04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04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4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04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8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08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9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3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13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13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4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15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5764-E47A-4E80-A20D-6EAE590BB7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 type="dt" idx="7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A3F7-DB9C-4A13-8E32-9A9F34E31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dt" idx="7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33A1-8085-4AA9-867A-B10320836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8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8B38-1C3E-49DF-A46E-BFDBD25FAA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32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7" name="PlaceHolder 1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4F41-D4DE-4B34-A16E-A329E59F06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3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3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3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3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3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3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3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4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7A26-6EFC-47B2-8CF7-5240A55FC4E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D101-83ED-4676-8371-120E711EA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5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5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5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5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5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5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5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5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5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5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5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5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5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5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5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5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5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5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6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6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6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6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6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6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6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6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6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6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6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6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6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6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6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6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62FE-5A59-4CCE-B372-5882E3B53FF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1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73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420C-24F3-4D45-9253-7CECD8A787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7"/>
    <p:sldLayoutId id="2147484040" r:id="rId8"/>
    <p:sldLayoutId id="2147484041" r:id="rId9"/>
    <p:sldLayoutId id="2147484042" r:id="rId10"/>
    <p:sldLayoutId id="2147484043" r:id="rId11"/>
    <p:sldLayoutId id="2147484044" r:id="rId12"/>
    <p:sldLayoutId id="2147484045" r:id="rId13"/>
    <p:sldLayoutId id="2147484046" r:id="rId14"/>
    <p:sldLayoutId id="2147484047" r:id="rId15"/>
    <p:sldLayoutId id="2147484048" r:id="rId16"/>
    <p:sldLayoutId id="2147484049" r:id="rId17"/>
    <p:sldLayoutId id="2147484050" r:id="rId18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9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1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288C-F37C-4DDC-8B42-B8303407C6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6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7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9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1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94F1-E215-487F-9E1D-C4C5DEE44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7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7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7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90E3-EBA5-4B08-9935-A5D418F28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2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3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3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1F7D-7675-4F46-8487-D4B3C763B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8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A1DB-A7B4-4A08-A9EC-AECC99F395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4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7313-6D00-47AE-8228-276B0483F7D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0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A1D0-E191-4D10-92D8-55451CD337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"/>
          <p:cNvSpPr txBox="1"/>
          <p:nvPr/>
        </p:nvSpPr>
        <p:spPr>
          <a:xfrm>
            <a:off x="933480" y="2144880"/>
            <a:ext cx="72770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образование графиков функц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/>
          <p:nvPr/>
        </p:nvSpPr>
        <p:spPr>
          <a:xfrm>
            <a:off x="1600200" y="1143000"/>
            <a:ext cx="685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одной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 у =(х-4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   у =(х+5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8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2889" name=""/>
          <p:cNvSpPr/>
          <p:nvPr/>
        </p:nvSpPr>
        <p:spPr>
          <a:xfrm>
            <a:off x="968400" y="5670720"/>
            <a:ext cx="60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зелёный,  у =(х-4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красный, у =(х+5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борд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"/>
          <p:cNvSpPr/>
          <p:nvPr/>
        </p:nvSpPr>
        <p:spPr>
          <a:xfrm>
            <a:off x="1523880" y="990720"/>
            <a:ext cx="65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у=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5,   у=0,5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1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304040" cy="4876920"/>
          </a:xfrm>
          <a:prstGeom prst="rect">
            <a:avLst/>
          </a:prstGeom>
          <a:ln w="0">
            <a:noFill/>
          </a:ln>
        </p:spPr>
      </p:pic>
      <p:sp>
        <p:nvSpPr>
          <p:cNvPr id="2892" name=""/>
          <p:cNvSpPr/>
          <p:nvPr/>
        </p:nvSpPr>
        <p:spPr>
          <a:xfrm>
            <a:off x="517680" y="57466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зелёный,  у =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5-красный,  у=0,5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1-си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"/>
          <p:cNvSpPr/>
          <p:nvPr/>
        </p:nvSpPr>
        <p:spPr>
          <a:xfrm>
            <a:off x="1523880" y="1371600"/>
            <a:ext cx="6858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строить графики функций, используя шабло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ариант 1.              Вариант 2          Вариант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3     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1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1   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2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(х+4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у =(х-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= (х+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-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у=-0,5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/>
          <p:nvPr/>
        </p:nvSpPr>
        <p:spPr>
          <a:xfrm>
            <a:off x="1676520" y="152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5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2896" name=""/>
          <p:cNvSpPr/>
          <p:nvPr/>
        </p:nvSpPr>
        <p:spPr>
          <a:xfrm>
            <a:off x="1506240" y="5670720"/>
            <a:ext cx="57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у 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3-зелёны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1-красный,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 =(х+4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"/>
          <p:cNvSpPr/>
          <p:nvPr/>
        </p:nvSpPr>
        <p:spPr>
          <a:xfrm>
            <a:off x="2346480" y="8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600200" y="380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248520" cy="4442040"/>
          </a:xfrm>
          <a:prstGeom prst="rect">
            <a:avLst/>
          </a:prstGeom>
          <a:ln w="0">
            <a:noFill/>
          </a:ln>
        </p:spPr>
      </p:pic>
      <p:sp>
        <p:nvSpPr>
          <p:cNvPr id="2900" name=""/>
          <p:cNvSpPr/>
          <p:nvPr/>
        </p:nvSpPr>
        <p:spPr>
          <a:xfrm>
            <a:off x="1297080" y="582300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1-зеленый, 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2-красны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(х-3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/>
          <p:nvPr/>
        </p:nvSpPr>
        <p:spPr>
          <a:xfrm>
            <a:off x="2514600" y="457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4343400"/>
          </a:xfrm>
          <a:prstGeom prst="rect">
            <a:avLst/>
          </a:prstGeom>
          <a:ln w="0">
            <a:noFill/>
          </a:ln>
        </p:spPr>
      </p:pic>
      <p:sp>
        <p:nvSpPr>
          <p:cNvPr id="2903" name=""/>
          <p:cNvSpPr/>
          <p:nvPr/>
        </p:nvSpPr>
        <p:spPr>
          <a:xfrm>
            <a:off x="1146600" y="5410080"/>
            <a:ext cx="55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0,5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4-зелёны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2-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(х-3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/>
          <p:nvPr/>
        </p:nvSpPr>
        <p:spPr>
          <a:xfrm>
            <a:off x="685800" y="838080"/>
            <a:ext cx="6400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думать четыре квадратичных функции и построить их в тетра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преобразование   1 б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преобразования    2 б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 преобразования    3 б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468080" y="403848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аждый график построить в одной системе координ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"/>
          <p:cNvSpPr/>
          <p:nvPr/>
        </p:nvSpPr>
        <p:spPr>
          <a:xfrm>
            <a:off x="1295280" y="21337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Задачи урока: научиться строить графики функций с помощью простейших преобразо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"/>
          <p:cNvSpPr/>
          <p:nvPr/>
        </p:nvSpPr>
        <p:spPr>
          <a:xfrm>
            <a:off x="1676520" y="25146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евиз урока: «Предмет математики настолько серьёзный, что не стоит упускать случая сделать его немного интереснее»             Б.Паск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"/>
          <p:cNvSpPr/>
          <p:nvPr/>
        </p:nvSpPr>
        <p:spPr>
          <a:xfrm>
            <a:off x="228600" y="114300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аспределить функции по вид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2х+3,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у=6/х, у=-х+5, у=-3х, у = 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5, у=-8/х,  у = -(х+4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"/>
          <p:cNvSpPr/>
          <p:nvPr/>
        </p:nvSpPr>
        <p:spPr>
          <a:xfrm>
            <a:off x="1981080" y="198108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Линейные:у=2х+3, у=-х+5, у=-3х, у = 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ратная пропорциональность:у=6/х, у=-8/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вадратичная:у=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у=2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5, у =-(х+4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"/>
          <p:cNvSpPr/>
          <p:nvPr/>
        </p:nvSpPr>
        <p:spPr>
          <a:xfrm>
            <a:off x="1905120" y="2057400"/>
            <a:ext cx="655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-3х,  у=-3х+1, у=-3х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1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882" name=""/>
          <p:cNvSpPr/>
          <p:nvPr/>
        </p:nvSpPr>
        <p:spPr>
          <a:xfrm>
            <a:off x="1295280" y="60958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3х-красный, у=-3х+1-зелёный                     у=-3х-2- сини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"/>
          <p:cNvSpPr/>
          <p:nvPr/>
        </p:nvSpPr>
        <p:spPr>
          <a:xfrm>
            <a:off x="1905120" y="1600200"/>
            <a:ext cx="5486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,    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5,  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4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885" name=""/>
          <p:cNvSpPr/>
          <p:nvPr/>
        </p:nvSpPr>
        <p:spPr>
          <a:xfrm>
            <a:off x="1012680" y="6392880"/>
            <a:ext cx="18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=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267200" y="6095880"/>
            <a:ext cx="59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зелёный, 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5-красный, 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1-08T16:53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