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3.wmf" ContentType="image/x-wmf"/>
  <Override PartName="/ppt/media/image1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0A2-BF56-4546-94EF-72136A48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0EE-BD4A-4F30-BD74-D757AFBB9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EB745-CBBA-4A74-8EE2-7C33272A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5B965-DC0C-404A-B353-AFE57F88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4444F-A3BC-4B93-9791-E5A947C9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73253-AD2A-49AC-A1AE-29EE1387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AF59B-93ED-4870-BD7C-C1D6A035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3610C-4666-4025-B6F0-9B2BF85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0BBE6-01AD-4DC5-BDF3-A83692A4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FEAEA-3389-4A12-8C01-5CB80E89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23126-23D1-4544-9A08-A9F055A9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1F009-5CC7-4DCA-BF23-EF574A9D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65A-B6EC-4592-99DE-D02BC6F3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9673E-C8CD-444D-AE30-C365C9E2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900EB-8657-4506-9300-DAA718F3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10DBC-4C55-4DDD-B2C1-CD9547E6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FFCC8-ABD5-48AE-970E-D1AFE5BF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7526C7-65CB-4A90-B10A-73DA2D27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A6796-AC8F-4F8B-8060-3EC943A1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5FF4E-4E90-4E57-8417-9D164A4B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01AA2-39A3-454B-BECE-0AFF0757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47FBD-DE84-493B-862E-98889074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8B1AE-6F17-4BD6-9CE9-4918E7CCB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D3AF-7384-4780-A104-E94337CB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50F5A-A2BC-433B-BAE0-893F0699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A978B-39CE-4033-8D79-37771BBB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31401A-63AE-4671-A944-25F62BAE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51A64-63E3-4D28-A462-EA7DA169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AA0E5-1E5E-4AEE-AFB6-22060E8D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E411A-B58C-4029-9F79-D8CCDB6C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912B7-9FB6-46B4-86AA-D7524748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163913-E675-4267-8CDA-913B8115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79D97-A065-404B-8D46-F48B369B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37760-1455-40B7-AC61-67E5F356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0EAF-5318-4645-A1F4-D764EC33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58297-A1FC-4907-8600-CED4F945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CCB3D-180A-432B-9668-84F310DD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AA08C-EFDF-49B5-8882-B4914964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16A38-51CE-4E28-8D1E-FD16B6E7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F8D0BA-9ED8-4AE4-985F-76696735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6E556-B646-4EAE-B086-D3E11F77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83A834-E201-4E2D-9691-F9D4BD76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B6199-EBE2-48F9-A6F2-B6AC58F9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78FBD-0749-409E-97D8-D512D20A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2BDB1-C515-492A-BC99-B59768C8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ACDD-2CF8-46DC-91DC-EEBEA152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90FC8-E41E-469E-828F-B51C3B23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E8A40-E6AE-40EC-AEC0-70496302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8AA36-7460-4FF9-86E8-951AB046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90680-F5EC-4A03-AFD8-DE2512B5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15C51-6B81-4909-AA0F-8579D7BF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107163-CBF0-41F8-B6A0-3AC09829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F86A34-88C4-499B-BB9D-9D4D7D5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CA4C6B-DEE4-41C9-8963-FBF71373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F9210A-214B-46E4-9616-48FB0182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4F78682-B8F2-45AA-A435-35426557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189C-1DCA-4579-A247-F87C8BB0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44F8D5-4441-467B-968F-19E04921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8A9FA9-26F8-4D34-B5FC-B1287152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3575BB-C8A9-461C-A99B-CD86AA82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9B43AF-8B83-4EA9-8323-545B1AB0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B2B3DD-D71B-497D-90B9-03A953CD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B8BB97-856A-4D59-BE37-098E462B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1BCD5E-06AA-4DC5-BADE-9AADB598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8DC7E0-B84F-4713-9982-D2C630B3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3DD59-C472-40D4-894A-B9DC1657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FD6F8-46CC-4EF6-9DD7-2921DD3E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B38E-DE77-4F84-BB30-D4F06B38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714D6-1020-45BF-8F7A-F96FFD4A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495A2-AFC2-4C98-B677-18937F2C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8499EF-1E05-45AA-BA49-031467D8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7E1E03-01C5-45D9-8CDF-E960EC46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9AE6D-893A-4034-BCA3-900ED25C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56ABE-A022-4179-A90F-81CDBAAE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DF295-7D9C-4AFC-BDB1-BDD141D2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3989F-D9B2-4C7B-A3B9-FBA2A8E1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814DFA-B26B-4A3D-88DB-518BC561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A2A56A-11DC-4529-A18F-3103906E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093A-8636-424C-88D7-18C041DB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C749CC8-7C70-48E8-9494-976F67EB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74F20E-88E6-40C2-9AAF-EBCFF5E3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E7A55C-539A-4281-A7DA-DA985223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1F8915-9B89-4C2F-8657-ECF6F24F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719082-CC61-4BB4-B2CB-223095D9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9CA1B5-312E-4CF3-B7CD-C262802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A7C13E-4DC3-4999-A09E-DC6B5181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D4F124-44A8-4164-AB62-9EB6021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813C59-1ACE-4B46-A516-4C66F777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A4817A-4413-42C8-A41B-74134C0A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84F0-7AF4-4E46-964E-BC641949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C7A7BA8-CA5A-49CB-9C8C-25158047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4CABE6-4319-445B-8538-D0CAC0F3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E2787-4531-4C28-A77D-7692A86C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7771F1-BDA0-4C0F-B188-3FC2E9AE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3BA04-C840-48C7-8B2F-9004A4DE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3035F-BCBC-455D-A572-1B489BEC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C4642-D76D-4E0A-8E14-E958A81D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0A9DA0-9E95-4D9F-A6F8-AA16208F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41755-C11A-4A25-A1B1-D3FE392E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31D79-F413-43AF-B9E2-92F99897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E11DC-4E64-4478-831B-4B6C8175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F9B973-CA79-4748-A904-135197DB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DECCD2-C891-4421-8B75-E0DB8F88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2F6D8-D9C3-4C41-9356-9767A9A2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A71B28-3BCB-4C92-BEBD-BD243D53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77702-1ADE-4ED7-9A1F-FBC44CC9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CDE89-7781-4987-81EF-FA6FF35A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B5218-1C65-4C99-BFE7-D1E648E2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498EA-46EC-4991-BD0D-5071DE3E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04D49-7659-492E-9D6B-599EACF9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F6988F-647A-4B2E-93FE-F3111E9B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5E7-F9D0-41CF-89AD-6D69BF30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2A05-F7A5-43CC-A2F6-951EF8D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A8AABF-EE11-4AEC-BB36-E35FFE24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0291B8-1818-4BF9-97D3-E1F7D34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75CFE7-6819-4696-B44C-B15538DC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464CF-DF38-45C1-A868-1DEE298F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15CA0-BA51-4F08-88B0-CE6EEC4F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90AB6-CFDB-4170-9E6A-A775A269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0B0BB9-C61F-4AF2-BE07-E8152C84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C5EBD7-A551-401D-9222-3774788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486263-6C43-4BE6-8B71-F14E916C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AF012-6ECF-449B-B82D-A7C160EF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A1EE-C0E8-4E4E-8638-B42D6FDD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D480D-7B4F-47DC-8285-4BA3D011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94506-F360-4AA7-8208-D7F96995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9504FE-8CB3-406D-B67D-FBABE92F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2DB03C-A622-442E-BE23-C73B283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6F9AC-B335-4380-BDC9-2FDD19A0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1DA7AC-9EEF-4A95-957F-C9CFD84D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60ACED-F110-48BA-8A00-E1282BFE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D818534-FC25-4A90-B020-5B161E8B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D122E2-FD56-4E4B-869D-D5842902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1B48CA1-B0B2-42C4-AB07-845CEAC7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338C-CDDF-4883-95F4-D134D0856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57672D9-4C0A-4A00-86DC-29707E81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922125-7384-4D46-970B-1C391A59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FCAC539-75BA-4E7F-84B0-54E9C4DE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CBC05C4-0D30-48A0-8699-B8A85EB7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15DCE7-B93C-4791-87C5-960E9E9A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001BC37-0A5C-468B-84A0-83574646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B6CFAA-0ABB-43D8-93BD-3211BB9F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03FB15E-428A-4DC4-8261-C0498386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C06B76-812E-471E-838E-A98EFAE83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76CC4C-1618-4C10-B2D6-D16CC6C6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7F68-9150-432F-B39D-BC970609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A655E-EA7F-44F0-B32E-AF98FC58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F2FD67-317A-4D6B-BE2C-BCF61D16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C326B-C813-4F37-BCE4-3D6C1090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E723B-5972-4C93-9223-1780B5DC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96F9A1-E2FF-4870-B444-75F5E1A7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9D881D-E7D5-4A12-AFED-AE6BE2D2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2A8594-E792-401D-8BCC-913D66EF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E3AAE0-EFB2-4334-A1DB-7474B95C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F53F9-0B6D-492D-BA5C-D4213685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552774-6A8C-4640-A235-991A37D6D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6980-810E-4435-9363-0CF23A4E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F0BEF8-345D-4D64-8D0B-DEDAAB4F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D23419F-DED5-4876-8274-247FC4B0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442806C-4CCF-46B7-88D2-461B9F2B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1D18A26-6B1F-48C4-A766-923CF1D1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96206A4-E292-41E6-895B-01734D3E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9C1BF4E-6D9E-40B6-BB1D-F1353B38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FFDF9D1-979A-49EF-9A77-FE4F6BBB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5F79E6B-87FA-4FA3-B7D0-140B9578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B80972D1-6BC7-4B8A-A3EA-45DE5941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6986768-6A2D-410A-98AB-A6FEF83D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0D74-8136-4B59-863D-8CAD61B8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6CC8990-EAD3-48C5-A13A-A75FB6FA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043E836-267F-4A22-BC16-05ADDBE9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5DACC44-D28C-4AAD-944A-74965685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450D7A-520A-4E9B-B999-954D0492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ADD800-B0F9-4223-AE42-1DDAB6A7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1F0242-699F-4F4B-BD42-A51A9F0B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72E307-AC56-4627-9BEF-2C8A7DB1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FF6D0A-07CE-4F58-BECC-8102D3D0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8094A2-4238-4386-91A0-0D347D43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BAE183-FAF3-45F8-8F3D-7E1F51FB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00C12-9282-44D7-9EFF-D0A91B05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778E3-D3B7-4C3B-A58B-723CB2E3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8FE933-3402-476C-986B-26F6D5BA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7F3E9A-0CDC-420F-8763-53DFC3B5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BCB5C7-C8F5-4F0D-B890-6A067C2C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BBA5C0-2734-443D-BCAF-251F793B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C25307-717D-431E-ABE9-7A227E42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D347DC-D473-4B77-899A-26E2F07A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B20B87-2398-447E-92B1-44F9679E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097B4A-E72A-4763-BAE0-B385BE2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588B14-F23A-4048-951C-1DD08475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5AFD9-BAEA-43BE-96F1-0181AABD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86F17F-95DC-4B13-AC98-AF11488A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7C41CE-1F43-499D-BCDF-43FA7C00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1322BC-E276-4E17-B27B-EC7F77A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71D24A-CF4E-4F6E-92F5-27AC8192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894054-7CEF-4B00-AA2B-347D7978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A144B4-5DCA-4847-A2CD-79583F77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07E334-46DD-4B48-B659-A63D59B3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572251-403C-4125-A0F9-E9EE90AE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5421C8-CE45-4F4E-B2EF-E0A6C37B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2D6B0A-1754-46F7-8F43-1C209A3A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AE1BE-75AC-4965-93D6-A5AE53D8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8D8771-BFCA-40EF-B4C6-6F226ED3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0D3B15-E846-4448-B6B6-D2DADE6E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9AF557-3EAD-4EB8-9805-B97AF858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BE405F-D1D0-4EB9-84FA-E6F18B22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DFA5DE-F609-4626-A14C-70EFC2B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D30FB8-DBF9-4691-A59C-5A8B129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BEA96C-845C-40A4-B391-402C0B9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1A5404-FF81-46EE-8D2D-C1F90C86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697413-2F08-4498-9868-B88FE184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674910-7AD7-4681-84FC-5A87E089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B15C4-3503-48EC-A20F-14B9BDB4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8C6FDC-98E9-4689-836A-51F7C979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A61C48-AFE9-4AD8-B8B3-0F3352AD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B5ADC7-59B4-4471-B16C-E1200B0A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6A226E-C77A-4E86-B54D-FC5E486E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EB5566-CE9A-4D6D-8113-AF21FED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F68A08-C5C0-4526-93C5-14B2A9FA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91145A-A501-4B22-983E-2D7F3CD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AAEFA9-2BBC-4C0E-8D22-2B609327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229FFC-6313-4F4D-B520-3D1DA9AF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194B61-42F0-4B06-9802-F41407B5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B946-A371-4DA0-8B4F-6E0624EA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3E3AE-CD77-49A3-A7CB-F4F6BC12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2B050F-A670-40F2-B1D5-AF1EB786C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BC9FE9-735B-483A-AA8E-15865819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914A61-9DE9-4936-80B3-3A88D4EA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A55516-763B-4710-A79A-A5CE10F6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4571E7-EB22-4722-A63C-0E11CCE9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E63751-9940-464D-9112-E8EB995E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A8F0CA-0685-4301-9F25-52C1C713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4DC31B-6274-41C9-A6B8-84B04E55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0DB301-6FB9-4997-9C8C-D7EA3D8C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A2AD0D-973A-47B2-BF6C-5186AE79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C7CB2-5D50-4467-8D6E-0D921773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E3419C-7121-426B-BDEE-DFDF4DCB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D64C31-F75B-462C-B8FE-DFA152FF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9838F3-1E3A-4F44-9F29-19889AA3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004ACA-1D99-44F2-A7AF-E0BDC94A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EE7936-8A37-43E7-AF5C-3A3A7FF4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372D94-FD8B-4434-B2F2-7AA98C03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989F70-E3A3-4304-AD23-BFFE3F0B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6C0DDB-4EB5-415A-9F97-F4A63025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890B84-D4D6-4F1F-8435-3C10C2D6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217761-2921-4E2A-A643-BD904B2C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D1E65-C988-46F6-8A9E-56C9A01B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A7A53D-A209-45F4-BACD-65CC0C0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3B0CE5-8E09-4415-85A3-F320274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E209D3-9754-4C8C-BBDB-8CDB6610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0A154A-6212-4A78-BA9C-DD8CA7BE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AD8375-1426-416E-B6F0-60CE4843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48C835-9809-491D-A1E9-EB7D7B96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A93ABC-FBE1-4BD0-808E-CC43FC86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288F112-32AA-4DEF-80D5-9DDE8E728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256DFC-C04A-4386-9158-4D113D48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15EA7F-F84D-4E12-8F4B-4B0473AC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A173-CAC7-401C-A4C6-8B6D4958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8D0160-18F1-4853-AACC-26B646D4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EC8398-602C-445E-B63E-784B4CA9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603045-A6E4-43D0-BF97-6AB16C80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6E2528-1C77-471E-B64F-AEA16868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2B2A84-7E26-40F8-826C-6EB3640C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CFFC3B-1D9A-4BC9-A35B-7A3639F7E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0F969A-52CB-4375-9ED6-EC778ADA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19BC82-2532-46C3-9732-84D75134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E32FBF-0E97-4053-BCFC-A24DBED2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7D17D7-BF26-4F3F-8F84-0D2FA2F4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3476B-ED26-4C48-8D26-0FEB9E68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C2E7D0-0275-4969-9DE7-852CB994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AEF39B-AC3C-474C-A6CE-906D2F8B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6DE953-C6A9-4D4F-949C-93041A53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7CAF10-0835-4FFB-A22E-155B0FAF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F0061C-FCFF-4C61-A2E8-58263372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06AE73-7F00-4619-B4A9-05979004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BA083B-30D2-4A9D-AAD8-BF2541BD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C75B04-08C2-4B72-AB93-71E1D25D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BAD0EF-682E-42A1-9C01-F8CD8CAD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C7EC0E-2394-4B4E-BE58-6AF9A3BD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76B5E-3A7D-42E0-BBD8-43C50FBF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505E94-323F-4488-82D0-C05748BB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093445-4731-4B9B-8FF6-633B94B9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617790-5883-4FB0-A0BA-08E902C0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FAD89D-4964-4EDB-A913-EB0B7566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D9ED93-E7A5-466A-9393-31AE3A2E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1B4208-A54B-49E9-A1D2-697E6346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35819C-7D50-49A1-9A5B-4BAFA33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BA0795-972B-4627-B8E2-A25D1CA4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4F54A4-6326-42DB-B30F-122C1138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A80873-FDA5-4655-9444-D17AE658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C1F90-4E51-4E25-9236-2DB92D99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8BD632-2554-4A37-B264-8AECC80E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2ABC1E-8855-4E8D-AB91-7C661311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3121C79-F185-4614-BD38-BCC98EC4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D700675-AD4F-4AA8-9AED-3B0D64E8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62C63A-3C9B-41D5-806D-60AD4902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D018D2-90FF-4356-84E2-8CFEC8ED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C56CC2-5A29-4FAF-A810-EBBF30BE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2A1945-2610-4D8A-826B-EBB99A09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334D3B-6C2C-45E1-B16A-E69E15DF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3757D4-2583-4582-AC5E-8D873BDD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6F3B-0C67-47D2-88B2-464C56C8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2BCD52-74E1-46CE-B05F-E23E15B9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83BFEA-9FD7-4532-B63C-EBA5DEAAC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E76185-2228-4E6B-983C-384610A6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42C8C1-E81B-4B9A-8391-EF557525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B6A084-B6D8-4821-9A93-96DB2141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3381F9-DE5A-4499-B9F6-F529B97F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DF0535-0D2C-429C-9867-F52AD9CF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9B4A80F-D83B-4FEC-94DE-D4AA681E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C627504-B399-4EA2-8513-4120C3A3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2CF49D4-7713-4AB2-B508-38391198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E5A1E-19AE-4861-9F4F-52A7592A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BAFE4B-9CF2-4026-AA23-1157C8F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5F9CED5-7F26-4B32-9117-E51416F0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266908-9970-4137-A40C-E00BE54B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CC1623F-E955-47D2-90E4-0A39DB97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ED30D6-7720-4780-89F0-ED11B4DE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49440-E9D4-4608-ABEE-4787F257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F744-BF3F-401A-A053-D0442544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542B3-33CF-4767-BEA5-0FBE04B5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A9242-DC17-4DF4-9112-00AD8E9F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D3AFA-7F73-4C0C-A69D-F6AAF721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3FA83-D36A-47A1-A5BD-11A3DA9B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B3E1D-5997-4372-8C40-741F5B8F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835F-3DD4-4B81-99DF-0B8F4CDB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FCBC3-7852-44B9-B494-632AFF4A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C0622-1D71-45AC-B195-C31D91A0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2D5A-C84D-4EAA-9EF7-0A769277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7CD47-F399-4E36-BDC7-2446FDAD2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87C8-0923-4ADC-8870-EDC1D1C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A407-766B-4605-9329-EECCDE3C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C315-39C0-47A5-B651-93A40245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57268-EACA-4001-A712-C847BAEB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DC2CA-6B7E-43EF-886A-F3F1BCDD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0FDD5-3D29-48B7-AE73-C66591E5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EF370-3E9F-4C3E-BC28-E0732721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A5EA5-4602-4CD0-B594-DE6B04A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105BD-5955-44D1-81A5-FB360137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88188-0C5B-41D2-A70A-31312A56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C8272-0A31-470D-9699-65BC544A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BAE9-CF92-4623-BB57-78C1E930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C138-47F5-4A6A-B95F-7A4DE151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D1400-DF73-421F-B918-F2EB7EFD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DA573B-B45D-4884-B4FF-E53B6131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B6F48-761E-4337-8CFC-E075A13A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41BD11-5EE7-440B-A78E-CC7AC0DC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76A5C4-8E64-4849-A6D3-A6F89A21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CA6481-7A45-432A-9651-53B62D5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76D0A-CAE3-49BA-884D-CE61619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D5E2F8-E439-432F-A23E-FBE5EAB1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DF69C-7837-42A9-A8C2-7C2C12C2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551-47D5-4553-9555-986B379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29E5A2-0C80-4E09-83B1-25CF24D0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D589D5-4475-4156-B100-9A475FBB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E6F673-0D3C-46C5-A10A-2FA2168E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26B1D-E9E3-49A8-BC22-FFD0FE36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530AF-82A7-405A-94A9-0CDB020D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F2811-70EE-48A6-B497-595A364A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F37FB-7D30-4377-BEE7-13FDBA4D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AB730-1E88-403E-A3D3-9FA91ED2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8EF29-C35E-4FBD-B945-95751B0E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45B70-B7D9-48A9-8FD3-C7098B2B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9DA-85FD-4DDA-99AA-B354A3BC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34A3E-96F9-48F5-937B-3723CCE8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634AA-B17C-47A6-8193-EC61FDF6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2DCEB-80DC-489B-B498-6F06A155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CF93B-2C74-4972-8EE0-AED68FBD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74579-6356-4E4E-B1E7-25C9004C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192B7-78BF-4E91-8E52-C90E60B6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D64C4-F83C-4ED4-ABF5-8917B4F9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F25EE-AE58-4554-8C40-8E1FF8FF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A6EE9-A83A-4733-9566-CEB75D32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8F2FE-8037-4CF8-9B60-CE36BC2E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1F3-3AFD-49D2-8E7F-E7178C49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A065D-7879-466E-84D2-0767606F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61F87-5F4B-40D8-9060-95F5A038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F2513-FA18-46DD-9D50-2A5F6A1A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486B1-4AA5-4EF3-9691-CAAE9BEA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8C2ED-1DF9-4591-B5EE-F4FA6419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600FD-225E-44E9-ACAA-ABB0D6B1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03A74-BC56-415D-A7B0-5ABC9F98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2BB81-7EB8-49CC-B519-C5129B685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5C4A4-6C7C-4109-AA37-7916325C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E9A20-D376-466A-B2D0-3EF424EB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61.xml"/><Relationship Id="rId8" Type="http://schemas.openxmlformats.org/officeDocument/2006/relationships/slideLayout" Target="../slideLayouts/slideLayout362.xml"/><Relationship Id="rId9" Type="http://schemas.openxmlformats.org/officeDocument/2006/relationships/slideLayout" Target="../slideLayouts/slideLayout363.xml"/><Relationship Id="rId10" Type="http://schemas.openxmlformats.org/officeDocument/2006/relationships/slideLayout" Target="../slideLayouts/slideLayout364.xml"/><Relationship Id="rId11" Type="http://schemas.openxmlformats.org/officeDocument/2006/relationships/slideLayout" Target="../slideLayouts/slideLayout365.xml"/><Relationship Id="rId12" Type="http://schemas.openxmlformats.org/officeDocument/2006/relationships/slideLayout" Target="../slideLayouts/slideLayout366.xml"/><Relationship Id="rId13" Type="http://schemas.openxmlformats.org/officeDocument/2006/relationships/slideLayout" Target="../slideLayouts/slideLayout367.xml"/><Relationship Id="rId14" Type="http://schemas.openxmlformats.org/officeDocument/2006/relationships/slideLayout" Target="../slideLayouts/slideLayout368.xml"/><Relationship Id="rId15" Type="http://schemas.openxmlformats.org/officeDocument/2006/relationships/slideLayout" Target="../slideLayouts/slideLayout369.xml"/><Relationship Id="rId16" Type="http://schemas.openxmlformats.org/officeDocument/2006/relationships/slideLayout" Target="../slideLayouts/slideLayout370.xml"/><Relationship Id="rId17" Type="http://schemas.openxmlformats.org/officeDocument/2006/relationships/slideLayout" Target="../slideLayouts/slideLayout371.xml"/><Relationship Id="rId18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BA21-C0FD-491E-BE33-8E0D2B5739B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5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634B-E5F6-405A-8081-AC74971E979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1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4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4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E651-CBE6-4B1F-93FA-424AD14B22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81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82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EFDC-7EB3-4A44-8183-255FC32A3A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924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9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683F1-4F14-4A9E-87D8-9B0BF2478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1181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F3F9-E846-45A1-A18F-81906B41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4A0D-D7F5-4970-AE5D-47B2CD4EDE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2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443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BAE0-EB48-4749-A2EF-BFAC9709E6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499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9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550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8" name="PlaceHolder 1"/>
          <p:cNvSpPr>
            <a:spLocks noGrp="1"/>
          </p:cNvSpPr>
          <p:nvPr>
            <p:ph type="dt" idx="4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ftr" idx="5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sldNum" idx="5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847E-A3DE-4723-B5BB-9820DE2BC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00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dt" idx="5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 type="ftr" idx="5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 type="sldNum" idx="5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843C-5468-48E2-AD15-977CFA98B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9D35-0F32-4D36-8FB5-617B10D76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4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5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5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951-066E-41C8-A306-A7431212E35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9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07EE-3DEC-4046-89B9-C069F516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7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ftr" idx="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sldNum" idx="6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2A1B-EDBF-405F-8AB9-5E473B24F06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dt" idx="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0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B4A9-7BFF-4DA1-870E-66FD036B27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87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187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187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7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88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88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88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88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91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192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2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93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93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96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96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97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8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98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98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94" name="PlaceHolder 1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15EE-8404-4BAE-8F10-977DF84179B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03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03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04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4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04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04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04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04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08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08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8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09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09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13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13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13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4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15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9E78-D65A-48C5-A9E5-17D43E65F9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 type="dt" idx="73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19F0-BC9F-4BD5-A5F0-15E00918C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 type="dt" idx="76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 type="sldNum" idx="78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A6F6-B846-41AB-BA43-01D1652CC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28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EB2A-3E95-4461-8DAE-1E71C9E27F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32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7" name="PlaceHolder 1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D421-976A-429F-8B53-997DADC7E1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2368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69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72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375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2378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82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83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5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86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8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89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1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92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3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4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5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97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398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9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0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01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2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3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04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6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07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9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10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2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13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5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6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7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8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19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0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1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22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3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4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25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6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7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28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9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0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1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2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3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4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5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6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37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39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40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2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43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45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47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48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9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0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51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2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3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54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6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57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9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60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1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2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5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66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7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8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69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1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72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75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78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80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8418-47EC-4DBB-8222-4392921A4B2F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602F-D47F-4ECD-89A5-344DC104E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3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44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45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47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548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549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550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2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553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554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5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6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557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59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560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1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2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563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4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5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566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7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8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569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0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1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572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3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4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575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6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7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78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9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0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81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3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4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5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6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587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8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89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590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1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2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593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5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596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7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8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599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0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602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4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605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6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7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608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0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611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3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614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616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1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622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4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625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0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31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3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34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6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637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2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643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8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649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51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652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653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60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1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662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9A92-32B9-477A-8FC3-3A38B8898CBD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1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73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9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7165-DDAB-45EC-B6B8-5A85C30116C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7"/>
    <p:sldLayoutId id="2147484040" r:id="rId8"/>
    <p:sldLayoutId id="2147484041" r:id="rId9"/>
    <p:sldLayoutId id="2147484042" r:id="rId10"/>
    <p:sldLayoutId id="2147484043" r:id="rId11"/>
    <p:sldLayoutId id="2147484044" r:id="rId12"/>
    <p:sldLayoutId id="2147484045" r:id="rId13"/>
    <p:sldLayoutId id="2147484046" r:id="rId14"/>
    <p:sldLayoutId id="2147484047" r:id="rId15"/>
    <p:sldLayoutId id="2147484048" r:id="rId16"/>
    <p:sldLayoutId id="2147484049" r:id="rId17"/>
    <p:sldLayoutId id="2147484050" r:id="rId18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6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797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09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810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0BB6-0179-4613-A459-F64775C571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6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6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7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9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1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CC8-41F6-4B30-9D47-1DD57A5BD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66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70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72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79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0E1A-9A8E-4477-8144-C9F8CC8E4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27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31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33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4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C18B-0399-41BF-A1A3-550D477EA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87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151B-A4DB-4593-B27F-09510F799A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4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9531-71EF-4328-98D2-94CBDE45C5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0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174B-7526-4E0A-B71C-B8E72BD132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8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"/>
          <p:cNvSpPr txBox="1"/>
          <p:nvPr/>
        </p:nvSpPr>
        <p:spPr>
          <a:xfrm>
            <a:off x="933480" y="2144880"/>
            <a:ext cx="727704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еобразование графиков функц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"/>
          <p:cNvSpPr/>
          <p:nvPr/>
        </p:nvSpPr>
        <p:spPr>
          <a:xfrm>
            <a:off x="1600200" y="1143000"/>
            <a:ext cx="6858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одной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у =(х-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   у =(х+5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8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079960"/>
          </a:xfrm>
          <a:prstGeom prst="rect">
            <a:avLst/>
          </a:prstGeom>
          <a:ln w="0">
            <a:noFill/>
          </a:ln>
        </p:spPr>
      </p:pic>
      <p:sp>
        <p:nvSpPr>
          <p:cNvPr id="2889" name=""/>
          <p:cNvSpPr/>
          <p:nvPr/>
        </p:nvSpPr>
        <p:spPr>
          <a:xfrm>
            <a:off x="968400" y="5670720"/>
            <a:ext cx="600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(х-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красный, у =(х+5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борд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"/>
          <p:cNvSpPr/>
          <p:nvPr/>
        </p:nvSpPr>
        <p:spPr>
          <a:xfrm>
            <a:off x="1523880" y="990720"/>
            <a:ext cx="6553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 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у=0,5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1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304040" cy="4876920"/>
          </a:xfrm>
          <a:prstGeom prst="rect">
            <a:avLst/>
          </a:prstGeom>
          <a:ln w="0">
            <a:noFill/>
          </a:ln>
        </p:spPr>
      </p:pic>
      <p:sp>
        <p:nvSpPr>
          <p:cNvPr id="2892" name=""/>
          <p:cNvSpPr/>
          <p:nvPr/>
        </p:nvSpPr>
        <p:spPr>
          <a:xfrm>
            <a:off x="517680" y="574668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зелёный,  у =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5-красный,  у=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си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"/>
          <p:cNvSpPr/>
          <p:nvPr/>
        </p:nvSpPr>
        <p:spPr>
          <a:xfrm>
            <a:off x="1523880" y="1371600"/>
            <a:ext cx="685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остроить графики функций, используя шабло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ариант 1.              Вариант 2          Вариант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3  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1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1   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-2              у = 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+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у =(х-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 = (х+3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у=-0,5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/>
          <p:nvPr/>
        </p:nvSpPr>
        <p:spPr>
          <a:xfrm>
            <a:off x="1676520" y="15228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5" name="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2896" name=""/>
          <p:cNvSpPr/>
          <p:nvPr/>
        </p:nvSpPr>
        <p:spPr>
          <a:xfrm>
            <a:off x="1506240" y="5670720"/>
            <a:ext cx="57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 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3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1-красный,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 =(х+4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"/>
          <p:cNvSpPr/>
          <p:nvPr/>
        </p:nvSpPr>
        <p:spPr>
          <a:xfrm>
            <a:off x="2346480" y="870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600200" y="380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9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248520" cy="4442040"/>
          </a:xfrm>
          <a:prstGeom prst="rect">
            <a:avLst/>
          </a:prstGeom>
          <a:ln w="0">
            <a:noFill/>
          </a:ln>
        </p:spPr>
      </p:pic>
      <p:sp>
        <p:nvSpPr>
          <p:cNvPr id="2900" name=""/>
          <p:cNvSpPr/>
          <p:nvPr/>
        </p:nvSpPr>
        <p:spPr>
          <a:xfrm>
            <a:off x="1297080" y="582300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2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1-зеленый, 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2-красны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2514600" y="4572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Вариант  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2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010280" cy="4343400"/>
          </a:xfrm>
          <a:prstGeom prst="rect">
            <a:avLst/>
          </a:prstGeom>
          <a:ln w="0">
            <a:noFill/>
          </a:ln>
        </p:spPr>
      </p:pic>
      <p:sp>
        <p:nvSpPr>
          <p:cNvPr id="2903" name=""/>
          <p:cNvSpPr/>
          <p:nvPr/>
        </p:nvSpPr>
        <p:spPr>
          <a:xfrm>
            <a:off x="1146600" y="5410080"/>
            <a:ext cx="55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0,5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ини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4-зелёный, у=х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+2-крас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(х-3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/>
          <p:nvPr/>
        </p:nvSpPr>
        <p:spPr>
          <a:xfrm>
            <a:off x="685800" y="838080"/>
            <a:ext cx="6400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Придумать четыре квадратичных функции и построить их в тетрад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 преобразование   1 б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 преобразования    2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3 преобразования    3 бал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1468080" y="4038480"/>
            <a:ext cx="634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аждый график построить в одной системе координ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"/>
          <p:cNvSpPr/>
          <p:nvPr/>
        </p:nvSpPr>
        <p:spPr>
          <a:xfrm>
            <a:off x="1295280" y="213372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Задачи урока: научиться строить графики функций с помощью простейших преобразова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"/>
          <p:cNvSpPr/>
          <p:nvPr/>
        </p:nvSpPr>
        <p:spPr>
          <a:xfrm>
            <a:off x="1676520" y="251460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евиз урока: «Предмет математики настолько серьёзный, что не стоит упускать случая сделать его немного интереснее»             Б.Паска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"/>
          <p:cNvSpPr/>
          <p:nvPr/>
        </p:nvSpPr>
        <p:spPr>
          <a:xfrm>
            <a:off x="228600" y="114300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Распределить функции по видам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+3,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,  у=6/х, у=-х+5, у=-3х, у = х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2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5, у=-8/х,  у = -(х+4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"/>
          <p:cNvSpPr/>
          <p:nvPr/>
        </p:nvSpPr>
        <p:spPr>
          <a:xfrm>
            <a:off x="1981080" y="198108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Линейные:у=2х+3, у=-х+5, у=-3х, у = 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ратная пропорциональность:у=6/х, у=-8/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вадратичная:у=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у=2х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+5, у =-(х+4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"/>
          <p:cNvSpPr/>
          <p:nvPr/>
        </p:nvSpPr>
        <p:spPr>
          <a:xfrm>
            <a:off x="1905120" y="2057400"/>
            <a:ext cx="655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-3х,  у=-3х+1, у=-3х+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1" name="" descr=""/>
          <p:cNvPicPr/>
          <p:nvPr/>
        </p:nvPicPr>
        <p:blipFill>
          <a:blip r:embed="rId1"/>
          <a:stretch/>
        </p:blipFill>
        <p:spPr>
          <a:xfrm>
            <a:off x="2057400" y="8380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882" name=""/>
          <p:cNvSpPr/>
          <p:nvPr/>
        </p:nvSpPr>
        <p:spPr>
          <a:xfrm>
            <a:off x="1295280" y="60958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У=-3х-красный, у=-3х+1-зелёный                     у=-3х-2- синий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"/>
          <p:cNvSpPr/>
          <p:nvPr/>
        </p:nvSpPr>
        <p:spPr>
          <a:xfrm>
            <a:off x="1905120" y="1600200"/>
            <a:ext cx="5486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остроить в системе координат графики следующ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,  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5,    у=х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4" name="" descr=""/>
          <p:cNvPicPr/>
          <p:nvPr/>
        </p:nvPicPr>
        <p:blipFill>
          <a:blip r:embed="rId1"/>
          <a:stretch/>
        </p:blipFill>
        <p:spPr>
          <a:xfrm>
            <a:off x="1447920" y="304920"/>
            <a:ext cx="6705360" cy="5486400"/>
          </a:xfrm>
          <a:prstGeom prst="rect">
            <a:avLst/>
          </a:prstGeom>
          <a:ln w="0">
            <a:noFill/>
          </a:ln>
        </p:spPr>
      </p:pic>
      <p:sp>
        <p:nvSpPr>
          <p:cNvPr id="2885" name=""/>
          <p:cNvSpPr/>
          <p:nvPr/>
        </p:nvSpPr>
        <p:spPr>
          <a:xfrm>
            <a:off x="1012680" y="6392880"/>
            <a:ext cx="18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6" name=""/>
          <p:cNvSpPr/>
          <p:nvPr/>
        </p:nvSpPr>
        <p:spPr>
          <a:xfrm>
            <a:off x="1267200" y="6095880"/>
            <a:ext cx="59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зелё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5-красный, у=х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-светло-зелё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6-11-08T16:53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