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130-4CC6-42A8-B978-6BD4B016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BB5-1EC8-428C-BC3C-09142EE1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7F278-C78A-42C9-BFF7-4C6093DE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0D9B0-AE19-4719-899C-08DA8E87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C6D1D-AE88-49A6-BFE3-59E34EEC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1CFA9-D641-4944-9726-B1F59DB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59684-13E8-4E32-8447-AA9D7636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B8BE9-7BB4-426C-BB6D-A82E3DBE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89FD7-6EE9-4F5F-BA29-C39FC386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3AF4A-6D8A-43FB-A144-83B639C2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52A8D-C7F5-4D21-90BA-B0056B20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2C156-8FF2-45A9-BF0A-B26D3CB4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8F3-23F3-4893-9CA2-EB9308C9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ED248-4132-4E9E-B448-40F285F5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C60ED-C85D-4E66-92EC-AFBF45B5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E999D-4E4E-475F-B17C-F313AB08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D752D-0482-454A-8FBA-014B58B5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2123F-B28B-437C-96B1-D36F45FD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DB6B8-7909-45A2-A205-BB74DB7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0BE41-9811-4702-8954-34875B2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81280-44C0-4F99-9D50-DE3375B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D33B4-D1C9-4B0E-A54F-9A820323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B6167-9A0B-4392-8088-2DF0310E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4A3-9EAB-4183-9CB0-329FFEF5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49B0E-300A-4AD0-BDB9-AE5309F8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765E-EDCB-4E9F-8D25-4A4DA085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CD971-B586-444F-8D8F-D3835DE7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72B57-8450-4032-9865-AC3453CC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841F6-4A62-4181-B24B-9A6AFF44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66A0A-7D32-4965-9313-22151C2C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4A3A0-4386-4CAB-BFF3-C0AD00C3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09DC4-4674-44FA-9E9F-D869A2D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FFBEA-4C74-4577-8D91-206F2E5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0FAD4-C07B-4AF7-B75E-BE0BC449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EF15-00A5-4671-BAE2-4EA6EDFE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1FA96-B76D-4F21-895F-3CCA058F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990E1-4984-4551-8875-89D56232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3F67B-61AF-4032-A069-72935B49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9BE59-8A04-43E9-B3A1-3D3047D0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504B5-E0BF-4296-8537-D4116D4F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F1811-89BC-4273-906D-D1484808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7BCD5-2CBC-490E-B423-CD002F72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C3E8F-1FB4-4DBD-A3B5-88E36B01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9DF1B-25D2-469A-B8E4-8DFA0FCC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20D3C-5C68-4948-B0FF-CFE994F4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F79E-2FA1-45C4-A84F-B70B3FCA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F363C-7A95-4FF3-A61E-0BA8F0E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2F181-6627-4F72-930D-D1A1F71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D07DF-7429-43EA-AD45-4C98BDD9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420D4-EE02-414C-A06A-3D1469E1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11035-C99D-47BF-ACC9-83274063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39235A-5E56-46B5-982D-B06A237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CC3E3D-D11D-4190-BCE8-E39DA881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F72725-6055-4083-86D4-62D9E373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019E04-0DF4-4506-A0F6-DDD87716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EB43FF-D4E6-46D6-8EEC-9BF66521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2262-CEB5-4D07-BFDB-C1EAA8CC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CE8DB0-5F79-4A4F-8B41-ADD49FEA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50DE7E-3BA8-4623-8F76-66873D70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2C181B-82C3-467D-A11B-101EF1B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5F0CAE-D805-4522-B886-571C09D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80BEA8-5B3D-4778-AEBF-E7D26CCC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3005C0-56E6-431A-AFD8-EBDD7ED9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CD49C7-C485-405D-A15B-0EAD46A4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1BD9E-8939-441A-9AF0-477B7198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B65F3-E319-4E4F-A418-DC46CCB2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7A775-8EAC-402E-96F2-67A8137F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7F2E-4E53-4A44-A4C9-CB04EADE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8848F-0475-4B49-8870-911A4D64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C473B-1E6D-44FB-9401-92184CF6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9B1D8-688D-47CD-9007-C963BE2F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D6C95C-23D5-4941-B0C2-F60D634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D530D-1BE5-431A-AC63-DC656E64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FE67D-0269-43E6-B171-10C8516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ED85A-C7CA-44F1-9F8D-DC8F6618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0C8DA-C78B-4A4D-9456-291E95EE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8201C-2DB7-4F9A-8633-E7D5F1D1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F67802-C15F-4856-913A-C8E9C712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04D5-875F-4002-B9F9-98B8EEED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58B198-F759-4282-875D-8A91159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553339-1C35-440C-A9C3-B0774C00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BBA76B-A31E-42A2-BA11-33AAF2D3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E50086-A6FE-4859-92FA-DF62C5B0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FDBD36-5C5D-4E9B-85DA-FFBB3148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192206-4954-4E54-8056-A21F867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D2589C-FE9C-41DF-B6D2-9E5058B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DDDA37-BF66-4313-ABA3-50ED738A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974F55-CCA1-4879-91A7-E51C5C7C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A1F921-BD03-40D1-A4BC-5AD6DDD5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D87D-3683-4037-9023-4146E319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8A9AB7-8D4D-4B81-A996-1DEF222F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74578-AEC8-4050-813B-8BFDE49E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94CE0-FDB0-44D3-AC09-9FD4785F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7FD0A-EDD9-41CC-A98C-2B09D67A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F2653-C8D0-49ED-80F7-4EBE38D9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0BC45-C8D6-4956-907A-2D7BC35B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A719E-224A-40BB-A638-F2BA0F3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70795-7F3C-4359-8F2D-74697B82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25F7E7-4CBD-44DC-A6BC-C2771577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80D86-23B9-45B1-B950-701D934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FCBF-4CDC-4151-BDB6-31F28457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087DE-A8DA-4BC6-A7F6-9346B982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8AD29-2663-4DF7-909F-E0FC5DC6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D1D9A8-3EAF-4554-A590-C701C3E1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AB7BC-E3A7-404E-8D88-E4530326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4E15E-2626-445C-AB4B-70C2EE11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998B9A-0384-4FF2-B9E7-079718FF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384FA-88F9-4649-8475-5F579A94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1009C-41CD-4673-B6BA-688C9871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ED997-186B-4B28-A155-7F72CF71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D8093-B119-4473-8EDC-97A07493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FCA-74C4-4DE2-B213-70371842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23FB-2C46-46DB-AA4D-2C1222BC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67D06-287D-46A2-9D76-9001463B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2EB16-9D32-411E-BEAF-FD7CFF42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AF02F-C04C-477A-B8A0-3473C616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191CA-D7B5-4F74-B905-39316FF6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5508D6-FE24-4138-8E79-D939CB87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95DC14-3971-4EF5-9437-FF63A35B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048B3F-33C1-4413-BA06-2B901CC6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146442-3D57-4444-9259-41D1AEC0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AB35E-EEDF-465F-AE83-B4313705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99FF6-016E-4A71-8744-6691FFF6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6581-6C02-4266-A58D-D223C4E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84333F-570E-4BD3-A40D-E4D584C3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546FA5-B97F-4DD3-8689-45D75B26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C478D9-186D-44C9-B6BA-C36F9FB0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697AB-1F30-4282-B131-BD9EBB1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C7834-B748-45ED-84DE-43B1C50D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4ACC7-B186-4063-87E0-A6E42DE9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E0172-A62A-42AC-BC97-AF3074C5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9C8C1B-FEAE-4D36-AACE-6F91F99E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B33969-6E79-496B-969B-F3087558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F6ACA5-167B-4A8E-97A2-8DD7073C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7B92-EC4C-485A-B703-E12D080C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41E520-3B3D-41E0-BBBA-B466EB83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841C1C-43DD-4FE8-9CEC-BFF74821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F166ED-1708-4762-A3F1-8ED6D7B1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C4C207-9362-4C84-B89D-6C823B28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27E12C-6FFF-42EF-ACC4-FE81F82F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68FF03-0395-4334-B170-C6DF6EE0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B8D477-8CAA-4A7D-BA56-63A6AA8D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A91ED0-7ED2-4674-BD5C-B05A07E8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CD79CE-CE07-4600-8E47-DC78F04A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3AE563-A63C-48EE-9C65-B9140EE0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B109-5F43-4AA6-AB99-F496ED6B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639ECC-BBE1-454D-8D99-6975A1B4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13CD4-D2E8-4063-AE4F-8D44C8FF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356B8-C2EF-467F-800D-37481397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45B35-3269-4C07-96E2-ABFA5770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223C3-A27E-4198-ABDF-308F2CED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FDAD5-CF4A-495C-9D4A-9975A004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064DA-EC91-4E49-8B8F-AA6AD11E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9D26D-455C-448B-BAE9-A15D677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F6A1B-2BE8-41C0-8B09-23E4F52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65652-73AD-4D90-8A12-E050EEDF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B862-563B-45CB-82E8-A21C83EF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DAB38-D09B-4852-8D9D-B392AF55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A664B0-1FF1-4C4A-BBC1-55D648BB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CA6257C-09A8-4339-9299-CE35B06C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658EF1-EB3E-4FAF-9C58-C8A1FE98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AB5261-4AE1-45DF-9DD0-06D61B4A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3F9D6B-D74C-483B-B861-4740B4A5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FC2D3E0-7B02-421C-ABB2-C33D7B74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71A179-833D-43DF-89CA-6FA901B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B40352F-59A0-4F3E-B1DB-A19FEC43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51793A-3822-4D5E-8BA1-2260C873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31B5-B0F7-4963-A38B-E422E621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4634447-D216-42B2-A7C8-937D710D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F492B78-0702-4AD3-8E5A-543C1A1C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6808FF-7C08-4569-8DF2-EC65CFB4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C52055-D3C4-4F8B-8CD8-525A24AE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605CD5-B9B7-4D82-86AA-981A4926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7345B2-60BC-4AC6-951A-BA36F3E6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6C411E-BED8-4A96-82ED-50C540A5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E96B4-602B-4776-B5D0-DCDF656F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08AA60-B176-4439-A4F7-D776F6CE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1053B8-155F-4CF1-AA63-C65FE4F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51E1-A750-4E46-984E-8636F014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1B83AC-CFF7-457D-8CA2-16FF26CB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54A332-3410-4A12-8A6C-7C271491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D91E66-DD46-440A-99CF-799CE6C5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AE4F2B-A7B5-4F92-8492-37E561E7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EC260F-FC68-4DE9-BA3A-E35FB00B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17331B-38E6-4CEF-91C9-2753FF73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9E3A07-D464-4C8B-A3D4-25E3CA3A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1A02B9-92A8-42A6-BCF6-54C618E4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B00F2C-73EA-43C6-BFD2-38C2E815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A48FA8-18EF-42E3-ADAD-211F6CEF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A946-EED4-418A-B3FC-7118BFE0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E057E0-42C3-4B5A-9D5A-07EA520F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710593-3674-4466-96B4-122E87C2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A001F8-8C4D-46A2-8881-B4394678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C2C03A-782F-4331-87D2-9B44CD5C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06F82B-2A27-45E4-A096-89AE9F1E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AE655-6025-42E4-8844-33339467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2F04AB-A340-4379-92BE-3CA0CE50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5066B8-72E9-4473-836B-6D06B301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583C33-4782-4DAF-AF2B-154A298E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DAC137-8BF3-43C7-B69D-5C2D2C44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A626-6862-4633-94D4-ABC1A720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3B87B4-EBE9-4057-A403-EA8A3107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3E8D22-3DDA-4AB7-8E68-2D5159DB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127B1A-C36A-4631-98C8-0670B805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A63D25-82DA-434B-A70A-9061D7EB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396FAD-9EDF-43E6-B266-056BCA54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FE8AB3-A7D8-49D3-B692-AA2FDAA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248A16-E9F9-42F0-B92B-3D239104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216134-4DD1-45BD-BAD1-ED532A87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C1600E-6237-4000-950C-07FADB76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A5398C-33DC-4722-8231-842AC037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FF36-724A-4022-9290-D0CDD97B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6182EA-6732-49BB-947D-AE04AFA2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3F9617-0297-40CF-BDA6-B95C45B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30FA50-ADB5-446D-BFD6-34830905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538864-D585-4CED-9704-8633CAA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4355C0-AE0D-431E-AC24-BF4D230B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2FFBCA-4F16-4A41-A030-4AEC67F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FA2D92-1E8F-4482-8E83-2B9B17B2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F0915E-C926-4557-83A1-63500630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4E1C5D-674B-4A47-88D5-076B65C2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0D33A7-F7AF-4675-A541-152B319C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F03-E0CC-4748-8187-9B395603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E7921-F8E2-43FB-BB75-0C2A270C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608DBD-82BA-4EF5-B58D-8E70A6B2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40BE0C-A0A0-413A-8583-0FB99F83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C34BAD-19F2-4EEB-8B1F-D5E21187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83ED3C-F344-4256-8F52-F6D44C20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3FDE6C-1458-4A38-8BDF-D859E405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BF98A8-5A01-421F-A9D8-DBCA34FC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F0C183-5026-42C5-95D4-4CC361B2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B72F2D-3C82-4FAF-8595-7611EBFD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078237-BB6F-4AA0-8A53-F58FAF7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6B4DDD-D1F2-4E0F-9BFC-1A6B96AC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E3363-76CD-46F7-8AB1-210E6E2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C4D338-8F26-44AE-B0F2-90C59B02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DAD980-0408-4805-B74A-C129BB12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594B4B-11B2-4055-AA44-317288DF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34C5EB-16AD-4255-8694-CB300B1F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917403-7940-4377-BC48-D10F33E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D196AC-9BD7-40D5-BDD9-814ABC50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1656B1-C502-43EE-97CD-59F65106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3C4EFB-CF75-4967-B661-609D5DE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587BF6-00CB-4CCB-9C51-8BB840A4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E30483-D15E-4A44-A8F6-D6D39C4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75A4-1744-4080-AB87-7672DD09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8CB366-FFFB-4C6B-B2CF-955F4A2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AD8B4D-EB2A-4FD0-872D-52B31B44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A170E0-E178-4D71-9FC6-16E92657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C9A496-98CA-448F-9DE9-C7D8770B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831A58-021F-4417-9A2B-335736BB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63FA4B-024B-4E93-AE26-0F06B39A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8F8189-F72A-4254-9139-2D1BB163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60BAC9-1198-4AEF-BED9-8D1327B9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4C81D8-D5C2-4E8B-AA88-C79CB867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1103CF-A985-4D2D-9F59-6554BB75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E1CF-EAB3-47E9-A2B2-6C51E07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371ADB-3648-440D-9D0B-0113227A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A47100-E5BB-4943-8D8E-26599276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2C371C-177A-4C8B-B0DC-B1F574C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8DC98D-8323-48C1-86BF-B8E2C36F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1CE2EF-FAD3-49AD-8FE3-C0D3CC6E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93689A-D0F6-4147-97E8-EC34ED89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FA6A4A-23FC-4DC0-9D96-4F78C3FC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7152E9-55C0-4492-AE2B-1D504F0A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7012CB-CFDB-41FB-AD9D-9A1131F7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F4A960-09A5-4959-8426-E5446AB0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75E7-F864-46DD-AFB8-E27CBB24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505E39-7D4C-4691-B30C-0E0C5BEC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1B9D37-BE81-4FF0-B603-49F8856D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DA2511-B07A-461F-AD10-320BF17D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A9CD97-E229-4C91-B46E-9833DA20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BA8EF1-B32A-4892-AC7A-CDE69A1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092306-5BAF-4DCA-AC8D-C4985806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81E56A-3C9C-49ED-A037-9FEB2BAC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76669D-0EDB-4538-B3A0-A369FED0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86213E-C86C-47AE-B2E9-05D1CE6C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A1D97D-08FE-4920-942B-03FB01F6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0765-A59B-41E7-827D-EA0D4303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00F821-5C5D-419C-ACDD-E5BE7AB1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7A7911-FC72-4318-850E-6E4DBD3C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AE0CA1-97A8-4A49-BBC7-A7183409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8F78F2-11A5-40CD-B5AC-4C756256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BCB35B-AD56-4E05-B60D-0FA0A9AA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875A18-192E-4D70-A6F9-30592F9F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F11558-E1E5-4073-AC10-63F8F7CB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2BF62D-CC6F-46C0-AF40-41DE02B1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E92829-AABA-425F-ACDE-E6EC0FE7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C6FE67-DD3D-43C1-9631-E8ED5991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750C-159A-4101-8F73-EE9B7191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5748A3-DDB8-4685-8526-06138E85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0293AF-50C8-4315-A233-AB2034BF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92C271-1FEE-4591-AC33-4849E382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FF786C-E368-43C9-9DB9-2CB832C3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5D8DEA-9081-4BAA-8DD2-DBE6C7A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8C4B70-3D82-4CA0-AFE0-D977CDE1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6D540D-814F-430A-84E5-450C3F90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91CAD1-5FF9-4AFD-B8D6-E5258059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6C73C8-CA6A-4033-821E-FF28E42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B339F7-C4D8-4462-AB2E-26BD6F60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9A8A9-9B91-4D0E-A8EE-7453DA84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A966FE-D40C-470A-BFBA-834A2743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D92069-B4E5-48C1-A00C-4F32AE0F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CF4139-FA77-4FF9-8418-3F1F775C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35ED1B-59C9-44FF-839A-B73E0DED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77BF38-9A1F-45E5-8B13-DC21C6B8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955088-066F-4894-8B3F-BA29B456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F66D34-DC9E-4460-93B0-79FAF219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08F838-DE46-4339-AABC-EFF77170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3EEC7D-77CC-477E-91C1-DA91265C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143D7D-52C2-4B1F-9D36-0D8872E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4013-4F1D-4261-B942-55965736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770F62-EBAA-47FF-B904-16B7E42E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59F230-1277-41D7-927A-1A1FC9C6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C8A8E28-B0DB-410F-A47E-C8A50BA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BBA1BD-E894-49C4-BDBB-24798484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EDB92D-418A-4461-941F-C83EEA81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FA268-D14D-41EA-B79B-AEF8FE01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507-1A16-4949-80B9-6C43065D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58AF2-CE04-420E-B1C9-F7C37E6B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A664-2787-4142-9DD7-C3230D6A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DA544-3E34-4697-8D21-DB4B6FD9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7F5F-168A-4DDE-B010-F156BF5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14D5-6183-48EC-B7FC-69EE359E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A6E3-8386-4E5B-AB01-84B843BA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4014-4224-43C7-8B2A-EAE13E9D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9ECE-487A-4C50-89E0-E0612FE9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6210-A8FB-4448-9A59-4E481055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6E74-B24B-483C-859B-526FE668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B98-20D2-4DAF-8255-B5B3CB7A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E2E4D-5F23-417D-89B3-F11161BB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E7E33-AF34-4587-8B55-DD0532B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0A269-0150-4CA1-8401-7E50BEA1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A8129-A360-43D4-B537-4977EC07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30BA7-E619-40C2-961E-CDC70B8F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8D35-655E-4D98-BC0C-9CEDE458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57DD3-72EE-4925-8B14-3734F72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22744-208D-4BCF-9F3A-EDF75720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78B67-D308-4D9E-9638-FAA7D86D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8E072-781C-4690-9137-CE5F9A43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40D-7DE5-41F6-939B-49C57759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4A77-40EF-4F9E-9EBF-DC534D0C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5D97C-B412-49A7-A6A5-5AECD40B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D0102B-BADA-44D2-A009-AB133675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5BF36-4A5A-40BF-8390-4AA2B780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4D0FE-2E40-4E39-880F-15351D7A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19F89-40D6-4BCF-9C01-ECC5DEE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D7608-4030-4653-A139-2C6876E1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2D5B8-02CA-424C-85E7-E2A4198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31228-7945-445F-89CF-5856DECC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AD01E-0C3B-46F3-BCCA-64F0C024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359-6963-413E-8414-6CB583E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B2FCE-9761-4969-9A2A-8BE0E899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D5ADF-06FF-405B-97A1-0792BD79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3EE8F-70DD-44A6-9778-7C43D7BC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02D7-8093-4EB8-A268-6939509A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9BD4B-845A-46CF-AC1B-A897A66B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1739-CB96-48CD-8E2A-D7725CDB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1A3DC-E925-4FC5-A2E4-9AD99A22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EE768-62FF-4AC5-91B7-FB26ED1B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D2E1-0123-4D2A-B5B5-C56FF5E3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18A92-7E0A-4DE2-8DD9-29F74B9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118-6DF0-4EB0-80F7-F7E3D82E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06CB5-8EDC-49D2-928E-5D085BA1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FA77F-B6D9-418B-B17C-C05DC354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309EE-E430-49D1-98B6-CF22C0C0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25284-91B1-4A14-8BF0-39C62F21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94609-3C6F-4247-9347-AECEAE4B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3AF72-8FD7-4322-B92C-C4880893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12738-7862-499E-BB7E-8A328F9E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21EA2-A3B5-4DAD-A01F-0E6CF772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4549-0B2B-4896-9F42-817E8E96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16CD1-5A4C-4712-968E-FD376102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91B-2F6E-4CE6-952A-400D57B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6B1D3-DCCD-4FD8-88CA-DF98D84F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A7C1C-F005-4836-8985-416C82B7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D6B98-5676-43B7-9640-AAF29DF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4CDDB-A3D8-45A9-94E2-9B26823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6798B-9811-40FD-BAB9-1AAD4F91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3ABCD-7071-4569-B8A5-CB94860C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1C0B0-04E1-46ED-B33A-D7208F99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AE9A4-FD13-4ECB-A493-120707FB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63240-294D-414E-BE41-846EA360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96AB2-C5B3-442B-A617-9967DA9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6F1D-2411-4EFE-84B9-AC66F52957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5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417B-FCFF-4C5A-8571-07326B5E09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1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4FAC-5F31-481B-8A74-7C06A25FDA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1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2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6F98-249E-4CC0-81D7-EAB4613792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2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2B8A-D966-4A52-BE97-034893FF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8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3FA2-B712-4D6D-AAA7-992E4069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787E-59A6-4307-B6B7-F4DE3A7DBA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443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654-9705-420B-8A9F-6F354585D4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99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8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9F40-44EB-4148-84EA-B281157DF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63E-2D2C-4064-8204-25C36585D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B9EC-ADE4-4FEF-80BE-AB199960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4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5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301C-AF9A-40DF-8B37-5F0B1C3671F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9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AB66-3AED-4848-AC58-C705DEF75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778-80E3-4377-876D-0F26F02223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B3B0-9380-476A-82D8-EB4A006DD99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87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87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87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7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8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88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8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88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91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92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3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6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8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8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98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4" name="PlaceHolder 1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86D3-12B3-4753-9E1E-34BAB95D48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03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03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04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04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4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04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8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08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9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3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13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13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4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15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1C7C-20AC-47D3-84FA-B65D10C877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 type="dt" idx="7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DC81-1D19-4D56-A47A-C14376F18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dt" idx="7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6712-18B5-4E37-BD35-22AD030F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8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EAA8-A277-48DA-8C28-16BA5475D0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2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7" name="PlaceHolder 1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7BFD-DF8C-41EE-B9F3-DFA28BD000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3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3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3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4335-D36C-4F16-9666-0B8A4A065639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26CE-F8AD-4CA9-B8B7-A8C5B9F1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5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5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5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5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5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5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5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5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5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5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5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5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5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5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5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5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5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6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6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6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6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6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6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6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6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6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6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E6F1-B087-4DB5-84AF-B10CC64A968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1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73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F4E6-61C1-403D-934E-DAA8D5B53AE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9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1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F26B-2A9D-4C0B-A310-8E4AB07376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6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9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1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51E3-05AC-4BE9-8FBE-AB2AD83F4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7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7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9EE4-6859-4DA8-B8EA-2E41DA5A5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2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3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3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7E61-9808-406D-8DDB-9953D09CD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8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38B6-4467-473C-9B48-C97C49EF7C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E6CF-0A5C-4F8D-9918-4DC13BA247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959C-C7DB-409D-B0F0-83B0C2EB50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933480" y="2144880"/>
            <a:ext cx="72770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образование графиков функц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1600200" y="1143000"/>
            <a:ext cx="685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одной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у =(х-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  у =(х+5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8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2889" name=""/>
          <p:cNvSpPr/>
          <p:nvPr/>
        </p:nvSpPr>
        <p:spPr>
          <a:xfrm>
            <a:off x="968400" y="5670720"/>
            <a:ext cx="60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(х-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красный, у =(х+5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борд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"/>
          <p:cNvSpPr/>
          <p:nvPr/>
        </p:nvSpPr>
        <p:spPr>
          <a:xfrm>
            <a:off x="1523880" y="990720"/>
            <a:ext cx="65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у=0,5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1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304040" cy="4876920"/>
          </a:xfrm>
          <a:prstGeom prst="rect">
            <a:avLst/>
          </a:prstGeom>
          <a:ln w="0">
            <a:noFill/>
          </a:ln>
        </p:spPr>
      </p:pic>
      <p:sp>
        <p:nvSpPr>
          <p:cNvPr id="2892" name=""/>
          <p:cNvSpPr/>
          <p:nvPr/>
        </p:nvSpPr>
        <p:spPr>
          <a:xfrm>
            <a:off x="517680" y="57466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5-красный,  у=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си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/>
          <p:nvPr/>
        </p:nvSpPr>
        <p:spPr>
          <a:xfrm>
            <a:off x="1523880" y="1371600"/>
            <a:ext cx="685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строить графики функций, используя шабло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ариант 1.              Вариант 2          Вариант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3  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1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1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2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у =(х-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(х+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у=-0,5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/>
          <p:nvPr/>
        </p:nvSpPr>
        <p:spPr>
          <a:xfrm>
            <a:off x="1676520" y="152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5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2896" name=""/>
          <p:cNvSpPr/>
          <p:nvPr/>
        </p:nvSpPr>
        <p:spPr>
          <a:xfrm>
            <a:off x="1506240" y="5670720"/>
            <a:ext cx="57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 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3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1-красный,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 =(х+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"/>
          <p:cNvSpPr/>
          <p:nvPr/>
        </p:nvSpPr>
        <p:spPr>
          <a:xfrm>
            <a:off x="2346480" y="8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600200" y="380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248520" cy="4442040"/>
          </a:xfrm>
          <a:prstGeom prst="rect">
            <a:avLst/>
          </a:prstGeom>
          <a:ln w="0">
            <a:noFill/>
          </a:ln>
        </p:spPr>
      </p:pic>
      <p:sp>
        <p:nvSpPr>
          <p:cNvPr id="2900" name=""/>
          <p:cNvSpPr/>
          <p:nvPr/>
        </p:nvSpPr>
        <p:spPr>
          <a:xfrm>
            <a:off x="1297080" y="582300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зелены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2-крас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2514600" y="457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4343400"/>
          </a:xfrm>
          <a:prstGeom prst="rect">
            <a:avLst/>
          </a:prstGeom>
          <a:ln w="0">
            <a:noFill/>
          </a:ln>
        </p:spPr>
      </p:pic>
      <p:sp>
        <p:nvSpPr>
          <p:cNvPr id="2903" name=""/>
          <p:cNvSpPr/>
          <p:nvPr/>
        </p:nvSpPr>
        <p:spPr>
          <a:xfrm>
            <a:off x="1146600" y="5410080"/>
            <a:ext cx="55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4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2-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/>
          <p:nvPr/>
        </p:nvSpPr>
        <p:spPr>
          <a:xfrm>
            <a:off x="685800" y="838080"/>
            <a:ext cx="6400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думать четыре квадратичных функции и построить их в тетр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преобразование   1 б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преобразования    2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 преобразования    3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468080" y="403848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аждый график построить в одной системе координ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"/>
          <p:cNvSpPr/>
          <p:nvPr/>
        </p:nvSpPr>
        <p:spPr>
          <a:xfrm>
            <a:off x="1295280" y="21337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Задачи урока: научиться строить графики функций с помощью простейших преобразо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/>
          <p:nvPr/>
        </p:nvSpPr>
        <p:spPr>
          <a:xfrm>
            <a:off x="1676520" y="25146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евиз урока: «Предмет математики настолько серьёзный, что не стоит упускать случая сделать его немного интереснее»             Б.Паск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"/>
          <p:cNvSpPr/>
          <p:nvPr/>
        </p:nvSpPr>
        <p:spPr>
          <a:xfrm>
            <a:off x="228600" y="114300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спределить функции по вид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+3,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у=6/х, у=-х+5, у=-3х, у = 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5, у=-8/х,  у = -(х+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"/>
          <p:cNvSpPr/>
          <p:nvPr/>
        </p:nvSpPr>
        <p:spPr>
          <a:xfrm>
            <a:off x="1981080" y="198108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инейные:у=2х+3, у=-х+5, у=-3х, у = 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ратная пропорциональность:у=6/х, у=-8/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вадратичная: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у=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5, у =-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"/>
          <p:cNvSpPr/>
          <p:nvPr/>
        </p:nvSpPr>
        <p:spPr>
          <a:xfrm>
            <a:off x="1905120" y="2057400"/>
            <a:ext cx="655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3х,  у=-3х+1, у=-3х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1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882" name=""/>
          <p:cNvSpPr/>
          <p:nvPr/>
        </p:nvSpPr>
        <p:spPr>
          <a:xfrm>
            <a:off x="1295280" y="6095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3х-красный, у=-3х+1-зелёный                     у=-3х-2- син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/>
          <p:nvPr/>
        </p:nvSpPr>
        <p:spPr>
          <a:xfrm>
            <a:off x="1905120" y="1600200"/>
            <a:ext cx="5486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,  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4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885" name=""/>
          <p:cNvSpPr/>
          <p:nvPr/>
        </p:nvSpPr>
        <p:spPr>
          <a:xfrm>
            <a:off x="1012680" y="6392880"/>
            <a:ext cx="1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267200" y="6095880"/>
            <a:ext cx="59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зелё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5-крас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1-08T16:53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