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1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media/image13.wmf" ContentType="image/x-wmf"/>
  <Override PartName="/ppt/media/image1.png" ContentType="image/png"/>
  <Override PartName="/ppt/media/image5.jpeg" ContentType="image/jpeg"/>
  <Override PartName="/ppt/media/image9.wmf" ContentType="image/x-wmf"/>
  <Override PartName="/ppt/media/image14.wmf" ContentType="image/x-wmf"/>
  <Override PartName="/ppt/media/image6.png" ContentType="image/pn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3.png" ContentType="image/png"/>
  <Override PartName="/ppt/media/image8.png" ContentType="image/png"/>
  <Override PartName="/ppt/media/image12.wmf" ContentType="image/x-wmf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</p:sldMasterIdLst>
  <p:sldIdLst>
    <p:sldId id="256" r:id="rId34"/>
    <p:sldId id="257" r:id="rId35"/>
    <p:sldId id="258" r:id="rId36"/>
    <p:sldId id="259" r:id="rId37"/>
    <p:sldId id="260" r:id="rId38"/>
    <p:sldId id="261" r:id="rId39"/>
    <p:sldId id="262" r:id="rId40"/>
    <p:sldId id="263" r:id="rId41"/>
    <p:sldId id="264" r:id="rId42"/>
    <p:sldId id="265" r:id="rId43"/>
    <p:sldId id="266" r:id="rId44"/>
    <p:sldId id="267" r:id="rId45"/>
    <p:sldId id="268" r:id="rId46"/>
    <p:sldId id="269" r:id="rId47"/>
    <p:sldId id="270" r:id="rId48"/>
    <p:sldId id="271" r:id="rId49"/>
    <p:sldId id="272" r:id="rId50"/>
    <p:sldId id="27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" Target="slides/slide1.xml"/><Relationship Id="rId35" Type="http://schemas.openxmlformats.org/officeDocument/2006/relationships/slide" Target="slides/slide2.xml"/><Relationship Id="rId36" Type="http://schemas.openxmlformats.org/officeDocument/2006/relationships/slide" Target="slides/slide3.xml"/><Relationship Id="rId37" Type="http://schemas.openxmlformats.org/officeDocument/2006/relationships/slide" Target="slides/slide4.xml"/><Relationship Id="rId38" Type="http://schemas.openxmlformats.org/officeDocument/2006/relationships/slide" Target="slides/slide5.xml"/><Relationship Id="rId39" Type="http://schemas.openxmlformats.org/officeDocument/2006/relationships/slide" Target="slides/slide6.xml"/><Relationship Id="rId40" Type="http://schemas.openxmlformats.org/officeDocument/2006/relationships/slide" Target="slides/slide7.xml"/><Relationship Id="rId41" Type="http://schemas.openxmlformats.org/officeDocument/2006/relationships/slide" Target="slides/slide8.xml"/><Relationship Id="rId42" Type="http://schemas.openxmlformats.org/officeDocument/2006/relationships/slide" Target="slides/slide9.xml"/><Relationship Id="rId43" Type="http://schemas.openxmlformats.org/officeDocument/2006/relationships/slide" Target="slides/slide10.xml"/><Relationship Id="rId44" Type="http://schemas.openxmlformats.org/officeDocument/2006/relationships/slide" Target="slides/slide11.xml"/><Relationship Id="rId45" Type="http://schemas.openxmlformats.org/officeDocument/2006/relationships/slide" Target="slides/slide12.xml"/><Relationship Id="rId46" Type="http://schemas.openxmlformats.org/officeDocument/2006/relationships/slide" Target="slides/slide13.xml"/><Relationship Id="rId47" Type="http://schemas.openxmlformats.org/officeDocument/2006/relationships/slide" Target="slides/slide14.xml"/><Relationship Id="rId48" Type="http://schemas.openxmlformats.org/officeDocument/2006/relationships/slide" Target="slides/slide15.xml"/><Relationship Id="rId49" Type="http://schemas.openxmlformats.org/officeDocument/2006/relationships/slide" Target="slides/slide16.xml"/><Relationship Id="rId50" Type="http://schemas.openxmlformats.org/officeDocument/2006/relationships/slide" Target="slides/slide17.xml"/><Relationship Id="rId51" Type="http://schemas.openxmlformats.org/officeDocument/2006/relationships/slide" Target="slides/slide18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51B7-B8C2-42D5-82B4-5D7546D97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DDD7-EFC3-4D74-B55C-1D0484C07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0B2D4B-305A-4CA7-AAAF-41CBC1860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94AD11-95EE-47F5-9AF4-46AD894C2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A695C5-49F7-4D46-B6F4-9366C6200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B05685-DF0E-4816-B51A-138C07C19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A4FA63-A7D5-4902-BF48-82BC98042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F0ECFF-0AC7-4681-A6F3-9CD33C8DD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03D48F-DEE8-4670-BB63-C3A66672F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A3B1E8-DCC0-4E50-9555-2EC3F9E5E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B36DE6-50D2-40D6-957B-C68149829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40AC12-C25D-4810-8A53-9FA06A6E7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1961-23CF-4CA2-BD30-51F6B6617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5AB209-389A-40DA-9E80-F10B387DC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CEB9A7-A9A4-4DFE-AA93-801EF6443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D9F41D-B155-4E9D-B5E8-C109EAF54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B0FA3D-2087-4BDF-902C-B1833C5B4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3AE18E-F8D4-4B74-989A-634553AEA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AE40BD-C31E-4564-AF44-D8BCF79C3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4EF733-80CB-43F2-A2E4-57831C4A6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934956-C929-46A4-AAC7-89A4FDDA4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D0E751-8ED0-49CA-B6B9-59473F811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155AB9-491B-426E-AC61-5749C382D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CCBD-4F6D-4EFD-A5FC-5F4405ECF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266811-F36F-44A0-9CCF-CAD42B2A5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0E39B6-B83C-4F71-BEF8-B66F5029F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8CCFAE-A1DD-4B04-A378-58F31D3D2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638CAC-8046-4C1C-B075-7B59A12FD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8BC1C5-0674-4EF0-A1FD-6B4D91000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D3F842-FD7D-4127-8A1B-1859E71FE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A85ECF-3862-45E2-9E14-3745C57ED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6CBD3D-4AF1-4F75-9567-0A1F9B12E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162068-CD05-4064-BEA9-EA18AA6AF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23EF3E-1608-4582-A51C-B31E902EC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F0DA1-899B-415E-9170-B9F4F1087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92A93F-0CAB-406E-9C90-8F4921881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0C5891-C0F9-4C11-88D8-8F31760A9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03BCE0-30EC-4DC6-A880-C2642939A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5BE407-FDF3-4E43-B94D-1684F85BA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73C2BB-08FC-4BD9-8C26-664932A18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940BC4-CA7F-4225-941D-4313FA83B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03746D-67C8-4B9D-A7FC-7770A8518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76EA1F-DFA2-477B-9B67-E848CC62D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60B636-B947-4155-AE67-05A5C44CB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93E210-6817-43BF-9761-3BAFC6E5A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F5DA5-025D-4C70-A5EB-BD1D139D3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F8EA62-E743-4C10-80DA-C8FABEE9B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E4E277-BEC5-4111-85BD-0B8748F7B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83C278-FF6D-4A2E-BC3F-A1D67635E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137B77-51F4-42DF-B895-0CD29E130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56FB11-3E86-4AF2-9543-FE77425B4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8835E3A-A13A-47A8-A717-4F84F0584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9883E46-B452-404F-BD57-EF2C636E0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8B5BA15-0002-48DA-9AB4-A189CD851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AD98053-FBB1-4C4E-9D0A-A761C468C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0C6A707-AF61-4CB8-8EA5-4DDE1D920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4A019-2767-4E05-BBDA-0441E544A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47828BE-4244-4E10-A699-9833540B4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6CCEBAC-ADD7-4639-8E63-3C1E8CAF4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0DA1505-58EC-4316-84AC-A5B344CD7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A15BB57-442C-4E46-A354-076C24F00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02E5AE9-B2ED-4661-B20B-8E8D94239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B29A249-46E0-4467-B7B7-F98588EDD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08D4588-AE14-4427-AD4A-B6E08C182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085251-42CA-4DAE-B216-A485396D5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CA7F48-685D-47B3-8707-2DC9DBF6A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47E609-498B-45B0-A54B-37BE1F67A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FF9E1-517C-4B8B-AE84-E52E03406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BF0AA4-5D0B-4B60-9BA5-8D9ACCAA7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7CBA6CF-0064-4094-B728-B1330BFF9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12B7C2E-D9DD-4A89-B2A4-45C42E35D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38BE747-F9F1-4C09-897B-66B2C1CAA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3E6A63-B70A-41B6-AC06-A481B937E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74B593F-2D15-434D-8967-27721600E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2DFA31-003A-464F-AB35-3B361E231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D921A9-EC77-4387-838E-8AACB3224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39BF9F2-461E-4A8D-9485-05E51FE38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F2C1DC5-CDD4-4719-8518-554CA6ACC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BD7E7-1DCC-489E-8FBC-2519FA41C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C4D0644-69D2-408C-B3E0-241B51A69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B8973C9-2752-4D95-86F6-3804F579A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C995037-D751-4486-98B3-7B2DD4D02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1A76C86-FE54-4ADA-B1B5-F0FBD69D5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CCE5A4C-733A-49D6-B0D3-D691D3BE4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CCAB563-AE3D-40AF-A518-6581E645E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C0DA1FC-06FE-41DB-9001-1197BB504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F16B090-8405-4439-BAD2-F4AB0ACF8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411A6B9-4AD2-4E66-B9BE-D5547BAD0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2C3A17A-7419-4BB3-A546-7D9108B68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C5A27-6217-4E84-B5ED-8ADFEE70E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8BA7DF9-1218-4910-9557-029D6C413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E32D8D2-C89D-4D02-8815-11A029F8B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B9F4D32-B6A5-412D-B3DC-BBD3123AD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706CAEB-3D5B-451E-A095-D274D5A53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1D066EB-E925-4595-87B6-601875DDA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C16447D-6D2F-4E05-935C-89DE99C87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52395D5-7A07-4932-8753-C5EB2991E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94CAFDE-A216-4A1B-ACC1-3549268CF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AFE6FD8-EE54-423C-8A8B-3399A2E78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1F09A58-1EF1-4F1C-AA0F-066B9B2B6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90AAA-E15F-4FCA-9411-41755F0ED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DDC716F-784E-4C4D-8329-E2E0AC8A9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7D06BC5-142B-4C24-A0EF-6E9297302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8B24947-BFC8-468C-A542-50CF26212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00824B8-DE8D-4F73-9604-D64773AE1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7530A70-1BB0-483C-BFC3-B461A2700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CAE1FEF-2DBE-468A-BC49-45113C3F2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3A1E244-2C54-42DA-BA91-0699D57DB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1E8A2C2-EE1C-406D-84FF-DF47EBB4D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787B13D-7CCF-4FCC-85D8-A7A9088A2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7E7CA29-B36E-4587-86F9-5D8C05297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7507-9A24-4D49-AD56-EFE00EE01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AC3DA-2F0E-49EE-BF75-87D99F206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3D5A348-1D8B-47C5-B9D1-94FA4B5DF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F1A7689-D15D-4D04-9661-D499E404E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6BF3253-F2C9-44E0-BE16-948B5A022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D419912-8863-405F-A12B-F6E5425CF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7AE44B8-441E-493D-8289-865528790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EBB872A-1593-48F3-991B-CBBEA62E5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1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3038846-AA14-4786-A09F-025D10680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D461C80-3BBD-488A-9D14-A41695387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408AA43-9870-4B96-A8CA-5B4DD4A87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11B33AE-BD36-4183-B309-2242CAC02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14CBA-2901-4505-BA3F-1330E1753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5DC7886-0934-455D-A529-90EBD5C31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159F527-A128-42CA-951B-E16CDE17A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DFCD009-D936-42BB-B321-F94E59FE1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A040486-0DE9-4A0F-A5C1-FD490F2AB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D45A9C8-88E4-482C-B9D0-31988DCF2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9CEC169-F893-453A-AD37-8DF2E5F2B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01AE539-2A13-432E-BB17-DDE639A38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465C2605-A6E7-4C3B-BC6F-CDF924E1E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6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3CF7B5AC-13E5-4508-877A-8FB71DC8E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F3425EAF-1219-4DD0-956A-837DD9D81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009E0-6004-43B5-A0B9-90C9331FE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C518C3C1-3650-4045-94D5-75C7687A0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1006E715-5D9A-41B8-9464-F28380858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BC9519C2-7028-413C-8946-320AA9538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B37C9FC8-4A3D-49E0-8B3C-85AD15D55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57AED7B0-3784-45F8-BC94-2CDF6B8E9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CA73F5A1-4B1F-40C8-9CDE-D2A37A6BE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715E7F40-A02F-4D6A-BEBB-5B0C1EC13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53777DB9-162F-4787-967A-AC8AFE879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1BFE3F6B-BD93-4D98-9D0F-74795B4CF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7EE0359-642B-408D-A051-26321DB04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47BFB-748C-4671-A212-DB8686300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44388C3-7F07-445A-87A4-C224F10B6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D81304B-B385-44B8-A0EB-D9FAF8B57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17B30D4-41DB-49AB-A477-A430FD2F1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F20BE65-6131-4894-A529-0AEBF1109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7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257C9FA-EFA1-43ED-98A3-56472F8C0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B0CD767-A35D-43B2-90D9-C078C64F5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8D37B66-6A21-4101-8F0B-234EFA34A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406A470-9180-49FD-80B9-4A80DB2F5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3803449-C144-4E0C-9077-9680987D8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193D457-DA18-41D8-B034-6C917EE5A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D0D80-4FC8-4D99-B5E1-5DE599F44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4D93882-5328-46C3-9ABF-991B288F8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42ABC08F-DDA9-4E24-865A-16A1DC0F6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7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8B7F838B-08A9-4B33-9FF1-61642E14D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44FA34B3-CAF1-4945-9231-93E808A10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2AD3C4E7-D01D-4973-81AA-774560C99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1145325E-B031-46E5-92AB-E572CC8CB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58DA1D59-201D-4053-988E-6A907F22F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3F09499A-BEF7-467D-9B3C-87DE83E44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8E42BB23-47F0-448D-BFBE-7EEFFD57A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E566CC64-FC4D-4C3A-88C3-78B2A3773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40013A-1D0A-4491-984C-533116068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E281FCEE-A4E1-420A-AA4A-6C45CC4AF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101E8FB1-2C86-4742-8C21-B4E9C4189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C98D4091-040B-4F1E-AA93-B10F4C73E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4A73CC0-C610-450D-BF9A-7E2AB12EC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3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B729448-7A37-481F-B60E-DF4AA2CBE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C1EAE28-F2DF-4B2A-8C40-A53BDFB3E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5F6D79F-6C8D-43C6-861F-8B2AB043D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121B8E4-4725-45EE-9CE3-D78255DC2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E8DC286-C9C0-4F1E-8A6A-40C5A2DC4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EC7E65F-08F8-4E99-A750-E3765206D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63E065-85C2-447B-94DA-4479E1A9A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6982CC2-7A81-4F9D-A041-3155F1814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F2AE42A-51DD-4860-8D56-397784AB7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CEF2640-2D09-4170-8E0C-4DC89BA78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F7B8171-B9B9-4954-9F95-28C087E21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8502382-395D-451C-8B2A-5D29FBCFA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579F65C-83EE-452D-9426-7FFCB2B24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48FFE27-3AD5-4049-A377-9B1499174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1E1871A-96A0-41BE-8EAE-8A13841F2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6DB72C0-C4FB-4054-85A2-9C6ADE038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3518DA2-D311-4F12-AD77-4621D9B14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377284-2726-4116-B0C1-0B440DB90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7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D187619-F7E4-4C46-B148-95BFD6605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D787698-2CA6-4F10-B175-ED777E31A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8484589-329E-4787-A0DF-FD775B2A0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90EC738-75B5-415C-A237-2E5BEE342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4608D92-A819-46C4-B8D1-47B0E4FE6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BD28B4C-3D50-43EB-87CC-15C2F5F2F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2A7C28D-AE17-4F38-994E-E668F4FC4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C5AD876-A554-42F9-BE23-E771F878E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61B622A-826F-4E32-BC7A-76527FD28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8127D79-0EAF-4A7E-9C1B-8A383013E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9F4B3C-8BAB-4C3F-9400-4D981F4D1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0298362-FB33-40BE-BAF3-4588DDB1E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510099B-01AA-40F3-BD27-42DEEFB41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1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D42965B-E028-40A7-BCDB-7BF8C836D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D427F4B-C486-4E8A-816E-23F52B523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D43831A-AEDA-4818-B0B7-67FAC25CA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6BC0FC1-7779-4B38-A746-00A753B2A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5A98F67-A2C8-4B0C-A649-DCFC0D706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D38BFCC-08C6-4DCF-8D7D-183962658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400DC08-3849-4F17-9985-09E7B0C0C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E5B0D1B-9862-4EFF-81CE-F2202B4B3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85B0F1-0516-4FA6-A191-A922D98B8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1D8A4D2-8049-4D06-93EB-0434CDAFF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68A0290-77FF-42D9-9D7B-7330ED8FA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1F1DB0F-7F9D-4DF5-8A4C-244CE03DB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9AD45A0-3502-4454-922F-1A71EDD07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F131A36-79D3-4379-9861-937B43794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2A5D582-8300-4354-858E-C475DA143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9BE00C4-86DA-41CC-8483-EAF850305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C614528-23FB-46CC-9850-2AAC4EF75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6D61398-F4BA-4942-94CF-9103E4646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8B8968F-F2F7-4293-BB6A-9DB484CC1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5E1E-2C53-447E-AFDF-3A715C3BE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FCFF40-E1BC-4621-9CFD-FFF83BEDB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6395B1A-1618-40A2-A8A9-BE208CEC5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BDD7311-AD33-4CAC-9DFF-364B093C8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78B8D61-81B1-46BD-B3EC-D5F340578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2B0B625-6DCA-432E-9C31-D62E3E9E1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A080945-5FCB-4B5E-81A7-4D8D0BF48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FDBC0B0-3A99-45E5-A3E4-B7EADCA9F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BA1666E-EA8D-4BC5-843D-8EB6CCC92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480F2A5-93A9-4E88-9921-252C2DBD4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12E0666-CD54-4A90-96F2-50C49834B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FB00BE9-B716-4881-89B3-5D7FEA07F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7111D0-9A10-497C-808F-8F127D296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B34050B-FF22-4805-BD6B-9F022A8F2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D03002E-EA99-4157-A61D-6AD589DF3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F53608C-C954-4A73-B7B2-2E5C6A5AB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1C6A3C0-2B25-4D15-9A72-125E38B46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58F6DF8-1027-4A8B-816E-7134805A3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D225DE4-7AB2-4B25-A3CD-AA725F445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8404C2E-D53D-4BD4-A2A0-4256C7EAD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A66AECC-DEA4-46A5-8053-EF7FD2C8F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F27F24F-7175-4E0B-9062-741F07517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F77A3DA-9DD0-4AEE-96CD-34FFAC121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A0C587-A1E0-41E1-B6C7-C4EBB7A9C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F47E73A-FF0C-4F92-ADA2-22478CC19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8B1C71B-2489-4FBE-8433-A51C324C8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7618953-07A0-407B-9E10-D6289B717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E7DD127-AE04-4677-9267-AB5B3ED8A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EA54BD3-8DC3-4398-9E87-4BE175492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762E8C3-3F4B-4C9D-859E-BB9728361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3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D5AA3E5-BFA3-49BF-890D-B606ABC22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7610804-89A2-4DB3-9FB0-1C3A4043D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FD11027-82B4-459A-972D-FB077B90E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02C9C54-469F-48AE-8D29-BC1FD5FB2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C6B89A-CE0F-471D-BA80-F40014A42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9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5CD2364-B09D-476B-9D17-4845DBAB5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35D7BFB-FBC5-4484-AF1C-02344B105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C106604-AC7D-4BA5-86F3-159207DD1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4E26EB2-FF4D-495D-8EA6-98F5CF501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FCBD9A3-8CCB-4D68-9191-62EB6439B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504D4DE-1412-4F2F-82D0-9E7342AB2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BD98189-405B-4F81-A25D-3636E09D1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1349A53-C395-4B27-BED0-BC5546B62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0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138C871-3CEF-442D-B107-5803B517B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39EA49D-09D0-4524-9420-7EC16E309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681D17-AA26-4908-925E-8D3B48583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EA77665-2D47-4C4D-AF4C-A97D33560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67FC489-6B53-4A40-AD03-967333EC8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5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869D27B-2C5A-4FF3-B8BC-FC33BF0C3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F2E016C-AC1D-4C07-A463-1E92CCB62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6C943B7-1B17-4002-BE30-F91326459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B9BB7F1-F8C1-4AFB-ADB6-C29F5F308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19E0958-662C-4E86-826C-99DEE8D0B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48FD056-F80E-41BB-9464-52AD3DABD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8EF5DDF-7634-4F29-AD91-F9345F46B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F83F69D-C801-4D70-8695-22941BCE7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F9675E-1756-4758-B801-838EB2148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8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11DC15E-9874-4052-BFD0-7133F4D17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A203B67-E466-47BE-A62E-791104AC5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D35BFE3-49FE-40FF-B8B0-67ED11F9A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7BD3A6E-02BB-4B00-BCD0-D6B34D721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8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018D0A5-0A4A-49C7-AEFB-E6E003B42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E3E0F79-A705-4E4B-96F8-AE5D2CCA1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01EE170-C2A1-4E59-BA9E-25536EB94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9BB811B-9138-4259-A8C2-AE0961206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7BA6989-FFE2-462A-9B3E-E76ED6F66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705E655-EE60-4C97-ACBB-E7872ACB2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55698C-3A4B-4BA2-BFDF-9F5E124AD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D6E1644-8803-4910-968A-BC2D7089F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20C5D2B-9051-4609-9C7B-A5D2C13E8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6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E13DBA0-B260-4BB0-A45B-9394F00E4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A768357-3797-4FAD-A676-F707DFBCB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11592FE-50FD-432D-A0E1-8146AB22B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36DCC3B-4DC7-4915-BD51-9D40D7D67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8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EA44B46-BDE4-49FD-B0DA-9FE7EA0C6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4C07797-0DBE-47A3-AE1E-0FD6D719D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2C526B6-EA61-4523-9116-57124EAA6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825D0BD-4CCE-4328-9D02-E442FEEAF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BBE2DF-1BC2-454D-AF0A-7B4DDE208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3A26ECA-056E-44AF-979D-3DF269DEF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1A66194-7814-4FD9-BFAD-CED6E66C3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6ACA1C7-7554-4E8E-8ED9-8DDF13993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0DA8D2C-8BBC-4709-A45A-1E5603A85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BB212DD-3C93-45E1-9AAF-8E84ABB90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9D16DD2-A44B-4FD3-A25E-A8F5CBFED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2073683-4B93-4C27-A654-86C3890AE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8530255-341D-4732-BB00-E6505BF3F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7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283B530-C555-446B-9A99-E34F9D206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837EECA-0ADF-49B6-86D1-0264514E0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857FB9-ECC7-4DC4-B53B-81068FF87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52EAC78-69EF-40BF-937A-D19115082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2A231A5-2C92-4BC9-BF6B-0365B72D7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ECBCDDF-3F7A-4E7B-A920-8D40F9921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71310FC-72FB-4E2B-9C37-FE3F24210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7564269-057C-4A7A-A840-1E2D66D21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3E3CA9-2AF2-44C7-BD2A-223799BBE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F18E-34F9-427D-8273-CE2EE5BCF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E59BAE-1F36-4ECD-8FD3-479E35430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8F77C6-E090-490B-9512-436C40844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58E7D3-3C1B-4C9B-9F18-B02822CF7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3CAEA4-9896-4D5F-9656-51B196303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968BE1-EF31-42C3-9ABF-5CE90F490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C7A480-E1F6-49AF-BC6F-BA1AD8F7F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977984-8945-46D3-A386-7ACCF5604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82C517-CB70-433E-B0FB-CA596525A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237CA9-A491-4442-9DE1-E7C4E6AFB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6FC831-8DD2-4719-8086-3C81396FB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2A75-46ED-4547-BE8C-1B67769E6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98F30F-C715-41E9-92E3-D636A75C8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CDB048-0D75-41B7-A5C3-CD680DA87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205E37-284D-4F60-BEC4-4096A8747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E5F083-B6B5-4B33-88EE-03DDEC09A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D1C66E-0193-4FA5-9ED7-DDE2950CB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6BA01B-1FEC-4A4F-847F-9968455BB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169ED4-0E9E-4C12-B759-4722013E4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3FCB75-DC42-4CAF-93A9-55DE7D368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E69518-A640-43E1-AA86-44DFA9221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CD8E41-85A9-4A5D-A9A7-D5135B3CA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8476-421F-4BE0-BD07-8B10C208A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8B85FC-A32C-4E86-82CE-A485C1D9E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753D2E-A66B-4BEC-92A4-FC5F2FFF2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BE2557-CF6A-46C9-BB82-7044BD7D5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804B3A1-32A1-4FD0-86EC-A6ED55E17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5E498DD-0BBE-428E-9C00-AE3F0760C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FD70AE6-0E16-4C24-9CEF-47098B67F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E0A6CE3-8179-432B-A4C3-0E6F2F74D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1C69108-E3B9-4125-8452-F685AB856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183435D-2860-498B-BE32-D5C1285CB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40938AE-7A8C-4C6A-BD19-596802BD3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983D-CA4E-462B-9F58-37208D900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7B7FC2F-F9BD-4ED8-ACA0-5BE691421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807C80A-33B0-418C-85DE-5B5C4F9BC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7CD22D4-C55F-47A4-9005-B2B7A4C26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5DB308-F5A6-44ED-8829-8D89A0C64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72D93A-720E-4223-BAD5-F6E1D5EDC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3552DE-76D4-41CF-ADA1-1A493D5E4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1C3E23-6985-4A10-ADA6-8AB308533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5A449C-2E31-4052-97A5-ADEC9A362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CF54A4-766A-4AEF-AB65-15585EE4C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A90337-EFC2-40BB-BE95-D92EFE8F5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08E4-9C7F-400F-962C-7DD6360E4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61D3C4-943A-4825-BD17-4E9A6B1F9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DE8A44-9BC5-4544-9CD6-77CDBD513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2B8AC8-E3AD-4C4B-AAF3-61CF12F99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4B12E5-0BD2-4FF1-923A-B65096ED0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B3B7C3-2C6B-470D-9549-B12287743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020BAA-B33C-4239-B726-22D4D4A18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906759-A106-405D-AC5C-DA0B15078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5B739D-8028-4D5B-93CB-F10B0B0F0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84DB70-59BB-4F0F-82BB-B0197D585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026212-5B08-496D-B8E8-0FB26AA9A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D72C-A81C-4647-836E-6974379F3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9E32D2-5B0C-4E6F-A5AD-08067D7AB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9CD020-1AFC-4C58-B995-D7CA03D2A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BB8BE1-369D-4854-B89D-05B1F4B4B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8C9B15-7CA2-4BAA-9D35-5809E863A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34248D-99C8-445D-87C0-6EF0FBEBE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87D5FF-2A69-4A41-B5D1-E28B0CBA2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814760-E2FB-48BC-B8C0-893A2BBE6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A7C40D-55F7-4728-9498-97190E52A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0895B1-7244-40DF-A8AA-9B03FC0CB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2A6D98-9028-454B-BBC0-92785606C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45.xml"/><Relationship Id="rId8" Type="http://schemas.openxmlformats.org/officeDocument/2006/relationships/slideLayout" Target="../slideLayouts/slideLayout146.xml"/><Relationship Id="rId9" Type="http://schemas.openxmlformats.org/officeDocument/2006/relationships/slideLayout" Target="../slideLayouts/slideLayout147.xml"/><Relationship Id="rId10" Type="http://schemas.openxmlformats.org/officeDocument/2006/relationships/slideLayout" Target="../slideLayouts/slideLayout148.xml"/><Relationship Id="rId11" Type="http://schemas.openxmlformats.org/officeDocument/2006/relationships/slideLayout" Target="../slideLayouts/slideLayout149.xml"/><Relationship Id="rId12" Type="http://schemas.openxmlformats.org/officeDocument/2006/relationships/slideLayout" Target="../slideLayouts/slideLayout150.xml"/><Relationship Id="rId13" Type="http://schemas.openxmlformats.org/officeDocument/2006/relationships/slideLayout" Target="../slideLayouts/slideLayout151.xml"/><Relationship Id="rId14" Type="http://schemas.openxmlformats.org/officeDocument/2006/relationships/slideLayout" Target="../slideLayouts/slideLayout152.xml"/><Relationship Id="rId15" Type="http://schemas.openxmlformats.org/officeDocument/2006/relationships/slideLayout" Target="../slideLayouts/slideLayout153.xml"/><Relationship Id="rId16" Type="http://schemas.openxmlformats.org/officeDocument/2006/relationships/slideLayout" Target="../slideLayouts/slideLayout154.xml"/><Relationship Id="rId17" Type="http://schemas.openxmlformats.org/officeDocument/2006/relationships/slideLayout" Target="../slideLayouts/slideLayout155.xml"/><Relationship Id="rId18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61.xml"/><Relationship Id="rId8" Type="http://schemas.openxmlformats.org/officeDocument/2006/relationships/slideLayout" Target="../slideLayouts/slideLayout362.xml"/><Relationship Id="rId9" Type="http://schemas.openxmlformats.org/officeDocument/2006/relationships/slideLayout" Target="../slideLayouts/slideLayout363.xml"/><Relationship Id="rId10" Type="http://schemas.openxmlformats.org/officeDocument/2006/relationships/slideLayout" Target="../slideLayouts/slideLayout364.xml"/><Relationship Id="rId11" Type="http://schemas.openxmlformats.org/officeDocument/2006/relationships/slideLayout" Target="../slideLayouts/slideLayout365.xml"/><Relationship Id="rId12" Type="http://schemas.openxmlformats.org/officeDocument/2006/relationships/slideLayout" Target="../slideLayouts/slideLayout366.xml"/><Relationship Id="rId13" Type="http://schemas.openxmlformats.org/officeDocument/2006/relationships/slideLayout" Target="../slideLayouts/slideLayout367.xml"/><Relationship Id="rId14" Type="http://schemas.openxmlformats.org/officeDocument/2006/relationships/slideLayout" Target="../slideLayouts/slideLayout368.xml"/><Relationship Id="rId15" Type="http://schemas.openxmlformats.org/officeDocument/2006/relationships/slideLayout" Target="../slideLayouts/slideLayout369.xml"/><Relationship Id="rId16" Type="http://schemas.openxmlformats.org/officeDocument/2006/relationships/slideLayout" Target="../slideLayouts/slideLayout370.xml"/><Relationship Id="rId17" Type="http://schemas.openxmlformats.org/officeDocument/2006/relationships/slideLayout" Target="../slideLayouts/slideLayout371.xml"/><Relationship Id="rId18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36F59-8514-43D1-939C-DF720425D26F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6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657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D0414-E78A-431A-BA7F-7B14E4F2E6C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2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713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14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715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40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741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2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4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5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7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8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9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0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1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2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4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5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6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757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9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760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1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2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3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4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5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6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7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8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69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 type="dt" idx="3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 type="ftr" idx="3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 type="sldNum" idx="3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0A735-8B84-41E9-AB08-5ACF559D6F9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8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819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0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821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46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847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8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9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0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1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2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3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4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5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6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7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8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9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0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1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62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863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4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65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866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7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8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9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0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1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2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3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4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75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 type="dt" idx="3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 type="ftr" idx="3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 type="sldNum" idx="3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09CDF-F28B-4913-9318-15BE36B3EE8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3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924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39" name="PlaceHolder 1"/>
          <p:cNvSpPr>
            <a:spLocks noGrp="1"/>
          </p:cNvSpPr>
          <p:nvPr>
            <p:ph type="sldNum" idx="3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82BCE-A559-4C50-B69B-A84CC28BBE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 type="dt" idx="3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 type="ftr" idx="39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3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7"/>
    <p:sldLayoutId id="2147483806" r:id="rId8"/>
    <p:sldLayoutId id="2147483807" r:id="rId9"/>
    <p:sldLayoutId id="2147483808" r:id="rId10"/>
    <p:sldLayoutId id="2147483809" r:id="rId11"/>
    <p:sldLayoutId id="2147483810" r:id="rId12"/>
    <p:sldLayoutId id="2147483811" r:id="rId13"/>
    <p:sldLayoutId id="2147483812" r:id="rId14"/>
    <p:sldLayoutId id="2147483813" r:id="rId15"/>
    <p:sldLayoutId id="2147483814" r:id="rId16"/>
    <p:sldLayoutId id="2147483815" r:id="rId17"/>
    <p:sldLayoutId id="2147483816" r:id="rId18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0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1181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2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3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4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5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6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8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3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4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5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6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7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8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9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0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1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2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3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4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5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6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7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8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9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0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1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2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 type="dt" idx="4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PlaceHolder 3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4"/>
          <p:cNvSpPr>
            <a:spLocks noGrp="1"/>
          </p:cNvSpPr>
          <p:nvPr>
            <p:ph type="sldNum" idx="4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FE235-3BD9-41E2-8C08-3D24FD52C6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8" name="PlaceHolder 3"/>
          <p:cNvSpPr>
            <a:spLocks noGrp="1"/>
          </p:cNvSpPr>
          <p:nvPr>
            <p:ph type="ftr" idx="4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PlaceHolder 4"/>
          <p:cNvSpPr>
            <a:spLocks noGrp="1"/>
          </p:cNvSpPr>
          <p:nvPr>
            <p:ph type="sldNum" idx="4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9271A-55A6-4751-B2D4-1130AA33F91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42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1443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56" name="PlaceHolder 5"/>
          <p:cNvSpPr>
            <a:spLocks noGrp="1"/>
          </p:cNvSpPr>
          <p:nvPr>
            <p:ph type="dt" idx="4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4" name="PlaceHolder 2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PlaceHolder 3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PlaceHolder 4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B4F73-91BD-4ECD-8E62-50649B0FD6F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98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1499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12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9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550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58" name="PlaceHolder 1"/>
          <p:cNvSpPr>
            <a:spLocks noGrp="1"/>
          </p:cNvSpPr>
          <p:nvPr>
            <p:ph type="dt" idx="49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 type="ftr" idx="50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PlaceHolder 3"/>
          <p:cNvSpPr>
            <a:spLocks noGrp="1"/>
          </p:cNvSpPr>
          <p:nvPr>
            <p:ph type="sldNum" idx="51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52113-3F74-498F-A621-7E1E1163B8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62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9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1600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 type="dt" idx="52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PlaceHolder 3"/>
          <p:cNvSpPr>
            <a:spLocks noGrp="1"/>
          </p:cNvSpPr>
          <p:nvPr>
            <p:ph type="ftr" idx="53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PlaceHolder 4"/>
          <p:cNvSpPr>
            <a:spLocks noGrp="1"/>
          </p:cNvSpPr>
          <p:nvPr>
            <p:ph type="sldNum" idx="54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D61FD-4C1B-4BE3-B1F8-1DE35C9A71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PlaceHolder 1"/>
          <p:cNvSpPr>
            <a:spLocks noGrp="1"/>
          </p:cNvSpPr>
          <p:nvPr>
            <p:ph type="dt" idx="55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PlaceHolder 2"/>
          <p:cNvSpPr>
            <a:spLocks noGrp="1"/>
          </p:cNvSpPr>
          <p:nvPr>
            <p:ph type="sldNum" idx="56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02D80-9F21-420A-A37A-80A83F7B05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8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649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650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1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2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3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4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55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57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58" name="PlaceHolder 4"/>
          <p:cNvSpPr>
            <a:spLocks noGrp="1"/>
          </p:cNvSpPr>
          <p:nvPr>
            <p:ph type="ftr" idx="57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ED930-A15F-473F-B9CD-64AD1477E4D2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6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697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698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703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05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06" name="PlaceHolder 2"/>
          <p:cNvSpPr>
            <a:spLocks noGrp="1"/>
          </p:cNvSpPr>
          <p:nvPr>
            <p:ph type="dt" idx="58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PlaceHolder 3"/>
          <p:cNvSpPr>
            <a:spLocks noGrp="1"/>
          </p:cNvSpPr>
          <p:nvPr>
            <p:ph type="ftr" idx="59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PlaceHolder 4"/>
          <p:cNvSpPr>
            <a:spLocks noGrp="1"/>
          </p:cNvSpPr>
          <p:nvPr>
            <p:ph type="sldNum" idx="60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4B9A0-7A77-43D3-8D86-1B50CE7FF2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5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746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6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9" name="PlaceHolder 3"/>
          <p:cNvSpPr>
            <a:spLocks noGrp="1"/>
          </p:cNvSpPr>
          <p:nvPr>
            <p:ph type="ftr" idx="6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PlaceHolder 4"/>
          <p:cNvSpPr>
            <a:spLocks noGrp="1"/>
          </p:cNvSpPr>
          <p:nvPr>
            <p:ph type="sldNum" idx="6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8B6CB-1A33-481C-9667-A8BD37E4C993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PlaceHolder 5"/>
          <p:cNvSpPr>
            <a:spLocks noGrp="1"/>
          </p:cNvSpPr>
          <p:nvPr>
            <p:ph type="dt" idx="6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80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3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31" name="PlaceHolder 2"/>
          <p:cNvSpPr>
            <a:spLocks noGrp="1"/>
          </p:cNvSpPr>
          <p:nvPr>
            <p:ph type="dt" idx="6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PlaceHolder 3"/>
          <p:cNvSpPr>
            <a:spLocks noGrp="1"/>
          </p:cNvSpPr>
          <p:nvPr>
            <p:ph type="ftr" idx="6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PlaceHolder 4"/>
          <p:cNvSpPr>
            <a:spLocks noGrp="1"/>
          </p:cNvSpPr>
          <p:nvPr>
            <p:ph type="sldNum" idx="6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7389F-DDDA-48D5-BFDA-D3EF4B923C02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87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187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187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87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187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87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187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88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88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88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88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191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192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92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92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92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92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92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92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92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92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92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93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93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193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196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196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7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97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97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98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98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98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98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994" name="PlaceHolder 1"/>
          <p:cNvSpPr>
            <a:spLocks noGrp="1"/>
          </p:cNvSpPr>
          <p:nvPr>
            <p:ph type="dt" idx="6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PlaceHolder 2"/>
          <p:cNvSpPr>
            <a:spLocks noGrp="1"/>
          </p:cNvSpPr>
          <p:nvPr>
            <p:ph type="ftr" idx="6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6" name="PlaceHolder 3"/>
          <p:cNvSpPr>
            <a:spLocks noGrp="1"/>
          </p:cNvSpPr>
          <p:nvPr>
            <p:ph type="sldNum" idx="6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61310-2CA7-4F91-A939-2480F864B8E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3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203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203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203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03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204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04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204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204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204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204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204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08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08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08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08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08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08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09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09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09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09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09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09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09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09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13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13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13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13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14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14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15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15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15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160" name="PlaceHolder 2"/>
          <p:cNvSpPr>
            <a:spLocks noGrp="1"/>
          </p:cNvSpPr>
          <p:nvPr>
            <p:ph type="dt" idx="7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1" name="PlaceHolder 3"/>
          <p:cNvSpPr>
            <a:spLocks noGrp="1"/>
          </p:cNvSpPr>
          <p:nvPr>
            <p:ph type="ftr" idx="7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2" name="PlaceHolder 4"/>
          <p:cNvSpPr>
            <a:spLocks noGrp="1"/>
          </p:cNvSpPr>
          <p:nvPr>
            <p:ph type="sldNum" idx="7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9DE6A-DA73-450E-BF84-077602C15CF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200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1" name="PlaceHolder 3"/>
          <p:cNvSpPr>
            <a:spLocks noGrp="1"/>
          </p:cNvSpPr>
          <p:nvPr>
            <p:ph type="dt" idx="73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2" name="PlaceHolder 4"/>
          <p:cNvSpPr>
            <a:spLocks noGrp="1"/>
          </p:cNvSpPr>
          <p:nvPr>
            <p:ph type="ftr" idx="7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3" name="PlaceHolder 5"/>
          <p:cNvSpPr>
            <a:spLocks noGrp="1"/>
          </p:cNvSpPr>
          <p:nvPr>
            <p:ph type="sldNum" idx="75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0673F-3B4F-4A58-8072-D6270C3420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0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241" name="PlaceHolder 2"/>
          <p:cNvSpPr>
            <a:spLocks noGrp="1"/>
          </p:cNvSpPr>
          <p:nvPr>
            <p:ph type="dt" idx="76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2" name="PlaceHolder 3"/>
          <p:cNvSpPr>
            <a:spLocks noGrp="1"/>
          </p:cNvSpPr>
          <p:nvPr>
            <p:ph type="ftr" idx="7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3" name="PlaceHolder 4"/>
          <p:cNvSpPr>
            <a:spLocks noGrp="1"/>
          </p:cNvSpPr>
          <p:nvPr>
            <p:ph type="sldNum" idx="78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C07BD-27EC-4B7D-BD6F-10D2D5C24F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228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5" name="PlaceHolder 3"/>
          <p:cNvSpPr>
            <a:spLocks noGrp="1"/>
          </p:cNvSpPr>
          <p:nvPr>
            <p:ph type="dt" idx="7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6" name="PlaceHolder 4"/>
          <p:cNvSpPr>
            <a:spLocks noGrp="1"/>
          </p:cNvSpPr>
          <p:nvPr>
            <p:ph type="ftr" idx="8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7" name="PlaceHolder 5"/>
          <p:cNvSpPr>
            <a:spLocks noGrp="1"/>
          </p:cNvSpPr>
          <p:nvPr>
            <p:ph type="sldNum" idx="8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E8CE2-6492-4BC9-9454-945073777B8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232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27" name="PlaceHolder 1"/>
          <p:cNvSpPr>
            <a:spLocks noGrp="1"/>
          </p:cNvSpPr>
          <p:nvPr>
            <p:ph type="dt" idx="8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8" name="PlaceHolder 2"/>
          <p:cNvSpPr>
            <a:spLocks noGrp="1"/>
          </p:cNvSpPr>
          <p:nvPr>
            <p:ph type="ftr" idx="8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9" name="PlaceHolder 3"/>
          <p:cNvSpPr>
            <a:spLocks noGrp="1"/>
          </p:cNvSpPr>
          <p:nvPr>
            <p:ph type="sldNum" idx="8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EF2A1-291B-4B4E-AE01-AC8C2AE9AFE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7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2368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369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0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371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2372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3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374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2375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6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377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2378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2379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80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1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2382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2383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4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85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2386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7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88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389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0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91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392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3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94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395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6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97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2398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9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00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2401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2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03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2404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5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06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2407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8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09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2410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1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12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2413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4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15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2416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7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18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2419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0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21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2422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3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24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2425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6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27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2428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9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30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2431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2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33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2434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5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36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2437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8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39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2440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1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42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2443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4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45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46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447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2448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9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50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2451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2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53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2454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5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56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2457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8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59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2460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1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62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2463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4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65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2466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7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68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2469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0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71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2472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3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74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2475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6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77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2478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9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480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1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2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3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4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5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6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7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8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9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0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1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2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3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4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5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6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7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8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9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0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1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5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0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04" name="PlaceHolder 3"/>
          <p:cNvSpPr>
            <a:spLocks noGrp="1"/>
          </p:cNvSpPr>
          <p:nvPr>
            <p:ph type="dt" idx="8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5" name="PlaceHolder 4"/>
          <p:cNvSpPr>
            <a:spLocks noGrp="1"/>
          </p:cNvSpPr>
          <p:nvPr>
            <p:ph type="ftr" idx="8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6" name="PlaceHolder 5"/>
          <p:cNvSpPr>
            <a:spLocks noGrp="1"/>
          </p:cNvSpPr>
          <p:nvPr>
            <p:ph type="sldNum" idx="8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5B80E-147B-4E1B-8053-06B40CE3DD0E}" type="slidenum"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5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5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7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9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20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664B8-075C-4EFE-9E7D-AFFEB4E445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43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2544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2545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6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547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2548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2549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2550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1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52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2553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2554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55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56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2557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58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59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2560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1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62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2563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4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65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2566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7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68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569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70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1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572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73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4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575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76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7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578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79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80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581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82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83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584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85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86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587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88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89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590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1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92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593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4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95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596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7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98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599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00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1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602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03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4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605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06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7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608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09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10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611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12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13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614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15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616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7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618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619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0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21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622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3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24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625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6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27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28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9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0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31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32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3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34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35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6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637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38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9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640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41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42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643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44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45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646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47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48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649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0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651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652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653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4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5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6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7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8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9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60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1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662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3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4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5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6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7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8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9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0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1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2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3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4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5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676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77" name="PlaceHolder 2"/>
          <p:cNvSpPr>
            <a:spLocks noGrp="1"/>
          </p:cNvSpPr>
          <p:nvPr>
            <p:ph type="dt" idx="8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8" name="PlaceHolder 3"/>
          <p:cNvSpPr>
            <a:spLocks noGrp="1"/>
          </p:cNvSpPr>
          <p:nvPr>
            <p:ph type="ftr" idx="8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9" name="PlaceHolder 4"/>
          <p:cNvSpPr>
            <a:spLocks noGrp="1"/>
          </p:cNvSpPr>
          <p:nvPr>
            <p:ph type="sldNum" idx="9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1D8D9-FC1C-4FE3-AFAB-A8184084E928}" type="slidenum"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6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2717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8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9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0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1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2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3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4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5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6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7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8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729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2730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1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2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3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4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5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6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7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8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9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0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1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2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3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4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5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6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7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8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9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0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1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2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3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4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75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7" name="PlaceHolder 3"/>
          <p:cNvSpPr>
            <a:spLocks noGrp="1"/>
          </p:cNvSpPr>
          <p:nvPr>
            <p:ph type="dt" idx="9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8" name="PlaceHolder 4"/>
          <p:cNvSpPr>
            <a:spLocks noGrp="1"/>
          </p:cNvSpPr>
          <p:nvPr>
            <p:ph type="ftr" idx="9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9" name="PlaceHolder 5"/>
          <p:cNvSpPr>
            <a:spLocks noGrp="1"/>
          </p:cNvSpPr>
          <p:nvPr>
            <p:ph type="sldNum" idx="9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CB43C-DA66-4E95-B4F3-5FB6BEAAEEA4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7"/>
    <p:sldLayoutId id="2147484040" r:id="rId8"/>
    <p:sldLayoutId id="2147484041" r:id="rId9"/>
    <p:sldLayoutId id="2147484042" r:id="rId10"/>
    <p:sldLayoutId id="2147484043" r:id="rId11"/>
    <p:sldLayoutId id="2147484044" r:id="rId12"/>
    <p:sldLayoutId id="2147484045" r:id="rId13"/>
    <p:sldLayoutId id="2147484046" r:id="rId14"/>
    <p:sldLayoutId id="2147484047" r:id="rId15"/>
    <p:sldLayoutId id="2147484048" r:id="rId16"/>
    <p:sldLayoutId id="2147484049" r:id="rId17"/>
    <p:sldLayoutId id="2147484050" r:id="rId18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6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2797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8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9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0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1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2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3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4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5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6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7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8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809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2810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1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2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3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4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5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6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7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8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9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0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1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2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3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4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5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6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7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8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9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0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1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2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3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4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835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36" name="PlaceHolder 2"/>
          <p:cNvSpPr>
            <a:spLocks noGrp="1"/>
          </p:cNvSpPr>
          <p:nvPr>
            <p:ph type="dt" idx="9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7" name="PlaceHolder 3"/>
          <p:cNvSpPr>
            <a:spLocks noGrp="1"/>
          </p:cNvSpPr>
          <p:nvPr>
            <p:ph type="ftr" idx="9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8" name="PlaceHolder 4"/>
          <p:cNvSpPr>
            <a:spLocks noGrp="1"/>
          </p:cNvSpPr>
          <p:nvPr>
            <p:ph type="sldNum" idx="9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36E09-8044-46B2-9E8D-804CEACD7DF6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6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6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26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7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27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9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29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31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2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32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E3815-F979-4E45-A682-557F8BFAD8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66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8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370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1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372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77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8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379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63EE9-3367-483B-AECC-1E243EB1CF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6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27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9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0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31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32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433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38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44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00E14-0FEC-4F95-8238-CE278FEE9E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 type="ftr" idx="1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6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487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88274-213C-4E80-B0B9-6B03DC69D757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3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44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AD2F8-8D01-441E-A4AD-DA3258148968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9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600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dt" idx="2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8098A-6732-4D20-97FD-DFB67D5F827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24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28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2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6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9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5" name=""/>
          <p:cNvSpPr txBox="1"/>
          <p:nvPr/>
        </p:nvSpPr>
        <p:spPr>
          <a:xfrm>
            <a:off x="933480" y="2144880"/>
            <a:ext cx="7277040" cy="257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реобразование графиков функций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push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7" name=""/>
          <p:cNvSpPr/>
          <p:nvPr/>
        </p:nvSpPr>
        <p:spPr>
          <a:xfrm>
            <a:off x="1600200" y="1143000"/>
            <a:ext cx="68580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Построить в одной системе координат графики следующих функций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У=х</a:t>
            </a:r>
            <a:r>
              <a:rPr b="0" lang="en-US" sz="28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,    у =(х-4)</a:t>
            </a:r>
            <a:r>
              <a:rPr b="0" lang="en-US" sz="28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,      у =(х+5)</a:t>
            </a:r>
            <a:r>
              <a:rPr b="0" lang="en-US" sz="28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8" name="" descr=""/>
          <p:cNvPicPr/>
          <p:nvPr/>
        </p:nvPicPr>
        <p:blipFill>
          <a:blip r:embed="rId1"/>
          <a:stretch/>
        </p:blipFill>
        <p:spPr>
          <a:xfrm>
            <a:off x="838080" y="228600"/>
            <a:ext cx="7620120" cy="5079960"/>
          </a:xfrm>
          <a:prstGeom prst="rect">
            <a:avLst/>
          </a:prstGeom>
          <a:ln w="0">
            <a:noFill/>
          </a:ln>
        </p:spPr>
      </p:pic>
      <p:sp>
        <p:nvSpPr>
          <p:cNvPr id="2889" name=""/>
          <p:cNvSpPr/>
          <p:nvPr/>
        </p:nvSpPr>
        <p:spPr>
          <a:xfrm>
            <a:off x="968400" y="5670720"/>
            <a:ext cx="600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У=х</a:t>
            </a:r>
            <a:r>
              <a:rPr b="0" lang="en-US" sz="18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-зелёный,  у =(х-4)</a:t>
            </a:r>
            <a:r>
              <a:rPr b="0" lang="en-US" sz="18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-красный, у =(х+5)</a:t>
            </a:r>
            <a:r>
              <a:rPr b="0" lang="en-US" sz="18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-бордов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0" name=""/>
          <p:cNvSpPr/>
          <p:nvPr/>
        </p:nvSpPr>
        <p:spPr>
          <a:xfrm>
            <a:off x="1523880" y="990720"/>
            <a:ext cx="65534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Построить в системе координат графики следующих функций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У=-2х</a:t>
            </a:r>
            <a:r>
              <a:rPr b="0" lang="en-US" sz="28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,   у=2х</a:t>
            </a:r>
            <a:r>
              <a:rPr b="0" lang="en-US" sz="28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-5,   у=0,5х</a:t>
            </a:r>
            <a:r>
              <a:rPr b="0" lang="en-US" sz="28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+1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1" name="" descr=""/>
          <p:cNvPicPr/>
          <p:nvPr/>
        </p:nvPicPr>
        <p:blipFill>
          <a:blip r:embed="rId2"/>
          <a:stretch/>
        </p:blipFill>
        <p:spPr>
          <a:xfrm>
            <a:off x="1066680" y="685800"/>
            <a:ext cx="7304040" cy="4876920"/>
          </a:xfrm>
          <a:prstGeom prst="rect">
            <a:avLst/>
          </a:prstGeom>
          <a:ln w="0">
            <a:noFill/>
          </a:ln>
        </p:spPr>
      </p:pic>
      <p:sp>
        <p:nvSpPr>
          <p:cNvPr id="2892" name=""/>
          <p:cNvSpPr/>
          <p:nvPr/>
        </p:nvSpPr>
        <p:spPr>
          <a:xfrm>
            <a:off x="517680" y="5746680"/>
            <a:ext cx="75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У=-2х</a:t>
            </a:r>
            <a:r>
              <a:rPr b="0" lang="en-US" sz="18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-зелёный,  у =2х</a:t>
            </a:r>
            <a:r>
              <a:rPr b="0" lang="en-US" sz="18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-5-красный,  у=0,5х</a:t>
            </a:r>
            <a:r>
              <a:rPr b="0" lang="en-US" sz="18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+1-син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3" name=""/>
          <p:cNvSpPr/>
          <p:nvPr/>
        </p:nvSpPr>
        <p:spPr>
          <a:xfrm>
            <a:off x="1523880" y="1371600"/>
            <a:ext cx="685800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Построить графики функций, используя шаблон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Вариант 1.              Вариант 2          Вариант 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У=х</a:t>
            </a:r>
            <a:r>
              <a:rPr b="0" lang="en-US" sz="20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+3                   у = х</a:t>
            </a:r>
            <a:r>
              <a:rPr b="0" lang="en-US" sz="20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+1             у = х</a:t>
            </a:r>
            <a:r>
              <a:rPr b="0" lang="en-US" sz="20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-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У = х</a:t>
            </a:r>
            <a:r>
              <a:rPr b="0" lang="en-US" sz="20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-1                 у = х</a:t>
            </a:r>
            <a:r>
              <a:rPr b="0" lang="en-US" sz="20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-2              у = х</a:t>
            </a:r>
            <a:r>
              <a:rPr b="0" lang="en-US" sz="20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+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У=(х+4)</a:t>
            </a:r>
            <a:r>
              <a:rPr b="0" lang="en-US" sz="2000" spc="-1" strike="noStrike" baseline="30000">
                <a:solidFill>
                  <a:srgbClr val="ffffff"/>
                </a:solidFill>
                <a:latin typeface="Verdana"/>
              </a:rPr>
              <a:t>2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  у =(х-3)</a:t>
            </a:r>
            <a:r>
              <a:rPr b="0" lang="en-US" sz="2000" spc="-1" strike="noStrike" baseline="30000">
                <a:solidFill>
                  <a:srgbClr val="ffffff"/>
                </a:solidFill>
                <a:latin typeface="Verdana"/>
              </a:rPr>
              <a:t>2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у = (х+3)</a:t>
            </a:r>
            <a:r>
              <a:rPr b="0" lang="en-US" sz="20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У=-х</a:t>
            </a:r>
            <a:r>
              <a:rPr b="0" lang="en-US" sz="2000" spc="-1" strike="noStrike" baseline="30000">
                <a:solidFill>
                  <a:srgbClr val="ffffff"/>
                </a:solidFill>
                <a:latin typeface="Verdana"/>
              </a:rPr>
              <a:t>2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у=-2х</a:t>
            </a:r>
            <a:r>
              <a:rPr b="0" lang="en-US" sz="20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               у=-0,5х</a:t>
            </a:r>
            <a:r>
              <a:rPr b="0" lang="en-US" sz="20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4" name=""/>
          <p:cNvSpPr/>
          <p:nvPr/>
        </p:nvSpPr>
        <p:spPr>
          <a:xfrm>
            <a:off x="1676520" y="15228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Вариант  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95" name="" descr=""/>
          <p:cNvPicPr/>
          <p:nvPr/>
        </p:nvPicPr>
        <p:blipFill>
          <a:blip r:embed="rId1"/>
          <a:stretch/>
        </p:blipFill>
        <p:spPr>
          <a:xfrm>
            <a:off x="1447920" y="762120"/>
            <a:ext cx="5943600" cy="4343400"/>
          </a:xfrm>
          <a:prstGeom prst="rect">
            <a:avLst/>
          </a:prstGeom>
          <a:ln w="0">
            <a:noFill/>
          </a:ln>
        </p:spPr>
      </p:pic>
      <p:sp>
        <p:nvSpPr>
          <p:cNvPr id="2896" name=""/>
          <p:cNvSpPr/>
          <p:nvPr/>
        </p:nvSpPr>
        <p:spPr>
          <a:xfrm>
            <a:off x="1506240" y="5670720"/>
            <a:ext cx="571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У=-х</a:t>
            </a:r>
            <a:r>
              <a:rPr b="0" lang="en-US" sz="18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-синий, у =х</a:t>
            </a:r>
            <a:r>
              <a:rPr b="0" lang="en-US" sz="18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+3-зелёный, у=х</a:t>
            </a:r>
            <a:r>
              <a:rPr b="0" lang="en-US" sz="18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-1-красный,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у =(х+4)</a:t>
            </a:r>
            <a:r>
              <a:rPr b="0" lang="en-US" sz="18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-светло-зелён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7" name=""/>
          <p:cNvSpPr/>
          <p:nvPr/>
        </p:nvSpPr>
        <p:spPr>
          <a:xfrm>
            <a:off x="2346480" y="8701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8" name=""/>
          <p:cNvSpPr/>
          <p:nvPr/>
        </p:nvSpPr>
        <p:spPr>
          <a:xfrm>
            <a:off x="1600200" y="38088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Вариант  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99" name="" descr=""/>
          <p:cNvPicPr/>
          <p:nvPr/>
        </p:nvPicPr>
        <p:blipFill>
          <a:blip r:embed="rId1"/>
          <a:stretch/>
        </p:blipFill>
        <p:spPr>
          <a:xfrm>
            <a:off x="1143000" y="838080"/>
            <a:ext cx="6248520" cy="4442040"/>
          </a:xfrm>
          <a:prstGeom prst="rect">
            <a:avLst/>
          </a:prstGeom>
          <a:ln w="0">
            <a:noFill/>
          </a:ln>
        </p:spPr>
      </p:pic>
      <p:sp>
        <p:nvSpPr>
          <p:cNvPr id="2900" name=""/>
          <p:cNvSpPr/>
          <p:nvPr/>
        </p:nvSpPr>
        <p:spPr>
          <a:xfrm>
            <a:off x="1297080" y="5823000"/>
            <a:ext cx="549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У=-2х</a:t>
            </a:r>
            <a:r>
              <a:rPr b="0" lang="en-US" sz="18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-синий,  у=х</a:t>
            </a:r>
            <a:r>
              <a:rPr b="0" lang="en-US" sz="18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+1-зеленый,  у=х</a:t>
            </a:r>
            <a:r>
              <a:rPr b="0" lang="en-US" sz="18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-2-красный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У=(х-3)</a:t>
            </a:r>
            <a:r>
              <a:rPr b="0" lang="en-US" sz="18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светло-зелён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1" name=""/>
          <p:cNvSpPr/>
          <p:nvPr/>
        </p:nvSpPr>
        <p:spPr>
          <a:xfrm>
            <a:off x="2514600" y="457200"/>
            <a:ext cx="52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Вариант   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02" name="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7010280" cy="4343400"/>
          </a:xfrm>
          <a:prstGeom prst="rect">
            <a:avLst/>
          </a:prstGeom>
          <a:ln w="0">
            <a:noFill/>
          </a:ln>
        </p:spPr>
      </p:pic>
      <p:sp>
        <p:nvSpPr>
          <p:cNvPr id="2903" name=""/>
          <p:cNvSpPr/>
          <p:nvPr/>
        </p:nvSpPr>
        <p:spPr>
          <a:xfrm>
            <a:off x="1146600" y="5410080"/>
            <a:ext cx="550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У=-0,5х</a:t>
            </a:r>
            <a:r>
              <a:rPr b="0" lang="en-US" sz="18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-синий, у=х</a:t>
            </a:r>
            <a:r>
              <a:rPr b="0" lang="en-US" sz="18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-4-зелёный, у=х</a:t>
            </a:r>
            <a:r>
              <a:rPr b="0" lang="en-US" sz="18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+2-красн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У=(х-3)</a:t>
            </a:r>
            <a:r>
              <a:rPr b="0" lang="en-US" sz="18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-светло-зелён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4" name=""/>
          <p:cNvSpPr/>
          <p:nvPr/>
        </p:nvSpPr>
        <p:spPr>
          <a:xfrm>
            <a:off x="685800" y="838080"/>
            <a:ext cx="64008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Домашнее зад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Придумать четыре квадратичных функции и построить их в тетрад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1 преобразование   1 бал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2 преобразования    2 балл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3 преобразования    3 балл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5" name=""/>
          <p:cNvSpPr/>
          <p:nvPr/>
        </p:nvSpPr>
        <p:spPr>
          <a:xfrm>
            <a:off x="1468080" y="4038480"/>
            <a:ext cx="634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Каждый график построить в одной системе координа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6" name=""/>
          <p:cNvSpPr/>
          <p:nvPr/>
        </p:nvSpPr>
        <p:spPr>
          <a:xfrm>
            <a:off x="1295280" y="2133720"/>
            <a:ext cx="7391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Задачи урока: научиться строить графики функций с помощью простейших преобразован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7" name=""/>
          <p:cNvSpPr/>
          <p:nvPr/>
        </p:nvSpPr>
        <p:spPr>
          <a:xfrm>
            <a:off x="1676520" y="2514600"/>
            <a:ext cx="6629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Девиз урока: «Предмет математики настолько серьёзный, что не стоит упускать случая сделать его немного интереснее»             Б.Паскал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8" name=""/>
          <p:cNvSpPr/>
          <p:nvPr/>
        </p:nvSpPr>
        <p:spPr>
          <a:xfrm>
            <a:off x="228600" y="1143000"/>
            <a:ext cx="77724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Распределить функции по видам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У=2х+3,  у=х</a:t>
            </a:r>
            <a:r>
              <a:rPr b="0" lang="en-US" sz="28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,  у=6/х, у=-х+5, у=-3х, у = х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У=2х</a:t>
            </a:r>
            <a:r>
              <a:rPr b="0" lang="en-US" sz="28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+5, у=-8/х,  у = -(х+4)</a:t>
            </a:r>
            <a:r>
              <a:rPr b="0" lang="en-US" sz="28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9" name=""/>
          <p:cNvSpPr/>
          <p:nvPr/>
        </p:nvSpPr>
        <p:spPr>
          <a:xfrm>
            <a:off x="1981080" y="1981080"/>
            <a:ext cx="64008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Линейные:у=2х+3, у=-х+5, у=-3х, у = 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Обратная пропорциональность:у=6/х, у=-8/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Квадратичная:у=х</a:t>
            </a:r>
            <a:r>
              <a:rPr b="0" lang="en-US" sz="20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, у=2х</a:t>
            </a:r>
            <a:r>
              <a:rPr b="0" lang="en-US" sz="20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+5, у =-(х+4)</a:t>
            </a:r>
            <a:r>
              <a:rPr b="0" lang="en-US" sz="20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0" name=""/>
          <p:cNvSpPr/>
          <p:nvPr/>
        </p:nvSpPr>
        <p:spPr>
          <a:xfrm>
            <a:off x="1905120" y="2057400"/>
            <a:ext cx="6553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Построить в системе координат графики следующих функций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У=-3х,  у=-3х+1, у=-3х+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1" name="" descr=""/>
          <p:cNvPicPr/>
          <p:nvPr/>
        </p:nvPicPr>
        <p:blipFill>
          <a:blip r:embed="rId1"/>
          <a:stretch/>
        </p:blipFill>
        <p:spPr>
          <a:xfrm>
            <a:off x="2057400" y="838080"/>
            <a:ext cx="5715000" cy="4572000"/>
          </a:xfrm>
          <a:prstGeom prst="rect">
            <a:avLst/>
          </a:prstGeom>
          <a:ln w="0">
            <a:noFill/>
          </a:ln>
        </p:spPr>
      </p:pic>
      <p:sp>
        <p:nvSpPr>
          <p:cNvPr id="2882" name=""/>
          <p:cNvSpPr/>
          <p:nvPr/>
        </p:nvSpPr>
        <p:spPr>
          <a:xfrm>
            <a:off x="1295280" y="6095880"/>
            <a:ext cx="601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У=-3х-красный, у=-3х+1-зелёный                     у=-3х-2- синий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3" name=""/>
          <p:cNvSpPr/>
          <p:nvPr/>
        </p:nvSpPr>
        <p:spPr>
          <a:xfrm>
            <a:off x="1905120" y="1600200"/>
            <a:ext cx="54864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Построить в системе координат графики следующих функций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У=х</a:t>
            </a:r>
            <a:r>
              <a:rPr b="0" lang="en-US" sz="28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,      у=х</a:t>
            </a:r>
            <a:r>
              <a:rPr b="0" lang="en-US" sz="28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-5,    у=х</a:t>
            </a:r>
            <a:r>
              <a:rPr b="0" lang="en-US" sz="28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+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4" name="" descr=""/>
          <p:cNvPicPr/>
          <p:nvPr/>
        </p:nvPicPr>
        <p:blipFill>
          <a:blip r:embed="rId1"/>
          <a:stretch/>
        </p:blipFill>
        <p:spPr>
          <a:xfrm>
            <a:off x="1447920" y="304920"/>
            <a:ext cx="6705360" cy="5486400"/>
          </a:xfrm>
          <a:prstGeom prst="rect">
            <a:avLst/>
          </a:prstGeom>
          <a:ln w="0">
            <a:noFill/>
          </a:ln>
        </p:spPr>
      </p:pic>
      <p:sp>
        <p:nvSpPr>
          <p:cNvPr id="2885" name=""/>
          <p:cNvSpPr/>
          <p:nvPr/>
        </p:nvSpPr>
        <p:spPr>
          <a:xfrm>
            <a:off x="1012680" y="6392880"/>
            <a:ext cx="184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У=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6" name=""/>
          <p:cNvSpPr/>
          <p:nvPr/>
        </p:nvSpPr>
        <p:spPr>
          <a:xfrm>
            <a:off x="1267200" y="6095880"/>
            <a:ext cx="594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У=х</a:t>
            </a:r>
            <a:r>
              <a:rPr b="0" lang="ru-RU" sz="18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-зелёный, у=х</a:t>
            </a:r>
            <a:r>
              <a:rPr b="0" lang="ru-RU" sz="18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-5-красный, у=х</a:t>
            </a:r>
            <a:r>
              <a:rPr b="0" lang="ru-RU" sz="18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-светло-зелён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6-11-08T16:53:29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