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CFA0-CA16-4CD7-9539-67A4F4F14A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2503-094E-4858-A098-DBE13F7112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BA8F-0507-48BF-9329-26EB61E0B5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A55D-665E-4294-BAE9-E5EF9449C3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1C37-AFFF-4073-8541-26A69D9BCB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523D-D9D5-4728-B335-3221A6A0BB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9B44-A6FD-4819-B9FE-7E808982FA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57EE-8879-4D86-805C-91B265D8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6DE-5965-4BE0-B99F-DF08DF3B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DFE0-0C3E-4BCA-BB97-E3279F63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F4B0-67F6-4577-BD13-A6611F7F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3B88-3B72-4F93-9F8F-2B24EA8E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4E25-DBF4-4689-9E42-D4944C2E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8A0C-3DD9-4481-81EE-80206E17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1801-B45F-4498-BDA5-283E09A8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452F-6638-4950-8DB5-D5AB6E0B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5F5E-B610-4DF8-8CD1-6773E21B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58A8-D7EA-4BE1-BE90-473259F7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9C9-C920-4A36-B17B-B5F4CD28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1F38-CA0B-442B-A369-CBCE336C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3B39-6652-41FB-8C40-F32A5CBB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11FE-5856-4F3F-B914-26754C3B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AB15-EE03-4BEB-BB8E-8902D319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847C-5AE1-45AA-8B0A-5DB3F5D7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FA836-7FD7-4BEB-BEE2-E0CE4339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8F55C-369A-4911-B9CF-1B4B10F2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65F8A-696B-47B1-85F1-4EF9030C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DE7A6-A731-40CC-AF75-8CCD4591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6E6AC-53AB-4ACE-A46B-EAA85C2D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936B-DEAA-400E-B636-CB992FDB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7FBDB-6D90-4D2B-B6BD-3B5E3BF9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83212-4991-4A03-ACE4-C4CB300F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43DB2-E5EC-4638-9663-E2FD95E7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8A50B-18D5-4F23-8E73-25635FAD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7B28A-D3C8-4286-8222-344BCF2F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356D0-DBAB-4AB5-B93F-F05C0BD2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1E24A-FA76-4AE7-8960-1E0C5459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C754-181B-4195-9016-3E096152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4C35-D751-4464-B3D0-ED03E067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42C4-4AB3-489E-95BC-9F1905E5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545-94D9-4671-AFB3-694DBED4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5122-E262-45EC-90D1-36784ACB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8241-2FC4-403A-B3EE-B9253046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C179-3819-4803-BD6E-4A4F4BF761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86E3-0C52-4179-BB1A-1BB7D2514C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9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3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8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098D-E318-4FDF-A584-02D578E99C1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Урок физики в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8 классе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4" name="Picture 4" descr="03-01"/>
          <p:cNvPicPr/>
          <p:nvPr/>
        </p:nvPicPr>
        <p:blipFill>
          <a:blip r:embed="rId1"/>
          <a:stretch/>
        </p:blipFill>
        <p:spPr>
          <a:xfrm>
            <a:off x="1049400" y="4221000"/>
            <a:ext cx="3017880" cy="2264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03-02"/>
          <p:cNvPicPr/>
          <p:nvPr/>
        </p:nvPicPr>
        <p:blipFill>
          <a:blip r:embed="rId2"/>
          <a:stretch/>
        </p:blipFill>
        <p:spPr>
          <a:xfrm>
            <a:off x="5148360" y="3681360"/>
            <a:ext cx="3024000" cy="226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84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Проблема!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4000" y="4797360"/>
            <a:ext cx="8064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зависит сила тяжести от массы те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можно это определ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сканирование0002"/>
          <p:cNvPicPr/>
          <p:nvPr/>
        </p:nvPicPr>
        <p:blipFill>
          <a:blip r:embed="rId1"/>
          <a:stretch/>
        </p:blipFill>
        <p:spPr>
          <a:xfrm>
            <a:off x="1116000" y="981000"/>
            <a:ext cx="6680160" cy="3554640"/>
          </a:xfrm>
          <a:prstGeom prst="rect">
            <a:avLst/>
          </a:prstGeom>
          <a:ln w="0">
            <a:noFill/>
          </a:ln>
        </p:spPr>
      </p:pic>
      <p:pic>
        <p:nvPicPr>
          <p:cNvPr id="211" name="Paul Mauriat - toccata.mp3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68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68" fill="hold"/>
                                        <p:tgtEl>
                                          <p:spTgt spid="2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68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6239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207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Зависимость ускорения свободного падения от широты местности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2421000"/>
            <a:ext cx="5338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верный полю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9,8322 Н/к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ва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9,780 Н/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normal_BS17021"/>
          <p:cNvPicPr/>
          <p:nvPr/>
        </p:nvPicPr>
        <p:blipFill>
          <a:blip r:embed="rId1"/>
          <a:stretch/>
        </p:blipFill>
        <p:spPr>
          <a:xfrm>
            <a:off x="5435640" y="2565360"/>
            <a:ext cx="3279600" cy="327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абота с текстом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Picture 5" descr="056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65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68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68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6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Ответьте на вопро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Каков состав Солнечной системы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Почему планеты удерживаются около Солнца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На каких планетах сила тяжести больше, чем на Земле? Меньше? С чем это связано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429400" cy="537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Сила - физическая величина, которая является причиной изменения скорости движения. Сила -величина, имеющая направление, то есть векторная велич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Обозначение силы - </a:t>
            </a:r>
            <a:r>
              <a:rPr b="1" lang="en-US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F</a:t>
            </a: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Единица силы - ньютон(</a:t>
            </a:r>
            <a:r>
              <a:rPr b="1" lang="en-US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H</a:t>
            </a: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Прибор для измерения силы - динамо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Действие силы на тело зависит от ее модуля, направления и точки при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Некоторые виды сил: сила тяжести, сила упругости, сила т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771640" y="404640"/>
            <a:ext cx="306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592"/>
                </a:solidFill>
                <a:latin typeface="Arial"/>
              </a:rPr>
              <a:t>Паспорт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 13, 16,     Упр. 8 ( 1-3 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силу тяжести действующую на вас на всех планетах солнеч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РЇРІР»РµРЅРёРµ РёРЅРµСЂС†РёРё РІ Р¶РёР·РЅРё.mp4" descr=""/>
          <p:cNvPicPr/>
          <p:nvPr/>
        </p:nvPicPr>
        <p:blipFill>
          <a:blip r:embed="rId1"/>
          <a:stretch/>
        </p:blipFill>
        <p:spPr>
          <a:xfrm>
            <a:off x="436680" y="73080"/>
            <a:ext cx="8312040" cy="6649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Литературная минутк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1" name="Picture 4" descr="e7110eb5b497t"/>
          <p:cNvPicPr/>
          <p:nvPr/>
        </p:nvPicPr>
        <p:blipFill>
          <a:blip r:embed="rId1"/>
          <a:stretch/>
        </p:blipFill>
        <p:spPr>
          <a:xfrm>
            <a:off x="1692360" y="1557360"/>
            <a:ext cx="6264360" cy="5300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03-01"/>
          <p:cNvPicPr/>
          <p:nvPr/>
        </p:nvPicPr>
        <p:blipFill>
          <a:blip r:embed="rId1"/>
          <a:stretch/>
        </p:blipFill>
        <p:spPr>
          <a:xfrm>
            <a:off x="1049400" y="4221000"/>
            <a:ext cx="3017880" cy="2264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03-02"/>
          <p:cNvPicPr/>
          <p:nvPr/>
        </p:nvPicPr>
        <p:blipFill>
          <a:blip r:embed="rId2"/>
          <a:stretch/>
        </p:blipFill>
        <p:spPr>
          <a:xfrm>
            <a:off x="5292720" y="425592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03-06"/>
          <p:cNvPicPr/>
          <p:nvPr/>
        </p:nvPicPr>
        <p:blipFill>
          <a:blip r:embed="rId3"/>
          <a:stretch/>
        </p:blipFill>
        <p:spPr>
          <a:xfrm>
            <a:off x="250920" y="260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03-08"/>
          <p:cNvPicPr/>
          <p:nvPr/>
        </p:nvPicPr>
        <p:blipFill>
          <a:blip r:embed="rId4"/>
          <a:stretch/>
        </p:blipFill>
        <p:spPr>
          <a:xfrm>
            <a:off x="5435640" y="333360"/>
            <a:ext cx="3089160" cy="231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640" y="16203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ила. Единицы силы. Сила тяжести. Сила тяжести на других планетах.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1116000" y="90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Четыре признака действия на тело силы: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684360" y="2205000"/>
            <a:ext cx="4679640" cy="39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зменение скор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зменение направления движения те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зменение формы те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зменение размеров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>
            <a:lum contrast="36000"/>
          </a:blip>
          <a:srcRect l="0" t="0" r="0" b="46184"/>
          <a:stretch/>
        </p:blipFill>
        <p:spPr>
          <a:xfrm>
            <a:off x="7164360" y="1916280"/>
            <a:ext cx="1800360" cy="1509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2">
            <a:lum contrast="36000"/>
          </a:blip>
          <a:srcRect l="0" t="61510" r="0" b="54"/>
          <a:stretch/>
        </p:blipFill>
        <p:spPr>
          <a:xfrm>
            <a:off x="7164360" y="4508640"/>
            <a:ext cx="1730520" cy="1436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2890_3"/>
          <p:cNvPicPr/>
          <p:nvPr/>
        </p:nvPicPr>
        <p:blipFill>
          <a:blip r:embed="rId1"/>
          <a:stretch/>
        </p:blipFill>
        <p:spPr>
          <a:xfrm>
            <a:off x="1550880" y="0"/>
            <a:ext cx="56419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4" name="7_75.avi" descr=""/>
          <p:cNvPicPr/>
          <p:nvPr/>
        </p:nvPicPr>
        <p:blipFill>
          <a:blip r:embed="rId1"/>
          <a:stretch/>
        </p:blipFill>
        <p:spPr>
          <a:xfrm>
            <a:off x="395280" y="0"/>
            <a:ext cx="8364600" cy="684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Легенда о Ньютоне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Picture 6" descr="2890_2"/>
          <p:cNvPicPr/>
          <p:nvPr/>
        </p:nvPicPr>
        <p:blipFill>
          <a:blip r:embed="rId1"/>
          <a:stretch/>
        </p:blipFill>
        <p:spPr>
          <a:xfrm>
            <a:off x="250920" y="1773360"/>
            <a:ext cx="5040360" cy="4319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4356000" y="1700280"/>
            <a:ext cx="446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Когда однажды, в думу пог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Увидел Ньютон яблока пад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Он вывел притяжения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Из этого простого наблюде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3T22:49:20Z</dcterms:created>
  <dc:creator>ААА</dc:creator>
  <dc:description/>
  <dc:language>en-US</dc:language>
  <cp:lastModifiedBy>ААА</cp:lastModifiedBy>
  <dcterms:modified xsi:type="dcterms:W3CDTF">1980-01-03T23:13:26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b000000000001024140</vt:lpwstr>
  </property>
</Properties>
</file>