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84F7-2273-4086-B3E4-ABD2C64D0E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57A8-BFF6-416F-BCA6-9975E1909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9725-8D17-4E69-A0F6-AB582BCE4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7E94-333E-42F8-8C83-EE18A7CF8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457D-BFDA-45AA-9C76-00A72DBF2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0A10-C7B9-408B-A0EB-9B47DCAD5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A38B-9296-4EA6-BC35-BA718C1DE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F8E-701B-4457-AD01-9F676FC1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76C-D9C0-4C0E-8478-B26E341D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692-35FE-48D6-966E-C6E4272E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493-FB66-4D76-B284-11DC9B6E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C428-E079-48E7-97E0-D52B2191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7019-E7CE-41D4-A242-94D74B5A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01C0-B01D-4207-AAD2-4B9F9F65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6C67-5098-4BE8-B3B8-32FA065D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1680-0B80-422D-879A-4BE26E53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CF9D-51E6-47A3-8A19-80EA3DB6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EF0D-B77A-40BD-9A60-FB52428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1F9-D5D5-4DFF-AD0B-56BB05A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5658-B2DE-4AED-943F-F7A43D57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D2AA-87B0-4215-AE3D-4C68392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97B3-EA2B-4D42-94F8-05C2AB1C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D263-E730-4C74-9C15-84F9286D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7B98-984C-4391-B120-93729942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D3D85-C339-419B-AFB5-E9770358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EC47-D6C0-4728-9821-65010349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61DF-EA74-4FF9-A6CC-0250F304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FEE6-1567-431E-82EA-0EF7857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1508-E77E-4712-82CC-264024A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B23-16C2-4F1D-AA72-A3EC33EB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D49C0-0EB2-4EAF-8001-2E6A5049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68A1-A09F-4BF1-B7F8-BF626E21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AFD49-F719-44CD-9D57-2CFD91C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3574-C572-4C53-B737-DD6C3FE7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04DC2-7A0E-4C75-8168-8228F303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99BD-439C-442F-88B0-7E24DD43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7E5D-752B-47EA-A89D-4FE047B1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1FC-8B4B-47D1-A4B4-6A060DC3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CD2-BEC7-45AF-B1E3-3E739BFA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BC8-0EE4-49D9-9992-ECB4E1E8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364-8BF7-4758-BFDB-F3DD830F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57B-1DD5-4018-9404-33BBB71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0DE-05FB-4322-A1D9-C895E33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84A9-5452-4379-8648-83FD3EFECE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D17D-5CBC-4752-81F5-215F8672B7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41F6-2F90-459D-893D-861607183DA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Урок физики в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8 классе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4" name="Picture 4" descr="03-01"/>
          <p:cNvPicPr/>
          <p:nvPr/>
        </p:nvPicPr>
        <p:blipFill>
          <a:blip r:embed="rId1"/>
          <a:stretch/>
        </p:blipFill>
        <p:spPr>
          <a:xfrm>
            <a:off x="1049400" y="422100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03-02"/>
          <p:cNvPicPr/>
          <p:nvPr/>
        </p:nvPicPr>
        <p:blipFill>
          <a:blip r:embed="rId2"/>
          <a:stretch/>
        </p:blipFill>
        <p:spPr>
          <a:xfrm>
            <a:off x="5148360" y="368136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Проблема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000" y="4797360"/>
            <a:ext cx="8064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зависит сила тяжести от массы т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можно это определ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1116000" y="981000"/>
            <a:ext cx="6680160" cy="3554640"/>
          </a:xfrm>
          <a:prstGeom prst="rect">
            <a:avLst/>
          </a:prstGeom>
          <a:ln w="0">
            <a:noFill/>
          </a:ln>
        </p:spPr>
      </p:pic>
      <p:pic>
        <p:nvPicPr>
          <p:cNvPr id="211" name="Paul Mauriat - toccata.mp3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68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68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6239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Зависимость ускорения свободного падения от широты местности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533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верный полю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9,8322 Н/к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ва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9,780 Н/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normal_BS17021"/>
          <p:cNvPicPr/>
          <p:nvPr/>
        </p:nvPicPr>
        <p:blipFill>
          <a:blip r:embed="rId1"/>
          <a:stretch/>
        </p:blipFill>
        <p:spPr>
          <a:xfrm>
            <a:off x="5435640" y="2565360"/>
            <a:ext cx="3279600" cy="327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абота с тексто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Picture 5" descr="056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Ответьте на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Каков состав Солнечной систем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очему планеты удерживаются около Солнца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На каких планетах сила тяжести больше, чем на Земле? Меньше? С чем это связано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29400" cy="537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Сила - физическая величина, которая является причиной изменения скорости движения. Сила -величина, имеющая направление, то есть векторная вели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Обозначение силы - </a:t>
            </a:r>
            <a:r>
              <a:rPr b="1" lang="en-US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F</a:t>
            </a: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Единица силы - ньютон(</a:t>
            </a:r>
            <a:r>
              <a:rPr b="1" lang="en-US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H</a:t>
            </a: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Прибор для измерения силы - динамо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Действие силы на тело зависит от ее модуля, направления и точки при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592"/>
                </a:solidFill>
                <a:latin typeface="Courier New"/>
                <a:ea typeface="Courier New"/>
              </a:rPr>
              <a:t>Некоторые виды сил: сила тяжести, сила упругости, сила т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771640" y="404640"/>
            <a:ext cx="306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592"/>
                </a:solidFill>
                <a:latin typeface="Arial"/>
              </a:rPr>
              <a:t>Паспорт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13, 16,     Упр. 8 ( 1-3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силу тяжести действующую на вас на всех планетах солнеч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РЇРІР»РµРЅРёРµ РёРЅРµСЂС†РёРё РІ Р¶РёР·РЅРё.mp4" descr=""/>
          <p:cNvPicPr/>
          <p:nvPr/>
        </p:nvPicPr>
        <p:blipFill>
          <a:blip r:embed="rId1"/>
          <a:stretch/>
        </p:blipFill>
        <p:spPr>
          <a:xfrm>
            <a:off x="436680" y="73080"/>
            <a:ext cx="8312040" cy="664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Литературная минут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4" descr="e7110eb5b497t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530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03-01"/>
          <p:cNvPicPr/>
          <p:nvPr/>
        </p:nvPicPr>
        <p:blipFill>
          <a:blip r:embed="rId1"/>
          <a:stretch/>
        </p:blipFill>
        <p:spPr>
          <a:xfrm>
            <a:off x="1049400" y="4221000"/>
            <a:ext cx="3017880" cy="226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03-02"/>
          <p:cNvPicPr/>
          <p:nvPr/>
        </p:nvPicPr>
        <p:blipFill>
          <a:blip r:embed="rId2"/>
          <a:stretch/>
        </p:blipFill>
        <p:spPr>
          <a:xfrm>
            <a:off x="5292720" y="425592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03-06"/>
          <p:cNvPicPr/>
          <p:nvPr/>
        </p:nvPicPr>
        <p:blipFill>
          <a:blip r:embed="rId3"/>
          <a:stretch/>
        </p:blipFill>
        <p:spPr>
          <a:xfrm>
            <a:off x="250920" y="260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03-08"/>
          <p:cNvPicPr/>
          <p:nvPr/>
        </p:nvPicPr>
        <p:blipFill>
          <a:blip r:embed="rId4"/>
          <a:stretch/>
        </p:blipFill>
        <p:spPr>
          <a:xfrm>
            <a:off x="5435640" y="333360"/>
            <a:ext cx="3089160" cy="231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16203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ла. Единицы силы. Сила тяжести. Сила тяжести на других планетах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116000" y="90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етыре признака действия на тело силы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84360" y="2205000"/>
            <a:ext cx="467964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скор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направления движения т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формы те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зменение размеров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>
            <a:lum contrast="36000"/>
          </a:blip>
          <a:srcRect l="0" t="0" r="0" b="46184"/>
          <a:stretch/>
        </p:blipFill>
        <p:spPr>
          <a:xfrm>
            <a:off x="7164360" y="1916280"/>
            <a:ext cx="1800360" cy="1509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2">
            <a:lum contrast="36000"/>
          </a:blip>
          <a:srcRect l="0" t="61510" r="0" b="54"/>
          <a:stretch/>
        </p:blipFill>
        <p:spPr>
          <a:xfrm>
            <a:off x="7164360" y="4508640"/>
            <a:ext cx="1730520" cy="1436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2890_3"/>
          <p:cNvPicPr/>
          <p:nvPr/>
        </p:nvPicPr>
        <p:blipFill>
          <a:blip r:embed="rId1"/>
          <a:stretch/>
        </p:blipFill>
        <p:spPr>
          <a:xfrm>
            <a:off x="1550880" y="0"/>
            <a:ext cx="56419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7_75.avi" descr=""/>
          <p:cNvPicPr/>
          <p:nvPr/>
        </p:nvPicPr>
        <p:blipFill>
          <a:blip r:embed="rId1"/>
          <a:stretch/>
        </p:blipFill>
        <p:spPr>
          <a:xfrm>
            <a:off x="395280" y="0"/>
            <a:ext cx="8364600" cy="684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Легенда о Ньютон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Picture 6" descr="2890_2"/>
          <p:cNvPicPr/>
          <p:nvPr/>
        </p:nvPicPr>
        <p:blipFill>
          <a:blip r:embed="rId1"/>
          <a:stretch/>
        </p:blipFill>
        <p:spPr>
          <a:xfrm>
            <a:off x="250920" y="1773360"/>
            <a:ext cx="5040360" cy="4319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4356000" y="1700280"/>
            <a:ext cx="446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гда однажды, в думу пог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Увидел Ньютон яблока па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н вывел притяжения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Из этого простого наблюд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3T22:49:20Z</dcterms:created>
  <dc:creator>ААА</dc:creator>
  <dc:description/>
  <dc:language>en-US</dc:language>
  <cp:lastModifiedBy>ААА</cp:lastModifiedBy>
  <dcterms:modified xsi:type="dcterms:W3CDTF">1980-01-03T23:13:26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b000000000001024140</vt:lpwstr>
  </property>
</Properties>
</file>