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E9C9-6548-4BF5-8115-7D069BD894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BDF6-0F1E-4CB5-8320-5233B3083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4F6F-A6A4-4A90-9FCD-D7B1FC13F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21D2-587A-4560-9229-CC537DB7C1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80CB-2824-46A6-9F7E-647C2689C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CC00-FB43-46AE-A95A-BC24F22C9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8CC4-A3E9-4AF4-A2E6-0A66DB885A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EA0-0E94-4196-8B9F-7AAE19CD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3D8-C154-456B-8504-FAE1D25A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FEB-8776-4731-8E48-1F34438D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7A3-46EF-4375-957C-65B8112D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5FB3-C8A0-4612-AD84-B33107C0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0C18-A263-4AF3-9208-477A5942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590E-21D5-417C-B6EE-422C6A2B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862F-40FE-409D-8182-AA67B7BF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6C80-C698-4A1F-B94D-B2BEF9EC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0C10-DCD2-44E6-8DF2-2A13BA7C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1433-E8D5-4FB2-99C0-8770DFB1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2DC-63C7-4323-AFE6-9BE6A2A3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2A1A-BA69-40A2-8DB7-B3DED138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9553-DA2D-47DC-B4A8-5F1B6267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CE6C-CC00-420C-8AA5-AD2E9652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252E-C355-40C2-AC84-B5E3D6F8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3888-D804-4903-93CD-FC8D48C5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A0F20-19B7-41B9-A3EE-9BA94804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2BE76-5ACC-4148-A013-D1B058F8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DDE3-90B1-49CB-BD75-E741850E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00EB-73FE-4B84-9B0C-9E7D7D27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DA453-ECAA-46BC-87D6-8398AB7F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D76-76A1-48F8-B0E6-B8C8821F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A22E7-D6CC-4C36-9F87-E343AB71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FA1E-FE1A-4DBC-B3C5-74696AA9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DEB2-015A-4A59-BF2C-2541E523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E160-A946-4A55-B8AA-50073CB0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1F07-9CF3-4B80-9799-1D541986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7FA52-400E-421C-8716-197B9920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B5BC-2466-4576-8663-5AE1C4AE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B3D-F27E-4DE8-B897-0CC90E4E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E31-3FB3-4E28-B524-561C1A3D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EAB-11C9-4609-96A0-879ABA1C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644-2100-4495-A4CA-1DA4C88D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9E0-ABD7-4E3D-997A-A6C6009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266-F312-4529-AAAF-B393D9BB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E854-D044-4F0E-A650-A67686E273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0016-91E8-40A5-8DB5-E83EFF8BDF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D11E-F7C3-4A0D-BF2F-114D11456C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Урок физики 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8 классе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4" name="Picture 4" descr="03-01"/>
          <p:cNvPicPr/>
          <p:nvPr/>
        </p:nvPicPr>
        <p:blipFill>
          <a:blip r:embed="rId1"/>
          <a:stretch/>
        </p:blipFill>
        <p:spPr>
          <a:xfrm>
            <a:off x="1049400" y="422100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03-02"/>
          <p:cNvPicPr/>
          <p:nvPr/>
        </p:nvPicPr>
        <p:blipFill>
          <a:blip r:embed="rId2"/>
          <a:stretch/>
        </p:blipFill>
        <p:spPr>
          <a:xfrm>
            <a:off x="5148360" y="368136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Проблема!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000" y="4797360"/>
            <a:ext cx="8064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зависит сила тяжести от массы т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можно это определ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1116000" y="981000"/>
            <a:ext cx="6680160" cy="3554640"/>
          </a:xfrm>
          <a:prstGeom prst="rect">
            <a:avLst/>
          </a:prstGeom>
          <a:ln w="0">
            <a:noFill/>
          </a:ln>
        </p:spPr>
      </p:pic>
      <p:pic>
        <p:nvPicPr>
          <p:cNvPr id="211" name="Paul Mauriat - toccata.mp3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68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68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6239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Зависимость ускорения свободного падения от широты местности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533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ерный полю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9,8322 Н/к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ва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9,780 Н/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normal_BS17021"/>
          <p:cNvPicPr/>
          <p:nvPr/>
        </p:nvPicPr>
        <p:blipFill>
          <a:blip r:embed="rId1"/>
          <a:stretch/>
        </p:blipFill>
        <p:spPr>
          <a:xfrm>
            <a:off x="5435640" y="2565360"/>
            <a:ext cx="3279600" cy="327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абота с тексто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Picture 5" descr="056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6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Ответьте на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аков состав Солнечной систем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очему планеты удерживаются около Солнц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а каких планетах сила тяжести больше, чем на Земле? Меньше? С чем это связано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29400" cy="537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Сила - физическая величина, которая является причиной изменения скорости движения. Сила -величина, имеющая направление, то есть векторная вели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Обозначение силы - </a:t>
            </a:r>
            <a:r>
              <a:rPr b="1" lang="en-US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F</a:t>
            </a: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Единица силы - ньютон(</a:t>
            </a:r>
            <a:r>
              <a:rPr b="1" lang="en-US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H</a:t>
            </a: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Прибор для измерения силы - динамо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Действие силы на тело зависит от ее модуля, направления и точки 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Некоторые виды сил: сила тяжести, сила упругости, сила т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771640" y="404640"/>
            <a:ext cx="306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592"/>
                </a:solidFill>
                <a:latin typeface="Arial"/>
              </a:rPr>
              <a:t>Паспорт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13, 16,     Упр. 8 ( 1-3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силу тяжести действующую на вас на всех планетах солнеч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РЇРІР»РµРЅРёРµ РёРЅРµСЂС†РёРё РІ Р¶РёР·РЅРё.mp4" descr=""/>
          <p:cNvPicPr/>
          <p:nvPr/>
        </p:nvPicPr>
        <p:blipFill>
          <a:blip r:embed="rId1"/>
          <a:stretch/>
        </p:blipFill>
        <p:spPr>
          <a:xfrm>
            <a:off x="436680" y="73080"/>
            <a:ext cx="8312040" cy="664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Литературная минутк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Picture 4" descr="e7110eb5b497t"/>
          <p:cNvPicPr/>
          <p:nvPr/>
        </p:nvPicPr>
        <p:blipFill>
          <a:blip r:embed="rId1"/>
          <a:stretch/>
        </p:blipFill>
        <p:spPr>
          <a:xfrm>
            <a:off x="1692360" y="1557360"/>
            <a:ext cx="6264360" cy="5300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03-01"/>
          <p:cNvPicPr/>
          <p:nvPr/>
        </p:nvPicPr>
        <p:blipFill>
          <a:blip r:embed="rId1"/>
          <a:stretch/>
        </p:blipFill>
        <p:spPr>
          <a:xfrm>
            <a:off x="1049400" y="422100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03-02"/>
          <p:cNvPicPr/>
          <p:nvPr/>
        </p:nvPicPr>
        <p:blipFill>
          <a:blip r:embed="rId2"/>
          <a:stretch/>
        </p:blipFill>
        <p:spPr>
          <a:xfrm>
            <a:off x="5292720" y="425592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03-06"/>
          <p:cNvPicPr/>
          <p:nvPr/>
        </p:nvPicPr>
        <p:blipFill>
          <a:blip r:embed="rId3"/>
          <a:stretch/>
        </p:blipFill>
        <p:spPr>
          <a:xfrm>
            <a:off x="250920" y="260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03-08"/>
          <p:cNvPicPr/>
          <p:nvPr/>
        </p:nvPicPr>
        <p:blipFill>
          <a:blip r:embed="rId4"/>
          <a:stretch/>
        </p:blipFill>
        <p:spPr>
          <a:xfrm>
            <a:off x="5435640" y="333360"/>
            <a:ext cx="3089160" cy="231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640" y="16203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ила. Единицы силы. Сила тяжести. Сила тяжести на других планетах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1116000" y="90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етыре признака действия на тело силы: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84360" y="2205000"/>
            <a:ext cx="467964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скор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направления движения те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формы те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размеров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>
            <a:lum contrast="36000"/>
          </a:blip>
          <a:srcRect l="0" t="0" r="0" b="46184"/>
          <a:stretch/>
        </p:blipFill>
        <p:spPr>
          <a:xfrm>
            <a:off x="7164360" y="1916280"/>
            <a:ext cx="1800360" cy="150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2">
            <a:lum contrast="36000"/>
          </a:blip>
          <a:srcRect l="0" t="61510" r="0" b="54"/>
          <a:stretch/>
        </p:blipFill>
        <p:spPr>
          <a:xfrm>
            <a:off x="7164360" y="4508640"/>
            <a:ext cx="1730520" cy="1436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2890_3"/>
          <p:cNvPicPr/>
          <p:nvPr/>
        </p:nvPicPr>
        <p:blipFill>
          <a:blip r:embed="rId1"/>
          <a:stretch/>
        </p:blipFill>
        <p:spPr>
          <a:xfrm>
            <a:off x="1550880" y="0"/>
            <a:ext cx="5641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7_75.avi" descr=""/>
          <p:cNvPicPr/>
          <p:nvPr/>
        </p:nvPicPr>
        <p:blipFill>
          <a:blip r:embed="rId1"/>
          <a:stretch/>
        </p:blipFill>
        <p:spPr>
          <a:xfrm>
            <a:off x="395280" y="0"/>
            <a:ext cx="8364600" cy="684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Легенда о Ньютон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Picture 6" descr="2890_2"/>
          <p:cNvPicPr/>
          <p:nvPr/>
        </p:nvPicPr>
        <p:blipFill>
          <a:blip r:embed="rId1"/>
          <a:stretch/>
        </p:blipFill>
        <p:spPr>
          <a:xfrm>
            <a:off x="250920" y="1773360"/>
            <a:ext cx="5040360" cy="4319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4356000" y="1700280"/>
            <a:ext cx="446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гда однажды, в думу пог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Увидел Ньютон яблока па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н вывел притяжения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Из этого простого наблюд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3T22:49:20Z</dcterms:created>
  <dc:creator>ААА</dc:creator>
  <dc:description/>
  <dc:language>en-US</dc:language>
  <cp:lastModifiedBy>ААА</cp:lastModifiedBy>
  <dcterms:modified xsi:type="dcterms:W3CDTF">1980-01-03T23:13:26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b000000000001024140</vt:lpwstr>
  </property>
</Properties>
</file>