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E80-B604-495C-9294-CD14E6A7A2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99E-30FF-47F2-99BF-32264126F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208F-FB59-4E41-A542-3279EA6C5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7BE-C970-4301-9CC9-AAD34C1F2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C71-8386-43A1-A386-EB8317FA3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EC9-53CD-4769-980F-D8A0D4E0C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2C11-C074-4C0F-8A3B-630153FC1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327-2AF1-47CC-A013-E440C6F3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E36-8469-4CE1-BCC5-5561922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10F-28DC-4870-9B8F-D3F9AA19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8A8-8DA8-4D4C-A616-1746ED0B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81FE-D2AE-4C9E-9622-BCF4FBE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393A-5DF5-4F5F-8C45-0A0FBA3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E60-B68A-4265-82BA-8A66BED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9654-99DF-4744-9791-83A5B89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AFB-0D1C-47DC-9612-33DB1006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2FD-4239-4EC6-96F1-6858C0DC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BAB-0F1F-4A4C-BB5A-389DF60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F28-6C32-4163-A191-AFD637F5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8655-1BEF-4CE3-8576-7C73C47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1E90-7512-48E2-A86D-E75BAEB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CE2-1ABA-45E5-BD4D-54CB1406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4040-CB18-4AFE-9D15-123880D0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40C-A589-4F18-B0F2-068A3C15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D634-107B-4C3F-B428-AEDB6F70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EFD1-CDC3-48D2-A517-C951B802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4BEC-30E8-4DE0-B7BC-2EAC854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3C12-B7BF-40FE-B31D-05ED68F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4647-688A-4F12-8C60-5C58404B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20D-F185-4CAF-9CEF-9B95875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688A-6271-49C5-876D-63E375F6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F8A0-A247-4710-8D60-EE92313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77CF-B82E-4691-B0B3-5424B64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6A8F-7760-4FA5-A400-B24B1AD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09FD-8B20-4DD7-BFC1-472292D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7C17-602A-4D08-AC95-39EE84E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1BFA-0B04-48E1-AF98-C1800561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C99-D0B8-415C-BB52-56A54394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BBE-F55D-4FA0-89AC-8174FF4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B3A-5395-4237-A57A-C9E3037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136-DFAA-440E-97A9-56A087C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E32-8498-4189-8CA5-47DBCEB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0E6-DA94-4F3F-9CED-9A898D1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772-69C9-425E-9787-A8B88F81D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892-71E9-4670-9025-5BD023E7A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4C3-ED72-4755-8B3A-7C15F1074E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Урок физики 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8 классе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4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3-02"/>
          <p:cNvPicPr/>
          <p:nvPr/>
        </p:nvPicPr>
        <p:blipFill>
          <a:blip r:embed="rId2"/>
          <a:stretch/>
        </p:blipFill>
        <p:spPr>
          <a:xfrm>
            <a:off x="5148360" y="368136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Проблема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зависит сила тяжести от массы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ожно это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1116000" y="981000"/>
            <a:ext cx="6680160" cy="3554640"/>
          </a:xfrm>
          <a:prstGeom prst="rect">
            <a:avLst/>
          </a:prstGeom>
          <a:ln w="0">
            <a:noFill/>
          </a:ln>
        </p:spPr>
      </p:pic>
      <p:pic>
        <p:nvPicPr>
          <p:cNvPr id="211" name="Paul Mauriat - toccata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39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Зависимость ускорения свободного падения от широты местности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533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й полю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8322 Н/к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780 Н/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normal_BS17021"/>
          <p:cNvPicPr/>
          <p:nvPr/>
        </p:nvPicPr>
        <p:blipFill>
          <a:blip r:embed="rId1"/>
          <a:stretch/>
        </p:blipFill>
        <p:spPr>
          <a:xfrm>
            <a:off x="5435640" y="2565360"/>
            <a:ext cx="3279600" cy="32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абота с текст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056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Ответьте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ков состав Солнечной систем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чему планеты удерживаются около Солнц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аких планетах сила тяжести больше, чем на Земле? Меньше? С чем это связа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29400" cy="53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Сила - физическая величина, которая является причиной изменения скорости движения. Сила -величина, имеющая направление, то есть векторная 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Обозначение силы - 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F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Единица силы - ньютон(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Прибор для измерения силы - дина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Действие силы на тело зависит от ее модуля, направления и точк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Некоторые виды сил: сила тяжести, сила упругости, сила т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771640" y="404640"/>
            <a:ext cx="306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92"/>
                </a:solidFill>
                <a:latin typeface="Arial"/>
              </a:rPr>
              <a:t>Паспор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13, 16,     Упр. 8 ( 1-3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илу тяжести действующую на вас на всех планетах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РЇРІР»РµРЅРёРµ РёРЅРµСЂС†РёРё РІ Р¶РёР·РЅРё.mp4" descr=""/>
          <p:cNvPicPr/>
          <p:nvPr/>
        </p:nvPicPr>
        <p:blipFill>
          <a:blip r:embed="rId1"/>
          <a:stretch/>
        </p:blipFill>
        <p:spPr>
          <a:xfrm>
            <a:off x="436680" y="73080"/>
            <a:ext cx="8312040" cy="664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итературная 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4" descr="e7110eb5b497t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03-02"/>
          <p:cNvPicPr/>
          <p:nvPr/>
        </p:nvPicPr>
        <p:blipFill>
          <a:blip r:embed="rId2"/>
          <a:stretch/>
        </p:blipFill>
        <p:spPr>
          <a:xfrm>
            <a:off x="5292720" y="42559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03-06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03-08"/>
          <p:cNvPicPr/>
          <p:nvPr/>
        </p:nvPicPr>
        <p:blipFill>
          <a:blip r:embed="rId4"/>
          <a:stretch/>
        </p:blipFill>
        <p:spPr>
          <a:xfrm>
            <a:off x="5435640" y="33336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620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ла. Единицы силы. Сила тяжести. Сила тяжести на других планетах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116000" y="90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етыре признака действия на тело силы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2205000"/>
            <a:ext cx="467964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скор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направления движения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формы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размеров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>
            <a:lum contrast="36000"/>
          </a:blip>
          <a:srcRect l="0" t="0" r="0" b="46184"/>
          <a:stretch/>
        </p:blipFill>
        <p:spPr>
          <a:xfrm>
            <a:off x="7164360" y="1916280"/>
            <a:ext cx="180036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>
            <a:lum contrast="36000"/>
          </a:blip>
          <a:srcRect l="0" t="61510" r="0" b="54"/>
          <a:stretch/>
        </p:blipFill>
        <p:spPr>
          <a:xfrm>
            <a:off x="7164360" y="4508640"/>
            <a:ext cx="1730520" cy="143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2890_3"/>
          <p:cNvPicPr/>
          <p:nvPr/>
        </p:nvPicPr>
        <p:blipFill>
          <a:blip r:embed="rId1"/>
          <a:stretch/>
        </p:blipFill>
        <p:spPr>
          <a:xfrm>
            <a:off x="155088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7_75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64600" cy="68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егенда о Ньютон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6" descr="2890_2"/>
          <p:cNvPicPr/>
          <p:nvPr/>
        </p:nvPicPr>
        <p:blipFill>
          <a:blip r:embed="rId1"/>
          <a:stretch/>
        </p:blipFill>
        <p:spPr>
          <a:xfrm>
            <a:off x="250920" y="177336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4356000" y="170028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гда однажды, в думу пог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видел Ньютон яблока па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н вывел притяжения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з этого простого наблюд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2:49:20Z</dcterms:created>
  <dc:creator>ААА</dc:creator>
  <dc:description/>
  <dc:language>en-US</dc:language>
  <cp:lastModifiedBy>ААА</cp:lastModifiedBy>
  <dcterms:modified xsi:type="dcterms:W3CDTF">1980-01-03T23:13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