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jpeg" ContentType="image/jpeg"/>
  <Override PartName="/ppt/media/image6.wmf" ContentType="image/x-wmf"/>
  <Override PartName="/ppt/media/image17.gif" ContentType="image/gif"/>
  <Override PartName="/ppt/media/image2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C4F-FBAF-46E2-8805-5C2BE50C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7E3-D85E-459D-BD26-18BBE579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71D-106B-4B59-A859-0C1B993C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326-37CD-4E18-AFF9-DC213DC3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D81B-09FD-4AC0-91B2-46B82D6B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F1EF-C15D-4E02-81EC-B31869A7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7297-0AAA-4B98-8CAE-ADCE8D4A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E1DC-4210-4DCE-A2B3-E47087A7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B32D-5DDA-4E87-A272-2434458B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4C42-A9C4-4CEA-87EC-80685379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DC54-904F-4592-BA64-7B95C24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14F-03EF-43AB-BCF1-584DE28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8625-91AC-42C4-A52C-623420B1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3B81-82FD-4530-A0EC-FAFF7E23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6A34-151B-41A9-924D-8E9A82B9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BBF4-FA26-45E6-B0ED-4C92AB94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66C0-8108-45A9-B0CF-335CDA70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B97E-1E2D-4A59-BA32-CD9A3F99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D223-DCF1-4186-B7AC-E0424966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3994-5DA6-4EBB-AA4E-5EC66412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A774-6166-460D-95E1-EB61CA1C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BF3D-B530-41D9-9229-9344F1D7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100-62C4-4C7F-B451-580D72F9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76FC-5B98-4D47-AAE6-29F13D49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E952-4DA9-471E-94A7-3B0BF15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783B7-2BBF-42F9-AB5B-4FC85D62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F138-1249-4F63-834E-C8D7AECA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3041-10A7-4BA8-8ABE-CB4C935A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2716-2E95-4D97-A586-0FBC61C7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8546-374D-4CF5-84C1-06C460D8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0DFF-ED9F-4272-8941-7297E096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589E-820B-450B-A364-FB6C6C6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F87E-7A81-4AA2-A274-29ECA032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BE0-B4A3-4CFC-8F5C-357B3ECA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2D2B-052E-4E84-B43C-DCC69AEE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92B0C-C7E8-47D6-93A8-D6BD056E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496C-7E3A-4357-B5F0-C9000984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770C9-6BA3-4572-BDF0-77840B12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B2EF-ABAC-4EBF-A4C9-85A0AA4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B222-68F3-4E86-A751-2FFD2967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E38E-5807-433E-8A71-4EB16D1F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152E-A730-4208-B46C-C9763503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EC8F-7D6E-46C1-82AE-E8EAA2CB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819-BEAD-4A8A-95A2-841D5EA7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4CB-096E-4C3D-8F8F-D91BE3DF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3BF-87CB-4E93-9447-F94CF431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0CA-BC96-4F3D-A0D5-EB16E78A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2EE-CE3C-4D4F-9794-FEB784D1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D379-6945-4414-BDD2-EB7DE2B49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B06-0641-4380-998E-5059C67D3C9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B05A-E002-48A7-870E-C4810C9A710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F01B-94FC-46DF-871C-8DC1250F124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 трения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это</a:t>
            </a:r>
            <a:r>
              <a:rPr b="1" i="1" lang="en-US" sz="4000" spc="-1" strike="noStrike">
                <a:solidFill>
                  <a:srgbClr val="99ff66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возникающ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в плоскости касания те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при их относительном перемещен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2881080" cy="2322360"/>
          </a:xfrm>
          <a:prstGeom prst="rect">
            <a:avLst/>
          </a:prstGeom>
          <a:ln w="0">
            <a:noFill/>
          </a:ln>
        </p:spPr>
      </p:pic>
      <p:sp>
        <p:nvSpPr>
          <p:cNvPr id="242" name="WordArt 7"/>
          <p:cNvSpPr txBox="1"/>
          <p:nvPr/>
        </p:nvSpPr>
        <p:spPr>
          <a:xfrm>
            <a:off x="971640" y="404640"/>
            <a:ext cx="712944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Примеры силы тр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2556000" y="1197000"/>
            <a:ext cx="40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скольж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244" name="Picture 9" descr="j0283043"/>
          <p:cNvPicPr/>
          <p:nvPr/>
        </p:nvPicPr>
        <p:blipFill>
          <a:blip r:embed="rId2"/>
          <a:stretch/>
        </p:blipFill>
        <p:spPr>
          <a:xfrm>
            <a:off x="5364000" y="1916280"/>
            <a:ext cx="3240360" cy="30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kniga_ka"/>
          <p:cNvPicPr/>
          <p:nvPr/>
        </p:nvPicPr>
        <p:blipFill>
          <a:blip r:embed="rId3"/>
          <a:stretch/>
        </p:blipFill>
        <p:spPr>
          <a:xfrm>
            <a:off x="2771640" y="4292640"/>
            <a:ext cx="24955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0"/>
          <p:cNvSpPr txBox="1"/>
          <p:nvPr/>
        </p:nvSpPr>
        <p:spPr>
          <a:xfrm>
            <a:off x="1403280" y="620640"/>
            <a:ext cx="64105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69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Свойства силы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1628640"/>
            <a:ext cx="72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5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трения скольжения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248" name="Picture 58" descr="BD14980_"/>
          <p:cNvPicPr/>
          <p:nvPr/>
        </p:nvPicPr>
        <p:blipFill>
          <a:blip r:embed="rId1"/>
          <a:stretch/>
        </p:blipFill>
        <p:spPr>
          <a:xfrm>
            <a:off x="395280" y="27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9" descr="BD14980_"/>
          <p:cNvPicPr/>
          <p:nvPr/>
        </p:nvPicPr>
        <p:blipFill>
          <a:blip r:embed="rId2"/>
          <a:stretch/>
        </p:blipFill>
        <p:spPr>
          <a:xfrm>
            <a:off x="39528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0" descr="BD14980_"/>
          <p:cNvPicPr/>
          <p:nvPr/>
        </p:nvPicPr>
        <p:blipFill>
          <a:blip r:embed="rId3"/>
          <a:stretch/>
        </p:blipFill>
        <p:spPr>
          <a:xfrm>
            <a:off x="395280" y="4869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аправлена против скорости;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16000" y="3573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е зависит от величины скорос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6"/>
          <p:cNvSpPr/>
          <p:nvPr/>
        </p:nvSpPr>
        <p:spPr>
          <a:xfrm>
            <a:off x="900000" y="4869000"/>
            <a:ext cx="7272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Пропорциональна величине силы </a:t>
            </a:r>
            <a:r>
              <a:rPr b="0" i="1" lang="en-US" sz="3600" spc="-1" strike="noStrike">
                <a:solidFill>
                  <a:srgbClr val="9966ff"/>
                </a:solidFill>
                <a:latin typeface="Poor Richard"/>
              </a:rPr>
              <a:t>N</a:t>
            </a: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,    прижимающей по нормали одно тело к поверхности друг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реде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рение кач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мент си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озникающий при качении одного из двух, контактирущих тел, относительно другого и противодействующий вращению движущегося те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ИС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а действия - электро-магнит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авление силы противоположно направлению вектора относительной скорости дви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а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полняется приближенно, т.к. сила трения зависит от скор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еревозки тяжелых блоков (брёвен, стволов деревьев) можно применять к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ашинах стремятся заменить трение скольжения трением качения, применяя так называемые шариковые или роликовые подшип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дъема тяжелых предметов на высоту используют бл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а используется в механических час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ой для увеличения сцепления колес с почвой надевают специальные ш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асах для увеличения трения колесики делают зубчат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роги выкладывают твердыми нескользкими материалами(асфальт, щеб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12000" y="2491920"/>
            <a:ext cx="3132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Сила т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ения направлена 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противоположно движ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6248520" cy="3504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4343400" y="5257800"/>
            <a:ext cx="987480" cy="520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5257800" y="5638680"/>
            <a:ext cx="649440" cy="15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4724280" y="5423040"/>
            <a:ext cx="1535400" cy="1434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5"/>
          <a:stretch/>
        </p:blipFill>
        <p:spPr>
          <a:xfrm>
            <a:off x="5334120" y="6008760"/>
            <a:ext cx="1233360" cy="849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6"/>
          <a:stretch/>
        </p:blipFill>
        <p:spPr>
          <a:xfrm>
            <a:off x="0" y="5105520"/>
            <a:ext cx="1197000" cy="520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7"/>
          <a:stretch/>
        </p:blipFill>
        <p:spPr>
          <a:xfrm>
            <a:off x="380880" y="5562720"/>
            <a:ext cx="1005120" cy="877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8"/>
          <a:stretch/>
        </p:blipFill>
        <p:spPr>
          <a:xfrm>
            <a:off x="457200" y="5638680"/>
            <a:ext cx="785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Причины возникнов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Шероховатость поверхностей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828800" y="4191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Взаимное притяжен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114300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11430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сил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ла трения бывает трех видов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2651400" cy="1279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2092320" cy="143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0" y="4572000"/>
            <a:ext cx="3308400" cy="14810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1800" y="3733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скольже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584880" y="3733920"/>
            <a:ext cx="27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к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6404760" y="373392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пок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Формула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для нахождения силы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ru-RU" sz="7200" spc="-1" strike="noStrike">
                <a:solidFill>
                  <a:srgbClr val="00ff00"/>
                </a:solidFill>
                <a:latin typeface="Times New Roman"/>
              </a:rPr>
              <a:t>тр = μ</a:t>
            </a: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*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μ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оэффициент тр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-сила реакции оп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9280" y="1676520"/>
            <a:ext cx="86630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а трения покоя - сила, действующая на тел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со стороны соприкасающегося с ним другого тел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доль поверхности соприкосновения те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 тела покоятся относительно друг друг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404640"/>
            <a:ext cx="8663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рения поко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никает только между телами в твёрдом состоя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только от величины давления тел друг на д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рения покоя равна по модулю внешней силе, направленной по касательной к поверхности соприкосновения тел и противоположна ей по направлен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84360" y="40464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войства силы трения поко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5508720" y="1851120"/>
            <a:ext cx="347004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99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е притяжение молеку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прикасающих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31"/>
          <p:cNvSpPr/>
          <p:nvPr/>
        </p:nvSpPr>
        <p:spPr>
          <a:xfrm rot="5400000">
            <a:off x="6753600" y="3623400"/>
            <a:ext cx="1079640" cy="69084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172800 h 690840"/>
              <a:gd name="textAreaBottom" fmla="*/ 5184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cc0066"/>
              </a:gs>
              <a:gs pos="100000">
                <a:srgbClr val="990099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Object 29" descr=""/>
          <p:cNvPicPr/>
          <p:nvPr/>
        </p:nvPicPr>
        <p:blipFill>
          <a:blip r:embed="rId2"/>
          <a:stretch/>
        </p:blipFill>
        <p:spPr>
          <a:xfrm>
            <a:off x="5796000" y="4797360"/>
            <a:ext cx="2984400" cy="1486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3"/>
          <p:cNvSpPr/>
          <p:nvPr/>
        </p:nvSpPr>
        <p:spPr>
          <a:xfrm>
            <a:off x="395280" y="1773360"/>
            <a:ext cx="46083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т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µ |N| - формула нахождения силы трения поко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N – сила нормального давл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µ - коэффициент трения, зависящий от свойств соприкасающихся поверхно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395280" y="333360"/>
            <a:ext cx="8497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а трения пок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900000" y="191628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1476360" y="333360"/>
            <a:ext cx="65530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Сила трения скольжения</a:t>
            </a:r>
            <a:endParaRPr b="0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55640" y="249228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Сила трения скольжения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 сила, возникающая тогда, когда одно тело скользит по поверхности другого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7:08:13Z</dcterms:created>
  <dc:creator>Admin</dc:creator>
  <dc:description/>
  <dc:language>en-US</dc:language>
  <cp:lastModifiedBy>1</cp:lastModifiedBy>
  <dcterms:modified xsi:type="dcterms:W3CDTF">2012-12-05T19:37:42Z</dcterms:modified>
  <cp:revision>13</cp:revision>
  <dc:subject/>
  <dc:title>Презентация по физике  на тему:сила тр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7000000000001024140</vt:lpwstr>
  </property>
</Properties>
</file>