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jpeg" ContentType="image/jpeg"/>
  <Override PartName="/ppt/media/image6.wmf" ContentType="image/x-wmf"/>
  <Override PartName="/ppt/media/image17.gif" ContentType="image/gif"/>
  <Override PartName="/ppt/media/image2.wmf" ContentType="image/x-wmf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E42-38F8-48FD-8AB9-015BAD4C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126-C183-4FE9-8BDA-FE81BFDA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8DD-DFB1-45B4-AF29-DCD8DC4E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A8E-F468-4837-90A9-4DF85B5A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9DB-B86B-4FA6-86C5-1EB6909F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C6D4-7371-40CA-BFD6-9A37D61D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9494-C898-442F-8ABC-7D91B4A6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22C2-FB84-4CA8-BEAE-97816124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8559-D398-4E58-9E55-B2CC3385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694D-D0C0-42DE-9A67-39FF6FE8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4673-4977-4088-9FD5-B15E130E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0B8-74A8-443F-A706-94BBE3DC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03F5-6295-4DA9-9447-0B21A184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230A-CDDF-4793-8611-E65261CB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3F0B-5547-470C-872B-5338674C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438F-F841-4DCF-8206-57ED8F6C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B38B-A49B-4BDB-A078-0DDED3B7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F593-90B4-4959-98AA-EA142A21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370C-C6AD-4FE0-BA52-275E29DB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3296-A789-469B-9137-751C6140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D765-8A7C-43DF-946D-1252C7D4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50F1-2F23-4CBA-8449-1BA1BA95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829-C52A-4AF6-AC08-54467770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D4A78-519B-4F8D-AFD8-61569B75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3F29-283E-439D-9BF7-FC833C35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B247-EB62-438B-845E-723BEFF1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3CC6-8987-46B6-A169-545F055B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FC16-37F7-42EB-A63A-18EF127A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73CE-BD30-45D6-B432-49FD0342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E981-C5DB-4EA2-8A81-DB956FFF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C944-1BAA-42E4-9913-70E5B682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C9A7-C724-49FD-A5EF-6E7302F3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4F55E-2A39-4257-83E9-F2BB749D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D46-E1F4-4D8B-B6F7-418F1CE4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0BAF-38C8-4786-B10C-D6763854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B4F36-46B8-4023-BA10-5629955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7E0CD-FBD3-400D-A670-BD4DC5AC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B5077-14A0-4D74-9DF9-4A48BE59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A08C-0473-42AB-ADDD-E8B6BA27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A8F9-CC01-42B4-B18F-DEBEC83F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C0898-D15F-475E-ADC9-3CBF0E06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B7B65-11A1-4AB3-8BEA-CD35E41D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79308-65FE-4557-90EF-B55B4FC5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1B7-2680-49DD-9555-D8D2927D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FB0-6D77-400F-BE85-5C59A6D2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5AD-98E0-4ABD-9EDC-1AB0E77B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96A-7CA1-4BB8-A88C-38BA061B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F22-141B-4133-ACFB-E5F0F5B4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A455-445E-4398-969E-EDC547563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0B52-43FE-4C46-BE70-1CC1C51DBA8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7D15-2518-4267-B32D-B775280E6E0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D5EC-6A77-40A4-BF29-1F3E6C2C177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ила трения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это</a:t>
            </a:r>
            <a:r>
              <a:rPr b="1" i="1" lang="en-US" sz="4000" spc="-1" strike="noStrike">
                <a:solidFill>
                  <a:srgbClr val="99ff66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возникающ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в плоскости касания те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при их относительном перемещен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1"/>
          <p:cNvPicPr/>
          <p:nvPr/>
        </p:nvPicPr>
        <p:blipFill>
          <a:blip r:embed="rId1"/>
          <a:stretch/>
        </p:blipFill>
        <p:spPr>
          <a:xfrm>
            <a:off x="684360" y="2060640"/>
            <a:ext cx="2881080" cy="2322360"/>
          </a:xfrm>
          <a:prstGeom prst="rect">
            <a:avLst/>
          </a:prstGeom>
          <a:ln w="0">
            <a:noFill/>
          </a:ln>
        </p:spPr>
      </p:pic>
      <p:sp>
        <p:nvSpPr>
          <p:cNvPr id="242" name="WordArt 7"/>
          <p:cNvSpPr txBox="1"/>
          <p:nvPr/>
        </p:nvSpPr>
        <p:spPr>
          <a:xfrm>
            <a:off x="971640" y="404640"/>
            <a:ext cx="712944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Примеры силы трения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2556000" y="1197000"/>
            <a:ext cx="40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скольжения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  <p:pic>
        <p:nvPicPr>
          <p:cNvPr id="244" name="Picture 9" descr="j0283043"/>
          <p:cNvPicPr/>
          <p:nvPr/>
        </p:nvPicPr>
        <p:blipFill>
          <a:blip r:embed="rId2"/>
          <a:stretch/>
        </p:blipFill>
        <p:spPr>
          <a:xfrm>
            <a:off x="5364000" y="1916280"/>
            <a:ext cx="3240360" cy="308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kniga_ka"/>
          <p:cNvPicPr/>
          <p:nvPr/>
        </p:nvPicPr>
        <p:blipFill>
          <a:blip r:embed="rId3"/>
          <a:stretch/>
        </p:blipFill>
        <p:spPr>
          <a:xfrm>
            <a:off x="2771640" y="4292640"/>
            <a:ext cx="24955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0"/>
          <p:cNvSpPr txBox="1"/>
          <p:nvPr/>
        </p:nvSpPr>
        <p:spPr>
          <a:xfrm>
            <a:off x="1403280" y="620640"/>
            <a:ext cx="64105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69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Свойства силы</a:t>
            </a:r>
            <a:endParaRPr b="0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1628640"/>
            <a:ext cx="72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58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трения скольжения</a:t>
            </a:r>
            <a:endParaRPr b="0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248" name="Picture 58" descr="BD14980_"/>
          <p:cNvPicPr/>
          <p:nvPr/>
        </p:nvPicPr>
        <p:blipFill>
          <a:blip r:embed="rId1"/>
          <a:stretch/>
        </p:blipFill>
        <p:spPr>
          <a:xfrm>
            <a:off x="395280" y="27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9" descr="BD14980_"/>
          <p:cNvPicPr/>
          <p:nvPr/>
        </p:nvPicPr>
        <p:blipFill>
          <a:blip r:embed="rId2"/>
          <a:stretch/>
        </p:blipFill>
        <p:spPr>
          <a:xfrm>
            <a:off x="39528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0" descr="BD14980_"/>
          <p:cNvPicPr/>
          <p:nvPr/>
        </p:nvPicPr>
        <p:blipFill>
          <a:blip r:embed="rId3"/>
          <a:stretch/>
        </p:blipFill>
        <p:spPr>
          <a:xfrm>
            <a:off x="395280" y="486900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Направлена против скорости;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16000" y="3573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Не зависит от величины скорост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6"/>
          <p:cNvSpPr/>
          <p:nvPr/>
        </p:nvSpPr>
        <p:spPr>
          <a:xfrm>
            <a:off x="900000" y="4869000"/>
            <a:ext cx="7272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Пропорциональна величине силы </a:t>
            </a:r>
            <a:r>
              <a:rPr b="0" i="1" lang="en-US" sz="3600" spc="-1" strike="noStrike">
                <a:solidFill>
                  <a:srgbClr val="9966ff"/>
                </a:solidFill>
                <a:latin typeface="Poor Richard"/>
              </a:rPr>
              <a:t>N</a:t>
            </a: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,    прижимающей по нормали одно тело к поверхности друго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предел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рение кач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мент си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озникающий при качении одного из двух, контактирущих тел, относительно другого и противодействующий вращению движущегося те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ПИС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а действия - электро-магнит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авление силы противоположно направлению вектора относительной скорости дви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а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ыполняется приближенно, т.к. сила трения зависит от скор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рение качения в техни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еревозки тяжелых блоков (брёвен, стволов деревьев) можно применять к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ашинах стремятся заменить трение скольжения трением качения, применяя так называемые шариковые или роликовые подшип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одъема тяжелых предметов на высоту используют бло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а используется в механических час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рение качения в техни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имой для увеличения сцепления колес с почвой надевают специальные ш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асах для увеличения трения колесики делают зубчат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роги выкладывают твердыми нескользкими материалами(асфальт, щебен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12000" y="2491920"/>
            <a:ext cx="3132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Сила т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р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ения направлена 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противоположно движ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6248520" cy="3504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4343400" y="5257800"/>
            <a:ext cx="987480" cy="520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5257800" y="5638680"/>
            <a:ext cx="649440" cy="15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4724280" y="5423040"/>
            <a:ext cx="1535400" cy="1434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5"/>
          <a:stretch/>
        </p:blipFill>
        <p:spPr>
          <a:xfrm>
            <a:off x="5334120" y="6008760"/>
            <a:ext cx="1233360" cy="849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"/>
          <p:cNvPicPr/>
          <p:nvPr/>
        </p:nvPicPr>
        <p:blipFill>
          <a:blip r:embed="rId6"/>
          <a:stretch/>
        </p:blipFill>
        <p:spPr>
          <a:xfrm>
            <a:off x="0" y="5105520"/>
            <a:ext cx="1197000" cy="520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7"/>
          <a:stretch/>
        </p:blipFill>
        <p:spPr>
          <a:xfrm>
            <a:off x="380880" y="5562720"/>
            <a:ext cx="1005120" cy="877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8"/>
          <a:stretch/>
        </p:blipFill>
        <p:spPr>
          <a:xfrm>
            <a:off x="457200" y="5638680"/>
            <a:ext cx="785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Причины возникнов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Шероховатость поверхностей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828800" y="4191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Взаимное притяжен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114300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11430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сил т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ла трения бывает трех видов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2651400" cy="1279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2092320" cy="1435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0" y="4572000"/>
            <a:ext cx="3308400" cy="14810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1800" y="3733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скольжен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584880" y="3733920"/>
            <a:ext cx="27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к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6404760" y="373392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пок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Формула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для нахождения силы т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ru-RU" sz="7200" spc="-1" strike="noStrike">
                <a:solidFill>
                  <a:srgbClr val="00ff00"/>
                </a:solidFill>
                <a:latin typeface="Times New Roman"/>
              </a:rPr>
              <a:t>тр = μ</a:t>
            </a: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*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μ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оэффициент тр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-сила реакции оп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79280" y="1676520"/>
            <a:ext cx="86630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ла трения покоя - сила, действующая на тел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со стороны соприкасающегося с ним другого тел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доль поверхности соприкосновения те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 тела покоятся относительно друг друг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404640"/>
            <a:ext cx="8663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рения поко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никает только между телами в твёрдом состоя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только от величины давления тел друг на дру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рения покоя равна по модулю внешней силе, направленной по касательной к поверхности соприкосновения тел и противоположна ей по направлен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684360" y="40464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войства силы трения поко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5508720" y="1851120"/>
            <a:ext cx="347004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99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е притяжение молеку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прикасающих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31"/>
          <p:cNvSpPr/>
          <p:nvPr/>
        </p:nvSpPr>
        <p:spPr>
          <a:xfrm rot="5400000">
            <a:off x="6753600" y="3623400"/>
            <a:ext cx="1079640" cy="69084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172800 h 690840"/>
              <a:gd name="textAreaBottom" fmla="*/ 518400 h 690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cc0066"/>
              </a:gs>
              <a:gs pos="100000">
                <a:srgbClr val="990099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Object 29" descr=""/>
          <p:cNvPicPr/>
          <p:nvPr/>
        </p:nvPicPr>
        <p:blipFill>
          <a:blip r:embed="rId2"/>
          <a:stretch/>
        </p:blipFill>
        <p:spPr>
          <a:xfrm>
            <a:off x="5796000" y="4797360"/>
            <a:ext cx="2984400" cy="1486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3"/>
          <p:cNvSpPr/>
          <p:nvPr/>
        </p:nvSpPr>
        <p:spPr>
          <a:xfrm>
            <a:off x="395280" y="1773360"/>
            <a:ext cx="46083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т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µ |N| - формула нахождения силы трения поко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N – сила нормального давл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µ - коэффициент трения, зависящий от свойств соприкасающихся поверхнос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395280" y="333360"/>
            <a:ext cx="8497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а трения пок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900000" y="191628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1476360" y="333360"/>
            <a:ext cx="65530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Сила трения скольжения</a:t>
            </a:r>
            <a:endParaRPr b="0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55640" y="249228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unga"/>
              </a:rPr>
              <a:t>Сила трения скольжения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Tunga"/>
              </a:rPr>
              <a:t> сила, возникающая тогда, когда одно тело скользит по поверхности другого.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7:08:13Z</dcterms:created>
  <dc:creator>Admin</dc:creator>
  <dc:description/>
  <dc:language>en-US</dc:language>
  <cp:lastModifiedBy>1</cp:lastModifiedBy>
  <dcterms:modified xsi:type="dcterms:W3CDTF">2012-12-05T19:37:42Z</dcterms:modified>
  <cp:revision>13</cp:revision>
  <dc:subject/>
  <dc:title>Презентация по физике  на тему:сила тре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7000000000001024140</vt:lpwstr>
  </property>
</Properties>
</file>