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jpeg" ContentType="image/jpeg"/>
  <Override PartName="/ppt/media/image6.wmf" ContentType="image/x-wmf"/>
  <Override PartName="/ppt/media/image17.gif" ContentType="image/gif"/>
  <Override PartName="/ppt/media/image2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86C-741B-409B-9EAC-48125CE5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6DE-255B-4B5E-A45B-D5C37473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793-8E93-41A2-91B9-AC6375DC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617-4F34-484A-BFC5-C132A278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4463-2598-41B1-B07B-9EA20B8B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F97A-4584-49D2-861B-6B2B792D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FC59-0354-498E-BD61-A634621B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A357-D1DE-4F15-B8EA-FC425F2B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ED8B-38CE-4C92-A955-861E46C1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1161-C3EC-4004-A9EB-675922D0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6A75-BD91-4AB7-8BBC-216AD21B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908-9148-46FF-B935-5C625870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E31-3CF1-4C58-A5FB-990F3951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B1F5-2C9A-494D-B805-0159C93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8959-16FB-47B8-8267-039DC8E2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3705-5BAC-4B3E-96F0-0BB7612D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B429-C8AC-4B5E-B1A7-39B0588F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D961-65DD-43BB-9153-CF0F548C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A282-BCCA-479E-8F73-DBB17678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7D885-833C-4C0D-8F31-0F1C16FF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34AF-EC8B-47BC-A4D7-BBA31B10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F7E9-F6D5-42E0-AF13-780FBEAE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511-9212-47D6-A3F6-7D04CBA9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E369-49AF-49CE-A033-1F56E523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7FE9-31E6-457A-89BD-B07CADD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8DB0-477F-4B62-AD9B-7B4129BF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FB5F-BF4F-4035-AF36-E3B33917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545B-C01E-40E8-9C6B-EAD0AF07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1630-0C98-43ED-B609-D2416CCA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D75A-A1FE-4F60-9DA7-71B1346A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30C5-8EB2-45FB-9B53-81EFE578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4E46-B53B-4626-B5D6-61358F89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B602-681B-47A1-B6D0-581C6879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B1D-4717-4EC2-9866-1DC37825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C773-CE78-4AA2-935D-DBD6FD5E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CD93-880D-484F-B3D1-9434C4A5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1D3C-80A6-42A5-854D-39BAF1F0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9DD6-152C-4BC1-8C00-D34B3068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0F6E2-FFB6-43F2-BCEF-A6D8FCE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11CF-36A6-4D60-8FE7-886D9D9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A465D-AFDA-481B-9A6E-F16D126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E1C8-AB81-4042-B31A-7522E733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BC5C-BD4B-4C1B-8255-938E357A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AC2-E12D-4A4C-BCB6-746E8E70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18A-4775-48F2-AB17-DE5E4933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805-327E-451B-9AC0-97A31462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626-D58C-48DB-A678-25DAC292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8E7-68A6-4572-85FE-A2BD2992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95AD-74BF-4C19-8B93-7115C1C83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B2F4-2581-4BC7-B15F-EDE62D57729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9F2E-2F80-408B-9B31-1D1CAFFD783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0952-7CA3-48AE-92AD-53E148F37A6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 трения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это</a:t>
            </a:r>
            <a:r>
              <a:rPr b="1" i="1" lang="en-US" sz="4000" spc="-1" strike="noStrike">
                <a:solidFill>
                  <a:srgbClr val="99ff66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возникающ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в плоскости касания те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при их относительном перемещен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2881080" cy="2322360"/>
          </a:xfrm>
          <a:prstGeom prst="rect">
            <a:avLst/>
          </a:prstGeom>
          <a:ln w="0">
            <a:noFill/>
          </a:ln>
        </p:spPr>
      </p:pic>
      <p:sp>
        <p:nvSpPr>
          <p:cNvPr id="242" name="WordArt 7"/>
          <p:cNvSpPr txBox="1"/>
          <p:nvPr/>
        </p:nvSpPr>
        <p:spPr>
          <a:xfrm>
            <a:off x="971640" y="404640"/>
            <a:ext cx="712944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Примеры силы тр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2556000" y="1197000"/>
            <a:ext cx="40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скольж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244" name="Picture 9" descr="j0283043"/>
          <p:cNvPicPr/>
          <p:nvPr/>
        </p:nvPicPr>
        <p:blipFill>
          <a:blip r:embed="rId2"/>
          <a:stretch/>
        </p:blipFill>
        <p:spPr>
          <a:xfrm>
            <a:off x="5364000" y="1916280"/>
            <a:ext cx="3240360" cy="30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kniga_ka"/>
          <p:cNvPicPr/>
          <p:nvPr/>
        </p:nvPicPr>
        <p:blipFill>
          <a:blip r:embed="rId3"/>
          <a:stretch/>
        </p:blipFill>
        <p:spPr>
          <a:xfrm>
            <a:off x="2771640" y="4292640"/>
            <a:ext cx="24955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0"/>
          <p:cNvSpPr txBox="1"/>
          <p:nvPr/>
        </p:nvSpPr>
        <p:spPr>
          <a:xfrm>
            <a:off x="1403280" y="620640"/>
            <a:ext cx="64105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69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Свойства силы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1628640"/>
            <a:ext cx="72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5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трения скольжения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248" name="Picture 58" descr="BD14980_"/>
          <p:cNvPicPr/>
          <p:nvPr/>
        </p:nvPicPr>
        <p:blipFill>
          <a:blip r:embed="rId1"/>
          <a:stretch/>
        </p:blipFill>
        <p:spPr>
          <a:xfrm>
            <a:off x="395280" y="27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9" descr="BD14980_"/>
          <p:cNvPicPr/>
          <p:nvPr/>
        </p:nvPicPr>
        <p:blipFill>
          <a:blip r:embed="rId2"/>
          <a:stretch/>
        </p:blipFill>
        <p:spPr>
          <a:xfrm>
            <a:off x="39528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0" descr="BD14980_"/>
          <p:cNvPicPr/>
          <p:nvPr/>
        </p:nvPicPr>
        <p:blipFill>
          <a:blip r:embed="rId3"/>
          <a:stretch/>
        </p:blipFill>
        <p:spPr>
          <a:xfrm>
            <a:off x="395280" y="4869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аправлена против скорости;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16000" y="3573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е зависит от величины скорос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6"/>
          <p:cNvSpPr/>
          <p:nvPr/>
        </p:nvSpPr>
        <p:spPr>
          <a:xfrm>
            <a:off x="900000" y="4869000"/>
            <a:ext cx="7272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Пропорциональна величине силы </a:t>
            </a:r>
            <a:r>
              <a:rPr b="0" i="1" lang="en-US" sz="3600" spc="-1" strike="noStrike">
                <a:solidFill>
                  <a:srgbClr val="9966ff"/>
                </a:solidFill>
                <a:latin typeface="Poor Richard"/>
              </a:rPr>
              <a:t>N</a:t>
            </a: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,    прижимающей по нормали одно тело к поверхности друг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реде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рение кач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мент си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озникающий при качении одного из двух, контактирущих тел, относительно другого и противодействующий вращению движущегося те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ИС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а действия - электро-магнит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авление силы противоположно направлению вектора относительной скорости дви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а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полняется приближенно, т.к. сила трения зависит от скор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еревозки тяжелых блоков (брёвен, стволов деревьев) можно применять к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ашинах стремятся заменить трение скольжения трением качения, применяя так называемые шариковые или роликовые подшип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дъема тяжелых предметов на высоту используют бл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а используется в механических час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ой для увеличения сцепления колес с почвой надевают специальные ш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асах для увеличения трения колесики делают зубчат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роги выкладывают твердыми нескользкими материалами(асфальт, щеб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12000" y="2491920"/>
            <a:ext cx="3132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Сила т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ения направлена 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противоположно движ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6248520" cy="3504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4343400" y="5257800"/>
            <a:ext cx="987480" cy="520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5257800" y="5638680"/>
            <a:ext cx="649440" cy="15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4724280" y="5423040"/>
            <a:ext cx="1535400" cy="1434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5"/>
          <a:stretch/>
        </p:blipFill>
        <p:spPr>
          <a:xfrm>
            <a:off x="5334120" y="6008760"/>
            <a:ext cx="1233360" cy="849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6"/>
          <a:stretch/>
        </p:blipFill>
        <p:spPr>
          <a:xfrm>
            <a:off x="0" y="5105520"/>
            <a:ext cx="1197000" cy="520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7"/>
          <a:stretch/>
        </p:blipFill>
        <p:spPr>
          <a:xfrm>
            <a:off x="380880" y="5562720"/>
            <a:ext cx="1005120" cy="877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8"/>
          <a:stretch/>
        </p:blipFill>
        <p:spPr>
          <a:xfrm>
            <a:off x="457200" y="5638680"/>
            <a:ext cx="785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Причины возникнов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Шероховатость поверхностей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828800" y="4191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Взаимное притяжен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114300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11430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сил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ла трения бывает трех видов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2651400" cy="1279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2092320" cy="143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0" y="4572000"/>
            <a:ext cx="3308400" cy="14810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1800" y="3733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скольже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584880" y="3733920"/>
            <a:ext cx="27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к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6404760" y="373392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пок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Формула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для нахождения силы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ru-RU" sz="7200" spc="-1" strike="noStrike">
                <a:solidFill>
                  <a:srgbClr val="00ff00"/>
                </a:solidFill>
                <a:latin typeface="Times New Roman"/>
              </a:rPr>
              <a:t>тр = μ</a:t>
            </a: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*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μ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оэффициент тр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-сила реакции оп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9280" y="1676520"/>
            <a:ext cx="86630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а трения покоя - сила, действующая на тел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со стороны соприкасающегося с ним другого тел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доль поверхности соприкосновения те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 тела покоятся относительно друг друг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404640"/>
            <a:ext cx="8663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рения поко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никает только между телами в твёрдом состоя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только от величины давления тел друг на д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рения покоя равна по модулю внешней силе, направленной по касательной к поверхности соприкосновения тел и противоположна ей по направлен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84360" y="40464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войства силы трения поко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5508720" y="1851120"/>
            <a:ext cx="347004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99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е притяжение молеку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прикасающих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31"/>
          <p:cNvSpPr/>
          <p:nvPr/>
        </p:nvSpPr>
        <p:spPr>
          <a:xfrm rot="5400000">
            <a:off x="6753600" y="3623400"/>
            <a:ext cx="1079640" cy="69084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172800 h 690840"/>
              <a:gd name="textAreaBottom" fmla="*/ 5184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cc0066"/>
              </a:gs>
              <a:gs pos="100000">
                <a:srgbClr val="990099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Object 29" descr=""/>
          <p:cNvPicPr/>
          <p:nvPr/>
        </p:nvPicPr>
        <p:blipFill>
          <a:blip r:embed="rId2"/>
          <a:stretch/>
        </p:blipFill>
        <p:spPr>
          <a:xfrm>
            <a:off x="5796000" y="4797360"/>
            <a:ext cx="2984400" cy="1486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3"/>
          <p:cNvSpPr/>
          <p:nvPr/>
        </p:nvSpPr>
        <p:spPr>
          <a:xfrm>
            <a:off x="395280" y="1773360"/>
            <a:ext cx="46083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т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µ |N| - формула нахождения силы трения поко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N – сила нормального давл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µ - коэффициент трения, зависящий от свойств соприкасающихся поверхно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395280" y="333360"/>
            <a:ext cx="8497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а трения пок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900000" y="191628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1476360" y="333360"/>
            <a:ext cx="65530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Сила трения скольжения</a:t>
            </a:r>
            <a:endParaRPr b="0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55640" y="249228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Сила трения скольжения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 сила, возникающая тогда, когда одно тело скользит по поверхности другого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7:08:13Z</dcterms:created>
  <dc:creator>Admin</dc:creator>
  <dc:description/>
  <dc:language>en-US</dc:language>
  <cp:lastModifiedBy>1</cp:lastModifiedBy>
  <dcterms:modified xsi:type="dcterms:W3CDTF">2012-12-05T19:37:42Z</dcterms:modified>
  <cp:revision>13</cp:revision>
  <dc:subject/>
  <dc:title>Презентация по физике  на тему:сила тр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7000000000001024140</vt:lpwstr>
  </property>
</Properties>
</file>