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7.gif" ContentType="image/gif"/>
  <Override PartName="/ppt/media/image2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D14-41D9-4F18-9C93-07005D8B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0EF-895D-450E-9FBA-98204E0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25E-B7E3-4C68-998B-EEC610D8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35D-533C-498D-AE77-8A3F12C1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98E2-097C-4D3F-BBD5-A26D0EC3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15A-6BBE-406A-A9AD-B710635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7FB-C722-4FFF-BF8B-3F86A6F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20FB-8D8B-489E-9387-23C0602E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781-8538-42C6-9B9C-D3C3D8C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F088-2A40-4BC3-9DBF-8490665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17A-D29C-4E84-9A23-B5FD1FB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E04-B808-4A5D-B6A6-F37D953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B4E2-3F03-49D6-A12E-E73F7A5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31E2-8353-494F-8779-8A6F0C0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617C-7C1D-4829-A488-2D7BD03E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813-B011-43B9-9FEA-A5B4807E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FC4-3AF7-4CC7-88ED-FE6033FC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5F7D-BA71-4E76-B847-F5E560E3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7544-3A4E-4953-B105-853FC59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7E16-6352-4548-9FE6-1B2387F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2ACB-00A8-4EA7-BCEC-D3F79BB9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95C7-BA40-424D-9AF5-FBF0DA9B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0DC-8ECA-4201-AF76-000B7DC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B4F3-BF12-4DDE-80D1-AB83106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C20F-1234-4086-A72B-ED53132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6606-6876-48B8-8F26-4567BF3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FD6D-755C-4D00-AB69-B4FE780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9C1D-0A5E-4862-9308-910B51B4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5DBC-0A99-4F39-9C3C-B0543C2F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0433-3070-4864-9151-18F4C9B0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5F9E-DBE0-42C9-BFEF-977CEE04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5F8F-9962-415C-9F35-9E89B9F4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E56A-52B7-4BB7-9E0B-07F1A6C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37F-A7AF-4694-AE83-4C29BE9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F43E2-AA79-4E98-8DF1-6ACB740F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AE6C-E210-4221-A6BB-DEE8157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0EEC-2A93-4B44-B19F-C812539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E9A4-5210-47A0-AA20-C6032EC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E215-204D-452E-8486-9B21BA8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6959-D035-469B-8431-1B83392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B2E0-3D70-4B1A-ADC7-7E870C33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05D1-9155-41A5-BB38-8B0FEBDB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3468-9E78-42D5-8C76-5CC5AF25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A17-E2EE-4F61-A961-67A0C086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6DD-00A1-4FC2-9BC5-98B4DD57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3F4-5398-4D17-BA60-3AF54BF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102-D9BC-4B29-B0A0-D2AB050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DB3-7BFA-41CA-9D21-79F74622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400-30FD-49AB-8369-B7E313D2A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E07-796F-40FD-954A-4248FE8B22D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49A-6A94-4060-8C8F-FCAFD6E3F5D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FFA-C5BE-43CE-AE2F-2D8D2D014C5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 трени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это</a:t>
            </a:r>
            <a:r>
              <a:rPr b="1" i="1" lang="en-US" sz="4000" spc="-1" strike="noStrike">
                <a:solidFill>
                  <a:srgbClr val="99ff66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возникающ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 плоскости касания те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ри их относительном перемещ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2881080" cy="2322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971640" y="404640"/>
            <a:ext cx="71294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Примеры силы тр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56000" y="1197000"/>
            <a:ext cx="40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скольж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244" name="Picture 9" descr="j0283043"/>
          <p:cNvPicPr/>
          <p:nvPr/>
        </p:nvPicPr>
        <p:blipFill>
          <a:blip r:embed="rId2"/>
          <a:stretch/>
        </p:blipFill>
        <p:spPr>
          <a:xfrm>
            <a:off x="5364000" y="1916280"/>
            <a:ext cx="3240360" cy="30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kniga_ka"/>
          <p:cNvPicPr/>
          <p:nvPr/>
        </p:nvPicPr>
        <p:blipFill>
          <a:blip r:embed="rId3"/>
          <a:stretch/>
        </p:blipFill>
        <p:spPr>
          <a:xfrm>
            <a:off x="2771640" y="4292640"/>
            <a:ext cx="249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0"/>
          <p:cNvSpPr txBox="1"/>
          <p:nvPr/>
        </p:nvSpPr>
        <p:spPr>
          <a:xfrm>
            <a:off x="1403280" y="620640"/>
            <a:ext cx="6410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Свойства силы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162864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рения скольжения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248" name="Picture 58" descr="BD14980_"/>
          <p:cNvPicPr/>
          <p:nvPr/>
        </p:nvPicPr>
        <p:blipFill>
          <a:blip r:embed="rId1"/>
          <a:stretch/>
        </p:blipFill>
        <p:spPr>
          <a:xfrm>
            <a:off x="395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BD14980_"/>
          <p:cNvPicPr/>
          <p:nvPr/>
        </p:nvPicPr>
        <p:blipFill>
          <a:blip r:embed="rId2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0" descr="BD14980_"/>
          <p:cNvPicPr/>
          <p:nvPr/>
        </p:nvPicPr>
        <p:blipFill>
          <a:blip r:embed="rId3"/>
          <a:stretch/>
        </p:blipFill>
        <p:spPr>
          <a:xfrm>
            <a:off x="39528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аправлена против скорости;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е зависит от величины скор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900000" y="4869000"/>
            <a:ext cx="7272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Пропорциональна величине силы </a:t>
            </a:r>
            <a:r>
              <a:rPr b="0" i="1" lang="en-US" sz="3600" spc="-1" strike="noStrike">
                <a:solidFill>
                  <a:srgbClr val="9966ff"/>
                </a:solidFill>
                <a:latin typeface="Poor Richard"/>
              </a:rPr>
              <a:t>N</a:t>
            </a: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,    прижимающей по нормали одно тело к поверхности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рение кач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мент с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озникающий при качении одного из двух, контактирущих тел, относительно другого и противодействующий вращению движущегося т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ИС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а действия - электро-магнит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авление силы противоположно направлению вектора относительной скорост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а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полняется приближенно, т.к. сила трения зависит от скор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еревозки тяжелых блоков (брёвен, стволов деревьев) можно применять к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ашинах стремятся заменить трение скольжения трением качения, применяя так называемые шариковые или роликовые подшип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ъема тяжелых предметов на высоту используют бл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используется в механических час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для увеличения сцепления колес с почвой надевают специальные ш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асах для увеличения трения колесики делают зубчат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 выкладывают твердыми нескользкими материалами(асфальт, щеб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2000" y="2491920"/>
            <a:ext cx="313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Сила т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ения направлена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противоположно дви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248520" cy="35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4343400" y="5257800"/>
            <a:ext cx="987480" cy="52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5257800" y="5638680"/>
            <a:ext cx="649440" cy="15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4724280" y="5423040"/>
            <a:ext cx="1535400" cy="1434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5334120" y="6008760"/>
            <a:ext cx="1233360" cy="84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6"/>
          <a:stretch/>
        </p:blipFill>
        <p:spPr>
          <a:xfrm>
            <a:off x="0" y="5105520"/>
            <a:ext cx="119700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005120" cy="877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785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Шероховатость поверхностей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28800" y="4191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заимное притяжен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14300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143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сил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 трения бывает трех видов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2651400" cy="1279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092320" cy="143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4572000"/>
            <a:ext cx="3308400" cy="1481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1800" y="3733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скольж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84880" y="3733920"/>
            <a:ext cx="27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к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404760" y="37339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пок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Формула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для нахождения силы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ru-RU" sz="7200" spc="-1" strike="noStrike">
                <a:solidFill>
                  <a:srgbClr val="00ff00"/>
                </a:solidFill>
                <a:latin typeface="Times New Roman"/>
              </a:rPr>
              <a:t>тр = μ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*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оэффициент т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-сила реакции оп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676520"/>
            <a:ext cx="86630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а трения покоя - сила, действующая на те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 стороны соприкасающегося с ним другого т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оль поверхности соприкосновения те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 тела покоятся относительно друг друг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04640"/>
            <a:ext cx="8663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рения поко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только между телами в твёрд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только от величины давления тел друг на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рения покоя равна по модулю внешней силе, направленной по касательной к поверхности соприкосновения тел и противоположна ей по направл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84360" y="404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войства силы трения поко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508720" y="1851120"/>
            <a:ext cx="34700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99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е притяжение молеку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икасающих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 rot="5400000">
            <a:off x="6753600" y="3623400"/>
            <a:ext cx="1079640" cy="6908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cc0066"/>
              </a:gs>
              <a:gs pos="100000">
                <a:srgbClr val="990099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Object 29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2984400" cy="1486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3"/>
          <p:cNvSpPr/>
          <p:nvPr/>
        </p:nvSpPr>
        <p:spPr>
          <a:xfrm>
            <a:off x="395280" y="1773360"/>
            <a:ext cx="4608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µ |N| - формула нахождения силы трения пок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 – сила нормального дав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µ - коэффициент трения, зависящий от свойств соприкасающихся поверх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95280" y="333360"/>
            <a:ext cx="8497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а трения пок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00000" y="1916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476360" y="333360"/>
            <a:ext cx="6553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Сила трения скольжения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55640" y="2492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Сила трения скольжения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 сила, возникающая тогда, когда одно тело скользит по поверхности другого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8:13Z</dcterms:created>
  <dc:creator>Admin</dc:creator>
  <dc:description/>
  <dc:language>en-US</dc:language>
  <cp:lastModifiedBy>1</cp:lastModifiedBy>
  <dcterms:modified xsi:type="dcterms:W3CDTF">2012-12-05T19:37:42Z</dcterms:modified>
  <cp:revision>13</cp:revision>
  <dc:subject/>
  <dc:title>Презентация по физике  на тему:сила тр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7000000000001024140</vt:lpwstr>
  </property>
</Properties>
</file>