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7.gif" ContentType="image/gif"/>
  <Override PartName="/ppt/media/image2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BC7-4ADE-4A5F-851F-3199A882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51B-9730-47F9-8F7A-B5FCF04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93D-E1CF-4D7B-BB29-0B0A310B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B09-EF85-4CE2-84DC-0B3DE9D4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3F68-27EE-4EE2-8197-1F5E6D34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8E57-AEAF-45B9-B61A-2960D853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37E-4910-488A-91FF-683B42BE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D25-1513-4B73-AF08-4EB5D3C3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3DDE-C957-44DB-9AD5-67EFFC38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18C6-A9A1-4D5A-BAAB-0519AE28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BF33-2438-4EC3-A710-E0B21DD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2E4-2825-46DA-B41F-05706E7E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C97-2CD5-4F01-8F59-4C6E5CC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5ED-B18F-4B77-BA0F-58A9FFDB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B3DB-12A0-448F-A45D-91E5B7B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D54-A6DA-4E5F-B7E4-BD214048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DC1D-1196-4D1A-B126-5F2783F7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01A1-E98D-4419-BD76-FABA2E2A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F6C6-29A1-4CD7-B3C8-F77BFD2D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C4D8-1478-4B11-870F-D5AE815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0E1F-17EE-4319-8F34-A4C76001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8507-509B-402E-B084-9335A4F0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19A-5706-47E3-84FE-ABC8F2E1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AE4E-9CC7-4FD0-8C33-ACE5ADB4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656B-5F10-4C47-9223-B7AB9D9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DF7D-7706-4440-8B1F-6C606E5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FF7D-0728-433B-A2E0-280B3069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2A91-B71C-4E53-A086-90EA6B48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C3FE-F889-418A-A0FD-FF0D190F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B91F-F51B-447C-A917-2AB503B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51EB-5F6B-4CE6-883A-6C7E9564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E9C1-AA35-4742-862F-9472D48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CF98-3BDD-4407-8C00-6FD05FB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D3A-1BC5-480E-9EBF-6E8ECA3E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626F-6948-47D0-966C-3C905B0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4C84-85DF-4711-A54F-2C0F1ED7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8391-F8B3-42AD-BF33-AD9EEDD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590DF-E2FC-4B50-9C5E-39B7602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0E13-45BB-4277-8503-CB25508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5EDF-8641-432D-BB90-A31C357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2140-BDCB-4A8C-8A16-7B1144E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89B7-F236-4D06-B2AF-208C571D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8677-575F-4CBC-9263-618C163D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B72-0B43-4B30-B9C2-3EF6747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A93-0446-44CB-B956-70C7D80C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6F4-F8EB-4F3D-9338-E2AA98A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B70-790D-40A9-A406-3E8698C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4C9-0C68-4AF4-BABC-B6E6224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5FA9-16BE-445F-9342-DD3162711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1682-59C3-4F28-BA78-7A7317117FD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FBF6-16F2-4511-B02E-AED475DFCF3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1CB-81C8-4627-A2BF-75258DD2D9E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 трения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это</a:t>
            </a:r>
            <a:r>
              <a:rPr b="1" i="1" lang="en-US" sz="4000" spc="-1" strike="noStrike">
                <a:solidFill>
                  <a:srgbClr val="99ff66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возникающ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 плоскости касания те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при их относительном перемещен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2881080" cy="23223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7"/>
          <p:cNvSpPr txBox="1"/>
          <p:nvPr/>
        </p:nvSpPr>
        <p:spPr>
          <a:xfrm>
            <a:off x="971640" y="404640"/>
            <a:ext cx="712944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Примеры силы тр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2556000" y="1197000"/>
            <a:ext cx="40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crosoft Sans Serif"/>
              </a:rPr>
              <a:t>скольжения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crosoft Sans Serif"/>
              <a:ea typeface="Microsoft Sans Serif"/>
            </a:endParaRPr>
          </a:p>
        </p:txBody>
      </p:sp>
      <p:pic>
        <p:nvPicPr>
          <p:cNvPr id="244" name="Picture 9" descr="j0283043"/>
          <p:cNvPicPr/>
          <p:nvPr/>
        </p:nvPicPr>
        <p:blipFill>
          <a:blip r:embed="rId2"/>
          <a:stretch/>
        </p:blipFill>
        <p:spPr>
          <a:xfrm>
            <a:off x="5364000" y="1916280"/>
            <a:ext cx="3240360" cy="30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kniga_ka"/>
          <p:cNvPicPr/>
          <p:nvPr/>
        </p:nvPicPr>
        <p:blipFill>
          <a:blip r:embed="rId3"/>
          <a:stretch/>
        </p:blipFill>
        <p:spPr>
          <a:xfrm>
            <a:off x="2771640" y="4292640"/>
            <a:ext cx="249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0"/>
          <p:cNvSpPr txBox="1"/>
          <p:nvPr/>
        </p:nvSpPr>
        <p:spPr>
          <a:xfrm>
            <a:off x="1403280" y="620640"/>
            <a:ext cx="6410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9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Свойства силы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1628640"/>
            <a:ext cx="72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трения скольжения</a:t>
            </a:r>
            <a:endParaRPr b="0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248" name="Picture 58" descr="BD14980_"/>
          <p:cNvPicPr/>
          <p:nvPr/>
        </p:nvPicPr>
        <p:blipFill>
          <a:blip r:embed="rId1"/>
          <a:stretch/>
        </p:blipFill>
        <p:spPr>
          <a:xfrm>
            <a:off x="395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9" descr="BD14980_"/>
          <p:cNvPicPr/>
          <p:nvPr/>
        </p:nvPicPr>
        <p:blipFill>
          <a:blip r:embed="rId2"/>
          <a:stretch/>
        </p:blipFill>
        <p:spPr>
          <a:xfrm>
            <a:off x="39528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0" descr="BD14980_"/>
          <p:cNvPicPr/>
          <p:nvPr/>
        </p:nvPicPr>
        <p:blipFill>
          <a:blip r:embed="rId3"/>
          <a:stretch/>
        </p:blipFill>
        <p:spPr>
          <a:xfrm>
            <a:off x="395280" y="4869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аправлена против скорости;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1600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Не зависит от величины скор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900000" y="4869000"/>
            <a:ext cx="7272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Пропорциональна величине силы </a:t>
            </a:r>
            <a:r>
              <a:rPr b="0" i="1" lang="en-US" sz="3600" spc="-1" strike="noStrike">
                <a:solidFill>
                  <a:srgbClr val="9966ff"/>
                </a:solidFill>
                <a:latin typeface="Poor Richard"/>
              </a:rPr>
              <a:t>N</a:t>
            </a:r>
            <a:r>
              <a:rPr b="0" i="1" lang="ru-RU" sz="3600" spc="-1" strike="noStrike">
                <a:solidFill>
                  <a:srgbClr val="9966ff"/>
                </a:solidFill>
                <a:latin typeface="Poor Richard"/>
              </a:rPr>
              <a:t>,    прижимающей по нормали одно тело к поверхности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рение кач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мент с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озникающий при качении одного из двух, контактирущих тел, относительно другого и противодействующий вращению движущегося т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ПИС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а действия - электро-магнит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авление силы противоположно направлению вектора относительной скорост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а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полняется приближенно, т.к. сила трения зависит от скор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еревозки тяжелых блоков (брёвен, стволов деревьев) можно применять к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ашинах стремятся заменить трение скольжения трением качения, применяя так называемые шариковые или роликовые подшип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ъема тяжелых предметов на высоту используют бл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используется в механических час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рение качения в техни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для увеличения сцепления колес с почвой надевают специальные ш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асах для увеличения трения колесики делают зубчат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ги выкладывают твердыми нескользкими материалами(асфальт, щеб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2000" y="2491920"/>
            <a:ext cx="313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Сила т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ения направлена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противоположно движ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248520" cy="35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4343400" y="5257800"/>
            <a:ext cx="987480" cy="52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5257800" y="5638680"/>
            <a:ext cx="649440" cy="15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4724280" y="5423040"/>
            <a:ext cx="1535400" cy="1434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5334120" y="6008760"/>
            <a:ext cx="1233360" cy="84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6"/>
          <a:stretch/>
        </p:blipFill>
        <p:spPr>
          <a:xfrm>
            <a:off x="0" y="5105520"/>
            <a:ext cx="119700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7"/>
          <a:stretch/>
        </p:blipFill>
        <p:spPr>
          <a:xfrm>
            <a:off x="380880" y="5562720"/>
            <a:ext cx="1005120" cy="877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8"/>
          <a:stretch/>
        </p:blipFill>
        <p:spPr>
          <a:xfrm>
            <a:off x="457200" y="5638680"/>
            <a:ext cx="785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Шероховатость поверхностей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828800" y="4191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заимное притяжен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114300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11430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сил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ла трения бывает трех видов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2651400" cy="1279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2092320" cy="143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0" y="4572000"/>
            <a:ext cx="3308400" cy="1481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1800" y="3733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скольжен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584880" y="3733920"/>
            <a:ext cx="27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к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404760" y="373392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ние пок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Формула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для нахождения силы тр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ru-RU" sz="7200" spc="-1" strike="noStrike">
                <a:solidFill>
                  <a:srgbClr val="00ff00"/>
                </a:solidFill>
                <a:latin typeface="Times New Roman"/>
              </a:rPr>
              <a:t>тр = μ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*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оэффициент тр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-сила реакции оп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9280" y="1676520"/>
            <a:ext cx="86630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а трения покоя - сила, действующая на тел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 стороны соприкасающегося с ним другого тел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оль поверхности соприкосновения те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 тела покоятся относительно друг друг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04640"/>
            <a:ext cx="8663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рения поко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ает только между телами в твёрдом состоя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только от величины давления тел друг на д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 algn="just">
              <a:spcBef>
                <a:spcPts val="700"/>
              </a:spcBef>
              <a:buClr>
                <a:srgbClr val="ee1e08"/>
              </a:buClr>
              <a:buSzPct val="14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рения покоя равна по модулю внешней силе, направленной по касательной к поверхности соприкосновения тел и противоположна ей по направл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684360" y="404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войства силы трения поко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5508720" y="1851120"/>
            <a:ext cx="34700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99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е притяжение молеку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прикасающих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 rot="5400000">
            <a:off x="6753600" y="3623400"/>
            <a:ext cx="1079640" cy="6908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72800 h 690840"/>
              <a:gd name="textAreaBottom" fmla="*/ 5184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cc0066"/>
              </a:gs>
              <a:gs pos="100000">
                <a:srgbClr val="990099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Object 29" descr=""/>
          <p:cNvPicPr/>
          <p:nvPr/>
        </p:nvPicPr>
        <p:blipFill>
          <a:blip r:embed="rId2"/>
          <a:stretch/>
        </p:blipFill>
        <p:spPr>
          <a:xfrm>
            <a:off x="5796000" y="4797360"/>
            <a:ext cx="2984400" cy="1486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3"/>
          <p:cNvSpPr/>
          <p:nvPr/>
        </p:nvSpPr>
        <p:spPr>
          <a:xfrm>
            <a:off x="395280" y="1773360"/>
            <a:ext cx="4608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т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µ |N| - формула нахождения силы трения пок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 – сила нормального дав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µ - коэффициент трения, зависящий от свойств соприкасающихся поверхно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395280" y="333360"/>
            <a:ext cx="8497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а трения пок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900000" y="191628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1476360" y="333360"/>
            <a:ext cx="6553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Сила трения скольжения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55640" y="2492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Сила трения скольжения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Tunga"/>
              </a:rPr>
              <a:t> сила, возникающая тогда, когда одно тело скользит по поверхности другого.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8:13Z</dcterms:created>
  <dc:creator>Admin</dc:creator>
  <dc:description/>
  <dc:language>en-US</dc:language>
  <cp:lastModifiedBy>1</cp:lastModifiedBy>
  <dcterms:modified xsi:type="dcterms:W3CDTF">2012-12-05T19:37:42Z</dcterms:modified>
  <cp:revision>13</cp:revision>
  <dc:subject/>
  <dc:title>Презентация по физике  на тему:сила тр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7000000000001024140</vt:lpwstr>
  </property>
</Properties>
</file>