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F06-C3FE-4318-A760-1AF75755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46F-1631-4825-8C55-589FC8B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AF9-2651-41AF-9A9E-4A9E40EE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9FB-EBEA-4157-A2D8-8658FA00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82B6-D24E-4D6D-AD5C-E4373CED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0711-8FF0-47A2-A96B-C24DAB35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162E-35BE-46FD-B734-BF1AA83C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A9E6-3618-4485-AE9B-777A0A32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B869-5399-4678-BB4A-51077886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975-56C6-4F38-8DA7-D6399A99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19FE-372F-4A0A-95B0-60855527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E27-DA47-41B5-9C88-35007E84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4786-8A69-479F-8927-656C4C7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EBE2-2C7B-4D03-AC53-E4DC91DB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4028-7E62-4A63-A4C8-F6168B3F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6BE1-4948-4022-ADD9-1AAFFE09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71A8-3B9A-433F-907D-BAE6D7EC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692-E756-46C3-874D-458D95E3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8C1-CE4F-45B9-9F14-9374C186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AE1-0832-4BB5-A57D-425845E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BFE-178C-4A66-897B-19B018D8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91F-7BA8-4F0D-8F3F-6B31967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CE1-697E-4B82-9286-93939D9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D46-1101-4A13-BD26-EF03864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C8C7-FFB1-40BF-814C-366DF3BE9F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7698-FC32-4BD9-A868-F88C1D6B69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0;&#1086;&#1074;&#1099;&#1081;_&#1090;&#1077;&#1083;&#1077;&#1092;&#1086;&#1085;" TargetMode="External"/><Relationship Id="rId2" Type="http://schemas.openxmlformats.org/officeDocument/2006/relationships/hyperlink" Target="http://ru.wikipedia.org/wiki/AMPS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"/>
              </a:rPr>
              <a:t>Мобильная связь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9610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76600" y="2897280"/>
            <a:ext cx="4667400" cy="39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третье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95640" y="4220640"/>
            <a:ext cx="64800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стемы работают на следующих скоростях передачи данных: для абонентов с высокой мобильностью (до 120 км/ч) - не менее 144 кбит/с, для абонентов с низкой мобильностью (до 3 км/ч) - 384 кбит/с, для неподвижных объектов на коротких расстояниях - 2,048 Мбит/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4" descr="1.jpg"/>
          <p:cNvPicPr/>
          <p:nvPr/>
        </p:nvPicPr>
        <p:blipFill>
          <a:blip r:embed="rId1"/>
          <a:stretch/>
        </p:blipFill>
        <p:spPr>
          <a:xfrm>
            <a:off x="0" y="2349360"/>
            <a:ext cx="1928880" cy="4119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45711.jpg"/>
          <p:cNvPicPr/>
          <p:nvPr/>
        </p:nvPicPr>
        <p:blipFill>
          <a:blip r:embed="rId2"/>
          <a:stretch/>
        </p:blipFill>
        <p:spPr>
          <a:xfrm>
            <a:off x="3492360" y="1268280"/>
            <a:ext cx="3743640" cy="271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Мобильные телефоны в наши дн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бильная связь лет десять назад являлась признаком богатства, а сейчас – это необходимость для многих. Нынче мобильные телефоны фактически у каждого, тяжело отыскать кого-либо, не обладающего им. Огромный прыжок произошел в развитии сотовой связи — простым разговором услуги не заканчиваю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4067280" cy="417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пасибо за просмотр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изобретате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ь мобильного телефона Мартин Купер (Martin Cooper), который был ведущим инженером в отделе Motorola, разрабатывавшем первый сотовый телефон, подверг критике современные мобиль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39272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беспроводной звоно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4907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ртин Купер в апреле 1973 года сделал первый беспроводной звонок. Как он вспоминает, первый мобильник весил килограмм, а его аккумулятора хватало лишь на 20 минут разговора. Купер отметил, что это было очень кстати, так как рука все равно не выдерживала дольше двадцати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540160" cy="51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нципы действ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составляющие мобильной сети — это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бильные телефоны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и базовые станции, которые обычно располагают на крышах зданий и вышках. Будучи включённым, мобильный телефон прослушивает эфир, находя сигнал базовой станции. После этого телефон посылает станции свой уникальный идентификационный код. Телефон и станция поддерживают постоянный радиоконтакт, периодически обмениваясь пакетами. Связь телефона со станцией может идти по аналоговому протоколу (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AMP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NAMPS, NMT-450) или по цифровому (DAMPS, CDMA, GSM, UMTS). Если телефон выходит из поля действия базовой станции (или качество радиосигнала сервисной соты ухудшается), он налаживает связь с друг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27672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Базовые стан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зовая станция (применительно к сотовой связи) — комплекс радиопередающей аппаратуры (ретрансляторы, приёмо-передатчики), осуществляющий связь с конечным абонентским устройством — мобильным телефо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5" descr="Антенна БС на здании"/>
          <p:cNvPicPr/>
          <p:nvPr/>
        </p:nvPicPr>
        <p:blipFill>
          <a:blip r:embed="rId1"/>
          <a:stretch/>
        </p:blipFill>
        <p:spPr>
          <a:xfrm>
            <a:off x="395280" y="1773360"/>
            <a:ext cx="307188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лияние СС на окружающую сред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568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шки с оборудованием мобильной связи и сами мобильные телефоны не опаснее теле- и радиопередатчиков, по мнению британских экспертов. Часто местные жители возражают против строительства объектов инфраструктуры мобильной связи, однако отрицательное воздействие этих объектов не доказано. У телепередатчиков схожая мощность, но люди не имеют ничего против их строительств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зличные организации как государственные, так и международные  разработали множество стандартов и требований для предотвращения какого  бы  то  не  было  влияния электромагнитного  поля  на  человека  и,  почти  вся  продаваемая  техника, соответствует этим требованиям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аким  образом,  можно   заключить,   что   соблюдение   санитарных   и гигиенических норм при  градостроительстве  и  следование  необременительным рекомендациям  по  использованию  бытовых  приборов  практически  нивелирует влияние электромагнитных полей на человека. Хотя этот вопрос должен и  будет исследоваться дале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2808360" cy="506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бильный телеф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бильный телефон – разновидность мобильной связи для осуществления контакта на территории зоны покрытия мобильной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333960" cy="4552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перв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Содержимое 4" descr="mobile-evolution.gif"/>
          <p:cNvPicPr/>
          <p:nvPr/>
        </p:nvPicPr>
        <p:blipFill>
          <a:blip r:embed="rId1"/>
          <a:stretch/>
        </p:blipFill>
        <p:spPr>
          <a:xfrm>
            <a:off x="539640" y="2205000"/>
            <a:ext cx="38163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4364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34136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 CDMA, TDMA, iDEN, PDS, 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в таких сетях могли передаваться лишь на низких скоростях до 2,4 кбит/сек, а спектр ограничен сверху частотой 900 МГ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втор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ндарт G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ое отличие систем второго поколения заключается в том, что они "цифровые", т.е. голос передается в цифровом ви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Содержимое 4" descr="45070o.jpg"/>
          <p:cNvPicPr/>
          <p:nvPr/>
        </p:nvPicPr>
        <p:blipFill>
          <a:blip r:embed="rId1"/>
          <a:stretch/>
        </p:blipFill>
        <p:spPr>
          <a:xfrm>
            <a:off x="5003640" y="1557360"/>
            <a:ext cx="38941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5:13:06Z</dcterms:created>
  <dc:creator>User</dc:creator>
  <dc:description/>
  <dc:language>en-US</dc:language>
  <cp:lastModifiedBy>User</cp:lastModifiedBy>
  <dcterms:modified xsi:type="dcterms:W3CDTF">2013-02-07T13:53:39Z</dcterms:modified>
  <cp:revision>8</cp:revision>
  <dc:subject/>
  <dc:title>Сотов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5000000000001024140</vt:lpwstr>
  </property>
</Properties>
</file>