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399-12E2-4395-83C2-96126D5D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29D-60BA-4E48-8E36-DC0FC6BE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923-494A-4B0A-A7FA-B37D9D29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212-A354-4CD8-8A25-2B28D5D9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3376-5D5D-4509-A4ED-0CA5BF42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0796-0FC0-463F-958B-0AE58174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13F1-66E5-46A0-9802-B1C623E7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CA40-5352-4326-86C1-CD70F2DD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2334-4A00-49F2-98DB-3208A6ED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A0F2-A57A-4C20-A386-7B3CFE48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6506-B6EF-4598-BBAE-301B8E98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825-9F7D-4BE9-ABAD-6856A1A2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9996-17AD-4AB6-89E8-350E88DC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A76E-29B6-4457-A5AE-60321D93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A322-40A2-43CD-8DD0-355D047F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2487-EA89-4B47-9F39-155C5932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7858-01F9-4FB6-ABE8-54B6C372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0C3-E6BB-45FE-8DAA-BF249C85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13B-2F77-406F-8D5F-7422F313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FE0-BA01-4514-A554-4A8E10FD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37A-015E-4BDC-8487-8F2B53BA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6FA-7CA3-4BEA-9A8D-8D086824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E21-1884-4736-9D19-64F5B8E6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74B-11F2-4345-ADE4-596D1E4B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C813-7655-4DD9-A79F-16551E94F8B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E6ED-A5C1-422A-A02A-D6276AE7266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2b2b2"/>
                </a:solidFill>
                <a:latin typeface="a_LCDNova"/>
              </a:rPr>
              <a:t>Телеграф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егра́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р.-греч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τῆλε — «далеко» + γρᾰ́φω — «пишу») в современном значении — средство передачи сигнала по проводам или другим каналам электросв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елеграф в XXI веке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ши дни возможности обмена сообщениями по сети Телекс сохранена во многом благодаря электронной почте. В России телеграфная связь существует и поныне, телеграфные сообщения передаются и принимаются при помощи специальных устройств — телеграфных модемов, сопряжённых в узлах электрической связи с персональными компьютерами операторов. Тем не менее в некоторых странах национальные операторы сочли телеграф устаревшим видом связи и свернули все операции по отправлению и доставке телеграмм — телеграмм в традиционном значении этого термина. В Нидерландах телеграфная связь прекратила работу в 2004 году. В январе 2006 года старейший американский национальный оператор Western Union объявил о полном прекращении обслуживания населения по отправке и доставке телеграфных сообщений. В то же время в Канаде, Бельгии, Германии, Швеции, Японии некоторые компании всё ещё поддерживают сервис по отправлению и доставке традиционных телеграфных сообщ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5" descr="optelegraph"/>
          <p:cNvPicPr/>
          <p:nvPr/>
        </p:nvPicPr>
        <p:blipFill>
          <a:blip r:embed="rId1"/>
          <a:stretch/>
        </p:blipFill>
        <p:spPr>
          <a:xfrm>
            <a:off x="457200" y="1306440"/>
            <a:ext cx="5029200" cy="5475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птический телеграф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Picture 18" descr="Схема оптического телеграфа Шаппа"/>
          <p:cNvPicPr/>
          <p:nvPr/>
        </p:nvPicPr>
        <p:blipFill>
          <a:blip r:embed="rId2"/>
          <a:stretch/>
        </p:blipFill>
        <p:spPr>
          <a:xfrm>
            <a:off x="5715000" y="1447920"/>
            <a:ext cx="34290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телеграф-Шаппа"/>
          <p:cNvPicPr/>
          <p:nvPr/>
        </p:nvPicPr>
        <p:blipFill>
          <a:blip r:embed="rId1"/>
          <a:stretch/>
        </p:blipFill>
        <p:spPr>
          <a:xfrm>
            <a:off x="457200" y="990720"/>
            <a:ext cx="79311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Электрический телеграф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18" descr="telgraf1gm1"/>
          <p:cNvPicPr/>
          <p:nvPr/>
        </p:nvPicPr>
        <p:blipFill>
          <a:blip r:embed="rId1"/>
          <a:stretch/>
        </p:blipFill>
        <p:spPr>
          <a:xfrm>
            <a:off x="546120" y="1306440"/>
            <a:ext cx="805176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Telegraph"/>
          <p:cNvPicPr/>
          <p:nvPr/>
        </p:nvPicPr>
        <p:blipFill>
          <a:blip r:embed="rId1"/>
          <a:stretch/>
        </p:blipFill>
        <p:spPr>
          <a:xfrm>
            <a:off x="1447920" y="1219320"/>
            <a:ext cx="73911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0_66244_841b079d_XL"/>
          <p:cNvPicPr/>
          <p:nvPr/>
        </p:nvPicPr>
        <p:blipFill>
          <a:blip r:embed="rId1"/>
          <a:stretch/>
        </p:blipFill>
        <p:spPr>
          <a:xfrm>
            <a:off x="1979640" y="277920"/>
            <a:ext cx="518472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Telex"/>
          <p:cNvPicPr/>
          <p:nvPr/>
        </p:nvPicPr>
        <p:blipFill>
          <a:blip r:embed="rId1"/>
          <a:stretch/>
        </p:blipFill>
        <p:spPr>
          <a:xfrm>
            <a:off x="1173240" y="1069920"/>
            <a:ext cx="5992560" cy="4899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елекс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telex_LORENZ_LO15"/>
          <p:cNvPicPr/>
          <p:nvPr/>
        </p:nvPicPr>
        <p:blipFill>
          <a:blip r:embed="rId1"/>
          <a:stretch/>
        </p:blipFill>
        <p:spPr>
          <a:xfrm>
            <a:off x="546120" y="673200"/>
            <a:ext cx="778356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40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3-01-28T21:04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7000000000001024140</vt:lpwstr>
  </property>
  <property fmtid="{D5CDD505-2E9C-101B-9397-08002B2CF9AE}" pid="3" name="Version">
    <vt:r8>1</vt:r8>
  </property>
</Properties>
</file>