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7C6-91D3-4C83-8ECF-A0940E1D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2F6-94D0-41F1-8B56-9DC10213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E75-62D9-4137-9AE9-A9CCB561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EDC-EF76-4A2A-9719-72C46A02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1E6E-0CA4-47DD-BA3A-8D5EACE9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CCF4-B317-49D9-A3FD-AEE79ED4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A213-0975-4760-B7CA-DA7EDCCC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6708-407F-48D1-A446-8C981799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0896-AAC8-499E-B18A-F2E5A409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4C19-A8BD-4D55-B30A-DB2CA01A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47A5-0E00-4C9E-A9EC-7590A905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B0D-9779-4B07-9B6C-E1C3DAB2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4CD8-3928-4B80-9BD3-AF69BAC3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8378-B7B4-4AAB-B81C-39FC62BA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4CFD-E3E5-46E9-B947-1065EAC1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F527-C1AA-4219-8144-2E95709B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E6A1-BE7E-4BD7-96B7-651B4E59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F97-1CC4-41B6-99EC-931B133A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AF4-6C86-41F2-8A03-00703B8C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637-3259-4AEF-99D3-DBE3FDB7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FDE-6107-4668-8366-A4F4E021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C15-E509-4BE9-BF27-9C8071C0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B3F-B399-48DA-A06D-B7DE00A1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C24-8176-4019-8EB7-88829B75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0E02-BE42-4AEF-A829-BC3E37581C9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0EB8-1C94-4F34-8E66-5039F297FF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0;&#1086;&#1074;&#1099;&#1081;_&#1090;&#1077;&#1083;&#1077;&#1092;&#1086;&#1085;" TargetMode="External"/><Relationship Id="rId2" Type="http://schemas.openxmlformats.org/officeDocument/2006/relationships/hyperlink" Target="http://ru.wikipedia.org/wiki/AMPS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2b2b2"/>
                </a:solidFill>
                <a:latin typeface="Arial"/>
              </a:rPr>
              <a:t>Мобильная связь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961080" cy="2919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76600" y="2897280"/>
            <a:ext cx="4667400" cy="39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третье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95640" y="4220640"/>
            <a:ext cx="64800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стемы работают на следующих скоростях передачи данных: для абонентов с высокой мобильностью (до 120 км/ч) - не менее 144 кбит/с, для абонентов с низкой мобильностью (до 3 км/ч) - 384 кбит/с, для неподвижных объектов на коротких расстояниях - 2,048 Мбит/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Содержимое 4" descr="1.jpg"/>
          <p:cNvPicPr/>
          <p:nvPr/>
        </p:nvPicPr>
        <p:blipFill>
          <a:blip r:embed="rId1"/>
          <a:stretch/>
        </p:blipFill>
        <p:spPr>
          <a:xfrm>
            <a:off x="0" y="2349360"/>
            <a:ext cx="1928880" cy="4119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45711.jpg"/>
          <p:cNvPicPr/>
          <p:nvPr/>
        </p:nvPicPr>
        <p:blipFill>
          <a:blip r:embed="rId2"/>
          <a:stretch/>
        </p:blipFill>
        <p:spPr>
          <a:xfrm>
            <a:off x="3492360" y="1268280"/>
            <a:ext cx="3743640" cy="2716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Мобильные телефоны в наши дн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бильная связь лет десять назад являлась признаком богатства, а сейчас – это необходимость для многих. Нынче мобильные телефоны фактически у каждого, тяжело отыскать кого-либо, не обладающего им. Огромный прыжок произошел в развитии сотовой связи — простым разговором услуги не заканчиваю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4067280" cy="417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пасибо за просмотр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ервый изобретате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ь мобильного телефона Мартин Купер (Martin Cooper), который был ведущим инженером в отделе Motorola, разрабатывавшем первый сотовый телефон, подверг критике современные мобиль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392720" cy="380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ервый беспроводной звоно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4907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ртин Купер в апреле 1973 года сделал первый беспроводной звонок. Как он вспоминает, первый мобильник весил килограмм, а его аккумулятора хватало лишь на 20 минут разговора. Купер отметил, что это было очень кстати, так как рука все равно не выдерживала дольше двадцати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540160" cy="519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инципы действ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ые составляющие мобильной сети — это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бильные телефоны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и базовые станции, которые обычно располагают на крышах зданий и вышках. Будучи включённым, мобильный телефон прослушивает эфир, находя сигнал базовой станции. После этого телефон посылает станции свой уникальный идентификационный код. Телефон и станция поддерживают постоянный радиоконтакт, периодически обмениваясь пакетами. Связь телефона со станцией может идти по аналоговому протоколу (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AMP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NAMPS, NMT-450) или по цифровому (DAMPS, CDMA, GSM, UMTS). Если телефон выходит из поля действия базовой станции (или качество радиосигнала сервисной соты ухудшается), он налаживает связь с друг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327672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Базовые стан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зовая станция (применительно к сотовой связи) — комплекс радиопередающей аппаратуры (ретрансляторы, приёмо-передатчики), осуществляющий связь с конечным абонентским устройством — мобильным телефо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5" descr="Антенна БС на здании"/>
          <p:cNvPicPr/>
          <p:nvPr/>
        </p:nvPicPr>
        <p:blipFill>
          <a:blip r:embed="rId1"/>
          <a:stretch/>
        </p:blipFill>
        <p:spPr>
          <a:xfrm>
            <a:off x="395280" y="1773360"/>
            <a:ext cx="3071880" cy="442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лияние СС на окружающую сред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568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шки с оборудованием мобильной связи и сами мобильные телефоны не опаснее теле- и радиопередатчиков, по мнению британских экспертов. Часто местные жители возражают против строительства объектов инфраструктуры мобильной связи, однако отрицательное воздействие этих объектов не доказано. У телепередатчиков схожая мощность, но люди не имеют ничего против их строительства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зличные организации как государственные, так и международные  разработали множество стандартов и требований для предотвращения какого  бы  то  не  было  влияния электромагнитного  поля  на  человека  и,  почти  вся  продаваемая  техника, соответствует этим требованиям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аким  образом,  можно   заключить,   что   соблюдение   санитарных   и гигиенических норм при  градостроительстве  и  следование  необременительным рекомендациям  по  использованию  бытовых  приборов  практически  нивелирует влияние электромагнитных полей на человека. Хотя этот вопрос должен и  будет исследоваться дале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56360" y="1268280"/>
            <a:ext cx="2808360" cy="506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обильный телеф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бильный телефон – разновидность мобильной связи для осуществления контакта на территории зоны покрытия мобильной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333960" cy="4552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перво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Содержимое 4" descr="mobile-evolution.gif"/>
          <p:cNvPicPr/>
          <p:nvPr/>
        </p:nvPicPr>
        <p:blipFill>
          <a:blip r:embed="rId1"/>
          <a:stretch/>
        </p:blipFill>
        <p:spPr>
          <a:xfrm>
            <a:off x="539640" y="2205000"/>
            <a:ext cx="3816360" cy="2824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44364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34136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 CDMA, TDMA, iDEN, PDS, 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е в таких сетях могли передаваться лишь на низких скоростях до 2,4 кбит/сек, а спектр ограничен сверху частотой 900 МГ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второ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ндарт G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ное отличие систем второго поколения заключается в том, что они "цифровые", т.е. голос передается в цифровом ви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Содержимое 4" descr="45070o.jpg"/>
          <p:cNvPicPr/>
          <p:nvPr/>
        </p:nvPicPr>
        <p:blipFill>
          <a:blip r:embed="rId1"/>
          <a:stretch/>
        </p:blipFill>
        <p:spPr>
          <a:xfrm>
            <a:off x="5003640" y="1557360"/>
            <a:ext cx="389412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5:13:06Z</dcterms:created>
  <dc:creator>User</dc:creator>
  <dc:description/>
  <dc:language>en-US</dc:language>
  <cp:lastModifiedBy>User</cp:lastModifiedBy>
  <dcterms:modified xsi:type="dcterms:W3CDTF">2013-02-07T13:53:39Z</dcterms:modified>
  <cp:revision>8</cp:revision>
  <dc:subject/>
  <dc:title>Сотовая связ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5000000000001024140</vt:lpwstr>
  </property>
</Properties>
</file>