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2BB-F266-4B07-AA5C-7A610BF5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F93-77BF-4746-BB08-0392E711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230-65FD-4319-9A9A-3AE77D49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51C-021C-4F2D-A80E-18F53218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3A0D-8CFB-4E33-9B6F-71E37C08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535C-7E53-416A-9860-9B499195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41D0-2594-42A8-B9A3-A969A126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14D4-DEBF-4A29-B97A-2200F4E5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BF76-BFCC-43DD-BE8F-60B8E4F5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BF00-068C-4B02-A984-E346D639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ADEE-671C-4694-A497-4ADD71F0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FE4-9DC0-414C-9372-E9A04DA4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2438-A384-4D5A-BA71-0B921DBD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34FF-0BDD-46FE-84B5-43464376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1A37-8562-4059-AC9B-83AC92BE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F822-23A8-4451-B781-DEA5592B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0A35-77B3-404F-A8E4-E0359A9C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5B8-651C-46F9-B552-A891101F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2B21-AE08-49FB-9910-139E9070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FC9-60EA-4007-B3DF-46A7E56B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F6D-18C3-4CFD-BB44-7124C0CA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596-C8FF-4F12-890F-613B94B4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FEB-CB35-42ED-B75F-FCD60AE0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A89-CFD8-48B6-891A-2EB9CF92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EA0F-559B-48EA-AE7F-225363EF44B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361A-FC3F-4297-A43B-719A42C1645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0;&#1086;&#1074;&#1099;&#1081;_&#1090;&#1077;&#1083;&#1077;&#1092;&#1086;&#1085;" TargetMode="External"/><Relationship Id="rId2" Type="http://schemas.openxmlformats.org/officeDocument/2006/relationships/hyperlink" Target="http://ru.wikipedia.org/wiki/AMPS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2b2b2"/>
                </a:solidFill>
                <a:latin typeface="Arial"/>
              </a:rPr>
              <a:t>Мобильная связь</a:t>
            </a:r>
            <a:endParaRPr b="0" lang="en-US" sz="8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961080" cy="2919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76600" y="2897280"/>
            <a:ext cx="4667400" cy="396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Мобильная связь третьего поколе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95640" y="4220640"/>
            <a:ext cx="64800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стемы работают на следующих скоростях передачи данных: для абонентов с высокой мобильностью (до 120 км/ч) - не менее 144 кбит/с, для абонентов с низкой мобильностью (до 3 км/ч) - 384 кбит/с, для неподвижных объектов на коротких расстояниях - 2,048 Мбит/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Содержимое 4" descr="1.jpg"/>
          <p:cNvPicPr/>
          <p:nvPr/>
        </p:nvPicPr>
        <p:blipFill>
          <a:blip r:embed="rId1"/>
          <a:stretch/>
        </p:blipFill>
        <p:spPr>
          <a:xfrm>
            <a:off x="0" y="2349360"/>
            <a:ext cx="1928880" cy="41198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45711.jpg"/>
          <p:cNvPicPr/>
          <p:nvPr/>
        </p:nvPicPr>
        <p:blipFill>
          <a:blip r:embed="rId2"/>
          <a:stretch/>
        </p:blipFill>
        <p:spPr>
          <a:xfrm>
            <a:off x="3492360" y="1268280"/>
            <a:ext cx="3743640" cy="2716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Мобильные телефоны в наши дни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бильная связь лет десять назад являлась признаком богатства, а сейчас – это необходимость для многих. Нынче мобильные телефоны фактически у каждого, тяжело отыскать кого-либо, не обладающего им. Огромный прыжок произошел в развитии сотовой связи — простым разговором услуги не заканчивают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4067280" cy="417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пасибо за просмотр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ервый изобретате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ель мобильного телефона Мартин Купер (Martin Cooper), который был ведущим инженером в отделе Motorola, разрабатывавшем первый сотовый телефон, подверг критике современные мобильн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392720" cy="3809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ервый беспроводной звоно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5280" y="1628640"/>
            <a:ext cx="4907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ртин Купер в апреле 1973 года сделал первый беспроводной звонок. Как он вспоминает, первый мобильник весил килограмм, а его аккумулятора хватало лишь на 20 минут разговора. Купер отметил, что это было очень кстати, так как рука все равно не выдерживала дольше двадцати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2540160" cy="5199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инципы действ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ые составляющие мобильной сети — это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мобильные телефоны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и базовые станции, которые обычно располагают на крышах зданий и вышках. Будучи включённым, мобильный телефон прослушивает эфир, находя сигнал базовой станции. После этого телефон посылает станции свой уникальный идентификационный код. Телефон и станция поддерживают постоянный радиоконтакт, периодически обмениваясь пакетами. Связь телефона со станцией может идти по аналоговому протоколу (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AMP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NAMPS, NMT-450) или по цифровому (DAMPS, CDMA, GSM, UMTS). Если телефон выходит из поля действия базовой станции (или качество радиосигнала сервисной соты ухудшается), он налаживает связь с друг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867280" y="1557360"/>
            <a:ext cx="327672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Базовые станц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0800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азовая станция (применительно к сотовой связи) — комплекс радиопередающей аппаратуры (ретрансляторы, приёмо-передатчики), осуществляющий связь с конечным абонентским устройством — мобильным телефон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5" descr="Антенна БС на здании"/>
          <p:cNvPicPr/>
          <p:nvPr/>
        </p:nvPicPr>
        <p:blipFill>
          <a:blip r:embed="rId1"/>
          <a:stretch/>
        </p:blipFill>
        <p:spPr>
          <a:xfrm>
            <a:off x="395280" y="1773360"/>
            <a:ext cx="3071880" cy="4429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лияние СС на окружающую среду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5689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шки с оборудованием мобильной связи и сами мобильные телефоны не опаснее теле- и радиопередатчиков, по мнению британских экспертов. Часто местные жители возражают против строительства объектов инфраструктуры мобильной связи, однако отрицательное воздействие этих объектов не доказано. У телепередатчиков схожая мощность, но люди не имеют ничего против их строительства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зличные организации как государственные, так и международные  разработали множество стандартов и требований для предотвращения какого  бы  то  не  было  влияния электромагнитного  поля  на  человека  и,  почти  вся  продаваемая  техника, соответствует этим требованиям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аким  образом,  можно   заключить,   что   соблюдение   санитарных   и гигиенических норм при  градостроительстве  и  следование  необременительным рекомендациям  по  использованию  бытовых  приборов  практически  нивелирует влияние электромагнитных полей на человека. Хотя этот вопрос должен и  будет исследоваться дале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156360" y="1268280"/>
            <a:ext cx="2808360" cy="506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обильный телеф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бильный телефон – разновидность мобильной связи для осуществления контакта на территории зоны покрытия мобильной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3333960" cy="4552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Мобильная связь первого поколе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Содержимое 4" descr="mobile-evolution.gif"/>
          <p:cNvPicPr/>
          <p:nvPr/>
        </p:nvPicPr>
        <p:blipFill>
          <a:blip r:embed="rId1"/>
          <a:stretch/>
        </p:blipFill>
        <p:spPr>
          <a:xfrm>
            <a:off x="539640" y="2205000"/>
            <a:ext cx="3816360" cy="2824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44364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341360"/>
            <a:ext cx="45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ндарт CDMA, TDMA, iDEN, PDS, 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ные в таких сетях могли передаваться лишь на низких скоростях до 2,4 кбит/сек, а спектр ограничен сверху частотой 900 МГ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Мобильная связь второго поколе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0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ндарт G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авное отличие систем второго поколения заключается в том, что они "цифровые", т.е. голос передается в цифровом ви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Содержимое 4" descr="45070o.jpg"/>
          <p:cNvPicPr/>
          <p:nvPr/>
        </p:nvPicPr>
        <p:blipFill>
          <a:blip r:embed="rId1"/>
          <a:stretch/>
        </p:blipFill>
        <p:spPr>
          <a:xfrm>
            <a:off x="5003640" y="1557360"/>
            <a:ext cx="389412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5:13:06Z</dcterms:created>
  <dc:creator>User</dc:creator>
  <dc:description/>
  <dc:language>en-US</dc:language>
  <cp:lastModifiedBy>User</cp:lastModifiedBy>
  <dcterms:modified xsi:type="dcterms:W3CDTF">2013-02-07T13:53:39Z</dcterms:modified>
  <cp:revision>8</cp:revision>
  <dc:subject/>
  <dc:title>Сотовая связ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5000000000001024140</vt:lpwstr>
  </property>
</Properties>
</file>