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AE6-3A51-4D61-8098-E522A8D2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8FD-F308-4BC5-BA9B-263F5C5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0E6-AC6E-4C9D-A40C-81726661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15D-91A8-4170-91CF-E401266A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AC0C-2D46-4F20-AC71-8AE3FDE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29F5-5B08-43A3-A29D-EA7D9D28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3388-85EF-44D8-BB8F-B5D32C61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3122-E564-48A9-BF4C-DE5C0609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64FE-E8AF-4BE0-A6E7-0D32AF6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730-89BD-4B90-B5F2-183A1861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FF70-D076-4AC2-B6D4-69E1F637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5EF-06CC-439E-9A8A-7EBA7FF4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457E-F4D1-436C-8FBB-E7876C88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3F6C-E00D-4A6D-992D-44E6FB1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50E9-B9CD-4806-B0CE-124397B4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D376-AFE6-414E-BA27-C0E0F2CF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A813-7981-49F7-BED2-863DF261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144-E5C6-487C-A0F5-07D11F47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378-9590-4957-89D4-AFE8F0E0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FAC-CCC9-43D5-927C-13474BB0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A84-9D5E-430A-B240-D5C6039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4A4-3FAE-4D1B-B5A3-9C8C805E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149-3D0A-41B1-B15C-DF9F373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E5D-7AB6-432C-A311-AFD16D4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C7ED-9DBC-4458-9F39-3476E9A69A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63FD-A446-4893-82BA-15035E1B12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0;&#1086;&#1074;&#1099;&#1081;_&#1090;&#1077;&#1083;&#1077;&#1092;&#1086;&#1085;" TargetMode="External"/><Relationship Id="rId2" Type="http://schemas.openxmlformats.org/officeDocument/2006/relationships/hyperlink" Target="http://ru.wikipedia.org/wiki/AMPS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"/>
              </a:rPr>
              <a:t>Мобильная связь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610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76600" y="2897280"/>
            <a:ext cx="466740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третье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95640" y="4220640"/>
            <a:ext cx="6480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 работают на следующих скоростях передачи данных: для абонентов с высокой мобильностью (до 120 км/ч) - не менее 144 кбит/с, для абонентов с низкой мобильностью (до 3 км/ч) - 384 кбит/с, для неподвижных объектов на коротких расстояниях - 2,048 Мбит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4" descr="1.jpg"/>
          <p:cNvPicPr/>
          <p:nvPr/>
        </p:nvPicPr>
        <p:blipFill>
          <a:blip r:embed="rId1"/>
          <a:stretch/>
        </p:blipFill>
        <p:spPr>
          <a:xfrm>
            <a:off x="0" y="2349360"/>
            <a:ext cx="1928880" cy="411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45711.jpg"/>
          <p:cNvPicPr/>
          <p:nvPr/>
        </p:nvPicPr>
        <p:blipFill>
          <a:blip r:embed="rId2"/>
          <a:stretch/>
        </p:blipFill>
        <p:spPr>
          <a:xfrm>
            <a:off x="3492360" y="1268280"/>
            <a:ext cx="3743640" cy="27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Мобильные телефоны в наши дн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бильная связь лет десять назад являлась признаком богатства, а сейчас – это необходимость для многих. Нынче мобильные телефоны фактически у каждого, тяжело отыскать кого-либо, не обладающего им. Огромный прыжок произошел в развитии сотовой связи — простым разговором услуги не заканчив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просмотр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изобретате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ь мобильного телефона Мартин Купер (Martin Cooper), который был ведущим инженером в отделе Motorola, разрабатывавшем первый сотовый телефон, подверг критике современные моби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3927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беспроводной звон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0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тин Купер в апреле 1973 года сделал первый беспроводной звонок. Как он вспоминает, первый мобильник весил килограмм, а его аккумулятора хватало лишь на 20 минут разговора. Купер отметил, что это было очень кстати, так как рука все равно не выдерживала дольше двадцати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5401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нципы действ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составляющие мобильной сети — это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бильные телефон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и базовые станции, которые обычно располагают на крышах зданий и вышках. Будучи включённым, мобильный телефон прослушивает эфир, находя сигнал базовой станции. После этого телефон посылает станции свой уникальный идентификационный код. Телефон и станция поддерживают постоянный радиоконтакт, периодически обмениваясь пакетами. Связь телефона со станцией может идти по аналоговому протоколу (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MP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NAMPS, NMT-450) или по цифровому (DAMPS, CDMA, GSM, UMTS). Если телефон выходит из поля действия базовой станции (или качество радиосигнала сервисной соты ухудшается), он налаживает связь с друг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27672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азовые стан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зовая станция (применительно к сотовой связи) — комплекс радиопередающей аппаратуры (ретрансляторы, приёмо-передатчики), осуществляющий связь с конечным абонентским устройством — мобильным телефо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5" descr="Антенна БС на здании"/>
          <p:cNvPicPr/>
          <p:nvPr/>
        </p:nvPicPr>
        <p:blipFill>
          <a:blip r:embed="rId1"/>
          <a:stretch/>
        </p:blipFill>
        <p:spPr>
          <a:xfrm>
            <a:off x="395280" y="1773360"/>
            <a:ext cx="307188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лияние СС на окружающую сре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56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шки с оборудованием мобильной связи и сами мобильные телефоны не опаснее теле- и радиопередатчиков, по мнению британских экспертов. Часто местные жители возражают против строительства объектов инфраструктуры мобильной связи, однако отрицательное воздействие этих объектов не доказано. У телепередатчиков схожая мощность, но люди не имеют ничего против их строительств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личные организации как государственные, так и международные  разработали множество стандартов и требований для предотвращения какого  бы  то  не  было  влияния электромагнитного  поля  на  человека  и,  почти  вся  продаваемая  техника, соответствует этим требованиям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им  образом,  можно   заключить,   что   соблюдение   санитарных   и гигиенических норм при  градостроительстве  и  следование  необременительным рекомендациям  по  использованию  бытовых  приборов  практически  нивелирует влияние электромагнитных полей на человека. Хотя этот вопрос должен и  будет исследоваться дале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08360" cy="506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бильный телеф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бильный телефон – разновидность мобильной связи для осуществления контакта на территории зоны покрытия мобильной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333960" cy="455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перв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Содержимое 4" descr="mobile-evolution.gif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 CDMA, TDMA, iDEN, PDS, 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в таких сетях могли передаваться лишь на низких скоростях до 2,4 кбит/сек, а спектр ограничен сверху частотой 900 М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втор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ндарт G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ое отличие систем второго поколения заключается в том, что они "цифровые", т.е. голос передается в цифровом ви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одержимое 4" descr="45070o.jpg"/>
          <p:cNvPicPr/>
          <p:nvPr/>
        </p:nvPicPr>
        <p:blipFill>
          <a:blip r:embed="rId1"/>
          <a:stretch/>
        </p:blipFill>
        <p:spPr>
          <a:xfrm>
            <a:off x="5003640" y="1557360"/>
            <a:ext cx="38941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5:13:06Z</dcterms:created>
  <dc:creator>User</dc:creator>
  <dc:description/>
  <dc:language>en-US</dc:language>
  <cp:lastModifiedBy>User</cp:lastModifiedBy>
  <dcterms:modified xsi:type="dcterms:W3CDTF">2013-02-07T13:53:39Z</dcterms:modified>
  <cp:revision>8</cp:revision>
  <dc:subject/>
  <dc:title>Сотов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5000000000001024140</vt:lpwstr>
  </property>
</Properties>
</file>