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3.png" ContentType="image/png"/>
  <Override PartName="/ppt/media/image17.jpeg" ContentType="image/jpeg"/>
  <Override PartName="/ppt/media/image1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AD5-D84F-4CC9-B3E9-D58A50C6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7997-C418-4195-A20E-00C3FD68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0794-FEC3-4D34-9288-131D8592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4D5-CC78-4EE3-88AA-F60BD12A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4026-64D2-4B13-9C02-2FFCB27B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D2DD-C8E5-457C-8085-87EE7164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B4F8-64A9-42AE-8DBB-808ECB89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715B-5C54-4A07-B4C8-E5C8132F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239F-8AFC-457E-9C75-E753C8BC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04E0-720F-4A2E-A6FD-B6A5FA21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9F32-31B2-422B-8A8F-104DB94D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27D-B2C2-4F20-88B3-FBD1D27B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D80C-CA61-4261-9991-84316090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912A-3B06-4907-B52A-2652F531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23CB-DE5E-44E8-BD2A-8005914B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B1E2-53AB-47E6-AA97-907692DC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6769-A7C4-424C-AEC8-8F43431E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17A5D-3B6E-414E-8012-FFAE2286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50E16-0C00-4ABB-A736-67AE3F51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60BEC-698E-4504-ADA7-A0FC78F0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850B2-8D44-4CCA-A0EE-8720EE49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7CC12-8953-4FAD-A57A-C161EE4B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31E3-4EA2-460B-A1D6-D7588751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88CED-B9AB-409E-A4D7-669863D3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85D99-1CC9-4828-AA50-B1FE1138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FC30F-69B5-413D-8043-103B0092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5848C-E6D9-4D58-8789-ACEAE2D1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CBA7F-087B-463A-B27A-3BFD04E6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EA536-163F-43DC-8C50-AFE9796C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71C69-9A13-4854-895F-04B78341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26CB2-90CD-4FC6-81E9-7407CBC2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E9696-CFEE-4C2F-9D2F-4FEB3ECB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CE0AE-3F45-4BD8-B717-F031D556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3182-76BE-49C9-9C62-B56FC83A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473E4-124C-4A1B-8EB7-DDE915EF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1F310-83A0-4EBF-A86E-AACA7741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4BAF4-6E13-4627-A211-837A420F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23965-AB02-4219-83C1-68D262FD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76BE9-4972-4228-83AD-B496392E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132B9-0B8D-4478-9432-8C2C132A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31BD0-DBD9-4D45-A759-4EEAE994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2EC23-0B85-4F23-B729-2FE34DEB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E8162-49B3-4A48-9F00-954CAE68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D7109-FF18-4345-ACF4-AE75A3EF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6C5-2926-456D-A217-25283A58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C5C14-5CCD-40F3-8E1C-E48ACA12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DA974-9F9B-4137-A007-260433A0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C686C-250A-4D4F-ACCD-1EEEE03A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15EC2-D99D-49E1-9633-669A5EFD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D9AC1-E697-488C-8F67-9FC7DB13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9B194-A0AE-4BD7-894B-45EA50A7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538D0-9198-4CA8-A10C-D00420B4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35302-AACF-4227-9FC0-EE78304E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CACCA-7817-4F5E-8FDE-3257E97B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13733-C347-4D92-BD8E-6BCCF72B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8BC-9033-4B21-985C-88F67E5E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E8AD2-6232-4514-8A7D-E0BABE11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F9C-F96E-4DD1-9F77-C0BCE6B3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1BA-2A8A-46B8-8D2C-DB6AAEE0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C22C-2386-4DD8-8526-15BDDAA5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045c75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D037-44F5-47B2-A79A-6EFF5B24CC6C}" type="slidenum">
              <a:rPr b="0" lang="ru-RU" sz="1200" spc="-1" strike="noStrike" u="sng">
                <a:solidFill>
                  <a:srgbClr val="045c75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d1eaee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A67D-7A1B-415C-A6FD-22DC69762345}" type="slidenum">
              <a:rPr b="0" lang="ru-RU" sz="1200" spc="-1" strike="noStrike" u="sng">
                <a:solidFill>
                  <a:srgbClr val="d1eaee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d1eaee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1CE8-964B-4025-8FC5-CE321C291F5A}" type="slidenum">
              <a:rPr b="0" lang="ru-RU" sz="1200" spc="-1" strike="noStrike" u="sng">
                <a:solidFill>
                  <a:srgbClr val="d1eaee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045c75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29ED-A766-4DA2-8BC0-9D84E1ACDA06}" type="slidenum">
              <a:rPr b="0" lang="ru-RU" sz="1200" spc="-1" strike="noStrike" u="sng">
                <a:solidFill>
                  <a:srgbClr val="045c75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045c75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1F78-499F-4A19-8112-77AD307E7540}" type="slidenum">
              <a:rPr b="0" lang="ru-RU" sz="1200" spc="-1" strike="noStrike" u="sng">
                <a:solidFill>
                  <a:srgbClr val="045c75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upload.wikimedia.org/wikipedia/commons/e/ef/Samuel_Morse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hyperlink" Target="http://com-network.narod.ru/Shilling2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museum.comp-school.ru/content/data/upimages/image64.gif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2" descr=""/>
          <p:cNvPicPr/>
          <p:nvPr/>
        </p:nvPicPr>
        <p:blipFill>
          <a:blip r:embed="rId2"/>
          <a:stretch/>
        </p:blipFill>
        <p:spPr>
          <a:xfrm>
            <a:off x="-66600" y="262080"/>
            <a:ext cx="8620200" cy="15732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0" y="402264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игнальные костры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Звуковые сигналы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истема зеркал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локация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наружение объектов и определение их координат с помощью отражения радиоволн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0" name="Picture 4" descr="лок"/>
          <p:cNvPicPr/>
          <p:nvPr/>
        </p:nvPicPr>
        <p:blipFill>
          <a:blip r:embed="rId1"/>
          <a:stretch/>
        </p:blipFill>
        <p:spPr>
          <a:xfrm>
            <a:off x="4067280" y="3860640"/>
            <a:ext cx="2735280" cy="191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250920" y="3154320"/>
            <a:ext cx="3751200" cy="3703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File0011"/>
          <p:cNvPicPr/>
          <p:nvPr/>
        </p:nvPicPr>
        <p:blipFill>
          <a:blip r:embed="rId3"/>
          <a:stretch/>
        </p:blipFill>
        <p:spPr>
          <a:xfrm>
            <a:off x="6956280" y="3789360"/>
            <a:ext cx="2187720" cy="306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Object 2" descr=""/>
          <p:cNvPicPr/>
          <p:nvPr/>
        </p:nvPicPr>
        <p:blipFill>
          <a:blip r:embed="rId1"/>
          <a:stretch/>
        </p:blipFill>
        <p:spPr>
          <a:xfrm>
            <a:off x="3780000" y="3382920"/>
            <a:ext cx="4830480" cy="3220920"/>
          </a:xfrm>
          <a:prstGeom prst="rect">
            <a:avLst/>
          </a:prstGeom>
          <a:ln w="0">
            <a:noFill/>
          </a:ln>
        </p:spPr>
      </p:pic>
      <p:pic>
        <p:nvPicPr>
          <p:cNvPr id="294" name="Rectangle 3" descr=""/>
          <p:cNvPicPr/>
          <p:nvPr/>
        </p:nvPicPr>
        <p:blipFill>
          <a:blip r:embed="rId2"/>
          <a:stretch/>
        </p:blipFill>
        <p:spPr>
          <a:xfrm>
            <a:off x="4286160" y="609480"/>
            <a:ext cx="4175280" cy="11462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932000" y="692280"/>
            <a:ext cx="3816360" cy="79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bf5f9"/>
                </a:solidFill>
                <a:latin typeface="Constantia"/>
              </a:rPr>
              <a:t>РАДИОЛОК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6" name="Object 5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321080" cy="30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8" name="Object 7" descr=""/>
          <p:cNvPicPr/>
          <p:nvPr/>
        </p:nvPicPr>
        <p:blipFill>
          <a:blip r:embed="rId1"/>
          <a:stretch/>
        </p:blipFill>
        <p:spPr>
          <a:xfrm>
            <a:off x="5292720" y="4365720"/>
            <a:ext cx="3311640" cy="2016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5508720" y="189000"/>
            <a:ext cx="3235320" cy="3744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4176720" cy="32274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4535280" cy="295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Телевидение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уществляет передачу информации с помощью радиоволн. Так же как и звуковой сигнал, волны несут изображени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4" descr="1 цветной телевизор"/>
          <p:cNvPicPr/>
          <p:nvPr/>
        </p:nvPicPr>
        <p:blipFill>
          <a:blip r:embed="rId1"/>
          <a:stretch/>
        </p:blipFill>
        <p:spPr>
          <a:xfrm>
            <a:off x="250920" y="3933720"/>
            <a:ext cx="1981080" cy="2214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теле 2"/>
          <p:cNvPicPr/>
          <p:nvPr/>
        </p:nvPicPr>
        <p:blipFill>
          <a:blip r:embed="rId2"/>
          <a:stretch/>
        </p:blipFill>
        <p:spPr>
          <a:xfrm>
            <a:off x="6300720" y="3500280"/>
            <a:ext cx="2616120" cy="30686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увидерли 1 теле"/>
          <p:cNvPicPr/>
          <p:nvPr/>
        </p:nvPicPr>
        <p:blipFill>
          <a:blip r:embed="rId3"/>
          <a:stretch/>
        </p:blipFill>
        <p:spPr>
          <a:xfrm>
            <a:off x="2556000" y="4076640"/>
            <a:ext cx="3311280" cy="26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542880" y="1054080"/>
            <a:ext cx="7851960" cy="36403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309" name="Улыбающееся лицо 3"/>
          <p:cNvGrpSpPr/>
          <p:nvPr/>
        </p:nvGrpSpPr>
        <p:grpSpPr>
          <a:xfrm>
            <a:off x="6735600" y="3108240"/>
            <a:ext cx="1049400" cy="1049400"/>
            <a:chOff x="6735600" y="3108240"/>
            <a:chExt cx="1049400" cy="1049400"/>
          </a:xfrm>
        </p:grpSpPr>
        <p:pic>
          <p:nvPicPr>
            <p:cNvPr id="310" name="Улыбающееся лицо 3" descr=""/>
            <p:cNvPicPr/>
            <p:nvPr/>
          </p:nvPicPr>
          <p:blipFill>
            <a:blip r:embed="rId2"/>
            <a:stretch/>
          </p:blipFill>
          <p:spPr>
            <a:xfrm>
              <a:off x="6735600" y="3108240"/>
              <a:ext cx="104940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937200" y="3274920"/>
              <a:ext cx="6480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Изображение:Samuel Mors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0"/>
            <a:ext cx="3816360" cy="400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aphicFrame>
        <p:nvGraphicFramePr>
          <p:cNvPr id="250" name=""/>
          <p:cNvGraphicFramePr/>
          <p:nvPr/>
        </p:nvGraphicFramePr>
        <p:xfrm>
          <a:off x="609480" y="4191120"/>
          <a:ext cx="7543800" cy="2239920"/>
        </p:xfrm>
        <a:graphic>
          <a:graphicData uri="http://schemas.openxmlformats.org/drawingml/2006/table">
            <a:tbl>
              <a:tblPr/>
              <a:tblGrid>
                <a:gridCol w="1838520"/>
                <a:gridCol w="2054160"/>
                <a:gridCol w="1327320"/>
                <a:gridCol w="2323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символ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инский символ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Морзе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пев»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 −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й-да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 · ·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а-ки-те-кут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 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 − −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-даа-ла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телегр"/>
          <p:cNvPicPr/>
          <p:nvPr/>
        </p:nvPicPr>
        <p:blipFill>
          <a:blip r:embed="rId2"/>
          <a:stretch/>
        </p:blipFill>
        <p:spPr>
          <a:xfrm>
            <a:off x="3886200" y="3886200"/>
            <a:ext cx="4648320" cy="2792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3" name="Text Box 3"/>
          <p:cNvSpPr/>
          <p:nvPr/>
        </p:nvSpPr>
        <p:spPr>
          <a:xfrm>
            <a:off x="2743200" y="304920"/>
            <a:ext cx="50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dd9"/>
                </a:solidFill>
                <a:latin typeface="Arial"/>
              </a:rPr>
              <a:t>Первый телеграф: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4" name="Picture 4" descr="Картинка 2 из 4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914400"/>
            <a:ext cx="2809800" cy="190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5" name="Text Box 5"/>
          <p:cNvSpPr/>
          <p:nvPr/>
        </p:nvSpPr>
        <p:spPr>
          <a:xfrm>
            <a:off x="360" y="6019920"/>
            <a:ext cx="34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граф Морзе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4877280" y="1295280"/>
            <a:ext cx="40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граф Шиллинга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7" name="Picture 7" descr="Картинка 3 из 1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3124080"/>
            <a:ext cx="3124440" cy="239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8" name="Text Box 8"/>
          <p:cNvSpPr/>
          <p:nvPr/>
        </p:nvSpPr>
        <p:spPr>
          <a:xfrm rot="20511600">
            <a:off x="3809880" y="2666520"/>
            <a:ext cx="38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граф Уитстона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телефонная связь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imagesCA5O3JQC"/>
          <p:cNvPicPr/>
          <p:nvPr/>
        </p:nvPicPr>
        <p:blipFill>
          <a:blip r:embed="rId1"/>
          <a:stretch/>
        </p:blipFill>
        <p:spPr>
          <a:xfrm rot="939000">
            <a:off x="579600" y="3684600"/>
            <a:ext cx="2117520" cy="2719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222px-ATTtelephone-large"/>
          <p:cNvPicPr/>
          <p:nvPr/>
        </p:nvPicPr>
        <p:blipFill>
          <a:blip r:embed="rId2"/>
          <a:stretch/>
        </p:blipFill>
        <p:spPr>
          <a:xfrm rot="1039800">
            <a:off x="5651640" y="1412640"/>
            <a:ext cx="2323800" cy="232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imagesCAR95YI0"/>
          <p:cNvPicPr/>
          <p:nvPr/>
        </p:nvPicPr>
        <p:blipFill>
          <a:blip r:embed="rId3"/>
          <a:stretch/>
        </p:blipFill>
        <p:spPr>
          <a:xfrm>
            <a:off x="900000" y="1484280"/>
            <a:ext cx="2735280" cy="223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imagesCAVDR22X"/>
          <p:cNvPicPr/>
          <p:nvPr/>
        </p:nvPicPr>
        <p:blipFill>
          <a:blip r:embed="rId4"/>
          <a:stretch/>
        </p:blipFill>
        <p:spPr>
          <a:xfrm rot="20581800">
            <a:off x="5678640" y="3742920"/>
            <a:ext cx="2538360" cy="2538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100px-Telefon_VHM_ubt"/>
          <p:cNvPicPr/>
          <p:nvPr/>
        </p:nvPicPr>
        <p:blipFill>
          <a:blip r:embed="rId5"/>
          <a:stretch/>
        </p:blipFill>
        <p:spPr>
          <a:xfrm>
            <a:off x="3203640" y="3213000"/>
            <a:ext cx="2233440" cy="302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телефонная связ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полагает передачу  информации только для приема конкретным абонент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3529080" cy="38224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"/>
          <p:cNvSpPr/>
          <p:nvPr/>
        </p:nvSpPr>
        <p:spPr>
          <a:xfrm>
            <a:off x="179280" y="623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лександр Белл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2"/>
          <a:stretch/>
        </p:blipFill>
        <p:spPr>
          <a:xfrm>
            <a:off x="4572000" y="2205000"/>
            <a:ext cx="4208400" cy="40435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4643280" y="6237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лефон Белла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 апреле 1895 г. А.С.Попов создал первый приемник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1762200" y="1627200"/>
            <a:ext cx="5997600" cy="52308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6588000" y="5157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С.Попо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ервый радиоприемник, созданный А.С.Поповы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4968720" cy="4516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2"/>
          <a:stretch/>
        </p:blipFill>
        <p:spPr>
          <a:xfrm>
            <a:off x="5508720" y="3213000"/>
            <a:ext cx="338436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вещани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дача в эфир речи, музыки, звуковых эффектов с помощью электромагнитных волн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3700440" cy="2502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2"/>
          <a:stretch/>
        </p:blipFill>
        <p:spPr>
          <a:xfrm>
            <a:off x="6877080" y="2708280"/>
            <a:ext cx="2052720" cy="31399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7"/>
          <p:cNvSpPr/>
          <p:nvPr/>
        </p:nvSpPr>
        <p:spPr>
          <a:xfrm>
            <a:off x="179280" y="623736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Arial"/>
              </a:rPr>
              <a:t>Первый ламповый приемник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6804000" y="595008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Радиоприемник 90-х годо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ompany06b"/>
          <p:cNvPicPr/>
          <p:nvPr/>
        </p:nvPicPr>
        <p:blipFill>
          <a:blip r:embed="rId1"/>
          <a:stretch/>
        </p:blipFill>
        <p:spPr>
          <a:xfrm>
            <a:off x="-612720" y="0"/>
            <a:ext cx="11017080" cy="71010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"/>
          <p:cNvSpPr/>
          <p:nvPr/>
        </p:nvSpPr>
        <p:spPr>
          <a:xfrm>
            <a:off x="2050920" y="6165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ИНЦИП РАДИОСВЯЗИ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12:41Z</dcterms:created>
  <dc:creator>Ирина</dc:creator>
  <dc:description/>
  <dc:language>en-US</dc:language>
  <cp:lastModifiedBy>School</cp:lastModifiedBy>
  <dcterms:modified xsi:type="dcterms:W3CDTF">2013-01-28T07:56:36Z</dcterms:modified>
  <cp:revision>56</cp:revision>
  <dc:subject/>
  <dc:title>Развитие средств связ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17000000000001024140</vt:lpwstr>
  </property>
</Properties>
</file>