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665D-4CB0-4B2F-9F0D-858798B3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9A14-9675-4079-B014-0835F391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193-77D0-4049-96DF-23A07D04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87D8-4662-40EE-ADBA-F7E1019E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7D2B-7D77-451B-B657-B12C4D2C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F5C3-A521-4830-BBCF-06FEAB7E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B367-58FC-4ADD-9088-0B0AEED8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6473-B436-46E0-8C4A-3ED8C163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3224-FB64-4194-8327-A81E000A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3533-24D5-4D0A-B3BA-045C59D98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D809-F7C3-4098-B61D-4ADE13E6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000C-8BB4-4E8E-A2D5-2D48360E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9328-9A45-4805-9703-B12E9332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C067-9487-4934-AABB-61FF8860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0133-ECEC-44C2-AB03-B058B273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BBA4-BB77-414B-A4AD-3C929E73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52DA-0CA9-44A3-B6CF-A465B44B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9EAE-8954-43FE-BFA6-FE227CE6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3AFE-D778-470C-8AED-B73EA761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93FB-1C0F-49A8-922A-B65592F9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51DD-129A-4087-9621-CA81CFE2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0FE0-F526-4EF6-A55D-3E5892EF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FD0B-D45C-4F22-B969-4B17A137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7747-7015-411F-A692-9EA3534C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8A9F-E637-48B1-BCF4-31B626B5258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7E40-9243-4C22-8DD1-9B71358655A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86;&#1090;&#1086;&#1074;&#1099;&#1081;_&#1090;&#1077;&#1083;&#1077;&#1092;&#1086;&#1085;" TargetMode="External"/><Relationship Id="rId2" Type="http://schemas.openxmlformats.org/officeDocument/2006/relationships/hyperlink" Target="http://ru.wikipedia.org/wiki/AMPS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2b2b2"/>
                </a:solidFill>
                <a:latin typeface="Arial"/>
              </a:rPr>
              <a:t>Мобильная связь</a:t>
            </a:r>
            <a:endParaRPr b="0" lang="en-US" sz="8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3961080" cy="2919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476600" y="2897280"/>
            <a:ext cx="4667400" cy="3960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Мобильная связь третьего поколения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95640" y="4220640"/>
            <a:ext cx="64800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стемы работают на следующих скоростях передачи данных: для абонентов с высокой мобильностью (до 120 км/ч) - не менее 144 кбит/с, для абонентов с низкой мобильностью (до 3 км/ч) - 384 кбит/с, для неподвижных объектов на коротких расстояниях - 2,048 Мбит/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Содержимое 4" descr="1.jpg"/>
          <p:cNvPicPr/>
          <p:nvPr/>
        </p:nvPicPr>
        <p:blipFill>
          <a:blip r:embed="rId1"/>
          <a:stretch/>
        </p:blipFill>
        <p:spPr>
          <a:xfrm>
            <a:off x="0" y="2349360"/>
            <a:ext cx="1928880" cy="41198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45711.jpg"/>
          <p:cNvPicPr/>
          <p:nvPr/>
        </p:nvPicPr>
        <p:blipFill>
          <a:blip r:embed="rId2"/>
          <a:stretch/>
        </p:blipFill>
        <p:spPr>
          <a:xfrm>
            <a:off x="3492360" y="1268280"/>
            <a:ext cx="3743640" cy="2716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Мобильные телефоны в наши дни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обильная связь лет десять назад являлась признаком богатства, а сейчас – это необходимость для многих. Нынче мобильные телефоны фактически у каждого, тяжело отыскать кого-либо, не обладающего им. Огромный прыжок произошел в развитии сотовой связи — простым разговором услуги не заканчивают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4067280" cy="417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628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Спасибо за просмотр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ервый изобретател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3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тель мобильного телефона Мартин Купер (Martin Cooper), который был ведущим инженером в отделе Motorola, разрабатывавшем первый сотовый телефон, подверг критике современные мобильни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392720" cy="3809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ервый беспроводной звонок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5280" y="1628640"/>
            <a:ext cx="49071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ртин Купер в апреле 1973 года сделал первый беспроводной звонок. Как он вспоминает, первый мобильник весил килограмм, а его аккумулятора хватало лишь на 20 минут разговора. Купер отметил, что это было очень кстати, так как рука все равно не выдерживала дольше двадцати мину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2540160" cy="5199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инципы действ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новные составляющие мобильной сети — это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мобильные телефоны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и базовые станции, которые обычно располагают на крышах зданий и вышках. Будучи включённым, мобильный телефон прослушивает эфир, находя сигнал базовой станции. После этого телефон посылает станции свой уникальный идентификационный код. Телефон и станция поддерживают постоянный радиоконтакт, периодически обмениваясь пакетами. Связь телефона со станцией может идти по аналоговому протоколу (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AMPS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, NAMPS, NMT-450) или по цифровому (DAMPS, CDMA, GSM, UMTS). Если телефон выходит из поля действия базовой станции (или качество радиосигнала сервисной соты ухудшается), он налаживает связь с друг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867280" y="1557360"/>
            <a:ext cx="3276720" cy="4103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Базовые станци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0800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азовая станция (применительно к сотовой связи) — комплекс радиопередающей аппаратуры (ретрансляторы, приёмо-передатчики), осуществляющий связь с конечным абонентским устройством — мобильным телефон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Рисунок 5" descr="Антенна БС на здании"/>
          <p:cNvPicPr/>
          <p:nvPr/>
        </p:nvPicPr>
        <p:blipFill>
          <a:blip r:embed="rId1"/>
          <a:stretch/>
        </p:blipFill>
        <p:spPr>
          <a:xfrm>
            <a:off x="395280" y="1773360"/>
            <a:ext cx="3071880" cy="4429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Влияние СС на окружающую среду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5689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ышки с оборудованием мобильной связи и сами мобильные телефоны не опаснее теле- и радиопередатчиков, по мнению британских экспертов. Часто местные жители возражают против строительства объектов инфраструктуры мобильной связи, однако отрицательное воздействие этих объектов не доказано. У телепередатчиков схожая мощность, но люди не имеют ничего против их строительства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азличные организации как государственные, так и международные  разработали множество стандартов и требований для предотвращения какого  бы  то  не  было  влияния электромагнитного  поля  на  человека  и,  почти  вся  продаваемая  техника, соответствует этим требованиям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аким  образом,  можно   заключить,   что   соблюдение   санитарных   и гигиенических норм при  градостроительстве  и  следование  необременительным рекомендациям  по  использованию  бытовых  приборов  практически  нивелирует влияние электромагнитных полей на человека. Хотя этот вопрос должен и  будет исследоваться дале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156360" y="1268280"/>
            <a:ext cx="2808360" cy="506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обильный телефо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бильный телефон – разновидность мобильной связи для осуществления контакта на территории зоны покрытия мобильной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80000" y="1413000"/>
            <a:ext cx="3333960" cy="4552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Мобильная связь первого поколения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Содержимое 4" descr="mobile-evolution.gif"/>
          <p:cNvPicPr/>
          <p:nvPr/>
        </p:nvPicPr>
        <p:blipFill>
          <a:blip r:embed="rId1"/>
          <a:stretch/>
        </p:blipFill>
        <p:spPr>
          <a:xfrm>
            <a:off x="539640" y="2205000"/>
            <a:ext cx="3816360" cy="28242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443640" y="4005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84720" y="1341360"/>
            <a:ext cx="4572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ндарт CDMA, TDMA, iDEN, PDS, 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ные в таких сетях могли передаваться лишь на низких скоростях до 2,4 кбит/сек, а спектр ограничен сверху частотой 900 МГц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Мобильная связь второго поколения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70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ндарт G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лавное отличие систем второго поколения заключается в том, что они "цифровые", т.е. голос передается в цифровом вид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Содержимое 4" descr="45070o.jpg"/>
          <p:cNvPicPr/>
          <p:nvPr/>
        </p:nvPicPr>
        <p:blipFill>
          <a:blip r:embed="rId1"/>
          <a:stretch/>
        </p:blipFill>
        <p:spPr>
          <a:xfrm>
            <a:off x="5003640" y="1557360"/>
            <a:ext cx="389412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5:13:06Z</dcterms:created>
  <dc:creator>User</dc:creator>
  <dc:description/>
  <dc:language>en-US</dc:language>
  <cp:lastModifiedBy>User</cp:lastModifiedBy>
  <dcterms:modified xsi:type="dcterms:W3CDTF">2013-02-07T13:53:39Z</dcterms:modified>
  <cp:revision>8</cp:revision>
  <dc:subject/>
  <dc:title>Сотовая связ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5000000000001024140</vt:lpwstr>
  </property>
</Properties>
</file>