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.png" ContentType="image/png"/>
  <Override PartName="/ppt/media/image17.jpeg" ContentType="image/jpe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292-9B5F-46B6-81EA-F7ED9937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C65-3948-43B8-8D0C-C9278F91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9AD-79D1-410C-ADEC-80BB92F3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8D1-B558-45B9-9A3C-49E0CFBA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8C02-057F-42F6-A628-685182FF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F376-CC51-4123-9FD0-2E87922F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710D-ADE7-4A79-B2AE-A97D60A0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B1E3-F659-44DB-9577-58908245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8AF3-CF70-4664-B495-25E48115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05BE-48D1-4320-A942-B6302431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C975-81B9-42DD-80DF-0B7408B3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6883-3F3E-4D62-8505-BC52AA41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A570-2AB5-4B00-8016-A3576B72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5724-67D9-41C7-A753-C868E693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D1F5-5D48-4A71-ACCA-68700AD8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0427-E252-4BE2-9652-CB4900F6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EE67-6A3F-4A3A-99F0-80FAF598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C757F-B0DB-499C-9BCD-702999A4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160F-3A15-486E-84E7-312E9241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9513-26C4-4945-A128-1891B275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66C79-B805-49E6-AA5D-65DF3EE3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4ECBA-CD22-48B4-B37C-7C3C2D5D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090-3CF0-4B68-8F54-92154099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D2593-9829-4BD1-80B5-2F991675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60BEA-9E2F-45D2-B9E3-633D6A03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C874-116F-4E7A-A671-2A982759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BB134-5871-408B-A2B8-DB907FCE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6BB68-3B34-41EF-8B45-BA00A824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906E7-0B99-4598-8E43-F259F525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B9E0-AD0A-4A07-85A8-9C352EBE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1F24A-7C00-4026-AE95-91910F9F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408E5-CC39-443A-890B-84B64E9B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74937-E7AB-413C-A3AD-E084E0B5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94B-1304-4B69-8EF3-4340C23A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9817D-C47D-4EAA-BA25-2A0D1214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AA9E5-A88A-4B9F-BBE1-04AC9E4D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61734-40BA-49BC-A279-9236D9FC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4FB4E-CED8-4C5C-8DB1-D96089A7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99CCE-8308-48BB-A0C7-60A3FDC8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16D9C-B89B-4359-907E-61689E8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43420-1713-48BF-9E6C-5969B2CA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9E89D-31E1-49E7-8E4A-BFBA3DF6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979E1-1C09-4FEE-AA9A-F28503F8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4B3CC-0C0C-4EF6-8672-6A840E43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294-E550-4EBC-8DD4-60CCB2DB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244FE-CBF9-495E-9F16-C115D662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D070D-A36A-4EB3-9183-6E25F4F7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47736-B1D3-4FA4-8B55-36E309A2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7FEF2-6A26-4998-AF48-731554F2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5726D-8726-4F31-9752-8E8DB911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6A99C-4775-41FE-B314-39342F57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C6EA2-0F96-45CA-A51D-BE02FEBE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B16BF-5E52-43AE-A6AE-E7A260E5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692E3-8C7C-48AD-8D5E-7F924A96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8C70F-1FC0-4FB5-B756-486CA4EA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FCF-2555-4B53-A740-DAE8CC94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D58BB-843D-43A0-8262-B5A58F56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AF7-6D90-4BE4-BD76-68FCE732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395-69CB-4490-9561-652250A3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BC2-6BFB-49BA-9EB2-5FBFABC4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D4D4-EB8A-4849-A8DE-C0B3BF997AA0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d1eaee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12C4-31CF-4B39-90E4-2434709A1AD8}" type="slidenum">
              <a:rPr b="0" lang="ru-RU" sz="1200" spc="-1" strike="noStrike" u="sng">
                <a:solidFill>
                  <a:srgbClr val="d1eaee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d1eaee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216D-8320-4ACD-A070-DE9ACB97EDDB}" type="slidenum">
              <a:rPr b="0" lang="ru-RU" sz="1200" spc="-1" strike="noStrike" u="sng">
                <a:solidFill>
                  <a:srgbClr val="d1eaee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5AA5-8641-4880-A547-8BBA45B8383D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C9DA-2785-408F-A034-5D102B784572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e/ef/Samuel_Morse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hyperlink" Target="http://com-network.narod.ru/Shilling2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useum.comp-school.ru/content/data/upimages/image64.gif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2" descr=""/>
          <p:cNvPicPr/>
          <p:nvPr/>
        </p:nvPicPr>
        <p:blipFill>
          <a:blip r:embed="rId2"/>
          <a:stretch/>
        </p:blipFill>
        <p:spPr>
          <a:xfrm>
            <a:off x="-66600" y="262080"/>
            <a:ext cx="8620200" cy="15732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0" y="402264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игнальные костры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Звуковые сигналы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истема зеркал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локация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наружение объектов и определение их координат с помощью отражения радиоволн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4" descr="лок"/>
          <p:cNvPicPr/>
          <p:nvPr/>
        </p:nvPicPr>
        <p:blipFill>
          <a:blip r:embed="rId1"/>
          <a:stretch/>
        </p:blipFill>
        <p:spPr>
          <a:xfrm>
            <a:off x="4067280" y="3860640"/>
            <a:ext cx="273528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250920" y="3154320"/>
            <a:ext cx="3751200" cy="3703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File0011"/>
          <p:cNvPicPr/>
          <p:nvPr/>
        </p:nvPicPr>
        <p:blipFill>
          <a:blip r:embed="rId3"/>
          <a:stretch/>
        </p:blipFill>
        <p:spPr>
          <a:xfrm>
            <a:off x="6956280" y="3789360"/>
            <a:ext cx="2187720" cy="306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Object 2" descr=""/>
          <p:cNvPicPr/>
          <p:nvPr/>
        </p:nvPicPr>
        <p:blipFill>
          <a:blip r:embed="rId1"/>
          <a:stretch/>
        </p:blipFill>
        <p:spPr>
          <a:xfrm>
            <a:off x="3780000" y="3382920"/>
            <a:ext cx="4830480" cy="3220920"/>
          </a:xfrm>
          <a:prstGeom prst="rect">
            <a:avLst/>
          </a:prstGeom>
          <a:ln w="0">
            <a:noFill/>
          </a:ln>
        </p:spPr>
      </p:pic>
      <p:pic>
        <p:nvPicPr>
          <p:cNvPr id="294" name="Rectangle 3" descr=""/>
          <p:cNvPicPr/>
          <p:nvPr/>
        </p:nvPicPr>
        <p:blipFill>
          <a:blip r:embed="rId2"/>
          <a:stretch/>
        </p:blipFill>
        <p:spPr>
          <a:xfrm>
            <a:off x="4286160" y="609480"/>
            <a:ext cx="4175280" cy="11462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932000" y="692280"/>
            <a:ext cx="3816360" cy="79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bf5f9"/>
                </a:solidFill>
                <a:latin typeface="Constantia"/>
              </a:rPr>
              <a:t>РАДИОЛОК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Object 5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321080" cy="30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Object 7" descr=""/>
          <p:cNvPicPr/>
          <p:nvPr/>
        </p:nvPicPr>
        <p:blipFill>
          <a:blip r:embed="rId1"/>
          <a:stretch/>
        </p:blipFill>
        <p:spPr>
          <a:xfrm>
            <a:off x="5292720" y="4365720"/>
            <a:ext cx="3311640" cy="2016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5508720" y="189000"/>
            <a:ext cx="3235320" cy="3744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4176720" cy="32274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4535280" cy="295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Телевидение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уществляет передачу информации с помощью радиоволн. Так же как и звуковой сигнал, волны несут изображе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4" descr="1 цветной телевизор"/>
          <p:cNvPicPr/>
          <p:nvPr/>
        </p:nvPicPr>
        <p:blipFill>
          <a:blip r:embed="rId1"/>
          <a:stretch/>
        </p:blipFill>
        <p:spPr>
          <a:xfrm>
            <a:off x="250920" y="3933720"/>
            <a:ext cx="1981080" cy="2214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теле 2"/>
          <p:cNvPicPr/>
          <p:nvPr/>
        </p:nvPicPr>
        <p:blipFill>
          <a:blip r:embed="rId2"/>
          <a:stretch/>
        </p:blipFill>
        <p:spPr>
          <a:xfrm>
            <a:off x="6300720" y="3500280"/>
            <a:ext cx="2616120" cy="3068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увидерли 1 теле"/>
          <p:cNvPicPr/>
          <p:nvPr/>
        </p:nvPicPr>
        <p:blipFill>
          <a:blip r:embed="rId3"/>
          <a:stretch/>
        </p:blipFill>
        <p:spPr>
          <a:xfrm>
            <a:off x="2556000" y="4076640"/>
            <a:ext cx="3311280" cy="26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542880" y="1054080"/>
            <a:ext cx="7851960" cy="36403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09" name="Улыбающееся лицо 3"/>
          <p:cNvGrpSpPr/>
          <p:nvPr/>
        </p:nvGrpSpPr>
        <p:grpSpPr>
          <a:xfrm>
            <a:off x="6735600" y="3108240"/>
            <a:ext cx="1049400" cy="1049400"/>
            <a:chOff x="6735600" y="3108240"/>
            <a:chExt cx="1049400" cy="1049400"/>
          </a:xfrm>
        </p:grpSpPr>
        <p:pic>
          <p:nvPicPr>
            <p:cNvPr id="310" name="Улыбающееся лицо 3" descr=""/>
            <p:cNvPicPr/>
            <p:nvPr/>
          </p:nvPicPr>
          <p:blipFill>
            <a:blip r:embed="rId2"/>
            <a:stretch/>
          </p:blipFill>
          <p:spPr>
            <a:xfrm>
              <a:off x="6735600" y="3108240"/>
              <a:ext cx="10494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937200" y="3274920"/>
              <a:ext cx="6480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Изображение:Samuel Mors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0"/>
            <a:ext cx="3816360" cy="400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aphicFrame>
        <p:nvGraphicFramePr>
          <p:cNvPr id="250" name=""/>
          <p:cNvGraphicFramePr/>
          <p:nvPr/>
        </p:nvGraphicFramePr>
        <p:xfrm>
          <a:off x="609480" y="4191120"/>
          <a:ext cx="7543800" cy="2239920"/>
        </p:xfrm>
        <a:graphic>
          <a:graphicData uri="http://schemas.openxmlformats.org/drawingml/2006/table">
            <a:tbl>
              <a:tblPr/>
              <a:tblGrid>
                <a:gridCol w="1838520"/>
                <a:gridCol w="2054160"/>
                <a:gridCol w="1327320"/>
                <a:gridCol w="2323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симво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инский симво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Морзе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пев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−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й-да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· ·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а-ки-те-кут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− −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-даа-ла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телегр"/>
          <p:cNvPicPr/>
          <p:nvPr/>
        </p:nvPicPr>
        <p:blipFill>
          <a:blip r:embed="rId2"/>
          <a:stretch/>
        </p:blipFill>
        <p:spPr>
          <a:xfrm>
            <a:off x="3886200" y="3886200"/>
            <a:ext cx="4648320" cy="2792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3" name="Text Box 3"/>
          <p:cNvSpPr/>
          <p:nvPr/>
        </p:nvSpPr>
        <p:spPr>
          <a:xfrm>
            <a:off x="2743200" y="304920"/>
            <a:ext cx="50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dd9"/>
                </a:solidFill>
                <a:latin typeface="Arial"/>
              </a:rPr>
              <a:t>Первый телеграф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4" name="Picture 4" descr="Картинка 2 из 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914400"/>
            <a:ext cx="2809800" cy="190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5" name="Text Box 5"/>
          <p:cNvSpPr/>
          <p:nvPr/>
        </p:nvSpPr>
        <p:spPr>
          <a:xfrm>
            <a:off x="360" y="6019920"/>
            <a:ext cx="34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Морзе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4877280" y="1295280"/>
            <a:ext cx="40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Шиллинг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7" name="Picture 7" descr="Картинка 3 из 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3124080"/>
            <a:ext cx="3124440" cy="23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8" name="Text Box 8"/>
          <p:cNvSpPr/>
          <p:nvPr/>
        </p:nvSpPr>
        <p:spPr>
          <a:xfrm rot="20511600">
            <a:off x="3809880" y="266652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Уитстон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телефонная связь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imagesCA5O3JQC"/>
          <p:cNvPicPr/>
          <p:nvPr/>
        </p:nvPicPr>
        <p:blipFill>
          <a:blip r:embed="rId1"/>
          <a:stretch/>
        </p:blipFill>
        <p:spPr>
          <a:xfrm rot="939000">
            <a:off x="579600" y="3684600"/>
            <a:ext cx="2117520" cy="2719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222px-ATTtelephone-large"/>
          <p:cNvPicPr/>
          <p:nvPr/>
        </p:nvPicPr>
        <p:blipFill>
          <a:blip r:embed="rId2"/>
          <a:stretch/>
        </p:blipFill>
        <p:spPr>
          <a:xfrm rot="1039800">
            <a:off x="5651640" y="1412640"/>
            <a:ext cx="2323800" cy="232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imagesCAR95YI0"/>
          <p:cNvPicPr/>
          <p:nvPr/>
        </p:nvPicPr>
        <p:blipFill>
          <a:blip r:embed="rId3"/>
          <a:stretch/>
        </p:blipFill>
        <p:spPr>
          <a:xfrm>
            <a:off x="900000" y="1484280"/>
            <a:ext cx="2735280" cy="223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imagesCAVDR22X"/>
          <p:cNvPicPr/>
          <p:nvPr/>
        </p:nvPicPr>
        <p:blipFill>
          <a:blip r:embed="rId4"/>
          <a:stretch/>
        </p:blipFill>
        <p:spPr>
          <a:xfrm rot="20581800">
            <a:off x="5678640" y="3742920"/>
            <a:ext cx="2538360" cy="2538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100px-Telefon_VHM_ubt"/>
          <p:cNvPicPr/>
          <p:nvPr/>
        </p:nvPicPr>
        <p:blipFill>
          <a:blip r:embed="rId5"/>
          <a:stretch/>
        </p:blipFill>
        <p:spPr>
          <a:xfrm>
            <a:off x="3203640" y="3213000"/>
            <a:ext cx="2233440" cy="30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телефонная связ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полагает передачу  информации только для приема конкретным абонент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529080" cy="38224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17928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лександр Белл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4572000" y="2205000"/>
            <a:ext cx="4208400" cy="40435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464328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лефон Белл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 апреле 1895 г. А.С.Попов создал первый приемник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1762200" y="1627200"/>
            <a:ext cx="5997600" cy="52308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6588000" y="5157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Попо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ервый радиоприемник, созданный А.С.Попов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968720" cy="4516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33843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вещани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дача в эфир речи, музыки, звуковых эффектов с помощью электромагнитных волн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3700440" cy="2502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6877080" y="2708280"/>
            <a:ext cx="2052720" cy="31399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7"/>
          <p:cNvSpPr/>
          <p:nvPr/>
        </p:nvSpPr>
        <p:spPr>
          <a:xfrm>
            <a:off x="179280" y="623736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Arial"/>
              </a:rPr>
              <a:t>Первый ламповый приемник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6804000" y="595008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Радиоприемник 90-х годо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ompany06b"/>
          <p:cNvPicPr/>
          <p:nvPr/>
        </p:nvPicPr>
        <p:blipFill>
          <a:blip r:embed="rId1"/>
          <a:stretch/>
        </p:blipFill>
        <p:spPr>
          <a:xfrm>
            <a:off x="-612720" y="0"/>
            <a:ext cx="11017080" cy="7101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2050920" y="6165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ИНЦИП РАДИОСВЯЗИ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2:41Z</dcterms:created>
  <dc:creator>Ирина</dc:creator>
  <dc:description/>
  <dc:language>en-US</dc:language>
  <cp:lastModifiedBy>School</cp:lastModifiedBy>
  <dcterms:modified xsi:type="dcterms:W3CDTF">2013-01-28T07:56:36Z</dcterms:modified>
  <cp:revision>56</cp:revision>
  <dc:subject/>
  <dc:title>Развитие средств связ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17000000000001024140</vt:lpwstr>
  </property>
</Properties>
</file>