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0AA-89EF-4D4C-9867-9711157E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1C4-C75F-4C8C-9DF4-0FEEB200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4CA-F51A-47C8-B292-5E8378412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E934-15D3-4764-AD3E-83879581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82FC-6803-41B9-A109-BBBDCB8F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7835-4CAD-4B24-B48E-8EA8FAFC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BAE3-D353-4A5A-8766-D3506499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9652-85B0-4AAE-86FD-A2DC8C7D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A64B-A343-4DDE-8DF0-C33EBEF4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FA79-C2F2-43A0-BC02-2538A83B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C1FF-B662-446D-A8E1-04FF9863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CBBE-4840-4BBE-846A-752D53F6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4124-83BA-4680-A413-742031FF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2819-1687-43D9-9965-5AF695D0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5418-23C5-4DAF-AA45-B1AD0BC3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AA1C-7283-44E0-9F8A-C28E19D0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A5FD-4E58-4A71-A935-2FBAB521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2AD9-2461-4D2F-92ED-AF269DE1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551A-A5E3-4FC6-9C9B-833A4C9E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924-2CD4-41C3-B023-A97D3349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3FD6-F164-4A47-B070-2FE666D1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AF2-F0F8-4441-9EC2-B1D5CBAD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203F-948E-45C2-9C11-44591AFA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0B2-E388-4008-9C48-A5390AC3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A4EF-5021-4D6A-9C40-1689C24C07C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0BCE-1121-4F3E-AFC8-7EE321FB443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b2b2b2"/>
                </a:solidFill>
                <a:latin typeface="a_LCDNova"/>
              </a:rPr>
              <a:t>Телеграф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легра́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р.-греч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τῆλε — «далеко» + γρᾰ́φω — «пишу») в современном значении — средство передачи сигнала по проводам или другим каналам электросвя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елеграф в XXI веке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ши дни возможности обмена сообщениями по сети Телекс сохранена во многом благодаря электронной почте. В России телеграфная связь существует и поныне, телеграфные сообщения передаются и принимаются при помощи специальных устройств — телеграфных модемов, сопряжённых в узлах электрической связи с персональными компьютерами операторов. Тем не менее в некоторых странах национальные операторы сочли телеграф устаревшим видом связи и свернули все операции по отправлению и доставке телеграмм — телеграмм в традиционном значении этого термина. В Нидерландах телеграфная связь прекратила работу в 2004 году. В январе 2006 года старейший американский национальный оператор Western Union объявил о полном прекращении обслуживания населения по отправке и доставке телеграфных сообщений. В то же время в Канаде, Бельгии, Германии, Швеции, Японии некоторые компании всё ещё поддерживают сервис по отправлению и доставке традиционных телеграфных сообщ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5" descr="optelegraph"/>
          <p:cNvPicPr/>
          <p:nvPr/>
        </p:nvPicPr>
        <p:blipFill>
          <a:blip r:embed="rId1"/>
          <a:stretch/>
        </p:blipFill>
        <p:spPr>
          <a:xfrm>
            <a:off x="457200" y="1306440"/>
            <a:ext cx="5029200" cy="5475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Оптический телеграф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2" name="Picture 18" descr="Схема оптического телеграфа Шаппа"/>
          <p:cNvPicPr/>
          <p:nvPr/>
        </p:nvPicPr>
        <p:blipFill>
          <a:blip r:embed="rId2"/>
          <a:stretch/>
        </p:blipFill>
        <p:spPr>
          <a:xfrm>
            <a:off x="5715000" y="1447920"/>
            <a:ext cx="342900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телеграф-Шаппа"/>
          <p:cNvPicPr/>
          <p:nvPr/>
        </p:nvPicPr>
        <p:blipFill>
          <a:blip r:embed="rId1"/>
          <a:stretch/>
        </p:blipFill>
        <p:spPr>
          <a:xfrm>
            <a:off x="457200" y="990720"/>
            <a:ext cx="793116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Электрический телеграф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5" name="Picture 18" descr="telgraf1gm1"/>
          <p:cNvPicPr/>
          <p:nvPr/>
        </p:nvPicPr>
        <p:blipFill>
          <a:blip r:embed="rId1"/>
          <a:stretch/>
        </p:blipFill>
        <p:spPr>
          <a:xfrm>
            <a:off x="546120" y="1306440"/>
            <a:ext cx="8051760" cy="42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Telegraph"/>
          <p:cNvPicPr/>
          <p:nvPr/>
        </p:nvPicPr>
        <p:blipFill>
          <a:blip r:embed="rId1"/>
          <a:stretch/>
        </p:blipFill>
        <p:spPr>
          <a:xfrm>
            <a:off x="1447920" y="1219320"/>
            <a:ext cx="73911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0_66244_841b079d_XL"/>
          <p:cNvPicPr/>
          <p:nvPr/>
        </p:nvPicPr>
        <p:blipFill>
          <a:blip r:embed="rId1"/>
          <a:stretch/>
        </p:blipFill>
        <p:spPr>
          <a:xfrm>
            <a:off x="1979640" y="277920"/>
            <a:ext cx="518472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Telex"/>
          <p:cNvPicPr/>
          <p:nvPr/>
        </p:nvPicPr>
        <p:blipFill>
          <a:blip r:embed="rId1"/>
          <a:stretch/>
        </p:blipFill>
        <p:spPr>
          <a:xfrm>
            <a:off x="1173240" y="1069920"/>
            <a:ext cx="5992560" cy="48992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3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елекс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telex_LORENZ_LO15"/>
          <p:cNvPicPr/>
          <p:nvPr/>
        </p:nvPicPr>
        <p:blipFill>
          <a:blip r:embed="rId1"/>
          <a:stretch/>
        </p:blipFill>
        <p:spPr>
          <a:xfrm>
            <a:off x="546120" y="673200"/>
            <a:ext cx="778356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Image40"/>
          <p:cNvPicPr/>
          <p:nvPr/>
        </p:nvPicPr>
        <p:blipFill>
          <a:blip r:embed="rId1"/>
          <a:stretch/>
        </p:blipFill>
        <p:spPr>
          <a:xfrm>
            <a:off x="609480" y="609480"/>
            <a:ext cx="777240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3-01-28T21:04:5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7000000000001024140</vt:lpwstr>
  </property>
  <property fmtid="{D5CDD505-2E9C-101B-9397-08002B2CF9AE}" pid="3" name="Version">
    <vt:r8>1</vt:r8>
  </property>
</Properties>
</file>