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38DC-8A7F-4D5A-A248-0A4BE3C58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3242-27C4-4395-8B3E-06E586A8F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82DB-7663-49B5-BAE3-A83E0CF37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BDBA-FE31-4ECB-8D05-5DB6FA249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5360F-A664-4C1D-BE62-40B2C7E3B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B0B6B-9B05-4837-90A7-C9927823F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07E35-07A1-4716-AE36-164DFC9B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B84E8-FAE5-4603-B020-984DDFAC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26CC0-E9BC-4C85-BAD5-1931D2BEA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31F59-6665-400C-9637-738FEBDB4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17821-71B7-4C14-9623-033CF04E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1366-FAF4-418C-8552-2B18A60A9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28684-44F5-4093-BBF0-39A0B8C6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3FEDA-FF59-4C4E-9BB4-494D720B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F8C1D-60C6-4027-8FB1-F9E1A73AD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3E792-5218-44E3-86AF-FC711A2A0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B6D1E-3FD1-4A64-957D-A8E40EA1F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CE4E-EC5C-4E08-A3BA-A4B0B4F2D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F2D4-873A-420C-9B45-83A3CBA3E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BA87-8567-4B81-B1ED-66AC9733C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0D6F-1008-493D-81CE-044C89470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DE75-821A-4717-8358-56A30191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0A7C-0D55-488B-A9DF-82EACBE2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BBD2-A6F9-4A15-80BD-730C4E4A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8959F-4F1A-4451-94FF-E21937238CB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83204-7C3B-4780-9AA5-6658EFA5891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b2b2b2"/>
                </a:solidFill>
                <a:latin typeface="a_LCDNova"/>
              </a:rPr>
              <a:t>Телеграф</a:t>
            </a:r>
            <a:br>
              <a:rPr sz="4800"/>
            </a:b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легра́ф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(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др.-греч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τῆλε — «далеко» + γρᾰ́φω — «пишу») в современном значении — средство передачи сигнала по проводам или другим каналам электросвяз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Телеграф в XXI веке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наши дни возможности обмена сообщениями по сети Телекс сохранена во многом благодаря электронной почте. В России телеграфная связь существует и поныне, телеграфные сообщения передаются и принимаются при помощи специальных устройств — телеграфных модемов, сопряжённых в узлах электрической связи с персональными компьютерами операторов. Тем не менее в некоторых странах национальные операторы сочли телеграф устаревшим видом связи и свернули все операции по отправлению и доставке телеграмм — телеграмм в традиционном значении этого термина. В Нидерландах телеграфная связь прекратила работу в 2004 году. В январе 2006 года старейший американский национальный оператор Western Union объявил о полном прекращении обслуживания населения по отправке и доставке телеграфных сообщений. В то же время в Канаде, Бельгии, Германии, Швеции, Японии некоторые компании всё ещё поддерживают сервис по отправлению и доставке традиционных телеграфных сообще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5" descr="optelegraph"/>
          <p:cNvPicPr/>
          <p:nvPr/>
        </p:nvPicPr>
        <p:blipFill>
          <a:blip r:embed="rId1"/>
          <a:stretch/>
        </p:blipFill>
        <p:spPr>
          <a:xfrm>
            <a:off x="457200" y="1306440"/>
            <a:ext cx="5029200" cy="54752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33360" y="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2b2b2"/>
                </a:solidFill>
                <a:latin typeface="Arial"/>
              </a:rPr>
              <a:t>Оптический телеграф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2" name="Picture 18" descr="Схема оптического телеграфа Шаппа"/>
          <p:cNvPicPr/>
          <p:nvPr/>
        </p:nvPicPr>
        <p:blipFill>
          <a:blip r:embed="rId2"/>
          <a:stretch/>
        </p:blipFill>
        <p:spPr>
          <a:xfrm>
            <a:off x="5715000" y="1447920"/>
            <a:ext cx="342900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телеграф-Шаппа"/>
          <p:cNvPicPr/>
          <p:nvPr/>
        </p:nvPicPr>
        <p:blipFill>
          <a:blip r:embed="rId1"/>
          <a:stretch/>
        </p:blipFill>
        <p:spPr>
          <a:xfrm>
            <a:off x="457200" y="990720"/>
            <a:ext cx="7931160" cy="46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333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Электрический телеграф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5" name="Picture 18" descr="telgraf1gm1"/>
          <p:cNvPicPr/>
          <p:nvPr/>
        </p:nvPicPr>
        <p:blipFill>
          <a:blip r:embed="rId1"/>
          <a:stretch/>
        </p:blipFill>
        <p:spPr>
          <a:xfrm>
            <a:off x="546120" y="1306440"/>
            <a:ext cx="8051760" cy="42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Telegraph"/>
          <p:cNvPicPr/>
          <p:nvPr/>
        </p:nvPicPr>
        <p:blipFill>
          <a:blip r:embed="rId1"/>
          <a:stretch/>
        </p:blipFill>
        <p:spPr>
          <a:xfrm>
            <a:off x="1447920" y="1219320"/>
            <a:ext cx="739116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0_66244_841b079d_XL"/>
          <p:cNvPicPr/>
          <p:nvPr/>
        </p:nvPicPr>
        <p:blipFill>
          <a:blip r:embed="rId1"/>
          <a:stretch/>
        </p:blipFill>
        <p:spPr>
          <a:xfrm>
            <a:off x="1979640" y="277920"/>
            <a:ext cx="5184720" cy="58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Telex"/>
          <p:cNvPicPr/>
          <p:nvPr/>
        </p:nvPicPr>
        <p:blipFill>
          <a:blip r:embed="rId1"/>
          <a:stretch/>
        </p:blipFill>
        <p:spPr>
          <a:xfrm>
            <a:off x="1173240" y="1069920"/>
            <a:ext cx="5992560" cy="48992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333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Телекс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telex_LORENZ_LO15"/>
          <p:cNvPicPr/>
          <p:nvPr/>
        </p:nvPicPr>
        <p:blipFill>
          <a:blip r:embed="rId1"/>
          <a:stretch/>
        </p:blipFill>
        <p:spPr>
          <a:xfrm>
            <a:off x="546120" y="673200"/>
            <a:ext cx="778356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Image40"/>
          <p:cNvPicPr/>
          <p:nvPr/>
        </p:nvPicPr>
        <p:blipFill>
          <a:blip r:embed="rId1"/>
          <a:stretch/>
        </p:blipFill>
        <p:spPr>
          <a:xfrm>
            <a:off x="609480" y="609480"/>
            <a:ext cx="7772400" cy="54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рина</cp:lastModifiedBy>
  <dcterms:modified xsi:type="dcterms:W3CDTF">2013-01-28T21:04:5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a07000000000001024140</vt:lpwstr>
  </property>
  <property fmtid="{D5CDD505-2E9C-101B-9397-08002B2CF9AE}" pid="3" name="Version">
    <vt:r8>1</vt:r8>
  </property>
</Properties>
</file>