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2E0-A833-49A2-B9A8-026EAD00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DB7-4842-41C5-8C1C-892B4ED8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B57-5E19-40D4-8222-06D720F3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59F-71BE-42C8-B4F2-24900E1F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A978-F374-40BA-892A-EFE43F6A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B8F9-787F-4DE5-ACA8-B8F34D61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704C-1B81-4CF6-BFDE-54A2A4B6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0ECC-090B-45D7-930D-D6F6DBD6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CAB6-4F27-4661-9078-74BB1736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D8CC-202E-4B49-A7F5-84CD0671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B650-608B-40E0-B54D-ABE866F2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A35-E475-4853-880D-498E89ED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A624-F0B9-4DFB-B822-CD3DBD1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F69-F8E2-4D2B-8AC8-501CBE4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42E2-3330-4D1A-9AF1-864273C8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FA7C-BC13-44A0-B119-47371401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9F11-3FE4-4AB6-8EB5-2CA7A23B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5184-62F8-4532-8347-115ED1FB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743E-24DF-4725-9912-77840A03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B466-76B3-4AB8-9C92-07306A70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2653-159B-4EE7-BB0D-98A7E2E5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131C-E4A8-4101-B150-22A3253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6E9-720C-4EBB-8FBD-747A5C69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29A6-8730-48DA-A802-CC86B24A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E4D9-616B-4257-878D-4C049DFC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7E00-1C2B-4B74-B6CD-567BBC8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0456-4F68-4D39-8BB9-B52A1A1B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DFD0-C605-4665-8EBE-669E32D8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E02F-60CA-4138-AE8E-DB8BEF13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4C6A5-5768-4A7A-9C05-7E21C0D2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F8523-DABA-416E-926F-9978A616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3E9F-B163-4D6E-A95A-ED8B53BB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CD0D7-D4BA-4DC6-A126-61EDC883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4DD-3C93-4A79-A70A-2F2170BB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EEAF-4FA8-4005-B894-D8DE7C78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3FD5-1176-4B7B-B792-210BEE9E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DC241-6AC0-4893-8422-7EF27525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65FC1-5C9D-43BA-B691-DBB8E14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EE42-0A7D-47A4-9F9C-33699FFD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2CDC-502A-49E9-9D96-05C8EA82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A38D-C404-41DC-A590-A51312F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C0F9-53B3-499A-A946-D4D08118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61501-71EE-4086-BAAA-55F804CF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37BEA-2D5E-439D-9004-A21B502B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DDE-01CA-498F-9F73-1F3E687F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EEC4-EE9F-4121-9CB9-8CADA097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9B64-BF61-4BC0-91F5-4EEC62C2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2F6D3-D60D-42C7-8CF2-DDABDDE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F289F-71FC-4827-BC49-994AD8BE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0ACD-98E5-43B2-B804-97F316A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B326-17F7-40D4-A0CB-EDB5D31C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0A08-6E85-4A6E-9909-32E1E91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26DA-BF3B-4CA3-BE74-FBF2C5D7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4478-8667-4B56-843D-4FE289C2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3630C-1629-4FA5-9D49-5A39BA79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EC8-7E3E-4820-A019-6024395B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52513-2959-42ED-92E7-E8C5290B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99B-334B-4D04-9EC7-07C8138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1BC-CACD-4996-8460-9A2391C5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9A0-339D-4142-875A-D60A12C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1ECA-69D7-49D7-91A6-65EEE340D7A0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0B77-6F10-4D9A-BBFE-D914910305F3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A9C6-8C70-457B-8D2B-708214FD89B5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E66-C2F5-4597-9082-1927371BD6C8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4344-C921-46E5-91AF-9BB7A45642B5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f/Samuel_Morse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hyperlink" Target="http://com-network.narod.ru/Shilling2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useum.comp-school.ru/content/data/upimages/image64.gif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-66600" y="262080"/>
            <a:ext cx="8620200" cy="1573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0" y="4022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гнальные костр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вуковые сигнал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стема зеркал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лок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аружение объектов и определение их координат с помощью отражения радио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лок"/>
          <p:cNvPicPr/>
          <p:nvPr/>
        </p:nvPicPr>
        <p:blipFill>
          <a:blip r:embed="rId1"/>
          <a:stretch/>
        </p:blipFill>
        <p:spPr>
          <a:xfrm>
            <a:off x="4067280" y="3860640"/>
            <a:ext cx="273528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50920" y="3154320"/>
            <a:ext cx="3751200" cy="37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ile0011"/>
          <p:cNvPicPr/>
          <p:nvPr/>
        </p:nvPicPr>
        <p:blipFill>
          <a:blip r:embed="rId3"/>
          <a:stretch/>
        </p:blipFill>
        <p:spPr>
          <a:xfrm>
            <a:off x="6956280" y="3789360"/>
            <a:ext cx="2187720" cy="306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3780000" y="3382920"/>
            <a:ext cx="4830480" cy="322092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2"/>
          <a:stretch/>
        </p:blipFill>
        <p:spPr>
          <a:xfrm>
            <a:off x="4286160" y="609480"/>
            <a:ext cx="4175280" cy="1146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932000" y="692280"/>
            <a:ext cx="381636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bf5f9"/>
                </a:solidFill>
                <a:latin typeface="Constantia"/>
              </a:rPr>
              <a:t>РАДИОЛОК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2108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3235320" cy="374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3227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4535280" cy="29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левидение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ет передачу информации с помощью радиоволн. Так же как и звуковой сигнал, волны несут изображ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4" descr="1 цветной телевизор"/>
          <p:cNvPicPr/>
          <p:nvPr/>
        </p:nvPicPr>
        <p:blipFill>
          <a:blip r:embed="rId1"/>
          <a:stretch/>
        </p:blipFill>
        <p:spPr>
          <a:xfrm>
            <a:off x="250920" y="3933720"/>
            <a:ext cx="1981080" cy="221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теле 2"/>
          <p:cNvPicPr/>
          <p:nvPr/>
        </p:nvPicPr>
        <p:blipFill>
          <a:blip r:embed="rId2"/>
          <a:stretch/>
        </p:blipFill>
        <p:spPr>
          <a:xfrm>
            <a:off x="6300720" y="3500280"/>
            <a:ext cx="2616120" cy="3068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увидерли 1 теле"/>
          <p:cNvPicPr/>
          <p:nvPr/>
        </p:nvPicPr>
        <p:blipFill>
          <a:blip r:embed="rId3"/>
          <a:stretch/>
        </p:blipFill>
        <p:spPr>
          <a:xfrm>
            <a:off x="2556000" y="4076640"/>
            <a:ext cx="3311280" cy="26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7851960" cy="3640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09" name="Улыбающееся лицо 3"/>
          <p:cNvGrpSpPr/>
          <p:nvPr/>
        </p:nvGrpSpPr>
        <p:grpSpPr>
          <a:xfrm>
            <a:off x="6735600" y="3108240"/>
            <a:ext cx="1049400" cy="1049400"/>
            <a:chOff x="6735600" y="3108240"/>
            <a:chExt cx="1049400" cy="1049400"/>
          </a:xfrm>
        </p:grpSpPr>
        <p:pic>
          <p:nvPicPr>
            <p:cNvPr id="310" name="Улыбающееся лицо 3" descr=""/>
            <p:cNvPicPr/>
            <p:nvPr/>
          </p:nvPicPr>
          <p:blipFill>
            <a:blip r:embed="rId2"/>
            <a:stretch/>
          </p:blipFill>
          <p:spPr>
            <a:xfrm>
              <a:off x="6735600" y="3108240"/>
              <a:ext cx="1049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37200" y="3274920"/>
              <a:ext cx="648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Изображение:Samuel Mor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38163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609480" y="4191120"/>
          <a:ext cx="7543800" cy="2239920"/>
        </p:xfrm>
        <a:graphic>
          <a:graphicData uri="http://schemas.openxmlformats.org/drawingml/2006/table">
            <a:tbl>
              <a:tblPr/>
              <a:tblGrid>
                <a:gridCol w="1838520"/>
                <a:gridCol w="2054160"/>
                <a:gridCol w="1327320"/>
                <a:gridCol w="2323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рз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пев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-д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· ·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а-ки-те-ку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-даа-л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телегр"/>
          <p:cNvPicPr/>
          <p:nvPr/>
        </p:nvPicPr>
        <p:blipFill>
          <a:blip r:embed="rId2"/>
          <a:stretch/>
        </p:blipFill>
        <p:spPr>
          <a:xfrm>
            <a:off x="3886200" y="3886200"/>
            <a:ext cx="464832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3" name="Text Box 3"/>
          <p:cNvSpPr/>
          <p:nvPr/>
        </p:nvSpPr>
        <p:spPr>
          <a:xfrm>
            <a:off x="2743200" y="30492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Первый телеграф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4" name="Picture 4" descr="Картинка 2 из 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914400"/>
            <a:ext cx="2809800" cy="19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5" name="Text Box 5"/>
          <p:cNvSpPr/>
          <p:nvPr/>
        </p:nvSpPr>
        <p:spPr>
          <a:xfrm>
            <a:off x="360" y="6019920"/>
            <a:ext cx="34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Морзе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4877280" y="129528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Шиллин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7" name="Picture 7" descr="Картинка 3 из 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124080"/>
            <a:ext cx="3124440" cy="23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8"/>
          <p:cNvSpPr/>
          <p:nvPr/>
        </p:nvSpPr>
        <p:spPr>
          <a:xfrm rot="20511600">
            <a:off x="3809880" y="26665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Уитстон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imagesCA5O3JQC"/>
          <p:cNvPicPr/>
          <p:nvPr/>
        </p:nvPicPr>
        <p:blipFill>
          <a:blip r:embed="rId1"/>
          <a:stretch/>
        </p:blipFill>
        <p:spPr>
          <a:xfrm rot="939000">
            <a:off x="579600" y="3684600"/>
            <a:ext cx="2117520" cy="2719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22px-ATTtelephone-large"/>
          <p:cNvPicPr/>
          <p:nvPr/>
        </p:nvPicPr>
        <p:blipFill>
          <a:blip r:embed="rId2"/>
          <a:stretch/>
        </p:blipFill>
        <p:spPr>
          <a:xfrm rot="1039800">
            <a:off x="5651640" y="141264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sCAR95YI0"/>
          <p:cNvPicPr/>
          <p:nvPr/>
        </p:nvPicPr>
        <p:blipFill>
          <a:blip r:embed="rId3"/>
          <a:stretch/>
        </p:blipFill>
        <p:spPr>
          <a:xfrm>
            <a:off x="900000" y="1484280"/>
            <a:ext cx="2735280" cy="223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imagesCAVDR22X"/>
          <p:cNvPicPr/>
          <p:nvPr/>
        </p:nvPicPr>
        <p:blipFill>
          <a:blip r:embed="rId4"/>
          <a:stretch/>
        </p:blipFill>
        <p:spPr>
          <a:xfrm rot="20581800">
            <a:off x="5678640" y="374292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100px-Telefon_VHM_ubt"/>
          <p:cNvPicPr/>
          <p:nvPr/>
        </p:nvPicPr>
        <p:blipFill>
          <a:blip r:embed="rId5"/>
          <a:stretch/>
        </p:blipFill>
        <p:spPr>
          <a:xfrm>
            <a:off x="3203640" y="3213000"/>
            <a:ext cx="2233440" cy="30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лагает передачу  информации только для приема конкретным абонен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29080" cy="3822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79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 Бел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208400" cy="4043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464328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лефон Белл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апреле 1895 г. А.С.Попов создал первый приемни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762200" y="1627200"/>
            <a:ext cx="5997600" cy="5230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588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оп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вый радиоприемник, созданный А.С.Попов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68720" cy="451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вещ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ача в эфир речи, музыки, звуковых эффектов с помощью электромагнитных 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70044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52720" cy="3139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179280" y="6237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ервый ламповый приемни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04000" y="59500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Радиоприемник 90-х год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ompany06b"/>
          <p:cNvPicPr/>
          <p:nvPr/>
        </p:nvPicPr>
        <p:blipFill>
          <a:blip r:embed="rId1"/>
          <a:stretch/>
        </p:blipFill>
        <p:spPr>
          <a:xfrm>
            <a:off x="-612720" y="0"/>
            <a:ext cx="11017080" cy="7101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НЦИП РАДИОСВЯЗ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2:41Z</dcterms:created>
  <dc:creator>Ирина</dc:creator>
  <dc:description/>
  <dc:language>en-US</dc:language>
  <cp:lastModifiedBy>School</cp:lastModifiedBy>
  <dcterms:modified xsi:type="dcterms:W3CDTF">2013-01-28T07:56:36Z</dcterms:modified>
  <cp:revision>56</cp:revision>
  <dc:subject/>
  <dc:title>Развитие средств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7000000000001024140</vt:lpwstr>
  </property>
</Properties>
</file>