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9AB-25D2-4ED3-8905-FC436232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821-065E-4932-A1A8-B2C2C36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404-B9C0-4A25-952B-B5B5B15E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BAA-B945-4C7E-85EE-9C00A6B1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33C-4E09-4D2B-80C8-847FA596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F495-568E-4909-9FBF-A71C300A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7213-97C6-48D9-B0F1-16EEB48E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44E-BDA8-4568-A421-5F201D26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6C34-D49B-41C8-AA6F-BC53AAFD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0B29-597C-41F1-84AD-C66A8B2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7908-C080-497C-A184-FF77BC3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537-B8F6-476C-8D21-8DD9874A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9CB-7708-4B13-A22E-DBBCC36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D796-D505-4C1D-947A-967EA43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1482-52DA-42A5-8770-3D4C1CD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FCE-9968-49A1-BC29-78E0BFD9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631-57C4-41D9-BD9C-1FFEE8F0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82D-3C92-4C03-B7ED-5C6E8E63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1C8-4D31-4141-9392-3D90D467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220-D04C-44F3-A884-BD164C54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01B-A80A-4C42-A5EC-384000E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350-8230-47B2-A75B-1392581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6BD-BD32-4810-9A65-B3134A9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759-DB37-4C49-B165-C152166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71A4-2B46-411E-9AE4-6C7B45592B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22C4-F208-437F-AE24-B0B0CE88CD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_LCDNova"/>
              </a:rPr>
              <a:t>Телеграф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гра́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τῆλε — «далеко» + γρᾰ́φω — «пишу») в современном значении — средство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граф в XXI веке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и дни возможности обмена сообщениями по сети Телекс сохранена во многом благодаря электронной почте. В России телеграфная связь существует и поныне, телеграфные сообщения передаются и принимаются при помощи специальных устройств — телеграфных модемов, сопряжённых в узлах электрической связи с персональными компьютерами операторов. Тем не менее в некоторых странах национальные операторы сочли телеграф устаревшим видом связи и свернули все операции по отправлению и доставке телеграмм — телеграмм в традиционном значении этого термина. В Нидерландах телеграфная связь прекратила работу в 2004 году. В январе 2006 года старейший американский национальный оператор Western Union объявил о полном прекращении обслуживания населения по отправке и доставке телеграфных сообщений. В то же время в Канаде, Бельгии, Германии, Швеции, Японии некоторые компании всё ещё поддерживают сервис по отправлению и доставке традиционных телеграфных сооб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optelegraph"/>
          <p:cNvPicPr/>
          <p:nvPr/>
        </p:nvPicPr>
        <p:blipFill>
          <a:blip r:embed="rId1"/>
          <a:stretch/>
        </p:blipFill>
        <p:spPr>
          <a:xfrm>
            <a:off x="457200" y="1306440"/>
            <a:ext cx="502920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птический теле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18" descr="Схема оптического телеграфа Шаппа"/>
          <p:cNvPicPr/>
          <p:nvPr/>
        </p:nvPicPr>
        <p:blipFill>
          <a:blip r:embed="rId2"/>
          <a:stretch/>
        </p:blipFill>
        <p:spPr>
          <a:xfrm>
            <a:off x="5715000" y="1447920"/>
            <a:ext cx="3429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елеграф-Шаппа"/>
          <p:cNvPicPr/>
          <p:nvPr/>
        </p:nvPicPr>
        <p:blipFill>
          <a:blip r:embed="rId1"/>
          <a:stretch/>
        </p:blipFill>
        <p:spPr>
          <a:xfrm>
            <a:off x="457200" y="990720"/>
            <a:ext cx="7931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Электрический телеграф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8" descr="telgraf1gm1"/>
          <p:cNvPicPr/>
          <p:nvPr/>
        </p:nvPicPr>
        <p:blipFill>
          <a:blip r:embed="rId1"/>
          <a:stretch/>
        </p:blipFill>
        <p:spPr>
          <a:xfrm>
            <a:off x="546120" y="1306440"/>
            <a:ext cx="80517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legraph"/>
          <p:cNvPicPr/>
          <p:nvPr/>
        </p:nvPicPr>
        <p:blipFill>
          <a:blip r:embed="rId1"/>
          <a:stretch/>
        </p:blipFill>
        <p:spPr>
          <a:xfrm>
            <a:off x="1447920" y="1219320"/>
            <a:ext cx="73911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_66244_841b079d_XL"/>
          <p:cNvPicPr/>
          <p:nvPr/>
        </p:nvPicPr>
        <p:blipFill>
          <a:blip r:embed="rId1"/>
          <a:stretch/>
        </p:blipFill>
        <p:spPr>
          <a:xfrm>
            <a:off x="1979640" y="277920"/>
            <a:ext cx="51847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Telex"/>
          <p:cNvPicPr/>
          <p:nvPr/>
        </p:nvPicPr>
        <p:blipFill>
          <a:blip r:embed="rId1"/>
          <a:stretch/>
        </p:blipFill>
        <p:spPr>
          <a:xfrm>
            <a:off x="1173240" y="1069920"/>
            <a:ext cx="5992560" cy="4899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кс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telex_LORENZ_LO15"/>
          <p:cNvPicPr/>
          <p:nvPr/>
        </p:nvPicPr>
        <p:blipFill>
          <a:blip r:embed="rId1"/>
          <a:stretch/>
        </p:blipFill>
        <p:spPr>
          <a:xfrm>
            <a:off x="546120" y="673200"/>
            <a:ext cx="77835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40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1-28T21:0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4140</vt:lpwstr>
  </property>
  <property fmtid="{D5CDD505-2E9C-101B-9397-08002B2CF9AE}" pid="3" name="Version">
    <vt:r8>1</vt:r8>
  </property>
</Properties>
</file>