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17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0A6E-B41C-47E0-940C-C6B773D2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63F-66F9-45E6-967E-7555E0DF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8548-7163-48BF-800D-06E5EE55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C64-CEF4-4885-ACB1-30876403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5BAE-A5C5-4C5D-9803-61DAE33B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C42C-7831-4947-8B2A-AEC6D0D9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A66C-0759-460D-ABD8-072BDCB1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CD9D-4E2A-4F09-A6C8-173CF613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FAAA-CC99-4C93-98CA-6719DA35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861B-953E-47FA-9593-A5C19BC3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9B31-A801-4785-B1B7-D880FD9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827-C4A7-4277-950D-271C7951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F766-6C79-4FB5-A1CE-76FEA09E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A112-56DF-415A-AF7B-8559178E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5E01-2CCC-451A-8280-C6788F25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A76-B3D0-4A9D-94D6-79C72840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F0AC-11B9-4CBF-834E-44131986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7DF0-785B-49E4-AC77-FDA4BFEE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F3C9-A9F2-4346-9CE3-4E005E91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A7A84-72B0-43B1-A710-D14AF2DE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7E46-00BD-4BDF-8365-9D2DC049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E5143-2F24-4A55-BF71-8E41E100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78A-88C8-4FE1-B547-1744352E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6C102-B28C-4D40-88BA-69E7DF7E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ED9D-30E2-45EF-8B82-D8620A21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57C1E-DEA1-434C-9D53-0C3558C2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E7EFB-0996-4E05-ACA6-78B3CBC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08C8D-2E84-4400-83CC-CCC144B0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66F0-9B79-4CBF-B806-8EEE4762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FAED-BA22-466E-BA3A-FB30F5DF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DD81A-61BB-4331-A2EE-A226F5C4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E0FE1-3763-4AFB-9602-3D15F0C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D894-CB5C-4E89-9197-90C653F9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4EF-38EA-473F-AECC-AABDA236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6B0B2-6795-47A9-AEDA-36A9661E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50C69-A12E-45EE-AB57-FFC084B9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804D5-6ECD-438D-8BDC-FB5CCB16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F9956-DDEB-4215-B1D2-B7D50A72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2DE0-8006-457D-8250-0B465168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84AD7-0DEB-4767-B787-02FF13B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8191-9DD6-4FD5-B385-BEDED749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B87E-9E28-4FE1-89BB-5FBCAAB0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4840-33BF-4076-A95C-61F3FF91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2916-BD20-41C6-8839-24A110FE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9678-2535-4979-A92F-252D3BDC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89CB-0BE7-46D4-B071-78E69922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3008C-56A8-4AD9-8814-A70A74F3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653F7-528B-412D-96BB-CEE391AC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81B31-B788-44E8-BDAF-10C6EDAB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750B5-728E-441A-8F70-11367458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907D-6FEF-486C-B9B6-1BA1450C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7CAA2-7F46-4085-A525-FC3B9BE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5EB2-EAF8-453A-8053-7DF3BC3C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29A0-1CA4-4D8A-8642-771FDFC2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DA0A1-78D3-4B78-8010-DCFA126A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15B-6B45-455E-85E2-39714BBC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032AE-367C-44C8-BC12-58AB3395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3F4-CA5E-4DF8-A04E-001D176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927-7297-46DA-B694-669FAAC9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E33-495F-4F16-9537-6FA89E1E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05C0-5E76-4C1D-904F-D75F1FA5E0D2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113B-B00F-4BED-9910-7D966908E181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d1eaee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FE79-FF14-4463-82D3-3AEEE2FC522E}" type="slidenum">
              <a:rPr b="0" lang="ru-RU" sz="1200" spc="-1" strike="noStrike" u="sng">
                <a:solidFill>
                  <a:srgbClr val="d1eaee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0192-7E64-4C55-B388-D795772F3026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045c75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B086-AFDC-44DF-991E-3044EC4B4EC4}" type="slidenum">
              <a:rPr b="0" lang="ru-RU" sz="1200" spc="-1" strike="noStrike" u="sng">
                <a:solidFill>
                  <a:srgbClr val="045c75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e/ef/Samuel_Morse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hyperlink" Target="http://com-network.narod.ru/Shilling2.jpg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useum.comp-school.ru/content/data/upimages/image64.gif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2" descr=""/>
          <p:cNvPicPr/>
          <p:nvPr/>
        </p:nvPicPr>
        <p:blipFill>
          <a:blip r:embed="rId2"/>
          <a:stretch/>
        </p:blipFill>
        <p:spPr>
          <a:xfrm>
            <a:off x="-66600" y="262080"/>
            <a:ext cx="8620200" cy="15732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0" y="402264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гнальные костр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вуковые сигналы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Система зеркал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локация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наружение объектов и определение их координат с помощью отражения радио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4" descr="лок"/>
          <p:cNvPicPr/>
          <p:nvPr/>
        </p:nvPicPr>
        <p:blipFill>
          <a:blip r:embed="rId1"/>
          <a:stretch/>
        </p:blipFill>
        <p:spPr>
          <a:xfrm>
            <a:off x="4067280" y="3860640"/>
            <a:ext cx="2735280" cy="191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2"/>
          <a:stretch/>
        </p:blipFill>
        <p:spPr>
          <a:xfrm>
            <a:off x="250920" y="3154320"/>
            <a:ext cx="3751200" cy="3703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File0011"/>
          <p:cNvPicPr/>
          <p:nvPr/>
        </p:nvPicPr>
        <p:blipFill>
          <a:blip r:embed="rId3"/>
          <a:stretch/>
        </p:blipFill>
        <p:spPr>
          <a:xfrm>
            <a:off x="6956280" y="3789360"/>
            <a:ext cx="2187720" cy="306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3780000" y="3382920"/>
            <a:ext cx="4830480" cy="322092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3" descr=""/>
          <p:cNvPicPr/>
          <p:nvPr/>
        </p:nvPicPr>
        <p:blipFill>
          <a:blip r:embed="rId2"/>
          <a:stretch/>
        </p:blipFill>
        <p:spPr>
          <a:xfrm>
            <a:off x="4286160" y="609480"/>
            <a:ext cx="4175280" cy="11462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932000" y="692280"/>
            <a:ext cx="3816360" cy="79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dbf5f9"/>
                </a:solidFill>
                <a:latin typeface="Constantia"/>
              </a:rPr>
              <a:t>РАДИОЛОК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321080" cy="30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Object 7" descr=""/>
          <p:cNvPicPr/>
          <p:nvPr/>
        </p:nvPicPr>
        <p:blipFill>
          <a:blip r:embed="rId1"/>
          <a:stretch/>
        </p:blipFill>
        <p:spPr>
          <a:xfrm>
            <a:off x="5292720" y="4365720"/>
            <a:ext cx="3311640" cy="201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5508720" y="189000"/>
            <a:ext cx="3235320" cy="37447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76720" cy="32274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4535280" cy="29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Телевидение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яет передачу информации с помощью радиоволн. Так же как и звуковой сигнал, волны несут изображе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4" descr="1 цветной телевизор"/>
          <p:cNvPicPr/>
          <p:nvPr/>
        </p:nvPicPr>
        <p:blipFill>
          <a:blip r:embed="rId1"/>
          <a:stretch/>
        </p:blipFill>
        <p:spPr>
          <a:xfrm>
            <a:off x="250920" y="3933720"/>
            <a:ext cx="1981080" cy="2214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теле 2"/>
          <p:cNvPicPr/>
          <p:nvPr/>
        </p:nvPicPr>
        <p:blipFill>
          <a:blip r:embed="rId2"/>
          <a:stretch/>
        </p:blipFill>
        <p:spPr>
          <a:xfrm>
            <a:off x="6300720" y="3500280"/>
            <a:ext cx="2616120" cy="3068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увидерли 1 теле"/>
          <p:cNvPicPr/>
          <p:nvPr/>
        </p:nvPicPr>
        <p:blipFill>
          <a:blip r:embed="rId3"/>
          <a:stretch/>
        </p:blipFill>
        <p:spPr>
          <a:xfrm>
            <a:off x="2556000" y="4076640"/>
            <a:ext cx="3311280" cy="26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542880" y="1054080"/>
            <a:ext cx="7851960" cy="36403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309" name="Улыбающееся лицо 3"/>
          <p:cNvGrpSpPr/>
          <p:nvPr/>
        </p:nvGrpSpPr>
        <p:grpSpPr>
          <a:xfrm>
            <a:off x="6735600" y="3108240"/>
            <a:ext cx="1049400" cy="1049400"/>
            <a:chOff x="6735600" y="3108240"/>
            <a:chExt cx="1049400" cy="1049400"/>
          </a:xfrm>
        </p:grpSpPr>
        <p:pic>
          <p:nvPicPr>
            <p:cNvPr id="310" name="Улыбающееся лицо 3" descr=""/>
            <p:cNvPicPr/>
            <p:nvPr/>
          </p:nvPicPr>
          <p:blipFill>
            <a:blip r:embed="rId2"/>
            <a:stretch/>
          </p:blipFill>
          <p:spPr>
            <a:xfrm>
              <a:off x="6735600" y="3108240"/>
              <a:ext cx="1049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6937200" y="3274920"/>
              <a:ext cx="648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Изображение:Samuel Mors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3816360" cy="4000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aphicFrame>
        <p:nvGraphicFramePr>
          <p:cNvPr id="250" name=""/>
          <p:cNvGraphicFramePr/>
          <p:nvPr/>
        </p:nvGraphicFramePr>
        <p:xfrm>
          <a:off x="609480" y="4191120"/>
          <a:ext cx="7543800" cy="2239920"/>
        </p:xfrm>
        <a:graphic>
          <a:graphicData uri="http://schemas.openxmlformats.org/drawingml/2006/table">
            <a:tbl>
              <a:tblPr/>
              <a:tblGrid>
                <a:gridCol w="1838520"/>
                <a:gridCol w="2054160"/>
                <a:gridCol w="1327320"/>
                <a:gridCol w="2323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инский симво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Морзе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пев»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й-д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−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· ·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а-ки-те-кут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 − −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-даа-лаа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телегр"/>
          <p:cNvPicPr/>
          <p:nvPr/>
        </p:nvPicPr>
        <p:blipFill>
          <a:blip r:embed="rId2"/>
          <a:stretch/>
        </p:blipFill>
        <p:spPr>
          <a:xfrm>
            <a:off x="3886200" y="3886200"/>
            <a:ext cx="4648320" cy="2792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3" name="Text Box 3"/>
          <p:cNvSpPr/>
          <p:nvPr/>
        </p:nvSpPr>
        <p:spPr>
          <a:xfrm>
            <a:off x="2743200" y="304920"/>
            <a:ext cx="50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dd9"/>
                </a:solidFill>
                <a:latin typeface="Arial"/>
              </a:rPr>
              <a:t>Первый телеграф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4" name="Picture 4" descr="Картинка 2 из 4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5120" y="914400"/>
            <a:ext cx="2809800" cy="190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5" name="Text Box 5"/>
          <p:cNvSpPr/>
          <p:nvPr/>
        </p:nvSpPr>
        <p:spPr>
          <a:xfrm>
            <a:off x="360" y="6019920"/>
            <a:ext cx="34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Морзе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4877280" y="1295280"/>
            <a:ext cx="40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Шиллинг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7" name="Picture 7" descr="Картинка 3 из 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124080"/>
            <a:ext cx="3124440" cy="2392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8" name="Text Box 8"/>
          <p:cNvSpPr/>
          <p:nvPr/>
        </p:nvSpPr>
        <p:spPr>
          <a:xfrm rot="20511600">
            <a:off x="3809880" y="266652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граф Уитстона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imagesCA5O3JQC"/>
          <p:cNvPicPr/>
          <p:nvPr/>
        </p:nvPicPr>
        <p:blipFill>
          <a:blip r:embed="rId1"/>
          <a:stretch/>
        </p:blipFill>
        <p:spPr>
          <a:xfrm rot="939000">
            <a:off x="579600" y="3684600"/>
            <a:ext cx="2117520" cy="2719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222px-ATTtelephone-large"/>
          <p:cNvPicPr/>
          <p:nvPr/>
        </p:nvPicPr>
        <p:blipFill>
          <a:blip r:embed="rId2"/>
          <a:stretch/>
        </p:blipFill>
        <p:spPr>
          <a:xfrm rot="1039800">
            <a:off x="5651640" y="1412640"/>
            <a:ext cx="2323800" cy="232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imagesCAR95YI0"/>
          <p:cNvPicPr/>
          <p:nvPr/>
        </p:nvPicPr>
        <p:blipFill>
          <a:blip r:embed="rId3"/>
          <a:stretch/>
        </p:blipFill>
        <p:spPr>
          <a:xfrm>
            <a:off x="900000" y="1484280"/>
            <a:ext cx="2735280" cy="2238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imagesCAVDR22X"/>
          <p:cNvPicPr/>
          <p:nvPr/>
        </p:nvPicPr>
        <p:blipFill>
          <a:blip r:embed="rId4"/>
          <a:stretch/>
        </p:blipFill>
        <p:spPr>
          <a:xfrm rot="20581800">
            <a:off x="5678640" y="3742920"/>
            <a:ext cx="2538360" cy="2538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100px-Telefon_VHM_ubt"/>
          <p:cNvPicPr/>
          <p:nvPr/>
        </p:nvPicPr>
        <p:blipFill>
          <a:blip r:embed="rId5"/>
          <a:stretch/>
        </p:blipFill>
        <p:spPr>
          <a:xfrm>
            <a:off x="3203640" y="3213000"/>
            <a:ext cx="2233440" cy="302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телефонная связ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полагает передачу  информации только для приема конкретным абонент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3529080" cy="38224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5"/>
          <p:cNvSpPr/>
          <p:nvPr/>
        </p:nvSpPr>
        <p:spPr>
          <a:xfrm>
            <a:off x="179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ександр Белл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4572000" y="2205000"/>
            <a:ext cx="4208400" cy="40435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464328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лефон Белла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апреле 1895 г. А.С.Попов создал первый приемни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1762200" y="1627200"/>
            <a:ext cx="5997600" cy="52308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6588000" y="5157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С.Поп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ервый радиоприемник, созданный А.С.Попов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968720" cy="4516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2"/>
          <a:stretch/>
        </p:blipFill>
        <p:spPr>
          <a:xfrm>
            <a:off x="5508720" y="3213000"/>
            <a:ext cx="338436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Радиовеща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дача в эфир речи, музыки, звуковых эффектов с помощью электромагнитных волн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700440" cy="2502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6877080" y="2708280"/>
            <a:ext cx="2052720" cy="31399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7"/>
          <p:cNvSpPr/>
          <p:nvPr/>
        </p:nvSpPr>
        <p:spPr>
          <a:xfrm>
            <a:off x="179280" y="623736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Первый ламповый приемник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804000" y="5950080"/>
            <a:ext cx="21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Радиоприемник 90-х годов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ompany06b"/>
          <p:cNvPicPr/>
          <p:nvPr/>
        </p:nvPicPr>
        <p:blipFill>
          <a:blip r:embed="rId1"/>
          <a:stretch/>
        </p:blipFill>
        <p:spPr>
          <a:xfrm>
            <a:off x="-612720" y="0"/>
            <a:ext cx="11017080" cy="71010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2050920" y="6165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ИНЦИП РАДИОСВЯЗИ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8:12:41Z</dcterms:created>
  <dc:creator>Ирина</dc:creator>
  <dc:description/>
  <dc:language>en-US</dc:language>
  <cp:lastModifiedBy>School</cp:lastModifiedBy>
  <dcterms:modified xsi:type="dcterms:W3CDTF">2013-01-28T07:56:36Z</dcterms:modified>
  <cp:revision>56</cp:revision>
  <dc:subject/>
  <dc:title>Развитие средств связ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7000000000001024140</vt:lpwstr>
  </property>
</Properties>
</file>