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12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3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media/image11.jpeg" ContentType="image/jpeg"/>
  <Override PartName="/ppt/media/image9.jpeg" ContentType="image/jpeg"/>
  <Override PartName="/ppt/media/image4.jpeg" ContentType="image/jpeg"/>
  <Override PartName="/ppt/media/image40.png" ContentType="image/png"/>
  <Override PartName="/ppt/media/image3.png" ContentType="image/png"/>
  <Override PartName="/ppt/media/image17.jpeg" ContentType="image/jpeg"/>
  <Override PartName="/ppt/media/image1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3721-6460-44F1-8535-D351323D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BCC9-0227-41B4-A98E-4763D00C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32DA-9741-410C-B05B-5696A5B5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B56D-6D08-4862-9D63-7D18243BA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18D0-B36F-4CB3-9630-AFF0D2062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75FB-0682-45E9-B12D-E1514D0C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12CF-F7E0-4E55-B5DA-5FA94ABB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059C-8DEB-4307-AA5F-4C33A0B7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6331-3048-4263-BC96-3632AB19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2305-F753-4330-ADBF-3324BC98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0B6F-90FB-4637-90E4-F1C43E73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ADF1-A4B8-4C5A-8E02-56F53AD9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4F1B-BC4E-4F9A-9F73-5B05416E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CADE-E72E-4DAE-9E63-BBAD4713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9172-CAB9-4EB0-B5B6-A48D42B1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71D7-F290-4AB2-8D66-D4B5718A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898D-914C-44AF-B2B5-E139136F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56BC9-20FD-417E-9261-D07923894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DF134-BBFF-41D3-A900-6991084F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B2DBF-6DF3-4216-AC42-D82E2E59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6CCA1-25CA-46B9-98CC-AAE4EB6B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C49F2-1521-4B61-BA36-3F568A68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F56E-1266-401B-B854-3AB3083B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96958-AB02-4D21-B9CD-2932F63E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4D78E-C684-4BA5-8FF8-5A653D17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4314C-15D8-43EB-8B8D-B40A6A8D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1841C-2ECE-4018-B9CF-C3D5F329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C55EB-FD11-4A1C-A61F-C9AAEC6F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C7D70-6F5C-4A03-83A7-C8FDD2B31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95237-31C4-4598-AA6F-175083B0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C6E00-A271-4774-B003-F09E4F1EB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64EFC-7516-44A2-A3F5-7497F950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3CC3D-3AF1-43A4-A885-C5F09C2D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2F54-4575-42C1-8FE9-E3584034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B6840-8AF5-4862-B705-7938A14A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0E945-899B-40D8-8EEC-D3E132C4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C513B-F8C8-492B-8C8B-0A6EE243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14250-5F7C-48F5-8152-52C5890A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44D92-0AE3-4F10-9A1D-84A00A83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32177-7C05-4812-B67D-16E9B07C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88918-0D4D-4313-9C40-C9106040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2C142-7019-420A-A279-72EDC05AB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5BB8A-DCAE-40E5-94E5-CA0433958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A8057-2F43-4372-83D3-A8355B33B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46B9-50AC-4CA9-81C0-8217DFA3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F9BB2-6D07-4088-9864-4BEC9742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7CCA6-DD30-473F-88F4-CD181507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44F44-FDE6-4CC5-8D15-3802EE8A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4EEB3-C9EE-4943-AFDD-285B31A6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13DA0-64B4-4570-A40B-71541CF4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2586E-0CCD-4D51-9EBE-045A66EF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10F8E-D313-49FF-AC0C-3F158674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AB5C8-9295-4A00-8F08-0698B705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51EF2-C704-488F-BBE2-9A8393F0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EA098-464C-421E-A104-0664F914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FB08-5000-47C5-8D4C-82BB7509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95A70-8836-438B-8455-87A6526C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9407-BBE7-4F73-8E61-13B53ADA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3737-72FC-4B2C-9521-B98B365B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2E02-3309-471D-AA9A-24D3A48D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u="sng">
                <a:solidFill>
                  <a:srgbClr val="045c75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657E-A74D-42FF-9AEA-8F61688DB569}" type="slidenum">
              <a:rPr b="0" lang="ru-RU" sz="1200" spc="-1" strike="noStrike" u="sng">
                <a:solidFill>
                  <a:srgbClr val="045c75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u="sng">
                <a:solidFill>
                  <a:srgbClr val="d1eaee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705D-AC7F-49B2-9E20-6187F9518258}" type="slidenum">
              <a:rPr b="0" lang="ru-RU" sz="1200" spc="-1" strike="noStrike" u="sng">
                <a:solidFill>
                  <a:srgbClr val="d1eaee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u="sng">
                <a:solidFill>
                  <a:srgbClr val="d1eaee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B35D-EEED-4764-A3D8-0834646B7184}" type="slidenum">
              <a:rPr b="0" lang="ru-RU" sz="1200" spc="-1" strike="noStrike" u="sng">
                <a:solidFill>
                  <a:srgbClr val="d1eaee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u="sng">
                <a:solidFill>
                  <a:srgbClr val="045c75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77EC-3B0F-4FDE-A522-A3C35698F982}" type="slidenum">
              <a:rPr b="0" lang="ru-RU" sz="1200" spc="-1" strike="noStrike" u="sng">
                <a:solidFill>
                  <a:srgbClr val="045c75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u="sng">
                <a:solidFill>
                  <a:srgbClr val="045c75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42F0-2277-4423-B6BA-69E71BD0C231}" type="slidenum">
              <a:rPr b="0" lang="ru-RU" sz="1200" spc="-1" strike="noStrike" u="sng">
                <a:solidFill>
                  <a:srgbClr val="045c75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upload.wikimedia.org/wikipedia/commons/e/ef/Samuel_Morse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hyperlink" Target="http://com-network.narod.ru/Shilling2.jpg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museum.comp-school.ru/content/data/upimages/image64.gif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6" name="Rectangle 2" descr=""/>
          <p:cNvPicPr/>
          <p:nvPr/>
        </p:nvPicPr>
        <p:blipFill>
          <a:blip r:embed="rId2"/>
          <a:stretch/>
        </p:blipFill>
        <p:spPr>
          <a:xfrm>
            <a:off x="-66600" y="262080"/>
            <a:ext cx="8620200" cy="15732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0" y="4022640"/>
            <a:ext cx="876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Сигнальные костры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Звуковые сигналы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Система зеркал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Радиолокация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наружение объектов и определение их координат с помощью отражения радиоволн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0" name="Picture 4" descr="лок"/>
          <p:cNvPicPr/>
          <p:nvPr/>
        </p:nvPicPr>
        <p:blipFill>
          <a:blip r:embed="rId1"/>
          <a:stretch/>
        </p:blipFill>
        <p:spPr>
          <a:xfrm>
            <a:off x="4067280" y="3860640"/>
            <a:ext cx="2735280" cy="1916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"/>
          <p:cNvPicPr/>
          <p:nvPr/>
        </p:nvPicPr>
        <p:blipFill>
          <a:blip r:embed="rId2"/>
          <a:stretch/>
        </p:blipFill>
        <p:spPr>
          <a:xfrm>
            <a:off x="250920" y="3154320"/>
            <a:ext cx="3751200" cy="3703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File0011"/>
          <p:cNvPicPr/>
          <p:nvPr/>
        </p:nvPicPr>
        <p:blipFill>
          <a:blip r:embed="rId3"/>
          <a:stretch/>
        </p:blipFill>
        <p:spPr>
          <a:xfrm>
            <a:off x="6956280" y="3789360"/>
            <a:ext cx="2187720" cy="3068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Object 2" descr=""/>
          <p:cNvPicPr/>
          <p:nvPr/>
        </p:nvPicPr>
        <p:blipFill>
          <a:blip r:embed="rId1"/>
          <a:stretch/>
        </p:blipFill>
        <p:spPr>
          <a:xfrm>
            <a:off x="3780000" y="3382920"/>
            <a:ext cx="4830480" cy="3220920"/>
          </a:xfrm>
          <a:prstGeom prst="rect">
            <a:avLst/>
          </a:prstGeom>
          <a:ln w="0">
            <a:noFill/>
          </a:ln>
        </p:spPr>
      </p:pic>
      <p:pic>
        <p:nvPicPr>
          <p:cNvPr id="294" name="Rectangle 3" descr=""/>
          <p:cNvPicPr/>
          <p:nvPr/>
        </p:nvPicPr>
        <p:blipFill>
          <a:blip r:embed="rId2"/>
          <a:stretch/>
        </p:blipFill>
        <p:spPr>
          <a:xfrm>
            <a:off x="4286160" y="609480"/>
            <a:ext cx="4175280" cy="11462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932000" y="692280"/>
            <a:ext cx="3816360" cy="792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bf5f9"/>
                </a:solidFill>
                <a:latin typeface="Constantia"/>
              </a:rPr>
              <a:t>РАДИОЛОКАЦ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6" name="Object 5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4321080" cy="302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8" name="Object 7" descr=""/>
          <p:cNvPicPr/>
          <p:nvPr/>
        </p:nvPicPr>
        <p:blipFill>
          <a:blip r:embed="rId1"/>
          <a:stretch/>
        </p:blipFill>
        <p:spPr>
          <a:xfrm>
            <a:off x="5292720" y="4365720"/>
            <a:ext cx="3311640" cy="2016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"/>
          <p:cNvPicPr/>
          <p:nvPr/>
        </p:nvPicPr>
        <p:blipFill>
          <a:blip r:embed="rId2"/>
          <a:stretch/>
        </p:blipFill>
        <p:spPr>
          <a:xfrm>
            <a:off x="5508720" y="189000"/>
            <a:ext cx="3235320" cy="37447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"/>
          <p:cNvPicPr/>
          <p:nvPr/>
        </p:nvPicPr>
        <p:blipFill>
          <a:blip r:embed="rId3"/>
          <a:stretch/>
        </p:blipFill>
        <p:spPr>
          <a:xfrm>
            <a:off x="539640" y="3500280"/>
            <a:ext cx="4176720" cy="32274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4535280" cy="295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Телевидение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уществляет передачу информации с помощью радиоволн. Так же как и звуковой сигнал, волны несут изображени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4" name="Picture 4" descr="1 цветной телевизор"/>
          <p:cNvPicPr/>
          <p:nvPr/>
        </p:nvPicPr>
        <p:blipFill>
          <a:blip r:embed="rId1"/>
          <a:stretch/>
        </p:blipFill>
        <p:spPr>
          <a:xfrm>
            <a:off x="250920" y="3933720"/>
            <a:ext cx="1981080" cy="22147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теле 2"/>
          <p:cNvPicPr/>
          <p:nvPr/>
        </p:nvPicPr>
        <p:blipFill>
          <a:blip r:embed="rId2"/>
          <a:stretch/>
        </p:blipFill>
        <p:spPr>
          <a:xfrm>
            <a:off x="6300720" y="3500280"/>
            <a:ext cx="2616120" cy="30686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увидерли 1 теле"/>
          <p:cNvPicPr/>
          <p:nvPr/>
        </p:nvPicPr>
        <p:blipFill>
          <a:blip r:embed="rId3"/>
          <a:stretch/>
        </p:blipFill>
        <p:spPr>
          <a:xfrm>
            <a:off x="2556000" y="4076640"/>
            <a:ext cx="3311280" cy="262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1" descr=""/>
          <p:cNvPicPr/>
          <p:nvPr/>
        </p:nvPicPr>
        <p:blipFill>
          <a:blip r:embed="rId1"/>
          <a:stretch/>
        </p:blipFill>
        <p:spPr>
          <a:xfrm>
            <a:off x="542880" y="1054080"/>
            <a:ext cx="7851960" cy="36403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309" name="Улыбающееся лицо 3"/>
          <p:cNvGrpSpPr/>
          <p:nvPr/>
        </p:nvGrpSpPr>
        <p:grpSpPr>
          <a:xfrm>
            <a:off x="6735600" y="3108240"/>
            <a:ext cx="1049400" cy="1049400"/>
            <a:chOff x="6735600" y="3108240"/>
            <a:chExt cx="1049400" cy="1049400"/>
          </a:xfrm>
        </p:grpSpPr>
        <p:pic>
          <p:nvPicPr>
            <p:cNvPr id="310" name="Улыбающееся лицо 3" descr=""/>
            <p:cNvPicPr/>
            <p:nvPr/>
          </p:nvPicPr>
          <p:blipFill>
            <a:blip r:embed="rId2"/>
            <a:stretch/>
          </p:blipFill>
          <p:spPr>
            <a:xfrm>
              <a:off x="6735600" y="3108240"/>
              <a:ext cx="104940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6937200" y="3274920"/>
              <a:ext cx="64800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3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Изображение:Samuel Mors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87640" y="0"/>
            <a:ext cx="3816360" cy="4000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aphicFrame>
        <p:nvGraphicFramePr>
          <p:cNvPr id="250" name=""/>
          <p:cNvGraphicFramePr/>
          <p:nvPr/>
        </p:nvGraphicFramePr>
        <p:xfrm>
          <a:off x="609480" y="4191120"/>
          <a:ext cx="7543800" cy="2239920"/>
        </p:xfrm>
        <a:graphic>
          <a:graphicData uri="http://schemas.openxmlformats.org/drawingml/2006/table">
            <a:tbl>
              <a:tblPr/>
              <a:tblGrid>
                <a:gridCol w="1838520"/>
                <a:gridCol w="2054160"/>
                <a:gridCol w="1327320"/>
                <a:gridCol w="2323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 символ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тинский символ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Морзе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апев»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· −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й-даа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· · ·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а-ки-те-кут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    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· − −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-даа-лаа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телегр"/>
          <p:cNvPicPr/>
          <p:nvPr/>
        </p:nvPicPr>
        <p:blipFill>
          <a:blip r:embed="rId2"/>
          <a:stretch/>
        </p:blipFill>
        <p:spPr>
          <a:xfrm>
            <a:off x="3886200" y="3886200"/>
            <a:ext cx="4648320" cy="2792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53" name="Text Box 3"/>
          <p:cNvSpPr/>
          <p:nvPr/>
        </p:nvSpPr>
        <p:spPr>
          <a:xfrm>
            <a:off x="2743200" y="304920"/>
            <a:ext cx="50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dd9"/>
                </a:solidFill>
                <a:latin typeface="Arial"/>
              </a:rPr>
              <a:t>Первый телеграф: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54" name="Picture 4" descr="Картинка 2 из 4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05120" y="914400"/>
            <a:ext cx="2809800" cy="1905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55" name="Text Box 5"/>
          <p:cNvSpPr/>
          <p:nvPr/>
        </p:nvSpPr>
        <p:spPr>
          <a:xfrm>
            <a:off x="360" y="6019920"/>
            <a:ext cx="34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граф Морзе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4877280" y="1295280"/>
            <a:ext cx="40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граф Шиллинга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57" name="Picture 7" descr="Картинка 3 из 1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880" y="3124080"/>
            <a:ext cx="3124440" cy="2392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58" name="Text Box 8"/>
          <p:cNvSpPr/>
          <p:nvPr/>
        </p:nvSpPr>
        <p:spPr>
          <a:xfrm rot="20511600">
            <a:off x="3809880" y="2666520"/>
            <a:ext cx="38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граф Уитстона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Радиотелефонная связь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4" descr="imagesCA5O3JQC"/>
          <p:cNvPicPr/>
          <p:nvPr/>
        </p:nvPicPr>
        <p:blipFill>
          <a:blip r:embed="rId1"/>
          <a:stretch/>
        </p:blipFill>
        <p:spPr>
          <a:xfrm rot="939000">
            <a:off x="579600" y="3684600"/>
            <a:ext cx="2117520" cy="27194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222px-ATTtelephone-large"/>
          <p:cNvPicPr/>
          <p:nvPr/>
        </p:nvPicPr>
        <p:blipFill>
          <a:blip r:embed="rId2"/>
          <a:stretch/>
        </p:blipFill>
        <p:spPr>
          <a:xfrm rot="1039800">
            <a:off x="5651640" y="1412640"/>
            <a:ext cx="2323800" cy="2323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imagesCAR95YI0"/>
          <p:cNvPicPr/>
          <p:nvPr/>
        </p:nvPicPr>
        <p:blipFill>
          <a:blip r:embed="rId3"/>
          <a:stretch/>
        </p:blipFill>
        <p:spPr>
          <a:xfrm>
            <a:off x="900000" y="1484280"/>
            <a:ext cx="2735280" cy="2238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imagesCAVDR22X"/>
          <p:cNvPicPr/>
          <p:nvPr/>
        </p:nvPicPr>
        <p:blipFill>
          <a:blip r:embed="rId4"/>
          <a:stretch/>
        </p:blipFill>
        <p:spPr>
          <a:xfrm rot="20581800">
            <a:off x="5678640" y="3742920"/>
            <a:ext cx="2538360" cy="2538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100px-Telefon_VHM_ubt"/>
          <p:cNvPicPr/>
          <p:nvPr/>
        </p:nvPicPr>
        <p:blipFill>
          <a:blip r:embed="rId5"/>
          <a:stretch/>
        </p:blipFill>
        <p:spPr>
          <a:xfrm>
            <a:off x="3203640" y="3213000"/>
            <a:ext cx="2233440" cy="302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Радиотелефонная связ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полагает передачу  информации только для приема конкретным абонент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3529080" cy="38224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5"/>
          <p:cNvSpPr/>
          <p:nvPr/>
        </p:nvSpPr>
        <p:spPr>
          <a:xfrm>
            <a:off x="179280" y="6237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лександр Белл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2"/>
          <a:stretch/>
        </p:blipFill>
        <p:spPr>
          <a:xfrm>
            <a:off x="4572000" y="2205000"/>
            <a:ext cx="4208400" cy="40435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4643280" y="6237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лефон Белла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 апреле 1895 г. А.С.Попов создал первый приемник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4" name="Picture 5" descr=""/>
          <p:cNvPicPr/>
          <p:nvPr/>
        </p:nvPicPr>
        <p:blipFill>
          <a:blip r:embed="rId1"/>
          <a:stretch/>
        </p:blipFill>
        <p:spPr>
          <a:xfrm>
            <a:off x="1762200" y="1627200"/>
            <a:ext cx="5997600" cy="52308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6"/>
          <p:cNvSpPr/>
          <p:nvPr/>
        </p:nvSpPr>
        <p:spPr>
          <a:xfrm>
            <a:off x="6588000" y="5157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С.Попов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ервый радиоприемник, созданный А.С.Поповым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4968720" cy="45162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"/>
          <p:cNvPicPr/>
          <p:nvPr/>
        </p:nvPicPr>
        <p:blipFill>
          <a:blip r:embed="rId2"/>
          <a:stretch/>
        </p:blipFill>
        <p:spPr>
          <a:xfrm>
            <a:off x="5508720" y="3213000"/>
            <a:ext cx="338436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Радиовещание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редача в эфир речи, музыки, звуковых эффектов с помощью электромагнитных волн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3700440" cy="2502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"/>
          <p:cNvPicPr/>
          <p:nvPr/>
        </p:nvPicPr>
        <p:blipFill>
          <a:blip r:embed="rId2"/>
          <a:stretch/>
        </p:blipFill>
        <p:spPr>
          <a:xfrm>
            <a:off x="6877080" y="2708280"/>
            <a:ext cx="2052720" cy="31399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7"/>
          <p:cNvSpPr/>
          <p:nvPr/>
        </p:nvSpPr>
        <p:spPr>
          <a:xfrm>
            <a:off x="179280" y="623736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Arial"/>
              </a:rPr>
              <a:t>Первый ламповый приемник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6804000" y="5950080"/>
            <a:ext cx="21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Arial"/>
              </a:rPr>
              <a:t>Радиоприемник 90-х годов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ompany06b"/>
          <p:cNvPicPr/>
          <p:nvPr/>
        </p:nvPicPr>
        <p:blipFill>
          <a:blip r:embed="rId1"/>
          <a:stretch/>
        </p:blipFill>
        <p:spPr>
          <a:xfrm>
            <a:off x="-612720" y="0"/>
            <a:ext cx="11017080" cy="71010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3"/>
          <p:cNvSpPr/>
          <p:nvPr/>
        </p:nvSpPr>
        <p:spPr>
          <a:xfrm>
            <a:off x="2050920" y="616572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ИНЦИП РАДИОСВЯЗИ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8:12:41Z</dcterms:created>
  <dc:creator>Ирина</dc:creator>
  <dc:description/>
  <dc:language>en-US</dc:language>
  <cp:lastModifiedBy>School</cp:lastModifiedBy>
  <dcterms:modified xsi:type="dcterms:W3CDTF">2013-01-28T07:56:36Z</dcterms:modified>
  <cp:revision>56</cp:revision>
  <dc:subject/>
  <dc:title>Развитие средств связ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17000000000001024140</vt:lpwstr>
  </property>
</Properties>
</file>