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5.wmf" ContentType="image/x-wmf"/>
  <Override PartName="/ppt/media/image24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21.png" ContentType="image/png"/>
  <Override PartName="/ppt/media/image16.gif" ContentType="image/gif"/>
  <Override PartName="/ppt/media/image12.wmf" ContentType="image/x-wmf"/>
  <Override PartName="/ppt/media/image49.wmf" ContentType="image/x-wmf"/>
  <Override PartName="/ppt/media/image23.jpeg" ContentType="image/jpeg"/>
  <Override PartName="/ppt/media/image26.gif" ContentType="image/gif"/>
  <Override PartName="/ppt/media/image14.wmf" ContentType="image/x-wmf"/>
  <Override PartName="/ppt/media/image58.jpeg" ContentType="image/jpeg"/>
  <Override PartName="/ppt/media/image3.gif" ContentType="image/gif"/>
  <Override PartName="/ppt/media/image17.jpeg" ContentType="image/jpeg"/>
  <Override PartName="/ppt/media/image45.wmf" ContentType="image/x-wmf"/>
  <Override PartName="/ppt/media/image11.wmf" ContentType="image/x-wmf"/>
  <Override PartName="/ppt/media/image5.jpeg" ContentType="image/jpeg"/>
  <Override PartName="/ppt/media/image48.wmf" ContentType="image/x-wmf"/>
  <Override PartName="/ppt/media/image22.jpeg" ContentType="image/jpeg"/>
  <Override PartName="/ppt/media/image1.jpeg" ContentType="image/jpeg"/>
  <Override PartName="/ppt/media/image4.gif" ContentType="image/gif"/>
  <Override PartName="/ppt/media/image28.wmf" ContentType="image/x-wmf"/>
  <Override PartName="/ppt/media/image36.wmf" ContentType="image/x-wmf"/>
  <Override PartName="/ppt/media/image54.jpeg" ContentType="image/jpeg"/>
  <Override PartName="/ppt/media/image38.wmf" ContentType="image/x-wmf"/>
  <Override PartName="/ppt/media/image40.jpeg" ContentType="image/jpeg"/>
  <Override PartName="/ppt/media/image42.png" ContentType="image/png"/>
  <Override PartName="/ppt/media/image41.jpeg" ContentType="image/jpeg"/>
  <Override PartName="/ppt/media/image51.jpeg" ContentType="image/jpeg"/>
  <Override PartName="/ppt/media/image43.wmf" ContentType="image/x-wmf"/>
  <Override PartName="/ppt/media/image53.jpeg" ContentType="image/jpeg"/>
  <Override PartName="/ppt/media/image46.wmf" ContentType="image/x-wmf"/>
  <Override PartName="/ppt/media/image44.wmf" ContentType="image/x-wmf"/>
  <Override PartName="/ppt/media/image39.wmf" ContentType="image/x-wmf"/>
  <Override PartName="/ppt/media/image56.jpeg" ContentType="image/jpeg"/>
  <Override PartName="/ppt/media/image35.wmf" ContentType="image/x-wmf"/>
  <Override PartName="/ppt/media/image34.wmf" ContentType="image/x-wmf"/>
  <Override PartName="/ppt/media/image55.jpeg" ContentType="image/jpeg"/>
  <Override PartName="/ppt/media/image30.gif" ContentType="image/gif"/>
  <Override PartName="/ppt/media/image52.jpeg" ContentType="image/jpeg"/>
  <Override PartName="/ppt/media/image33.wmf" ContentType="image/x-wmf"/>
  <Override PartName="/ppt/media/image27.jpeg" ContentType="image/jpeg"/>
  <Override PartName="/ppt/media/image13.wmf" ContentType="image/x-wmf"/>
  <Override PartName="/ppt/media/image50.jpeg" ContentType="image/jpeg"/>
  <Override PartName="/ppt/media/image32.jpeg" ContentType="image/jpeg"/>
  <Override PartName="/ppt/media/image8.jpeg" ContentType="image/jpeg"/>
  <Override PartName="/ppt/media/image47.wmf" ContentType="image/x-wmf"/>
  <Override PartName="/ppt/media/image31.jpeg" ContentType="image/jpeg"/>
  <Override PartName="/ppt/media/image10.wmf" ContentType="image/x-wmf"/>
  <Override PartName="/ppt/media/image9.jpeg" ContentType="image/jpeg"/>
  <Override PartName="/ppt/media/image37.wmf" ContentType="image/x-wmf"/>
  <Override PartName="/ppt/media/image7.wmf" ContentType="image/x-wmf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C23-F718-420E-9F1F-66B04763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5EB-854A-4C09-95E6-E4D143B6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964-65FB-47BD-869E-03CFEAF0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C78-9DF4-474C-9585-44378CAD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9F2F-ACDB-4344-88E0-BDC13AE9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4333-6BFA-49CF-A7E3-61E29587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334D-F215-4B52-94E7-40F3A862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11FF-7AFF-4B2E-AC10-6FCBF080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B7B1-4227-4D5A-B92E-2D707170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7169-30E0-4159-9F91-4284391A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35DB-9035-416A-B054-2043A945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135-F857-4DF2-AEDD-07C61A7F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A828-F74F-4018-8935-2B6E75DC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AAC0-447A-47C0-94E1-5A18681C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A92A-CB59-4D60-B16C-1EBC8BB9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A741-ABD0-409B-98DF-65D48F7F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ADBC-5AAB-48CD-B9B1-AD61790C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F82-0172-4613-86A5-D72F45EC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F67-9113-420E-996F-40C801C1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8C3-38DE-4E89-AD1C-29146070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CB3-392A-4C97-BDB7-1EF8F936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B62-558D-4C67-87F9-BFAEDA0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379-43BF-48CC-BA06-EF2A32EB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090-6E9D-42A9-AE2F-0447202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D071-76D0-4B96-9BA2-7467901708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0B5-94B5-4FB4-BA09-44EA6A95AA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20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Природа электрических взаимодействий.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4537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начале 18-го века французский ученый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Шарль Дюф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объяснил притяжение и отталкивание наэлектризованных тел существованием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двух типов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электрических зарядов.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3141720"/>
            <a:ext cx="1008360" cy="10080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a253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04000" y="386064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235e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03640" y="443700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4235eb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-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4235eb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32000" y="3932280"/>
            <a:ext cx="1295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cc"/>
                    </a:gs>
                    <a:gs pos="100000">
                      <a:srgbClr val="f10516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+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cc"/>
                  </a:gs>
                  <a:gs pos="100000">
                    <a:srgbClr val="f10516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788000" y="4941720"/>
            <a:ext cx="1079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=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3645000"/>
            <a:ext cx="1042920" cy="10429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3284640"/>
            <a:ext cx="1042920" cy="10429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04723 0.02616 E">
                                      <p:cBhvr>
                                        <p:cTn id="13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4723 -0.03125 E">
                                      <p:cBhvr>
                                        <p:cTn id="13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231 L 0.05139 0.02685 E">
                                      <p:cBhvr>
                                        <p:cTn id="15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-0.04705 -0.02616 E">
                                      <p:cBhvr>
                                        <p:cTn id="15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03640" y="1916280"/>
            <a:ext cx="53276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Бенджамин Франкли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едложил назвать электрические заряды одного типа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положительными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,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 другого типа -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Comic Sans MS"/>
              </a:rPr>
              <a:t>отрицательными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74840" cy="391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615456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184" name="Object 3" descr=""/>
          <p:cNvPicPr/>
          <p:nvPr/>
        </p:nvPicPr>
        <p:blipFill>
          <a:blip r:embed="rId2"/>
          <a:stretch/>
        </p:blipFill>
        <p:spPr>
          <a:xfrm>
            <a:off x="2503440" y="2060640"/>
            <a:ext cx="822240" cy="4508280"/>
          </a:xfrm>
          <a:prstGeom prst="rect">
            <a:avLst/>
          </a:prstGeom>
          <a:ln w="0">
            <a:noFill/>
          </a:ln>
        </p:spPr>
      </p:pic>
      <p:pic>
        <p:nvPicPr>
          <p:cNvPr id="185" name="Object 4" descr=""/>
          <p:cNvPicPr/>
          <p:nvPr/>
        </p:nvPicPr>
        <p:blipFill>
          <a:blip r:embed="rId3"/>
          <a:stretch/>
        </p:blipFill>
        <p:spPr>
          <a:xfrm>
            <a:off x="2835360" y="2205000"/>
            <a:ext cx="171360" cy="3700440"/>
          </a:xfrm>
          <a:prstGeom prst="rect">
            <a:avLst/>
          </a:prstGeom>
          <a:ln w="0">
            <a:noFill/>
          </a:ln>
        </p:spPr>
      </p:pic>
      <p:sp>
        <p:nvSpPr>
          <p:cNvPr id="186" name="Oval 5"/>
          <p:cNvSpPr/>
          <p:nvPr/>
        </p:nvSpPr>
        <p:spPr>
          <a:xfrm>
            <a:off x="2771640" y="33559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3024360" y="5805360"/>
            <a:ext cx="28728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2523960" y="256536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2771640" y="479736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ject 9" descr=""/>
          <p:cNvPicPr/>
          <p:nvPr/>
        </p:nvPicPr>
        <p:blipFill>
          <a:blip r:embed="rId4"/>
          <a:stretch/>
        </p:blipFill>
        <p:spPr>
          <a:xfrm>
            <a:off x="1906560" y="404640"/>
            <a:ext cx="1546200" cy="1806840"/>
          </a:xfrm>
          <a:prstGeom prst="rect">
            <a:avLst/>
          </a:prstGeom>
          <a:ln w="0">
            <a:noFill/>
          </a:ln>
        </p:spPr>
      </p:pic>
      <p:pic>
        <p:nvPicPr>
          <p:cNvPr id="191" name="Object 14" descr=""/>
          <p:cNvPicPr/>
          <p:nvPr/>
        </p:nvPicPr>
        <p:blipFill>
          <a:blip r:embed="rId5"/>
          <a:stretch/>
        </p:blipFill>
        <p:spPr>
          <a:xfrm>
            <a:off x="3995640" y="765000"/>
            <a:ext cx="3265560" cy="81756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5"/>
          <p:cNvGrpSpPr/>
          <p:nvPr/>
        </p:nvGrpSpPr>
        <p:grpSpPr>
          <a:xfrm>
            <a:off x="2700360" y="2492280"/>
            <a:ext cx="4535640" cy="3304800"/>
            <a:chOff x="2700360" y="2492280"/>
            <a:chExt cx="4535640" cy="3304800"/>
          </a:xfrm>
        </p:grpSpPr>
        <p:sp>
          <p:nvSpPr>
            <p:cNvPr id="193" name="AutoShape 16"/>
            <p:cNvSpPr/>
            <p:nvPr/>
          </p:nvSpPr>
          <p:spPr>
            <a:xfrm>
              <a:off x="2700360" y="2492280"/>
              <a:ext cx="2087640" cy="289080"/>
            </a:xfrm>
            <a:prstGeom prst="leftArrow">
              <a:avLst>
                <a:gd name="adj1" fmla="val 50000"/>
                <a:gd name="adj2" fmla="val 180542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7"/>
            <p:cNvSpPr/>
            <p:nvPr/>
          </p:nvSpPr>
          <p:spPr>
            <a:xfrm rot="20215800">
              <a:off x="2987640" y="2852640"/>
              <a:ext cx="1798560" cy="289080"/>
            </a:xfrm>
            <a:prstGeom prst="leftArrow">
              <a:avLst>
                <a:gd name="adj1" fmla="val 50000"/>
                <a:gd name="adj2" fmla="val 155542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ff0000"/>
                </a:gs>
              </a:gsLst>
              <a:lin ang="67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8"/>
            <p:cNvSpPr/>
            <p:nvPr/>
          </p:nvSpPr>
          <p:spPr>
            <a:xfrm rot="18526200">
              <a:off x="2555640" y="3644640"/>
              <a:ext cx="2736720" cy="288720"/>
            </a:xfrm>
            <a:prstGeom prst="leftArrow">
              <a:avLst>
                <a:gd name="adj1" fmla="val 50000"/>
                <a:gd name="adj2" fmla="val 23697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ff0000"/>
                </a:gs>
              </a:gsLst>
              <a:lin ang="84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9"/>
            <p:cNvSpPr/>
            <p:nvPr/>
          </p:nvSpPr>
          <p:spPr>
            <a:xfrm rot="17616600">
              <a:off x="2412000" y="4077000"/>
              <a:ext cx="3313080" cy="288720"/>
            </a:xfrm>
            <a:prstGeom prst="leftArrow">
              <a:avLst>
                <a:gd name="adj1" fmla="val 50000"/>
                <a:gd name="adj2" fmla="val 286877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ff0000"/>
                </a:gs>
              </a:gsLst>
              <a:lin ang="93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4643280" y="2565360"/>
              <a:ext cx="2592720" cy="93492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ейтральны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том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1"/>
          <p:cNvGrpSpPr/>
          <p:nvPr/>
        </p:nvGrpSpPr>
        <p:grpSpPr>
          <a:xfrm>
            <a:off x="250920" y="1125360"/>
            <a:ext cx="1728000" cy="4967640"/>
            <a:chOff x="250920" y="1125360"/>
            <a:chExt cx="1728000" cy="4967640"/>
          </a:xfrm>
        </p:grpSpPr>
        <p:sp>
          <p:nvSpPr>
            <p:cNvPr id="199" name="Line 22"/>
            <p:cNvSpPr/>
            <p:nvPr/>
          </p:nvSpPr>
          <p:spPr>
            <a:xfrm flipH="1">
              <a:off x="551520" y="1125360"/>
              <a:ext cx="142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>
              <a:off x="551880" y="1125360"/>
              <a:ext cx="0" cy="468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4"/>
            <p:cNvSpPr/>
            <p:nvPr/>
          </p:nvSpPr>
          <p:spPr>
            <a:xfrm>
              <a:off x="250920" y="5805360"/>
              <a:ext cx="60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5"/>
            <p:cNvSpPr/>
            <p:nvPr/>
          </p:nvSpPr>
          <p:spPr>
            <a:xfrm>
              <a:off x="401400" y="5950080"/>
              <a:ext cx="30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>
              <a:off x="477720" y="6093000"/>
              <a:ext cx="14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Oval 27"/>
          <p:cNvSpPr/>
          <p:nvPr/>
        </p:nvSpPr>
        <p:spPr>
          <a:xfrm>
            <a:off x="2484360" y="11970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189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лектро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2523960" y="2276640"/>
            <a:ext cx="28764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2771640" y="3068640"/>
            <a:ext cx="28764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"/>
          <p:cNvSpPr/>
          <p:nvPr/>
        </p:nvSpPr>
        <p:spPr>
          <a:xfrm>
            <a:off x="2771640" y="4508640"/>
            <a:ext cx="28764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2"/>
          <p:cNvSpPr/>
          <p:nvPr/>
        </p:nvSpPr>
        <p:spPr>
          <a:xfrm>
            <a:off x="3024360" y="5505480"/>
            <a:ext cx="28728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2.22222E-006 C 0.00277 -0.01736 0.00503 -0.03426 0.00121 -0.04537 C -0.00243 -0.05648 -0.01459 -0.05926 -0.02118 -0.06667 C -0.02761 -0.07408 -0.03282 -0.08033 -0.03733 -0.08935 C -0.04184 -0.09838 -0.04636 -0.10787 -0.04879 -0.1213 C -0.05139 -0.13449 -0.05139 -0.16019 -0.05157 -0.16783 E">
                                      <p:cBhvr>
                                        <p:cTn id="22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C 0.00313 -0.00556 0.0066 -0.01042 0.01181 -0.01042 C 0.01702 -0.01042 0.02813 -0.00232 0.0316 3.33333E-006 E">
                                      <p:cBhvr>
                                        <p:cTn id="229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162 C -0.00747 0.0037 -0.01458 0.00602 -0.02361 0.00208 C -0.03281 -0.00162 -0.0441 -0.01134 -0.05503 -0.02083 E">
                                      <p:cBhvr>
                                        <p:cTn id="23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0.05069 0.00312 0.10139 -0.00104 0.12083 C -0.00521 0.14028 -0.02118 0.16389 -0.025 0.11666 C -0.02882 0.06944 -0.02379 -0.08935 -0.02396 -0.1625 C -0.02413 -0.23565 -0.02587 -0.29584 -0.02604 -0.32222 E">
                                      <p:cBhvr>
                                        <p:cTn id="23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7 -0.09274 0.00711 -0.18524 -0.00139 -0.22479 C -0.0099 -0.26434 -0.04098 -0.17784 -0.0507 -0.23705 C -0.06042 -0.29625 -0.06007 -0.43802 -0.05973 -0.57955 E">
                                      <p:cBhvr>
                                        <p:cTn id="235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8 -0.03308 0.00417 -0.06615 0 -0.08118 C -0.00417 -0.09621 -0.02205 -0.03955 -0.02465 -0.08997 C -0.02726 -0.14038 -0.02517 -0.31846 -0.01562 -0.38391 C -0.00608 -0.44936 0.02448 -0.46624 0.03247 -0.48266 E">
                                      <p:cBhvr>
                                        <p:cTn id="237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04 -0.32223 L -0.25972 -0.32523 E">
                                      <p:cBhvr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47 -0.48264 L -0.25191 -0.48264 E">
                                      <p:cBhvr>
                                        <p:cTn id="24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7 -0.16783 L -0.22483 -0.16783 E">
                                      <p:cBhvr>
                                        <p:cTn id="250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65 -0.67755 L -0.28125 -0.67361 E">
                                      <p:cBhvr>
                                        <p:cTn id="25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32523 L -0.25972 0.43078 E">
                                      <p:cBhvr>
                                        <p:cTn id="255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264 -0.20972 L -0.23264 0.52523 E">
                                      <p:cBhvr>
                                        <p:cTn id="25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53518 L -0.25972 0.18935 E">
                                      <p:cBhvr>
                                        <p:cTn id="259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68055 L -0.28732 0.04398 E">
                                      <p:cBhvr>
                                        <p:cTn id="26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870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800d6"/>
                </a:solidFill>
                <a:latin typeface="Monotype Corsiva"/>
              </a:rPr>
              <a:t>Посмотрите анимацию и объясните происходяще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53272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Электрический заряд дискрете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95640" y="4070520"/>
            <a:ext cx="5761080" cy="2787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3499920"/>
            <a:ext cx="849636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брама Фёдоровича Иоффе  и   Роберт Миллик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84480" cy="3429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243828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0" t="0" r="-39" b="0"/>
          <a:stretch/>
        </p:blipFill>
        <p:spPr>
          <a:xfrm>
            <a:off x="900000" y="476280"/>
            <a:ext cx="6912000" cy="52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941040" y="445680"/>
            <a:ext cx="6788880" cy="7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Схема образования ион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93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ject 4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1763640" y="1125360"/>
            <a:ext cx="4681440" cy="1362240"/>
          </a:xfrm>
          <a:prstGeom prst="rect">
            <a:avLst/>
          </a:prstGeom>
          <a:ln w="0">
            <a:noFill/>
          </a:ln>
        </p:spPr>
      </p:pic>
      <p:pic>
        <p:nvPicPr>
          <p:cNvPr id="222" name="Object 5" descr="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324000" y="2421000"/>
            <a:ext cx="4535280" cy="138600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9" descr=""/>
          <p:cNvPicPr/>
          <p:nvPr/>
        </p:nvPicPr>
        <p:blipFill>
          <a:blip r:embed="rId3"/>
          <a:stretch/>
        </p:blipFill>
        <p:spPr>
          <a:xfrm>
            <a:off x="1655640" y="2617920"/>
            <a:ext cx="90036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Object 10" descr=""/>
          <p:cNvPicPr/>
          <p:nvPr/>
        </p:nvPicPr>
        <p:blipFill>
          <a:blip r:embed="rId4"/>
          <a:stretch/>
        </p:blipFill>
        <p:spPr>
          <a:xfrm>
            <a:off x="3095640" y="2617920"/>
            <a:ext cx="900000" cy="1008000"/>
          </a:xfrm>
          <a:prstGeom prst="rect">
            <a:avLst/>
          </a:prstGeom>
          <a:ln w="0">
            <a:noFill/>
          </a:ln>
        </p:spPr>
      </p:pic>
      <p:pic>
        <p:nvPicPr>
          <p:cNvPr id="225" name="Object 11" descr=""/>
          <p:cNvPicPr/>
          <p:nvPr/>
        </p:nvPicPr>
        <p:blipFill>
          <a:blip r:embed="rId5"/>
          <a:stretch/>
        </p:blipFill>
        <p:spPr>
          <a:xfrm>
            <a:off x="684360" y="2637000"/>
            <a:ext cx="900000" cy="1008000"/>
          </a:xfrm>
          <a:prstGeom prst="rect">
            <a:avLst/>
          </a:prstGeom>
          <a:ln w="0">
            <a:noFill/>
          </a:ln>
        </p:spPr>
      </p:pic>
      <p:sp>
        <p:nvSpPr>
          <p:cNvPr id="226" name="Oval 12"/>
          <p:cNvSpPr/>
          <p:nvPr/>
        </p:nvSpPr>
        <p:spPr>
          <a:xfrm>
            <a:off x="1943280" y="2906640"/>
            <a:ext cx="360360" cy="36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3382920" y="2978280"/>
            <a:ext cx="360360" cy="361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74560" y="2906640"/>
            <a:ext cx="360360" cy="36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1"/>
          <p:cNvGrpSpPr/>
          <p:nvPr/>
        </p:nvGrpSpPr>
        <p:grpSpPr>
          <a:xfrm>
            <a:off x="1079640" y="3049560"/>
            <a:ext cx="287280" cy="287280"/>
            <a:chOff x="1079640" y="3049560"/>
            <a:chExt cx="287280" cy="287280"/>
          </a:xfrm>
        </p:grpSpPr>
        <p:sp>
          <p:nvSpPr>
            <p:cNvPr id="230" name="Oval 22"/>
            <p:cNvSpPr/>
            <p:nvPr/>
          </p:nvSpPr>
          <p:spPr>
            <a:xfrm>
              <a:off x="1079640" y="3049560"/>
              <a:ext cx="287280" cy="287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>
              <a:off x="1152360" y="319392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25"/>
          <p:cNvSpPr/>
          <p:nvPr/>
        </p:nvSpPr>
        <p:spPr>
          <a:xfrm>
            <a:off x="468360" y="189000"/>
            <a:ext cx="72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Monotype Corsiva"/>
              </a:rPr>
              <a:t>Электризация трени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8"/>
          <p:cNvSpPr/>
          <p:nvPr/>
        </p:nvSpPr>
        <p:spPr>
          <a:xfrm>
            <a:off x="4011480" y="1484280"/>
            <a:ext cx="360360" cy="360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9"/>
          <p:cNvSpPr/>
          <p:nvPr/>
        </p:nvSpPr>
        <p:spPr>
          <a:xfrm>
            <a:off x="5614920" y="1557360"/>
            <a:ext cx="360360" cy="360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ject 26" descr=""/>
          <p:cNvPicPr/>
          <p:nvPr/>
        </p:nvPicPr>
        <p:blipFill>
          <a:blip r:embed="rId6"/>
          <a:stretch/>
        </p:blipFill>
        <p:spPr>
          <a:xfrm>
            <a:off x="3743280" y="1197000"/>
            <a:ext cx="90000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27" descr=""/>
          <p:cNvPicPr/>
          <p:nvPr/>
        </p:nvPicPr>
        <p:blipFill>
          <a:blip r:embed="rId7"/>
          <a:stretch/>
        </p:blipFill>
        <p:spPr>
          <a:xfrm>
            <a:off x="5364000" y="1268280"/>
            <a:ext cx="900360" cy="100836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21"/>
          <p:cNvGrpSpPr/>
          <p:nvPr/>
        </p:nvGrpSpPr>
        <p:grpSpPr>
          <a:xfrm>
            <a:off x="3743280" y="1268280"/>
            <a:ext cx="287280" cy="287280"/>
            <a:chOff x="3743280" y="1268280"/>
            <a:chExt cx="287280" cy="287280"/>
          </a:xfrm>
        </p:grpSpPr>
        <p:sp>
          <p:nvSpPr>
            <p:cNvPr id="238" name="Oval 22"/>
            <p:cNvSpPr/>
            <p:nvPr/>
          </p:nvSpPr>
          <p:spPr>
            <a:xfrm>
              <a:off x="3743280" y="1268280"/>
              <a:ext cx="287280" cy="287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3"/>
            <p:cNvSpPr/>
            <p:nvPr/>
          </p:nvSpPr>
          <p:spPr>
            <a:xfrm>
              <a:off x="3816000" y="141264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1"/>
          <p:cNvGrpSpPr/>
          <p:nvPr/>
        </p:nvGrpSpPr>
        <p:grpSpPr>
          <a:xfrm>
            <a:off x="5830920" y="1197000"/>
            <a:ext cx="287280" cy="287280"/>
            <a:chOff x="5830920" y="1197000"/>
            <a:chExt cx="287280" cy="287280"/>
          </a:xfrm>
        </p:grpSpPr>
        <p:sp>
          <p:nvSpPr>
            <p:cNvPr id="241" name="Oval 22"/>
            <p:cNvSpPr/>
            <p:nvPr/>
          </p:nvSpPr>
          <p:spPr>
            <a:xfrm>
              <a:off x="5830920" y="1197000"/>
              <a:ext cx="287280" cy="287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3"/>
            <p:cNvSpPr/>
            <p:nvPr/>
          </p:nvSpPr>
          <p:spPr>
            <a:xfrm>
              <a:off x="5903640" y="134136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659640" y="1557360"/>
            <a:ext cx="13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  <a:ea typeface="Arial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2637000"/>
            <a:ext cx="13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4370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ерераспределение заря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8"/>
          <p:cNvGrpSpPr/>
          <p:nvPr/>
        </p:nvGrpSpPr>
        <p:grpSpPr>
          <a:xfrm>
            <a:off x="1943280" y="2473200"/>
            <a:ext cx="287280" cy="287280"/>
            <a:chOff x="1943280" y="2473200"/>
            <a:chExt cx="287280" cy="287280"/>
          </a:xfrm>
        </p:grpSpPr>
        <p:sp>
          <p:nvSpPr>
            <p:cNvPr id="247" name="Oval 19"/>
            <p:cNvSpPr/>
            <p:nvPr/>
          </p:nvSpPr>
          <p:spPr>
            <a:xfrm>
              <a:off x="1943280" y="2473200"/>
              <a:ext cx="287280" cy="287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>
              <a:off x="2016000" y="261756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7"/>
          <p:cNvGrpSpPr/>
          <p:nvPr/>
        </p:nvGrpSpPr>
        <p:grpSpPr>
          <a:xfrm>
            <a:off x="3238560" y="2617920"/>
            <a:ext cx="287280" cy="287280"/>
            <a:chOff x="3238560" y="2617920"/>
            <a:chExt cx="287280" cy="287280"/>
          </a:xfrm>
        </p:grpSpPr>
        <p:sp>
          <p:nvSpPr>
            <p:cNvPr id="250" name="Oval 15"/>
            <p:cNvSpPr/>
            <p:nvPr/>
          </p:nvSpPr>
          <p:spPr>
            <a:xfrm>
              <a:off x="3238560" y="2617920"/>
              <a:ext cx="287280" cy="2872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>
              <a:off x="3311280" y="276228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0" dur="5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2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4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6" dur="5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8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0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4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4 L 0.25018 0.00024 E">
                                      <p:cBhvr>
                                        <p:cTn id="366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8" dur="5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C 0.25659 -0.0037 0.26371 -0.00717 0.26337 -0.02083 C 0.26337 -0.03426 0.25139 -0.07129 0.24948 -0.08102 E">
                                      <p:cBhvr>
                                        <p:cTn id="37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017 0.00023 C 0.25347 -0.01181 0.25712 -0.02385 0.25746 -0.03727 C 0.25798 -0.0507 0.25312 -0.07385 0.25208 -0.08102 E">
                                      <p:cBhvr>
                                        <p:cTn id="373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265640" y="1828800"/>
            <a:ext cx="411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опро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Определите знак заряда на дереве после того, как о него потрётся кошка, используя таблицу «Энергия связи электрона с атомами веществ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333360"/>
            <a:ext cx="2808360" cy="604692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у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нт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ло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ж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ё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х (кош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ер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х (крол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б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60280"/>
            <a:ext cx="1441440" cy="6121440"/>
          </a:xfrm>
          <a:prstGeom prst="upArrow">
            <a:avLst>
              <a:gd name="adj1" fmla="val 50000"/>
              <a:gd name="adj2" fmla="val 106169"/>
            </a:avLst>
          </a:prstGeom>
          <a:solidFill>
            <a:srgbClr val="f3c1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1943280" cy="2590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1451800">
            <a:off x="3846600" y="4149720"/>
            <a:ext cx="2744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66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60280" y="664920"/>
            <a:ext cx="678132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Monotype Corsiva"/>
              </a:rPr>
              <a:t>Польза электризаци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3745080" cy="3743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788000" y="2349360"/>
            <a:ext cx="3671640" cy="37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73040" y="482400"/>
            <a:ext cx="6714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800d6"/>
                </a:solidFill>
                <a:latin typeface="Monotype Corsiva"/>
              </a:rPr>
              <a:t>Отрицательные ионы полезны для здоровь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933640" cy="1328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58596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238760" y="600480"/>
            <a:ext cx="67680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Monotype Corsiva"/>
              </a:rPr>
              <a:t>Вред электризаци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745080" cy="4395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902040" cy="43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15400" y="536040"/>
            <a:ext cx="7436880" cy="110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Monotype Corsiva"/>
              </a:rPr>
              <a:t>Оптимист и пессимис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00160" y="2898720"/>
            <a:ext cx="3006720" cy="2563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58000" y="2781360"/>
            <a:ext cx="3186000" cy="30574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932360" y="3141720"/>
            <a:ext cx="4321080" cy="1376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4321080" cy="1376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7308720" y="3284640"/>
            <a:ext cx="64296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195640" y="3500280"/>
            <a:ext cx="64296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3851280" y="5084640"/>
            <a:ext cx="295416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V="1">
            <a:off x="7236000" y="4076640"/>
            <a:ext cx="792000" cy="432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24000" y="4508640"/>
            <a:ext cx="792360" cy="431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556000" y="258840"/>
            <a:ext cx="4103640" cy="1706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9997920" cy="3978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9264600" cy="3643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195640" y="4221000"/>
            <a:ext cx="1009440" cy="2890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012000" y="4076640"/>
            <a:ext cx="792000" cy="432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Заряды рождаются и исчезают попарно: сколько родилось(исчезло) положительных зарядов, столько родилось (исчезло) и отрицательных. В этом суть закона сохранения электрического заряд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24000" y="2109960"/>
            <a:ext cx="819612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86400" y="2292480"/>
            <a:ext cx="38592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Шарль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Огюстен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Кулон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(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1736-1806)</a:t>
            </a:r>
            <a:r>
              <a:rPr b="1" lang="ru-RU" sz="4000" spc="-1" strike="noStrike">
                <a:solidFill>
                  <a:srgbClr val="ff0000"/>
                </a:solidFill>
                <a:latin typeface="Arioso"/>
              </a:rPr>
              <a:t> </a:t>
            </a:r>
            <a:br>
              <a:rPr sz="40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французский инженер и физик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сновоположник электрост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1360" cy="518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7979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Опытная установка- крутильные вес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052640"/>
          <a:ext cx="6985080" cy="523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052640"/>
                    <a:ext cx="69850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 flipH="1">
            <a:off x="6372000" y="2492280"/>
            <a:ext cx="647640" cy="15843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4005360"/>
            <a:ext cx="215640" cy="215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2000" y="3141720"/>
            <a:ext cx="576000" cy="431640"/>
          </a:xfrm>
          <a:custGeom>
            <a:avLst/>
            <a:gdLst>
              <a:gd name="textAreaLeft" fmla="*/ 77040 w 576000"/>
              <a:gd name="textAreaRight" fmla="*/ 498960 w 57600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a2eb1"/>
          </a:solidFill>
          <a:ln w="9360">
            <a:solidFill>
              <a:srgbClr val="fa2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80000" y="4292640"/>
            <a:ext cx="647640" cy="216000"/>
          </a:xfrm>
          <a:prstGeom prst="line">
            <a:avLst/>
          </a:prstGeom>
          <a:ln w="57240">
            <a:solidFill>
              <a:srgbClr val="fa2e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4571640" y="3933720"/>
            <a:ext cx="576360" cy="216000"/>
          </a:xfrm>
          <a:prstGeom prst="line">
            <a:avLst/>
          </a:prstGeom>
          <a:ln w="57240">
            <a:solidFill>
              <a:srgbClr val="fa2e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19640" y="4941720"/>
            <a:ext cx="289080" cy="71640"/>
          </a:xfrm>
          <a:prstGeom prst="leftRightArrow">
            <a:avLst>
              <a:gd name="adj1" fmla="val 50000"/>
              <a:gd name="adj2" fmla="val 80330"/>
            </a:avLst>
          </a:prstGeom>
          <a:solidFill>
            <a:srgbClr val="fa2eb1"/>
          </a:solidFill>
          <a:ln w="76320">
            <a:solidFill>
              <a:srgbClr val="fa2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4.81481E-006 L -0.09843 0.02106 E">
                                      <p:cBhvr>
                                        <p:cTn id="46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3960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ла взаимодействия зарядов, 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ряд, К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электрическая постоянная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эффициен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- диэлектрическая проницаемость   среды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492600" y="27126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564000" y="3141720"/>
            <a:ext cx="2828880" cy="1004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6516720" y="3284640"/>
            <a:ext cx="1817640" cy="11048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4211640" y="4581360"/>
            <a:ext cx="3639960" cy="989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4859280" y="5805360"/>
            <a:ext cx="2592360" cy="792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3995640" y="1052640"/>
            <a:ext cx="39610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27236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Аналогия с законом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всемирного тяготен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503360" y="2143080"/>
            <a:ext cx="3300480" cy="1379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368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332000" y="3933720"/>
            <a:ext cx="3240000" cy="2159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5435640" y="1916280"/>
            <a:ext cx="302400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79819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Электродинамика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изучает электромагнитное взаимодействие заряженных  частиц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Электростатика</a:t>
            </a: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 – раздел электродинамики, изучающий взаимодействие неподвижных электрических заряд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50920" y="692280"/>
            <a:ext cx="223200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35280" y="90792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2060640"/>
            <a:ext cx="215640" cy="576360"/>
          </a:xfrm>
          <a:prstGeom prst="rect">
            <a:avLst/>
          </a:prstGeom>
          <a:gradFill rotWithShape="0">
            <a:gsLst>
              <a:gs pos="0">
                <a:srgbClr val="756e2f"/>
              </a:gs>
              <a:gs pos="50000">
                <a:srgbClr val="ffef66"/>
              </a:gs>
              <a:gs pos="100000">
                <a:srgbClr val="756e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63640" y="2060640"/>
            <a:ext cx="216000" cy="576360"/>
          </a:xfrm>
          <a:prstGeom prst="rect">
            <a:avLst/>
          </a:prstGeom>
          <a:gradFill rotWithShape="0">
            <a:gsLst>
              <a:gs pos="0">
                <a:srgbClr val="756e2f"/>
              </a:gs>
              <a:gs pos="50000">
                <a:srgbClr val="ffef66"/>
              </a:gs>
              <a:gs pos="100000">
                <a:srgbClr val="756e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50920" y="907920"/>
            <a:ext cx="57600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907920"/>
            <a:ext cx="50328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-162" b="0"/>
          <a:stretch/>
        </p:blipFill>
        <p:spPr>
          <a:xfrm>
            <a:off x="3203640" y="765000"/>
            <a:ext cx="2305080" cy="35672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2781360" cy="38196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357720"/>
            <a:ext cx="2879640" cy="151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Электр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3120" y="5925960"/>
            <a:ext cx="51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айкл Фарадей и Джеймс Максве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67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70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-0.06702 -0.01041 E">
                                      <p:cBhvr>
                                        <p:cTn id="586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6702 -0.02083 E">
                                      <p:cBhvr>
                                        <p:cTn id="588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5" descr="D:\TOKIO HOTEL\el2.gif"/>
          <p:cNvPicPr/>
          <p:nvPr/>
        </p:nvPicPr>
        <p:blipFill>
          <a:blip r:embed="rId1"/>
          <a:srcRect l="0" t="0" r="-34" b="0"/>
          <a:stretch/>
        </p:blipFill>
        <p:spPr>
          <a:xfrm>
            <a:off x="0" y="765000"/>
            <a:ext cx="8172360" cy="46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val 4"/>
          <p:cNvSpPr/>
          <p:nvPr/>
        </p:nvSpPr>
        <p:spPr>
          <a:xfrm>
            <a:off x="2195640" y="4148280"/>
            <a:ext cx="576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 flipV="1">
            <a:off x="2500200" y="26528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"/>
          <p:cNvSpPr/>
          <p:nvPr/>
        </p:nvSpPr>
        <p:spPr>
          <a:xfrm flipV="1">
            <a:off x="2482920" y="479592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"/>
          <p:cNvSpPr/>
          <p:nvPr/>
        </p:nvSpPr>
        <p:spPr>
          <a:xfrm>
            <a:off x="2771640" y="450864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682560" y="450864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 flipV="1">
            <a:off x="2700360" y="2995560"/>
            <a:ext cx="100800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 flipV="1">
            <a:off x="1260360" y="4724280"/>
            <a:ext cx="1008000" cy="1224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2714760" y="465300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1044720" y="3211560"/>
            <a:ext cx="1223640" cy="10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5"/>
          <p:cNvSpPr/>
          <p:nvPr/>
        </p:nvSpPr>
        <p:spPr>
          <a:xfrm>
            <a:off x="6299280" y="4148280"/>
            <a:ext cx="576360" cy="647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6"/>
          <p:cNvSpPr/>
          <p:nvPr/>
        </p:nvSpPr>
        <p:spPr>
          <a:xfrm flipV="1">
            <a:off x="6586560" y="2634840"/>
            <a:ext cx="0" cy="151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6875640" y="450864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4786200" y="450864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0"/>
          <p:cNvSpPr/>
          <p:nvPr/>
        </p:nvSpPr>
        <p:spPr>
          <a:xfrm flipH="1">
            <a:off x="6786720" y="3009960"/>
            <a:ext cx="100800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2"/>
          <p:cNvSpPr/>
          <p:nvPr/>
        </p:nvSpPr>
        <p:spPr>
          <a:xfrm flipV="1">
            <a:off x="5364000" y="4724280"/>
            <a:ext cx="100836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6786720" y="4723560"/>
            <a:ext cx="1223640" cy="1008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5143680" y="3295800"/>
            <a:ext cx="122364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6572160" y="479592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333360"/>
            <a:ext cx="37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ии напряженности начинаются н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33040" y="118116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27640" y="333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ии напряженности заканчиваются на </a:t>
            </a:r>
            <a:r>
              <a:rPr b="1" lang="en-US" sz="2800" spc="-1" strike="noStrike">
                <a:solidFill>
                  <a:srgbClr val="1704a0"/>
                </a:solidFill>
                <a:latin typeface="Arial"/>
              </a:rPr>
              <a:t>-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798680" y="11970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4a0"/>
                </a:solidFill>
                <a:latin typeface="Arial"/>
              </a:rPr>
              <a:t>-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500" autoRev="1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8" dur="500" autoRev="1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9" dur="500" autoRev="1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autoRev="1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0" dur="500" autoRev="1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1" dur="500" autoRev="1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979640" y="3352680"/>
            <a:ext cx="7164360" cy="3505320"/>
          </a:xfrm>
          <a:prstGeom prst="cloudCallout">
            <a:avLst>
              <a:gd name="adj1" fmla="val -11421"/>
              <a:gd name="adj2" fmla="val -75273"/>
            </a:avLst>
          </a:prstGeom>
          <a:gradFill rotWithShape="0">
            <a:gsLst>
              <a:gs pos="0">
                <a:srgbClr val="e7f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Швейцарии сейчас наблюдается интересное явление. Здороваешься за руку и внезапно тебя бьет током. Дотронулся до металлического предмета и снова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419640" y="3213000"/>
            <a:ext cx="5724360" cy="3384720"/>
          </a:xfrm>
          <a:prstGeom prst="cloudCallout">
            <a:avLst>
              <a:gd name="adj1" fmla="val -2939"/>
              <a:gd name="adj2" fmla="val -62055"/>
            </a:avLst>
          </a:prstGeom>
          <a:gradFill rotWithShape="0">
            <a:gsLst>
              <a:gs pos="0">
                <a:srgbClr val="e7f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здух Скандинавии наиболее сух сейчас, поэтому статическое электричество накапливается в больших колич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28" b="-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0" y="4952880"/>
            <a:ext cx="4343400" cy="2057400"/>
          </a:xfrm>
          <a:prstGeom prst="cloudCallout">
            <a:avLst>
              <a:gd name="adj1" fmla="val 82421"/>
              <a:gd name="adj2" fmla="val -110800"/>
            </a:avLst>
          </a:prstGeom>
          <a:gradFill rotWithShape="0">
            <a:gsLst>
              <a:gs pos="0">
                <a:srgbClr val="e7f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умаю, Ватсон, причина тут в друг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484360" y="5776920"/>
            <a:ext cx="4249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заимодейст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716360" y="4724280"/>
            <a:ext cx="373860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Электр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140360" y="692280"/>
            <a:ext cx="397980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пряж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24000" y="4149720"/>
            <a:ext cx="410364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лектр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4360" y="285264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Электрический заря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195640" y="1773360"/>
            <a:ext cx="5689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он Куло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50920" y="404640"/>
            <a:ext cx="437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лектрическое пол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2492280"/>
            <a:ext cx="82090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. 264- 270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№ 2 с 292, № 1 с. 29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ред и польза электриз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71640" y="765000"/>
            <a:ext cx="64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42920" y="2060640"/>
            <a:ext cx="7058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989000"/>
            <a:ext cx="7408800" cy="29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Закон Кулона.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Электрическое поле.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апряженность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электрического поля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4729320"/>
            <a:ext cx="23400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План занят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Электрический заря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Электризац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Закон сохранения электрического заря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Закон Куло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Электрическое пол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Напряженность электрического по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Принцип суперпози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63560" y="230040"/>
            <a:ext cx="6714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Виды взаимодействи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равитационно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або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лектромагнитно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ль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96000" y="4581360"/>
            <a:ext cx="15206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00120" y="536760"/>
            <a:ext cx="7254720" cy="11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Каким законом описывается гравитационное взаимодействи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9" descr="C:\Documents and Settings\Администратор\Рабочий стол\Гришанова\Фотогр\402\Щетинина\Ньютон.jpg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340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63560" y="230040"/>
            <a:ext cx="6714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Monotype Corsiva"/>
              </a:rPr>
              <a:t>Электрический заряд -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6981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изическая величина, определяющая силу электромагнитного взаимодейств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59770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9:52:49Z</dcterms:created>
  <dc:creator>User</dc:creator>
  <dc:description/>
  <dc:language>en-US</dc:language>
  <cp:lastModifiedBy>Ольга</cp:lastModifiedBy>
  <dcterms:modified xsi:type="dcterms:W3CDTF">2012-01-13T22:07:22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14000000000001024140</vt:lpwstr>
  </property>
</Properties>
</file>