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A80-7F66-4EE5-A1EF-C1D285E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54D-B448-4D44-A04C-81C417A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8F3-3A0F-436B-9683-90C6679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B21-1D13-4D03-877C-E59E1690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F26-6D31-4E75-A36B-61C86106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047-8EEC-4909-946E-350973C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8A9-A20A-4F39-82CB-5FDBA84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9CC-DE56-468A-9FB7-2A52107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62A-B1B2-45F1-8D1D-1123DCDD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5B2-AD51-4D74-9B45-350DADA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049-47EC-447F-A36E-CAA784B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6CC-1CC3-4222-9C2D-F24E84C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066-61F8-4EDB-BA18-350B8760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91160"/>
            <a:ext cx="9144000" cy="3988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СОШ №1  Орлова Лариса Васильевна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1981080"/>
            <a:ext cx="61722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1811"/>
          <a:stretch/>
        </p:blipFill>
        <p:spPr>
          <a:xfrm>
            <a:off x="685800" y="4191120"/>
            <a:ext cx="2971800" cy="2062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52808" r="0" b="-39"/>
          <a:stretch/>
        </p:blipFill>
        <p:spPr>
          <a:xfrm>
            <a:off x="5105520" y="4114800"/>
            <a:ext cx="3124080" cy="204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4191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Законы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173400" cy="384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>
            <a:off x="2286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сследовал электролиз и открыл его законы английский физик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йкл Фарадей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105520"/>
            <a:ext cx="32004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Майкл Фарадей (1791 – 1867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914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ервый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1447920"/>
            <a:ext cx="457200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1447920" cy="642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886200" y="3733920"/>
            <a:ext cx="4800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410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Если учесть, что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q =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089680" y="5907240"/>
            <a:ext cx="2090520" cy="561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ransition>
    <p:randomBa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Второй 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066680"/>
            <a:ext cx="853452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и одинаковом количестве электричества (электрическом заряде, прошедшем через электролит) масса вещества, выделившегося при электролизе, пропорциональна отношению молярной массы вещества к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419720" cy="11570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181480" y="25909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а выделившегося веще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химический эквивалент    М – молярная масса вещества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0384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1911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ряд, необходимый для выделения 1 моля вещества, одинаков для всех электролитов. Он называ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числом Фарадея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5181480" cy="6141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267080" y="5943600"/>
            <a:ext cx="939960" cy="7668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59436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и число Фарадея связаны со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257800" y="6019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15000" y="594360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тсюда экспериментально определить заряд электр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именение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296280" cy="6595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523880"/>
            <a:ext cx="0" cy="37339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86440"/>
            <a:ext cx="4726080" cy="1572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НЕНИЕ ЭЛЕКТР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89548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39508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ение химически чист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69072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с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9556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280044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533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снователем гальванотехники и ее широчайшего применения является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Б. С. Якоб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который изобрел в 1836 году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пл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724280"/>
            <a:ext cx="3047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Борис Семенович Якоб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801 – 1874) – русский академик, открывший гальванопластику, создавший первую конструкцию электродвига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754280"/>
            <a:ext cx="41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техн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- это отрасль прикладной электрохимии, смысл которой состоит в получении электролитическим путем металлических копий каких-либо предметов (гальванопластика) или же в нанесении этим же способом металлических покрытий на какие-либо поверхности (гальваностегия). Способ этот в свое время широко использовался в полиграфической промышленности и в определенных случаях применяется и сейч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лучение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люминий получают электролитическим способом из глинозема (вспомните – алюминий является одним из самых распространенных химических элементов земной коры и содержится в любой г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97180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литическим способом полу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й, натрий, калий,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у, хлор, хлористый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6483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в, например, электролиз раствора поваренной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ы можем получить сразу 3 полезных химических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образные водород и хлор, а также раствор едкого на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0" t="0" r="0" b="47231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57800" y="2133720"/>
            <a:ext cx="342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Cr, Zn, Ag, Au, Cu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solidFill>
            <a:srgbClr val="99336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ведите примеры защитных покрытий в быту и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191120"/>
            <a:ext cx="5410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0666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51460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литическая 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ический ток в электролитах. Элект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Законы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нение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0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748440"/>
            <a:ext cx="7772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1800"/>
            </a:b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оксидных защитных пленок на металлах (анодирование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олитическая диссоц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тической диссоциацией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называется распад нейтральных молекул вещества в растворителе на положительные и отрицательные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85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Электролитическая диссоциация 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иссоциация други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диссоциации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оны металлов и водород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сегда заряжены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оложительн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а ионы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ислотных радикалов и группы ОН - отриц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. 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оны в электролите движутся хаотично, но при создании электрического поля характер движения становится упорядоченным: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положительные ионы (катионы) движутся к катоду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рицательные ионы (анионы) движутся к ан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184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429000"/>
            <a:ext cx="2895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едставляет собой  упорядоченное движение положительных и отрицательных 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Рассмотрим, что происходит, когда ионы достигают электродов (на примере медного купо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5238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581280"/>
            <a:ext cx="281952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9718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4036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1846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1600" y="5715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2096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ожительные ионы меди, подходя к катоду, получают два недостающих электрона, восстанавливаясь до металлическ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7242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 процессе протекания тока через электролит на катоде происходит оседание слоя чистой меди –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з раствора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 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828800"/>
            <a:ext cx="2438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т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6760" y="4876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73240" y="5943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83808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ан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90920"/>
            <a:ext cx="289548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286000"/>
            <a:ext cx="15264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1980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06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1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352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7150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деление вещества на электродах вследствие окислительно – восстановительных реакций  при прохождении тока через электролит называется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819520"/>
            <a:ext cx="42670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ульфат - ионы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2400" spc="-1" strike="noStrike" baseline="30000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подходя к аноду, отдают ему два лишних электрона, которые через источник тока поступают на катод и присоединяются к положительным ионам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0840" y="365760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8200" y="487692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01-12-31T22:17:2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4000000000001024140</vt:lpwstr>
  </property>
  <property fmtid="{D5CDD505-2E9C-101B-9397-08002B2CF9AE}" pid="3" name="Version">
    <vt:r8>1</vt:r8>
  </property>
</Properties>
</file>