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1.gif" ContentType="image/gif"/>
  <Override PartName="/ppt/media/image1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9A8-485E-48C0-BB03-8B733DC3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A31-104F-4B59-A12A-2493C01F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AE1-C764-48C5-9995-9D850DF4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820-7E53-4A8D-A3EE-EE3973F3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D91-E5F7-47EF-96E0-8CB1F4BE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D83-B40B-45C6-9AC1-105F68A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1AF-6218-4269-9FEB-F346FFAB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DBE-F9B6-43BE-9627-F077F903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E64-A5DE-406D-A22B-4403040B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D9F-3811-4817-9A5D-DFB6B17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389-BF0B-41B2-8870-993C5186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1F6-4780-4DC1-9000-E44E87F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1A80-E35B-4D37-8F7C-66F6365C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91160"/>
            <a:ext cx="9144000" cy="3988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СОШ №1  Орлова Лариса Васильевна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ический ток в различных средах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1981080"/>
            <a:ext cx="617220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жидкост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51811"/>
          <a:stretch/>
        </p:blipFill>
        <p:spPr>
          <a:xfrm>
            <a:off x="685800" y="4191120"/>
            <a:ext cx="2971800" cy="2062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52808" r="0" b="-39"/>
          <a:stretch/>
        </p:blipFill>
        <p:spPr>
          <a:xfrm>
            <a:off x="5105520" y="4114800"/>
            <a:ext cx="3124080" cy="2048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41911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Законы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173400" cy="384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"/>
          <p:cNvSpPr/>
          <p:nvPr/>
        </p:nvSpPr>
        <p:spPr>
          <a:xfrm>
            <a:off x="228600" y="457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сследовал электролиз и открыл его законы английский физик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Майкл Фарадей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в 183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105520"/>
            <a:ext cx="320040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Майкл Фарадей (1791 – 1867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Открыл явление электромагнитной индукции, законы электролиза, ввел представления об электрическом и магнитном 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9144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ервый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1447920"/>
            <a:ext cx="457200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Масса вещества, выделившегося на электродах при электролизе, прямо пропорциональна величине заряда, прошедшего через электр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86400" y="2971800"/>
            <a:ext cx="1447920" cy="6429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3886200" y="3733920"/>
            <a:ext cx="4800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равен массе вещества, выделившегося при прохождении через электролит заряда 1 К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410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Если учесть, что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q =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089680" y="5907240"/>
            <a:ext cx="2090520" cy="5619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ransition>
    <p:randomBar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6094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Второй 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066680"/>
            <a:ext cx="853452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ри одинаковом количестве электричества (электрическом заряде, прошедшем через электролит) масса вещества, выделившегося при электролизе, пропорциональна отношению молярной массы вещества к вал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419720" cy="115704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5181480" y="259092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а выделившегося веще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химический эквивалент    М – молярная масса вещества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нтность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0384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1911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Заряд, необходимый для выделения 1 моля вещества, одинаков для всех электролитов. Он называется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числом Фарадея 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90720" y="5105520"/>
            <a:ext cx="5181480" cy="6141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267080" y="5943600"/>
            <a:ext cx="939960" cy="7668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80880" y="59436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и число Фарадея связаны соотно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257800" y="6019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15000" y="594360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отсюда экспериментально определить заряд электро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именение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62080"/>
            <a:ext cx="9296280" cy="6595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1523880"/>
            <a:ext cx="0" cy="373392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586440"/>
            <a:ext cx="4726080" cy="1572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НЕНИЕ ЭЛЕКТРО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89548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39508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ение химически чист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69072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льванос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795560"/>
            <a:ext cx="4725720" cy="1050120"/>
          </a:xfrm>
          <a:prstGeom prst="rect">
            <a:avLst/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льван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525780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2800440" cy="3333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533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Основателем гальванотехники и ее широчайшего применения является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Б. С. Якоб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который изобрел в 1836 году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гальваноплас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724280"/>
            <a:ext cx="3047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Борис Семенович Якоб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801 – 1874) – русский академик, открывший гальванопластику, создавший первую конструкцию электродвига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754280"/>
            <a:ext cx="4114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Гальванотехник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- это отрасль прикладной электрохимии, смысл которой состоит в получении электролитическим путем металлических копий каких-либо предметов (гальванопластика) или же в нанесении этим же способом металлических покрытий на какие-либо поверхности (гальваностегия). Способ этот в свое время широко использовался в полиграфической промышленности и в определенных случаях применяется и сейч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Рафинирование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505320"/>
            <a:ext cx="502920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3048120"/>
            <a:ext cx="7632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3048120"/>
            <a:ext cx="91440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1440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2590920"/>
            <a:ext cx="129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2438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286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2590920"/>
            <a:ext cx="228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4832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286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057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1219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то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тонкая пластина чистой меди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но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толстая пластина неочищенн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95480" y="2895480"/>
            <a:ext cx="3733920" cy="26672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30840" y="266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31240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 прохождении тока через электролит на катоде оседает чистая медь, анод расходуется и исто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4876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меси остаются в электролите или оседают на 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5943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плотности тока 0,3 А на 1 дм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оцесс идет несколько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Получение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9051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люминий получают электролитическим способом из глинозема (вспомните – алюминий является одним из самых распространенных химических элементов земной коры и содержится в любой гл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971800"/>
            <a:ext cx="6781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олитическим способом полу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ний, натрий, калий,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у, хлор, хлористый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4419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64832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в, например, электролиз раствора поваренной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ы можем получить сразу 3 полезных химических ве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ообразные водород и хлор, а также раствор едкого на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2. Гальваност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rcRect l="0" t="0" r="0" b="47231"/>
          <a:stretch/>
        </p:blipFill>
        <p:spPr>
          <a:xfrm>
            <a:off x="533520" y="1752480"/>
            <a:ext cx="4343400" cy="33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257800" y="2133720"/>
            <a:ext cx="3429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стегия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крытие предметов неокисляющимся металлами для защиты от корро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i, Cr, Zn, Ag, Au, Cu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19320" y="5410080"/>
            <a:ext cx="7162560" cy="368280"/>
          </a:xfrm>
          <a:prstGeom prst="rect">
            <a:avLst/>
          </a:prstGeom>
          <a:solidFill>
            <a:srgbClr val="99336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ведите примеры защитных покрытий в быту и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3. Гальван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511360" cy="3733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5257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167652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Гальванопластик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– получение отслаиваемых копий предмета, полученных путем осаждения металла на поверхности предмета электролитически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ность копирования формы предмета очень высокая, т.к. процесс идет на ионном (молекулярном)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4191120"/>
            <a:ext cx="5410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риме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учение рельефных копий барельефов, ста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готовление клише, поли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ыпуск ценных бумаг, де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10666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514600"/>
            <a:ext cx="6019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литическая 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ический ток в электролитах. Элект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Законы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менение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0" lang="en-US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748440"/>
            <a:ext cx="7772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Кроме указанных выше, электролиз нашел применение и в других областях: </a:t>
            </a:r>
            <a:br>
              <a:rPr sz="1800"/>
            </a:b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учение оксидных защитных пленок на металлах (анодирование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ая обработка поверхности металлического изделия (полировка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ое окрашивание металлов (например, меди, латуни, цинка, хрома и др.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очистка воды - удаление из нее растворимых примесей. В результате получается так называемая мягкая вода (по своим свойствам приближающаяся к дистиллированной);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электрохимическая заточка режущих инструментов (например, хирургических ножей, бритв и т.д.).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518148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Электролитическая диссоци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о электрическим свойствам все жидкости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999360"/>
            <a:ext cx="32083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eaeaea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370960"/>
            <a:ext cx="22096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2320" y="1600200"/>
            <a:ext cx="129528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600200"/>
            <a:ext cx="121932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2370960"/>
            <a:ext cx="250056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895480"/>
            <a:ext cx="0" cy="25146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Содержащие свободные заряженные частицы (диссоциирующие) -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Не содержащие свободные заряженные частицы (недиссоциирую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191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К ним относятся растворы (чаще всего водные) и расплавы солей, кислот и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4114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дистилированная вода, спирт, минеральное ма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5627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7150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лектролитической диссоциацией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называется распад нейтральных молекул вещества в растворителе на положительные и отрицательные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6386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352680"/>
            <a:ext cx="480060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3716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371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10552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4952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17680" y="3936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809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3434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6480" y="5079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85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Электролитическая диссоциация поваренной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371600"/>
            <a:ext cx="0" cy="4267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2286000"/>
            <a:ext cx="2819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590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иссоциация других веще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3526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886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419720"/>
            <a:ext cx="3200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4952880"/>
            <a:ext cx="3124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и диссоциации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оны металлов и водород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всегда заряжены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оложительн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а ионы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ислотных радикалов и группы ОН - отриц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C -0.01371 0.14682 -0.00312 0.02219 -0.00312 0.37734 E">
                                      <p:cBhvr>
                                        <p:cTn id="6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C -0.01372 0.14682 -0.00313 0.02219 -0.00313 0.37734 E">
                                      <p:cBhvr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4.9999999999998E-006 0.3919 0.00711 0.39029 0.01494 0.39792 C 0.01667 0.39953 0.01789 0.40185 0.0198 0.40323 C 0.02275 0.40578 0.02935 0.41017 0.02935 0.4104 C 0.03438 0.41873 0.04219 0.42219 0.05122 0.42381 C 0.05556 0.4289 0.06077 0.43075 0.06685 0.4319 C 0.07327 0.43445 0.07952 0.43514 0.08612 0.43607 C 0.09966 0.44393 0.12778 0.443 0.14167 0.443 E">
                                      <p:cBhvr>
                                        <p:cTn id="6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-0.00833 0.38358 -0.01128 0.3926 -0.01597 0.39907 C -0.01823 0.40185 -0.02187 0.40323 -0.02413 0.40531 C -0.0283 0.40901 -0.03159 0.41433 -0.03576 0.41757 C -0.03975 0.42104 -0.04722 0.42543 -0.05191 0.42705 C -0.05746 0.4319 -0.06284 0.43607 -0.06927 0.43792 C -0.0802 0.44855 -0.09583 0.44971 -0.10885 0.45179 C -0.11423 0.45271 -0.11944 0.45503 -0.125 0.45503 E"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. Электр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оны в электролите движутся хаотично, но при создании электрического поля характер движения становится упорядоченным:</a:t>
            </a: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положительные ионы (катионы) движутся к катоду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трицательные ионы (анионы) движутся к ан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81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124080"/>
            <a:ext cx="4724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8195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819520"/>
            <a:ext cx="15228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14300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514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5146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2702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2702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1750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10832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7274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184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495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29000" y="35812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57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71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429000"/>
            <a:ext cx="2895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редставляет собой  упорядоченное движение положительных и отрицательных и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Рассмотрим, что происходит, когда ионы достигают электродов (на примере медного купо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2952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5238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581280"/>
            <a:ext cx="281952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43000" y="2971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9718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4036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1846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71600" y="5715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4495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2096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оложительные ионы меди, подходя к катоду, получают два недостающих электрона, восстанавливаясь до металлическ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7242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 процессе протекания тока через электролит на катоде происходит оседание слоя чистой меди –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электролиз раствора медного купо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 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828800"/>
            <a:ext cx="2438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ат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6760" y="48769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73240" y="59436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en-US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83808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ан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590920"/>
            <a:ext cx="2895480" cy="281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286000"/>
            <a:ext cx="15264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981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00400" y="1980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06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1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352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5720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7150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Выделение вещества на электродах вследствие окислительно – восстановительных реакций  при прохождении тока через электролит называется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лектроли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819520"/>
            <a:ext cx="426708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ульфат - ионы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ru-RU" sz="2400" spc="-1" strike="noStrike" baseline="30000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подходя к аноду, отдают ему два лишних электрона, которые через источник тока поступают на катод и присоединяются к положительным ионам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0840" y="365760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8200" y="487692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01-12-31T22:17:22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4000000000001024140</vt:lpwstr>
  </property>
  <property fmtid="{D5CDD505-2E9C-101B-9397-08002B2CF9AE}" pid="3" name="Version">
    <vt:r8>1</vt:r8>
  </property>
</Properties>
</file>