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22.png" ContentType="image/png"/>
  <Override PartName="/ppt/media/image19.gif" ContentType="image/gif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8EF-8D79-4D20-8681-1C7F644F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34-022C-42B7-BB3C-903EAA4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703-9CA6-42D8-B9F7-6CE5F590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B63-DD98-45A1-988E-FF6B8FE2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331-ABD4-40CE-B5AB-C04C2E1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34D-79C8-4E2D-B397-393C97F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EB1-9A37-4054-9194-7BE3FC85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913-7680-41A5-BF29-EDE7476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72B-9459-4031-9E84-8CE0369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77E-A2B3-4B79-A13F-346C0A0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436-D7AA-4947-87E9-328E583B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7A5-9E9D-4E31-9E64-5031F57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F5D-1BA5-4929-93E4-B82AA182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image" Target="../media/image18.gif"/><Relationship Id="rId4" Type="http://schemas.openxmlformats.org/officeDocument/2006/relationships/slide" Target="slide13.xml"/><Relationship Id="rId5" Type="http://schemas.openxmlformats.org/officeDocument/2006/relationships/image" Target="../media/image18.gif"/><Relationship Id="rId6" Type="http://schemas.openxmlformats.org/officeDocument/2006/relationships/slide" Target="slide1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image" Target="../media/image18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0.xml"/><Relationship Id="rId3" Type="http://schemas.openxmlformats.org/officeDocument/2006/relationships/image" Target="../media/image18.gif"/><Relationship Id="rId4" Type="http://schemas.openxmlformats.org/officeDocument/2006/relationships/slide" Target="slide19.xml"/><Relationship Id="rId5" Type="http://schemas.openxmlformats.org/officeDocument/2006/relationships/image" Target="../media/image18.gif"/><Relationship Id="rId6" Type="http://schemas.openxmlformats.org/officeDocument/2006/relationships/slide" Target="slide1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2.xml"/><Relationship Id="rId3" Type="http://schemas.openxmlformats.org/officeDocument/2006/relationships/image" Target="../media/image18.gif"/><Relationship Id="rId4" Type="http://schemas.openxmlformats.org/officeDocument/2006/relationships/slide" Target="slide22.xml"/><Relationship Id="rId5" Type="http://schemas.openxmlformats.org/officeDocument/2006/relationships/image" Target="../media/image18.gif"/><Relationship Id="rId6" Type="http://schemas.openxmlformats.org/officeDocument/2006/relationships/slide" Target="slide2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5.xml"/><Relationship Id="rId3" Type="http://schemas.openxmlformats.org/officeDocument/2006/relationships/image" Target="../media/image18.gif"/><Relationship Id="rId4" Type="http://schemas.openxmlformats.org/officeDocument/2006/relationships/slide" Target="slide26.xml"/><Relationship Id="rId5" Type="http://schemas.openxmlformats.org/officeDocument/2006/relationships/image" Target="../media/image18.gif"/><Relationship Id="rId6" Type="http://schemas.openxmlformats.org/officeDocument/2006/relationships/slide" Target="slide25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8.xml"/><Relationship Id="rId3" Type="http://schemas.openxmlformats.org/officeDocument/2006/relationships/image" Target="../media/image18.gif"/><Relationship Id="rId4" Type="http://schemas.openxmlformats.org/officeDocument/2006/relationships/slide" Target="slide28.xml"/><Relationship Id="rId5" Type="http://schemas.openxmlformats.org/officeDocument/2006/relationships/image" Target="../media/image18.gif"/><Relationship Id="rId6" Type="http://schemas.openxmlformats.org/officeDocument/2006/relationships/slide" Target="slide2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1.xml"/><Relationship Id="rId3" Type="http://schemas.openxmlformats.org/officeDocument/2006/relationships/image" Target="../media/image18.gif"/><Relationship Id="rId4" Type="http://schemas.openxmlformats.org/officeDocument/2006/relationships/slide" Target="slide32.xml"/><Relationship Id="rId5" Type="http://schemas.openxmlformats.org/officeDocument/2006/relationships/image" Target="../media/image18.gif"/><Relationship Id="rId6" Type="http://schemas.openxmlformats.org/officeDocument/2006/relationships/slide" Target="slide31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" Target="slide34.xml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7.xml"/><Relationship Id="rId3" Type="http://schemas.openxmlformats.org/officeDocument/2006/relationships/image" Target="../media/image18.gif"/><Relationship Id="rId4" Type="http://schemas.openxmlformats.org/officeDocument/2006/relationships/slide" Target="slide37.xml"/><Relationship Id="rId5" Type="http://schemas.openxmlformats.org/officeDocument/2006/relationships/image" Target="../media/image18.gif"/><Relationship Id="rId6" Type="http://schemas.openxmlformats.org/officeDocument/2006/relationships/slide" Target="slide38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1.xml"/><Relationship Id="rId3" Type="http://schemas.openxmlformats.org/officeDocument/2006/relationships/image" Target="../media/image18.gif"/><Relationship Id="rId4" Type="http://schemas.openxmlformats.org/officeDocument/2006/relationships/slide" Target="slide40.xml"/><Relationship Id="rId5" Type="http://schemas.openxmlformats.org/officeDocument/2006/relationships/image" Target="../media/image18.gif"/><Relationship Id="rId6" Type="http://schemas.openxmlformats.org/officeDocument/2006/relationships/slide" Target="slide4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4.xml"/><Relationship Id="rId3" Type="http://schemas.openxmlformats.org/officeDocument/2006/relationships/image" Target="../media/image18.gif"/><Relationship Id="rId4" Type="http://schemas.openxmlformats.org/officeDocument/2006/relationships/slide" Target="slide43.xml"/><Relationship Id="rId5" Type="http://schemas.openxmlformats.org/officeDocument/2006/relationships/image" Target="../media/image18.gif"/><Relationship Id="rId6" Type="http://schemas.openxmlformats.org/officeDocument/2006/relationships/slide" Target="slide4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6.xml"/><Relationship Id="rId3" Type="http://schemas.openxmlformats.org/officeDocument/2006/relationships/image" Target="../media/image18.gif"/><Relationship Id="rId4" Type="http://schemas.openxmlformats.org/officeDocument/2006/relationships/slide" Target="slide46.xml"/><Relationship Id="rId5" Type="http://schemas.openxmlformats.org/officeDocument/2006/relationships/image" Target="../media/image18.gif"/><Relationship Id="rId6" Type="http://schemas.openxmlformats.org/officeDocument/2006/relationships/slide" Target="slide4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image" Target="../media/image18.gif"/><Relationship Id="rId4" Type="http://schemas.openxmlformats.org/officeDocument/2006/relationships/slide" Target="slide10.xml"/><Relationship Id="rId5" Type="http://schemas.openxmlformats.org/officeDocument/2006/relationships/image" Target="../media/image18.gif"/><Relationship Id="rId6" Type="http://schemas.openxmlformats.org/officeDocument/2006/relationships/slide" Target="slide1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07000">
            <a:off x="5876640" y="-398160"/>
            <a:ext cx="3436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ff3300"/>
                </a:solidFill>
                <a:latin typeface="Academy Engraved LET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Обои животные лошади"/>
          <p:cNvPicPr/>
          <p:nvPr/>
        </p:nvPicPr>
        <p:blipFill>
          <a:blip r:embed="rId1"/>
          <a:stretch/>
        </p:blipFill>
        <p:spPr>
          <a:xfrm>
            <a:off x="0" y="0"/>
            <a:ext cx="5334120" cy="413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 каких единицах измеряетс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13"/>
          <p:cNvGrpSpPr/>
          <p:nvPr/>
        </p:nvGrpSpPr>
        <p:grpSpPr>
          <a:xfrm>
            <a:off x="3499920" y="3000240"/>
            <a:ext cx="4348800" cy="1643040"/>
            <a:chOff x="3499920" y="3000240"/>
            <a:chExt cx="4348800" cy="1643040"/>
          </a:xfrm>
        </p:grpSpPr>
        <p:sp>
          <p:nvSpPr>
            <p:cNvPr id="107" name="Пятиугольник 14"/>
            <p:cNvSpPr/>
            <p:nvPr/>
          </p:nvSpPr>
          <p:spPr>
            <a:xfrm rot="10800000">
              <a:off x="3499920" y="3000240"/>
              <a:ext cx="4348440" cy="164304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ятиугольник 4"/>
            <p:cNvSpPr/>
            <p:nvPr/>
          </p:nvSpPr>
          <p:spPr>
            <a:xfrm>
              <a:off x="3932280" y="3000240"/>
              <a:ext cx="39164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7"/>
          <p:cNvGrpSpPr/>
          <p:nvPr/>
        </p:nvGrpSpPr>
        <p:grpSpPr>
          <a:xfrm>
            <a:off x="3580920" y="4800600"/>
            <a:ext cx="4343760" cy="1643040"/>
            <a:chOff x="3580920" y="4800600"/>
            <a:chExt cx="4343760" cy="1643040"/>
          </a:xfrm>
        </p:grpSpPr>
        <p:sp>
          <p:nvSpPr>
            <p:cNvPr id="111" name="Пятиугольник 18"/>
            <p:cNvSpPr/>
            <p:nvPr/>
          </p:nvSpPr>
          <p:spPr>
            <a:xfrm rot="10800000">
              <a:off x="3580920" y="4800600"/>
              <a:ext cx="4343400" cy="164304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ятиугольник 4"/>
            <p:cNvSpPr/>
            <p:nvPr/>
          </p:nvSpPr>
          <p:spPr>
            <a:xfrm>
              <a:off x="4012920" y="4800600"/>
              <a:ext cx="3911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Ньютон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145480" y="335772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ат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22"/>
          <p:cNvGrpSpPr/>
          <p:nvPr/>
        </p:nvGrpSpPr>
        <p:grpSpPr>
          <a:xfrm>
            <a:off x="3499920" y="1213920"/>
            <a:ext cx="4348800" cy="1643760"/>
            <a:chOff x="3499920" y="1213920"/>
            <a:chExt cx="4348800" cy="1643760"/>
          </a:xfrm>
        </p:grpSpPr>
        <p:sp>
          <p:nvSpPr>
            <p:cNvPr id="116" name="Пятиугольник 23"/>
            <p:cNvSpPr/>
            <p:nvPr/>
          </p:nvSpPr>
          <p:spPr>
            <a:xfrm rot="10800000">
              <a:off x="3499920" y="1213560"/>
              <a:ext cx="4348440" cy="164340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ятиугольник 4"/>
            <p:cNvSpPr/>
            <p:nvPr/>
          </p:nvSpPr>
          <p:spPr>
            <a:xfrm>
              <a:off x="3932280" y="1214280"/>
              <a:ext cx="39164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оу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Переведи   1,1 кВт  в   ват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134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138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11 00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5153040" y="3357720"/>
            <a:ext cx="15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143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 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5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5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928800" y="0"/>
            <a:ext cx="721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3733560" y="3123720"/>
            <a:ext cx="5258160" cy="1567440"/>
            <a:chOff x="3733560" y="3123720"/>
            <a:chExt cx="5258160" cy="1567440"/>
          </a:xfrm>
        </p:grpSpPr>
        <p:sp>
          <p:nvSpPr>
            <p:cNvPr id="161" name="Пятиугольник 14"/>
            <p:cNvSpPr/>
            <p:nvPr/>
          </p:nvSpPr>
          <p:spPr>
            <a:xfrm rot="10800000">
              <a:off x="3733560" y="3123720"/>
              <a:ext cx="5257800" cy="1567080"/>
            </a:xfrm>
            <a:custGeom>
              <a:avLst/>
              <a:gdLst>
                <a:gd name="textAreaLeft" fmla="*/ 0 w 5257800"/>
                <a:gd name="textAreaRight" fmla="*/ 5258160 w 525780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ятиугольник 4"/>
            <p:cNvSpPr/>
            <p:nvPr/>
          </p:nvSpPr>
          <p:spPr>
            <a:xfrm>
              <a:off x="4256280" y="3124080"/>
              <a:ext cx="473544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Группа 17"/>
          <p:cNvGrpSpPr/>
          <p:nvPr/>
        </p:nvGrpSpPr>
        <p:grpSpPr>
          <a:xfrm>
            <a:off x="3500280" y="4876920"/>
            <a:ext cx="5415120" cy="1552320"/>
            <a:chOff x="3500280" y="4876920"/>
            <a:chExt cx="5415120" cy="1552320"/>
          </a:xfrm>
        </p:grpSpPr>
        <p:sp>
          <p:nvSpPr>
            <p:cNvPr id="165" name="Пятиугольник 18"/>
            <p:cNvSpPr/>
            <p:nvPr/>
          </p:nvSpPr>
          <p:spPr>
            <a:xfrm rot="10800000">
              <a:off x="3500280" y="4876920"/>
              <a:ext cx="5415120" cy="155232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ятиугольник 4"/>
            <p:cNvSpPr/>
            <p:nvPr/>
          </p:nvSpPr>
          <p:spPr>
            <a:xfrm>
              <a:off x="4038480" y="4876920"/>
              <a:ext cx="4876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4267080" y="30481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работ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170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824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Что характеризует мощность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0699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952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79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556272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     </a:t>
            </a: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Джеймс Уат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resCCE3AEBE-0A01-01FD-00D9-799DD3791DC5"/>
          <p:cNvPicPr/>
          <p:nvPr/>
        </p:nvPicPr>
        <p:blipFill>
          <a:blip r:embed="rId1"/>
          <a:stretch/>
        </p:blipFill>
        <p:spPr>
          <a:xfrm>
            <a:off x="5105520" y="228600"/>
            <a:ext cx="371628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066680" y="121932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736–1819 г.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8108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 Unicode MS"/>
              </a:rPr>
              <a:t>«Лошадиная сила» -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это средняя работа за  1 секунду, которую могла совершить сильная английская ломовая лошадь, равномерно работающая цел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5280120"/>
            <a:ext cx="22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84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Кто развивает большую мощность: медленно поднимающийся по лестнице человек или спортсмен той же массы, совершающий прыжок с шес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190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194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5144400" y="3357720"/>
            <a:ext cx="28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199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ортсм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0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1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1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0" y="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ая старинная единица мощности используется до сих п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3"/>
          <p:cNvGrpSpPr/>
          <p:nvPr/>
        </p:nvGrpSpPr>
        <p:grpSpPr>
          <a:xfrm>
            <a:off x="3500280" y="3000240"/>
            <a:ext cx="5338800" cy="1643040"/>
            <a:chOff x="3500280" y="3000240"/>
            <a:chExt cx="5338800" cy="1643040"/>
          </a:xfrm>
        </p:grpSpPr>
        <p:sp>
          <p:nvSpPr>
            <p:cNvPr id="217" name="Пятиугольник 14"/>
            <p:cNvSpPr/>
            <p:nvPr/>
          </p:nvSpPr>
          <p:spPr>
            <a:xfrm rot="10800000">
              <a:off x="3500280" y="300024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ятиугольник 4"/>
            <p:cNvSpPr/>
            <p:nvPr/>
          </p:nvSpPr>
          <p:spPr>
            <a:xfrm>
              <a:off x="4030920" y="300024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Группа 17"/>
          <p:cNvGrpSpPr/>
          <p:nvPr/>
        </p:nvGrpSpPr>
        <p:grpSpPr>
          <a:xfrm>
            <a:off x="3500280" y="4786200"/>
            <a:ext cx="5338800" cy="1643040"/>
            <a:chOff x="3500280" y="4786200"/>
            <a:chExt cx="5338800" cy="1643040"/>
          </a:xfrm>
        </p:grpSpPr>
        <p:sp>
          <p:nvSpPr>
            <p:cNvPr id="221" name="Пятиугольник 18"/>
            <p:cNvSpPr/>
            <p:nvPr/>
          </p:nvSpPr>
          <p:spPr>
            <a:xfrm rot="10800000">
              <a:off x="3500280" y="478620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ятиугольник 4"/>
            <p:cNvSpPr/>
            <p:nvPr/>
          </p:nvSpPr>
          <p:spPr>
            <a:xfrm>
              <a:off x="4030920" y="478620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лошадиная сил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3809880" y="2895480"/>
            <a:ext cx="55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лягушечь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226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6"/>
          <p:cNvSpPr/>
          <p:nvPr/>
        </p:nvSpPr>
        <p:spPr>
          <a:xfrm>
            <a:off x="4429080" y="1066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кошачь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3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3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3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Трактор имеет три скорости: 3,08м/с, 4,18м/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5,95м/с. На какой скорости при той же мощ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он будет развивать большую силу тяги?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3"/>
          <p:cNvGrpSpPr/>
          <p:nvPr/>
        </p:nvGrpSpPr>
        <p:grpSpPr>
          <a:xfrm>
            <a:off x="3500280" y="3000240"/>
            <a:ext cx="4500720" cy="1643040"/>
            <a:chOff x="3500280" y="3000240"/>
            <a:chExt cx="4500720" cy="1643040"/>
          </a:xfrm>
        </p:grpSpPr>
        <p:sp>
          <p:nvSpPr>
            <p:cNvPr id="244" name="Пятиугольник 14"/>
            <p:cNvSpPr/>
            <p:nvPr/>
          </p:nvSpPr>
          <p:spPr>
            <a:xfrm rot="10800000">
              <a:off x="3500280" y="3000240"/>
              <a:ext cx="4500720" cy="164304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ятиугольник 4"/>
            <p:cNvSpPr/>
            <p:nvPr/>
          </p:nvSpPr>
          <p:spPr>
            <a:xfrm>
              <a:off x="3947400" y="3000240"/>
              <a:ext cx="40536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7"/>
          <p:cNvGrpSpPr/>
          <p:nvPr/>
        </p:nvGrpSpPr>
        <p:grpSpPr>
          <a:xfrm>
            <a:off x="3429000" y="4724280"/>
            <a:ext cx="4572000" cy="1643040"/>
            <a:chOff x="3429000" y="4724280"/>
            <a:chExt cx="4572000" cy="1643040"/>
          </a:xfrm>
        </p:grpSpPr>
        <p:sp>
          <p:nvSpPr>
            <p:cNvPr id="248" name="Пятиугольник 18"/>
            <p:cNvSpPr/>
            <p:nvPr/>
          </p:nvSpPr>
          <p:spPr>
            <a:xfrm rot="10800000">
              <a:off x="3429000" y="4724280"/>
              <a:ext cx="4572000" cy="1643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ятиугольник 4"/>
            <p:cNvSpPr/>
            <p:nvPr/>
          </p:nvSpPr>
          <p:spPr>
            <a:xfrm>
              <a:off x="3883320" y="4724280"/>
              <a:ext cx="4117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5,95 м/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4495680" y="32767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,1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2"/>
          <p:cNvGrpSpPr/>
          <p:nvPr/>
        </p:nvGrpSpPr>
        <p:grpSpPr>
          <a:xfrm>
            <a:off x="3500280" y="1523520"/>
            <a:ext cx="4500720" cy="1334160"/>
            <a:chOff x="3500280" y="1523520"/>
            <a:chExt cx="4500720" cy="1334160"/>
          </a:xfrm>
        </p:grpSpPr>
        <p:sp>
          <p:nvSpPr>
            <p:cNvPr id="253" name="Пятиугольник 23"/>
            <p:cNvSpPr/>
            <p:nvPr/>
          </p:nvSpPr>
          <p:spPr>
            <a:xfrm rot="10800000">
              <a:off x="3500280" y="1523160"/>
              <a:ext cx="4500720" cy="133380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ятиугольник 4"/>
            <p:cNvSpPr/>
            <p:nvPr/>
          </p:nvSpPr>
          <p:spPr>
            <a:xfrm>
              <a:off x="3947400" y="1523880"/>
              <a:ext cx="40536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,0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6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6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odoni MT Black"/>
              </a:rPr>
              <a:t>Соотношение между л.с. и 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_SHM7554"/>
          <p:cNvPicPr/>
          <p:nvPr/>
        </p:nvPicPr>
        <p:blipFill>
          <a:blip r:embed="rId1"/>
          <a:stretch/>
        </p:blipFill>
        <p:spPr>
          <a:xfrm>
            <a:off x="1295280" y="2895480"/>
            <a:ext cx="5388120" cy="378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24648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65600" y="1131840"/>
            <a:ext cx="693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1 л. с. = 735,5 В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2895.gif"/>
          <p:cNvPicPr/>
          <p:nvPr/>
        </p:nvPicPr>
        <p:blipFill>
          <a:blip r:embed="rId2"/>
          <a:stretch/>
        </p:blipFill>
        <p:spPr>
          <a:xfrm>
            <a:off x="-228600" y="1066680"/>
            <a:ext cx="2496960" cy="1862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123.gif"/>
          <p:cNvPicPr/>
          <p:nvPr/>
        </p:nvPicPr>
        <p:blipFill>
          <a:blip r:embed="rId3"/>
          <a:stretch/>
        </p:blipFill>
        <p:spPr>
          <a:xfrm>
            <a:off x="6019920" y="2209680"/>
            <a:ext cx="2784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Сколько ватт в 4 МВ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Группа 13"/>
          <p:cNvGrpSpPr/>
          <p:nvPr/>
        </p:nvGrpSpPr>
        <p:grpSpPr>
          <a:xfrm>
            <a:off x="3499920" y="3000240"/>
            <a:ext cx="5644080" cy="1643040"/>
            <a:chOff x="3499920" y="3000240"/>
            <a:chExt cx="5644080" cy="1643040"/>
          </a:xfrm>
        </p:grpSpPr>
        <p:sp>
          <p:nvSpPr>
            <p:cNvPr id="271" name="Пятиугольник 14"/>
            <p:cNvSpPr/>
            <p:nvPr/>
          </p:nvSpPr>
          <p:spPr>
            <a:xfrm rot="10800000">
              <a:off x="3499920" y="3000240"/>
              <a:ext cx="5643720" cy="164304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ятиугольник 4"/>
            <p:cNvSpPr/>
            <p:nvPr/>
          </p:nvSpPr>
          <p:spPr>
            <a:xfrm>
              <a:off x="4061160" y="3000240"/>
              <a:ext cx="50828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17"/>
          <p:cNvGrpSpPr/>
          <p:nvPr/>
        </p:nvGrpSpPr>
        <p:grpSpPr>
          <a:xfrm>
            <a:off x="3200400" y="4800600"/>
            <a:ext cx="5943600" cy="1643040"/>
            <a:chOff x="3200400" y="4800600"/>
            <a:chExt cx="5943600" cy="1643040"/>
          </a:xfrm>
        </p:grpSpPr>
        <p:sp>
          <p:nvSpPr>
            <p:cNvPr id="275" name="Пятиугольник 18"/>
            <p:cNvSpPr/>
            <p:nvPr/>
          </p:nvSpPr>
          <p:spPr>
            <a:xfrm rot="10800000">
              <a:off x="3200400" y="4800600"/>
              <a:ext cx="5943600" cy="164304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ятиугольник 4"/>
            <p:cNvSpPr/>
            <p:nvPr/>
          </p:nvSpPr>
          <p:spPr>
            <a:xfrm>
              <a:off x="3790800" y="4800600"/>
              <a:ext cx="53532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4 000 000 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4724280" y="3200400"/>
            <a:ext cx="355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 00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3499920" y="1213920"/>
            <a:ext cx="5644080" cy="1643760"/>
            <a:chOff x="3499920" y="1213920"/>
            <a:chExt cx="5644080" cy="1643760"/>
          </a:xfrm>
        </p:grpSpPr>
        <p:sp>
          <p:nvSpPr>
            <p:cNvPr id="280" name="Пятиугольник 23"/>
            <p:cNvSpPr/>
            <p:nvPr/>
          </p:nvSpPr>
          <p:spPr>
            <a:xfrm rot="10800000">
              <a:off x="3499920" y="1213560"/>
              <a:ext cx="5643720" cy="164340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ятиугольник 4"/>
            <p:cNvSpPr/>
            <p:nvPr/>
          </p:nvSpPr>
          <p:spPr>
            <a:xfrm>
              <a:off x="4061160" y="1214280"/>
              <a:ext cx="50828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87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8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92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93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Ведро воды из колодца мальчик равномерно                 поднял в первый раз за 20 с, а второй раз – за 30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Что можно сказать о мощ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298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Овал 16"/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302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Овал 20">
            <a:hlinkClick r:id="rId3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4495680" y="30481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о второ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307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Овал 25"/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1447920"/>
            <a:ext cx="44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 первы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14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15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19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 рассчитать работу, зна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325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29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A/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4648320" y="335772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34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41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4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46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Мощность со скоростью связана соотнош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3"/>
          <p:cNvGrpSpPr/>
          <p:nvPr/>
        </p:nvGrpSpPr>
        <p:grpSpPr>
          <a:xfrm>
            <a:off x="3505320" y="2971800"/>
            <a:ext cx="4132080" cy="1643040"/>
            <a:chOff x="3505320" y="2971800"/>
            <a:chExt cx="4132080" cy="1643040"/>
          </a:xfrm>
        </p:grpSpPr>
        <p:sp>
          <p:nvSpPr>
            <p:cNvPr id="352" name="Пятиугольник 14"/>
            <p:cNvSpPr/>
            <p:nvPr/>
          </p:nvSpPr>
          <p:spPr>
            <a:xfrm rot="10800000">
              <a:off x="3505320" y="2971800"/>
              <a:ext cx="4132080" cy="1643040"/>
            </a:xfrm>
            <a:custGeom>
              <a:avLst/>
              <a:gdLst>
                <a:gd name="textAreaLeft" fmla="*/ 0 w 4132080"/>
                <a:gd name="textAreaRight" fmla="*/ 4132440 w 41320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ятиугольник 4"/>
            <p:cNvSpPr/>
            <p:nvPr/>
          </p:nvSpPr>
          <p:spPr>
            <a:xfrm>
              <a:off x="3915720" y="2971800"/>
              <a:ext cx="3721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56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</a:t>
              </a:r>
              <a:r>
                <a:rPr b="1" lang="el-GR" sz="6000" spc="-1" strike="noStrike">
                  <a:solidFill>
                    <a:srgbClr val="ffffff"/>
                  </a:solidFill>
                  <a:latin typeface="Calibri"/>
                </a:rPr>
                <a:t>υ</a:t>
              </a: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/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4572000" y="3357720"/>
            <a:ext cx="281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l-GR" sz="6000" spc="-1" strike="noStrike">
                <a:solidFill>
                  <a:srgbClr val="ffffff"/>
                </a:solidFill>
                <a:latin typeface="Calibri"/>
              </a:rPr>
              <a:t>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61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/υ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olfv_main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46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95288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Bodoni MT Black"/>
              </a:rPr>
              <a:t>Volkswagen Golf</a:t>
            </a: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102 л.с. – 7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new_touareg_bi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04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457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Bodoni MT Black"/>
              </a:rPr>
              <a:t>Volkswagen Touareg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Bodoni MT Black"/>
              </a:rPr>
              <a:t>225 л.с. – 16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68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6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73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1 лошадиная сила ра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3"/>
          <p:cNvGrpSpPr/>
          <p:nvPr/>
        </p:nvGrpSpPr>
        <p:grpSpPr>
          <a:xfrm>
            <a:off x="2438280" y="3000240"/>
            <a:ext cx="5639040" cy="1571760"/>
            <a:chOff x="2438280" y="3000240"/>
            <a:chExt cx="5639040" cy="1571760"/>
          </a:xfrm>
        </p:grpSpPr>
        <p:sp>
          <p:nvSpPr>
            <p:cNvPr id="379" name="Пятиугольник 14"/>
            <p:cNvSpPr/>
            <p:nvPr/>
          </p:nvSpPr>
          <p:spPr>
            <a:xfrm rot="10800000">
              <a:off x="2438280" y="3000240"/>
              <a:ext cx="5639040" cy="157176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ятиугольник 4"/>
            <p:cNvSpPr/>
            <p:nvPr/>
          </p:nvSpPr>
          <p:spPr>
            <a:xfrm>
              <a:off x="2998440" y="3000240"/>
              <a:ext cx="50788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Овал 16">
            <a:hlinkClick r:id="rId2" action="ppaction://hlinksldjump"/>
          </p:cNvPr>
          <p:cNvSpPr/>
          <p:nvPr/>
        </p:nvSpPr>
        <p:spPr>
          <a:xfrm>
            <a:off x="1828800" y="297180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Группа 17"/>
          <p:cNvGrpSpPr/>
          <p:nvPr/>
        </p:nvGrpSpPr>
        <p:grpSpPr>
          <a:xfrm>
            <a:off x="2438280" y="4800600"/>
            <a:ext cx="5486400" cy="1752480"/>
            <a:chOff x="2438280" y="4800600"/>
            <a:chExt cx="5486400" cy="1752480"/>
          </a:xfrm>
        </p:grpSpPr>
        <p:sp>
          <p:nvSpPr>
            <p:cNvPr id="383" name="Пятиугольник 18"/>
            <p:cNvSpPr/>
            <p:nvPr/>
          </p:nvSpPr>
          <p:spPr>
            <a:xfrm rot="10800000">
              <a:off x="2438280" y="4800600"/>
              <a:ext cx="5486400" cy="1752480"/>
            </a:xfrm>
            <a:custGeom>
              <a:avLst/>
              <a:gdLst>
                <a:gd name="textAreaLeft" fmla="*/ 0 w 5486400"/>
                <a:gd name="textAreaRight" fmla="*/ 5486760 w 5486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ятиугольник 4"/>
            <p:cNvSpPr/>
            <p:nvPr/>
          </p:nvSpPr>
          <p:spPr>
            <a:xfrm>
              <a:off x="2983320" y="4800600"/>
              <a:ext cx="4941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Овал 20">
            <a:hlinkClick r:id="rId4" action="ppaction://hlinksldjump"/>
          </p:cNvPr>
          <p:cNvSpPr/>
          <p:nvPr/>
        </p:nvSpPr>
        <p:spPr>
          <a:xfrm>
            <a:off x="1828800" y="487692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4648320" y="29718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735,5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2"/>
          <p:cNvGrpSpPr/>
          <p:nvPr/>
        </p:nvGrpSpPr>
        <p:grpSpPr>
          <a:xfrm>
            <a:off x="2438280" y="1213920"/>
            <a:ext cx="5639040" cy="1605600"/>
            <a:chOff x="2438280" y="1213920"/>
            <a:chExt cx="5639040" cy="1605600"/>
          </a:xfrm>
        </p:grpSpPr>
        <p:sp>
          <p:nvSpPr>
            <p:cNvPr id="388" name="Пятиугольник 23"/>
            <p:cNvSpPr/>
            <p:nvPr/>
          </p:nvSpPr>
          <p:spPr>
            <a:xfrm rot="10800000">
              <a:off x="2438280" y="1213560"/>
              <a:ext cx="5639040" cy="160524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605240"/>
                <a:gd name="textAreaBottom" fmla="*/ 1605600 h 16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ятиугольник 4"/>
            <p:cNvSpPr/>
            <p:nvPr/>
          </p:nvSpPr>
          <p:spPr>
            <a:xfrm>
              <a:off x="2998440" y="1214280"/>
              <a:ext cx="507888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Овал 25">
            <a:hlinkClick r:id="rId6" action="ppaction://hlinksldjump"/>
          </p:cNvPr>
          <p:cNvSpPr/>
          <p:nvPr/>
        </p:nvSpPr>
        <p:spPr>
          <a:xfrm>
            <a:off x="1752480" y="121932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6"/>
          <p:cNvSpPr/>
          <p:nvPr/>
        </p:nvSpPr>
        <p:spPr>
          <a:xfrm>
            <a:off x="388620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00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152280" y="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Укажите единицы, которые не являются единицами измерения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407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411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1"/>
          <p:cNvSpPr/>
          <p:nvPr/>
        </p:nvSpPr>
        <p:spPr>
          <a:xfrm>
            <a:off x="5145840" y="3357720"/>
            <a:ext cx="145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Вт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416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4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4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29" name="Управляющая кнопка: назад 10"/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1219320"/>
          <a:ext cx="8839440" cy="542268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06760"/>
                <a:gridCol w="1828800"/>
              </a:tblGrid>
              <a:tr h="20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1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2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3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4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-160920" y="298440"/>
            <a:ext cx="95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Rounded MT Bold"/>
              </a:rPr>
              <a:t>Код правильных ответ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1219320"/>
            <a:ext cx="1752840" cy="2133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638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угатти – «1000 + 1» л.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преподавание\физика\презентации\презентации интернет\мощность\идущий человек.gif"/>
          <p:cNvPicPr/>
          <p:nvPr/>
        </p:nvPicPr>
        <p:blipFill>
          <a:blip r:embed="rId1"/>
          <a:stretch/>
        </p:blipFill>
        <p:spPr>
          <a:xfrm>
            <a:off x="4911840" y="990720"/>
            <a:ext cx="356544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21600">
            <a:off x="305640" y="754560"/>
            <a:ext cx="37306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 Black"/>
              </a:rPr>
              <a:t>Считается, что в среднем мощность человека при спокойной ходьбе равна приблизительно 0,1л.с. т.е 70 - 90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Мощность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«живых» двиг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resBFCEDD5C-6777-4DB7-A9D4-397574F5DA0D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7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2"/>
          <p:cNvPicPr/>
          <p:nvPr/>
        </p:nvPicPr>
        <p:blipFill>
          <a:blip r:embed="rId2"/>
          <a:stretch/>
        </p:blipFill>
        <p:spPr>
          <a:xfrm>
            <a:off x="4857840" y="1143000"/>
            <a:ext cx="3786120" cy="283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595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0004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730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072040" y="1357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50 к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0076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0,000001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429000"/>
            <a:ext cx="464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Одинаковую ли скорость могут развить эти автомобили на одной и той же трассе за одинаков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1952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ыбери правильную формулу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для вычисления мощ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80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84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A=N*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5145480" y="3357720"/>
            <a:ext cx="22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89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A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02-06T20:2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4140</vt:lpwstr>
  </property>
  <property fmtid="{D5CDD505-2E9C-101B-9397-08002B2CF9AE}" pid="3" name="Version">
    <vt:r8>1</vt:r8>
  </property>
</Properties>
</file>