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45F-208D-4F70-A02E-42F89595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CD82-E21D-49F0-95E1-90B529AA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0EED-4594-4706-B86E-6AA24ADB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D288-F058-4EE4-9307-17F161125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760AA-5B44-4F2B-A26A-D2E99964B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FD75-F4E0-48F9-A612-A0FE09F8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6C44B-E458-4C74-A642-76455D1F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2CC2-2D52-4B4E-8115-88063E77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4C4FB-F0AF-4FFE-A3E8-08C3EA40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6D1FF-3853-4C6C-86C7-8A57DBA0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EC0F1-669A-4266-AB3C-6591CF7C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473F-AF71-44CF-9135-847043379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3A83-8E3B-4AC3-8888-BB5AC6838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3E1A8-0104-4BCE-BF24-66495894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D3590-8E82-4996-9AA4-39E19AFA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540A-331A-41A2-A90E-5B1D4C2AD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2C9F-B20E-4388-96C7-BB1649DD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4992-7DD6-4EAC-9C0D-DA9D311B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D62-EAF4-4EB1-8323-354E12049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4C35-2D19-43B0-9613-25D04671E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9F6C-D248-4198-A9CD-1AEFA0BA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8366-1A00-4232-9843-F7EFEB4E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3578-6DA7-4E4F-8BD7-F52E8AAA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1653-00BE-48B7-B771-B2E630F3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0C7-63E0-4367-A2E7-605AD8D3362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8D2C4-EFCB-4546-922B-7B3E413B36E2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77744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Крас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Красный фосф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порошок от темно-коричневого до красного и фиолетового цвета, с атомными кристаллами  (структура до конца не установлена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без запаха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е ядови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воздухе окисляется медленно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темноте не светится, загорается только при 260 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Легко поглощает влагу (гигроскопичный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 воде и в сероуглероде не растворя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о время нагревания без доступа воздуха выпаривается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   При охлаждении его пары превращаются в белый фосфор.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Черн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Черный фосф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вещество похожее на графит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 металлический блеск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являет свойства полупроводника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е ядовит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разуется из белого фосфора при длительном нагревании (200 С) под большим давлением (1220 МПа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92000" y="1773000"/>
            <a:ext cx="532764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встречается в природе только с соединениях. (фосфориты и аппатиты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 Украине залежи  фосфоритов встречаются в Приднестровье, на Харьковщине, в Черниговской  и Запорожской обла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– важный составляющий елемент организма человека, животных и растений. Из растений  самые багатые на фосфор бобовые, подсолнечник и орехи. В организме человека фосфор обнаружен во всез тканях, особенно в нервной и костной. Фосфор входит в состев      ферментов, которые содержатся в зуба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 u="sng">
                <a:solidFill>
                  <a:srgbClr val="000000"/>
                </a:solidFill>
                <a:uFillTx/>
                <a:latin typeface="Times New Roman"/>
              </a:rPr>
              <a:t>Фосфор – жизненно важный елемент для всех организм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2060640"/>
            <a:ext cx="304632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ЕГОДНЯ СУЩЕСТВУЕТ БОЛЕЕ 100 РАЗНОВИДНОСТЕЙ СПИЧЕК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УРИСКИЕ -  горят до 8 секунд даже на сильном ветру, этого достаточно, чтобы развести косте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ШТОРМОВЫЕ – не подводят в условиях шквала и дожд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АРНЫЕ – чуть длиннее и толще обыч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КАМИННЫЕ – на очень длинной палке – чтобы дотянуться до очага не вставая с крес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СИГНАЛЬНЫЕ – дают разноцветное плам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ФОТОГРАФИЧЕСКИЕ – дающие мгновенную яркую вспышку, используемую при фотографирован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РМИЧЕСКИЕ – развивающие при горении более высокую температуру и дающие при сгорании головки большое количество тепл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000"/>
            </a:br>
            <a:r>
              <a:rPr b="0" lang="uk-UA" sz="2400" spc="-1" strike="noStrike">
                <a:solidFill>
                  <a:srgbClr val="333399"/>
                </a:solidFill>
                <a:latin typeface="Tahoma"/>
              </a:rPr>
              <a:t>Температура горящей спичечной головки достигает 1500 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8920" y="2017800"/>
            <a:ext cx="4813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ичечная соломка во избежание тления пропитывается 1,5% раствором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3PO4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а затем парафинируе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став головки спички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ртолетова соль – 46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Хромпик – 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а – 4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урик – 15,3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лила цинковые – 3,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екло молотое – 17,2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лей костяной – 11,5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076720" y="1989000"/>
            <a:ext cx="3598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ля полной готовности спички поочередно обмакивают в пять ванн с химикатами. В том числе в парафин – чтобы лучинка не гасла, как только сгорит головка, и в ортофосфорную кислоту – для ровного гор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7640" y="2017800"/>
            <a:ext cx="4527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странах СНГ спички делают из осиновых или липовых щепо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Западной Европе из-за дороговизны дерева чаще используют карто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Индии спички до сих пор считают дорогим и неудобным удовольствием. Для добывания огня сельские жители пользуются специальными кремниевыми камушками «чамак». Ударяя их друг о друга, можно высечь искр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39" b="82"/>
          <a:stretch/>
        </p:blipFill>
        <p:spPr>
          <a:xfrm>
            <a:off x="611280" y="1989000"/>
            <a:ext cx="3456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436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ременная спичечная машина делает 10 миллионов лучинок за восьмичасовую смену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ецодежда работников заводов пропитана специальным огнезащитным состав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140000" y="2017800"/>
            <a:ext cx="460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ово «спичка» происходит от немецког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tz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заостренная палоч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Руси спичками долгое время называли деревянные гвозди, которые использовали для изготовления обув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916280"/>
            <a:ext cx="274500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 фокусы аптекаря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1826 году англ фармацевт Д.Уокер смешивал химикаты при помощи деревянной палки. В результате на кончике образовалась засохшая капля. Чтобы «очистить» палочку от нароста, Джон чиркнул ею об пол – и вспыхнул огонь. Мистер Уокер демонстрировал веселый фокус всем посетителям аптеки, пока один из них не выпытал у наивного ученого секрет трюк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284360" y="2017800"/>
            <a:ext cx="467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мюэл Уилсон – так звали хитреца – наладил производство зажигательных щепок, назвав их «люциферчиками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ервые спички были метровой длины, рассыпали вокруг себя снопы искр и неприятно пахли. Этикетка на громадной коробке извещала, что ее содержимое опасно для людей с больными легким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3456000" cy="45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тюремная иск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На смену гигантским «люциферчикам» пришли еще более опасные зажигалки И. Каммерера. Каммерер нашел формулу смеси на основе белого фосфора, а выйдя из темницы, продал свой секрет венским предпринимателям. Поставленные на поток фосфорные палочки искрили от легчайшего прикосновения к любой поверхности, становясь причиной бесконечных пожаров. Работа на спичечных фабриках считалась адской. Вредный фосфор вызывал у трудяг некроз костей. Увеличилось количество самоубийц, ведь для летального исхода достаточно было съесть одну спичечную головку. Сам Каммерер закончил жизнь в сумасшедшем дом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ормула безопас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ец смертоубийству положил тихий шведский химик Й. Лундстрем. В 1855 году он придумал состав из безопасного красного фосфора. Новые спички не приносили вреда здоровью и воспламенялись только при трении о специальную поверхнос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стория открытия фосфор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был открыт в 1669 году Хенингом Брандом, алхимиком, который пытался найти философский камень. Во время одного из опытов получил вещество, которое светилось в темноте (фосфор - от греческого слова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светоносны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осфор – элемент 5 группы периодической системы Д.И. Менделеева, принадлежит к главной подгрупп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Физические свойст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258920" y="2017800"/>
          <a:ext cx="7489800" cy="4151160"/>
        </p:xfrm>
        <a:graphic>
          <a:graphicData uri="http://schemas.openxmlformats.org/drawingml/2006/table">
            <a:tbl>
              <a:tblPr/>
              <a:tblGrid>
                <a:gridCol w="1873080"/>
                <a:gridCol w="1871640"/>
                <a:gridCol w="1873440"/>
                <a:gridCol w="1871640"/>
              </a:tblGrid>
              <a:tr h="69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зна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ас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рный фосфо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л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 коричневого до фиолетово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ро черн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па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есно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з запах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хож на вос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верды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носительно мяг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мпература плав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 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виться только под давлением, при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gt; 280 C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переходит в пары белого фосфор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юминесценц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еленоватое св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ЗАЖИГАТЕЛЬНАЯ ШТУЧКА</a:t>
            </a:r>
            <a:br>
              <a:rPr sz="4400"/>
            </a:br>
            <a:r>
              <a:rPr b="0" lang="uk-UA" sz="4400" spc="-1" strike="noStrike">
                <a:solidFill>
                  <a:srgbClr val="333399"/>
                </a:solidFill>
                <a:latin typeface="Tahoma"/>
              </a:rPr>
              <a:t>Белый фосфор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мягкое кристаллическое вещество, в чистом виде бесцветное и прозрачное, но обычно желтоватого цвета (похожее на воск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туче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имеет запах чеснока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плавится при 44 С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легковоспламеняемое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воде не растворяется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в темноте светится зеленовато-желтым цветом, при этом выделяется теплот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Теплота, что выделяется при этом, может расплавить фосфор и привести к воспламенению. Из-за этого белый фосфор сохраняют под водой. во время нагревания превращается в красный фосфо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Белый фосфор – чрезвычайно ядовитое вещество, даже в малых дозах (50 мг.) действует смертельно!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0T15:52:22Z</dcterms:created>
  <dc:creator>Галина</dc:creator>
  <dc:description/>
  <dc:language>en-US</dc:language>
  <cp:lastModifiedBy>Галина</cp:lastModifiedBy>
  <dcterms:modified xsi:type="dcterms:W3CDTF">2008-01-23T16:48:50Z</dcterms:modified>
  <cp:revision>6</cp:revision>
  <dc:subject/>
  <dc:title>ЗАЖИГАТЕЛЬНАЯ ШТУЧ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a02000000000001024140</vt:lpwstr>
  </property>
</Properties>
</file>