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8CF-F8F4-4BE8-AFF1-6ECE752E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5C1-658E-4A87-89C5-70C4CFA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92D-91D0-4276-96AF-982BE213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CC2-D9BF-4729-B4EA-B0DDA005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C805-8E5F-4ED2-BA75-856C1C65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3F98-1E97-4400-8F25-07E00EDB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771C-B074-4DD2-B0A8-7E36F0EB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185-52EA-46CA-B611-9EBE062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A4EA-70B2-4743-A4D3-94E7054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C5CD-0007-4525-99D3-A245D086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C4B8-CEA4-488E-83B8-2F1D6B9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4C9-E740-43FD-87E8-8248C01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C3F1-1410-4073-968E-C1A78BC1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C2BE-6D40-49A3-AC56-5B0F6ED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860-F354-4028-B111-352B507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E71D-DC4E-4737-B4B8-01A8A1D1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6718-490D-42CB-AE74-5083836D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784-A20A-4E28-8823-C1A0B8D6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3AD-9D21-4290-BF7B-EF1709A3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A58-0D19-4E3E-95D2-6DA249FC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AB8-450F-47E6-A1DF-B37CA232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22E-6A09-42BD-9FA0-D4BB26F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CA7-8A38-46D3-A112-CABBDAE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B83-F689-4E60-8A5E-CEA787E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B5A-B99A-4F7A-A334-01695E4B704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6DE2-7D30-4197-9F05-8C5D8F8A38C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7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рас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сный фосф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порошок от темно-коричневого до красного и фиолетового цвета, с атомными кристаллами  (структура до конца не установлена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 запах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ядови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здухе окисляется медленн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темноте не светится, загорается только при 260 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 поглощает влагу (гигроскопичный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воде и в сероуглероде не растворя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нагревания без доступа воздуха выпаривает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 При охлаждении его пары превращаются в белый фосфор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Чер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й фосф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ещество похожее на графи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 металлический блеск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яет свойства полупроводник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ядов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зуется из белого фосфора при длительном нагревании (200 С) под большим давлением (1220 МП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000" y="1773000"/>
            <a:ext cx="53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встречается в природе только с соединениях. (фосфориты и аппатит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Украине залежи  фосфоритов встречаются в Приднестровье, на Харьковщине, в Черниговской  и Запорожской обла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важный составляющий елемент организма человека, животных и растений. Из растений  самые багатые на фосфор бобовые, подсолнечник и орехи. В организме человека фосфор обнаружен во всез тканях, особенно в нервной и костной. Фосфор входит в состев      ферментов, которые содержатся в зуба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 – жизненно важный елемент для всех организ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046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ЕГОДНЯ СУЩЕСТВУЕТ БОЛЕЕ 100 РАЗНОВИДНОСТЕЙ СПИЧЕ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РИСКИЕ -  горят до 8 секунд даже на сильном ветру, этого достаточно, чтобы развести кост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ТОРМОВЫЕ – не подводят в условиях шквала и дожд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АРНЫЕ – чуть длиннее и толще обыч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ИННЫЕ – на очень длинной палке – чтобы дотянуться до очага не вставая с кре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НАЛЬНЫЕ – дают разноцветное пла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ТОГРАФИЧЕСКИЕ – дающие мгновенную яркую вспышку, используемую при фотографирова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РМИЧЕСКИЕ – развивающие при горении более высокую температуру и дающие при сгорании головки большое количество теп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000"/>
            </a:br>
            <a:r>
              <a:rPr b="0" lang="uk-UA" sz="2400" spc="-1" strike="noStrike">
                <a:solidFill>
                  <a:srgbClr val="333399"/>
                </a:solidFill>
                <a:latin typeface="Tahoma"/>
              </a:rPr>
              <a:t>Температура горящей спичечной головки достигает 1500 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8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чечная соломка во избежание тления пропитывается 1,5% раствором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3P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затем парафиниру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головки сп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толетова соль – 46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мпик – 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а – 4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ик – 15,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ила цинковые – 3,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кло молотое – 17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й костяной – 1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98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полной готовности спички поочередно обмакивают в пять ванн с химикатами. В том числе в парафин – чтобы лучинка не гасла, как только сгорит головка, и в ортофосфорную кислоту – для ровного г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640" y="2017800"/>
            <a:ext cx="452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анах СНГ спички делают из осиновых или липовых щеп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падной Европе из-за дороговизны дерева чаще используют карт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ндии спички до сих пор считают дорогим и неудобным удовольствием. Для добывания огня сельские жители пользуются специальными кремниевыми камушками «чамак». Ударяя их друг о друга, можно высечь иск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9" b="82"/>
          <a:stretch/>
        </p:blipFill>
        <p:spPr>
          <a:xfrm>
            <a:off x="611280" y="1989000"/>
            <a:ext cx="345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ременная спичечная машина делает 10 миллионов лучинок за восьмичасовую сме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одежда работников заводов пропитана специальным огнезащитным соста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о «спичка» происходит от немецк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t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аостренная палоч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уси спичками долгое время называли деревянные гвозди, которые использовали для изготовления обу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745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 фокусы аптекар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26 году англ фармацевт Д.Уокер смешивал химикаты при помощи деревянной палки. В результате на кончике образовалась засохшая капля. Чтобы «очистить» палочку от нароста, Джон чиркнул ею об пол – и вспыхнул огонь. Мистер Уокер демонстрировал веселый фокус всем посетителям аптеки, пока один из них не выпытал у наивного ученого секрет трю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4360" y="201780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мюэл Уилсон – так звали хитреца – наладил производство зажигательных щепок, назвав их «люциферчи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е спички были метровой длины, рассыпали вокруг себя снопы искр и неприятно пахли. Этикетка на громадной коробке извещала, что ее содержимое опасно для людей с больными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456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юремная иск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мену гигантским «люциферчикам» пришли еще более опасные зажигалки И. Каммерера. Каммерер нашел формулу смеси на основе белого фосфора, а выйдя из темницы, продал свой секрет венским предпринимателям. Поставленные на поток фосфорные палочки искрили от легчайшего прикосновения к любой поверхности, становясь причиной бесконечных пожаров. Работа на спичечных фабриках считалась адской. Вредный фосфор вызывал у трудяг некроз костей. Увеличилось количество самоубийц, ведь для летального исхода достаточно было съесть одну спичечную головку. Сам Каммерер закончил жизнь в сумасшедшем до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рмула безопас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ец смертоубийству положил тихий шведский химик Й. Лундстрем. В 1855 году он придумал состав из безопасного красного фосфора. Новые спички не приносили вреда здоровью и воспламенялись только при трении о специальную поверх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открытия фосф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был открыт в 1669 году Хенингом Брандом, алхимиком, который пытался найти философский камень. Во время одного из опытов получил вещество, которое светилось в темноте (фосфор - от греческого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ветонос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– элемент 5 группы периодической системы Д.И. Менделеева, принадлежит к главной подгрупп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58920" y="2017800"/>
          <a:ext cx="7489800" cy="415116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  <a:gridCol w="1873440"/>
                <a:gridCol w="18716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ичневого до фиолет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о 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н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ж на во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мяг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виться только под давлением, пр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80 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ереходит в пары белого фосф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минесц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оватое св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Бел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ягкое кристаллическое вещество, в чистом виде бесцветное и прозрачное, но обычно желтоватого цвета (похожее на вос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туче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ет запах чесно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вится при 44 С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гковоспламеняемо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воде не растворяетс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емноте светится зеленовато-желтым цветом, при этом выделяется тепло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лота, что выделяется при этом, может расплавить фосфор и привести к воспламенению. Из-за этого белый фосфор сохраняют под водой. во время нагревания превращается в красный фосф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 – чрезвычайно ядовитое вещество, даже в малых дозах (50 мг.) действует смертельно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52:22Z</dcterms:created>
  <dc:creator>Галина</dc:creator>
  <dc:description/>
  <dc:language>en-US</dc:language>
  <cp:lastModifiedBy>Галина</cp:lastModifiedBy>
  <dcterms:modified xsi:type="dcterms:W3CDTF">2008-01-23T16:48:50Z</dcterms:modified>
  <cp:revision>6</cp:revision>
  <dc:subject/>
  <dc:title>ЗАЖИГАТЕЛЬНАЯ ШТУЧ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2000000000001024140</vt:lpwstr>
  </property>
</Properties>
</file>