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4AA-1474-4145-B170-8F6F8C20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BC6-0283-4B3D-AB22-C9AD1BB4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301-F39B-4766-9090-CA5D4111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44E-B5FD-44D3-9947-3785EB15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974-374E-49AB-A8F2-3F45E170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5AED-1458-4876-A377-E181EB22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B65E-861C-4A43-A075-425ECDF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3E2B-FFC9-4186-A644-FF5A6E2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992F-52D3-4A21-B7EB-AD66EEC9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0FC2-1212-4854-80B1-0FD04CC9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D19-C8D0-429F-852F-73CCCD1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F34-E5DA-4419-AC75-172308E6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6442-E96F-4DEF-8200-CF8D457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487D-C6A5-47FB-B120-14B3D804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5A1-F779-4AB5-A5BE-A9E960EA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065-87C9-4572-8D0C-2704844E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AF10-B455-403A-8044-98CFDBFE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C7D-EADC-4C2F-A5CB-2A35544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BAA-13FC-42FD-9444-053796A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938-1446-4A15-A652-8D7AFCC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10B-9C77-4EC1-951D-3B8E2AE8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FB9-3327-4402-9849-58E66298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A6CA-C646-456D-B674-9DD65F9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0A7-7068-47BD-88FF-CC0DCD2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DF0A-1725-4A46-B908-2F5F56FC2F7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C1B-2D6A-48C8-8B64-CB11F34A1E9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7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рас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сный фосф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порошок от темно-коричневого до красного и фиолетового цвета, с атомными кристаллами  (структура до конца не установлена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 запах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ядови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здухе окисляется медленн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темноте не светится, загорается только при 260 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 поглощает влагу (гигроскопичный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воде и в сероуглероде не растворя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нагревания без доступа воздуха выпаривает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 При охлаждении его пары превращаются в белый фосфор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Чер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й фосф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ещество похожее на графи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 металлический блеск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яет свойства полупроводник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ядов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зуется из белого фосфора при длительном нагревании (200 С) под большим давлением (1220 МП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000" y="1773000"/>
            <a:ext cx="53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встречается в природе только с соединениях. (фосфориты и аппатит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Украине залежи  фосфоритов встречаются в Приднестровье, на Харьковщине, в Черниговской  и Запорожской обла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важный составляющий елемент организма человека, животных и растений. Из растений  самые багатые на фосфор бобовые, подсолнечник и орехи. В организме человека фосфор обнаружен во всез тканях, особенно в нервной и костной. Фосфор входит в состев      ферментов, которые содержатся в зуба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 – жизненно важный елемент для всех организ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046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ЕГОДНЯ СУЩЕСТВУЕТ БОЛЕЕ 100 РАЗНОВИДНОСТЕЙ СПИЧЕ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РИСКИЕ -  горят до 8 секунд даже на сильном ветру, этого достаточно, чтобы развести кост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ТОРМОВЫЕ – не подводят в условиях шквала и дожд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АРНЫЕ – чуть длиннее и толще обыч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ИННЫЕ – на очень длинной палке – чтобы дотянуться до очага не вставая с кре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НАЛЬНЫЕ – дают разноцветное пла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ТОГРАФИЧЕСКИЕ – дающие мгновенную яркую вспышку, используемую при фотографирова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РМИЧЕСКИЕ – развивающие при горении более высокую температуру и дающие при сгорании головки большое количество теп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000"/>
            </a:br>
            <a:r>
              <a:rPr b="0" lang="uk-UA" sz="2400" spc="-1" strike="noStrike">
                <a:solidFill>
                  <a:srgbClr val="333399"/>
                </a:solidFill>
                <a:latin typeface="Tahoma"/>
              </a:rPr>
              <a:t>Температура горящей спичечной головки достигает 1500 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8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чечная соломка во избежание тления пропитывается 1,5% раствором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3P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затем парафиниру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головки сп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толетова соль – 46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мпик – 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а – 4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ик – 15,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ила цинковые – 3,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кло молотое – 17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й костяной – 1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98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полной готовности спички поочередно обмакивают в пять ванн с химикатами. В том числе в парафин – чтобы лучинка не гасла, как только сгорит головка, и в ортофосфорную кислоту – для ровного г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640" y="2017800"/>
            <a:ext cx="452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анах СНГ спички делают из осиновых или липовых щеп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падной Европе из-за дороговизны дерева чаще используют карт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ндии спички до сих пор считают дорогим и неудобным удовольствием. Для добывания огня сельские жители пользуются специальными кремниевыми камушками «чамак». Ударяя их друг о друга, можно высечь иск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9" b="82"/>
          <a:stretch/>
        </p:blipFill>
        <p:spPr>
          <a:xfrm>
            <a:off x="611280" y="1989000"/>
            <a:ext cx="345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ременная спичечная машина делает 10 миллионов лучинок за восьмичасовую сме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одежда работников заводов пропитана специальным огнезащитным соста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о «спичка» происходит от немецк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t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аостренная палоч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уси спичками долгое время называли деревянные гвозди, которые использовали для изготовления обу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745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 фокусы аптекар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26 году англ фармацевт Д.Уокер смешивал химикаты при помощи деревянной палки. В результате на кончике образовалась засохшая капля. Чтобы «очистить» палочку от нароста, Джон чиркнул ею об пол – и вспыхнул огонь. Мистер Уокер демонстрировал веселый фокус всем посетителям аптеки, пока один из них не выпытал у наивного ученого секрет трю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4360" y="201780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мюэл Уилсон – так звали хитреца – наладил производство зажигательных щепок, назвав их «люциферчи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е спички были метровой длины, рассыпали вокруг себя снопы искр и неприятно пахли. Этикетка на громадной коробке извещала, что ее содержимое опасно для людей с больными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456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юремная иск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мену гигантским «люциферчикам» пришли еще более опасные зажигалки И. Каммерера. Каммерер нашел формулу смеси на основе белого фосфора, а выйдя из темницы, продал свой секрет венским предпринимателям. Поставленные на поток фосфорные палочки искрили от легчайшего прикосновения к любой поверхности, становясь причиной бесконечных пожаров. Работа на спичечных фабриках считалась адской. Вредный фосфор вызывал у трудяг некроз костей. Увеличилось количество самоубийц, ведь для летального исхода достаточно было съесть одну спичечную головку. Сам Каммерер закончил жизнь в сумасшедшем до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рмула безопас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ец смертоубийству положил тихий шведский химик Й. Лундстрем. В 1855 году он придумал состав из безопасного красного фосфора. Новые спички не приносили вреда здоровью и воспламенялись только при трении о специальную поверх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открытия фосф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был открыт в 1669 году Хенингом Брандом, алхимиком, который пытался найти философский камень. Во время одного из опытов получил вещество, которое светилось в темноте (фосфор - от греческого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ветонос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– элемент 5 группы периодической системы Д.И. Менделеева, принадлежит к главной подгрупп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58920" y="2017800"/>
          <a:ext cx="7489800" cy="415116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  <a:gridCol w="1873440"/>
                <a:gridCol w="18716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ичневого до фиолет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о 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н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ж на во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мяг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виться только под давлением, пр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80 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ереходит в пары белого фосф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минесц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оватое св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Бел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ягкое кристаллическое вещество, в чистом виде бесцветное и прозрачное, но обычно желтоватого цвета (похожее на вос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туче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ет запах чесно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вится при 44 С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гковоспламеняемо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воде не растворяетс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емноте светится зеленовато-желтым цветом, при этом выделяется тепло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лота, что выделяется при этом, может расплавить фосфор и привести к воспламенению. Из-за этого белый фосфор сохраняют под водой. во время нагревания превращается в красный фосф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 – чрезвычайно ядовитое вещество, даже в малых дозах (50 мг.) действует смертельно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52:22Z</dcterms:created>
  <dc:creator>Галина</dc:creator>
  <dc:description/>
  <dc:language>en-US</dc:language>
  <cp:lastModifiedBy>Галина</cp:lastModifiedBy>
  <dcterms:modified xsi:type="dcterms:W3CDTF">2008-01-23T16:48:50Z</dcterms:modified>
  <cp:revision>6</cp:revision>
  <dc:subject/>
  <dc:title>ЗАЖИГАТЕЛЬНАЯ ШТУЧ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2000000000001024140</vt:lpwstr>
  </property>
</Properties>
</file>