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3C46-D882-4958-A84C-CA70F4309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FEF2-B303-49C5-9688-967686681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536-6E6A-4460-A5AD-93A01CB5F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F665-09BB-4264-90C8-C6009C2BF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87DA-2356-4D13-907A-67BB17F84E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F48-4D22-48F6-AB24-CCDF63DD1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BCCF-AD85-4451-B8BA-D769275ED8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8CA-E6FE-4BA1-87B1-EA8C1988C6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3F5E-3D29-4E38-99A5-0BD4CD5538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470-064D-43BB-948B-3A10ED8EE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0BD-3046-4099-A92F-11868960E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B29-B6CF-459A-BAA2-D5A5273CF1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84F8-52A2-45EF-8669-80789E885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15C-1198-447A-B814-65C430100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3DCF-3069-4A9A-91C7-240665F7E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65C2-2430-4CCE-A83D-854386034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0A19-143D-4128-A133-9BD33C4F9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3145-DB25-4031-9D04-3C980729D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1DD4-EBAD-4756-89D4-6299EEEBC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DB11-C162-4164-9C5C-643A7E25F9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9857-E2FF-4960-A7E2-D4E485F043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50F-5785-46D6-9018-BE3C08101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62A-435A-4604-B220-0BA6A79A7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C9E4-76FA-4111-BEE0-076388F5B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E0DD-A85B-4C9A-A8DD-BABFBA5683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A59A-D87C-47E9-B7AC-23BEF2D8B9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6841-12EC-4B97-AB67-3914F2836E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55E-54C6-436F-874A-F28D3CD7A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4BB8-2663-4A3F-A97D-CCFCD343B0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80AD-D827-4F63-B271-6AD8805D2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7AF3-5F3C-4579-B8FE-1A6F66978D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B3D-C5EF-4F92-B04B-9CBE765AC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8079-E236-4BA2-AF4C-67253A4DA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5A6-FD5C-48D9-870A-06B4266F1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EBF-81A5-4C64-BEAD-085109855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1AF-22EA-41D3-A963-37A143C43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C78-3797-4F25-BF63-15BF8ACD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47B-BCD4-436A-9FB3-C53F2D14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C1A-3145-403A-AB0E-4DFBF6C8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EAE-E0AA-423F-B456-B999F77A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061-8527-4C73-AA03-36EA25C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F82-970D-4701-8531-031F380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031-D5FA-4510-9473-BC3EA8F7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361-125A-4494-9C1F-5FAE3DA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E58-90A8-4AC7-A345-2985F38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CF6-D522-4ED0-B50B-7B2D05B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AE9-E782-4356-8A98-0147348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86F-D7BA-4A47-9466-243E7A7F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81D1-8FDA-4AB6-A8BF-4358DBA6F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04920"/>
            <a:ext cx="566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 "Дисперс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752480"/>
            <a:ext cx="73915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пы уро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Организационный момен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Актуализация опорных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Эвристическая бесед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Мотиваци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учение нового материа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Закреп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Систематизация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Ито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newton"/>
          <p:cNvPicPr/>
          <p:nvPr/>
        </p:nvPicPr>
        <p:blipFill>
          <a:blip r:embed="rId1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newton1"/>
          <p:cNvPicPr/>
          <p:nvPr/>
        </p:nvPicPr>
        <p:blipFill>
          <a:blip r:embed="rId2"/>
          <a:stretch/>
        </p:blipFill>
        <p:spPr>
          <a:xfrm>
            <a:off x="5715000" y="914400"/>
            <a:ext cx="2921040" cy="35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28600" y="4570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д его могилой высится памятник с бюстом и эпитафией «Здесь покоится сэр Исаак Ньютон, дворянин… Он исследовал различие световых лучей и проявляющиеся при этом различные свойства цветов, чего ранее никто не подозревал ... Пусть смертные радуются, что существует такое украшение рода человеческ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gete"/>
          <p:cNvPicPr/>
          <p:nvPr/>
        </p:nvPicPr>
        <p:blipFill>
          <a:blip r:embed="rId1"/>
          <a:srcRect l="0" t="0" r="195" b="160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2040101"/>
          <p:cNvPicPr/>
          <p:nvPr/>
        </p:nvPicPr>
        <p:blipFill>
          <a:blip r:embed="rId1"/>
          <a:stretch/>
        </p:blipFill>
        <p:spPr>
          <a:xfrm>
            <a:off x="1371600" y="2179800"/>
            <a:ext cx="6248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b10_05_06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b10_05_08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b10_05_01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4eef2ee1(55)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41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2e0e4eeefe0e4~0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2040101"/>
          <p:cNvPicPr/>
          <p:nvPr/>
        </p:nvPicPr>
        <p:blipFill>
          <a:blip r:embed="rId1"/>
          <a:stretch/>
        </p:blipFill>
        <p:spPr>
          <a:xfrm>
            <a:off x="533520" y="841320"/>
            <a:ext cx="81532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915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жите определ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ветовой луч - линия, указывающая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Затмения бывают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Луч падающий и отражённый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гол отражения равен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менение направления распространения света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257800" cy="388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7960" y="1599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Цвет непрозрач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AK5HUVO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ACP0FGZ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1060037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3e20"/>
                </a:solidFill>
                <a:latin typeface="Arial Black"/>
              </a:rPr>
              <a:t>Цель урок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онятие диспер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уметь объяснять явления, связ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разложением света, применять п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ученные знания в повседнев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логическое мышление, 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уникативны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Наш город через зеленые 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каким физическим явлением м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Что нового Вы узнали на этом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Объясните понятие «дисперс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Что не может быть в легенд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Какие тела разлагают св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 Считаете ли Вы эту тему важной, где её применяют в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 Достигли ли мы цели у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.Вы готовы к дальнейшему диалогу и сотрудничеству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§25 учебника «Физ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стно отвеча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пр.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4, «Физика и техника в Украине» -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wton"/>
          <p:cNvPicPr/>
          <p:nvPr/>
        </p:nvPicPr>
        <p:blipFill>
          <a:blip r:embed="rId1"/>
          <a:stretch/>
        </p:blipFill>
        <p:spPr>
          <a:xfrm>
            <a:off x="800280" y="21337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419720" y="2818800"/>
            <a:ext cx="449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Дисп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1666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енко</cp:lastModifiedBy>
  <dcterms:modified xsi:type="dcterms:W3CDTF">2011-03-10T04:52:5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3000000000001024140</vt:lpwstr>
  </property>
  <property fmtid="{D5CDD505-2E9C-101B-9397-08002B2CF9AE}" pid="3" name="Version">
    <vt:r8>1</vt:r8>
  </property>
</Properties>
</file>