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4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6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A2A9-6429-4151-A0DA-C7D4FF5C31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F47B-850E-490B-A8D1-5732FAD11C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DC68-8F79-4527-BDF8-CCBD05C630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F2DF-58D3-4309-ABE7-DA337B5A39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CA70-9B15-4757-BC4A-CB00ADB5B3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7384-95A9-47B4-B461-D596357CFC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F327-10F3-4DAF-8714-10C280924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01CE-DCEF-4501-8C63-D0711EBA0B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5486-C17B-43A1-A85B-BC9336B403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2E2F-4EDC-49B4-8D84-52C6C2B8F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AE7E-E0FE-4A31-B9DF-1D64CE7421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FB35-47D1-4FA5-B278-74290FEFA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3277-1C6F-4D50-ADE6-7020D37DE5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67EE-75B3-402C-868B-DD0576EB1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2135-95D0-466B-BB7D-AB156D0E7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588E-956E-4C23-9F88-B3F9A96A0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571D-B702-49BA-B720-EED525019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C899-9801-4EDF-8253-063AF6BE03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8DDC-2025-4C5A-B3DC-F0D766F241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7767-E221-4D60-9D27-D23EEFD670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C377-B5E1-478A-B872-80AED0F049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62C1-E8B9-40CD-AE77-857F6809F0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84AB-C606-450D-88B9-DE9F399007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0618-26FF-4965-AEBE-F50FE02E4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C35A-6A58-4040-A02C-9B3EA961C6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9BE4-EF35-495D-9A32-F5F7590872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0D4C-192B-4B85-93C3-5B34BB216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EE20-5C48-4846-85C5-CD308D25FE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771D-8EF4-49A6-A746-413E438415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6D80-E9BA-4F01-AFC7-D0035BEA6F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3FE8-F946-4BBF-87D9-528C05640F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91A1-E37E-4099-88D2-45CF78B1FD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D4B7-0CEF-4E1C-8E2E-189AD751E3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4ABD-F635-44E4-A770-7D22F401E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AEFC-47A3-4083-9C63-5EEC4E4679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FBEC-2C61-4D12-920D-88477AD3F8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20E1-6FF7-4E35-8DCD-1C389020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18E-20B9-46F2-97D4-3E8B86D4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011-5846-4B6D-BB28-6CADDA40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2E6-8488-4999-8F67-A0AC7E5B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637-8941-42C3-9816-9A960DA8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FB4-6E2C-44FE-AC91-B6F99B7F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183-5F64-4D23-B446-E6CCA430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E33-DC7B-4777-A726-D1CD0680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F72-0A1C-4C5C-BDFF-10B02CF9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0E3-FA6B-4419-836A-A323856D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02C-94D4-40FC-9533-3DE388DE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17F-90BB-47EB-A2E9-2BD1194E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F6B0-5D4A-458F-9144-C3BECE667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04920"/>
            <a:ext cx="5667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рок по теме: "Дисперс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66680" y="1752480"/>
            <a:ext cx="739152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апы уро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 Организационный момен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 Актуализация опорных знани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 Эвристическая бесед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. Мотивация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. Изучение нового материал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. Закреплени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. Систематизация знаний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. Итог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Исаак Ньют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newton"/>
          <p:cNvPicPr/>
          <p:nvPr/>
        </p:nvPicPr>
        <p:blipFill>
          <a:blip r:embed="rId1"/>
          <a:stretch/>
        </p:blipFill>
        <p:spPr>
          <a:xfrm>
            <a:off x="1752480" y="1676520"/>
            <a:ext cx="200052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newton1"/>
          <p:cNvPicPr/>
          <p:nvPr/>
        </p:nvPicPr>
        <p:blipFill>
          <a:blip r:embed="rId2"/>
          <a:stretch/>
        </p:blipFill>
        <p:spPr>
          <a:xfrm>
            <a:off x="5715000" y="914400"/>
            <a:ext cx="2921040" cy="3505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228600" y="45709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д его могилой высится памятник с бюстом и эпитафией «Здесь покоится сэр Исаак Ньютон, дворянин… Он исследовал различие световых лучей и проявляющиеся при этом различные свойства цветов, чего ранее никто не подозревал ... Пусть смертные радуются, что существует такое украшение рода человеческог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И. В. Ге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90760" y="2209680"/>
            <a:ext cx="4647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Свет Ньютон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это свет,  «измученный всякого рода орудиями пытки – щелями, призмами, линза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gete"/>
          <p:cNvPicPr/>
          <p:nvPr/>
        </p:nvPicPr>
        <p:blipFill>
          <a:blip r:embed="rId1"/>
          <a:srcRect l="0" t="0" r="195" b="160"/>
          <a:stretch/>
        </p:blipFill>
        <p:spPr>
          <a:xfrm>
            <a:off x="457200" y="2133720"/>
            <a:ext cx="312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С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 </a:t>
            </a: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Е </a:t>
            </a: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К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Т </a:t>
            </a: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02040101"/>
          <p:cNvPicPr/>
          <p:nvPr/>
        </p:nvPicPr>
        <p:blipFill>
          <a:blip r:embed="rId1"/>
          <a:stretch/>
        </p:blipFill>
        <p:spPr>
          <a:xfrm>
            <a:off x="1371600" y="2179800"/>
            <a:ext cx="62485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1b10_05_06"/>
          <p:cNvPicPr/>
          <p:nvPr/>
        </p:nvPicPr>
        <p:blipFill>
          <a:blip r:embed="rId2"/>
          <a:stretch/>
        </p:blipFill>
        <p:spPr>
          <a:xfrm>
            <a:off x="0" y="-34920"/>
            <a:ext cx="9144000" cy="699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1b10_05_08"/>
          <p:cNvPicPr/>
          <p:nvPr/>
        </p:nvPicPr>
        <p:blipFill>
          <a:blip r:embed="rId3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1b10_05_01"/>
          <p:cNvPicPr/>
          <p:nvPr/>
        </p:nvPicPr>
        <p:blipFill>
          <a:blip r:embed="rId4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f4eef2ee1(55)"/>
          <p:cNvPicPr/>
          <p:nvPr/>
        </p:nvPicPr>
        <p:blipFill>
          <a:blip r:embed="rId5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0041"/>
          <p:cNvPicPr/>
          <p:nvPr/>
        </p:nvPicPr>
        <p:blipFill>
          <a:blip r:embed="rId6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c2e0e4eeefe0e4~0"/>
          <p:cNvPicPr/>
          <p:nvPr/>
        </p:nvPicPr>
        <p:blipFill>
          <a:blip r:embed="rId7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458200" cy="10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каждой цветности соответствует своя длина и частота волны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2133720"/>
          <a:ext cx="8686800" cy="4014720"/>
        </p:xfrm>
        <a:graphic>
          <a:graphicData uri="http://schemas.openxmlformats.org/drawingml/2006/table">
            <a:tbl>
              <a:tblPr/>
              <a:tblGrid>
                <a:gridCol w="1241280"/>
                <a:gridCol w="1239840"/>
                <a:gridCol w="1243080"/>
                <a:gridCol w="1238400"/>
                <a:gridCol w="1243080"/>
                <a:gridCol w="1239840"/>
                <a:gridCol w="124128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" name="Text Box 53"/>
          <p:cNvSpPr/>
          <p:nvPr/>
        </p:nvSpPr>
        <p:spPr>
          <a:xfrm>
            <a:off x="228600" y="76212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</a:rPr>
              <a:t>Монохроматический свет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– одноцветный све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2040101"/>
          <p:cNvPicPr/>
          <p:nvPr/>
        </p:nvPicPr>
        <p:blipFill>
          <a:blip r:embed="rId1"/>
          <a:stretch/>
        </p:blipFill>
        <p:spPr>
          <a:xfrm>
            <a:off x="533520" y="841320"/>
            <a:ext cx="815328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{CC7D31B8-2436-4C20-B59F-F532F0280E80}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ДИСПЕР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</a:rPr>
              <a:t>Зависимость показателя преломления света от частоты колебаний (или длины вол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600" y="380880"/>
            <a:ext cx="89154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должите определен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. Световой луч - линия, указывающая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. Затмения бывают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. Луч падающий и отражённый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. Угол отражения равен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. Изменение направления распространения света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Black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Дисперсия – явление разложения белого света в спек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Белый свет – сложный, состоит из монохроматических цв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казатель преломления среды зависит от цвета света (фиол., красн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казатель преломления света в среде зависит от его част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Томас Юн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81120" y="609480"/>
            <a:ext cx="3429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Крас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669900"/>
                </a:solidFill>
                <a:latin typeface="Arial Black"/>
              </a:rPr>
              <a:t>Зел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 Black"/>
              </a:rPr>
              <a:t>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99ff"/>
                </a:solidFill>
                <a:latin typeface="Arial Black"/>
              </a:rPr>
              <a:t>Голуб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 Black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Бел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1807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young"/>
          <p:cNvPicPr/>
          <p:nvPr/>
        </p:nvPicPr>
        <p:blipFill>
          <a:blip r:embed="rId1"/>
          <a:stretch/>
        </p:blipFill>
        <p:spPr>
          <a:xfrm>
            <a:off x="533520" y="1828800"/>
            <a:ext cx="3735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RGB"/>
          <p:cNvPicPr/>
          <p:nvPr/>
        </p:nvPicPr>
        <p:blipFill>
          <a:blip r:embed="rId1"/>
          <a:stretch/>
        </p:blipFill>
        <p:spPr>
          <a:xfrm>
            <a:off x="990720" y="9144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osn_tsveta"/>
          <p:cNvPicPr/>
          <p:nvPr/>
        </p:nvPicPr>
        <p:blipFill>
          <a:blip r:embed="rId1"/>
          <a:stretch/>
        </p:blipFill>
        <p:spPr>
          <a:xfrm>
            <a:off x="2133720" y="1295280"/>
            <a:ext cx="4952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52680" y="3200040"/>
            <a:ext cx="55627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Условия возникновения радуги:</a:t>
            </a:r>
            <a:br>
              <a:rPr sz="20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1.Радуга появляется, только когда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выглянуло из-за туч солнце и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только в стороне, противоположной 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солнцу.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2.Радуга возникает, когда солнце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освещает завесу дождя.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3.Радуга появляется при условии, что 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угловая высота солнца над  горизонтом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   не превышает 42 градус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5257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се лучи лесов зеленых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се болотные кувшинк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На земле когда увяну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Расцветают снова в неб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CA0TD5PM"/>
          <p:cNvPicPr/>
          <p:nvPr/>
        </p:nvPicPr>
        <p:blipFill>
          <a:blip r:embed="rId1"/>
          <a:stretch/>
        </p:blipFill>
        <p:spPr>
          <a:xfrm>
            <a:off x="5867280" y="9144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144"/>
          <p:cNvPicPr/>
          <p:nvPr/>
        </p:nvPicPr>
        <p:blipFill>
          <a:blip r:embed="rId2"/>
          <a:stretch/>
        </p:blipFill>
        <p:spPr>
          <a:xfrm>
            <a:off x="533520" y="3200400"/>
            <a:ext cx="241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61722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В водяной капле происходят следующие оптическ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явл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ject 9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5257800" cy="3884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5867280" y="2209680"/>
            <a:ext cx="304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Преломление с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Дисперсия света, т.е. разложение белого света в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Отражение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CAQJWLYN"/>
          <p:cNvPicPr/>
          <p:nvPr/>
        </p:nvPicPr>
        <p:blipFill>
          <a:blip r:embed="rId1"/>
          <a:stretch/>
        </p:blipFill>
        <p:spPr>
          <a:xfrm>
            <a:off x="685800" y="649440"/>
            <a:ext cx="3581280" cy="2655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AS6IV4Q"/>
          <p:cNvPicPr/>
          <p:nvPr/>
        </p:nvPicPr>
        <p:blipFill>
          <a:blip r:embed="rId2"/>
          <a:stretch/>
        </p:blipFill>
        <p:spPr>
          <a:xfrm>
            <a:off x="685800" y="3773520"/>
            <a:ext cx="3505320" cy="2600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A88XL9F"/>
          <p:cNvPicPr/>
          <p:nvPr/>
        </p:nvPicPr>
        <p:blipFill>
          <a:blip r:embed="rId3"/>
          <a:stretch/>
        </p:blipFill>
        <p:spPr>
          <a:xfrm>
            <a:off x="4952880" y="685800"/>
            <a:ext cx="3490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00600" y="17521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Black"/>
              </a:rPr>
              <a:t>Га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CALSSVDP"/>
          <p:cNvPicPr/>
          <p:nvPr/>
        </p:nvPicPr>
        <p:blipFill>
          <a:blip r:embed="rId1"/>
          <a:stretch/>
        </p:blipFill>
        <p:spPr>
          <a:xfrm>
            <a:off x="609480" y="838080"/>
            <a:ext cx="3429000" cy="2417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алдо2"/>
          <p:cNvPicPr/>
          <p:nvPr/>
        </p:nvPicPr>
        <p:blipFill>
          <a:blip r:embed="rId2"/>
          <a:stretch/>
        </p:blipFill>
        <p:spPr>
          <a:xfrm>
            <a:off x="609480" y="3733920"/>
            <a:ext cx="3505320" cy="2519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ало6"/>
          <p:cNvPicPr/>
          <p:nvPr/>
        </p:nvPicPr>
        <p:blipFill>
          <a:blip r:embed="rId3"/>
          <a:stretch/>
        </p:blipFill>
        <p:spPr>
          <a:xfrm>
            <a:off x="4800600" y="3581280"/>
            <a:ext cx="34797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47960" y="15998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Цвет непрозрачн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CAK5HUVO"/>
          <p:cNvPicPr/>
          <p:nvPr/>
        </p:nvPicPr>
        <p:blipFill>
          <a:blip r:embed="rId1"/>
          <a:stretch/>
        </p:blipFill>
        <p:spPr>
          <a:xfrm>
            <a:off x="380880" y="19051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ACP0FGZ"/>
          <p:cNvPicPr/>
          <p:nvPr/>
        </p:nvPicPr>
        <p:blipFill>
          <a:blip r:embed="rId2"/>
          <a:stretch/>
        </p:blipFill>
        <p:spPr>
          <a:xfrm>
            <a:off x="4724280" y="28195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P1060037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78483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3e20"/>
                </a:solidFill>
                <a:latin typeface="Arial Black"/>
              </a:rPr>
              <a:t>Цель урока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формировать понятие дисперс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уметь объяснять явления, связ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 разложением света, применять п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лученные знания в повседневной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развивать логическое мышление, ком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муникативные способ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533520" y="9144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Шк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380880" y="1219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Наш город через зеленые о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505320" cy="2600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4800600" y="2819520"/>
            <a:ext cx="35053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Спектральный кр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bmp1b10_05_01_c"/>
          <p:cNvPicPr/>
          <p:nvPr/>
        </p:nvPicPr>
        <p:blipFill>
          <a:blip r:embed="rId1"/>
          <a:stretch/>
        </p:blipFill>
        <p:spPr>
          <a:xfrm>
            <a:off x="914400" y="2057400"/>
            <a:ext cx="2867040" cy="3962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bmp1b10_05_02_c"/>
          <p:cNvPicPr/>
          <p:nvPr/>
        </p:nvPicPr>
        <p:blipFill>
          <a:blip r:embed="rId2"/>
          <a:stretch/>
        </p:blipFill>
        <p:spPr>
          <a:xfrm>
            <a:off x="5257800" y="2057400"/>
            <a:ext cx="28749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 каким физическим явлением мы познакомились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Что нового Вы узнали на этом урок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Объясните понятие «дисперсия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Что не может быть в легендах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 Какие тела разлагают све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 Считаете ли Вы эту тему важной, где её применяют в жизн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. Достигли ли мы цели урок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.Вы готовы к дальнейшему диалогу и сотрудничеству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§25 учебника «Физик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тр. 163, устно отвечать на вопро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тр. 163, упр.1,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Стр. 164, «Физика и техника в Украине» -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ДИСПЕР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3600" spc="-1" strike="noStrike">
                <a:solidFill>
                  <a:srgbClr val="ff99ff"/>
                </a:solidFill>
                <a:latin typeface="Arial Black"/>
              </a:rPr>
              <a:t>dispersio</a:t>
            </a:r>
            <a:r>
              <a:rPr b="1" lang="ru-RU" sz="3600" spc="-1" strike="noStrike">
                <a:solidFill>
                  <a:srgbClr val="ff99ff"/>
                </a:solidFill>
                <a:latin typeface="Arial Black"/>
              </a:rPr>
              <a:t> (лат.) – рассеяние, развеи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Зависимость показателя преломления света от частоты колебаний (или длины вол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3e20"/>
                </a:solidFill>
                <a:latin typeface="Arial Black"/>
              </a:rPr>
              <a:t>Исаак Ньют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newton"/>
          <p:cNvPicPr/>
          <p:nvPr/>
        </p:nvPicPr>
        <p:blipFill>
          <a:blip r:embed="rId1"/>
          <a:stretch/>
        </p:blipFill>
        <p:spPr>
          <a:xfrm>
            <a:off x="800280" y="21337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4419720" y="2818800"/>
            <a:ext cx="44956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Дисперс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 Black"/>
              </a:rPr>
              <a:t>1666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пыт И.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С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 </a:t>
            </a: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Е </a:t>
            </a: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К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Т </a:t>
            </a: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Р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ctrum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(лат.) -  вúдени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02040101"/>
          <p:cNvPicPr/>
          <p:nvPr/>
        </p:nvPicPr>
        <p:blipFill>
          <a:blip r:embed="rId1"/>
          <a:stretch/>
        </p:blipFill>
        <p:spPr>
          <a:xfrm>
            <a:off x="1523880" y="2293920"/>
            <a:ext cx="60962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пыт И.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Times New Roman"/>
              </a:rPr>
              <a:t>      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Газета «Нью –Йорк  Таймс»: Роберт Криз (сотрудник философского факультета университета Нью-Йорка) и Стони Брук (историк Брукхевенской Национальной Лаборатории) – опрос среди американских физиков, чтобы определить 10 красивейших экспериментов за всю историю этой нау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Prism"/>
          <p:cNvPicPr/>
          <p:nvPr/>
        </p:nvPicPr>
        <p:blipFill>
          <a:blip r:embed="rId1"/>
          <a:stretch/>
        </p:blipFill>
        <p:spPr>
          <a:xfrm>
            <a:off x="2057400" y="28954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маненко</cp:lastModifiedBy>
  <dcterms:modified xsi:type="dcterms:W3CDTF">2011-03-10T04:52:54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13000000000001024140</vt:lpwstr>
  </property>
  <property fmtid="{D5CDD505-2E9C-101B-9397-08002B2CF9AE}" pid="3" name="Version">
    <vt:r8>1</vt:r8>
  </property>
</Properties>
</file>