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15C-C7CB-4F21-943A-A8F67BDC9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642-BA2D-49E2-A914-207D4A92A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0C7-E370-4BF7-8C0F-93C8E724D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67C-1085-44B1-AFBA-22816332B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8DC4-B2A2-4705-A85C-5FA8C68A7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46B-EE4D-425F-865F-C0743B943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D93E-B4C8-48E6-B5DC-6BE77C84C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0BB-D630-40BD-B6C1-B619AC836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07C3-838B-4985-AA5C-D0F967326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57F1-2162-4223-AB9A-B7BA20B4A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3660-79F2-4F39-89AF-9AF95C16A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4178-1EAA-41A2-9658-B166AD4318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B6C9-BF70-4DB3-9AA9-E5F35140C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0366-85AE-4A54-AC0B-C1865A9EA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0932-CCE8-42B1-ABD2-B5DE01A01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FAE0-20E9-47E6-8760-62412D47A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26E2-D9C1-4D17-A881-67C6AD76E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ED4-8F8A-4DBC-97D0-89550E277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FAD8-65AF-4F26-8908-A460FCD7D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876-C9B7-45BD-8E1D-D01DE6FF83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C8E0-F7F3-4F04-91BD-11F8597EE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1757-6BEC-4B33-AAF7-9C9B7090F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C717-A40C-4ACC-9900-E1A96486B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B780-62B4-452D-BDFB-88C5DB88C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7EE8-5C57-4C02-9274-8689D6505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CBD-84A5-4B5C-A110-E8243681B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C66D-C902-4067-A00E-984D29173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10A-BD4D-448A-8528-B14C3084C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3C38-4A01-4BA6-A020-DD3A002DD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CFE0-E31F-4180-885C-E56152214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AE22-2831-4CAA-ABE8-94BE33455D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B705-88BE-4F90-A2AC-7041BF8DA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FD2D-E00F-4A21-9211-65B9E0CD91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8B23-82C7-4827-9A93-153219BB8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FFB8-C94F-4BD1-A4EA-26897B0A6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BA4E-A909-46D5-846F-BDCB8B701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2D6-CE78-4627-876C-413CDD0F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A26-0FF2-4AF0-888E-AF2207C1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149-6694-411A-B4DC-BE5D5F76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3C6-25EC-4104-8B08-665E4F7E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79B-2002-431A-A3FC-3BA5251D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854-0555-4452-9D77-2653847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A19-CB19-4AB0-9F56-C652DCE9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036-BC3E-4F4B-9087-1F512153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B90-05C0-40CA-B0A5-FBC26D61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A5D-1F7D-4BC3-A93E-6D625AA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436-05A5-454A-88CC-F64B1C7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2D4-4495-4CEF-A0C7-1546F2F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A338-5B78-46D4-8DB3-0B1A66AD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04920"/>
            <a:ext cx="5667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 "Дисперс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1752480"/>
            <a:ext cx="73915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пы уро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Организационный момен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Актуализация опорных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Эвристическая бесед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Мотивация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учение нового материал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Закрепл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. Систематизация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. Итог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newton"/>
          <p:cNvPicPr/>
          <p:nvPr/>
        </p:nvPicPr>
        <p:blipFill>
          <a:blip r:embed="rId1"/>
          <a:stretch/>
        </p:blipFill>
        <p:spPr>
          <a:xfrm>
            <a:off x="1752480" y="167652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newton1"/>
          <p:cNvPicPr/>
          <p:nvPr/>
        </p:nvPicPr>
        <p:blipFill>
          <a:blip r:embed="rId2"/>
          <a:stretch/>
        </p:blipFill>
        <p:spPr>
          <a:xfrm>
            <a:off x="5715000" y="914400"/>
            <a:ext cx="2921040" cy="3505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228600" y="45709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д его могилой высится памятник с бюстом и эпитафией «Здесь покоится сэр Исаак Ньютон, дворянин… Он исследовал различие световых лучей и проявляющиеся при этом различные свойства цветов, чего ранее никто не подозревал ... Пусть смертные радуются, что существует такое украшение рода человеческо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. В. Г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Свет Ньют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это свет,  «измученный всякого рода орудиями пытки – щелями, призмами, линз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gete"/>
          <p:cNvPicPr/>
          <p:nvPr/>
        </p:nvPicPr>
        <p:blipFill>
          <a:blip r:embed="rId1"/>
          <a:srcRect l="0" t="0" r="195" b="160"/>
          <a:stretch/>
        </p:blipFill>
        <p:spPr>
          <a:xfrm>
            <a:off x="457200" y="2133720"/>
            <a:ext cx="312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2040101"/>
          <p:cNvPicPr/>
          <p:nvPr/>
        </p:nvPicPr>
        <p:blipFill>
          <a:blip r:embed="rId1"/>
          <a:stretch/>
        </p:blipFill>
        <p:spPr>
          <a:xfrm>
            <a:off x="1371600" y="2179800"/>
            <a:ext cx="6248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b10_05_06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b10_05_08"/>
          <p:cNvPicPr/>
          <p:nvPr/>
        </p:nvPicPr>
        <p:blipFill>
          <a:blip r:embed="rId3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b10_05_01"/>
          <p:cNvPicPr/>
          <p:nvPr/>
        </p:nvPicPr>
        <p:blipFill>
          <a:blip r:embed="rId4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f4eef2ee1(55)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0041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2e0e4eeefe0e4~0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аждой цветности соответствует своя длина и частота волн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2133720"/>
          <a:ext cx="8686800" cy="40147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3080"/>
                <a:gridCol w="1238400"/>
                <a:gridCol w="1243080"/>
                <a:gridCol w="1239840"/>
                <a:gridCol w="12412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53"/>
          <p:cNvSpPr/>
          <p:nvPr/>
        </p:nvSpPr>
        <p:spPr>
          <a:xfrm>
            <a:off x="228600" y="76212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онохроматический све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– одноцветный с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2040101"/>
          <p:cNvPicPr/>
          <p:nvPr/>
        </p:nvPicPr>
        <p:blipFill>
          <a:blip r:embed="rId1"/>
          <a:stretch/>
        </p:blipFill>
        <p:spPr>
          <a:xfrm>
            <a:off x="533520" y="841320"/>
            <a:ext cx="81532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{CC7D31B8-2436-4C20-B59F-F532F0280E80}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80880"/>
            <a:ext cx="8915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должите определ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Световой луч - линия, указывающая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Затмения бывают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Луч падающий и отражённый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Угол отражения равен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менение направления распространения света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сперсия – явление разложения белого света в спек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елый свет – сложный, состоит из монохроматически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реды зависит от цвета света (фиол., красн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вета в среде зависит от его част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Томас Ю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81120" y="609480"/>
            <a:ext cx="3429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 Black"/>
              </a:rPr>
              <a:t>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lack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99ff"/>
                </a:solidFill>
                <a:latin typeface="Arial Black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 Black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Бел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18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young"/>
          <p:cNvPicPr/>
          <p:nvPr/>
        </p:nvPicPr>
        <p:blipFill>
          <a:blip r:embed="rId1"/>
          <a:stretch/>
        </p:blipFill>
        <p:spPr>
          <a:xfrm>
            <a:off x="533520" y="1828800"/>
            <a:ext cx="3735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GB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sn_tsveta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680" y="3200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словия возникновения радуги:</a:t>
            </a:r>
            <a:br>
              <a:rPr sz="20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1.Радуга появляется, только когда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выглянуло из-за туч солнце и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только в стороне, противоположной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солнцу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2.Радуга возникает, когда солнце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освещает завесу дождя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3.Радуга появляется при условии, что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угловая высота солнца над  горизонтом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не превышает 42 граду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лучи лесов зелен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болотные кувш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а земле когда увяну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асцветают снова в н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A0TD5PM"/>
          <p:cNvPicPr/>
          <p:nvPr/>
        </p:nvPicPr>
        <p:blipFill>
          <a:blip r:embed="rId1"/>
          <a:stretch/>
        </p:blipFill>
        <p:spPr>
          <a:xfrm>
            <a:off x="5867280" y="914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44"/>
          <p:cNvPicPr/>
          <p:nvPr/>
        </p:nvPicPr>
        <p:blipFill>
          <a:blip r:embed="rId2"/>
          <a:stretch/>
        </p:blipFill>
        <p:spPr>
          <a:xfrm>
            <a:off x="533520" y="3200400"/>
            <a:ext cx="241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1722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водяной капле происходят следующие оптическ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яв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9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5257800" cy="3884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5867280" y="220968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еломление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исперсия света, т.е. разложение белого света в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траж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CAQJWLYN"/>
          <p:cNvPicPr/>
          <p:nvPr/>
        </p:nvPicPr>
        <p:blipFill>
          <a:blip r:embed="rId1"/>
          <a:stretch/>
        </p:blipFill>
        <p:spPr>
          <a:xfrm>
            <a:off x="685800" y="649440"/>
            <a:ext cx="3581280" cy="265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AS6IV4Q"/>
          <p:cNvPicPr/>
          <p:nvPr/>
        </p:nvPicPr>
        <p:blipFill>
          <a:blip r:embed="rId2"/>
          <a:stretch/>
        </p:blipFill>
        <p:spPr>
          <a:xfrm>
            <a:off x="685800" y="3773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A88XL9F"/>
          <p:cNvPicPr/>
          <p:nvPr/>
        </p:nvPicPr>
        <p:blipFill>
          <a:blip r:embed="rId3"/>
          <a:stretch/>
        </p:blipFill>
        <p:spPr>
          <a:xfrm>
            <a:off x="4952880" y="685800"/>
            <a:ext cx="34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00600" y="1752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Г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CALSSVDP"/>
          <p:cNvPicPr/>
          <p:nvPr/>
        </p:nvPicPr>
        <p:blipFill>
          <a:blip r:embed="rId1"/>
          <a:stretch/>
        </p:blipFill>
        <p:spPr>
          <a:xfrm>
            <a:off x="609480" y="8380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алдо2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ало6"/>
          <p:cNvPicPr/>
          <p:nvPr/>
        </p:nvPicPr>
        <p:blipFill>
          <a:blip r:embed="rId3"/>
          <a:stretch/>
        </p:blipFill>
        <p:spPr>
          <a:xfrm>
            <a:off x="4800600" y="35812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7960" y="1599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Цвет непрозрач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AK5HUVO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ACP0FGZ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P1060037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8483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3e20"/>
                </a:solidFill>
                <a:latin typeface="Arial Black"/>
              </a:rPr>
              <a:t>Цель урока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формировать понятие диспер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уметь объяснять явления, связ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 разложением света, применять п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ученные знания в повседнев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вивать логическое мышление, ко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уникативны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8088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Наш город через зеленые 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ктральны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mp1b10_05_01_c"/>
          <p:cNvPicPr/>
          <p:nvPr/>
        </p:nvPicPr>
        <p:blipFill>
          <a:blip r:embed="rId1"/>
          <a:stretch/>
        </p:blipFill>
        <p:spPr>
          <a:xfrm>
            <a:off x="914400" y="2057400"/>
            <a:ext cx="2867040" cy="396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mp1b10_05_02_c"/>
          <p:cNvPicPr/>
          <p:nvPr/>
        </p:nvPicPr>
        <p:blipFill>
          <a:blip r:embed="rId2"/>
          <a:stretch/>
        </p:blipFill>
        <p:spPr>
          <a:xfrm>
            <a:off x="5257800" y="2057400"/>
            <a:ext cx="287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каким физическим явлением м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Что нового Вы узнали на этом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Объясните понятие «дисперс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Что не может быть в легенд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Какие тела разлагают све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 Считаете ли Вы эту тему важной, где её применяют в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. Достигли ли мы цели у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.Вы готовы к дальнейшему диалогу и сотрудничеству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§25 учебника «Физи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стно отвеча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пр.1,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4, «Физика и техника в Украине» -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99ff"/>
                </a:solidFill>
                <a:latin typeface="Arial Black"/>
              </a:rPr>
              <a:t>dispersio</a:t>
            </a:r>
            <a:r>
              <a:rPr b="1" lang="ru-RU" sz="3600" spc="-1" strike="noStrike">
                <a:solidFill>
                  <a:srgbClr val="ff99ff"/>
                </a:solidFill>
                <a:latin typeface="Arial Black"/>
              </a:rPr>
              <a:t> (лат.) – рассеяние, разве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ewton"/>
          <p:cNvPicPr/>
          <p:nvPr/>
        </p:nvPicPr>
        <p:blipFill>
          <a:blip r:embed="rId1"/>
          <a:stretch/>
        </p:blipFill>
        <p:spPr>
          <a:xfrm>
            <a:off x="800280" y="21337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419720" y="2818800"/>
            <a:ext cx="4495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Диспер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 Black"/>
              </a:rPr>
              <a:t>1666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tru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лат.) -  вúд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2040101"/>
          <p:cNvPicPr/>
          <p:nvPr/>
        </p:nvPicPr>
        <p:blipFill>
          <a:blip r:embed="rId1"/>
          <a:stretch/>
        </p:blipFill>
        <p:spPr>
          <a:xfrm>
            <a:off x="1523880" y="2293920"/>
            <a:ext cx="6096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Газета «Нью –Йорк  Таймс»: Роберт Криз (сотрудник философского факультета университета Нью-Йорка) и Стони Брук (историк Брукхевенской Национальной Лаборатории) – опрос среди американских физиков, чтобы определить 10 красивейших экспериментов за всю историю этой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ism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енко</cp:lastModifiedBy>
  <dcterms:modified xsi:type="dcterms:W3CDTF">2011-03-10T04:52:54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3000000000001024140</vt:lpwstr>
  </property>
  <property fmtid="{D5CDD505-2E9C-101B-9397-08002B2CF9AE}" pid="3" name="Version">
    <vt:r8>1</vt:r8>
  </property>
</Properties>
</file>