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2E5-2D63-4F07-A7FE-C3EBAEF66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FA20-006A-48D2-AE0D-06E4D8E9E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134A-5BEC-44A4-AE6B-9DEC71883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608B-6821-46B7-9DAB-0C0101DC4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2A1C-53EF-4C5A-8B6F-2A4DD4920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788D-6CCB-49F7-A20A-78C79E51C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912-9DAD-4082-89C6-8BDC3C2DD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BC4-613D-40C9-854F-A008CDEDF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AD4-EEB6-4F04-BF62-245884A19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7DFB-A479-4AE2-9042-8D3D5872C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9E25-8AC5-4302-B697-90F19EBFB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330C-A4DF-46D1-B59C-18625C0C9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7D9A-F74B-4EA2-AC61-3C02E3E40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7D8-EE64-42D5-B6F2-720255C7E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6C0-365D-4A32-9AE5-664DF6795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D4BB-0304-4CB7-B2F2-790A926E6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CC9F-F967-40D9-9D01-CFF4E831B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756A-F417-4A11-80E6-4485CAFFE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C9F-9AE6-40DE-93FC-BA5100970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3D2B-6EB9-4A2D-9D38-D5845F1EA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2159-7DD6-4874-A1D6-53960EB50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F0E-7306-4BCB-9AE8-4946B3B41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EB2-19CE-4923-8E9C-1E2F241DE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F7C6-7F74-4862-808A-AC0763F9A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C7D-18D9-4185-8961-1A2AC0BF4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216-43D1-41C6-88E2-C59549D3A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816-F371-4791-988A-3B30AB4F7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F8C-C07E-4297-8119-227B22A73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989-6FA3-4E4A-977A-1FF9A0A2C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49F-51D9-480E-82C8-3ED6A4804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B1F-75E3-455C-9317-AE6F4E53E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EBA-381B-4586-86CF-689866630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3CB-B6B9-4466-8635-019719684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3E4-B266-4225-8DE5-03AC70371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A388-F368-4554-88AF-E1F3B5CBA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E05E-0EB4-423C-B9F5-0ECC325A0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E10-58E7-4349-ADFD-36E2999B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E7B-EF42-46E6-A253-3F7D1617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D8F-5C8C-44CE-A327-060887D4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B11-E8D3-48D9-A8F0-AD5A6662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0F8-8381-4161-A211-70F49ACB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31E-6887-4CE2-A3D8-66AA131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6F6-D3C4-47B3-8F25-C7F2520B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61B-DCF3-4A2F-8E2F-2AD71269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963-4112-4B70-955A-6817FFAF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670-28EF-41F1-AC4D-E9BAA11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CA6-359D-4246-B569-2B3A7238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066-495E-46F8-9F15-FEF307B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9F9A-536F-4556-A676-3C49ACB9A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04920"/>
            <a:ext cx="566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 "Дисперс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752480"/>
            <a:ext cx="73915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пы уро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Организационный момен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Актуализация опорных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Эвристическая бесед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Мотиваци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учение нового материа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Закреп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Систематизация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Ито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newton"/>
          <p:cNvPicPr/>
          <p:nvPr/>
        </p:nvPicPr>
        <p:blipFill>
          <a:blip r:embed="rId1"/>
          <a:stretch/>
        </p:blipFill>
        <p:spPr>
          <a:xfrm>
            <a:off x="1752480" y="16765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newton1"/>
          <p:cNvPicPr/>
          <p:nvPr/>
        </p:nvPicPr>
        <p:blipFill>
          <a:blip r:embed="rId2"/>
          <a:stretch/>
        </p:blipFill>
        <p:spPr>
          <a:xfrm>
            <a:off x="5715000" y="914400"/>
            <a:ext cx="2921040" cy="350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28600" y="4570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д его могилой высится памятник с бюстом и эпитафией «Здесь покоится сэр Исаак Ньютон, дворянин… Он исследовал различие световых лучей и проявляющиеся при этом различные свойства цветов, чего ранее никто не подозревал ... Пусть смертные радуются, что существует такое украшение рода человеческ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gete"/>
          <p:cNvPicPr/>
          <p:nvPr/>
        </p:nvPicPr>
        <p:blipFill>
          <a:blip r:embed="rId1"/>
          <a:srcRect l="0" t="0" r="195" b="160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2040101"/>
          <p:cNvPicPr/>
          <p:nvPr/>
        </p:nvPicPr>
        <p:blipFill>
          <a:blip r:embed="rId1"/>
          <a:stretch/>
        </p:blipFill>
        <p:spPr>
          <a:xfrm>
            <a:off x="1371600" y="2179800"/>
            <a:ext cx="6248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b10_05_06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b10_05_08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b10_05_01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f4eef2ee1(55)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041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2e0e4eeefe0e4~0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2040101"/>
          <p:cNvPicPr/>
          <p:nvPr/>
        </p:nvPicPr>
        <p:blipFill>
          <a:blip r:embed="rId1"/>
          <a:stretch/>
        </p:blipFill>
        <p:spPr>
          <a:xfrm>
            <a:off x="533520" y="841320"/>
            <a:ext cx="81532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915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жите определ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ветовой луч - линия, указывающая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Затмения бывают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Луч падающий и отражённый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гол отражения равен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менение направления распространения света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9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5257800" cy="3884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7960" y="1599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Цвет непрозрач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AK5HUVO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ACP0FGZ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P1060037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3e20"/>
                </a:solidFill>
                <a:latin typeface="Arial Black"/>
              </a:rPr>
              <a:t>Цель урока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формировать понятие диспер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уметь объяснять явления, связ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разложением света, применять п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ученные знания в повседнев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вивать логическое мышление, ко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уникативны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8088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Наш город через зеленые 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каким физическим явлением м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Что нового Вы узнали на этом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Объясните понятие «дисперс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Что не может быть в легенд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Какие тела разлагают све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 Считаете ли Вы эту тему важной, где её применяют в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 Достигли ли мы цели у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.Вы готовы к дальнейшему диалогу и сотрудничеству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§25 учебника «Физ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стно отвеча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пр.1,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4, «Физика и техника в Украине» -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ewton"/>
          <p:cNvPicPr/>
          <p:nvPr/>
        </p:nvPicPr>
        <p:blipFill>
          <a:blip r:embed="rId1"/>
          <a:stretch/>
        </p:blipFill>
        <p:spPr>
          <a:xfrm>
            <a:off x="800280" y="21337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419720" y="2818800"/>
            <a:ext cx="4495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Диспер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1666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енко</cp:lastModifiedBy>
  <dcterms:modified xsi:type="dcterms:W3CDTF">2011-03-10T04:52:5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3000000000001024140</vt:lpwstr>
  </property>
  <property fmtid="{D5CDD505-2E9C-101B-9397-08002B2CF9AE}" pid="3" name="Version">
    <vt:r8>1</vt:r8>
  </property>
</Properties>
</file>