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DDB8-7C08-45B5-9334-80368855F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F98-2699-4BBB-8E02-DDE0D8A53E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C5C-CC2A-4CD1-A42C-874713F7E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B179-E9D7-4499-A938-7E1D13D08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D19F-61A5-4AA0-A9DD-38C1CDA2F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CCC-7FD7-4CCD-B108-2CC1C7634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D705-3112-4C34-8035-BE7C255737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9043-563E-4B8B-A3BF-55E5B0D8D3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355-EAEA-4FA7-9F7E-7DC5DB34C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AF77-0C0E-4B44-A435-25A071AA4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EBA9-44BF-4BC9-9E6F-9CC529D5B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A3E2-1791-4671-A2BA-C06CA302C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666A-B428-49E4-911E-BEE3E00BBA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59E-4AA1-41FE-913A-16D633C2B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6A0A-8802-4E3E-8738-E129581DE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1B96-63C8-4A8B-BAF1-7DFB28315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ABB5-88D7-41BD-8446-56712F605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5DC-F122-4FF8-920B-70D3BDB33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5DB4-6D52-4C6E-886A-CDBEA4BA4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5F8-0AD8-4E7B-909F-005E4B6AE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71AC-FADA-46D0-B803-A870880F6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F85-77CB-4B08-90C7-70266A71CB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A7B5-CB38-4808-949F-80BB941BE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256A-07EE-4A9E-BA30-0A59A5F8F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AED-C150-4C40-BAE6-2B3A5EBC9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B79F-DD40-4C28-B607-62E26B6B3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490F-3BDC-45B9-9C55-0B7F850F3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668A-BAAB-4FFF-9C5C-D5465A24B3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D58E-0519-4B31-942E-D0879655D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7738-7FE0-4A3C-851C-58A8DF825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0EEA-0801-4A4A-8CD3-466366375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E2C-4728-4A26-B9D4-1B8E5938C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BAA-83BE-4EA3-8858-C39199083D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B383-C9B7-4CEC-A521-22E77D1E99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336C-91A4-4C4F-BB66-70570F361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A8E8-71BA-434B-B478-8F2CD2056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F02-3DAD-4600-BEA9-125E5786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CA7-13AE-4898-A8AC-7DFD53FF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B34-3905-45F2-9DC5-E91DDF8E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EE0-8879-4D31-BD9A-1B581CAD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24A-F30C-44D0-8E86-58943C3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40C-02C8-436D-ABA8-2788771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C02-FBD2-41EB-864B-53EBAB48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343-A93A-4967-8527-3DA83418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9FC-BC79-404F-97CB-B4726248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417-F390-4B73-95C6-77F360DC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033-BCA6-4D85-8618-9220948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320-F0E5-4C4F-8249-F027539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934E-8DD7-4FB3-BB52-F9E65F3E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04920"/>
            <a:ext cx="566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 "Дисперс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752480"/>
            <a:ext cx="73915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пы уро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Организационный момен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Актуализация опорных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Эвристическая бесед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Мотиваци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учение нового материа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Закреп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Систематизация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Ито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newton"/>
          <p:cNvPicPr/>
          <p:nvPr/>
        </p:nvPicPr>
        <p:blipFill>
          <a:blip r:embed="rId1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newton1"/>
          <p:cNvPicPr/>
          <p:nvPr/>
        </p:nvPicPr>
        <p:blipFill>
          <a:blip r:embed="rId2"/>
          <a:stretch/>
        </p:blipFill>
        <p:spPr>
          <a:xfrm>
            <a:off x="5715000" y="914400"/>
            <a:ext cx="2921040" cy="35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28600" y="4570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д его могилой высится памятник с бюстом и эпитафией «Здесь покоится сэр Исаак Ньютон, дворянин… Он исследовал различие световых лучей и проявляющиеся при этом различные свойства цветов, чего ранее никто не подозревал ... Пусть смертные радуются, что существует такое украшение рода человеческ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gete"/>
          <p:cNvPicPr/>
          <p:nvPr/>
        </p:nvPicPr>
        <p:blipFill>
          <a:blip r:embed="rId1"/>
          <a:srcRect l="0" t="0" r="195" b="160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2040101"/>
          <p:cNvPicPr/>
          <p:nvPr/>
        </p:nvPicPr>
        <p:blipFill>
          <a:blip r:embed="rId1"/>
          <a:stretch/>
        </p:blipFill>
        <p:spPr>
          <a:xfrm>
            <a:off x="1371600" y="2179800"/>
            <a:ext cx="6248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b10_05_06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b10_05_08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b10_05_01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4eef2ee1(55)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41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2e0e4eeefe0e4~0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2040101"/>
          <p:cNvPicPr/>
          <p:nvPr/>
        </p:nvPicPr>
        <p:blipFill>
          <a:blip r:embed="rId1"/>
          <a:stretch/>
        </p:blipFill>
        <p:spPr>
          <a:xfrm>
            <a:off x="533520" y="841320"/>
            <a:ext cx="81532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915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жите определ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ветовой луч - линия, указывающая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Затмения бывают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Луч падающий и отражённый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гол отражения равен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менение направления распространения света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257800" cy="388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7960" y="1599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Цвет непрозрач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AK5HUVO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ACP0FGZ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1060037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3e20"/>
                </a:solidFill>
                <a:latin typeface="Arial Black"/>
              </a:rPr>
              <a:t>Цель урок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онятие диспер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уметь объяснять явления, связ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разложением света, применять п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ученные знания в повседнев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логическое мышление, 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уникативны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Наш город через зеленые 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каким физическим явлением м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Что нового Вы узнали на этом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Объясните понятие «дисперс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Что не может быть в легенд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Какие тела разлагают св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 Считаете ли Вы эту тему важной, где её применяют в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 Достигли ли мы цели у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.Вы готовы к дальнейшему диалогу и сотрудничеству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§25 учебника «Физ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стно отвеча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пр.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4, «Физика и техника в Украине» -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wton"/>
          <p:cNvPicPr/>
          <p:nvPr/>
        </p:nvPicPr>
        <p:blipFill>
          <a:blip r:embed="rId1"/>
          <a:stretch/>
        </p:blipFill>
        <p:spPr>
          <a:xfrm>
            <a:off x="800280" y="21337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419720" y="2818800"/>
            <a:ext cx="449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Дисп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1666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енко</cp:lastModifiedBy>
  <dcterms:modified xsi:type="dcterms:W3CDTF">2011-03-10T04:52:5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3000000000001024140</vt:lpwstr>
  </property>
  <property fmtid="{D5CDD505-2E9C-101B-9397-08002B2CF9AE}" pid="3" name="Version">
    <vt:r8>1</vt:r8>
  </property>
</Properties>
</file>