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064-DE78-4486-BCC0-482F1E4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0CE-6F4F-400A-93F5-F3701D4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62D-E58E-4145-975E-FE189439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B3D-02C3-44B5-BE16-3549EF22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5C82-F5F8-4DF5-894E-93209EB0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06F-8311-4BE6-AA3F-E6D29882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0D01-B3FA-423D-8CBE-81F238F7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A91F-C2DC-46D2-860F-6ECAC72E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C1D-AD49-4F05-96FF-E2580EC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F48-92CF-474A-8C9F-65EA899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B338-D641-4CEB-A0B7-B90FD3C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8B5-2E5D-406C-8981-B6A22C39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831A-61A0-403C-B9F9-F4C990B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50C7-D15F-40C1-B149-B7A2F59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5CA-1A80-4B8E-9549-086CF3C0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32A-23AA-4FEB-92C6-E701CEA5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C09F-542C-4875-BD7B-1F82236E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FFE-1D2F-4830-B69B-23BF94B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A56-9213-4768-A5F4-FA6FBC22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CCF-08E8-4D51-B5A0-C9FE259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C49-A41A-42DD-8956-6B499DC1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36B-56E3-483B-B723-9C408F5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DD0-1A01-4078-A866-A2B6C8D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814-BB63-4A20-AFBE-5ECE7F5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7308-26C1-4CF7-9BC2-C2D777908E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544-E367-40FC-AADD-109ACC8A07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бу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31920" y="1719360"/>
            <a:ext cx="66801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Monotype Corsiva"/>
              </a:rPr>
              <a:t>Формула тонкой линзы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  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асстояние от предмета до линзы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сстояние от линзы до изображения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усное расстояние лин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030320" y="1952640"/>
                <a:ext cx="3855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4000" y="1916280"/>
                <a:ext cx="487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311640" y="1879560"/>
                <a:ext cx="523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я о близорукости и дальнозор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инза собирающая         рассеивающ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2782080"/>
            <a:ext cx="2743200" cy="1701000"/>
            <a:chOff x="611280" y="2782080"/>
            <a:chExt cx="2743200" cy="1701000"/>
          </a:xfrm>
        </p:grpSpPr>
        <p:sp>
          <p:nvSpPr>
            <p:cNvPr id="152" name=""/>
            <p:cNvSpPr/>
            <p:nvPr/>
          </p:nvSpPr>
          <p:spPr>
            <a:xfrm>
              <a:off x="611280" y="3566520"/>
              <a:ext cx="17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280" y="31737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39589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11200" y="3043080"/>
              <a:ext cx="720" cy="10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2520" y="3436560"/>
              <a:ext cx="72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11200" y="3174840"/>
              <a:ext cx="194328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11200" y="2782080"/>
              <a:ext cx="160056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11200" y="304272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1200" y="356652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72000" y="2565000"/>
            <a:ext cx="2172960" cy="1600560"/>
            <a:chOff x="4572000" y="2565000"/>
            <a:chExt cx="2172960" cy="1600560"/>
          </a:xfrm>
        </p:grpSpPr>
        <p:sp>
          <p:nvSpPr>
            <p:cNvPr id="162" name=""/>
            <p:cNvSpPr/>
            <p:nvPr/>
          </p:nvSpPr>
          <p:spPr>
            <a:xfrm>
              <a:off x="5715360" y="3136320"/>
              <a:ext cx="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18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6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25116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405072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960" y="3251160"/>
              <a:ext cx="91404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800960" y="3364200"/>
              <a:ext cx="914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715360" y="2565000"/>
              <a:ext cx="1029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643280" y="3573000"/>
            <a:ext cx="2665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076640"/>
            <a:ext cx="1368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24360" y="2997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79640" y="3068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422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линз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0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56240" y="1719360"/>
            <a:ext cx="4030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427640" y="1700280"/>
            <a:ext cx="288720" cy="1946160"/>
            <a:chOff x="4427640" y="1700280"/>
            <a:chExt cx="288720" cy="1946160"/>
          </a:xfrm>
        </p:grpSpPr>
        <p:sp>
          <p:nvSpPr>
            <p:cNvPr id="180" name=""/>
            <p:cNvSpPr/>
            <p:nvPr/>
          </p:nvSpPr>
          <p:spPr>
            <a:xfrm>
              <a:off x="4571280" y="1700280"/>
              <a:ext cx="1450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427640" y="1700280"/>
              <a:ext cx="1468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1700280"/>
              <a:ext cx="2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36464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Построение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изображений в линзах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за двойным фокусом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628280"/>
            <a:ext cx="7386480" cy="3125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138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действительное, перевернутое, умень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99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22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4836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4000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2349360"/>
            <a:ext cx="489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2349360"/>
            <a:ext cx="194472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двойном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20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20992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24000" y="2205000"/>
            <a:ext cx="4000680" cy="1601280"/>
            <a:chOff x="2124000" y="2205000"/>
            <a:chExt cx="4000680" cy="1601280"/>
          </a:xfrm>
        </p:grpSpPr>
        <p:sp>
          <p:nvSpPr>
            <p:cNvPr id="206" name=""/>
            <p:cNvSpPr/>
            <p:nvPr/>
          </p:nvSpPr>
          <p:spPr>
            <a:xfrm>
              <a:off x="2124000" y="27766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38680" y="22050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695320" y="22050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1200" y="2205000"/>
              <a:ext cx="125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95320" y="2205000"/>
              <a:ext cx="331488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67000" y="26614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95320" y="26614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1680" y="266184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8680" y="2205000"/>
              <a:ext cx="1485720" cy="13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0720" y="2661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38680" y="22050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868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Monotype Corsiva"/>
              </a:rPr>
              <a:t>Предмет между фокусом и двойным фокусо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7386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8000" y="2174400"/>
            <a:ext cx="4000680" cy="2059200"/>
            <a:chOff x="1908000" y="2174400"/>
            <a:chExt cx="4000680" cy="2059200"/>
          </a:xfrm>
        </p:grpSpPr>
        <p:sp>
          <p:nvSpPr>
            <p:cNvPr id="223" name=""/>
            <p:cNvSpPr/>
            <p:nvPr/>
          </p:nvSpPr>
          <p:spPr>
            <a:xfrm>
              <a:off x="1908000" y="274644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22680" y="21744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79320" y="21744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51000" y="263196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365200" y="263196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3640" y="263232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520" y="263232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9320" y="217440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22680" y="2174400"/>
              <a:ext cx="2057760" cy="20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79320" y="2174400"/>
              <a:ext cx="320076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766400" y="2745720"/>
              <a:ext cx="7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22680" y="21744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2680" y="274644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2997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5013360"/>
            <a:ext cx="738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ображение отсутству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03280" y="2174040"/>
            <a:ext cx="4000680" cy="2057760"/>
            <a:chOff x="1403280" y="2174040"/>
            <a:chExt cx="4000680" cy="2057760"/>
          </a:xfrm>
        </p:grpSpPr>
        <p:sp>
          <p:nvSpPr>
            <p:cNvPr id="240" name=""/>
            <p:cNvSpPr/>
            <p:nvPr/>
          </p:nvSpPr>
          <p:spPr>
            <a:xfrm>
              <a:off x="1403280" y="27460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117960" y="217440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546280" y="217404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46280" y="263160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974600" y="263160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892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6096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46280" y="217440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7960" y="2174400"/>
              <a:ext cx="20577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46280" y="217440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117960" y="21740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17960" y="27460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между фокусом и линзой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3066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7386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640" y="2060280"/>
            <a:ext cx="3999240" cy="2514960"/>
            <a:chOff x="1763640" y="2060280"/>
            <a:chExt cx="3999240" cy="2514960"/>
          </a:xfrm>
        </p:grpSpPr>
        <p:sp>
          <p:nvSpPr>
            <p:cNvPr id="256" name=""/>
            <p:cNvSpPr/>
            <p:nvPr/>
          </p:nvSpPr>
          <p:spPr>
            <a:xfrm>
              <a:off x="1763640" y="3089160"/>
              <a:ext cx="39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77600" y="251748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34520" y="251712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906280" y="29746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334960" y="29746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820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988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34520" y="251748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7600" y="2517480"/>
              <a:ext cx="205668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4520" y="2517480"/>
              <a:ext cx="125676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4520" y="2517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06280" y="2060280"/>
              <a:ext cx="22824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905920" y="20602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906280" y="206028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77600" y="2517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7600" y="30891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7:04Z</dcterms:created>
  <dc:creator>user</dc:creator>
  <dc:description/>
  <dc:language>en-US</dc:language>
  <cp:lastModifiedBy>Admin</cp:lastModifiedBy>
  <dcterms:modified xsi:type="dcterms:W3CDTF">2002-01-29T08:43:30Z</dcterms:modified>
  <cp:revision>11</cp:revision>
  <dc:subject/>
  <dc:title>«Линза.  Построение изображений в линзе.  Формула тонкой линзы».</dc:title>
</cp:coreProperties>
</file>