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EFB-7088-4572-A0FD-2631D376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194-4AA2-40AF-94BB-713DDE13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A63-F991-493E-B579-D443DC3C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868-5550-43D7-B98D-8BD80867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A780-DA15-4466-B10B-4CE183F6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CE91-CCE5-4E14-BF8A-4A2A7A37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8C51-DDB2-43F4-954A-1CC0B1EC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836F-1976-4D19-B967-EB033419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ADD5-A8F3-414D-BA41-6BDC0E46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D656-B665-4E26-8C63-03B8E56A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029A-CBF6-4324-8F17-31C35843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137-A78F-4634-B4BD-E4A7ADA5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169A-BC63-42BF-A26E-14F0C2F8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0080-A36B-4F03-AC1D-ABB8C7AD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A1AA-215C-4B4F-8DC2-78DF9069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4F78-9FB1-4407-AF05-A4563364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28D9-771D-4EFE-904F-2B9B41A3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5CE-3A71-4566-B616-FF6A5D89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0C0-C031-4808-9E9B-70C10213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3F2-834D-4E65-993E-D70C2B17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C41-EF44-4072-8E79-340BDFA2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A0A-EDF9-470D-A553-BE618FF0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C7D-5E1F-47C6-BE30-4BA78A76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D26-E118-4014-A01F-91B13999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8611-56DA-4D70-AFEE-708D516A36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5BD2-90B8-43D1-AA8A-DEA67FEBDD3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бу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31920" y="1719360"/>
            <a:ext cx="66801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Monotype Corsiva"/>
              </a:rPr>
              <a:t>Формула тонкой линзы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     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асстояние от предмета до линзы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сстояние от линзы до изображения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кусное расстояние лин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030320" y="1952640"/>
                <a:ext cx="3855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394000" y="1916280"/>
                <a:ext cx="4874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311640" y="1879560"/>
                <a:ext cx="5238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бу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оссвор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общения о близорукости и дальнозорк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Линза собирающая         рассеивающа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11280" y="2782080"/>
            <a:ext cx="2743200" cy="1701000"/>
            <a:chOff x="611280" y="2782080"/>
            <a:chExt cx="2743200" cy="1701000"/>
          </a:xfrm>
        </p:grpSpPr>
        <p:sp>
          <p:nvSpPr>
            <p:cNvPr id="152" name=""/>
            <p:cNvSpPr/>
            <p:nvPr/>
          </p:nvSpPr>
          <p:spPr>
            <a:xfrm>
              <a:off x="611280" y="3566520"/>
              <a:ext cx="171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1280" y="317376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1280" y="39589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11200" y="3043080"/>
              <a:ext cx="720" cy="10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2520" y="3436560"/>
              <a:ext cx="72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11200" y="3174840"/>
              <a:ext cx="194328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411200" y="2782080"/>
              <a:ext cx="1600560" cy="11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411200" y="3042720"/>
              <a:ext cx="0" cy="52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11200" y="3566520"/>
              <a:ext cx="0" cy="3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572000" y="2565000"/>
            <a:ext cx="2172960" cy="1600560"/>
            <a:chOff x="4572000" y="2565000"/>
            <a:chExt cx="2172960" cy="1600560"/>
          </a:xfrm>
        </p:grpSpPr>
        <p:sp>
          <p:nvSpPr>
            <p:cNvPr id="162" name=""/>
            <p:cNvSpPr/>
            <p:nvPr/>
          </p:nvSpPr>
          <p:spPr>
            <a:xfrm>
              <a:off x="5715360" y="3136320"/>
              <a:ext cx="0" cy="10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1880" y="34797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3680" y="34797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251160"/>
              <a:ext cx="11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4050720"/>
              <a:ext cx="11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800960" y="3251160"/>
              <a:ext cx="914040" cy="571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800960" y="3364200"/>
              <a:ext cx="9140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715360" y="2565000"/>
              <a:ext cx="1029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V="1">
            <a:off x="4643280" y="3573000"/>
            <a:ext cx="26654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4076640"/>
            <a:ext cx="1368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724360" y="2997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579640" y="3068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579640" y="4221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422100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линз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05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56240" y="1719360"/>
            <a:ext cx="403056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4427640" y="1700280"/>
            <a:ext cx="288720" cy="1946160"/>
            <a:chOff x="4427640" y="1700280"/>
            <a:chExt cx="288720" cy="1946160"/>
          </a:xfrm>
        </p:grpSpPr>
        <p:sp>
          <p:nvSpPr>
            <p:cNvPr id="180" name=""/>
            <p:cNvSpPr/>
            <p:nvPr/>
          </p:nvSpPr>
          <p:spPr>
            <a:xfrm>
              <a:off x="4571280" y="1700280"/>
              <a:ext cx="145080" cy="194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4427640" y="1700280"/>
              <a:ext cx="146880" cy="194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7640" y="1700280"/>
              <a:ext cx="28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7640" y="36464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Monotype Corsiva"/>
              </a:rPr>
              <a:t>Построение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Monotype Corsiva"/>
              </a:rPr>
              <a:t>изображений в линзах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за двойным фокусом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628280"/>
            <a:ext cx="7386480" cy="3125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5138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бражение действительное, перевернутое, уменьш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997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220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4836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34000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2349360"/>
            <a:ext cx="489600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349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2349360"/>
            <a:ext cx="194472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в двойном фокус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3209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20992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тельное, перевернутое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но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124000" y="2205000"/>
            <a:ext cx="4000680" cy="1601280"/>
            <a:chOff x="2124000" y="2205000"/>
            <a:chExt cx="4000680" cy="1601280"/>
          </a:xfrm>
        </p:grpSpPr>
        <p:sp>
          <p:nvSpPr>
            <p:cNvPr id="206" name=""/>
            <p:cNvSpPr/>
            <p:nvPr/>
          </p:nvSpPr>
          <p:spPr>
            <a:xfrm>
              <a:off x="2124000" y="277668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38680" y="2205000"/>
              <a:ext cx="72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695320" y="2205000"/>
              <a:ext cx="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1200" y="2205000"/>
              <a:ext cx="1257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95320" y="2205000"/>
              <a:ext cx="3314880" cy="16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267000" y="266148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695320" y="266148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81680" y="266184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9652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38680" y="2205000"/>
              <a:ext cx="1485720" cy="13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10720" y="2661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838680" y="22050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3868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652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Monotype Corsiva"/>
              </a:rPr>
              <a:t>Предмет между фокусом и двойным фокусом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5373720"/>
            <a:ext cx="738648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йствительное, перевернутое, увеличенно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08000" y="2174400"/>
            <a:ext cx="4000680" cy="2059200"/>
            <a:chOff x="1908000" y="2174400"/>
            <a:chExt cx="4000680" cy="2059200"/>
          </a:xfrm>
        </p:grpSpPr>
        <p:sp>
          <p:nvSpPr>
            <p:cNvPr id="223" name=""/>
            <p:cNvSpPr/>
            <p:nvPr/>
          </p:nvSpPr>
          <p:spPr>
            <a:xfrm>
              <a:off x="1908000" y="274644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622680" y="2174400"/>
              <a:ext cx="72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479320" y="2174400"/>
              <a:ext cx="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051000" y="263196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365200" y="263196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3640" y="263232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80520" y="263232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79320" y="2174400"/>
              <a:ext cx="1143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22680" y="2174400"/>
              <a:ext cx="2057760" cy="20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79320" y="2174400"/>
              <a:ext cx="3200760" cy="16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766400" y="2745720"/>
              <a:ext cx="7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622680" y="21744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22680" y="274644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в фокус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719000"/>
            <a:ext cx="8229600" cy="2997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5013360"/>
            <a:ext cx="738684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ображение отсутству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403280" y="2174040"/>
            <a:ext cx="4000680" cy="2057760"/>
            <a:chOff x="1403280" y="2174040"/>
            <a:chExt cx="4000680" cy="2057760"/>
          </a:xfrm>
        </p:grpSpPr>
        <p:sp>
          <p:nvSpPr>
            <p:cNvPr id="240" name=""/>
            <p:cNvSpPr/>
            <p:nvPr/>
          </p:nvSpPr>
          <p:spPr>
            <a:xfrm>
              <a:off x="1403280" y="274608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117960" y="2174400"/>
              <a:ext cx="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546280" y="2174040"/>
              <a:ext cx="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46280" y="263160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974600" y="263160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88920" y="26319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60960" y="26319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46280" y="2174400"/>
              <a:ext cx="571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17960" y="2174400"/>
              <a:ext cx="205776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46280" y="2174400"/>
              <a:ext cx="20574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117960" y="21740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17960" y="27460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между фокусом и линзой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719000"/>
            <a:ext cx="8229600" cy="30668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5229000"/>
            <a:ext cx="73864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имое, прямое, увеличен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763640" y="2060280"/>
            <a:ext cx="3999240" cy="2514960"/>
            <a:chOff x="1763640" y="2060280"/>
            <a:chExt cx="3999240" cy="2514960"/>
          </a:xfrm>
        </p:grpSpPr>
        <p:sp>
          <p:nvSpPr>
            <p:cNvPr id="256" name=""/>
            <p:cNvSpPr/>
            <p:nvPr/>
          </p:nvSpPr>
          <p:spPr>
            <a:xfrm>
              <a:off x="1763640" y="3089160"/>
              <a:ext cx="39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477600" y="2517480"/>
              <a:ext cx="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134520" y="2517120"/>
              <a:ext cx="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906280" y="297468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334960" y="297468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48200" y="297504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19880" y="297504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34520" y="2517480"/>
              <a:ext cx="34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77600" y="2517480"/>
              <a:ext cx="2056680" cy="205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4520" y="2517480"/>
              <a:ext cx="1256760" cy="205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34520" y="2517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2906280" y="2060280"/>
              <a:ext cx="228240" cy="456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2905920" y="206028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2906280" y="2060280"/>
              <a:ext cx="72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477600" y="2517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7600" y="30891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7:27:04Z</dcterms:created>
  <dc:creator>user</dc:creator>
  <dc:description/>
  <dc:language>en-US</dc:language>
  <cp:lastModifiedBy>Admin</cp:lastModifiedBy>
  <dcterms:modified xsi:type="dcterms:W3CDTF">2002-01-29T08:43:30Z</dcterms:modified>
  <cp:revision>11</cp:revision>
  <dc:subject/>
  <dc:title>«Линза.  Построение изображений в линзе.  Формула тонкой линзы».</dc:title>
</cp:coreProperties>
</file>