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AF9-2F5F-4635-9C2F-6A70FC30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4AE-F53E-4335-B5F8-D18D33A8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440-5AE9-40ED-8B14-A1698D1B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D9D-32B6-4AD4-94B4-8D583C7F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8926-873F-49C8-A095-C54CDA52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ADF6-1C56-4E7C-8120-C5246CE2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F266-BA6E-4C6E-8ABA-CCACD2D4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2A79-E786-421D-ADD8-9BB297F4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5844-B4EE-4587-A797-2350BDF6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B4A7-6CE1-4375-8078-DB13AA08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823B-2ABA-4F94-91F1-F5B5700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7C6-C94D-4E58-920B-455162A3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10C3-1BDC-4C62-B54A-9E0141B2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5FBA-F575-4999-A4FC-D809EAE7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2F9-18C3-4FF7-A28D-18A1003A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692E-FF99-430A-84C7-A5EBC194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E7D9-1720-4861-BE1E-101C5B77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EBE-8642-40C9-8ABC-77EBCF0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3C2-34D5-43C0-976F-CB318FEC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491-62E3-444C-AD52-F2810A8B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325-C755-4654-8D17-413C1CB4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774-4457-4236-886B-FB811DBE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2EC-7D36-421E-9CFE-BDA6152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FF7-6DBB-4125-8345-CB82F7E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7D76-2BF5-41D9-AC82-C2B2D50B53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1403-F1A6-40C1-AA7A-E8D059B1C9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бу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31920" y="1719360"/>
            <a:ext cx="66801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Monotype Corsiva"/>
              </a:rPr>
              <a:t>Формула тонкой линзы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     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асстояние от предмета до линзы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сстояние от линзы до изображения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кусное расстояние лин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030320" y="1952640"/>
                <a:ext cx="3855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394000" y="1916280"/>
                <a:ext cx="4874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311640" y="1879560"/>
                <a:ext cx="5238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бу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оссвор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общения о близорукости и дальнозорк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Линза собирающая         рассеивающа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11280" y="2782080"/>
            <a:ext cx="2743200" cy="1701000"/>
            <a:chOff x="611280" y="2782080"/>
            <a:chExt cx="2743200" cy="1701000"/>
          </a:xfrm>
        </p:grpSpPr>
        <p:sp>
          <p:nvSpPr>
            <p:cNvPr id="152" name=""/>
            <p:cNvSpPr/>
            <p:nvPr/>
          </p:nvSpPr>
          <p:spPr>
            <a:xfrm>
              <a:off x="611280" y="3566520"/>
              <a:ext cx="171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280" y="317376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280" y="39589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11200" y="3043080"/>
              <a:ext cx="720" cy="10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2520" y="3436560"/>
              <a:ext cx="72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11200" y="3174840"/>
              <a:ext cx="194328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11200" y="2782080"/>
              <a:ext cx="1600560" cy="11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411200" y="3042720"/>
              <a:ext cx="0" cy="52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1200" y="356652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572000" y="2565000"/>
            <a:ext cx="2172960" cy="1600560"/>
            <a:chOff x="4572000" y="2565000"/>
            <a:chExt cx="2172960" cy="1600560"/>
          </a:xfrm>
        </p:grpSpPr>
        <p:sp>
          <p:nvSpPr>
            <p:cNvPr id="162" name=""/>
            <p:cNvSpPr/>
            <p:nvPr/>
          </p:nvSpPr>
          <p:spPr>
            <a:xfrm>
              <a:off x="5715360" y="3136320"/>
              <a:ext cx="0" cy="10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1880" y="34797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3680" y="34797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251160"/>
              <a:ext cx="11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4050720"/>
              <a:ext cx="11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800960" y="3251160"/>
              <a:ext cx="914040" cy="571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800960" y="3364200"/>
              <a:ext cx="9140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715360" y="2565000"/>
              <a:ext cx="1029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V="1">
            <a:off x="4643280" y="3573000"/>
            <a:ext cx="26654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4076640"/>
            <a:ext cx="1368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724360" y="2997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579640" y="3068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79640" y="422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422100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линз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05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56240" y="1719360"/>
            <a:ext cx="4030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4427640" y="1700280"/>
            <a:ext cx="288720" cy="1946160"/>
            <a:chOff x="4427640" y="1700280"/>
            <a:chExt cx="288720" cy="1946160"/>
          </a:xfrm>
        </p:grpSpPr>
        <p:sp>
          <p:nvSpPr>
            <p:cNvPr id="180" name=""/>
            <p:cNvSpPr/>
            <p:nvPr/>
          </p:nvSpPr>
          <p:spPr>
            <a:xfrm>
              <a:off x="4571280" y="1700280"/>
              <a:ext cx="145080" cy="194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4427640" y="1700280"/>
              <a:ext cx="146880" cy="194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7640" y="1700280"/>
              <a:ext cx="28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36464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Monotype Corsiva"/>
              </a:rPr>
              <a:t>Построение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Monotype Corsiva"/>
              </a:rPr>
              <a:t>изображений в линзах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за двойным фокусом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628280"/>
            <a:ext cx="7386480" cy="3125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5138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действительное, перевернутое, уменьш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997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220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4836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4000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2349360"/>
            <a:ext cx="489600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3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2349360"/>
            <a:ext cx="194472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в двойном фокус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3209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20992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тельное, перевернутое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но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124000" y="2205000"/>
            <a:ext cx="4000680" cy="1601280"/>
            <a:chOff x="2124000" y="2205000"/>
            <a:chExt cx="4000680" cy="1601280"/>
          </a:xfrm>
        </p:grpSpPr>
        <p:sp>
          <p:nvSpPr>
            <p:cNvPr id="206" name=""/>
            <p:cNvSpPr/>
            <p:nvPr/>
          </p:nvSpPr>
          <p:spPr>
            <a:xfrm>
              <a:off x="2124000" y="277668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38680" y="2205000"/>
              <a:ext cx="72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695320" y="2205000"/>
              <a:ext cx="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1200" y="2205000"/>
              <a:ext cx="1257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95320" y="2205000"/>
              <a:ext cx="3314880" cy="16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267000" y="266148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95320" y="266148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81680" y="266184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9652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38680" y="2205000"/>
              <a:ext cx="1485720" cy="13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0720" y="2661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838680" y="22050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3868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652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Monotype Corsiva"/>
              </a:rPr>
              <a:t>Предмет между фокусом и двойным фокусом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73864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йствительное, перевернутое, увеличенно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08000" y="2174400"/>
            <a:ext cx="4000680" cy="2059200"/>
            <a:chOff x="1908000" y="2174400"/>
            <a:chExt cx="4000680" cy="2059200"/>
          </a:xfrm>
        </p:grpSpPr>
        <p:sp>
          <p:nvSpPr>
            <p:cNvPr id="223" name=""/>
            <p:cNvSpPr/>
            <p:nvPr/>
          </p:nvSpPr>
          <p:spPr>
            <a:xfrm>
              <a:off x="1908000" y="274644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622680" y="2174400"/>
              <a:ext cx="72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479320" y="2174400"/>
              <a:ext cx="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051000" y="263196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365200" y="263196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3640" y="263232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80520" y="263232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79320" y="2174400"/>
              <a:ext cx="1143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22680" y="2174400"/>
              <a:ext cx="2057760" cy="20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79320" y="2174400"/>
              <a:ext cx="3200760" cy="16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766400" y="2745720"/>
              <a:ext cx="7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622680" y="21744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22680" y="274644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в фокус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229600" cy="2997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5013360"/>
            <a:ext cx="738684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ображение отсутству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03280" y="2174040"/>
            <a:ext cx="4000680" cy="2057760"/>
            <a:chOff x="1403280" y="2174040"/>
            <a:chExt cx="4000680" cy="2057760"/>
          </a:xfrm>
        </p:grpSpPr>
        <p:sp>
          <p:nvSpPr>
            <p:cNvPr id="240" name=""/>
            <p:cNvSpPr/>
            <p:nvPr/>
          </p:nvSpPr>
          <p:spPr>
            <a:xfrm>
              <a:off x="1403280" y="274608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117960" y="2174400"/>
              <a:ext cx="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546280" y="217404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46280" y="263160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974600" y="263160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88920" y="26319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60960" y="26319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46280" y="2174400"/>
              <a:ext cx="571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17960" y="2174400"/>
              <a:ext cx="205776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46280" y="2174400"/>
              <a:ext cx="20574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117960" y="21740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17960" y="27460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между фокусом и линзой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229600" cy="30668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5229000"/>
            <a:ext cx="73864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имое, прямое, увеличен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63640" y="2060280"/>
            <a:ext cx="3999240" cy="2514960"/>
            <a:chOff x="1763640" y="2060280"/>
            <a:chExt cx="3999240" cy="2514960"/>
          </a:xfrm>
        </p:grpSpPr>
        <p:sp>
          <p:nvSpPr>
            <p:cNvPr id="256" name=""/>
            <p:cNvSpPr/>
            <p:nvPr/>
          </p:nvSpPr>
          <p:spPr>
            <a:xfrm>
              <a:off x="1763640" y="3089160"/>
              <a:ext cx="39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77600" y="2517480"/>
              <a:ext cx="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134520" y="251712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906280" y="297468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334960" y="297468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48200" y="297504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9880" y="297504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34520" y="2517480"/>
              <a:ext cx="34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77600" y="2517480"/>
              <a:ext cx="2056680" cy="20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4520" y="2517480"/>
              <a:ext cx="1256760" cy="20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34520" y="2517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2906280" y="2060280"/>
              <a:ext cx="228240" cy="456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2905920" y="206028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2906280" y="2060280"/>
              <a:ext cx="72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477600" y="2517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7600" y="30891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7:27:04Z</dcterms:created>
  <dc:creator>user</dc:creator>
  <dc:description/>
  <dc:language>en-US</dc:language>
  <cp:lastModifiedBy>Admin</cp:lastModifiedBy>
  <dcterms:modified xsi:type="dcterms:W3CDTF">2002-01-29T08:43:30Z</dcterms:modified>
  <cp:revision>11</cp:revision>
  <dc:subject/>
  <dc:title>«Линза.  Построение изображений в линзе.  Формула тонкой линзы».</dc:title>
</cp:coreProperties>
</file>