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8DF-23DF-4BB1-A295-B2F3AE71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E06-9688-4B51-B2B6-29AD96A7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C52-DD4F-4FBA-8C2C-0997E856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C4F-D86F-4EF7-885D-BC65A9FF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645A-89B5-4E71-A452-78C7154B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A449-906B-4AD5-A005-B42669FF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AE01-1C4C-4F0C-A34A-5752D85E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EB71-7DAA-40AE-8807-6D96E211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FC6A-F94D-448B-9A5D-FA7B33CE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7DCE-A7D7-41E2-A945-1BC0C3B0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E800-793A-453F-B546-1E17AD56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B2C-DF2D-4991-979A-47ACF1CB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D322-8DEC-4500-B9C3-A978D4DC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D311-8B51-4DC4-ADE3-4253E5E4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397C-EC2B-4790-B244-D0A54598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284E-E434-446E-884F-F858872F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2211-E016-45E2-B34F-C781D4C7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962-8D6E-4815-9272-DF18C18C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D4B-D94B-4BEB-AEF9-FE07CBF1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A65-303C-4F84-93C6-404F850C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D50-B6DF-4081-81F3-2002D837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D8A-28E5-4A62-BD6F-345E0D26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B4E-E11F-4AE0-A24C-BCAEB227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E84-CB3C-43E1-8CFD-C5D332B3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9DEE-A4C2-43D9-A915-C31B067575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7DC0-0E6E-493E-BDA3-6A315115D5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бу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31920" y="1719360"/>
            <a:ext cx="668016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Monotype Corsiva"/>
              </a:rPr>
              <a:t>Формула тонкой линзы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     +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расстояние от предмета до линзы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расстояние от линзы до изображения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кусное расстояние лин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030320" y="1952640"/>
                <a:ext cx="3855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394000" y="1916280"/>
                <a:ext cx="4874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311640" y="1879560"/>
                <a:ext cx="5238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бу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россвор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общения о близорукости и дальнозорк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Линза собирающая         рассеивающа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11280" y="2782080"/>
            <a:ext cx="2743200" cy="1701000"/>
            <a:chOff x="611280" y="2782080"/>
            <a:chExt cx="2743200" cy="1701000"/>
          </a:xfrm>
        </p:grpSpPr>
        <p:sp>
          <p:nvSpPr>
            <p:cNvPr id="152" name=""/>
            <p:cNvSpPr/>
            <p:nvPr/>
          </p:nvSpPr>
          <p:spPr>
            <a:xfrm>
              <a:off x="611280" y="3566520"/>
              <a:ext cx="171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1280" y="317376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1280" y="39589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11200" y="3043080"/>
              <a:ext cx="720" cy="10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2520" y="3436560"/>
              <a:ext cx="72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11200" y="3174840"/>
              <a:ext cx="194328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411200" y="2782080"/>
              <a:ext cx="1600560" cy="117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411200" y="3042720"/>
              <a:ext cx="0" cy="52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11200" y="3566520"/>
              <a:ext cx="0" cy="3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572000" y="2565000"/>
            <a:ext cx="2172960" cy="1600560"/>
            <a:chOff x="4572000" y="2565000"/>
            <a:chExt cx="2172960" cy="1600560"/>
          </a:xfrm>
        </p:grpSpPr>
        <p:sp>
          <p:nvSpPr>
            <p:cNvPr id="162" name=""/>
            <p:cNvSpPr/>
            <p:nvPr/>
          </p:nvSpPr>
          <p:spPr>
            <a:xfrm>
              <a:off x="5715360" y="3136320"/>
              <a:ext cx="0" cy="10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1880" y="347976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43680" y="347976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251160"/>
              <a:ext cx="11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4050720"/>
              <a:ext cx="11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800960" y="3251160"/>
              <a:ext cx="914040" cy="571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4800960" y="3364200"/>
              <a:ext cx="9140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715360" y="2565000"/>
              <a:ext cx="1029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V="1">
            <a:off x="4643280" y="3573000"/>
            <a:ext cx="26654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4076640"/>
            <a:ext cx="1368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724360" y="2997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579640" y="3068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579640" y="4221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422100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ипы линз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05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ссеивающая лин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бирающая лин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56240" y="1719360"/>
            <a:ext cx="4030560" cy="21304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4427640" y="1700280"/>
            <a:ext cx="288720" cy="1946160"/>
            <a:chOff x="4427640" y="1700280"/>
            <a:chExt cx="288720" cy="1946160"/>
          </a:xfrm>
        </p:grpSpPr>
        <p:sp>
          <p:nvSpPr>
            <p:cNvPr id="180" name=""/>
            <p:cNvSpPr/>
            <p:nvPr/>
          </p:nvSpPr>
          <p:spPr>
            <a:xfrm>
              <a:off x="4571280" y="1700280"/>
              <a:ext cx="145080" cy="1946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0800000">
              <a:off x="4427640" y="1700280"/>
              <a:ext cx="146880" cy="1946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27640" y="1700280"/>
              <a:ext cx="28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27640" y="36464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Monotype Corsiva"/>
              </a:rPr>
              <a:t>Построение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Monotype Corsiva"/>
              </a:rPr>
              <a:t>изображений в линзах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Предмет за двойным фокусом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628280"/>
            <a:ext cx="7386480" cy="3125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5138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ображение действительное, перевернутое, уменьш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2997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067280" y="220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2997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4836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34000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2349360"/>
            <a:ext cx="489600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349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67280" y="2349360"/>
            <a:ext cx="194472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Предмет в двойном фокус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3209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20992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тельное, перевернутое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но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124000" y="2205000"/>
            <a:ext cx="4000680" cy="1601280"/>
            <a:chOff x="2124000" y="2205000"/>
            <a:chExt cx="4000680" cy="1601280"/>
          </a:xfrm>
        </p:grpSpPr>
        <p:sp>
          <p:nvSpPr>
            <p:cNvPr id="206" name=""/>
            <p:cNvSpPr/>
            <p:nvPr/>
          </p:nvSpPr>
          <p:spPr>
            <a:xfrm>
              <a:off x="2124000" y="2776680"/>
              <a:ext cx="400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838680" y="2205000"/>
              <a:ext cx="720" cy="11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695320" y="2205000"/>
              <a:ext cx="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81200" y="2205000"/>
              <a:ext cx="1257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95320" y="2205000"/>
              <a:ext cx="3314880" cy="16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267000" y="266148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695320" y="266148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81680" y="266184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96520" y="277668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38680" y="2205000"/>
              <a:ext cx="1485720" cy="13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10720" y="2661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838680" y="220500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38680" y="277668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6520" y="277668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Monotype Corsiva"/>
              </a:rPr>
              <a:t>Предмет между фокусом и двойным фокусом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5373720"/>
            <a:ext cx="738648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йствительное, перевернутое, увеличенно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908000" y="2174400"/>
            <a:ext cx="4000680" cy="2059200"/>
            <a:chOff x="1908000" y="2174400"/>
            <a:chExt cx="4000680" cy="2059200"/>
          </a:xfrm>
        </p:grpSpPr>
        <p:sp>
          <p:nvSpPr>
            <p:cNvPr id="223" name=""/>
            <p:cNvSpPr/>
            <p:nvPr/>
          </p:nvSpPr>
          <p:spPr>
            <a:xfrm>
              <a:off x="1908000" y="2746440"/>
              <a:ext cx="400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622680" y="2174400"/>
              <a:ext cx="720" cy="11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479320" y="2174400"/>
              <a:ext cx="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051000" y="263196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365200" y="263196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93640" y="263232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80520" y="2632320"/>
              <a:ext cx="72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79320" y="2174400"/>
              <a:ext cx="1143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22680" y="2174400"/>
              <a:ext cx="2057760" cy="20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79320" y="2174400"/>
              <a:ext cx="3200760" cy="16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766400" y="2745720"/>
              <a:ext cx="7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622680" y="217440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22680" y="274644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Предмет в фокус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719000"/>
            <a:ext cx="8229600" cy="2997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8920" y="5013360"/>
            <a:ext cx="738684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ображение отсутству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403280" y="2174040"/>
            <a:ext cx="4000680" cy="2057760"/>
            <a:chOff x="1403280" y="2174040"/>
            <a:chExt cx="4000680" cy="2057760"/>
          </a:xfrm>
        </p:grpSpPr>
        <p:sp>
          <p:nvSpPr>
            <p:cNvPr id="240" name=""/>
            <p:cNvSpPr/>
            <p:nvPr/>
          </p:nvSpPr>
          <p:spPr>
            <a:xfrm>
              <a:off x="1403280" y="2746080"/>
              <a:ext cx="400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117960" y="2174400"/>
              <a:ext cx="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546280" y="2174040"/>
              <a:ext cx="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546280" y="263160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974600" y="263160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88920" y="263196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60960" y="263196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46280" y="2174400"/>
              <a:ext cx="571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17960" y="2174400"/>
              <a:ext cx="205776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46280" y="2174400"/>
              <a:ext cx="20574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117960" y="21740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17960" y="274608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Monotype Corsiva"/>
              </a:rPr>
              <a:t>Предмет между фокусом и линзой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719000"/>
            <a:ext cx="8229600" cy="30668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5229000"/>
            <a:ext cx="73864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нимое, прямое, увеличен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763640" y="2060280"/>
            <a:ext cx="3999240" cy="2514960"/>
            <a:chOff x="1763640" y="2060280"/>
            <a:chExt cx="3999240" cy="2514960"/>
          </a:xfrm>
        </p:grpSpPr>
        <p:sp>
          <p:nvSpPr>
            <p:cNvPr id="256" name=""/>
            <p:cNvSpPr/>
            <p:nvPr/>
          </p:nvSpPr>
          <p:spPr>
            <a:xfrm>
              <a:off x="1763640" y="3089160"/>
              <a:ext cx="399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477600" y="2517480"/>
              <a:ext cx="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134520" y="2517120"/>
              <a:ext cx="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906280" y="2974680"/>
              <a:ext cx="7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334960" y="297468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48200" y="297504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19880" y="297504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34520" y="2517480"/>
              <a:ext cx="34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77600" y="2517480"/>
              <a:ext cx="2056680" cy="205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34520" y="2517480"/>
              <a:ext cx="1256760" cy="205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34520" y="2517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2906280" y="2060280"/>
              <a:ext cx="228240" cy="456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2905920" y="206028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2906280" y="2060280"/>
              <a:ext cx="720" cy="10285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477600" y="2517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77600" y="30891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07:27:04Z</dcterms:created>
  <dc:creator>user</dc:creator>
  <dc:description/>
  <dc:language>en-US</dc:language>
  <cp:lastModifiedBy>Admin</cp:lastModifiedBy>
  <dcterms:modified xsi:type="dcterms:W3CDTF">2002-01-29T08:43:30Z</dcterms:modified>
  <cp:revision>11</cp:revision>
  <dc:subject/>
  <dc:title>«Линза.  Построение изображений в линзе.  Формула тонкой линзы».</dc:title>
</cp:coreProperties>
</file>