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gif" ContentType="image/gif"/>
  <Override PartName="/ppt/media/image9.gif" ContentType="image/gif"/>
  <Override PartName="/ppt/media/image12.jpeg" ContentType="image/jpeg"/>
  <Override PartName="/ppt/media/image11.jpeg" ContentType="image/jpeg"/>
  <Override PartName="/ppt/media/image6.jpeg" ContentType="image/jpeg"/>
  <Override PartName="/ppt/media/wind.wav" ContentType="audio/x-wav"/>
  <Override PartName="/ppt/media/chimes.wav" ContentType="audio/x-wav"/>
  <Override PartName="/ppt/media/image1.jpeg" ContentType="image/jpeg"/>
  <Override PartName="/ppt/media/image3.gif" ContentType="image/gif"/>
  <Override PartName="/ppt/media/image4.png" ContentType="image/png"/>
  <Override PartName="/ppt/media/image5.png" ContentType="image/png"/>
  <Override PartName="/ppt/media/image8.jpeg" ContentType="image/jpeg"/>
  <Override PartName="/ppt/media/image10.wmf" ContentType="image/x-wmf"/>
  <Override PartName="/ppt/media/image2.png" ContentType="image/png"/>
  <Override PartName="/ppt/media/typ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97AF-FD81-4871-9842-DA618B9E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570C-FDBF-4924-AA26-E2AE6F88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E4DD-0058-494A-BF0C-1226E9B36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246F-08BD-4E6F-879A-890A908A4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49D5-444E-4F20-B95C-A9DD3946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1E43-0608-4988-BA90-4E5097EF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01D4-C18C-4138-B412-F1BE3FF6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AC15-3E71-47FD-A6B0-A7D222CD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8D57-D129-44ED-B0BE-BCB7FF52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5DF9-3E8A-4599-A78A-1B772112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3BCC-6391-4EAF-91F8-27EA5353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8AEA-22C5-4AE0-8E4E-C50545A2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D1FF-A686-4868-8FD9-171674AE69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" Target=""/><Relationship Id="rId10" Type="http://schemas.openxmlformats.org/officeDocument/2006/relationships/audio" Target="../media/chimes.wav"/><Relationship Id="rId11" Type="http://schemas.openxmlformats.org/officeDocument/2006/relationships/audio" Target="../media/wind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audio" Target="../media/chimes.wav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1.jpeg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wind.wav" TargetMode="External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Рисунок8"/>
          <p:cNvPicPr/>
          <p:nvPr/>
        </p:nvPicPr>
        <p:blipFill>
          <a:blip r:embed="rId2"/>
          <a:stretch/>
        </p:blipFill>
        <p:spPr>
          <a:xfrm rot="4359000">
            <a:off x="842760" y="-3498480"/>
            <a:ext cx="2671560" cy="3567240"/>
          </a:xfrm>
          <a:prstGeom prst="rect">
            <a:avLst/>
          </a:prstGeom>
          <a:ln w="0">
            <a:noFill/>
          </a:ln>
        </p:spPr>
      </p:pic>
      <p:sp>
        <p:nvSpPr>
          <p:cNvPr id="45" name="WordArt 6"/>
          <p:cNvSpPr txBox="1"/>
          <p:nvPr/>
        </p:nvSpPr>
        <p:spPr>
          <a:xfrm>
            <a:off x="-757080" y="-1251000"/>
            <a:ext cx="60498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Narrow"/>
              </a:rPr>
              <a:t>Электромагнитная индукция</a:t>
            </a:r>
            <a:endParaRPr b="1" i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pic>
        <p:nvPicPr>
          <p:cNvPr id="46" name="Picture 8" descr="aninew[1]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740720" y="5589720"/>
            <a:ext cx="1297080" cy="83664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9"/>
          <p:cNvGrpSpPr/>
          <p:nvPr/>
        </p:nvGrpSpPr>
        <p:grpSpPr>
          <a:xfrm>
            <a:off x="108000" y="4797360"/>
            <a:ext cx="3657600" cy="1144440"/>
            <a:chOff x="108000" y="4797360"/>
            <a:chExt cx="3657600" cy="1144440"/>
          </a:xfrm>
        </p:grpSpPr>
        <p:grpSp>
          <p:nvGrpSpPr>
            <p:cNvPr id="48" name="Group 10"/>
            <p:cNvGrpSpPr/>
            <p:nvPr/>
          </p:nvGrpSpPr>
          <p:grpSpPr>
            <a:xfrm>
              <a:off x="108000" y="4797360"/>
              <a:ext cx="3657600" cy="1142640"/>
              <a:chOff x="108000" y="4797360"/>
              <a:chExt cx="3657600" cy="1142640"/>
            </a:xfrm>
          </p:grpSpPr>
          <p:sp>
            <p:nvSpPr>
              <p:cNvPr id="49" name="Oval 11"/>
              <p:cNvSpPr/>
              <p:nvPr/>
            </p:nvSpPr>
            <p:spPr>
              <a:xfrm>
                <a:off x="412920" y="5437080"/>
                <a:ext cx="2971800" cy="502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12"/>
              <p:cNvSpPr/>
              <p:nvPr/>
            </p:nvSpPr>
            <p:spPr>
              <a:xfrm>
                <a:off x="412920" y="4797360"/>
                <a:ext cx="3048120" cy="502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" name="Group 13"/>
              <p:cNvGrpSpPr/>
              <p:nvPr/>
            </p:nvGrpSpPr>
            <p:grpSpPr>
              <a:xfrm>
                <a:off x="793800" y="5162760"/>
                <a:ext cx="2286000" cy="463320"/>
                <a:chOff x="793800" y="5162760"/>
                <a:chExt cx="2286000" cy="463320"/>
              </a:xfrm>
            </p:grpSpPr>
            <p:grpSp>
              <p:nvGrpSpPr>
                <p:cNvPr id="52" name="Group 14"/>
                <p:cNvGrpSpPr/>
                <p:nvPr/>
              </p:nvGrpSpPr>
              <p:grpSpPr>
                <a:xfrm>
                  <a:off x="793800" y="5162760"/>
                  <a:ext cx="2286000" cy="461520"/>
                  <a:chOff x="793800" y="5162760"/>
                  <a:chExt cx="2286000" cy="461520"/>
                </a:xfrm>
              </p:grpSpPr>
              <p:grpSp>
                <p:nvGrpSpPr>
                  <p:cNvPr id="53" name="Group 15"/>
                  <p:cNvGrpSpPr/>
                  <p:nvPr/>
                </p:nvGrpSpPr>
                <p:grpSpPr>
                  <a:xfrm>
                    <a:off x="793800" y="5162760"/>
                    <a:ext cx="2286000" cy="411120"/>
                    <a:chOff x="793800" y="5162760"/>
                    <a:chExt cx="2286000" cy="411120"/>
                  </a:xfrm>
                </p:grpSpPr>
                <p:sp>
                  <p:nvSpPr>
                    <p:cNvPr id="54" name="Rectangle 16"/>
                    <p:cNvSpPr/>
                    <p:nvPr/>
                  </p:nvSpPr>
                  <p:spPr>
                    <a:xfrm rot="5400000">
                      <a:off x="2302560" y="4796640"/>
                      <a:ext cx="411120" cy="114300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" name="Rectangle 17"/>
                    <p:cNvSpPr/>
                    <p:nvPr/>
                  </p:nvSpPr>
                  <p:spPr>
                    <a:xfrm rot="5400000">
                      <a:off x="1159560" y="4796640"/>
                      <a:ext cx="411120" cy="1143000"/>
                    </a:xfrm>
                    <a:prstGeom prst="rect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" name="Group 18"/>
                  <p:cNvGrpSpPr/>
                  <p:nvPr/>
                </p:nvGrpSpPr>
                <p:grpSpPr>
                  <a:xfrm>
                    <a:off x="1936800" y="5208480"/>
                    <a:ext cx="1143000" cy="415800"/>
                    <a:chOff x="1936800" y="5208480"/>
                    <a:chExt cx="1143000" cy="415800"/>
                  </a:xfrm>
                </p:grpSpPr>
                <p:sp>
                  <p:nvSpPr>
                    <p:cNvPr id="57" name="Text Box 19"/>
                    <p:cNvSpPr/>
                    <p:nvPr/>
                  </p:nvSpPr>
                  <p:spPr>
                    <a:xfrm>
                      <a:off x="2546640" y="5256000"/>
                      <a:ext cx="3808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ff66"/>
                          </a:solidFill>
                          <a:latin typeface="Arial"/>
                        </a:rPr>
                        <a:t>N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" name="Line 20"/>
                    <p:cNvSpPr/>
                    <p:nvPr/>
                  </p:nvSpPr>
                  <p:spPr>
                    <a:xfrm>
                      <a:off x="1936800" y="5208480"/>
                      <a:ext cx="1143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" name="Line 21"/>
                    <p:cNvSpPr/>
                    <p:nvPr/>
                  </p:nvSpPr>
                  <p:spPr>
                    <a:xfrm>
                      <a:off x="1936800" y="5345640"/>
                      <a:ext cx="1143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" name="Line 22"/>
                    <p:cNvSpPr/>
                    <p:nvPr/>
                  </p:nvSpPr>
                  <p:spPr>
                    <a:xfrm>
                      <a:off x="1936800" y="5528520"/>
                      <a:ext cx="1143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1" name="Line 23"/>
                <p:cNvSpPr/>
                <p:nvPr/>
              </p:nvSpPr>
              <p:spPr>
                <a:xfrm>
                  <a:off x="793800" y="5528520"/>
                  <a:ext cx="11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Line 24"/>
                <p:cNvSpPr/>
                <p:nvPr/>
              </p:nvSpPr>
              <p:spPr>
                <a:xfrm>
                  <a:off x="793800" y="5208480"/>
                  <a:ext cx="11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Line 25"/>
                <p:cNvSpPr/>
                <p:nvPr/>
              </p:nvSpPr>
              <p:spPr>
                <a:xfrm>
                  <a:off x="793800" y="5345640"/>
                  <a:ext cx="11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Text Box 26"/>
                <p:cNvSpPr/>
                <p:nvPr/>
              </p:nvSpPr>
              <p:spPr>
                <a:xfrm>
                  <a:off x="876600" y="525780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66ff66"/>
                      </a:solidFill>
                      <a:latin typeface="Arial"/>
                    </a:rPr>
                    <a:t>S</a:t>
                  </a: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" name="Line 27"/>
              <p:cNvSpPr/>
              <p:nvPr/>
            </p:nvSpPr>
            <p:spPr>
              <a:xfrm>
                <a:off x="108000" y="53460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28"/>
              <p:cNvSpPr/>
              <p:nvPr/>
            </p:nvSpPr>
            <p:spPr>
              <a:xfrm>
                <a:off x="3079800" y="53460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Text Box 29"/>
            <p:cNvSpPr/>
            <p:nvPr/>
          </p:nvSpPr>
          <p:spPr>
            <a:xfrm>
              <a:off x="1555920" y="55735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ис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WordArt 35"/>
          <p:cNvSpPr txBox="1"/>
          <p:nvPr/>
        </p:nvSpPr>
        <p:spPr>
          <a:xfrm>
            <a:off x="1547640" y="92160"/>
            <a:ext cx="6193080" cy="16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ЗЕНТАЦИЯ </a:t>
            </a:r>
            <a:endParaRPr b="1" i="1" lang="en-US" sz="96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96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WordArt 36"/>
          <p:cNvSpPr txBox="1"/>
          <p:nvPr/>
        </p:nvSpPr>
        <p:spPr>
          <a:xfrm>
            <a:off x="395280" y="1341360"/>
            <a:ext cx="801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Narrow"/>
              </a:rPr>
              <a:t>УРОКА ФИЗИКИ</a:t>
            </a:r>
            <a:endParaRPr b="1" i="1" lang="en-US" sz="4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sp>
        <p:nvSpPr>
          <p:cNvPr id="70" name="WordArt 37"/>
          <p:cNvSpPr txBox="1"/>
          <p:nvPr/>
        </p:nvSpPr>
        <p:spPr>
          <a:xfrm>
            <a:off x="468360" y="2816280"/>
            <a:ext cx="453708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Narrow"/>
              </a:rPr>
              <a:t>для учащихся</a:t>
            </a:r>
            <a:endParaRPr b="1" i="1" lang="en-US" sz="2800" spc="1" strike="noStrike">
              <a:ln w="0">
                <a:noFill/>
              </a:ln>
              <a:solidFill>
                <a:srgbClr val="7030a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Narrow"/>
              </a:rPr>
              <a:t>9 класса</a:t>
            </a:r>
            <a:endParaRPr b="1" i="1" lang="en-US" sz="2800" spc="1" strike="noStrike">
              <a:ln w="0">
                <a:noFill/>
              </a:ln>
              <a:solidFill>
                <a:srgbClr val="7030a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sp>
        <p:nvSpPr>
          <p:cNvPr id="71" name="Text Box 38"/>
          <p:cNvSpPr/>
          <p:nvPr/>
        </p:nvSpPr>
        <p:spPr>
          <a:xfrm>
            <a:off x="0" y="4724280"/>
            <a:ext cx="7740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1f10d"/>
                </a:solidFill>
                <a:latin typeface="Arial"/>
              </a:rPr>
              <a:t>                                                 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 </a:t>
            </a:r>
            <a:r>
              <a:rPr b="0" lang="ru-RU" sz="1800" spc="-1" strike="noStrike">
                <a:solidFill>
                  <a:srgbClr val="f1f10d"/>
                </a:solidFill>
                <a:latin typeface="Arial"/>
              </a:rPr>
              <a:t>Подготовила:   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1f10d"/>
                </a:solidFill>
                <a:latin typeface="Arial"/>
              </a:rPr>
              <a:t>                                                         </a:t>
            </a:r>
            <a:r>
              <a:rPr b="0" lang="ru-RU" sz="1800" spc="-1" strike="noStrike">
                <a:solidFill>
                  <a:srgbClr val="f1f10d"/>
                </a:solidFill>
                <a:latin typeface="Arial"/>
              </a:rPr>
              <a:t>Бойко Лилия Викторовна,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1f10d"/>
                </a:solidFill>
                <a:latin typeface="Arial"/>
              </a:rPr>
              <a:t>                                                         </a:t>
            </a:r>
            <a:r>
              <a:rPr b="0" lang="ru-RU" sz="1800" spc="-1" strike="noStrike">
                <a:solidFill>
                  <a:srgbClr val="f1f10d"/>
                </a:solidFill>
                <a:latin typeface="Arial"/>
              </a:rPr>
              <a:t>учитель физики Лисичанской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1f10d"/>
                </a:solidFill>
                <a:latin typeface="Arial"/>
              </a:rPr>
              <a:t>                                                         </a:t>
            </a:r>
            <a:r>
              <a:rPr b="0" lang="ru-RU" sz="1800" spc="-1" strike="noStrike">
                <a:solidFill>
                  <a:srgbClr val="f1f10d"/>
                </a:solidFill>
                <a:latin typeface="Arial"/>
              </a:rPr>
              <a:t>общеобразовательной І-ІІ ступеней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1f10d"/>
                </a:solidFill>
                <a:latin typeface="Arial"/>
              </a:rPr>
              <a:t>                                                         </a:t>
            </a:r>
            <a:r>
              <a:rPr b="0" lang="ru-RU" sz="1800" spc="-1" strike="noStrike">
                <a:solidFill>
                  <a:srgbClr val="f1f10d"/>
                </a:solidFill>
                <a:latin typeface="Arial"/>
              </a:rPr>
              <a:t>школы №29       г. Приволья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0"/>
          <p:cNvSpPr/>
          <p:nvPr/>
        </p:nvSpPr>
        <p:spPr>
          <a:xfrm>
            <a:off x="7667640" y="429264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ind.wav"/>
                                        </p:tgtEl>
                                      </p:cMediaNode>
                                    </p:audio>
                                    <p:animMotion origin="layout" path="M -0.0375 0.03611 L 0.16268 0.54699 C 0.20469 0.66227 0.26702 0.72894 0.33264 0.72894 C 0.4073 0.72894 0.46737 0.66227 0.50921 0.54699 L 0.71059 0.03611 E">
                                      <p:cBhvr>
                                        <p:cTn id="23" dur="5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3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243 0.02106 L -0.10243 0.37199 C -0.10243 0.52963 -0.00104 0.72453 0.0823 0.72453 L 0.26771 0.72453 E">
                                      <p:cBhvr>
                                        <p:cTn id="25" dur="3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5750"/>
                            </p:stCondLst>
                            <p:childTnLst>
                              <p:par>
                                <p:cTn id="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468360" y="47628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Задание 8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Он может быть кусочком породы, но чаще бывает полосовым, или подковообразным.     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Его красят в красный и синий цвет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3. К нему прилипают железные предметы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7887240" y="136440"/>
            <a:ext cx="1002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600" spc="-1" strike="noStrike">
                <a:solidFill>
                  <a:srgbClr val="f1f10d"/>
                </a:solidFill>
                <a:latin typeface="Arial"/>
              </a:rPr>
              <a:t>?</a:t>
            </a:r>
            <a:endParaRPr b="1" i="1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ar-arrow[1]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flipH="1">
            <a:off x="7308360" y="5958000"/>
            <a:ext cx="900360" cy="900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ar-arrow[1]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3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3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3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468360" y="476280"/>
            <a:ext cx="763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Задание 9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Его не видно, но можно увидеть результат его действия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Вектор напряжённости - его силовая характеристика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Оно существует вокруг любого заряда.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7887240" y="136440"/>
            <a:ext cx="1002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600" spc="-1" strike="noStrike">
                <a:solidFill>
                  <a:srgbClr val="f1f10d"/>
                </a:solidFill>
                <a:latin typeface="Arial"/>
              </a:rPr>
              <a:t>?</a:t>
            </a:r>
            <a:endParaRPr b="1" i="1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ar-arrow[1]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flipH="1">
            <a:off x="7308360" y="5958000"/>
            <a:ext cx="900360" cy="900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ar-arrow[1]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3" dur="3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8" dur="3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3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468360" y="47628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Задание 10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С него началось телевидение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Он есть в радиоприемнике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У него есть п-р-переходы.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7887240" y="136440"/>
            <a:ext cx="1002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600" spc="-1" strike="noStrike">
                <a:solidFill>
                  <a:srgbClr val="f1f10d"/>
                </a:solidFill>
                <a:latin typeface="Arial"/>
              </a:rPr>
              <a:t>?</a:t>
            </a:r>
            <a:endParaRPr b="1" i="1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ar-arrow[1]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flipH="1">
            <a:off x="7308360" y="5958000"/>
            <a:ext cx="900360" cy="900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ar-arrow[1]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3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3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3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book1"/>
          <p:cNvPicPr/>
          <p:nvPr/>
        </p:nvPicPr>
        <p:blipFill>
          <a:blip r:embed="rId2"/>
          <a:stretch/>
        </p:blipFill>
        <p:spPr>
          <a:xfrm>
            <a:off x="-108000" y="-919080"/>
            <a:ext cx="9396360" cy="7777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"/>
          <p:cNvPicPr/>
          <p:nvPr/>
        </p:nvPicPr>
        <p:blipFill>
          <a:blip r:embed="rId3"/>
          <a:stretch/>
        </p:blipFill>
        <p:spPr>
          <a:xfrm>
            <a:off x="1835280" y="549360"/>
            <a:ext cx="2468520" cy="35272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2"/>
          <p:cNvSpPr/>
          <p:nvPr/>
        </p:nvSpPr>
        <p:spPr>
          <a:xfrm>
            <a:off x="4643280" y="836640"/>
            <a:ext cx="352764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айкл Фарадей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 1791 – 1867), открыл явление электро-магнитной индукции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9 августа 1831г.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3" descr="ar-arrow[1]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 flipH="1">
            <a:off x="7308360" y="5958000"/>
            <a:ext cx="900360" cy="900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ar-arrow[1]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</p:spTree>
  </p:cSld>
  <p:transition advTm="11000">
    <p:push dir="r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5,-20,-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520"/>
                            </p:stCondLst>
                            <p:childTnLst>
                              <p:par>
                                <p:cTn id="4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5,-20,-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2560"/>
                            </p:stCondLst>
                            <p:childTnLst>
                              <p:par>
                                <p:cTn id="4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5,-20,-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2007_05160049"/>
          <p:cNvPicPr/>
          <p:nvPr/>
        </p:nvPicPr>
        <p:blipFill>
          <a:blip r:embed="rId2"/>
          <a:stretch/>
        </p:blipFill>
        <p:spPr>
          <a:xfrm>
            <a:off x="0" y="2671920"/>
            <a:ext cx="5580000" cy="41860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2124000" y="836640"/>
            <a:ext cx="73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Работа лебёдки при помощи модели электродвигателя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ar-arrow[1]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ar-arrow[1]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 flipH="1">
            <a:off x="7308360" y="5958000"/>
            <a:ext cx="900360" cy="90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4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468360" y="333360"/>
            <a:ext cx="8136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Arial"/>
              </a:rPr>
              <a:t>Итак, давайте вспомним,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Arial"/>
              </a:rPr>
              <a:t>о каком физическом  явлении мы сегодня беседовали?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 звали учёного, который открыл явление электромагнитной индукции?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з чего состоял прототип  электродвигателя, сконструированный Фарадеем?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каких современных приборах используется изучаемый закон?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боту какого прибора мы с вами сегодня увидели?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ие математические величины использовали, когда рассчитывали длину нити?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ff9900"/>
                </a:solidFill>
                <a:latin typeface="Arial"/>
              </a:rPr>
              <a:t>В команде – победителей каждый участник получает по 10 баллов. А также личными оценками будут оценены наиболее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Arial"/>
              </a:rPr>
              <a:t>активные участники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ar-arrow[1]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flipH="1">
            <a:off x="7308360" y="5958000"/>
            <a:ext cx="900360" cy="900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ar-arrow[1]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2" dur="1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9" dur="1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6" dur="1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Intelmac Graphi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Intelmac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PAGECURL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468360" y="260280"/>
            <a:ext cx="7200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МА.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Явление электромагнитной индук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обобщить и систематизировать знания по теме;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очить связи  между физикой и горной 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техникой;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      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совершенствовать интеллектуальные  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  способности и мыслительные умения учащихся,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  коммуникативные свойства речи; ознакомить с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  примером обобщения и систематизации      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  изученного;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развивать политехническую направленность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  физики;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                    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питывать интерес к физике как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профильному предмету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ТИП УРОКА: обобщение и систематизация учебных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знаний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МЕТОДЫ УРОКА: демонстрационный,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репродуктивный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ОБОРУДОВАНИЕ:  портрет Фарадея, рисунок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двигателя Фарадея, штатив, модель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электродвигателя, нить с грузом, ключ,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источник питания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ar-arrow[1]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 flipH="1">
            <a:off x="7236000" y="5958000"/>
            <a:ext cx="900000" cy="900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1"/>
          <p:cNvSpPr/>
          <p:nvPr/>
        </p:nvSpPr>
        <p:spPr>
          <a:xfrm>
            <a:off x="7740720" y="260280"/>
            <a:ext cx="14032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ar-arrow[1]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</p:spTree>
  </p:cSld>
  <p:transition advTm="16000"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7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7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7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C -0.01493 0.00046 -0.04497 0.00139 -0.04497 0.00139 L -0.05695 0.05069 L -0.04601 0.19467 L -0.04601 0.28264 L 0.0401 0.34652 L 0.08906 0.3 L 0.07101 0.2 L 0.08299 0.08657 L 0.06406 0.01203 L 0.01701 0.00787 L 0.00799 -0.00811 L 4.72222E-006 0 Z">
                                      <p:cBhvr>
                                        <p:cTn id="166" dur="5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"/>
          <p:cNvSpPr/>
          <p:nvPr/>
        </p:nvSpPr>
        <p:spPr>
          <a:xfrm>
            <a:off x="684360" y="0"/>
            <a:ext cx="777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Задание 1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Какой термин впервые ввёл в русский язык М.В.Ломоносов?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2. Её должны знать инженеры и моряки, атомщики и строители, космонавты и шахтёры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3. Это наука о природе.</a:t>
            </a:r>
            <a:r>
              <a:rPr b="1" lang="ru-RU" sz="3600" spc="-1" strike="noStrike">
                <a:solidFill>
                  <a:srgbClr val="99cc00"/>
                </a:solidFill>
                <a:latin typeface="Arial"/>
              </a:rPr>
              <a:t>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ar-arrow[1]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 flipH="1">
            <a:off x="7380360" y="595800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ar-arrow[1]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2"/>
          <p:cNvSpPr/>
          <p:nvPr/>
        </p:nvSpPr>
        <p:spPr>
          <a:xfrm>
            <a:off x="8244000" y="260280"/>
            <a:ext cx="79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4021dd"/>
                </a:solidFill>
                <a:latin typeface="Arial"/>
              </a:rPr>
              <a:t>?</a:t>
            </a:r>
            <a:endParaRPr b="1" i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2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Motion origin="layout" path="M 0 0 C -0.06077 0.01389 -0.12136 0.02801 -0.13299 0.05324 C -0.14462 0.07824 -0.09827 0.1324 -0.06997 0.15208 C -0.04167 0.17129 0.00191 0.18125 0.03698 0.16921 C 0.07205 0.1574 0.14653 0.09815 0.14097 0.08009 C 0.13542 0.06203 0.02726 0.06458 0.00312 0.06134 C -0.02101 0.0581 -0.0125 0.05903 -0.00399 0.05995 E">
                                      <p:cBhvr>
                                        <p:cTn id="175" dur="14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3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3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3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324000" y="260280"/>
            <a:ext cx="698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ar-arrow[1]">
            <a:hlinkClick r:id="" action="ppaction://hlinkshowjump?jump=previousslide"/>
            <a:hlinkClick r:id="rId2"/>
          </p:cNvPr>
          <p:cNvPicPr/>
          <p:nvPr/>
        </p:nvPicPr>
        <p:blipFill>
          <a:blip r:embed="rId3"/>
          <a:stretch/>
        </p:blipFill>
        <p:spPr>
          <a:xfrm flipH="1">
            <a:off x="7308360" y="5958000"/>
            <a:ext cx="900360" cy="900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8">
            <a:hlinkClick r:id="" action="ppaction://hlinkshowjump?jump=previousslide"/>
          </p:cNvPr>
          <p:cNvSpPr/>
          <p:nvPr/>
        </p:nvSpPr>
        <p:spPr>
          <a:xfrm>
            <a:off x="611280" y="333360"/>
            <a:ext cx="7848360" cy="64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Задание 2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Ним начали пользоваться дома в начале 20-го века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Когда его отключают, всем становится очень скучно.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Он состоит из заряженных частиц.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2" descr="ar-arrow[1]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3"/>
          <p:cNvSpPr/>
          <p:nvPr/>
        </p:nvSpPr>
        <p:spPr>
          <a:xfrm>
            <a:off x="7885080" y="0"/>
            <a:ext cx="10080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200" spc="-1" strike="noStrike">
                <a:solidFill>
                  <a:srgbClr val="f1f10d"/>
                </a:solidFill>
                <a:latin typeface="Monotype Corsiva"/>
              </a:rPr>
              <a:t>?</a:t>
            </a:r>
            <a:endParaRPr b="1" i="1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remove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Motion origin="layout" path="M 0 0 C -0.01927 0.02291 -0.03854 0.04606 -0.04201 0.05879 C -0.04548 0.07153 -0.0335 0.0706 -0.021 0.07616 C -0.0085 0.08171 0.00764 0.08773 0.03299 0.09213 C 0.05834 0.09653 0.10434 0.10324 0.13091 0.10278 C 0.15747 0.10231 0.17674 0.09421 0.19289 0.08935 C 0.20903 0.08449 0.2191 0.07778 0.22795 0.07338 C 0.23681 0.06898 0.25018 0.07199 0.24584 0.06273 C 0.2415 0.05347 0.21563 0.02523 0.20191 0.01736 C 0.1882 0.00949 0.17657 0.01736 0.16389 0.01597 C 0.15122 0.01458 0.13664 0.01065 0.12587 0.00949 C 0.11511 0.00833 0.10209 0.00926 0.09896 0.00949 C 0.09584 0.00972 0.10573 0.01041 0.10695 0.01065 E">
                                      <p:cBhvr>
                                        <p:cTn id="197" dur="3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3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3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3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395280" y="404640"/>
            <a:ext cx="7561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Задание 3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Их используют для защиты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У них нет свободных электронов.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  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3. Они не проводят электрический ток.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micsh"/>
          <p:cNvPicPr/>
          <p:nvPr/>
        </p:nvPicPr>
        <p:blipFill>
          <a:blip r:embed="rId2"/>
          <a:stretch/>
        </p:blipFill>
        <p:spPr>
          <a:xfrm>
            <a:off x="-1189080" y="6238800"/>
            <a:ext cx="914400" cy="619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ar-arrow[1]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ar-arrow[1]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 flipH="1">
            <a:off x="7308360" y="5958000"/>
            <a:ext cx="900360" cy="90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Motion origin="layout" path="M 1.11111E-006 -1.11111E-006 C -0.05174 0.00347 -0.10348 0.00694 -0.12605 0.01597 C -0.14862 0.025 -0.14063 0.04282 -0.13594 0.05463 C -0.13125 0.06643 -0.11476 0.0794 -0.09792 0.08657 C -0.08108 0.09375 -0.0566 0.09398 -0.0349 0.09745 C -0.0132 0.10092 0.01128 0.10787 0.03211 0.1081 C 0.05295 0.10833 0.07309 0.10324 0.0901 0.09861 C 0.10711 0.09398 0.12569 0.08634 0.13402 0.08009 C 0.14236 0.07384 0.13906 0.06898 0.1401 0.06134 C 0.14114 0.0537 0.14288 0.04421 0.1401 0.03472 C 0.13732 0.02523 0.1335 0.00949 0.12309 0.00393 C 0.11267 -0.00162 0.09201 0.00185 0.07708 0.00139 C 0.06215 0.00092 0.04444 0.00139 0.03298 0.00139 C 0.02152 0.00139 0.01232 0.00139 0.00798 0.00139 E">
                                      <p:cBhvr>
                                        <p:cTn id="217" dur="3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1.48148E-006 C 0.00138 -0.00509 0.00034 -0.00301 0.00312 -0.00671 C 0.00607 -0.00532 0.00885 -0.00232 0.01197 -0.00255 C 0.01631 -0.00301 0.01996 -0.0162 0.01996 -0.0162 C 0.02135 -0.02662 0.02464 -0.03449 0.03228 -0.04028 C 0.03697 -0.04398 0.04114 -0.04398 0.04496 -0.04931 L 0.08801 -0.06389 L 0.13801 -0.06389 L 0.16805 -0.04398 L 0.21006 -0.01991 L 0.23402 -0.01991 L 0.27707 -0.01458 L 0.36301 0.00671 L 0.52707 0.03727 L 0.62204 0.00532 L 0.70607 -0.04815 L 0.74496 -0.13727 L 0.76909 -0.22685 L 0.7861 -0.30949 L 0.82707 -0.37083 L 0.90207 -0.45069 L 0.96909 -0.54537 L 0.98801 -0.60139 L 0.99704 -0.71204 L 0.99704 -0.75093 L 0.95607 -0.81204 L 0.93003 -0.84653 L 0.84704 -0.88519 L 0.78905 -0.91458 L 0.64791 -0.9294 L 0.52812 -0.9294 L 0.42603 -0.92523 L 0.36596 -0.90671 L 0.1861 -0.90671 L 0.12308 -0.80671 L 0.11909 -0.75857 L 0.09409 -0.66273 L 0.09409 -0.55486 L 0.08506 -0.44421 L 0.09704 -0.30278 L 0.10711 -0.1787 L 0.29999 -0.04398 L 0.40607 -0.03357 L 0.63697 0.03194 L 0.78402 0.01481 L 0.93905 0.00278 L 0.99704 -0.01991 L 0.99704 -0.04028 L 1.00103 -0.09074 E">
                                      <p:cBhvr>
                                        <p:cTn id="219" dur="5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3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3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3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3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468360" y="47628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Задание 4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1. Без него нельзя собрать электрическую цепь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2. Первый такой прибор изобрёл Вольта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3. Он вырабатывает электрический ток.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7887240" y="136440"/>
            <a:ext cx="1002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600" spc="-1" strike="noStrike">
                <a:solidFill>
                  <a:srgbClr val="f1f10d"/>
                </a:solidFill>
                <a:latin typeface="Arial"/>
              </a:rPr>
              <a:t>?</a:t>
            </a:r>
            <a:endParaRPr b="1" i="1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ar-arrow[1]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flipH="1">
            <a:off x="7308360" y="5958000"/>
            <a:ext cx="900360" cy="900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ar-arrow[1]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3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468360" y="476280"/>
            <a:ext cx="763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Задание 5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Он состоит из двух веществ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2. Он есть в любом бытовом электроприборе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3. Он пропускает электрический ток лишь в одном направлении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7887240" y="136440"/>
            <a:ext cx="1002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600" spc="-1" strike="noStrike">
                <a:solidFill>
                  <a:srgbClr val="f1f10d"/>
                </a:solidFill>
                <a:latin typeface="Arial"/>
              </a:rPr>
              <a:t>?</a:t>
            </a:r>
            <a:endParaRPr b="1" i="1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ar-arrow[1]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flipH="1">
            <a:off x="7308360" y="5958000"/>
            <a:ext cx="900360" cy="900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ar-arrow[1]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3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3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3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468360" y="47628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Задание 6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Эти вещества бывают твёрдые, но могут быть и жидкими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2. Они бывают двух родов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3. Они хорошо проводят электрический ток.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7887240" y="136440"/>
            <a:ext cx="1002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600" spc="-1" strike="noStrike">
                <a:solidFill>
                  <a:srgbClr val="f1f10d"/>
                </a:solidFill>
                <a:latin typeface="Arial"/>
              </a:rPr>
              <a:t>?</a:t>
            </a:r>
            <a:endParaRPr b="1" i="1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ar-arrow[1]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flipH="1">
            <a:off x="7308360" y="5958000"/>
            <a:ext cx="900360" cy="900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ar-arrow[1]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3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3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3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468360" y="476280"/>
            <a:ext cx="7632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Задание 7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1. У металлов при повышении температуры оно возрастает, а у полупроводников и         электролитов — падает. 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2. Оно есть даже у человека, причём у каждого оно разное. 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3. Его можно измерить омметром.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7887240" y="136440"/>
            <a:ext cx="1002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600" spc="-1" strike="noStrike">
                <a:solidFill>
                  <a:srgbClr val="f1f10d"/>
                </a:solidFill>
                <a:latin typeface="Arial"/>
              </a:rPr>
              <a:t>?</a:t>
            </a:r>
            <a:endParaRPr b="1" i="1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ar-arrow[1]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flipH="1">
            <a:off x="7308360" y="5958000"/>
            <a:ext cx="900360" cy="900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ar-arrow[1]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3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3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3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01:20:22Z</dcterms:created>
  <dc:creator>Kseniya</dc:creator>
  <dc:description/>
  <dc:language>en-US</dc:language>
  <cp:lastModifiedBy>Lera</cp:lastModifiedBy>
  <dcterms:modified xsi:type="dcterms:W3CDTF">2011-08-17T15:58:32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08000000000001024140</vt:lpwstr>
  </property>
</Properties>
</file>