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3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jpeg" ContentType="image/jpeg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25.wmf" ContentType="image/x-wmf"/>
  <Override PartName="/ppt/media/image1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jpeg" ContentType="image/jpeg"/>
  <Override PartName="/ppt/media/image21.wmf" ContentType="image/x-wmf"/>
  <Override PartName="/ppt/media/image20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4E9-CB7C-4B5E-AB71-F87D12FA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994-0F6B-4F43-83D0-E12710D5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4E7-2418-4D2E-A6AB-F20564D3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5A7-5524-4559-98AA-D0325F01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CE5-DB2E-4E58-A881-BF9A47D8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64C-2FD7-4C3A-AA7D-26A24B78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F19-F5E4-4202-9F99-14696BD9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911-8AB9-48E1-B787-C54A5CF9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D3B-7FEE-48E8-9D46-9EB7A0E0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D33-1B5F-426D-A991-547F7C11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73A-8FC9-4C13-B245-0E13513E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655-457C-4882-91E2-22876E3F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1207-A433-4A8E-99AA-E651AD5D2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6880" cy="29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рок химии в 8-А клас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линко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j0299171"/>
          <p:cNvPicPr/>
          <p:nvPr/>
        </p:nvPicPr>
        <p:blipFill>
          <a:blip r:embed="rId1"/>
          <a:stretch/>
        </p:blipFill>
        <p:spPr>
          <a:xfrm>
            <a:off x="250920" y="3075120"/>
            <a:ext cx="460836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ХИМИЧЕСКИЕ СВОЙСТВА СО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j0196374"/>
          <p:cNvPicPr/>
          <p:nvPr/>
        </p:nvPicPr>
        <p:blipFill>
          <a:blip r:embed="rId1"/>
          <a:stretch/>
        </p:blipFill>
        <p:spPr>
          <a:xfrm>
            <a:off x="468360" y="3284640"/>
            <a:ext cx="7848720" cy="357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одействие солей с основа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j0293844"/>
          <p:cNvPicPr/>
          <p:nvPr/>
        </p:nvPicPr>
        <p:blipFill>
          <a:blip r:embed="rId1"/>
          <a:stretch/>
        </p:blipFill>
        <p:spPr>
          <a:xfrm rot="19808400">
            <a:off x="1507680" y="2276640"/>
            <a:ext cx="5616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LIP0027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433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eCl3 + 3NaOH = Fe(OH)3 + 3NaCl 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рый осад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j0293240"/>
          <p:cNvPicPr/>
          <p:nvPr/>
        </p:nvPicPr>
        <p:blipFill>
          <a:blip r:embed="rId1"/>
          <a:stretch/>
        </p:blipFill>
        <p:spPr>
          <a:xfrm>
            <a:off x="3132000" y="3429000"/>
            <a:ext cx="5543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Соль(1) + щелочь = нерастворимый гидроксид + соль(2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j0240719"/>
          <p:cNvPicPr/>
          <p:nvPr/>
        </p:nvPicPr>
        <p:blipFill>
          <a:blip r:embed="rId1"/>
          <a:stretch/>
        </p:blipFill>
        <p:spPr>
          <a:xfrm>
            <a:off x="1403280" y="1700280"/>
            <a:ext cx="4319640" cy="489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62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91440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ь(1) + кислота(1) = кислота(2) + соль(2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6920" y="18900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заимодействие солей с кислотами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j0212661"/>
          <p:cNvPicPr/>
          <p:nvPr/>
        </p:nvPicPr>
        <p:blipFill>
          <a:blip r:embed="rId1"/>
          <a:stretch/>
        </p:blipFill>
        <p:spPr>
          <a:xfrm>
            <a:off x="0" y="1773360"/>
            <a:ext cx="3059280" cy="273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LIP0028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179496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Νа2ŚìО3 + 2НСl = 2 ΝаСl + Н2ŚìО3↓ ( гел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2924280"/>
            <a:ext cx="73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2СО3 = СО2 ↑+ Н2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2ŚО3 = ŚО2 ↑ + Н2О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j0305257"/>
          <p:cNvPicPr/>
          <p:nvPr/>
        </p:nvPicPr>
        <p:blipFill>
          <a:blip r:embed="rId1"/>
          <a:stretch/>
        </p:blipFill>
        <p:spPr>
          <a:xfrm>
            <a:off x="5076720" y="2492280"/>
            <a:ext cx="3730680" cy="4032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370520" y="814320"/>
            <a:ext cx="64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l2+H2SO4=BaSO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H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LIP0029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5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3 + 2H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CaCl2 +H2CO3 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CO3 + 2HCl →CaCl2 + CO2↑ + H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j0286034"/>
          <p:cNvPicPr/>
          <p:nvPr/>
        </p:nvPicPr>
        <p:blipFill>
          <a:blip r:embed="rId2"/>
          <a:stretch/>
        </p:blipFill>
        <p:spPr>
          <a:xfrm>
            <a:off x="4067280" y="3716280"/>
            <a:ext cx="36734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-39672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спех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4" name="Picture 7" descr="j0216588"/>
          <p:cNvPicPr/>
          <p:nvPr/>
        </p:nvPicPr>
        <p:blipFill>
          <a:blip r:embed="rId1"/>
          <a:stretch/>
        </p:blipFill>
        <p:spPr>
          <a:xfrm>
            <a:off x="6227640" y="4076640"/>
            <a:ext cx="291636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q3(РО4)2 + 3Н2ŚО4 = МqŚО4 + 2Н3РО4;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АlРО4 + 3Н2ŚО4 = Аl2(ŚО4)3 + 2Н3РО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j0336075"/>
          <p:cNvPicPr/>
          <p:nvPr/>
        </p:nvPicPr>
        <p:blipFill>
          <a:blip r:embed="rId1"/>
          <a:stretch/>
        </p:blipFill>
        <p:spPr>
          <a:xfrm>
            <a:off x="250920" y="2781360"/>
            <a:ext cx="35211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одействие солей</a:t>
            </a:r>
            <a:br>
              <a:rPr sz="40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ль(1) + соль(2) = соль(3) + соль(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263600" y="1289160"/>
            <a:ext cx="631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qΝО3 + ΝаСl = АqСl ↓ + ΝаΝО3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Сl2 + Νа2ŚО4 = ВаŚО4 ↓ + 2ΝаС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900000" y="3789360"/>
            <a:ext cx="7093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ŚО4 + ВаСl2 = ВаŚО4 ↓ + СаС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196400"/>
          <p:cNvPicPr/>
          <p:nvPr/>
        </p:nvPicPr>
        <p:blipFill>
          <a:blip r:embed="rId1"/>
          <a:stretch/>
        </p:blipFill>
        <p:spPr>
          <a:xfrm>
            <a:off x="0" y="3573360"/>
            <a:ext cx="1695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Какое вещество выпадает в осадок, если смешать растворы нитрата кальция и серной кислоты? Написать уравнение реакци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j0335112"/>
          <p:cNvPicPr/>
          <p:nvPr/>
        </p:nvPicPr>
        <p:blipFill>
          <a:blip r:embed="rId1"/>
          <a:stretch/>
        </p:blipFill>
        <p:spPr>
          <a:xfrm>
            <a:off x="1835280" y="2852640"/>
            <a:ext cx="5905440" cy="4005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(NO3)2+ H2SO4 = CaSO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 + 2H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BD21332_"/>
          <p:cNvPicPr/>
          <p:nvPr/>
        </p:nvPicPr>
        <p:blipFill>
          <a:blip r:embed="rId1"/>
          <a:stretch/>
        </p:blipFill>
        <p:spPr>
          <a:xfrm rot="9779400">
            <a:off x="218520" y="3441240"/>
            <a:ext cx="7621560" cy="227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Дописать уравнение реакци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СuŚО4 + Ва(ОН)2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Са(ОН)2 + К2СО3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К2ŚО3 + СаСl2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 Νа2ŚО3 + Н2ŚО4 =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j0217698"/>
          <p:cNvPicPr/>
          <p:nvPr/>
        </p:nvPicPr>
        <p:blipFill>
          <a:blip r:embed="rId1"/>
          <a:stretch/>
        </p:blipFill>
        <p:spPr>
          <a:xfrm>
            <a:off x="5867280" y="3789360"/>
            <a:ext cx="32767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СuŚО4 + Ва(ОН)2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(OH)2 + BaSO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а(ОН)2 + К2СО3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CO3 + 2KOH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К2ŚО3 + СаСl2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KCl + CaSO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Νа2ŚО3 + Н2ŚО4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2SO4+H2O+S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BD21313_"/>
          <p:cNvPicPr/>
          <p:nvPr/>
        </p:nvPicPr>
        <p:blipFill>
          <a:blip r:embed="rId1"/>
          <a:stretch/>
        </p:blipFill>
        <p:spPr>
          <a:xfrm rot="9626400">
            <a:off x="510840" y="4884840"/>
            <a:ext cx="4686120" cy="105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ычислите массу осадка, образующегося при взаимодействии сульфата натрия с хлоридом бария массой 41,6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j0235241"/>
          <p:cNvPicPr/>
          <p:nvPr/>
        </p:nvPicPr>
        <p:blipFill>
          <a:blip r:embed="rId1"/>
          <a:stretch/>
        </p:blipFill>
        <p:spPr>
          <a:xfrm rot="1021200">
            <a:off x="926640" y="3022560"/>
            <a:ext cx="55436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32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Дано: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M(ВаСl2)=41,6г.                                  Решение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                                                                     41,6г                      х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________________                  Νа2ŚО4 + ВаСl2 = 2ΝаСl + ВаŚО4↓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  Найти: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m(осадка)-?                                                  М=208                  М=233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                                                   γ(ВаСl2)=41,6г ⁄208г\моль= 0,2 моль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Т.к. количество вещества у хлорида бария и сульфата бария одинаковое по реакции, то и по решению задачи количество вещества сульфата бария будет 0,2 моль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Значит: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m(осадка)= γ * М; m(ВаŚО4)= 0,2 моль * 233г⁄моль= 46,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j0251301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икрофон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уроке мне запомнилось….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интересно узнать….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 научился………………………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BD21325_"/>
          <p:cNvPicPr/>
          <p:nvPr/>
        </p:nvPicPr>
        <p:blipFill>
          <a:blip r:embed="rId1"/>
          <a:stretch/>
        </p:blipFill>
        <p:spPr>
          <a:xfrm>
            <a:off x="179280" y="549360"/>
            <a:ext cx="8964720" cy="43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учить §19, выполнить задания 1-2,4;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готовить сообщение на тему «Соли в природе. Их значение», (по желанию одного из учащихс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j0205582"/>
          <p:cNvPicPr/>
          <p:nvPr/>
        </p:nvPicPr>
        <p:blipFill>
          <a:blip r:embed="rId1"/>
          <a:stretch/>
        </p:blipFill>
        <p:spPr>
          <a:xfrm>
            <a:off x="2700360" y="4221000"/>
            <a:ext cx="5040360" cy="263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годня на уроке мы будем:</a:t>
            </a:r>
            <a:br>
              <a:rPr sz="4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Знакомиться с химическими свойствами соле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знаем о взаимодействии солей с кислотами, основаниями, солям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Научимся составлять уравнения реакций обме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Наблюдать и делать 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j0158007"/>
          <p:cNvPicPr/>
          <p:nvPr/>
        </p:nvPicPr>
        <p:blipFill>
          <a:blip r:embed="rId1"/>
          <a:stretch/>
        </p:blipFill>
        <p:spPr>
          <a:xfrm rot="1548600">
            <a:off x="209520" y="4302000"/>
            <a:ext cx="4537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5353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58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 теперь вспомним, какой раздел химии мы изучае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j0315447"/>
          <p:cNvPicPr/>
          <p:nvPr/>
        </p:nvPicPr>
        <p:blipFill>
          <a:blip r:embed="rId1"/>
          <a:stretch/>
        </p:blipFill>
        <p:spPr>
          <a:xfrm rot="20991000">
            <a:off x="323640" y="18864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27280" y="189000"/>
            <a:ext cx="651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ать определение кислот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ать определение сол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звать формулу сульфатной кислот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звание ортофосфатной кислот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Что такое оксиды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 обдумывание дается 5 секунд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j0234131"/>
          <p:cNvPicPr/>
          <p:nvPr/>
        </p:nvPicPr>
        <p:blipFill>
          <a:blip r:embed="rId1"/>
          <a:stretch/>
        </p:blipFill>
        <p:spPr>
          <a:xfrm>
            <a:off x="684360" y="4076640"/>
            <a:ext cx="3240000" cy="278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34900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спресс – контроль формирования умения составлять уравнения реакций кислотно-основных взаимодейств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j0195384"/>
          <p:cNvPicPr/>
          <p:nvPr/>
        </p:nvPicPr>
        <p:blipFill>
          <a:blip r:embed="rId1"/>
          <a:stretch/>
        </p:blipFill>
        <p:spPr>
          <a:xfrm>
            <a:off x="6804000" y="1341360"/>
            <a:ext cx="2340000" cy="2625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4360" y="62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305280"/>
            <a:ext cx="417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І вариан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Ζn(ОН)2 + Н2ŚО4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 + Н2ŚО3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eО + НСl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l2О3 + Н2ŚО4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(ОН)2 + ŚО2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ΝаОН + Ν2О5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qО + СО2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788000" y="333360"/>
            <a:ext cx="435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ІІ вариан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l(ОН)3 + Н3РО4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u(ОН)2 + НВr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ΖnО + Н2ŚО4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e2О3 + НСl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 + Ν2О5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(ОН)2 + СО2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О + ŚО2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j0199661"/>
          <p:cNvPicPr/>
          <p:nvPr/>
        </p:nvPicPr>
        <p:blipFill>
          <a:blip r:embed="rId1"/>
          <a:stretch/>
        </p:blipFill>
        <p:spPr>
          <a:xfrm>
            <a:off x="2484360" y="5013360"/>
            <a:ext cx="3456000" cy="213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662472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І 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группа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Ζn(ОН)2 + Н2ŚО4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SO4 + 2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 + Н2ŚО3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2SO3 + 2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eО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Сl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eCl2 + 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l2О3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2ŚО4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2 (SO4)3 + 3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(ОН)2 + ŚО2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SO3 + H2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ΝаОН + Ν2О5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NaNO3 + 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qО + СО2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gC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j0088542"/>
          <p:cNvPicPr/>
          <p:nvPr/>
        </p:nvPicPr>
        <p:blipFill>
          <a:blip r:embed="rId1"/>
          <a:stretch/>
        </p:blipFill>
        <p:spPr>
          <a:xfrm rot="6237600">
            <a:off x="5022360" y="2320920"/>
            <a:ext cx="54374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7236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ІІ групп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l(ОН)3 + Н3РО4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PO4 +3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u(ОН)2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Вr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uBr2 + 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ΖnО + Н2ŚО4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ZnSO4 + 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Fe2О3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Сl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FeCl3 + 3H2O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 + Ν2О5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KNO + 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(ОН)2 + СО2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aCO3 + 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О + ŚО2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S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j0157995"/>
          <p:cNvPicPr/>
          <p:nvPr/>
        </p:nvPicPr>
        <p:blipFill>
          <a:blip r:embed="rId1"/>
          <a:stretch/>
        </p:blipFill>
        <p:spPr>
          <a:xfrm rot="6241800">
            <a:off x="4217400" y="2584080"/>
            <a:ext cx="6408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8:32:57Z</dcterms:created>
  <dc:creator>usert</dc:creator>
  <dc:description/>
  <dc:language>en-US</dc:language>
  <cp:lastModifiedBy>Asus</cp:lastModifiedBy>
  <dcterms:modified xsi:type="dcterms:W3CDTF">2013-12-05T08:30:43Z</dcterms:modified>
  <cp:revision>11</cp:revision>
  <dc:subject/>
  <dc:title>Тема: ХИМИЧЕСКИЕ СВОЙСТВА СОЛ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6000000000001024140</vt:lpwstr>
  </property>
</Properties>
</file>