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jpeg" ContentType="image/jpeg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1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1.wmf" ContentType="image/x-wmf"/>
  <Override PartName="/ppt/media/image20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BD3-E779-4744-9336-96BD77E2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A90-CEEF-4CB6-A9FC-26092EC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B44-B28A-4B0F-9851-650758AE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418-0D0D-43BF-8351-76A8583A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B1C-E943-4693-9B4C-35CA7E7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033-9275-4CF0-8BF9-C24604E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F22-1ECA-4978-BE10-220DAAF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1E8-84F6-4E2E-880C-DF25338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76D-C14A-45A5-AB6F-9A77ED8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768-0AA0-4F67-9DC6-7CB5610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79E-8AF3-4AC7-9094-D6C33E1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71-44E1-4A17-A774-F48AE59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8CA3-F4C2-4B64-BC27-C000328D6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6880" cy="29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рок химии в 8-А клас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инко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j0299171"/>
          <p:cNvPicPr/>
          <p:nvPr/>
        </p:nvPicPr>
        <p:blipFill>
          <a:blip r:embed="rId1"/>
          <a:stretch/>
        </p:blipFill>
        <p:spPr>
          <a:xfrm>
            <a:off x="250920" y="3075120"/>
            <a:ext cx="46083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МИЧЕСКИЕ СВОЙСТВА СО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j0196374"/>
          <p:cNvPicPr/>
          <p:nvPr/>
        </p:nvPicPr>
        <p:blipFill>
          <a:blip r:embed="rId1"/>
          <a:stretch/>
        </p:blipFill>
        <p:spPr>
          <a:xfrm>
            <a:off x="468360" y="3284640"/>
            <a:ext cx="7848720" cy="35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 с осно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0293844"/>
          <p:cNvPicPr/>
          <p:nvPr/>
        </p:nvPicPr>
        <p:blipFill>
          <a:blip r:embed="rId1"/>
          <a:stretch/>
        </p:blipFill>
        <p:spPr>
          <a:xfrm rot="19808400">
            <a:off x="1507680" y="2276640"/>
            <a:ext cx="561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LIP0027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433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eCl3 + 3NaOH = Fe(OH)3 + 3NaCl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рый осад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0293240"/>
          <p:cNvPicPr/>
          <p:nvPr/>
        </p:nvPicPr>
        <p:blipFill>
          <a:blip r:embed="rId1"/>
          <a:stretch/>
        </p:blipFill>
        <p:spPr>
          <a:xfrm>
            <a:off x="3132000" y="3429000"/>
            <a:ext cx="554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Соль(1) + щелочь = нерастворимый гидроксид + соль(2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j0240719"/>
          <p:cNvPicPr/>
          <p:nvPr/>
        </p:nvPicPr>
        <p:blipFill>
          <a:blip r:embed="rId1"/>
          <a:stretch/>
        </p:blipFill>
        <p:spPr>
          <a:xfrm>
            <a:off x="1403280" y="1700280"/>
            <a:ext cx="4319640" cy="489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6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91440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(1) + кислота(1) = кислота(2) + соль(2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6920" y="189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заимодействие солей с кислотами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j0212661"/>
          <p:cNvPicPr/>
          <p:nvPr/>
        </p:nvPicPr>
        <p:blipFill>
          <a:blip r:embed="rId1"/>
          <a:stretch/>
        </p:blipFill>
        <p:spPr>
          <a:xfrm>
            <a:off x="0" y="1773360"/>
            <a:ext cx="305928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LIP0028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17949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Νа2ŚìО3 + 2НСl = 2 ΝаСl + Н2ŚìО3↓ ( гел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2924280"/>
            <a:ext cx="73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СО3 = СО2 ↑+ Н2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2ŚО3 = ŚО2 ↑ + Н2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0305257"/>
          <p:cNvPicPr/>
          <p:nvPr/>
        </p:nvPicPr>
        <p:blipFill>
          <a:blip r:embed="rId1"/>
          <a:stretch/>
        </p:blipFill>
        <p:spPr>
          <a:xfrm>
            <a:off x="5076720" y="2492280"/>
            <a:ext cx="3730680" cy="40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370520" y="814320"/>
            <a:ext cx="64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l2+H2SO4=BaSO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H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LIP0029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3 + 2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CaCl2 +H2CO3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CO3 + 2HCl →CaCl2 + CO2↑ + 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j0286034"/>
          <p:cNvPicPr/>
          <p:nvPr/>
        </p:nvPicPr>
        <p:blipFill>
          <a:blip r:embed="rId2"/>
          <a:stretch/>
        </p:blipFill>
        <p:spPr>
          <a:xfrm>
            <a:off x="4067280" y="371628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-39672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пех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Picture 7" descr="j0216588"/>
          <p:cNvPicPr/>
          <p:nvPr/>
        </p:nvPicPr>
        <p:blipFill>
          <a:blip r:embed="rId1"/>
          <a:stretch/>
        </p:blipFill>
        <p:spPr>
          <a:xfrm>
            <a:off x="6227640" y="4076640"/>
            <a:ext cx="291636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q3(РО4)2 + 3Н2ŚО4 = МqŚО4 + 2Н3РО4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АlРО4 + 3Н2ŚО4 = Аl2(ŚО4)3 + 2Н3РО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0336075"/>
          <p:cNvPicPr/>
          <p:nvPr/>
        </p:nvPicPr>
        <p:blipFill>
          <a:blip r:embed="rId1"/>
          <a:stretch/>
        </p:blipFill>
        <p:spPr>
          <a:xfrm>
            <a:off x="250920" y="2781360"/>
            <a:ext cx="35211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действие солей</a:t>
            </a: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ь(1) + соль(2) = соль(3) + соль(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263600" y="1289160"/>
            <a:ext cx="631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qΝО3 + ΝаСl = АqСl ↓ + ΝаΝО3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Сl2 + Νа2ŚО4 = ВаŚО4 ↓ + 2ΝаС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00000" y="3789360"/>
            <a:ext cx="7093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ŚО4 + ВаСl2 = ВаŚО4 ↓ + СаС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196400"/>
          <p:cNvPicPr/>
          <p:nvPr/>
        </p:nvPicPr>
        <p:blipFill>
          <a:blip r:embed="rId1"/>
          <a:stretch/>
        </p:blipFill>
        <p:spPr>
          <a:xfrm>
            <a:off x="0" y="35733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Какое вещество выпадает в осадок, если смешать растворы нитрата кальция и серной кислоты? Написать уравнение реакц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j0335112"/>
          <p:cNvPicPr/>
          <p:nvPr/>
        </p:nvPicPr>
        <p:blipFill>
          <a:blip r:embed="rId1"/>
          <a:stretch/>
        </p:blipFill>
        <p:spPr>
          <a:xfrm>
            <a:off x="1835280" y="2852640"/>
            <a:ext cx="5905440" cy="4005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(NO3)2+ H2SO4 = C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 + 2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21332_"/>
          <p:cNvPicPr/>
          <p:nvPr/>
        </p:nvPicPr>
        <p:blipFill>
          <a:blip r:embed="rId1"/>
          <a:stretch/>
        </p:blipFill>
        <p:spPr>
          <a:xfrm rot="9779400">
            <a:off x="218520" y="3441240"/>
            <a:ext cx="7621560" cy="227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Дописать уравнение реакц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Νа2ŚО3 + Н2ŚО4 =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j0217698"/>
          <p:cNvPicPr/>
          <p:nvPr/>
        </p:nvPicPr>
        <p:blipFill>
          <a:blip r:embed="rId1"/>
          <a:stretch/>
        </p:blipFill>
        <p:spPr>
          <a:xfrm>
            <a:off x="5867280" y="3789360"/>
            <a:ext cx="3276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СuŚО4 + Ва(ОН)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(OH)2 + BaSO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а(ОН)2 + К2СО3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CO3 + 2KOH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2ŚО3 + СаСl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 + CaSO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Νа2ŚО3 + Н2ŚО4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2SO4+H2O+S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BD21313_"/>
          <p:cNvPicPr/>
          <p:nvPr/>
        </p:nvPicPr>
        <p:blipFill>
          <a:blip r:embed="rId1"/>
          <a:stretch/>
        </p:blipFill>
        <p:spPr>
          <a:xfrm rot="9626400">
            <a:off x="510840" y="4884840"/>
            <a:ext cx="4686120" cy="105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ычислите массу осадка, образующегося при взаимодействии сульфата натрия с хлоридом бария массой 41,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35241"/>
          <p:cNvPicPr/>
          <p:nvPr/>
        </p:nvPicPr>
        <p:blipFill>
          <a:blip r:embed="rId1"/>
          <a:stretch/>
        </p:blipFill>
        <p:spPr>
          <a:xfrm rot="1021200">
            <a:off x="926640" y="3022560"/>
            <a:ext cx="554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ано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ВаСl2)=41,6г.                                  Решение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                  41,6г                      х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________________                  Νа2ŚО4 + ВаСl2 = 2ΝаСl + ВаŚО4↓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Найти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-?                                                  М=208                  М=233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                    γ(ВаСl2)=41,6г ⁄208г\моль=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Т.к. количество вещества у хлорида бария и сульфата бария одинаковое по реакции, то и по решению задачи количество вещества сульфата бария будет 0,2 мол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начит: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m(осадка)= γ * М; m(ВаŚО4)= 0,2 моль * 233г⁄моль= 46,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j0251301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икрофон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уроке мне запомнилос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интересно узнать….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научился………………………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BD21325_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43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учить §19, выполнить задания 1-2,4;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ь сообщение на тему «Соли в природе. Их значение», (по желанию одного из учащихс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205582"/>
          <p:cNvPicPr/>
          <p:nvPr/>
        </p:nvPicPr>
        <p:blipFill>
          <a:blip r:embed="rId1"/>
          <a:stretch/>
        </p:blipFill>
        <p:spPr>
          <a:xfrm>
            <a:off x="2700360" y="4221000"/>
            <a:ext cx="5040360" cy="263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 мы будем: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Знакомиться с химическими свойствами с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знаем о взаимодействии солей с кислотами, основаниями, соля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Научимся составлять уравнения реакций обме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блюдать и дел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j0158007"/>
          <p:cNvPicPr/>
          <p:nvPr/>
        </p:nvPicPr>
        <p:blipFill>
          <a:blip r:embed="rId1"/>
          <a:stretch/>
        </p:blipFill>
        <p:spPr>
          <a:xfrm rot="1548600">
            <a:off x="209520" y="4302000"/>
            <a:ext cx="4537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5353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теперь вспомним, какой раздел химии мы изучае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15447"/>
          <p:cNvPicPr/>
          <p:nvPr/>
        </p:nvPicPr>
        <p:blipFill>
          <a:blip r:embed="rId1"/>
          <a:stretch/>
        </p:blipFill>
        <p:spPr>
          <a:xfrm rot="20991000">
            <a:off x="323640" y="18864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27280" y="189000"/>
            <a:ext cx="65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со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ть формулу суль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звание ортофосфатной кисло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Что такое оксиды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 обдумывание дается 5 секунд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34131"/>
          <p:cNvPicPr/>
          <p:nvPr/>
        </p:nvPicPr>
        <p:blipFill>
          <a:blip r:embed="rId1"/>
          <a:stretch/>
        </p:blipFill>
        <p:spPr>
          <a:xfrm>
            <a:off x="684360" y="4076640"/>
            <a:ext cx="324000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34900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ресс – контроль формирования умения составлять уравнения реакций кислотно-основных взаимодейств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0195384"/>
          <p:cNvPicPr/>
          <p:nvPr/>
        </p:nvPicPr>
        <p:blipFill>
          <a:blip r:embed="rId1"/>
          <a:stretch/>
        </p:blipFill>
        <p:spPr>
          <a:xfrm>
            <a:off x="6804000" y="1341360"/>
            <a:ext cx="2340000" cy="262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052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О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2О3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qО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788000" y="333360"/>
            <a:ext cx="435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ІІ вариан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u(ОН)2 + НВr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e2О3 + НСl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j0199661"/>
          <p:cNvPicPr/>
          <p:nvPr/>
        </p:nvPicPr>
        <p:blipFill>
          <a:blip r:embed="rId1"/>
          <a:stretch/>
        </p:blipFill>
        <p:spPr>
          <a:xfrm>
            <a:off x="2484360" y="5013360"/>
            <a:ext cx="3456000" cy="213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624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І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группа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Ζn(ОН)2 + 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SO4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 + Н2ŚО3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2SO3 + 2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eО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eCl2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l2О3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2ŚО4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2 (SO4)3 + 3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(ОН)2 + Ś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O3 + H2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ΝаОН + Ν2О5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NaNO3 + H2O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qО + СО2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j0088542"/>
          <p:cNvPicPr/>
          <p:nvPr/>
        </p:nvPicPr>
        <p:blipFill>
          <a:blip r:embed="rId1"/>
          <a:stretch/>
        </p:blipFill>
        <p:spPr>
          <a:xfrm rot="6237600">
            <a:off x="5022360" y="2320920"/>
            <a:ext cx="54374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ІІ групп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l(ОН)3 + Н3Р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PO4 +3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u(ОН)2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Вr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uBr2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ΖnО + Н2ŚО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ZnSO4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Fe2О3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Сl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FeCl3 + 3H2O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 + Ν2О5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KNO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(ОН)2 + С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O3 + H2O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О + ŚО2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S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j0157995"/>
          <p:cNvPicPr/>
          <p:nvPr/>
        </p:nvPicPr>
        <p:blipFill>
          <a:blip r:embed="rId1"/>
          <a:stretch/>
        </p:blipFill>
        <p:spPr>
          <a:xfrm rot="6241800">
            <a:off x="4217400" y="2584080"/>
            <a:ext cx="6408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8:32:57Z</dcterms:created>
  <dc:creator>usert</dc:creator>
  <dc:description/>
  <dc:language>en-US</dc:language>
  <cp:lastModifiedBy>Asus</cp:lastModifiedBy>
  <dcterms:modified xsi:type="dcterms:W3CDTF">2013-12-05T08:30:43Z</dcterms:modified>
  <cp:revision>11</cp:revision>
  <dc:subject/>
  <dc:title>Тема: ХИМИЧЕСКИЕ СВОЙСТВА СОЛ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6000000000001024140</vt:lpwstr>
  </property>
</Properties>
</file>